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2C7AE-6EF4-4B6E-9C0B-8D0F51415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F76BD-1D61-46CC-9A6F-DFD18F62F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950E2-8B88-461B-92C9-9D881299F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5557C-1385-4E83-8D6E-177981FA6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9D8E4-9DC2-4FE1-B0C2-2D70FC3D2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E55E6-633D-4E6A-8102-C3F9EB4C2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86160-20D9-496F-BB19-9288AB075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3AF93-FD66-4122-BE38-8BABC865F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6AD88-AA22-45D6-B0DD-9790E5088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3085D-0F5E-4644-88A0-69BF535CA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5767C-2623-4CFA-B65C-209E77EA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D035E-085F-4FE9-BEFB-DEE8C3D43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CBE30-FCCA-4EBF-8217-4FD85D7B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F44E4-C752-4469-A928-CE88CB8D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73739-41F2-4F27-A0EE-11CACBF00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B38ED-91B4-4B04-95D0-B3AD03A74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7C7FC-D671-445F-BA41-62A5F83CE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9E44B-E13F-421A-A0A1-409648671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22180-66C9-4591-87CE-2518CEA1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498F3-B786-470C-9E2F-7C9B11D56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4241B-8260-41AB-8766-9714E219C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0E2EF-1EAB-4832-A304-1FA63D5F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15215-6748-4A63-BBBC-1ECB8808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C6CFB-77D1-4DD3-A6C6-BF8BC350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9CCA4-C36E-422E-A2C9-E5AB47C9411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60170-9374-448B-8199-E634311A20D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73200" y="0"/>
            <a:ext cx="84708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ffcc00"/>
                </a:solidFill>
                <a:uFillTx/>
                <a:latin typeface="Garamond"/>
              </a:rPr>
              <a:t>الكلوروفيلات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Garamond"/>
              </a:rPr>
              <a:t>كلوروفيل أ وب يوجدان بنسبة </a:t>
            </a:r>
            <a:r>
              <a:rPr b="1" lang="ar-SA" sz="1800" spc="-1" strike="noStrike">
                <a:solidFill>
                  <a:srgbClr val="ffffff"/>
                </a:solidFill>
                <a:latin typeface="Garamond"/>
              </a:rPr>
              <a:t>1:3</a:t>
            </a:r>
            <a:r>
              <a:rPr b="1" lang="ar-SA" sz="1800" spc="-1" strike="noStrike">
                <a:solidFill>
                  <a:srgbClr val="ffffff"/>
                </a:solidFill>
                <a:latin typeface="Garamond"/>
              </a:rPr>
              <a:t> والكلوروفي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Garamond"/>
              </a:rPr>
              <a:t> مركب بورفوريني بحيث يتكون من </a:t>
            </a:r>
            <a:r>
              <a:rPr b="1" lang="ar-SA" sz="18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1" lang="ar-SA" sz="1800" spc="-1" strike="noStrike">
                <a:solidFill>
                  <a:srgbClr val="ffffff"/>
                </a:solidFill>
                <a:latin typeface="Garamond"/>
              </a:rPr>
              <a:t> حلقات بيرولمتحده مع ذرة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g</a:t>
            </a:r>
            <a:r>
              <a:rPr b="1" lang="ar-SA" sz="1800" spc="-1" strike="noStrike">
                <a:solidFill>
                  <a:srgbClr val="ffffff"/>
                </a:solidFill>
                <a:latin typeface="Garamond"/>
              </a:rPr>
              <a:t>في المرك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300720" y="1484280"/>
            <a:ext cx="271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C55 H72 O5 Mg</a:t>
            </a:r>
            <a:r>
              <a:rPr b="0" lang="ar-SA" sz="1800" spc="-1" strike="noStrike">
                <a:solidFill>
                  <a:srgbClr val="ffff00"/>
                </a:solidFill>
                <a:latin typeface="Garamond"/>
              </a:rPr>
              <a:t>  كلوروفيل أ</a:t>
            </a:r>
            <a:r>
              <a:rPr b="0" lang="ar-SA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967360" y="1916280"/>
            <a:ext cx="317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ar-SA" sz="1800" spc="-1" strike="noStrike">
                <a:solidFill>
                  <a:srgbClr val="ffff00"/>
                </a:solidFill>
                <a:latin typeface="Garamond"/>
              </a:rPr>
              <a:t>كلوروفيل ب</a:t>
            </a: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C55 H70 O6 Mg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92720" y="2421000"/>
            <a:ext cx="3851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Garamond"/>
              </a:rPr>
              <a:t>صبغتا </a:t>
            </a:r>
            <a:r>
              <a:rPr b="1" lang="ar-SA" sz="2400" spc="-1" strike="noStrike">
                <a:solidFill>
                  <a:srgbClr val="00ff00"/>
                </a:solidFill>
                <a:latin typeface="Garamond"/>
              </a:rPr>
              <a:t>كلوروفيل أ وب</a:t>
            </a:r>
            <a:r>
              <a:rPr b="1" lang="ar-SA" sz="2400" spc="-1" strike="noStrike">
                <a:solidFill>
                  <a:srgbClr val="ffffff"/>
                </a:solidFill>
                <a:latin typeface="Garamond"/>
              </a:rPr>
              <a:t> تمتصان بشده في الاشعه </a:t>
            </a:r>
            <a:r>
              <a:rPr b="1" lang="ar-SA" sz="2400" spc="-1" strike="noStrike">
                <a:solidFill>
                  <a:srgbClr val="ff00ff"/>
                </a:solidFill>
                <a:latin typeface="Garamond"/>
              </a:rPr>
              <a:t>البنفسجيه</a:t>
            </a:r>
            <a:r>
              <a:rPr b="1" lang="ar-SA" sz="2400" spc="-1" strike="noStrike">
                <a:solidFill>
                  <a:srgbClr val="ffffff"/>
                </a:solidFill>
                <a:latin typeface="Garamond"/>
              </a:rPr>
              <a:t> والزرقاء وفي الاشعه </a:t>
            </a:r>
            <a:r>
              <a:rPr b="1" lang="ar-SA" sz="2400" spc="-1" strike="noStrike">
                <a:solidFill>
                  <a:srgbClr val="ff3300"/>
                </a:solidFill>
                <a:latin typeface="Garamond"/>
              </a:rPr>
              <a:t>البرتقاليه</a:t>
            </a:r>
            <a:r>
              <a:rPr b="1" lang="ar-SA" sz="2400" spc="-1" strike="noStrike">
                <a:solidFill>
                  <a:srgbClr val="ffffff"/>
                </a:solidFill>
                <a:latin typeface="Garamond"/>
              </a:rPr>
              <a:t> و</a:t>
            </a:r>
            <a:r>
              <a:rPr b="1" lang="ar-SA" sz="2400" spc="-1" strike="noStrike">
                <a:solidFill>
                  <a:srgbClr val="ff0000"/>
                </a:solidFill>
                <a:latin typeface="Garamond"/>
              </a:rPr>
              <a:t>الحمراء</a:t>
            </a:r>
            <a:r>
              <a:rPr b="1" lang="ar-SA" sz="2400" spc="-1" strike="noStrike">
                <a:solidFill>
                  <a:srgbClr val="ffffff"/>
                </a:solidFill>
                <a:latin typeface="Garamond"/>
              </a:rPr>
              <a:t> ولا تمتصان الاشعه </a:t>
            </a:r>
            <a:r>
              <a:rPr b="1" lang="ar-SA" sz="2400" spc="-1" strike="noStrike">
                <a:solidFill>
                  <a:srgbClr val="00ff00"/>
                </a:solidFill>
                <a:latin typeface="Garamond"/>
              </a:rPr>
              <a:t>الخضراء</a:t>
            </a:r>
            <a:r>
              <a:rPr b="1" lang="ar-SA" sz="2400" spc="-1" strike="noStrike">
                <a:solidFill>
                  <a:srgbClr val="ffffff"/>
                </a:solidFill>
                <a:latin typeface="Garamond"/>
              </a:rPr>
              <a:t> الا بكفأه منخفضه بل تقوم بعكس او انفاذ هذه الاشع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8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8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8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-1599480" y="260280"/>
            <a:ext cx="114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Garamond"/>
              </a:rPr>
              <a:t>استخلاص الاصباغ وتقديرها بجهاز </a:t>
            </a:r>
            <a:r>
              <a:rPr b="1" lang="ar-SA" sz="2800" spc="-1" strike="noStrike">
                <a:solidFill>
                  <a:srgbClr val="00ff00"/>
                </a:solidFill>
                <a:latin typeface="Garamond"/>
              </a:rPr>
              <a:t>قياس الطيف</a:t>
            </a:r>
            <a:r>
              <a:rPr b="1" lang="ar-SA" sz="2800" spc="-1" strike="noStrike">
                <a:solidFill>
                  <a:srgbClr val="ffff00"/>
                </a:solidFill>
                <a:latin typeface="Garamond"/>
              </a:rPr>
              <a:t> السبكتروفوتوميت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932360" y="1051920"/>
            <a:ext cx="389556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ff00"/>
                </a:solidFill>
                <a:latin typeface="Garamond"/>
              </a:rPr>
              <a:t>المواد والأدوات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أوراق خضرا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اسيتون </a:t>
            </a: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80</a:t>
            </a: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هاون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دورق معيار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ميزان حسا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spectrophotometer" descr=""/>
          <p:cNvPicPr/>
          <p:nvPr/>
        </p:nvPicPr>
        <p:blipFill>
          <a:blip r:embed="rId1"/>
          <a:stretch/>
        </p:blipFill>
        <p:spPr>
          <a:xfrm>
            <a:off x="395280" y="2276640"/>
            <a:ext cx="583416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0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4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4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24000" y="-12600"/>
            <a:ext cx="882000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ff00"/>
                </a:solidFill>
                <a:latin typeface="MCS Diwani0 S_I normal."/>
                <a:cs typeface="Times New Roman"/>
              </a:rPr>
              <a:t>طريقة العمل 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 2" charset="2"/>
              <a:buChar char="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cs typeface="Times New Roman"/>
              </a:rPr>
              <a:t>ضعي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جرام ورق طازج أخضر مقطع إلى قطع صغيرة في الهاو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 2" charset="2"/>
              <a:buChar char="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cs typeface="Times New Roman"/>
              </a:rPr>
              <a:t>أضيفي إليها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4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مل أسيتون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80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% ثم اطحني النسيج النبات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 2" charset="2"/>
              <a:buChar char="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cs typeface="Times New Roman"/>
              </a:rPr>
              <a:t>رشحي المحلول الناتج باحتراس واجمعيه في الدورق ثم أعيدي الطحن مرة أخرى مستخدمة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مل أسيتون ثم انقلي الراشح لنفس الدورق الساب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 2" charset="2"/>
              <a:buChar char="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cs typeface="Times New Roman"/>
              </a:rPr>
              <a:t>إذا كان النسيج المتبقي في الهاون محتوي على الكلوروفيل أعيدي استخلاصه كالسابق مستخدمة 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  <a:cs typeface="Times New Roman"/>
              </a:rPr>
              <a:t>مل اسيتو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 2" charset="2"/>
              <a:buChar char="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cs typeface="Times New Roman"/>
              </a:rPr>
              <a:t>يغسل الهاون وذلك باستخدام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مل اسيتون ثم ينقل إلى الدورق المعياري وبذلك نكون حصلنا على مستخلص         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12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  <a:cs typeface="Times New Roman"/>
              </a:rPr>
              <a:t>مل من النسيج النباتي ( الكلوروفيل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 2" charset="2"/>
              <a:buChar char="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cs typeface="Times New Roman"/>
              </a:rPr>
              <a:t>ضعي المستخلص في الأنابيب الخاصة لجهاز الطرد المركزي ويتم تسجيل قراءة الكثافة الضوئية التي رمزها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O.D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للمستخلص بعد وضعه في الخلايا الزجاجية الخاصة لجهاز السبكتروفوتوميتر ويتم استخدام مقاييس الطيف الضوئي على الموجات التالية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Wingdings" charset="2"/>
              <a:buChar char="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</a:t>
            </a:r>
            <a:r>
              <a:rPr b="1" lang="ar-SA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الكاروتين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Wingdings" charset="2"/>
              <a:buChar char="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</a:t>
            </a:r>
            <a:r>
              <a:rPr b="1" lang="ar-SA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كلوروفيل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Wingdings" charset="2"/>
              <a:buChar char="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</a:t>
            </a:r>
            <a:r>
              <a:rPr b="1" lang="ar-SA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كلوروفيل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spectrophotometer" descr=""/>
          <p:cNvPicPr/>
          <p:nvPr/>
        </p:nvPicPr>
        <p:blipFill>
          <a:blip r:embed="rId1"/>
          <a:stretch/>
        </p:blipFill>
        <p:spPr>
          <a:xfrm>
            <a:off x="1042920" y="3684600"/>
            <a:ext cx="4321080" cy="26686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-1771560" y="362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4" dur="2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7" dur="20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0" dur="20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8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351640" cy="4608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-977040" y="5300640"/>
            <a:ext cx="1126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Garamond"/>
              </a:rPr>
              <a:t>رسم تخطيطي يوضح الاجزاء الداخليه لجهاز قياس الطيف السبكتروفوتوميت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8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084720" y="2565360"/>
            <a:ext cx="43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16720" y="1052640"/>
            <a:ext cx="122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1000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×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77080" y="40464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84720" y="227664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1000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×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443640" y="155736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651640" y="3500280"/>
            <a:ext cx="1296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1000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×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43640" y="4724280"/>
            <a:ext cx="15210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000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×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020000" y="4005360"/>
            <a:ext cx="503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3528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-593640" y="286200"/>
            <a:ext cx="1000296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lorophyll A = 12.7 (O.D (A) – 2.69 (O.D (B)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ــــــــــــــــــــــــ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g/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800" y="1231560"/>
            <a:ext cx="18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-563400" y="1089720"/>
            <a:ext cx="10058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lorophyll B = 22.9 (O.D (B) – 4.68 (O.D (A)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ــــــــــــــــــــــــ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g/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800" y="2925360"/>
            <a:ext cx="18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430920" y="2609640"/>
            <a:ext cx="95713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tal = 20.2 (O.D (B) + 8.02 (O.D (A)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ــــــــــــــــــــــــــ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g/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800" y="4619160"/>
            <a:ext cx="18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9280" y="3832200"/>
            <a:ext cx="89647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otene = 4.695 (O.D (C) – 2.88 (O.D (A) + (O.D (B)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×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ــــــــــــــــــــــــ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g/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708360" y="5897520"/>
            <a:ext cx="4572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Garamond"/>
              </a:rPr>
              <a:t>W</a:t>
            </a:r>
            <a:r>
              <a:rPr b="1" lang="ar-SA" sz="1800" spc="-1" strike="noStrike">
                <a:solidFill>
                  <a:srgbClr val="00ff00"/>
                </a:solidFill>
                <a:latin typeface="Garamond"/>
              </a:rPr>
              <a:t>= وزن النسيج الغض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Garamond"/>
              </a:rPr>
              <a:t>V</a:t>
            </a:r>
            <a:r>
              <a:rPr b="1" lang="ar-SA" sz="1800" spc="-1" strike="noStrike">
                <a:solidFill>
                  <a:srgbClr val="00ff00"/>
                </a:solidFill>
                <a:latin typeface="Garamond"/>
              </a:rPr>
              <a:t> = حجم المستخلص النبات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8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-725040" y="404640"/>
            <a:ext cx="994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Garamond"/>
              </a:rPr>
              <a:t>استخلاص الاصباغ وتقديرها بورق الفصل الكروماتوجراف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821600" y="1123920"/>
            <a:ext cx="869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Garamond"/>
              </a:rPr>
              <a:t>الغرض من التجربة</a:t>
            </a:r>
            <a:r>
              <a:rPr b="1" lang="ar-SA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Garamond"/>
              </a:rPr>
              <a:t>استخلاص الأصباغ باستخدام ورقة الفصل الكروموتوجراف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63920" y="2234880"/>
            <a:ext cx="3503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Arial"/>
                <a:cs typeface="MCS Diwany2 S_I normal."/>
              </a:rPr>
              <a:t>المواد والأدوات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824400" y="1447200"/>
            <a:ext cx="4902120" cy="4758840"/>
            <a:chOff x="824400" y="1447200"/>
            <a:chExt cx="4902120" cy="4758840"/>
          </a:xfrm>
        </p:grpSpPr>
        <p:pic>
          <p:nvPicPr>
            <p:cNvPr id="132" name="schneeball" descr=""/>
            <p:cNvPicPr/>
            <p:nvPr/>
          </p:nvPicPr>
          <p:blipFill>
            <a:blip r:embed="rId1"/>
            <a:stretch/>
          </p:blipFill>
          <p:spPr>
            <a:xfrm rot="2506200">
              <a:off x="1115640" y="2565360"/>
              <a:ext cx="4319640" cy="252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estle-and-mortar" descr=""/>
            <p:cNvPicPr/>
            <p:nvPr/>
          </p:nvPicPr>
          <p:blipFill>
            <a:blip r:embed="rId2"/>
            <a:stretch/>
          </p:blipFill>
          <p:spPr>
            <a:xfrm>
              <a:off x="900000" y="3001680"/>
              <a:ext cx="3239640" cy="147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"/>
          <p:cNvSpPr/>
          <p:nvPr/>
        </p:nvSpPr>
        <p:spPr>
          <a:xfrm>
            <a:off x="4140360" y="2873880"/>
            <a:ext cx="4319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أورا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Times New Roman"/>
              </a:rPr>
              <a:t>أسيتون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80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Times New Roman"/>
              </a:rPr>
              <a:t>هاون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Times New Roman"/>
              </a:rPr>
              <a:t>ورق ترشي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Times New Roman"/>
              </a:rPr>
              <a:t>أوراق كروموتوجراف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Times New Roman"/>
              </a:rPr>
              <a:t>ميزان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Times New Roman"/>
              </a:rPr>
              <a:t>مادة مذيب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Times New Roman"/>
              </a:rPr>
              <a:t>آج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d60093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Times New Roman"/>
              </a:rPr>
              <a:t>غط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028000" y="2924280"/>
            <a:ext cx="360360" cy="288720"/>
          </a:xfrm>
          <a:prstGeom prst="star5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8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8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8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8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971640" y="-1089720"/>
            <a:ext cx="7921440" cy="75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ff00"/>
                </a:solidFill>
                <a:latin typeface="Garamond"/>
              </a:rPr>
              <a:t>طريقة العمل 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Garamond"/>
              </a:rPr>
              <a:t>فصل الصبغ كما هو موضح في التجربة السابقة ولكن باستخدام كمية أقل من الأسيتون وذلك للحصول على الصبغ بكمية مركز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Garamond"/>
              </a:rPr>
              <a:t>يوضع كمية من المذيب في آجار ويترك لفترة زمنية معين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Garamond"/>
              </a:rPr>
              <a:t>يتم وضع نقاط باستمرار على ورقة الترشيح ( ورقة الفصل الكروموتوجرافي ) ويتم ذلك بأكثر من مرة على مسافات متباعدة حوالي </a:t>
            </a:r>
            <a:r>
              <a:rPr b="1" lang="ar-SA" sz="28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1" lang="ar-SA" sz="2800" spc="-1" strike="noStrike">
                <a:solidFill>
                  <a:srgbClr val="ffffff"/>
                </a:solidFill>
                <a:latin typeface="Garamond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Garamond"/>
              </a:rPr>
              <a:t> سم ويمكن وضع الصبغة في خط طولي على ورقة الفصل الكروموتوجرافي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Garamond"/>
              </a:rPr>
              <a:t>يتم إدخال ورقة الفصل في الأجار بحيث تكون النقاط للأسفل  ثم تترك الورقة بداخل الآجار لفترة من الزمن وذلك حتى يقطع سطح المذيب مسافة قدرها </a:t>
            </a:r>
            <a:r>
              <a:rPr b="1" lang="ar-SA" sz="28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Garamond"/>
              </a:rPr>
              <a:t> سم تقريباً من نقطة البدا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6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284720" y="638280"/>
            <a:ext cx="4680000" cy="46321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0" y="304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332000" y="2924280"/>
            <a:ext cx="2171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  <a:cs typeface="Times New Roman"/>
              </a:rPr>
              <a:t>المسافة التي قطعها المذي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-857160" y="2204280"/>
            <a:ext cx="6188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F =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ـــــــــــــــــــــــــــــــــــــــــــــــــــــــــــــــــــــ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116000" y="1844640"/>
            <a:ext cx="26640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مسافة التي انفصلت عندها النقط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520" y="4076640"/>
            <a:ext cx="332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Rf</a:t>
            </a:r>
            <a:r>
              <a:rPr b="1" lang="ar-SA" sz="2800" spc="-1" strike="noStrike">
                <a:solidFill>
                  <a:srgbClr val="ffff00"/>
                </a:solidFill>
                <a:latin typeface="Garamond"/>
              </a:rPr>
              <a:t>= معدل السري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8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8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8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17:08:39Z</dcterms:created>
  <dc:creator>HELP</dc:creator>
  <dc:description/>
  <dc:language>en-US</dc:language>
  <cp:lastModifiedBy>User</cp:lastModifiedBy>
  <dcterms:modified xsi:type="dcterms:W3CDTF">2008-04-19T20:17:40Z</dcterms:modified>
  <cp:revision>20</cp:revision>
  <dc:subject/>
  <dc:title>الشريحة 1</dc:title>
</cp:coreProperties>
</file>