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4E34-8AAB-41C4-9B8A-EE37B93E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B1F9-BFD3-4EB2-9C5E-D40204D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83A8-CFE9-4302-B721-04C21979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1D1B-2B52-4520-8288-2C8F3C3B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458C-418F-40E1-913A-F3903BCF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201-0354-4470-A206-F95629C2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D72-1FE0-4D02-9587-6AAEDCE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52DD-7516-49E4-8B98-8902832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494-C93E-452B-B5FA-CA3559CA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5E72-43B8-46E7-8EC8-D372603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2836-A11A-4378-A3C5-4299076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31EF-7EA2-49EE-9486-9F3F1B25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A8A-0A5F-4509-BA50-C2E123F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92EB-6C4E-4084-A0A2-13F62CE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DB43-E192-4091-AB42-982E68C9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89A-5D8B-4AD7-A7EF-1C22E971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1206-4F6C-4F4E-8C9E-3825494A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175C-9440-43F4-A9F3-CA2CFDA2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F518-00D7-42C1-BD6A-C731078B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54DE-BDCC-45B4-B9DC-85F440D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16C6-6BA6-4951-B37C-4D1FBBC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A7E1-D662-4ACA-B000-AF93BD2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D85D-8164-4E8F-8197-41AC73D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9D3B-309B-4FF9-9F1D-777B3C1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487-64EF-489E-BF82-6986820E1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63E-AF55-420E-BA67-53D2096B4E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73200" y="0"/>
            <a:ext cx="8470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cc00"/>
                </a:solidFill>
                <a:uFillTx/>
                <a:latin typeface="Garamond"/>
              </a:rPr>
              <a:t>الكلوروفيل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كلوروفيل أ وب يوجدان بنسبة 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1:3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والكلوروفي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مركب بورفوريني بحيث يتكون من 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حلقات بيرولمتحده مع ذرة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في المرك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148428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C55 H72 O5 Mg</a:t>
            </a:r>
            <a:r>
              <a:rPr b="0" lang="ar-SA" sz="1800" spc="-1" strike="noStrike">
                <a:solidFill>
                  <a:srgbClr val="ffff00"/>
                </a:solidFill>
                <a:latin typeface="Garamond"/>
              </a:rPr>
              <a:t>  كلوروفيل أ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7360" y="191628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Garamond"/>
              </a:rPr>
              <a:t>كلوروفيل ب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C55 H70 O6 Mg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421000"/>
            <a:ext cx="38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صبغتا </a:t>
            </a:r>
            <a:r>
              <a:rPr b="1" lang="ar-SA" sz="2400" spc="-1" strike="noStrike">
                <a:solidFill>
                  <a:srgbClr val="00ff00"/>
                </a:solidFill>
                <a:latin typeface="Garamond"/>
              </a:rPr>
              <a:t>كلوروفيل أ وب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تمتصان بشده في الاشعه </a:t>
            </a:r>
            <a:r>
              <a:rPr b="1" lang="ar-SA" sz="2400" spc="-1" strike="noStrike">
                <a:solidFill>
                  <a:srgbClr val="ff00ff"/>
                </a:solidFill>
                <a:latin typeface="Garamond"/>
              </a:rPr>
              <a:t>البنفسجيه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الزرقاء وفي الاشعه </a:t>
            </a:r>
            <a:r>
              <a:rPr b="1" lang="ar-SA" sz="2400" spc="-1" strike="noStrike">
                <a:solidFill>
                  <a:srgbClr val="ff3300"/>
                </a:solidFill>
                <a:latin typeface="Garamond"/>
              </a:rPr>
              <a:t>البرتقاليه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</a:t>
            </a:r>
            <a:r>
              <a:rPr b="1" lang="ar-SA" sz="2400" spc="-1" strike="noStrike">
                <a:solidFill>
                  <a:srgbClr val="ff0000"/>
                </a:solidFill>
                <a:latin typeface="Garamond"/>
              </a:rPr>
              <a:t>الحمراء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لا تمتصان الاشعه </a:t>
            </a:r>
            <a:r>
              <a:rPr b="1" lang="ar-SA" sz="2400" spc="-1" strike="noStrike">
                <a:solidFill>
                  <a:srgbClr val="00ff00"/>
                </a:solidFill>
                <a:latin typeface="Garamond"/>
              </a:rPr>
              <a:t>الخضراء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الا بكفأه منخفضه بل تقوم بعكس او انفاذ هذه الاشع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99480" y="260280"/>
            <a:ext cx="114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ستخلاص الاصباغ وتقديرها بجهاز </a:t>
            </a:r>
            <a:r>
              <a:rPr b="1" lang="ar-SA" sz="2800" spc="-1" strike="noStrike">
                <a:solidFill>
                  <a:srgbClr val="00ff00"/>
                </a:solidFill>
                <a:latin typeface="Garamond"/>
              </a:rPr>
              <a:t>قياس الطيف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السبكتروفوتومي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051920"/>
            <a:ext cx="3895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ff00"/>
                </a:solidFill>
                <a:latin typeface="Garamond"/>
              </a:rPr>
              <a:t>المواد والأدوات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أوراق خض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سيتون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80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ها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دورق معيار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يزان حسا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spectrophotometer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834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-12600"/>
            <a:ext cx="8820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00"/>
                </a:solidFill>
                <a:latin typeface="MCS Diwani0 S_I normal."/>
                <a:cs typeface="Times New Roman"/>
              </a:rPr>
              <a:t>طريقة العمل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ضعي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جرام ورق طازج أخضر مقطع إلى قطع صغيرة في الها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أضيفي إليها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أسيتون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80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% ثم اطحني النسيج النبات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رشحي المحلول الناتج باحتراس واجمعيه في الدورق ثم أعيدي الطحن مرة أخرى مستخدمة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أسيتون ثم انقلي الراشح لنفس الدورق الساب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إذا كان النسيج المتبقي في الهاون محتوي على الكلوروفيل أعيدي استخلاصه كالسابق مستخدمة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ل اسيت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غسل الهاون وذلك باستخدام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اسيتون ثم ينقل إلى الدورق المعياري وبذلك نكون حصلنا على مستخلص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ل من النسيج النباتي ( الكلوروفيل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ضعي المستخلص في الأنابيب الخاصة لجهاز الطرد المركزي ويتم تسجيل قراءة الكثافة الضوئية التي رمزها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.D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للمستخلص بعد وضعه في الخلايا الزجاجية الخاصة لجهاز السبكتروفوتوميتر ويتم استخدام مقاييس الطيف الضوئي على الموجات التال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الكاروتين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كلوروفيل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كلوروفيل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spectrophotometer" descr=""/>
          <p:cNvPicPr/>
          <p:nvPr/>
        </p:nvPicPr>
        <p:blipFill>
          <a:blip r:embed="rId1"/>
          <a:stretch/>
        </p:blipFill>
        <p:spPr>
          <a:xfrm>
            <a:off x="1042920" y="3684600"/>
            <a:ext cx="4321080" cy="2668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771560" y="36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977040" y="5300640"/>
            <a:ext cx="112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رسم تخطيطي يوضح الاجزاء الداخليه لجهاز قياس الطيف السبكتروفوتوميت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84720" y="2565360"/>
            <a:ext cx="4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1052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404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276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1557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3500280"/>
            <a:ext cx="129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4724280"/>
            <a:ext cx="1521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400536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593640" y="286200"/>
            <a:ext cx="100029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lorophyll A = 12.7 (O.D (A) – 2.69 (O.D (B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2315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563400" y="1089720"/>
            <a:ext cx="1005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lorophyll B = 22.9 (O.D (B) – 4.68 (O.D (A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29253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30920" y="2609640"/>
            <a:ext cx="9571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= 20.2 (O.D (B) + 8.02 (O.D (A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ـــــــــــــــــــــــ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" y="46191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32200"/>
            <a:ext cx="896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otene = 4.695 (O.D (C) – 2.88 (O.D (A) + (O.D (B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58975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Garamond"/>
              </a:rPr>
              <a:t>W</a:t>
            </a:r>
            <a:r>
              <a:rPr b="1" lang="ar-SA" sz="1800" spc="-1" strike="noStrike">
                <a:solidFill>
                  <a:srgbClr val="00ff00"/>
                </a:solidFill>
                <a:latin typeface="Garamond"/>
              </a:rPr>
              <a:t>= وزن النسيج الغ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Garamond"/>
              </a:rPr>
              <a:t>V</a:t>
            </a:r>
            <a:r>
              <a:rPr b="1" lang="ar-SA" sz="1800" spc="-1" strike="noStrike">
                <a:solidFill>
                  <a:srgbClr val="00ff00"/>
                </a:solidFill>
                <a:latin typeface="Garamond"/>
              </a:rPr>
              <a:t> = حجم المستخلص النبات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725040" y="404640"/>
            <a:ext cx="99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ستخلاص الاصباغ وتقديرها بورق الفصل الكروماتوجراف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1600" y="1123920"/>
            <a:ext cx="86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Garamond"/>
              </a:rPr>
              <a:t>الغرض من التجربة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استخلاص الأصباغ باستخدام ورقة الفصل الكروموتوجراف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3920" y="2234880"/>
            <a:ext cx="35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Arial"/>
                <a:cs typeface="MCS Diwany2 S_I normal.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4400" y="1447200"/>
            <a:ext cx="4902120" cy="4758840"/>
            <a:chOff x="824400" y="1447200"/>
            <a:chExt cx="4902120" cy="4758840"/>
          </a:xfrm>
        </p:grpSpPr>
        <p:pic>
          <p:nvPicPr>
            <p:cNvPr id="132" name="schneeball" descr=""/>
            <p:cNvPicPr/>
            <p:nvPr/>
          </p:nvPicPr>
          <p:blipFill>
            <a:blip r:embed="rId1"/>
            <a:stretch/>
          </p:blipFill>
          <p:spPr>
            <a:xfrm rot="2506200">
              <a:off x="1115640" y="2565360"/>
              <a:ext cx="4319640" cy="25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estle-and-mortar" descr=""/>
            <p:cNvPicPr/>
            <p:nvPr/>
          </p:nvPicPr>
          <p:blipFill>
            <a:blip r:embed="rId2"/>
            <a:stretch/>
          </p:blipFill>
          <p:spPr>
            <a:xfrm>
              <a:off x="900000" y="3001680"/>
              <a:ext cx="3239640" cy="14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4140360" y="2873880"/>
            <a:ext cx="431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أو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سيتون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ها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وراق كروموتوجراف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يز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ادة مذ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آج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غط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28000" y="2924280"/>
            <a:ext cx="360360" cy="28872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71640" y="-1089720"/>
            <a:ext cx="792144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Garamond"/>
              </a:rPr>
              <a:t>طريقة العمل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فصل الصبغ كما هو موضح في التجربة السابقة ولكن باستخدام كمية أقل من الأسيتون وذلك للحصول على الصبغ بكمية مركز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وضع كمية من المذيب في آجار ويترك لفترة زمنية مع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تم وضع نقاط باستمرار على ورقة الترشيح ( ورقة الفصل الكروموتوجرافي ) ويتم ذلك بأكثر من مرة على مسافات متباعدة حوالي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 سم ويمكن وضع الصبغة في خط طولي على ورقة الفصل الكروموتوجراف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تم إدخال ورقة الفصل في الأجار بحيث تكون النقاط للأسفل  ثم تترك الورقة بداخل الآجار لفترة من الزمن وذلك حتى يقطع سطح المذيب مسافة قدرها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 سم تقريباً من نقطة البدا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84720" y="638280"/>
            <a:ext cx="4680000" cy="463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92428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سافة التي قطعها المذي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857160" y="2204280"/>
            <a:ext cx="6188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 =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844640"/>
            <a:ext cx="266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سافة التي انفصلت عندها النقط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20" y="407664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Rf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= معدل السر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7:08:39Z</dcterms:created>
  <dc:creator>HELP</dc:creator>
  <dc:description/>
  <dc:language>en-US</dc:language>
  <cp:lastModifiedBy>User</cp:lastModifiedBy>
  <dcterms:modified xsi:type="dcterms:W3CDTF">2008-04-19T20:17:40Z</dcterms:modified>
  <cp:revision>20</cp:revision>
  <dc:subject/>
  <dc:title>الشريحة 1</dc:title>
</cp:coreProperties>
</file>