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B23-666F-4AD8-B1D1-4BCD7282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4AA-A32D-4347-B365-BCDF26FD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B4F0-5526-42A4-9797-57FE70E5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C2FA2-5E63-47FD-8CB2-2EDB4C22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1022C-C3C8-4BA9-A12E-639135FB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EA4A7-6D71-4828-AD64-E0307A6D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2850E-38D8-4E25-A911-CDB87896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4278F-CE5A-4C16-9BF8-0988D60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1D956-888C-458D-A489-97BAEC21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05481-060B-49D0-8850-F3234399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CE35F-1C7B-4855-BC2A-CEE5F935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37288-7ECB-4C12-B13D-CFEA98FC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59D-DBE0-4797-8E5B-1DD9A6EB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297B2-73CE-4663-AC20-13BE31B2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841B1-F1AC-40B6-A91A-59DF5BA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1D79D-555B-47E4-94CA-AEB642D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DCD25-E2BA-451C-A9F6-CB26EA27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93563-15B4-4E2A-8C5D-A060AEA0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421AA-4F4F-419C-B0CE-01E84A6B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429BF-55D4-451F-94BD-541CF72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478F3-D8F2-4363-B292-EDA20091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77C47-7752-4815-922C-CF605429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A0C24-03E1-4182-A726-7A4411FA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A20-88FF-4679-9013-FE1B1516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73C3F-4EE0-40D2-8B57-9B4E81DA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9F2F3-8C63-4918-BF1F-B1E71E9A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0BCAE-1520-4FBC-86CF-D259D383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49080-D6DF-46F1-A896-142BAB65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B3FC9-058E-4F8B-B6F4-D5D79955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4F7E0-2320-4A20-9EA0-2FF4A146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EF28A-5FB0-4EC6-810C-7A308A0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ACD1D-20BD-4D72-B9B4-C553CC2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8A567-6AE0-46EF-9E89-5C58A65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35C28-0F49-491B-9938-6A45E63B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51D4-F0FC-4A55-8368-6DE12CF0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5FEA2-2C11-4F84-A93D-0B3F85C8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34559-9EA9-4B74-89DA-9C682B8D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763A3-3542-47D5-9B3F-2C81FA00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B11F9-33F5-443A-87F7-102B16D0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123DE-3162-4323-863B-43583C61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19F89-8CF7-4587-86F7-3A6DCA72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6ABE5-8F80-4FDD-8650-EBA6CB20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12901-22B2-4190-A7AB-2D447CD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D8FDC-1129-4417-81EA-602FF98F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4BB60-077F-4748-A3AF-D3EAC2EB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E6C1-D158-4862-8C13-4DD6AF5B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7912D-4491-44B9-9169-E233D55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C64B9-E8F3-490B-95AF-735F59F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29B22-089B-4CDA-BF2C-398B3C59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3CBA0-C5FE-42E8-B2C6-BB989686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44BAA-D51B-4D4E-86DE-A0B1E745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6CF29-23EA-4685-A5F7-60669BA2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4E012-9645-4BA6-932F-098E642F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34F33-35EE-403F-81F6-A22ED7B2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5C3BA-BB8C-414A-AE1C-C5E3665D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41798-A25E-4B18-8C4B-3DB3B957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70BF-9585-43DE-AD13-62B1D27D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1564E-213E-497A-A464-34861AE2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67491-4F56-46A2-A60D-D8EB459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6B93A-1C45-445F-81C9-6A65891D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47552-D03D-43E1-8743-9F5268BA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11242-946F-470E-885E-68ECF126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E28AD-EBF6-45C6-9A01-6AB9C1B0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3B135-2AAC-4329-9B79-F10DBE56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DA052D-4894-46B0-BE55-34C766B2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50742D-5455-46ED-97A0-6403B191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C00D33-62F2-4C8A-BB05-4CD58FD2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BF77-B7CE-4C1A-85BD-2859BEA3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AC3569-B52C-4EDA-86C4-9E80D377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AFF597-A044-4A01-963F-B61ED03A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12076C-B4D4-453A-A204-229F4C6A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80C15F-59D2-4739-A1AC-035D91BA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0A55D6-E51B-4BDB-8340-57FC8C3B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62A9C9-006A-430B-B5B1-36E9C7FE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52B74F-CB8A-4D97-955D-6D8EC1D3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0B7353-6F83-4BA1-A5FB-2929D59D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293964-E88F-4E49-A8F0-330C66FC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8B2AF-6005-43FC-B1ED-16CC11F5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F2C8-B08A-45EB-A36D-A7AB2B95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E8ADE-5243-42E7-B4C8-C8E1699C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E99D3-9AFC-401B-92D5-51464F8F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C3115-9731-4EF4-9861-BD61CF01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03DBD-BFA8-4D90-88AC-C5D5D337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C4609-3755-4D3F-882C-F3FBE376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5EA4B-9AC9-43DA-95AA-246AA872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0EDD3-5DA7-4AC5-8C50-5F20F50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43A20-4B62-425A-BD32-38CA16A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7944C8-C73A-494C-9CF8-65FC4A45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FBE70-9751-4D49-BC88-7AC5CB05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17DE-8A2D-48E2-8DB6-50B16B65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43CB9-7AAF-4468-B932-188D63C3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C74BB-83F5-4A91-AEF5-C0CBDE89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5A4B6-9B6C-495E-AF5B-3108C8C3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00A8D-9A6F-46B3-9322-FF90635C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B8638-6DE6-4B1F-BFFE-8CB18E20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1AE94-2AAD-4682-B51F-EB2F8EA1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9F2AC-15FD-4DE4-ADC1-DE136456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5B4F1-9B9F-452B-9FEB-68913AC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57A45-18FD-48A0-B739-B915CD7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1838B-6931-42EF-944E-0407A504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19DB-890A-450D-B7DB-9DA2AAE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50244-9DDC-4024-9EF2-0E10093D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62C3F-6A9C-4A11-9B52-66FC4FA8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EB7CE-180C-4054-A167-CA6F5ACA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A8CEA-84CF-4792-971B-AFBB4690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6C253-1D9E-4741-BCD8-55DBC368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A908B-87D3-4DB2-AB7A-8896CC7D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C220D-0335-4942-93BE-1E43B34D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FC4EF-1686-4E6A-8D25-72292B27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EE525-CD3B-4D17-88FC-8BE6E78D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D4CFA-1ECF-434E-8DD9-60697DA0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03B-74B8-44AA-9BBF-CCFA829F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5408-1FD5-4BAC-9B97-DC60DAC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F0C10-41BB-4F6E-8908-223FC48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41414-1AD0-4231-A30E-91451503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39BE51-525D-4063-81EA-1A7B0B78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330871-C8E2-4D14-AAA3-B88F6C37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55E06-418F-451F-ACC3-6448B491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83192-9E93-47A3-A934-CB48617F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0D44F-3997-4F0B-B463-C15E57EE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FDA05-D0D9-4F7E-9F6A-313CCE4B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EEA73-4084-4113-BE6D-79290E2D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1CC71-9E83-46A3-BB70-5A286290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AF78-7432-4BB6-A19D-25089F6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7B71D-304F-433E-B829-CC50BB32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57A20-AF44-4C5F-8760-F2282170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6A99F-4E95-4502-9D69-0AA2631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6779A-C41F-4BE8-9547-35783E5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A92E0-F3A4-4CAC-8C30-D9C5CCC2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786B1-18DF-4EA5-BA7A-6AC43E4E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F5DEF-34B7-4666-AEDE-6129D4E1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5F00-C893-4ABB-89D6-EB5E465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8E38-5391-4E80-8577-06D6476E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7D10-0ED8-4DDE-9CD1-D7E774DD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AAB7-7DC5-47A1-807C-CF62EF1E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51CC-EFA4-49CB-86EE-FA0C3DEE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943B-481B-4FCA-B2A0-B23B2DB7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7BE3D-414F-4063-88E8-BCA1A191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FB71-37D5-4E15-B453-0F447925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EF2-7743-4D8C-9DC5-2E500937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0495-42F1-40CE-8F3B-0326B248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DDCEF-A44C-4703-96FB-A61068A9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EB96-AF4E-46A1-A625-FE5D843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6B2F-12B8-4653-BA7C-DA625CC3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C3CC-B3F5-464A-9AB4-545BA4CE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1EA1-E871-4172-81A1-C95B1B5D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8F05-16C6-41EE-8F58-114C6940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DE60-69AC-483F-A59A-4F2DDE32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25A1-25E6-4499-A1E5-CB853D2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0B529-44EF-479D-9B63-C54EE3BE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1C6-2144-499D-99C4-04A0C4F7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2ADC3-8AC8-4E65-8236-6A606A7B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413A-6B63-4D87-80E8-FD7379C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8CBBB-D0BE-452A-8597-AAE6DE44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62F6-AE14-4425-84C6-B938EEA5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ABA4-6A76-4007-97B5-7F9A1C75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43E0-7252-4135-8E39-10C6084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55965-DFBF-456B-847C-3606531F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C645-057C-454C-8D84-D9FF77BC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0266-6DEE-45DD-9E39-6763B1CB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B5F2-0F77-484A-B83B-677F63B3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31F-4990-4B22-B8E7-BBB289CA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ED04-6796-4D2C-ACC0-4CE18157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23C29-8A56-49D3-80A2-ECED662C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ED755-EECA-45B6-B645-81BADFB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4FF6E-B753-482C-93A1-0BFA783D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6E002-EF7D-4BEC-B865-740B0577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0B5F6-AD69-41F3-A86B-3C3B8487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437A-CBFE-40EF-82A6-EC72140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3433F-354F-43D0-A7F4-61B5A135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ECB40-C66C-4920-82C2-C94FDAD0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B5CE9-B4DB-43D7-9B91-F8B7E675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DC3-6856-419D-BB1C-991F1FD0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5F29E-7F47-499B-AF17-B6E6CEC6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65638-36AB-41DE-85B4-EB8648E9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410C0-A15A-48B7-9E5A-96079D5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E1FDC-F4AC-412E-9DAA-C6F5EC89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3A14F-7E9D-4228-B0AC-258F738E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FA9C4-05F7-4C53-BC7D-6AAF9A0F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F014C-187C-47EE-83C6-ACC5632F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26E7E-6D5B-410E-A0C3-39F827C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A2EC7-A6A9-4991-96B9-59BEEE8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BA722-C512-4D8B-B491-065FE231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165-9F62-48CA-8835-D55D36A6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5B02A-9F9A-435F-9C89-33DA2DC4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96CE0-75B4-445B-96B0-964058DD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D0CC7-BD44-475E-8FE2-0DF2530D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B1C65-270E-48FC-9CA2-EB4F4000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5A222-FB7B-4615-863B-DF292464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5AED5-3584-4254-B67F-1BAA9B16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4E607-470A-4557-9C6F-12E019F6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A52B2-7398-45DC-9B87-E28245F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0315-6BE5-48B4-8EFA-9EEC923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55141-149F-4CC3-AD18-AC7F754F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96E-A4BB-408A-8846-4FE2696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4AE38-B498-4C56-B401-6DADA157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0CA19-68AA-4898-85A9-FA18EEA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C4B79-115D-4A22-8591-5750A88F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39760-7766-4BDE-894B-8FBE0744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800FB-5BF0-4FED-BCA6-EE8FF92A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D6266-DD32-4F89-AAED-24A775CA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27A5-DA9E-4CDE-8443-37D31458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28C13-1501-43CF-A212-54FD8BEF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A08EE-8B0D-4B57-95EE-967EC741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EB780-7F92-4462-9C9A-3A427898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0ED-AF4C-41EC-8B2D-E0F99310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C5320-A467-4E51-9024-B5F28B9A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94CBD-34D9-4D1F-BB08-3C753B1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F7F2E-C60F-452A-B093-45480BC7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4E06B-1F16-4E92-9347-2AE7E67B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EC9FA-9B2A-48E8-AECA-4B12B97B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A709F-6A7A-4FFF-83BF-37C171ED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4F058-7DD6-45CF-B8C7-7DCBAE90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DBFB6-EFBB-44D4-BF06-9FE628C7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DE6F7-512E-4706-8D0A-D4B8E07D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BC19A-E2DF-4278-9A12-35A1F5F4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65AF-750E-4044-AB1A-985C1B9CD43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5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A3C0-0F49-4F94-9641-A20A767ED79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0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5C9C-67CE-4235-BE7A-2CB14181741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5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D024-1D54-48C2-A04B-02F3BD28FDF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5D1A-6E0A-4CAF-96FD-0C5A6F3FFF7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88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0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92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9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9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3E15-A281-4269-92EC-8146AA1E3D7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5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7DBD-2319-45CF-B433-58A4454B048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0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7BD0-7675-4E15-9259-21E0EE50E328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1082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083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5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1086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087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088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Oval 10"/>
                  <p:cNvSpPr/>
                  <p:nvPr/>
                </p:nvSpPr>
                <p:spPr>
                  <a:xfrm>
                    <a:off x="5109480" y="22363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091" name="Group 12"/>
                  <p:cNvGrpSpPr/>
                  <p:nvPr/>
                </p:nvGrpSpPr>
                <p:grpSpPr>
                  <a:xfrm>
                    <a:off x="5760720" y="2323440"/>
                    <a:ext cx="2559240" cy="2740320"/>
                    <a:chOff x="5760720" y="2323440"/>
                    <a:chExt cx="2559240" cy="2740320"/>
                  </a:xfrm>
                </p:grpSpPr>
                <p:sp>
                  <p:nvSpPr>
                    <p:cNvPr id="1092" name="Freeform 13"/>
                    <p:cNvSpPr/>
                    <p:nvPr/>
                  </p:nvSpPr>
                  <p:spPr>
                    <a:xfrm rot="2711400">
                      <a:off x="5583240" y="302076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4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095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7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098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0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3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104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6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1107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9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1110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2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113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4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5" name="Group 36"/>
                  <p:cNvGrpSpPr/>
                  <p:nvPr/>
                </p:nvGrpSpPr>
                <p:grpSpPr>
                  <a:xfrm>
                    <a:off x="2085120" y="2367000"/>
                    <a:ext cx="3040200" cy="2530080"/>
                    <a:chOff x="2085120" y="2367000"/>
                    <a:chExt cx="3040200" cy="2530080"/>
                  </a:xfrm>
                </p:grpSpPr>
                <p:sp>
                  <p:nvSpPr>
                    <p:cNvPr id="1116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524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Freeform 38"/>
                    <p:cNvSpPr/>
                    <p:nvPr/>
                  </p:nvSpPr>
                  <p:spPr>
                    <a:xfrm flipH="1" rot="19496400">
                      <a:off x="2169360" y="3940920"/>
                      <a:ext cx="120024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8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1119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1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1122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4" name="Group 45"/>
                  <p:cNvGrpSpPr/>
                  <p:nvPr/>
                </p:nvGrpSpPr>
                <p:grpSpPr>
                  <a:xfrm>
                    <a:off x="2167920" y="2098080"/>
                    <a:ext cx="2938320" cy="1000800"/>
                    <a:chOff x="2167920" y="2098080"/>
                    <a:chExt cx="2938320" cy="1000800"/>
                  </a:xfrm>
                </p:grpSpPr>
                <p:sp>
                  <p:nvSpPr>
                    <p:cNvPr id="1125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4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7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1128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0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113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3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1134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6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1137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9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14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2" name="Group 63"/>
                  <p:cNvGrpSpPr/>
                  <p:nvPr/>
                </p:nvGrpSpPr>
                <p:grpSpPr>
                  <a:xfrm>
                    <a:off x="4026960" y="334440"/>
                    <a:ext cx="1461240" cy="1887840"/>
                    <a:chOff x="4026960" y="334440"/>
                    <a:chExt cx="1461240" cy="1887840"/>
                  </a:xfrm>
                </p:grpSpPr>
                <p:sp>
                  <p:nvSpPr>
                    <p:cNvPr id="1143" name="Freeform 64"/>
                    <p:cNvSpPr/>
                    <p:nvPr/>
                  </p:nvSpPr>
                  <p:spPr>
                    <a:xfrm flipH="1" rot="3474000">
                      <a:off x="4336920" y="144468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Freeform 65"/>
                    <p:cNvSpPr/>
                    <p:nvPr/>
                  </p:nvSpPr>
                  <p:spPr>
                    <a:xfrm flipH="1" rot="3474000">
                      <a:off x="4032360" y="545040"/>
                      <a:ext cx="7279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5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1146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8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114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1" name="Group 72"/>
                  <p:cNvGrpSpPr/>
                  <p:nvPr/>
                </p:nvGrpSpPr>
                <p:grpSpPr>
                  <a:xfrm>
                    <a:off x="5529600" y="626400"/>
                    <a:ext cx="2200320" cy="1451160"/>
                    <a:chOff x="5529600" y="626400"/>
                    <a:chExt cx="2200320" cy="1451160"/>
                  </a:xfrm>
                </p:grpSpPr>
                <p:sp>
                  <p:nvSpPr>
                    <p:cNvPr id="1152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Freeform 74"/>
                    <p:cNvSpPr/>
                    <p:nvPr/>
                  </p:nvSpPr>
                  <p:spPr>
                    <a:xfrm rot="19678800">
                      <a:off x="6864480" y="811080"/>
                      <a:ext cx="8168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4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6" name="Group 77"/>
                  <p:cNvGrpSpPr/>
                  <p:nvPr/>
                </p:nvGrpSpPr>
                <p:grpSpPr>
                  <a:xfrm>
                    <a:off x="5355720" y="270360"/>
                    <a:ext cx="1194840" cy="1901160"/>
                    <a:chOff x="5355720" y="270360"/>
                    <a:chExt cx="1194840" cy="1901160"/>
                  </a:xfrm>
                </p:grpSpPr>
                <p:sp>
                  <p:nvSpPr>
                    <p:cNvPr id="1157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Freeform 79"/>
                    <p:cNvSpPr/>
                    <p:nvPr/>
                  </p:nvSpPr>
                  <p:spPr>
                    <a:xfrm rot="17742000">
                      <a:off x="588708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Group 80"/>
                  <p:cNvGrpSpPr/>
                  <p:nvPr/>
                </p:nvGrpSpPr>
                <p:grpSpPr>
                  <a:xfrm>
                    <a:off x="5349240" y="389520"/>
                    <a:ext cx="1890720" cy="1794960"/>
                    <a:chOff x="5349240" y="389520"/>
                    <a:chExt cx="1890720" cy="1794960"/>
                  </a:xfrm>
                </p:grpSpPr>
                <p:sp>
                  <p:nvSpPr>
                    <p:cNvPr id="1160" name="Freeform 81"/>
                    <p:cNvSpPr/>
                    <p:nvPr/>
                  </p:nvSpPr>
                  <p:spPr>
                    <a:xfrm rot="18822600">
                      <a:off x="5249520" y="138780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Freeform 82"/>
                    <p:cNvSpPr/>
                    <p:nvPr/>
                  </p:nvSpPr>
                  <p:spPr>
                    <a:xfrm rot="18822600">
                      <a:off x="6404400" y="585360"/>
                      <a:ext cx="7657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2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1163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5" name="Group 86"/>
                  <p:cNvGrpSpPr/>
                  <p:nvPr/>
                </p:nvGrpSpPr>
                <p:grpSpPr>
                  <a:xfrm>
                    <a:off x="3063240" y="2530800"/>
                    <a:ext cx="2194200" cy="3002400"/>
                    <a:chOff x="3063240" y="2530800"/>
                    <a:chExt cx="2194200" cy="3002400"/>
                  </a:xfrm>
                </p:grpSpPr>
                <p:sp>
                  <p:nvSpPr>
                    <p:cNvPr id="1166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1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Freeform 88"/>
                    <p:cNvSpPr/>
                    <p:nvPr/>
                  </p:nvSpPr>
                  <p:spPr>
                    <a:xfrm flipH="1" rot="18336000">
                      <a:off x="3070440" y="4591440"/>
                      <a:ext cx="113868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1169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Group 92"/>
                  <p:cNvGrpSpPr/>
                  <p:nvPr/>
                </p:nvGrpSpPr>
                <p:grpSpPr>
                  <a:xfrm>
                    <a:off x="4507920" y="2701800"/>
                    <a:ext cx="875880" cy="2927160"/>
                    <a:chOff x="4507920" y="2701800"/>
                    <a:chExt cx="875880" cy="2927160"/>
                  </a:xfrm>
                </p:grpSpPr>
                <p:sp>
                  <p:nvSpPr>
                    <p:cNvPr id="1172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Freeform 94"/>
                    <p:cNvSpPr/>
                    <p:nvPr/>
                  </p:nvSpPr>
                  <p:spPr>
                    <a:xfrm flipH="1" rot="16870800">
                      <a:off x="4366440" y="48070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1175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7" name="Group 98"/>
                  <p:cNvGrpSpPr/>
                  <p:nvPr/>
                </p:nvGrpSpPr>
                <p:grpSpPr>
                  <a:xfrm>
                    <a:off x="5648040" y="2594520"/>
                    <a:ext cx="1756800" cy="3030120"/>
                    <a:chOff x="5648040" y="2594520"/>
                    <a:chExt cx="1756800" cy="3030120"/>
                  </a:xfrm>
                </p:grpSpPr>
                <p:sp>
                  <p:nvSpPr>
                    <p:cNvPr id="1178" name="Freeform 99"/>
                    <p:cNvSpPr/>
                    <p:nvPr/>
                  </p:nvSpPr>
                  <p:spPr>
                    <a:xfrm rot="3745200">
                      <a:off x="5265720" y="3396240"/>
                      <a:ext cx="203328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Freeform 100"/>
                    <p:cNvSpPr/>
                    <p:nvPr/>
                  </p:nvSpPr>
                  <p:spPr>
                    <a:xfrm rot="3745200">
                      <a:off x="6352560" y="4719960"/>
                      <a:ext cx="108972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0" name="Group 101"/>
                  <p:cNvGrpSpPr/>
                  <p:nvPr/>
                </p:nvGrpSpPr>
                <p:grpSpPr>
                  <a:xfrm>
                    <a:off x="5576400" y="2711880"/>
                    <a:ext cx="1225800" cy="2985480"/>
                    <a:chOff x="5576400" y="2711880"/>
                    <a:chExt cx="1225800" cy="2985480"/>
                  </a:xfrm>
                </p:grpSpPr>
                <p:sp>
                  <p:nvSpPr>
                    <p:cNvPr id="1181" name="Freeform 102"/>
                    <p:cNvSpPr/>
                    <p:nvPr/>
                  </p:nvSpPr>
                  <p:spPr>
                    <a:xfrm rot="4286400">
                      <a:off x="5046840" y="3543840"/>
                      <a:ext cx="197280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Freeform 103"/>
                    <p:cNvSpPr/>
                    <p:nvPr/>
                  </p:nvSpPr>
                  <p:spPr>
                    <a:xfrm rot="4286400">
                      <a:off x="5879160" y="488196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3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1184" name="Freeform 105"/>
                    <p:cNvSpPr/>
                    <p:nvPr/>
                  </p:nvSpPr>
                  <p:spPr>
                    <a:xfrm rot="4898400">
                      <a:off x="4896360" y="360684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Freeform 106"/>
                    <p:cNvSpPr/>
                    <p:nvPr/>
                  </p:nvSpPr>
                  <p:spPr>
                    <a:xfrm rot="4898400">
                      <a:off x="5425200" y="4865040"/>
                      <a:ext cx="9738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6" name="Group 107"/>
                  <p:cNvGrpSpPr/>
                  <p:nvPr/>
                </p:nvGrpSpPr>
                <p:grpSpPr>
                  <a:xfrm>
                    <a:off x="4961160" y="2887560"/>
                    <a:ext cx="664920" cy="2717640"/>
                    <a:chOff x="4961160" y="2887560"/>
                    <a:chExt cx="664920" cy="2717640"/>
                  </a:xfrm>
                </p:grpSpPr>
                <p:sp>
                  <p:nvSpPr>
                    <p:cNvPr id="1187" name="Freeform 108"/>
                    <p:cNvSpPr/>
                    <p:nvPr/>
                  </p:nvSpPr>
                  <p:spPr>
                    <a:xfrm rot="5755200">
                      <a:off x="453348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Freeform 109"/>
                    <p:cNvSpPr/>
                    <p:nvPr/>
                  </p:nvSpPr>
                  <p:spPr>
                    <a:xfrm rot="5755200">
                      <a:off x="4714920" y="4932000"/>
                      <a:ext cx="950760" cy="36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89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1190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1191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8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9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1200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Arc 125"/>
              <p:cNvSpPr/>
              <p:nvPr/>
            </p:nvSpPr>
            <p:spPr>
              <a:xfrm>
                <a:off x="5588640" y="215532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Arc 126"/>
              <p:cNvSpPr/>
              <p:nvPr/>
            </p:nvSpPr>
            <p:spPr>
              <a:xfrm>
                <a:off x="5711760" y="214164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131"/>
              <p:cNvSpPr/>
              <p:nvPr/>
            </p:nvSpPr>
            <p:spPr>
              <a:xfrm>
                <a:off x="7513920" y="3112560"/>
                <a:ext cx="124200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Freeform 134"/>
              <p:cNvSpPr/>
              <p:nvPr/>
            </p:nvSpPr>
            <p:spPr>
              <a:xfrm flipH="1" rot="1347000">
                <a:off x="4183920" y="215892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0120-DD7B-4173-8F2B-5A529ECAB7BF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5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5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5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29F4-0257-40F6-A04C-5E02B316C0A4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6C43-1FAF-426D-89A6-ACC341C346B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B61A-60F7-4B05-BF13-05D8B5E14DD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8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8612-3341-4989-A223-2BDD43D83BC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4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8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4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0A1C-D2EE-432C-941C-44E221071DB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9586-637B-45BD-B032-A175CD63226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0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5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10D6-04C3-4F2F-B327-4A5878302604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42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2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3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43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442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443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44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44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45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455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458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461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464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67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70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73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76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479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48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48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488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49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49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497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50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503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7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50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51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51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517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520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52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52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529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53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535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53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2964-86E4-49CE-9C87-AEE15D21A058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0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0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0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3617-5EC1-4296-A9CD-EC05F307BD83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eaeaea"/>
                </a:solidFill>
                <a:latin typeface="Arabic Typesetting"/>
                <a:cs typeface="Arabic Typesetting"/>
              </a:rPr>
              <a:t>أهم المشكلات الاجتماعي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eaeaea"/>
                </a:solidFill>
                <a:latin typeface="Arabic Typesetting"/>
                <a:cs typeface="Arabic Typesetting"/>
              </a:rPr>
              <a:t>وسبل الوقاية منها وعلاجها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3" name="Picture 5" descr="http://nodrugs.w-nokia.net/index_files/17561_author1.jpg"/>
          <p:cNvPicPr/>
          <p:nvPr/>
        </p:nvPicPr>
        <p:blipFill>
          <a:blip r:embed="rId1"/>
          <a:stretch/>
        </p:blipFill>
        <p:spPr>
          <a:xfrm>
            <a:off x="0" y="0"/>
            <a:ext cx="2381400" cy="19130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5" descr="http://nodrugs.w-nokia.net/index_files/17561_author1.jpg"/>
          <p:cNvPicPr/>
          <p:nvPr/>
        </p:nvPicPr>
        <p:blipFill>
          <a:blip r:embed="rId2"/>
          <a:stretch/>
        </p:blipFill>
        <p:spPr>
          <a:xfrm>
            <a:off x="6762600" y="0"/>
            <a:ext cx="2381400" cy="191304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5" descr="http://nodrugs.w-nokia.net/index_files/17561_author1.jpg"/>
          <p:cNvPicPr/>
          <p:nvPr/>
        </p:nvPicPr>
        <p:blipFill>
          <a:blip r:embed="rId3"/>
          <a:stretch/>
        </p:blipFill>
        <p:spPr>
          <a:xfrm>
            <a:off x="6762600" y="4944960"/>
            <a:ext cx="2381400" cy="19130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" descr="http://nodrugs.w-nokia.net/index_files/17561_author1.jpg"/>
          <p:cNvPicPr/>
          <p:nvPr/>
        </p:nvPicPr>
        <p:blipFill>
          <a:blip r:embed="rId4"/>
          <a:stretch/>
        </p:blipFill>
        <p:spPr>
          <a:xfrm>
            <a:off x="0" y="4944960"/>
            <a:ext cx="238140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نحراف بعض الشباب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انحراف الفكري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1" name="Picture 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11280" y="4221000"/>
            <a:ext cx="268272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330000"/>
                </a:solidFill>
                <a:latin typeface="Arabic Typesetting"/>
                <a:cs typeface="Arabic Typesetting"/>
              </a:rPr>
              <a:t>الانحراف السلوك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صورة 3" descr="C:\Users\Abu Talha\Pictures\user257_pic3139_1255824829.jpg"/>
          <p:cNvPicPr/>
          <p:nvPr/>
        </p:nvPicPr>
        <p:blipFill>
          <a:blip r:embed="rId1"/>
          <a:stretch/>
        </p:blipFill>
        <p:spPr>
          <a:xfrm>
            <a:off x="914400" y="3913200"/>
            <a:ext cx="319392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إنتشار وسائل الاعلام المضل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{ الانترنت – التلفزيون - ..................)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7" name="صورة 6" descr="http://images.panet.co.il/articles/20112006-130238-1.jpg"/>
          <p:cNvPicPr/>
          <p:nvPr/>
        </p:nvPicPr>
        <p:blipFill>
          <a:blip r:embed="rId1"/>
          <a:stretch/>
        </p:blipFill>
        <p:spPr>
          <a:xfrm>
            <a:off x="3357720" y="3643200"/>
            <a:ext cx="207144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Akhbar MT"/>
              </a:rPr>
              <a:t>ضعف صلة كثير من الشباب بعلماء الإسلام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فشو الفواحش الاخلاقية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( كالزنا – واللواط – والاختلاط )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cc00"/>
                </a:solidFill>
                <a:latin typeface="Book Antiqua"/>
                <a:cs typeface="Bold Italic Art"/>
              </a:rPr>
              <a:t>المخدرات 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24" name="Picture 5" descr="http://t0.gstatic.com/images?q=tbn:ANd9GcTJ6Znpv-Wbjplf7JYTowzDdr06aYIZeQNm9ZHeXh2YC4fwssb9k_M58J0"/>
          <p:cNvPicPr/>
          <p:nvPr/>
        </p:nvPicPr>
        <p:blipFill>
          <a:blip r:embed="rId1"/>
          <a:stretch/>
        </p:blipFill>
        <p:spPr>
          <a:xfrm>
            <a:off x="2924280" y="3557520"/>
            <a:ext cx="321948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ndalus"/>
              </a:rPr>
              <a:t>الرشوة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7" name="Picture 5" descr="http://t2.gstatic.com/images?q=tbn:ANd9GcTa07EXo7v0cccGD1uumDTiY_uP38TUrEmJaT20J4NNW_R1m4qiNxVPYA"/>
          <p:cNvPicPr/>
          <p:nvPr/>
        </p:nvPicPr>
        <p:blipFill>
          <a:blip r:embed="rId1"/>
          <a:stretch/>
        </p:blipFill>
        <p:spPr>
          <a:xfrm>
            <a:off x="3214800" y="3786120"/>
            <a:ext cx="2933640" cy="2102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4:19:51Z</dcterms:created>
  <dc:creator>Administrator</dc:creator>
  <dc:description/>
  <dc:language>en-US</dc:language>
  <cp:lastModifiedBy>HAPPY</cp:lastModifiedBy>
  <dcterms:modified xsi:type="dcterms:W3CDTF">2015-10-11T21:31:19Z</dcterms:modified>
  <cp:revision>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