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  <p:sldId id="27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slide" Target="slides/slide1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2B95-2334-4229-AA62-5D2F0E30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B949-0DE5-4D18-972C-DD761431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97C433-4D85-41D9-B0AF-84AE698B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C4DDBA-A146-4FC7-8E3D-E8632729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2C947D-3928-46B4-88E4-28D1075C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654D6A-F826-44E1-9716-006B87D0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342F80-2D35-4DBE-BD8D-0767EA51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336E77-5202-44E4-9EC8-5F35DBA6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89B19B-F042-4A92-8025-3F79CA8B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DBAF66-10B3-41BE-B1F7-990C01E6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713B08-62AD-4CB0-B234-04369AB3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A0958-2E0B-45C6-A3C4-5C65455F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2FED-7C51-4C2E-AE9B-4E74CEF1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3E362-EC52-460F-B300-5F160BD6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30D46-D700-4804-9E83-28851DCB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9CC67-69EA-4709-BC67-959C4B0F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C3F56-91A3-4FA1-8624-DE45BEFF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2B787-A19B-4553-A5C5-78AD47FC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68C74-E849-4200-82B8-AF56749F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A6CB9-5A76-4B7B-B0E4-A6E08BF0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31561-8ADD-4832-91D6-8D0A7966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801FF-BC13-4BFB-AAAF-2F47875E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43C81-03EF-454F-8848-14D9D3B5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F05D-1394-4927-AACB-B3A69AFD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DBF57-C906-437E-8A6C-62E8A580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46D60-3788-457B-BEF1-46562CF8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CD4B0-0CBE-46EC-A5D1-E177E061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F669D-E523-42C7-9B9A-8E723BF8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35EB8-F2B5-423F-9480-5BAC43E2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B91E6-3015-49D4-862D-86F59F18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7792F-7E6F-433F-AB2A-47CA519C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12A66-BE27-412D-B44F-1E344467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C09AD-8CDB-42F5-B74F-63CF3D74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0E8A2-ABE5-4006-A09C-5401E358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C035-AA3A-4D6F-932F-67EB6E5F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BF581-E8A3-460C-8AB7-2318D4CF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05838-33E3-4E6C-B9E8-4D8CBFCE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AAD45-2C2A-4F1B-99DE-B7A3D90D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CC5BD-AA07-4DCF-8277-6EB814AA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701C3-404F-4155-B72A-80A9A6F0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D9D99-010A-480E-BB75-3488D438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313BB-49D2-413A-A1E2-9AF7A043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39463-8D33-4473-B0E5-52DFD264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F14EF-F6DC-45C4-AEA9-C85ADF86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68963-5E38-4F3E-858B-E0EF6F6A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A1A3-1C7C-4426-8894-55E856C2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BD348-3306-40FF-8ECE-E8D7527B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F60F5-6D0E-4FBE-A0C6-E3CF31D0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3CE19-C249-4EF0-B5A3-D2FB5E7C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9CA24-CC8B-4B35-A9EC-E730D2C6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EDB1C-3685-48D6-9960-2EC20031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84A379-BC64-4E1C-AF60-B44ABC83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3641A-0114-43DE-93DE-475EDE93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920A3-6659-4257-88FF-B27BEF77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871F6-DD1B-41D8-87BF-8B7E6863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F4D38-AF1D-4D10-B2EC-2037FF54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18B1-F1A0-432E-BC39-68150470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311AD-23FF-457E-A9A4-6113FFAA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20383-7553-433A-BFED-CD807D2C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A412FE-0A2E-44F1-9462-A4850756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48A055-8856-4087-A9D6-DBB7C8D1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B14A6-1C20-4085-A107-DBB6395C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301F1-A36B-4911-9A01-509B3448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543D03-187B-4138-9394-793E0D28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80C3A3-B773-4650-ACE7-5B33BC7F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0BEFEF-1C78-4958-B159-5768B9D1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716A6E-5DD1-468E-84A4-95926D4E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8198-F316-4E9C-AFEF-61D567DE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30E53C-1012-4FE2-AAC0-22399D0B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E4652E-88DE-45BE-924C-442E2FAA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A0A02-9F41-4FF9-8B63-5743788A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6E31DE-1753-49BC-891E-AA146999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95A69F-7DF1-47B7-8F39-5FE6979D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D42E6A-8105-4A76-BD3D-51C2C306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B180C4-6644-4407-A9DB-9F120F8A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3ECF68-E428-4A48-920F-88C549C1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D6EDC5-56D3-4ED3-B8BE-ABD3FD49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0EAB0-B15A-4DB5-B625-E4C8B324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1705-CC20-4CFA-9C5D-96D68114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92B9CB-3E53-437C-92AD-EC51AEA3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AD4FD8-6CE5-4B2E-8CF8-BA495162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761798-22F8-4AAA-910B-FC176F86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4BE96D-B8A1-422F-839E-70A293E0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49EE66-4164-4FD2-BD8D-B9C771F3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94A711-FFAB-4AC2-87BE-0C8DDDE6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5B591C-8C84-4A41-A426-DA19F790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48300A-D277-4454-9D4D-A2DB50FB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9021D6-E61E-4A3A-95A0-8ECB6529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E4B564-44CD-4D04-8A2E-28463838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C9C6-C4E4-449E-A682-6F32BD53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5E54E7-EF38-4E46-BEC0-F47D7D64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AA4FC8-FE3D-402A-B9C1-C8FE7BA0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10C088-913E-429E-BD4E-41AB582D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84921B-F97E-4014-A58D-77FEEA5B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B6E23D-940A-41F7-B9F9-903B3F52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B84EB2-DBAA-44FE-A4FC-6967244E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9E68A3-9FF3-4C04-874A-A71EC69B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42F1F6-D5E1-4306-B7F2-18E814A5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930C05-BC8B-4835-B29C-8C076343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30E1AD-71A2-45A1-B06E-2DDC11ED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6B67-A184-4928-B5C5-A5139FF7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2DA441-092C-4F8F-9E5C-CC4A3652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C7370D-1ACA-446D-AF4E-25752307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955D95-2E2C-481F-8C69-927F04DA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7F1387-5375-4DA7-9A3D-62375659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E5D718-CBA0-4F71-B44A-50DFB849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80B22A-40B0-45AD-959B-EB592CF5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F0F8FF-3FE0-4D1F-83E3-BAA1459A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B9FEB9-8729-454D-87CC-2591B880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290A61-5075-4D2B-AD1F-C4622476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9EF490-F913-455D-8559-4D1BD5D0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122C-2C5C-4065-A76E-BFB70572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484C-8E1C-40FC-B6EB-D8E101B7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DAAD9B-6098-4B95-A18B-E92096C7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3B227E-B386-4461-97CD-2ABC221A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A9D572-A866-4DBE-83DB-1553C22E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EB9EBE-FE6F-4CC6-8E75-3FB26F8D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4D3A75-CCF8-4A3D-87F5-4C90BC8D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3D5C3C-66CD-467E-97A1-949FBE7C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7E52A7-5AC4-4092-9FDF-E60B31BF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B89F33-22CA-4151-8911-84D0FECA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10027B-14B0-48CA-A39F-19988027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235D21-E07D-4623-9F57-E3CA7022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CCA6-FEF7-45FB-9653-A8D94E03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6FB24F-6BE6-430E-B783-76DA2DFF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200053-3734-42AF-8633-F10421C9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E00BA8-C177-433C-B36E-FFCD46B5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64850C-49A4-47CE-884C-5557CDF9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3BEAFE-4FAF-456A-B321-B94D97D7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536B34-44BA-4373-9C5B-4702AF9F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326822-5053-47BA-9B14-B038DAC4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C83EA4-AFAE-4572-AB3A-5E883F79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299381-114B-4F51-9977-5AB951E6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A95EC9-EE1E-43AF-ACF6-FDFF44F1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E7C6-3588-4B80-A0D8-FC043EEE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DBA0C0-F576-4F6E-958C-E12E895C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B88AFB-47F0-49C4-A942-16DEE7D6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1A0B7F-E0A9-4259-AF64-8E9B7A2B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F8CC41-E33F-4A89-8DC4-31441485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B905A3-20A2-4B1E-954E-F13E5D0F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9DDAA4-1260-4C5E-A215-F3BAD58F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336CFA-DF76-45E7-844A-2CB4FA18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B60059-19AD-44FC-8501-DF6267BE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ED2425-9CB4-4BD4-BEAD-A0EE9AFA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EBE1A9-67B6-411C-B432-07C62312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18B4-13AE-40A1-B462-FBCC46F5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3CCAEE-F378-4F3F-A841-D87E2F02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2046D2-C490-4208-B556-1EC7C68F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47461B-9D70-4770-9532-B17CB37F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ED4F80-BDBA-4CCE-9ED9-F4E29AFF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7289B2-3146-4FF4-AC19-555D6028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56F9A0-71F1-45B2-9B66-45A5BA59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783AA1-295D-40CD-8B26-94BD984B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0757CF-D16D-4AD6-B889-C7869FEF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DA7BB7-2230-4C08-B060-B28B73B3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2BEA92-C96A-4F3D-94AD-5B8495A1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3BB9-E2B5-45EA-A254-8E2E844D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5FBD76-D731-48F2-929B-9C129E6C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2CEEFA-23F6-4C4E-9C86-564C2603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42247B-0ADA-420F-915A-06223FE8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A86C7A-03EF-4874-9229-6003BCB1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6E0307-0D5F-404A-8E9A-CE3C5ED4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FA0211-A306-48BB-B936-7CDF2E29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4C4B86-4822-4A79-95B7-5F00D091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27D66B-B972-4A98-99E6-91A4DD61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7A1987-2DCF-47F4-AF86-B5D94671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876D0D-F587-4862-8A33-7C005D72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B0787-8A62-4764-9529-89B2B3D2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28EB53-A6EA-4586-8FBD-37EA4BD8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6EB0E9-6AFC-467B-BF63-392CD1E5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4ECD5C-4819-4A18-8B08-B3767A35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A3D274-13B6-4BEF-8201-1FA0ABE5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7FA536-029F-4E06-A10E-BCF08838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11F085-85E0-4F4C-8FA4-3FF94F14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8627F1-16C4-47C5-A769-3E9E45EF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694D8C-804F-4733-81AC-5C92117B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39A1AF-EAD4-486A-A974-DCA91A03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31BA79-0320-4E20-AFEA-4338A9A4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563D2-6A89-4808-83E9-170D1551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D4A1BB-8B6C-4689-B79C-763258FF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0EB238-7D0C-445B-8C62-00EB3CED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683C1B-9335-4AEA-B2A1-776A14AB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64DF3B-B178-43C4-B28C-F9204B0B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F85BF4-5EFD-4F78-AB5E-B2331905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39E91E-FBC9-4BE5-ADF6-87832191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D354F3-4248-4FC6-BA05-65013825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53F791-400E-4F4E-BA33-7F8CEF9F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469511-5D4C-45B3-AAF6-EB9C514A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9D7BCF-22BF-4EF4-AA4D-9F561C7D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60E5D-25C7-43DA-97CE-83B9A2C2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290D18-EF97-4458-BAD7-021EB538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E8E286-D7C5-43A1-A9C1-D2F67EF6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EC79EA-D92B-4C60-83F4-1B04D1BF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4F8F7B-DCCB-47E1-8FEA-2E36056D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397994-BEE7-42F9-8CE5-85F5AB21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255A55-7194-4B93-99AA-C1091C88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DFEB6F-D6B7-44FA-9202-3A8EFC8F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5AD934B-2F42-4791-8295-6DDDD27E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B7FA12C-0B3B-412E-B68E-0328F1BD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7ECBD9C-26F3-4137-A7FF-FDCF1C8F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6B32B-E41D-419F-AA55-5AA317CA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D24A542-0D18-45C8-9B85-FAE696C5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E845908-C985-478B-97B3-F2F70740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A46C6CE-955C-47C8-ACD0-A9FC242E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85DFC45-40C6-4AE3-853E-241B74D3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163037A-2A13-410A-B803-FAF7DBF1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1427CDD-C5BC-45A7-90C4-D2E4BC14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B6E919D-186B-46BE-BFDF-4A5CAA95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A8BEE6D-E62D-4C1A-B91D-6D8E5B0E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8E20E63-F76C-4BBB-936A-A729ACE1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4E6830-DBED-4A89-9E32-442A54B2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55795-CF30-4695-9913-BA556866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7ACA83-F058-49EF-A581-437C1588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0E9EC2-0B74-4520-98B8-80D6C431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C4E752-1D15-47B4-9EA0-C18372E7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2066AC-6433-4064-93B3-D7BE5F3C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85263C-7F81-4EDA-93D0-C29DBDEF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8C6000-ECCA-4A30-81EA-5758EBE6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1F6424-9821-4E3C-B31C-319D4759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91A8AF-2485-4CC4-9CD8-EADF85DF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1BCD1E-5E71-47E0-B6B0-82290A4C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959BC2-4E9C-4D42-9888-BEC2CDBF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A63-FE05-417C-9F85-64BAF512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F1002-A54C-4F51-9702-55ACDE4C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1577F0-B65E-4269-89CB-5B22FDAB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412FA3-D2C3-47B7-8355-E257D284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9C16E1-64DF-444A-A07A-D7A4DADA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878864-037C-4DC5-BEF5-CBD32F03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A12E18-9394-4A6C-8F82-A4E46DBD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EFBEF1-902D-44F4-B047-E43158C9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BDB8A0-5363-42BA-99B1-1A752B9B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6478B2-609B-4AC5-9453-599C1CE7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DE2641-7B17-47E3-9FD3-F9C20917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832932-4DAE-47B6-8C05-114C4270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826D2-3255-499E-87D9-2E0CB8D3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94B285-8F77-4045-B4EE-5C142B76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329A74-F4C7-4962-99AF-E598218D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F7FABF-0769-4E00-AD94-DFF455A0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EC857E-391F-4A0A-B41A-56BDE334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349CCA-1799-4E66-92DC-D0AFDA2B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CD4D39-F2CE-4A27-B221-2F1D7C1A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58A188-D9AC-4D63-B232-83AAB0C0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D213E5-5E0E-4C1A-AE42-1C1DDCAE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FB8286-7821-40F4-A77B-7E72C85C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EF66B7-4025-4E74-8050-57B4F682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4698C-5278-4AEC-86B2-A4B1A0D5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547CAA-4E55-4F6B-A65C-CC759913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A4D430-3265-410E-B7CB-7E792BA9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B1CD12-5CDB-4D15-B1E0-7E61BF4F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A967E2-6EDE-4F73-8F7C-541FBD41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C9FAC6-3F11-492C-A0AF-1171C987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9291C6-571B-45D5-A911-AFBF41C1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879B36-6DBF-4596-8831-5B0E8329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666BDF-E380-4D53-8BFA-CBAA9A63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BA3594-0A22-4134-BEE7-65DE545E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48031C-B244-4751-A6A1-4C812B27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C59FB-10AF-4277-8C4B-ABC569A5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5F038D-8535-42F1-98EE-EF3190D9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D69EA9-1B55-4084-9246-089450F4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550C3E-E7BF-40BA-AF80-0CF253D6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AD2993-5023-4697-9C85-9E6A8289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E8ED1A-915B-4CFF-BDFA-6DD902D0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A27134-4F50-41DA-A10A-10C7BE72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F2DC76-0CA1-428E-AA59-6D1772A3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7BA47F-63C8-42E8-A017-98A18F59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81B97E-83EF-4511-BDFA-3B4E1A41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F09471-922A-46D6-A310-B4718201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19298-9B74-424D-87DF-EF2B1C71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EE603D-755B-4537-A7A8-CF1661EE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08A347-CC29-400F-B441-BF92A5D1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F63752-26CE-4084-AFE2-6B554E2C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7ED51A-2EFD-48AD-9C71-3E4A4824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FCC889-7808-4B77-B7ED-A6B501FB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EF990F-BEBF-4F07-945F-79B8F176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A654F2-CECB-4238-B7C7-D7F2B6AE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9926D3-32A8-4043-8606-EA800E7B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D3F97D-3DAA-42F4-AA07-56EA47DA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5A7321-9C0A-4C86-98ED-2EE43621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4938A-DC03-44AD-8B94-2EC4605D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F64CDD-A6D9-4B85-B2B2-FFF4A494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37B155-15DF-4823-9B06-E29B1B64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BEF967-7605-487A-8991-8B594A2C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3BBAE8-6018-41A8-9CB7-691B3F97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714C3E-2916-40C4-BE1B-4D0609D6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622625-E7FF-4EB6-9DF6-337BA68F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C18267-BC1F-4F07-894B-5EBE85E1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688C81-04F0-4A32-8C3C-C4BBE3E7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306C52-92D9-4702-9D14-06546A2F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542D624-BB3A-458B-B02B-941D2A10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DE525-99F9-45D3-9AED-51DBFDDE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A6223D-8017-415E-9472-40061293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0C7CFD-C2EC-4984-B572-75D2032F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61698B-E5E3-47DB-BF4A-04FDA75F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056EA4-6225-4769-BD5A-6F380BC5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AD3EAC-1180-4F7A-9D81-C7EE4B26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3BE483-E940-473A-AA17-B05EF7D6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739DD6-33D9-4A64-8D5C-3F3546F6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E26464-E05E-46A8-A0DE-5885C302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113304-F42C-4F13-8A48-E634538F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1F9764-AE71-4050-857E-F10C38A2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F8B9D-462F-4EA8-B0F1-FCBF9A7A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24580A-6D1E-49EE-B190-D4DD82E8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9E4B04-76C5-43BF-B2EA-10A29138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16482A-DAD8-4C65-BFD5-77BC632B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FD5B7EA-DFC4-49CE-A5EA-15482B5B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4D7579-A49E-46B6-B66E-5261351F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28F9D69-C07A-4FC2-92DA-0C73887F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7716C83-ADC6-42A4-A67D-71DEE1EB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06696F2-E4A9-4D42-BAC1-B0014AFC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FC9ACD-33DD-4BB2-9910-03038CEA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C597C6-AE81-4E0F-8B2A-DC0AE25D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E3E8A-4F21-4E2A-AC9E-A9AB7CF5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E6EBC2-A3DE-4FC1-93D6-7BF310D3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C2BA55F-A373-46BC-9885-C7506AEC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CC14D3C-3C61-43AC-A4A9-75C565BC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520626-996E-4560-B528-DF49E690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6C9FBE-7985-4CAC-A49E-D413EA2C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F37A18-E5B8-4A5B-80DF-701C1C9F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498C096-0A4B-4922-BC6D-E584EC00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FB9B24F-BCBD-4492-B1FC-7DF3A0E8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04992C-394E-4E77-97B2-A2F3D235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4494C86-E759-4D0F-A128-E06332A6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232B8-C425-4634-BE07-FA3C9B71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D6C1DF-22D6-4D5A-811E-1B1EB4B3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85C8C2E-1B37-4A02-AC6E-C625C4A1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C6663F-91F2-4C2D-95A7-F957F3C8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4A80D3-AE5B-48B5-B136-CBD28211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E87E306-C444-4AFD-92B5-A8C7F0DC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3B4B53-3BD3-4167-B410-E235D02C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53B68A7-E600-41E5-A930-7A7413C3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FE3537-909A-4763-A607-475F31C1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BF8A7EA-0216-426E-A839-CA5529C2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D7C821-C878-464F-B137-7603DB30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077C-6536-41BE-A8B6-C47A9A31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FA76F-1BA4-46FB-A7F2-6070330E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F3CB26-0369-4921-A517-873FAC05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FA9137D-68E6-4B8A-818D-07CB5BC2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F3618D-786D-467C-9D96-8E5EA7CF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02C872-8C4C-441F-8B41-317630E8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D41375-7E42-40B0-A2AC-EB26C97C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2993D14-6162-4E4B-A399-D0AA6C52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6954EB-E14C-4440-8DD5-2E7D143F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750D8BD-F0D9-41F8-A320-08FDEDE5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FEC9C6-F645-486A-B56F-A2BE5A56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0FBFA-45EB-4F83-B704-166464FA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8E18C-9C38-44EC-AFF5-078A04D7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68F57-603A-48D8-9D8F-9A54CCF1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07E64-2B6F-46AE-8E8B-1D2CD8C7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B8E04-D979-40EC-9BE6-05577B40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70A4E-79DC-492B-ABC2-54AFAEEE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B2414-C3FC-4B8C-BD81-C7E35E99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FE7CD-BB23-44E1-90E6-CF80810D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7686C0-8232-4CAF-AA42-09675A6A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1EE-C8F4-4C68-B5B5-41D756B0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D9CD3E-1829-4112-858A-5D34FA7B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7DB1EB-EE08-4F6E-ACA0-00014296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4397E0-BF30-4E3D-AF45-649F0DF4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10F1F8-A11A-4E76-BF66-74E59AC8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88439F-C0A7-41C9-BE70-638C1C43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FF9E69-EA06-4A3E-A0B4-C314D2AC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86EF06-1A3D-4D03-9DB8-AF1B328B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149837-FAB8-4B36-BA7D-820AA995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7CE79B-62C5-449F-8897-707795E0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AD1B50-4FFD-405E-81D6-578B39D8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5739-4984-4817-AA1C-80C2947F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EADCDA-48CC-464E-8330-8238AFCA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99A0F-E7E4-433E-B7BA-DED5FC6C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8C5B4-A892-4BC9-AF58-CC488EEE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5390D-7B12-41C1-8D56-A726410D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6329A-550C-430F-AC5C-F63758E1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3F6EE-E84C-41E4-BAC7-9A0D5CEA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22135-8612-4E65-8B94-87BCCDE2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B59CD-FEC8-4B6E-A343-5955E185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D0762-F9EB-4D93-81CD-41DB094E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084DC-868A-4DE4-B4FC-1ECA802D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489-A174-413A-B0E9-EBA57933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F8CB3-4086-4D1F-9302-D98EECE6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5714F-D010-4A13-B473-B6B474D9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B6C2F-8A49-4561-AB33-7CAD6F04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F3C62-CBBF-4362-8D89-B474B346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B6ADC-9123-476D-A486-2FB75614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E08D9-E2FE-4243-A91A-B6673760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73608-F7D4-4B42-8CB4-D4068B23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C7D85-5B51-4669-80A2-8F5473DA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F5939-6967-455D-9F3A-CCDE2D39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446FF-4F63-4CD0-ACE6-E7525AB8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A6F8-FDB8-41A7-88FE-0111DA6B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7B467-EE2D-4B13-9B3F-31963885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5CB21-6ED5-45C1-AF37-88ECF85A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52C7C-9776-4F2B-A0FA-4AE67920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9AEBB-0AE4-4482-9F8D-8ED201C0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26F1A-8CF6-4634-B466-5BCDF617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0DD42-EDD2-4A80-BC4A-3D6BC76A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0AF87-AB19-4446-888E-0BD726C7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7A72A-443B-4609-A231-40EBFEFD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A92CE-5FF1-416F-90E1-4724D74B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4E0BA-623A-4FE3-B785-74D95BB0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DC3A-C257-471F-A809-8A929DD9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F0BEE-680E-4F9C-A58C-0D5CABF7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9704A-B15F-45EF-8DB4-AA97B1AC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DB7B5-6300-463E-ADEA-F64BE01A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E02DB-F51E-434E-9A90-658479C4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3202B-A195-4902-AF9C-AC0D938D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F23AD-04EA-4BA8-968E-3468FEFC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25438-1810-498C-B366-A49808BD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C7D7B6-18B3-434E-BECD-56F2FAE9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02ED0B-0C10-4EF4-AC16-9B8C24D5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AE0E02-8D57-416F-B1E3-958A87A7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8.wmf"/><Relationship Id="rId24" Type="http://schemas.openxmlformats.org/officeDocument/2006/relationships/image" Target="../media/image8.wmf"/><Relationship Id="rId25" Type="http://schemas.openxmlformats.org/officeDocument/2006/relationships/image" Target="../media/image8.wmf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2.png"/><Relationship Id="rId34" Type="http://schemas.openxmlformats.org/officeDocument/2006/relationships/slideLayout" Target="../slideLayouts/slideLayout157.xml"/><Relationship Id="rId35" Type="http://schemas.openxmlformats.org/officeDocument/2006/relationships/slideLayout" Target="../slideLayouts/slideLayout158.xml"/><Relationship Id="rId36" Type="http://schemas.openxmlformats.org/officeDocument/2006/relationships/slideLayout" Target="../slideLayouts/slideLayout159.xml"/><Relationship Id="rId37" Type="http://schemas.openxmlformats.org/officeDocument/2006/relationships/slideLayout" Target="../slideLayouts/slideLayout160.xml"/><Relationship Id="rId38" Type="http://schemas.openxmlformats.org/officeDocument/2006/relationships/slideLayout" Target="../slideLayouts/slideLayout161.xml"/><Relationship Id="rId39" Type="http://schemas.openxmlformats.org/officeDocument/2006/relationships/slideLayout" Target="../slideLayouts/slideLayout162.xml"/><Relationship Id="rId40" Type="http://schemas.openxmlformats.org/officeDocument/2006/relationships/slideLayout" Target="../slideLayouts/slideLayout163.xml"/><Relationship Id="rId41" Type="http://schemas.openxmlformats.org/officeDocument/2006/relationships/slideLayout" Target="../slideLayouts/slideLayout164.xml"/><Relationship Id="rId42" Type="http://schemas.openxmlformats.org/officeDocument/2006/relationships/slideLayout" Target="../slideLayouts/slideLayout165.xml"/><Relationship Id="rId43" Type="http://schemas.openxmlformats.org/officeDocument/2006/relationships/slideLayout" Target="../slideLayouts/slideLayout166.xml"/><Relationship Id="rId44" Type="http://schemas.openxmlformats.org/officeDocument/2006/relationships/slideLayout" Target="../slideLayouts/slideLayout167.xml"/><Relationship Id="rId4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8.wmf"/><Relationship Id="rId24" Type="http://schemas.openxmlformats.org/officeDocument/2006/relationships/image" Target="../media/image8.wmf"/><Relationship Id="rId25" Type="http://schemas.openxmlformats.org/officeDocument/2006/relationships/image" Target="../media/image8.wmf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2.png"/><Relationship Id="rId34" Type="http://schemas.openxmlformats.org/officeDocument/2006/relationships/slideLayout" Target="../slideLayouts/slideLayout361.xml"/><Relationship Id="rId35" Type="http://schemas.openxmlformats.org/officeDocument/2006/relationships/slideLayout" Target="../slideLayouts/slideLayout362.xml"/><Relationship Id="rId36" Type="http://schemas.openxmlformats.org/officeDocument/2006/relationships/slideLayout" Target="../slideLayouts/slideLayout363.xml"/><Relationship Id="rId37" Type="http://schemas.openxmlformats.org/officeDocument/2006/relationships/slideLayout" Target="../slideLayouts/slideLayout364.xml"/><Relationship Id="rId38" Type="http://schemas.openxmlformats.org/officeDocument/2006/relationships/slideLayout" Target="../slideLayouts/slideLayout365.xml"/><Relationship Id="rId39" Type="http://schemas.openxmlformats.org/officeDocument/2006/relationships/slideLayout" Target="../slideLayouts/slideLayout366.xml"/><Relationship Id="rId40" Type="http://schemas.openxmlformats.org/officeDocument/2006/relationships/slideLayout" Target="../slideLayouts/slideLayout367.xml"/><Relationship Id="rId41" Type="http://schemas.openxmlformats.org/officeDocument/2006/relationships/slideLayout" Target="../slideLayouts/slideLayout368.xml"/><Relationship Id="rId42" Type="http://schemas.openxmlformats.org/officeDocument/2006/relationships/slideLayout" Target="../slideLayouts/slideLayout369.xml"/><Relationship Id="rId43" Type="http://schemas.openxmlformats.org/officeDocument/2006/relationships/slideLayout" Target="../slideLayouts/slideLayout370.xml"/><Relationship Id="rId44" Type="http://schemas.openxmlformats.org/officeDocument/2006/relationships/slideLayout" Target="../slideLayouts/slideLayout371.xml"/><Relationship Id="rId4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3572-5A70-4296-BCDB-0400666B8D9F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2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FECB-2494-4517-8983-25AE15A8D24C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764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65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68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71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3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774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75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7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778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779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1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782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4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785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7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788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0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791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3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794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6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797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9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800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2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803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806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8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809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1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812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4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815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7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818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0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821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3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824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6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827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9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830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2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833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5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836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8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839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1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44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6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7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9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50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2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853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856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8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859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1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862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4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865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7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868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871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3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874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76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998D-C63A-4CD5-8489-6BCE5A980312}" type="slidenum"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4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3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3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9E81-3BEC-4C94-8C4C-C945B204925C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8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8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3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3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72BE-A983-447D-B919-7B031B6ED101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3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3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3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39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0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4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4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5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5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7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A456-2646-4775-BF23-5C82ADB564F2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4"/>
    <p:sldLayoutId id="2147483819" r:id="rId35"/>
    <p:sldLayoutId id="2147483820" r:id="rId36"/>
    <p:sldLayoutId id="2147483821" r:id="rId37"/>
    <p:sldLayoutId id="2147483822" r:id="rId38"/>
    <p:sldLayoutId id="2147483823" r:id="rId39"/>
    <p:sldLayoutId id="2147483824" r:id="rId40"/>
    <p:sldLayoutId id="2147483825" r:id="rId41"/>
    <p:sldLayoutId id="2147483826" r:id="rId42"/>
    <p:sldLayoutId id="2147483827" r:id="rId43"/>
    <p:sldLayoutId id="2147483828" r:id="rId44"/>
    <p:sldLayoutId id="2147483829" r:id="rId4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128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1129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1130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31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1132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35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1136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37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1138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139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1140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1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2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3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4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5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6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7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8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9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0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1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2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3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4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5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6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7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8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9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0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1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2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3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4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5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6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7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8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9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0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1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2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3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4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5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176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1177" name="Oval 52"/>
                          <p:cNvSpPr/>
                          <p:nvPr/>
                        </p:nvSpPr>
                        <p:spPr>
                          <a:xfrm rot="18780000">
                            <a:off x="2467080" y="448524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8" name="Oval 53"/>
                          <p:cNvSpPr/>
                          <p:nvPr/>
                        </p:nvSpPr>
                        <p:spPr>
                          <a:xfrm rot="18780000">
                            <a:off x="2380680" y="429372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9" name="Oval 54"/>
                          <p:cNvSpPr/>
                          <p:nvPr/>
                        </p:nvSpPr>
                        <p:spPr>
                          <a:xfrm rot="18780000">
                            <a:off x="2261520" y="399672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0" name="Oval 55"/>
                          <p:cNvSpPr/>
                          <p:nvPr/>
                        </p:nvSpPr>
                        <p:spPr>
                          <a:xfrm rot="18780000">
                            <a:off x="2169360" y="373788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1" name="Oval 56"/>
                          <p:cNvSpPr/>
                          <p:nvPr/>
                        </p:nvSpPr>
                        <p:spPr>
                          <a:xfrm rot="18780000">
                            <a:off x="2068560" y="34214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2" name="Oval 57"/>
                          <p:cNvSpPr/>
                          <p:nvPr/>
                        </p:nvSpPr>
                        <p:spPr>
                          <a:xfrm rot="18780000">
                            <a:off x="1979640" y="316728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3" name="Oval 58"/>
                          <p:cNvSpPr/>
                          <p:nvPr/>
                        </p:nvSpPr>
                        <p:spPr>
                          <a:xfrm rot="18780000">
                            <a:off x="18511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4" name="Oval 59"/>
                          <p:cNvSpPr/>
                          <p:nvPr/>
                        </p:nvSpPr>
                        <p:spPr>
                          <a:xfrm rot="18780000">
                            <a:off x="1737360" y="262404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5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6" name="Oval 61"/>
                          <p:cNvSpPr/>
                          <p:nvPr/>
                        </p:nvSpPr>
                        <p:spPr>
                          <a:xfrm rot="18780000">
                            <a:off x="149724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7" name="Oval 62"/>
                          <p:cNvSpPr/>
                          <p:nvPr/>
                        </p:nvSpPr>
                        <p:spPr>
                          <a:xfrm rot="18734400">
                            <a:off x="1406880" y="181368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8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189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0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1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2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3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4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5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6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7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8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9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0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1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2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3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4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5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6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7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8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9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0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1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2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3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4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5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6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7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8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9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0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1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2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3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4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225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226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28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229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38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239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Rectangle 118"/>
              <p:cNvSpPr/>
              <p:nvPr/>
            </p:nvSpPr>
            <p:spPr>
              <a:xfrm rot="18182400">
                <a:off x="1614600" y="427896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5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246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51" name="PlaceHolder 1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B7E4-86B4-40D3-A9D7-C848C2C2CAE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293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E4FE-7811-4DB3-9B16-4E858AC671FB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3875-9791-4E7F-BDFF-B9332D29E5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9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0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4A21-592C-444A-B745-7DECE9A8E83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7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7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5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5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5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C7F8-C435-40F8-ABC7-8E464C84E039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8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7889-800C-4E3C-992A-42CDA00A6C9D}" type="slidenum">
              <a:rPr b="1" lang="ar-SA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518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519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1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24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525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 type="dt" idx="5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 type="ftr" idx="5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 type="sldNum" idx="6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BE14-9A3D-4538-A0DC-5DF18CAF5C73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2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573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C85A-8676-4636-8149-FDA5560AC73C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9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1630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2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4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3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5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6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0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2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3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7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8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9C79-FD03-4A1F-9413-2DBA43270A7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88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E934-6BE7-4FB8-B6A1-F531CDA62D17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5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36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8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9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40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41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42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47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8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49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 type="sldNum" idx="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B24F-37D2-41F4-A16D-FA391F5CA9B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 type="ftr" idx="7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99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 type="dt" idx="7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 type="ftr" idx="7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5"/>
          <p:cNvSpPr>
            <a:spLocks noGrp="1"/>
          </p:cNvSpPr>
          <p:nvPr>
            <p:ph type="sldNum" idx="7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65F1-9459-42E4-B6E2-1FBDF282CD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4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 type="dt" idx="7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CF86-B5E1-4FE3-93AB-BD75A6280FB9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10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6132-7B11-4032-8BBD-F59A5AA4EFD8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1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2152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153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4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5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2156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2157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158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9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0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2161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2162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3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4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2165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6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7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2168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9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70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171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2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73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174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5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76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177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8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79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180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1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2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183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4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5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86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7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8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89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0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1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92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3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4" name="Group 45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195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6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7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198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9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00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01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2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03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04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5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06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207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8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09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210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1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2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213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4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5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216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7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8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219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0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1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222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3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24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5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26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227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8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9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230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1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32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233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4" name="Freeform 85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35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236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7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38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239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0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41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242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3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44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245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6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47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248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9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0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251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2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3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254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5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6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257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8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259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260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261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2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3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4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5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6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7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8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9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270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F569-F86B-4E59-9B29-7C7935CCC08A}" type="slidenum"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32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 type="dt" idx="85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 type="ftr" idx="86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 type="sldNum" idx="87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8B87-BB85-464D-A7D4-BC90A19BA52A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29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32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D4C4-A6F6-4207-AB81-ABC2F8EB6F11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37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7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37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37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 type="dt" idx="8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 type="ftr" idx="8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PlaceHolder 5"/>
          <p:cNvSpPr>
            <a:spLocks noGrp="1"/>
          </p:cNvSpPr>
          <p:nvPr>
            <p:ph type="sldNum" idx="9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E7C5-4F41-4C73-AD25-A22310BD8BFD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42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42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42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42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42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3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43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4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44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46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 type="dt" idx="9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 type="ftr" idx="9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PlaceHolder 5"/>
          <p:cNvSpPr>
            <a:spLocks noGrp="1"/>
          </p:cNvSpPr>
          <p:nvPr>
            <p:ph type="sldNum" idx="9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F601-1339-40BB-8DB3-B1E7D667E07E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4"/>
    <p:sldLayoutId id="2147484040" r:id="rId35"/>
    <p:sldLayoutId id="2147484041" r:id="rId36"/>
    <p:sldLayoutId id="2147484042" r:id="rId37"/>
    <p:sldLayoutId id="2147484043" r:id="rId38"/>
    <p:sldLayoutId id="2147484044" r:id="rId39"/>
    <p:sldLayoutId id="2147484045" r:id="rId40"/>
    <p:sldLayoutId id="2147484046" r:id="rId41"/>
    <p:sldLayoutId id="2147484047" r:id="rId42"/>
    <p:sldLayoutId id="2147484048" r:id="rId43"/>
    <p:sldLayoutId id="2147484049" r:id="rId44"/>
    <p:sldLayoutId id="2147484050" r:id="rId4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6" name="Group 2"/>
          <p:cNvGrpSpPr/>
          <p:nvPr/>
        </p:nvGrpSpPr>
        <p:grpSpPr>
          <a:xfrm>
            <a:off x="-315000" y="798480"/>
            <a:ext cx="7085160" cy="6862680"/>
            <a:chOff x="-315000" y="798480"/>
            <a:chExt cx="7085160" cy="6862680"/>
          </a:xfrm>
        </p:grpSpPr>
        <p:grpSp>
          <p:nvGrpSpPr>
            <p:cNvPr id="2517" name="Group 3"/>
            <p:cNvGrpSpPr/>
            <p:nvPr/>
          </p:nvGrpSpPr>
          <p:grpSpPr>
            <a:xfrm>
              <a:off x="-315000" y="798480"/>
              <a:ext cx="7085160" cy="6862680"/>
              <a:chOff x="-315000" y="798480"/>
              <a:chExt cx="7085160" cy="6862680"/>
            </a:xfrm>
          </p:grpSpPr>
          <p:grpSp>
            <p:nvGrpSpPr>
              <p:cNvPr id="2518" name="Group 4"/>
              <p:cNvGrpSpPr/>
              <p:nvPr/>
            </p:nvGrpSpPr>
            <p:grpSpPr>
              <a:xfrm>
                <a:off x="-315000" y="798480"/>
                <a:ext cx="7085160" cy="6862680"/>
                <a:chOff x="-315000" y="798480"/>
                <a:chExt cx="7085160" cy="6862680"/>
              </a:xfrm>
            </p:grpSpPr>
            <p:sp>
              <p:nvSpPr>
                <p:cNvPr id="2519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520" name="Group 6"/>
                <p:cNvGrpSpPr/>
                <p:nvPr/>
              </p:nvGrpSpPr>
              <p:grpSpPr>
                <a:xfrm>
                  <a:off x="-315000" y="798480"/>
                  <a:ext cx="7085160" cy="6862680"/>
                  <a:chOff x="-315000" y="798480"/>
                  <a:chExt cx="7085160" cy="6862680"/>
                </a:xfrm>
              </p:grpSpPr>
              <p:sp>
                <p:nvSpPr>
                  <p:cNvPr id="2521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2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24" name="Group 10"/>
                  <p:cNvGrpSpPr/>
                  <p:nvPr/>
                </p:nvGrpSpPr>
                <p:grpSpPr>
                  <a:xfrm>
                    <a:off x="-315000" y="798480"/>
                    <a:ext cx="7085160" cy="6862680"/>
                    <a:chOff x="-315000" y="798480"/>
                    <a:chExt cx="7085160" cy="6862680"/>
                  </a:xfrm>
                </p:grpSpPr>
                <p:sp>
                  <p:nvSpPr>
                    <p:cNvPr id="2525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526" name="Group 12"/>
                    <p:cNvGrpSpPr/>
                    <p:nvPr/>
                  </p:nvGrpSpPr>
                  <p:grpSpPr>
                    <a:xfrm>
                      <a:off x="-315000" y="805680"/>
                      <a:ext cx="7075440" cy="6855480"/>
                      <a:chOff x="-315000" y="805680"/>
                      <a:chExt cx="7075440" cy="6855480"/>
                    </a:xfrm>
                  </p:grpSpPr>
                  <p:sp>
                    <p:nvSpPr>
                      <p:cNvPr id="2527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528" name="Group 14"/>
                      <p:cNvGrpSpPr/>
                      <p:nvPr/>
                    </p:nvGrpSpPr>
                    <p:grpSpPr>
                      <a:xfrm>
                        <a:off x="-315000" y="805680"/>
                        <a:ext cx="7075440" cy="6855480"/>
                        <a:chOff x="-315000" y="805680"/>
                        <a:chExt cx="7075440" cy="6855480"/>
                      </a:xfrm>
                    </p:grpSpPr>
                    <p:sp>
                      <p:nvSpPr>
                        <p:cNvPr id="2529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0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1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2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3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4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5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6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7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8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9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0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1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2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3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4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5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6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7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8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9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0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1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2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3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4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5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6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7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8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9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0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1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2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3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4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565" name="Group 51"/>
                        <p:cNvGrpSpPr/>
                        <p:nvPr/>
                      </p:nvGrpSpPr>
                      <p:grpSpPr>
                        <a:xfrm>
                          <a:off x="-315000" y="1283760"/>
                          <a:ext cx="6462720" cy="6377400"/>
                          <a:chOff x="-315000" y="1283760"/>
                          <a:chExt cx="6462720" cy="6377400"/>
                        </a:xfrm>
                      </p:grpSpPr>
                      <p:sp>
                        <p:nvSpPr>
                          <p:cNvPr id="2566" name="Oval 52"/>
                          <p:cNvSpPr/>
                          <p:nvPr/>
                        </p:nvSpPr>
                        <p:spPr>
                          <a:xfrm rot="18780000">
                            <a:off x="2445120" y="4521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67" name="Oval 53"/>
                          <p:cNvSpPr/>
                          <p:nvPr/>
                        </p:nvSpPr>
                        <p:spPr>
                          <a:xfrm rot="18780000">
                            <a:off x="2356920" y="43300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68" name="Oval 54"/>
                          <p:cNvSpPr/>
                          <p:nvPr/>
                        </p:nvSpPr>
                        <p:spPr>
                          <a:xfrm rot="18780000">
                            <a:off x="2237760" y="40330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69" name="Oval 55"/>
                          <p:cNvSpPr/>
                          <p:nvPr/>
                        </p:nvSpPr>
                        <p:spPr>
                          <a:xfrm rot="18780000">
                            <a:off x="2145600" y="37742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0" name="Oval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1" name="Oval 57"/>
                          <p:cNvSpPr/>
                          <p:nvPr/>
                        </p:nvSpPr>
                        <p:spPr>
                          <a:xfrm rot="18780000">
                            <a:off x="1955880" y="32036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2" name="Oval 58"/>
                          <p:cNvSpPr/>
                          <p:nvPr/>
                        </p:nvSpPr>
                        <p:spPr>
                          <a:xfrm rot="18780000">
                            <a:off x="1827360" y="292824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3" name="Oval 59"/>
                          <p:cNvSpPr/>
                          <p:nvPr/>
                        </p:nvSpPr>
                        <p:spPr>
                          <a:xfrm rot="18780000">
                            <a:off x="1713600" y="26604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4" name="Oval 60"/>
                          <p:cNvSpPr/>
                          <p:nvPr/>
                        </p:nvSpPr>
                        <p:spPr>
                          <a:xfrm rot="18780000">
                            <a:off x="1576800" y="2405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5" name="Oval 61"/>
                          <p:cNvSpPr/>
                          <p:nvPr/>
                        </p:nvSpPr>
                        <p:spPr>
                          <a:xfrm rot="18780000">
                            <a:off x="1475280" y="212112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6" name="Oval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7" name="Oval 63"/>
                          <p:cNvSpPr/>
                          <p:nvPr/>
                        </p:nvSpPr>
                        <p:spPr>
                          <a:xfrm rot="18819600">
                            <a:off x="1289880" y="155772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578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9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0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1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2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3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4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5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6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7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8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9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0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1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2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3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4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5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6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7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8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9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0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1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2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3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4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5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6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7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8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9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0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1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2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3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14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15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6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17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18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9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0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1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2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3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4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5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6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627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2628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34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2635" name="Oval 121"/>
                <p:cNvSpPr/>
                <p:nvPr/>
              </p:nvSpPr>
              <p:spPr>
                <a:xfrm rot="2828400">
                  <a:off x="4770360" y="2360160"/>
                  <a:ext cx="314640" cy="18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6" name="Freeform 122"/>
                <p:cNvSpPr/>
                <p:nvPr/>
              </p:nvSpPr>
              <p:spPr>
                <a:xfrm>
                  <a:off x="4869000" y="2257560"/>
                  <a:ext cx="25488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7" name="Freeform 123"/>
                <p:cNvSpPr/>
                <p:nvPr/>
              </p:nvSpPr>
              <p:spPr>
                <a:xfrm>
                  <a:off x="4953600" y="2246400"/>
                  <a:ext cx="182520" cy="17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8" name="Freeform 124"/>
                <p:cNvSpPr/>
                <p:nvPr/>
              </p:nvSpPr>
              <p:spPr>
                <a:xfrm>
                  <a:off x="5018040" y="2142720"/>
                  <a:ext cx="227880" cy="22068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9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4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 type="dt" idx="9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2AEF-C796-4EA5-88B2-7242BE49BF1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68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 type="dt" idx="9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3C6E-FB45-47E8-81A1-C231307A573D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0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1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2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7208-4559-4B4F-B6CB-AB161441FBF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83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46A6-3966-4190-8D0B-CB3F1C9C4F5A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240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0D97-0B81-4B03-8404-A2B44D511CE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5606-F1EA-4BEF-9887-F76D7CF9FB9F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6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8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50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1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52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7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8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9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985C-5241-4E67-829A-6E26E19AA4A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07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61F8-069B-4EDA-9E1C-467BD76158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5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438E-EB08-4E4D-A1C8-7CA16332C93A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99"/>
                </a:solidFill>
                <a:latin typeface="Arial"/>
                <a:cs typeface="Andalus"/>
              </a:rPr>
              <a:t>الإسلام وبناء المجتمع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 rtl="1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شبهات عن المرأة والردعليها 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مقاصد الحجاب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01" name="Organization Chart 5"/>
          <p:cNvGrpSpPr/>
          <p:nvPr/>
        </p:nvGrpSpPr>
        <p:grpSpPr>
          <a:xfrm>
            <a:off x="826920" y="1700280"/>
            <a:ext cx="7560720" cy="4421160"/>
            <a:chOff x="826920" y="1700280"/>
            <a:chExt cx="7560720" cy="4421160"/>
          </a:xfrm>
        </p:grpSpPr>
        <p:cxnSp>
          <p:nvCxnSpPr>
            <p:cNvPr id="2802" name="_s1028"/>
            <p:cNvCxnSpPr>
              <a:stCxn id="2803" idx="0"/>
              <a:endCxn id="2804" idx="2"/>
            </p:cNvCxnSpPr>
            <p:nvPr/>
          </p:nvCxnSpPr>
          <p:spPr>
            <a:xfrm flipV="1" rot="16200000">
              <a:off x="5181840" y="2892240"/>
              <a:ext cx="884880" cy="2036520"/>
            </a:xfrm>
            <a:prstGeom prst="bentConnector3">
              <a:avLst>
                <a:gd name="adj1" fmla="val 129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05" name="_s1029"/>
            <p:cNvCxnSpPr>
              <a:stCxn id="2806" idx="0"/>
              <a:endCxn id="2804" idx="2"/>
            </p:cNvCxnSpPr>
            <p:nvPr/>
          </p:nvCxnSpPr>
          <p:spPr>
            <a:xfrm flipH="1" flipV="1" rot="5400000">
              <a:off x="3146400" y="2892600"/>
              <a:ext cx="884880" cy="2035800"/>
            </a:xfrm>
            <a:prstGeom prst="bentConnector3">
              <a:avLst>
                <a:gd name="adj1" fmla="val 129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04" name="_s1030"/>
            <p:cNvSpPr/>
            <p:nvPr/>
          </p:nvSpPr>
          <p:spPr>
            <a:xfrm>
              <a:off x="2862000" y="1700280"/>
              <a:ext cx="3489480" cy="17683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5000" spc="-1" strike="noStrike">
                  <a:solidFill>
                    <a:srgbClr val="ffffff"/>
                  </a:solidFill>
                  <a:latin typeface="Arabic Typesetting"/>
                  <a:cs typeface="Arabic Typesetting"/>
                </a:rPr>
                <a:t>حقيقة الحجاب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_s1031"/>
            <p:cNvSpPr/>
            <p:nvPr/>
          </p:nvSpPr>
          <p:spPr>
            <a:xfrm>
              <a:off x="826920" y="4353120"/>
              <a:ext cx="3489480" cy="17683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5600" spc="-1" strike="noStrike">
                  <a:solidFill>
                    <a:srgbClr val="ffffff"/>
                  </a:solidFill>
                  <a:latin typeface="Arabic Typesetting"/>
                  <a:cs typeface="Arabic Typesetting"/>
                </a:rPr>
                <a:t>حدود الحجاب 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_s1032"/>
            <p:cNvSpPr/>
            <p:nvPr/>
          </p:nvSpPr>
          <p:spPr>
            <a:xfrm>
              <a:off x="4898160" y="4353120"/>
              <a:ext cx="3489480" cy="17683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600" spc="-1" strike="noStrike">
                  <a:solidFill>
                    <a:srgbClr val="ffffff"/>
                  </a:solidFill>
                  <a:latin typeface="Arabic Typesetting"/>
                  <a:cs typeface="Arabic Typesetting"/>
                </a:rPr>
                <a:t>صفات الحجاب الشرعي </a:t>
              </a:r>
              <a:endParaRPr b="0" lang="en-US" sz="4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 rtl="1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cc00"/>
                </a:solidFill>
                <a:latin typeface="Arabic Typesetting"/>
                <a:cs typeface="Arabic Typesetting"/>
              </a:rPr>
              <a:t>صفات الحجاب 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cc00"/>
                </a:solidFill>
                <a:latin typeface="Arabic Typesetting"/>
                <a:ea typeface="Arabic Typesetting"/>
              </a:rPr>
              <a:t>1</a:t>
            </a:r>
            <a:r>
              <a:rPr b="0" lang="ar-SA" sz="4800" spc="-1" strike="noStrike">
                <a:solidFill>
                  <a:srgbClr val="ffcc00"/>
                </a:solidFill>
                <a:latin typeface="Arabic Typesetting"/>
                <a:ea typeface="Arabic Typesetting"/>
              </a:rPr>
              <a:t>- أن يكون ساتراً ثخينا فضفاضاً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cc00"/>
                </a:solidFill>
                <a:latin typeface="Arabic Typesetting"/>
                <a:ea typeface="Arabic Typesetting"/>
              </a:rPr>
              <a:t>2</a:t>
            </a:r>
            <a:r>
              <a:rPr b="0" lang="ar-SA" sz="4800" spc="-1" strike="noStrike">
                <a:solidFill>
                  <a:srgbClr val="ffcc00"/>
                </a:solidFill>
                <a:latin typeface="Arabic Typesetting"/>
                <a:ea typeface="Arabic Typesetting"/>
              </a:rPr>
              <a:t>- أن لايكون زينة في نفسه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cc00"/>
                </a:solidFill>
                <a:latin typeface="Arabic Typesetting"/>
                <a:ea typeface="Arabic Typesetting"/>
              </a:rPr>
              <a:t>3</a:t>
            </a:r>
            <a:r>
              <a:rPr b="0" lang="ar-SA" sz="4800" spc="-1" strike="noStrike">
                <a:solidFill>
                  <a:srgbClr val="ffcc00"/>
                </a:solidFill>
                <a:latin typeface="Arabic Typesetting"/>
                <a:ea typeface="Arabic Typesetting"/>
              </a:rPr>
              <a:t>- أن لا يشبه لباس الرجال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 rtl="1">
              <a:lnSpc>
                <a:spcPct val="100000"/>
              </a:lnSpc>
              <a:spcBef>
                <a:spcPts val="25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حدود الحجاب </a:t>
            </a:r>
            <a:endParaRPr b="0" lang="en-US" sz="10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شبهات حول الحجاب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7d47d"/>
                </a:solidFill>
                <a:latin typeface="Arabic Typesetting"/>
                <a:cs typeface="Arabic Typesetting"/>
              </a:rPr>
              <a:t>الشبهة الأولى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7d47d"/>
                </a:solidFill>
                <a:latin typeface="Arabic Typesetting"/>
                <a:cs typeface="Arabic Typesetting"/>
              </a:rPr>
              <a:t>أن في الحجاب اعتداء على حقوق المرأة وتقييد حريتها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شبهة الثانية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حجاب سبب للتخلف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شبهة الثالثة 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 rtl="1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أن الحجاب دليل على اساءة الظن بالمرأة 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Arabic Typesetting"/>
                <a:cs typeface="DecoType Naskh Extensions"/>
              </a:rPr>
              <a:t>ومن يعتصم بحبل الله فقد هدي إلى طريق مستقيم 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003366"/>
                </a:solidFill>
                <a:latin typeface="Arabic Typesetting"/>
                <a:cs typeface="Arabic Typesetting"/>
              </a:rPr>
              <a:t>عمل المرأة 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إرث المرأة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lnSpc>
                <a:spcPct val="10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شهادة المرأة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دية المرأة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تعدد الزوجات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هل الإسلام هو أول من جاء بالتعدد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حجاب</a:t>
            </a:r>
            <a:r>
              <a:rPr b="0" lang="ar-SA" sz="8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حكم الحجاب وأدلته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7:44:14Z</dcterms:created>
  <dc:creator>Administrator</dc:creator>
  <dc:description/>
  <dc:language>en-US</dc:language>
  <cp:lastModifiedBy>HAPPY</cp:lastModifiedBy>
  <dcterms:modified xsi:type="dcterms:W3CDTF">2015-10-11T21:32:22Z</dcterms:modified>
  <cp:revision>4</cp:revision>
  <dc:subject/>
  <dc:title>الإسلام وبناء المجتم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  <property fmtid="{D5CDD505-2E9C-101B-9397-08002B2CF9AE}" pid="4" name="Version">
    <vt:r8>8</vt:r8>
  </property>
</Properties>
</file>