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BC5-0893-469A-BDCD-9815C5D3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7CC-8BC3-4FED-B89F-E5F5F17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CF292-F1E1-4B79-93E2-86782C57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544B9-2972-422C-8688-4DDF5ED4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6AF11-B6B6-4C92-A14D-92D8E61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4D29E-EE56-4603-9A24-DE37B71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01803-5DF2-467F-A9D1-6C0D299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318021-F58B-4450-BFAB-DEF459C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C5B50-D800-4652-819E-DFAB8C9E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B2D56-345C-4C7A-9206-4E4917CC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D8CEB-78B7-4DC2-83DB-1889C3DD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3353B-2F95-42A6-A9BD-6356A914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238-F695-4DE2-BDA8-7DBB9E30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343CF-48CB-436E-82EE-42315EF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532F7-8FC3-4B91-8629-1FD52CD9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61E3-29F0-4BB6-81F8-AEE7CEA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7A0C8-AB38-41FC-9DAD-C894EFF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A5DE1-153E-4C4C-B520-01B043B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9A7A3-81E2-4A07-88CD-A15BDBB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15ED9-3A06-4756-B6E2-226AC9F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39735-F05A-4469-84F5-E453A894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186E5-E3A6-4D56-B5A1-61D91D0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282D-F5F2-40A4-8C8A-4B94358C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588-5528-4B76-9BCB-D01D02F2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6F41C-AB09-4B34-B6E8-1D1CA8B3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2265-CBF7-4CC7-91AA-BC0D75BC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7EA5F-0012-4441-8E13-FBA0CD1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840D8-A9A7-4188-87D2-E89F259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DC66A-35AE-4590-B7C2-D901E03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C179-C379-405D-B808-4443E77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8305B-93C8-4C1C-8255-992B94A5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54A03-61D9-4C74-A9C0-5BDEB07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CB453-9CB3-40AE-8C98-3C44322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46F31-876F-4F5F-9554-898AA81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05FE-F63B-41ED-8F18-D5E87754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32A8-0131-4486-AB54-ED991FA5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9F8B-996F-4C83-A001-C78588F8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12ACA-4129-414E-9CEF-2D4EE06E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F7F2B-F7C1-45CF-B098-0F11219C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E2418-5E4C-4F4B-A8C1-38C7161F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7329-959E-41D9-9ED7-596AF47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EDA29-9479-4104-AF04-02C35239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C83A-4C08-4F26-913B-5123A2E4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62C7F-F49C-41EB-98E5-65F441B5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A4F09-A7B2-4A75-AF0A-3E953A36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324-FBF2-4073-BDE5-69DD1E31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9DDFD-9487-4028-867A-3D88E8E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6B80-DEA8-4860-B983-579B6CE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D8550-7AF6-4E16-B6D0-5A0AF65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9A40-AF5A-4FF4-9E16-5501B8D9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6AA49-64BE-4483-8CF1-C9643F71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72E46-A64D-427D-9687-B50CB762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00E8C-72E1-4760-BA75-2B977B4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70250-F238-4CA6-9328-C152938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43D50-AB0E-4329-B9F8-9C6FDBC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535F6-C673-46F6-9A96-8E27E48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523-9F32-4F78-96CF-624259BB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B4668-0E16-402D-94D8-DEB9CD5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5C1CD-B94E-4C3D-B74B-901A498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9643C-037E-4D68-AD35-702D70A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B9818-8CB1-404B-BE1B-EBD52DE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3F853-FE95-45AB-834E-3A33CC8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EF6F1-9EB5-4613-BCC9-432FDEDC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4E3E9-6F90-4011-A0D3-0E7BFC62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FD1E8-8344-4154-AC08-6CD90F4D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4B305-A24C-4DD4-9699-33B7D17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DD88A-F246-411D-BDF3-0268C5B4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EE9-9C59-4521-AC43-EEBEE08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0340D-6DD4-419B-A078-BF3B728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415AF-BEEC-4054-BC86-3DC6DBE6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8E781-BC23-4DFB-80EE-EA835963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A86F5-D21D-426B-9B84-4DC964C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7226E-D215-4C3E-B183-A310793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5171A-BBE7-411F-9F06-76FB0D9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859AA-2C87-44E4-9B47-CDEDE7C5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51683-E313-4FB9-8D26-552DE20E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8422C-ABF3-4C55-AC69-01BDFEC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2F9BF-34B0-4658-93AA-3D44D260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EAC-E0C0-49BE-AE0C-9A580B2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63304-1570-4604-A03A-60A98FF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823F5-5C30-4354-9FD7-AEA4EDA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7EEE4-F857-4C68-89D0-26219A40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6AEA3-C218-414A-9F5B-793376D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F2C3C-3009-43AB-8170-0AF26285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847FA-9310-4FA5-AE96-FDD266D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1F58A-31F2-4807-A15A-CD28E114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23CE4-D7E9-4B90-BA1E-4CE04795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09699-65F1-4A02-AEEA-B72FD51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60EC3-551F-4253-AE71-EA07FC73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54F-6329-4DBB-981B-823343E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CC461-C2DE-45CF-80BE-36FD26B6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403D4-66AF-4C08-A88A-243CBBD6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8B083-2E20-4CC0-AB90-92E3F4F2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246E4-A0B2-411C-8002-0E430175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96008-A31C-441C-9608-77CB958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665F0-DF3F-4210-AA9E-4E984C15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E2E19-D35D-4A08-AFAB-A6E5373C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EAF9D-7707-4E95-93DB-F212EAC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A299A-C580-4E5D-B9FE-8D3D41F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7E70C-0256-4D84-A1C8-7B9E3544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100B-734D-4854-AA3E-EAB25AA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B9278-7904-42B0-8CB7-6D484D2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8E0A9-226C-4D55-9F62-EDD4CC74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B77BC-C21E-46D4-A5C3-2AC4801E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5FD29-3878-4B1F-B540-F501912E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66EFF-D85C-4E6D-8D42-CCF7CF1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AB768-C881-436A-9FA0-A3C9EA59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23CC0-EC36-44B4-A7B1-42D6ECDB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08312A-1A1F-401D-95FC-E8B9499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42A04-0178-4AC1-9762-2E8062A7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E6A33-AB45-4F85-A643-4A0A49B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3C2-1870-486F-9959-29F102AA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BC41-68B0-4C51-AD03-ADA5F4A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300DC-B8F9-477A-8092-CA13F47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2071B-14E2-4E39-BD9E-994C083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40289-9627-4CF0-AA71-9954C8D2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BE0E5-0657-4782-92FC-478AC048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13ECE-E432-4DF3-89DF-A0298360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66307-7952-487A-9A52-89534CF3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83E24-0B2E-4843-B8CB-AF7097A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3A351-C15B-48CC-9068-15FC8C9E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763DD-7A97-4BCE-AB3A-C144D2C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5FC93-3B3C-4721-8356-8CA51B9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0DB9-0FAF-4727-A208-D1E59A6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268D9-87CE-48C0-A434-AEA649D4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87DF1-184C-4497-84DE-769862C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042FF-82F1-4E1E-B3B0-08421EEF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2FBAD-0026-486F-8B15-9342707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E98E1-CFE0-4702-BFC4-B827416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410D3-1530-4B3A-98A6-D55A18FC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12127-58C8-4036-A3FE-788EE767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0AB82-1425-4E07-B2B4-CDB5BB32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4779B-0CA2-4FBF-88A4-98034F3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31441-57CA-4EF6-828D-2B649CC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D576-FE2A-4445-B9AD-6A273A08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12435-02EC-46EF-A169-8C97A29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9F2C0-1E1C-45A4-96B9-B472629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1F60E-747C-428B-8ABE-73B97DC2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57C03-18F0-41BA-86E4-75F10FB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D6E53-2130-41BB-977D-C1C4CB7E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0C134-760C-42E3-BCB5-B7E57A6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2CD23-AC34-4876-A933-9CD23936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01C56-479F-4D32-B271-6D5A7202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14603-D714-47E6-96C7-C8053CA9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ADA80-A495-4EA5-B32D-5C93E5F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8521-4103-4068-8BF3-07E3828A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9399D-AD27-4233-940D-A847825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5393E-7697-4DD1-845F-A813838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12205-066C-454D-ACB9-F053E56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A75F1-CDCB-44D3-8C62-BA72C6BC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B2263-BD07-4497-904D-1CE53BD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173F1-1EF9-4F7B-918A-BA34C86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07FA2-B3EE-43EA-A22A-36F048B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8FC5F-7FD8-41AF-9518-276C8ED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02B28-B8C7-42C0-A84F-2F516431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16BB8-6A6F-4292-A766-955CDAA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89AE-5FAF-4040-9E34-FE34F99A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F2C92-FA30-4287-9E0B-5168A105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21EC1-81C9-4AF5-933B-F3339ABE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E1B5D-A4D4-452B-A9A8-46856C43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E4938-CCD9-4A4A-9866-F60AA71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16D47-15B7-48E8-BA76-F3775AD2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95B404-4A42-4FE2-A93A-5F445B8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304C7-EA96-4B77-A1E7-9A1B5FD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EEA41-E594-4085-9D4A-366D2AB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56547-1BF2-4DF8-83F6-454C654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A9115-7C52-4F30-B650-DB07A274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3503-B000-4A2E-B732-02E30B1D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DA7BFB-80D1-4A70-99A5-77AB9BA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26366-F042-4291-B9BD-0F3ABEB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B7919-DFD6-4937-B77D-5AECF8CD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E40E7-B427-4142-BBC0-40008B1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D46161-46A2-46C4-9C3E-2A855E4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8493D-4B95-4770-BED7-49778DB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A2960-2E89-4DCC-BB29-51A2A62D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53FF5B-3DC6-427C-AF09-EE32FBC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857F28-6F50-4988-B24E-7430070D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AACF9-60DF-4103-8593-44D4106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3F03-7C15-45EE-8B56-FFA5977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5D8341-2F74-4EFE-9A4C-06D441F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B5B46-4247-473A-B35D-49CF682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86973D-9D2A-4A2D-80EE-DD923604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314BF6-CEC9-4F4A-9BD5-3B3815FE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544002-044A-43D5-9183-46577476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28463C-D176-40D3-ADDA-3D8E8F96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28263-77F6-4BB8-B4FB-93D80D0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224C4-76F7-4BCF-9DD7-1D9BD219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C6321E-B19F-4DE0-A424-0D067A2D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D445AB-71A0-4998-B973-D24C78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77DE-F193-47E7-B67E-C720DE1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9A49C7-560E-48C0-89F6-D5B803F3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CF6BE-2D50-43B6-9468-A2A9602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074D4E-A320-44A3-A717-0A9F4D8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3377D-AA18-40DA-8CA8-9913EA7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9AE6C0-77E6-4A82-B62E-01C12956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1074D2-BC58-4593-B18F-5035F163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443F5-3183-4F89-89A1-90CF275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464E920-B642-4E16-90BE-0391F5EC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3C6F03-D101-4D08-A5B2-3016FDC5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2BEC07-1DD4-400C-A2EE-B0FF390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EE25-51C5-4665-823E-7D5D9E6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0D113E-EF80-483B-849A-3894896D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95F6EE-0A9A-42A5-9F8C-27CC2DDD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AEA6D2-2897-4FFC-B20D-F5B1BEC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8814A3-7D8C-44AB-8431-0BE705C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42EDC6-EB77-4367-BCF3-CCD942C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1EFC64-2BF9-4C15-ADA1-6183CE8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0883FFB-010F-42E8-91DA-403F95F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411BE4-942E-4EA6-BB31-2E73656C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B2A286-213B-428F-BD90-7DC6FD2D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B16411-BCC5-4528-AF4E-80DE1852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3180-8717-40AF-9807-AA72050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947EFB-E59F-4EED-80E9-8014C5F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534EF9-4E73-48A1-A035-C5BCCB5D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36FB1-7352-4892-9B53-89FB1F93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9CA52D-A388-44F0-8ADA-7F53BD8E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BE5B94-50F4-4848-AB3B-D0C32C16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76AA19-69B5-4D6D-8A0B-256F5C08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B8EE2F-1DA3-43A2-9702-C630FAD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ABF884-4895-4F6D-9BDD-B178733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493368-0C07-42AF-9DE1-CAF35A2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225CD8-15CF-4D04-92FB-EE0E7E31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2ED-C007-4B06-B25E-68ED99F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2202-F7C0-47F1-9D78-984ED92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3CC14F-46E9-4E42-A503-E6C1FF33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C17693-3DD9-4C09-9B8A-5143C91E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CA64C-7A7A-4350-B71A-FDC96097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FA9436-B298-40A4-B10B-18147E0D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6FA2F7-ACC6-4087-A371-8705BF5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8786E2-E3BD-4B95-A0C1-F4EDF1B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5909AF-2C25-45E3-B953-AF2CF47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70A5D3-3AD3-4D9E-AF17-210B835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18F26A-6543-44D1-8166-25F3D32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1710BD-D559-4A3D-96BD-7EF8A44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3CB6-1438-49D1-9672-DE1E79C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3D8778-FA7A-430C-8B10-E700A91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706635-7695-475B-BFCA-89E2A524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CA3E88-67CD-4C6E-B545-761AA4F2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D32A21-645E-4237-8964-F969A5D2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D75FB2-C453-4DE9-A521-6F6347D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35DD1D-9B1A-42A2-9A85-28F7A53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EB6D2D-C2C6-45AD-B4CF-9EE3FC7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1F3CC3-6EFC-413D-A859-FB3C5F2E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7CC3F-25CE-492F-BBD0-83E1991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254690-FD5B-4B6B-A03C-12B80E6B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3A83-B016-4E6D-9DE6-E78909D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035B0-B4C5-4B50-8157-E1B2D92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31B0FA-5088-4583-9B8E-7C27919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0A246A-84BC-424B-B6A5-54FB6E31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49FBEB-5B91-4D35-B2FE-8799FE28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D5443-05DA-4889-A1FA-6855CDB6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5B5D74-CDC8-41AF-A25B-FDEF6EC2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E1E40F-7907-4873-A12A-C494A08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00FD6-360A-45DC-A960-CF3F446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43ECF1-20E7-424C-9100-19F419C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7936C8-6515-4941-A90B-664C5F7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8D00-F214-47BF-B2C2-7C89EAE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2AEB2B-5A76-4E88-9B1F-445250A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EC4D32-70EA-4569-A952-245952E0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0B3B27-FDAF-4CA9-87BF-4E32DB3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F7C17-3301-432A-8885-DA73816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9B7498-EED5-4999-99D7-1E5C8AB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CB1C0-BFA6-4706-BACE-E3B0FC68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9CCE3A-D158-47D1-962D-FF33CC66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EA89E8-FA9C-4043-AFBE-75E1BD2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C20017-B4BA-44CC-BAEA-9EE498A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5CF387-5232-43EF-8C4E-D14CE76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E736-B3AC-40BD-B2CE-CE9A93D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57B41D-07E7-4B73-9B1D-8A39B08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7A67B2-CD42-4014-ABEB-DE2EC489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0C6554-03A4-471A-A837-FC61476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B34FE6-2C07-45F1-A0C1-2150989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B77372-D5AA-40E1-ACD3-2CB58F2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010DDD-6CC6-43A5-87D2-4E27F0F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75DFAC-4D3D-4CAB-9074-571883A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CA040A-8360-4550-AA2D-41287A26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ADA22D-D86C-430F-BAFF-96E08894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06403E-6560-42CD-AE8C-7C5607FA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14F9-9E2B-43DF-B517-95E1409E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0BD9E6-F2B4-4E8E-B259-82ADFCED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694BC0-B14D-430E-837C-BA434B7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1EF0F9-E80E-45B5-B39F-1125FEBD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6A7A90-27CE-4A88-BA49-F863904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568BA-C2E7-44FD-B11D-5D560B2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A5576E-8C80-46E6-967B-8D0ACE7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7D5958-4965-46D5-97CD-B9F1FC4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3C655C-17F0-4135-A38D-6C956D5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6BAA1A-5F1A-47A1-86FB-D46CFE78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7590DF-81C5-4CE3-98BD-D9E651CC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402D-F0CC-4F45-9948-F66A83E0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210307-B72D-4E68-A763-ED455AEA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8780CB-8C5C-4150-A7B2-D2EE6762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E9D3C8-782E-4341-947B-390AB53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05F2D3-C48A-4A60-A254-CA17826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91AC91-BE74-452D-990B-34D393D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B0B08C-C369-4943-B324-03C2D0A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49A1C9-2FD3-46C7-83BD-A1C1E65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FFCA52-87CA-407D-9F70-3516B59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36CB0F-6B5C-4E05-B286-348E709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F657C8-8025-4840-8932-131577D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300C-989A-4EAF-B599-3C180E0A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9070A-1EC3-447D-9016-48A4B56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6EFBCE-9D40-4040-ACE3-08F0FC6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D2887C-23C3-42D6-84C0-60FB2B56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71041E-2B11-4A15-8A89-1EB202D4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13BDE3-68FA-472D-94CF-BB371784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9867B9-82EE-4157-B6B4-F035A3A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643BCF-AB75-4A75-9766-A4DF95F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3DE4A0-F02C-44BC-BC84-22B031E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986F5-DA7A-4D88-89C2-B24A870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431000-6631-42ED-AFCB-EF70B34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B300-E445-46BD-B070-9EAA853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41F6FD-E0E2-4CE6-AA25-7DC9F13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BF6378-A1F0-4CDD-8AF3-4FCBB3E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301FD-BA6A-4CFB-A235-28F9EED2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7FDA94-616D-4463-B161-9A163B7F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BF6DAE-DF6E-45AD-962A-28142A73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A5EDCD-655C-4025-8E5D-F66C559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A7F79C-9C5F-400E-AC69-E277659E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FC480B-5F67-4F05-82C6-DC15232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87CC35-AF92-4311-BE53-4A5A3662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D39577-DDF9-444E-B1F5-A9279C3A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42B3-9B3F-4B95-845A-44A8B912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2454EC-0DBF-4398-9BC0-7D491477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B9EE9D-D359-47A5-A07B-2FC4399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4D0634-68C7-4706-8E90-18CD82A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D9EB26-32AC-43EF-9E5C-5FC2B21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0E3753-06A4-4634-9411-7BF30AC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7B35BE-1DAE-4125-ABF2-B6D42204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B716F-D073-4CF7-B419-C612DD23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955784-A3AB-4D17-BFDE-69171B96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22753B-2DD9-4A7F-AD2F-84CAA9C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1198E9-4373-4912-BE3C-9AF52EC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61C-F606-4850-BD44-09B6533F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D5FA-DB27-4571-B23B-84AB9ECC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3F16A2-EF38-4207-812F-8805BC21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7CD7D1-A216-4A9F-B161-331F23E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4581D0-2E55-4B6B-B3F6-D1DE962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BDD52B-1A3C-42AE-B7E4-6FFA27A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7D2B27-149F-49DE-9E41-A1CA11FE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11ADEC-14FC-4C2F-A325-22BE73B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3306FD-E4D4-408C-8854-5C8C184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91E920-E28D-4F81-B73E-EE8C7B82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43A5BF-D4C3-43D9-84FE-74EE9A4C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835F-198A-4E67-89EB-D85E0082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B81F-6A93-439F-9295-0B45F52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57FD-07F5-45EF-9E61-87C0C7B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E375-AFA9-47EE-996C-B91002B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6C75-8337-4DB1-86C4-B8F7B80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549C-8A50-4E3F-81C2-355A392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F756C-4FAC-4469-A068-287CE9B1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CC05-2207-45C5-8603-C4D1A4A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B3760-4A75-49C6-926B-0D79FEFA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72B-72AD-41D9-8BB9-FDAB50C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F85CF-5223-40E2-872E-EA4E35B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DABAD-2C4A-44B0-A34D-BA1A36B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3CA4C-3213-4C28-B1A0-8206127D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9663A-7C0B-489B-9219-D770A9D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F71026-2E6B-47BC-B9D3-0A3982E3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AAFE5-0A92-42F3-96FE-C9817F8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F9A7B-55DD-4062-AD3C-A9EBC54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B475C-7436-4D83-873E-9DAF1B0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41193-6586-4199-BC2D-993ECBE2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60D2DD-C6EB-4AEC-9880-200EBACB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582-7F09-406F-843D-96C19852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E1C1F1-5F61-4ABF-BBE4-53D4E26B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01A3-237B-4287-ABE5-9204998B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869F-964A-4BA1-8A32-4677B30A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990B-5E3F-490A-86D6-F295415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25BF6-0AED-482D-8A3A-C34F199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8E51-8C09-481F-87F3-E7F16A12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EB863-04F2-4BFE-A296-D75AA21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0093B-1744-45C8-A236-40AD0F7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BB07-46C7-427A-8BA0-838A477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A73FC-F755-40B9-8DFD-D2F78381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F98-54BF-48E5-8A91-BB49849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2658C-80F0-4365-921A-78AA37A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B8C9-894D-4BC4-BC1A-683237D3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C5E3-A8E4-4307-B3A1-B10B91C3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E8235-8A4B-477B-B829-D45771C3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36A4B-13D0-4257-A9E6-A64C1188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24F9-043A-448E-AA89-D4570A30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DC46-BF3C-4073-ACF4-CD66119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1DA6-54AE-44EF-8277-E7A920C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CA1B-E343-472D-896A-D9379C7C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5918-1E2F-4627-BB3B-05DC858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B68-56EE-44DE-A53B-5328958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6C33-879F-4903-88E0-2AA100B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CA66-7E2F-4B94-B2A1-20E526F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DC7E-5B29-44E3-8E2D-60F853C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DA4B9-A257-42A9-AD3E-A8E0F8E5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F2B9-E9E9-426B-884C-AAAECEC3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39D4-7F81-4E77-B7B4-538444ED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0684D-7BD1-4F7E-B1DA-25E9225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2EFC0-7CE1-482E-AD9C-0F8C1102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E0B3B-F1A7-430E-AA54-CC435AF8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1B2D-C0C7-4904-9DC3-51453A3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694-C128-4FE7-AAED-9E784BD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1605-4734-4470-9F9C-212A5F0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F36AE-A4F4-4C5C-8429-0CF974CF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8CC63-4A84-469F-A58B-732E3240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E788-7F4E-4FC7-892D-8EEF0C4D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6336-DA05-419E-B210-0390389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61CE8-AB9C-45A1-9DB6-B833E00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DEDF-845C-471A-AC1A-4EFC9141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679A0-E5AE-41F7-9CA4-DFABEB4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60277-3A47-45DA-A26A-EC6275C8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58A86-9634-40C4-8BF8-43279ABF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361.xml"/><Relationship Id="rId35" Type="http://schemas.openxmlformats.org/officeDocument/2006/relationships/slideLayout" Target="../slideLayouts/slideLayout362.xml"/><Relationship Id="rId36" Type="http://schemas.openxmlformats.org/officeDocument/2006/relationships/slideLayout" Target="../slideLayouts/slideLayout363.xml"/><Relationship Id="rId37" Type="http://schemas.openxmlformats.org/officeDocument/2006/relationships/slideLayout" Target="../slideLayouts/slideLayout364.xml"/><Relationship Id="rId38" Type="http://schemas.openxmlformats.org/officeDocument/2006/relationships/slideLayout" Target="../slideLayouts/slideLayout365.xml"/><Relationship Id="rId39" Type="http://schemas.openxmlformats.org/officeDocument/2006/relationships/slideLayout" Target="../slideLayouts/slideLayout366.xml"/><Relationship Id="rId40" Type="http://schemas.openxmlformats.org/officeDocument/2006/relationships/slideLayout" Target="../slideLayouts/slideLayout367.xml"/><Relationship Id="rId41" Type="http://schemas.openxmlformats.org/officeDocument/2006/relationships/slideLayout" Target="../slideLayouts/slideLayout368.xml"/><Relationship Id="rId42" Type="http://schemas.openxmlformats.org/officeDocument/2006/relationships/slideLayout" Target="../slideLayouts/slideLayout369.xml"/><Relationship Id="rId43" Type="http://schemas.openxmlformats.org/officeDocument/2006/relationships/slideLayout" Target="../slideLayouts/slideLayout370.xml"/><Relationship Id="rId44" Type="http://schemas.openxmlformats.org/officeDocument/2006/relationships/slideLayout" Target="../slideLayouts/slideLayout371.xml"/><Relationship Id="rId4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4CFA-A646-4D7B-8A63-EAD647B0934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2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846D-EC4C-4660-B395-E63F9151ADC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7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7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77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77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8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8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78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9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9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9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80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0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0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0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81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81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81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82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82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82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83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83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83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83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4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5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85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85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85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86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86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86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87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87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1A87-A88A-4528-B25D-49A4D6C4D865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CC6-3D90-45C6-B804-931D7C1E6BD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0C9-924C-427B-BFAD-B8618260DE5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3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3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4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5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19D-56A5-419A-A67A-477C30BA694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12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12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113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113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113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3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3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14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7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117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8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2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22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2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22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23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24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1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FA83-CB3C-4BCF-B11A-A9FDC926B92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4EF9-17B2-47AB-82E4-50EBDD804B5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EE5-38A2-479F-9367-59B20D5D0D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9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0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6D7D-61E7-4619-A685-8AF1BD42C03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7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5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5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5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860-BA8E-4743-8E15-2099C5FA0CCC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904-8253-4BB9-9928-821C03AB5856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51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51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52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8B7-288E-4D79-B8C2-84E9FE3EE8FB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7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625-A2ED-410F-8C53-362CA77EDABF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63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205-0320-454C-8492-EC757C448D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8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0673-EAE9-4629-B4DA-AE803719946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4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F532-DD7E-4593-AFFD-3103A70438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9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BBB-633B-4395-AECE-BE1309D19B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572-2FAF-4F8A-B37C-C0B110DAF267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0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8C3-71AD-42D4-8CAA-FC15213A1D8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1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15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5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5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15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15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15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161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2162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3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4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2165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6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7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2168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9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1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17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1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180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1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5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86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7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8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8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0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1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92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3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4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195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198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0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0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3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0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5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6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207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2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2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213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4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5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216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7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8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219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0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1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222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3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24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6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227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8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9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23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1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2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233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4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5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236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7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8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239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1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242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3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4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245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7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248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9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0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251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3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254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257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8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59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260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261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8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9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270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D04E-E669-4552-AEBB-40E18B59D06F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2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85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86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87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E3C7-2155-4869-8A35-D1754165EF6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9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32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7CE-5AE9-4780-8D29-08F9C65FE85C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7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7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7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8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8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9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D666-2133-4CC1-829A-5314154A6C5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2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2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2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2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3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4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4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6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 type="dt" idx="9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 type="ftr" idx="9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 type="sldNum" idx="9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B34-1184-4F59-A10A-92EAD66F4B3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4"/>
    <p:sldLayoutId id="2147484040" r:id="rId35"/>
    <p:sldLayoutId id="2147484041" r:id="rId36"/>
    <p:sldLayoutId id="2147484042" r:id="rId37"/>
    <p:sldLayoutId id="2147484043" r:id="rId38"/>
    <p:sldLayoutId id="2147484044" r:id="rId39"/>
    <p:sldLayoutId id="2147484045" r:id="rId40"/>
    <p:sldLayoutId id="2147484046" r:id="rId41"/>
    <p:sldLayoutId id="2147484047" r:id="rId42"/>
    <p:sldLayoutId id="2147484048" r:id="rId43"/>
    <p:sldLayoutId id="2147484049" r:id="rId44"/>
    <p:sldLayoutId id="2147484050" r:id="rId4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6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2517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2518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251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20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252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4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252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26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252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8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252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65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566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7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8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9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0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1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2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3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4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5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6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7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7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1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1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1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27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62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34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635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124"/>
                <p:cNvSpPr/>
                <p:nvPr/>
              </p:nvSpPr>
              <p:spPr>
                <a:xfrm>
                  <a:off x="5018040" y="2142720"/>
                  <a:ext cx="22788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AFA2-0512-4019-AF92-4F65E6D562D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86B6-6EBD-4F05-8C1A-10178D3A6FF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84B-D1C6-4853-9841-260E6E3F2FE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C262-858B-49BF-93CC-75D9BDE7B49B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4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873-1B81-4F30-81BA-B30BA17353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46F-36C3-4978-8DA7-7FBA3268C29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6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0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2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E16D-4259-47BC-8BE2-BE19D8D78E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0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118D-A2A5-4949-AC73-1F5C6125BA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929-43AA-48DE-984D-EBAF19B59C74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99"/>
                </a:solidFill>
                <a:latin typeface="Arial"/>
                <a:cs typeface="Andalus"/>
              </a:rPr>
              <a:t>الإسلام وبناء المجتمع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شبهات عن المرأة والردعليها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قاصد الحجاب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01" name="Organization Chart 5"/>
          <p:cNvGrpSpPr/>
          <p:nvPr/>
        </p:nvGrpSpPr>
        <p:grpSpPr>
          <a:xfrm>
            <a:off x="826920" y="1700280"/>
            <a:ext cx="7560720" cy="4421160"/>
            <a:chOff x="826920" y="1700280"/>
            <a:chExt cx="7560720" cy="4421160"/>
          </a:xfrm>
        </p:grpSpPr>
        <p:cxnSp>
          <p:nvCxnSpPr>
            <p:cNvPr id="2802" name="_s1028"/>
            <p:cNvCxnSpPr>
              <a:stCxn id="2803" idx="0"/>
              <a:endCxn id="2804" idx="2"/>
            </p:cNvCxnSpPr>
            <p:nvPr/>
          </p:nvCxnSpPr>
          <p:spPr>
            <a:xfrm flipV="1" rot="16200000">
              <a:off x="5181840" y="2892240"/>
              <a:ext cx="884880" cy="2036520"/>
            </a:xfrm>
            <a:prstGeom prst="bentConnector3">
              <a:avLst>
                <a:gd name="adj1" fmla="val 12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5" name="_s1029"/>
            <p:cNvCxnSpPr>
              <a:stCxn id="2806" idx="0"/>
              <a:endCxn id="2804" idx="2"/>
            </p:cNvCxnSpPr>
            <p:nvPr/>
          </p:nvCxnSpPr>
          <p:spPr>
            <a:xfrm flipH="1" flipV="1" rot="5400000">
              <a:off x="3146400" y="2892600"/>
              <a:ext cx="884880" cy="2035800"/>
            </a:xfrm>
            <a:prstGeom prst="bentConnector3">
              <a:avLst>
                <a:gd name="adj1" fmla="val 12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04" name="_s1030"/>
            <p:cNvSpPr/>
            <p:nvPr/>
          </p:nvSpPr>
          <p:spPr>
            <a:xfrm>
              <a:off x="2862000" y="170028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0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حقيقة الحجاب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_s1031"/>
            <p:cNvSpPr/>
            <p:nvPr/>
          </p:nvSpPr>
          <p:spPr>
            <a:xfrm>
              <a:off x="826920" y="435312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6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حدود الحجاب 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_s1032"/>
            <p:cNvSpPr/>
            <p:nvPr/>
          </p:nvSpPr>
          <p:spPr>
            <a:xfrm>
              <a:off x="4898160" y="435312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6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صفات الحجاب الشرعي 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00"/>
                </a:solidFill>
                <a:latin typeface="Arabic Typesetting"/>
                <a:cs typeface="Arabic Typesetting"/>
              </a:rPr>
              <a:t>صفات الحجاب 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1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يكون ساتراً ثخينا فضفاضاً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2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لايكون زينة في نفسه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3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لا يشبه لباس الرجال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 rtl="1">
              <a:lnSpc>
                <a:spcPct val="100000"/>
              </a:lnSpc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حدود الحجاب </a:t>
            </a:r>
            <a:endParaRPr b="0" lang="en-US" sz="10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شبهات حول الحجا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7d47d"/>
                </a:solidFill>
                <a:latin typeface="Arabic Typesetting"/>
                <a:cs typeface="Arabic Typesetting"/>
              </a:rPr>
              <a:t>الشبهة الأولى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7d47d"/>
                </a:solidFill>
                <a:latin typeface="Arabic Typesetting"/>
                <a:cs typeface="Arabic Typesetting"/>
              </a:rPr>
              <a:t>أن في الحجاب اعتداء على حقوق المرأة وتقييد حريتها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شبهة الثانية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حجاب سبب للتخلف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شبهة الثالث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ن الحجاب دليل على اساءة الظن بالمرأ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Arabic Typesetting"/>
                <a:cs typeface="DecoType Naskh Extensions"/>
              </a:rPr>
              <a:t>ومن يعتصم بحبل الله فقد هدي إلى طريق مستقيم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3366"/>
                </a:solidFill>
                <a:latin typeface="Arabic Typesetting"/>
                <a:cs typeface="Arabic Typesetting"/>
              </a:rPr>
              <a:t>عمل المرأة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إرث المرأة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شهادة المرأة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دية المرأة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تعدد الزوجات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هل الإسلام هو أول من جاء بالتعدد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حجاب</a:t>
            </a: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حكم الحجاب وأدلته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44:14Z</dcterms:created>
  <dc:creator>Administrator</dc:creator>
  <dc:description/>
  <dc:language>en-US</dc:language>
  <cp:lastModifiedBy>HAPPY</cp:lastModifiedBy>
  <dcterms:modified xsi:type="dcterms:W3CDTF">2015-10-11T21:32:22Z</dcterms:modified>
  <cp:revision>4</cp:revision>
  <dc:subject/>
  <dc:title>الإ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Version">
    <vt:r8>8</vt:r8>
  </property>
</Properties>
</file>