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  <p:sldId id="281" r:id="rId63"/>
    <p:sldId id="282" r:id="rId64"/>
    <p:sldId id="283" r:id="rId65"/>
    <p:sldId id="284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slide" Target="slides/slide26.xml"/><Relationship Id="rId64" Type="http://schemas.openxmlformats.org/officeDocument/2006/relationships/slide" Target="slides/slide27.xml"/><Relationship Id="rId65" Type="http://schemas.openxmlformats.org/officeDocument/2006/relationships/slide" Target="slides/slide28.xml"/><Relationship Id="rId66" Type="http://schemas.openxmlformats.org/officeDocument/2006/relationships/slide" Target="slides/slide29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21A-1814-4319-AE90-BEB73C78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D3E-18CF-4E35-B78B-26222564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BF298-0247-4753-A0EF-F73E2D7F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5886E-8FCA-4F4F-88C8-4BBF742A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66CC1-949D-4384-8B73-9A0638C8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83793-CF01-43D8-A5EA-E1AC6CE3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1D608-FA49-4E43-899D-16C2CE1B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1E115-D0F0-43AF-A97C-58BDEED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05ABD-D1E4-49C2-97E2-14DE7F07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FC8BB-C695-49A3-A85F-8E3612D6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EAAD0-9544-47EF-829D-987B270B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A429A-A62D-450F-A776-831EBFA5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372-B216-4C18-B1F8-9EE2645F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0CDE4-2E33-437A-8226-ED91CE27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37840-71B7-4250-9B96-86BE46BB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C267F-CE09-4257-B3E2-5CE964F9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DFA6C-2A40-4AFE-9966-7CEFB382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4214D-122D-42FC-926F-92E2B689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AF0A6-0608-4538-B38E-AE7FD571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BA74B-01FA-4B73-AE0C-B741CD4D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E7F1B-F420-4328-8CBB-94163EDA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3915E-E31E-466E-9095-81E8E9FC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E8097-DC35-47B5-B0D7-B5B4F2BA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F4D-8FB6-49DE-B3E9-B86FAA08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E595D-6FFD-43BA-AFE9-FA2110E7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D36AFB-AAE2-4A0F-8A22-E36757F2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E2639E-1CFB-45C9-8175-366537D2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457EEB-A0CB-48D7-A0AD-EDDC8678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F8225B-1BCB-40DB-BE22-6B87E024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0D4368-B1D8-4F00-A69F-F83D827E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67A9C7-53D9-41A9-81AF-AFE78E6E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A7E0A3-F475-48FA-9853-839DDB5D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7FDEC4-427F-4C16-B702-97D3CA0B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540128-1865-45BA-A447-E61B0958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A5CD-4A83-49EC-9CCF-2556025C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FE59AD-9529-4BA1-B2A9-3B99341B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DDC9A9-F64C-49C0-9E8C-7D7EFA68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123903-57EF-4BAD-9DEC-8D612EFD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4EAA2-E0F0-4A99-B06F-AF2834CB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3B5F4-68BB-4ED3-B095-D57CDB36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7EAAD-0F90-48D7-9967-7B457662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9F5E8-E2ED-45B4-AFDF-6531A1DC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59384-6858-48F1-A821-2BC39689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327D2-535E-4121-B299-E6047A7D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D6231-5CC4-4B70-89D8-1831AD83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9A72-2E50-45EF-ACFC-766CC4B4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47121-91DF-427D-A51F-E8B7D4DD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588EFF-33D7-4212-86E6-372DBFFF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E9B21-47DB-4E5E-B00C-77BA33DC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CE6BF-669C-4FD5-A8C8-2A535E2E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6802F-AC3D-4595-B0CC-6B0F8E12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2EA63-B0D8-4C2D-A1E3-BD7A7B59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91572-634A-49E5-942D-A080483C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987B4-5DEB-4688-B7AC-91BF60A9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559F1-C82F-4836-AB5F-F21838E7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7018A-6C47-466C-8798-EF43CAFA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5932-F0DF-4FE7-BC12-9495BB0F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00FC5-9556-4343-9F3F-007F3D53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C7861-6017-4AF5-93D0-518ED0E6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29C9A-F2F8-44B7-A947-5BEF5B0E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E8BEF-65B5-4BAD-A180-AE9FAB9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87C38-DAD9-470F-85AC-2DBC0029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884FE-D877-4356-BF15-AB44668C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532B4-B81A-414E-951A-73EF8F61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1F834-8FCD-4443-BEB0-43C32C3F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772F0-45A8-4AF3-8669-322B4351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5191E-F762-440D-96E6-3874DAC2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6A04-32EE-4306-A3B8-52AE4FC8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E8DC9-F219-4951-8355-07BDD49E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82F72-DE88-4B71-A58B-7720BB32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A17ED-A4C3-470B-BAE1-A1CEB840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53C91-34AC-4BE1-A99F-E2A38CC8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A8C95-231D-4DD8-AAB3-5C1CEB79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2D56F-C42A-433B-ABC5-8DCF965E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084F2-8895-4976-8B51-A997BE53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FEB47-D9CB-4CA1-8D1D-03F8006E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1DFD0-5B38-479B-BFCB-A053AB00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8E39F-781B-4470-8589-941738BE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E014-F7EC-49B8-9898-F4D08E69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DCCF4-B1EF-4D9B-9ECC-F096BE59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471C8-31B6-40C1-B0F5-1ABD7F36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88995-D417-4A3E-AE0E-9B5A2DEE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4B171-FECE-4925-A9A6-B8B5FC48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AC7BF-4817-4130-95A7-6C4809C9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70A00-A13A-4868-9271-2598AD0A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C396D-0446-4E0C-B9EC-C0D72B26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1FB3C-EB38-4DAF-A600-EE4D87C4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41918-168A-4A13-8D25-ABBC57DD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4EF63-648B-418C-A860-228BE73F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C36E-7738-40CA-B8BE-B9864220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09FAA-32A7-44F2-BB5F-74407100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F5437-B2ED-4AE9-8F5C-0B7587B0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E0521-8831-45E8-A840-29026043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2C2BBF-8AF0-490B-A33D-786CD016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3F3B3-BF32-4B12-B82E-885A8023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FE1DE6-569B-4498-84B3-712AC788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B022B-10ED-4E61-9AE0-22236DC8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0E31E-2B68-4775-BC4F-7A07366C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A3DBC-30A3-4B79-82D8-58A64022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DAD0B-E546-4F90-94F4-4778FE07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CA8E-BD08-47A6-B8C6-370DF8E7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DF448-D640-4AF4-BD8A-CBF36AC6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985DF-8A23-443F-88CA-D5924DF0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26CD5-84B6-4D99-AA1B-A0F747D1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314EE-FE49-4479-AE7A-1BD9C4C4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84FD2-7910-46C5-A04B-E71C9B30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3E1C0-093D-4D6E-9FCC-42652DE6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BB303-4376-479A-8343-202D623B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FCF66-2BCF-49DF-A592-6BBA181E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5F8BE-F028-4247-A8D5-BE078955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5F53A-F44D-4595-9C81-4879A518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ED2-D5BA-4FBA-A7B0-5904B0F0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0BB3-D4CD-462E-94FD-04228AD7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E15E9-A9E8-46BB-9A46-50DFF19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43702-23A6-4F16-A918-4CECC401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2AB4A-8471-48B9-AC4A-6F99812E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44604-0D61-4255-AF1F-95A39F54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6F309-8AF6-49E0-A0EC-9FE1869E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221DF-C7EA-4CCA-85FA-82984CBA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F11DFD-680F-4343-8D81-429EC77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D5FA1-2791-4B1D-945E-78937CAD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AE853-06FF-4D7D-8299-6D02E66F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7D37C-131B-41E6-8581-55D74137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66F1-FA1F-48D2-ADBE-D86C35C9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21905-3CB6-4080-8CD4-A0D3F3A5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1E007-D4B0-4EA1-8165-B26E5BFF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1844F1-3355-4C2F-AE9F-06C0E2A7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3DB9F-5626-4A44-83AC-65753700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F0BC6-5B4A-4B3F-8D37-C4AC6D5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0A9CD-F0F3-45A3-961E-D955C6DF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516D0A-1A6C-49A3-B06B-AA8209D1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316BAC8-5A18-4B50-BFBC-C1A07D45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796167A-2C16-4D82-81C0-87B4F6CA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0ABFB6-B978-45F7-9113-D750DCAB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190A-F054-4BC8-91A1-7D271FCF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BDB261-AB6A-4683-9627-BF3B1F6F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DD2CF0-7794-4D42-B242-76EB584C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908E41-EC64-478A-AF94-DF3E6D76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69B555-6997-479D-A9B8-09B23B0B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F990BB-4255-4AD6-8B83-6662EE74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1AEB3D-3AD6-4B66-89DF-A6703CDD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490022-4375-4A5C-A9C1-D4B9E991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0254A6-4D0D-465B-95C0-93CACB4C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DC5D70-84DC-4485-A3FA-E036776E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0620A-1FEE-470A-B697-5F591FF5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E3E1-C5A7-421A-8865-E79E158B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B54934-5549-4843-AC70-1EA28AA2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DE6AB-A394-40D6-AF4F-379FECC4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12E14-E169-4C66-B681-D396874B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66010D-2320-40B1-B8EB-9A99F688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387041-ACD0-41BC-9494-D856B6C0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5329A-CA05-442F-8F11-EAC1C59E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A496C-A8D7-48A9-91C4-E7BE7FA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3C90A-6234-495F-A852-69059764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5EAD1-61AC-4EA6-B456-42F6742E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FEF84B-B402-4F2C-99D9-7538D668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EDBC-F6AF-4A2D-AAD4-A2737523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A4C04-4F8D-4C27-BFAA-8419B82B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32E8A3-CC0E-4FF9-9B8E-E5F7BC94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2E70B6-E3EA-439D-9CA4-359C360A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E88D2F-9F98-4EDC-9B6C-E0B21388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4D32E-5894-4024-883D-3F8D2CDC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A3A151-3DC6-46EC-809F-D57A2369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F28E6B-CEF3-46E7-8590-FDA7C607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18331D-1F7C-43DC-A36D-9C275890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121069-7D75-4457-9A31-00C72EA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12F5D7-A903-4117-91C3-246EB7F8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1D592-40B4-41A2-A647-E629116B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773AFB-8847-43C4-81BF-1C230BD5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65192E-4B37-4401-B5E0-74219980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DFBC1-94B0-45EA-80F2-F94E4EA6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8D08B0-99A0-40B0-96D3-EC4A979F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0EB5B8-8C99-41D7-962B-DC4A52B8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7FE607-5B19-44EF-920A-BA137AD8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1BCB3-9498-4370-8578-D714628F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DE97B1-7D25-4AFD-8CD2-85AA28EB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C59B1B-2B4C-481D-BC99-1CADE587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52F12F-A151-4145-AEAB-92BB8F17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61FB-40B3-4AB0-8CED-CA959117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B71648-CF25-47C3-8EEF-CDEBAD32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2D79F-7E09-478A-97B1-9CD92361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84535A-87C2-4589-8FF2-67C52D6D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C91FE-764F-45D7-AF93-2C9DA4CE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3B38AE-070F-4D0C-9CA0-08D1622B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125428-ACDD-472F-B0A2-1CC63F1A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290AD4-53DC-4F91-AEA2-28243EA4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81B8F1-BC3A-41B0-9EBC-7C2D7862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521CB0-9B4C-4BDE-AD1C-E29F2C1F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469CC2-4C60-4450-9DB4-A06468CF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CE3D3-7360-4091-B63B-5697A444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5D257B-A270-43FD-9C17-39CDF42D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8B486C-3A70-4292-A3FD-BD263A9F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9A2A03-B7BD-4F07-AB55-92729B9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2104D4-60C6-4124-8986-DFCE569A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2C9D16-280A-4D18-AE69-3CCCEC36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D7852B-385F-40ED-8B61-A75D017B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652ECE-6AAB-44E0-893B-C17DF9A3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31CD5C-4E31-4CC0-9753-515AEDF8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D4215FD-0135-4EB5-9131-F1711D0E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3999A1-887C-4351-8F03-9EC014BC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13FCF-62CD-4404-BFFE-AB82C322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A2247EF-D050-43BF-AE7E-94231089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7FA8BDB-1E5E-43C4-87F2-0C558DDE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DE45E0E-35D1-41BC-8402-EBA46473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0E099BE-0E7C-4F6F-9E7D-47CC2F6B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097ED1-F67C-4FAA-999D-634F899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C48F39A-9529-46F5-B67F-79BE4B41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4F9BFB-495D-4530-BF14-0B68B0C2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9359AF3-296A-44DF-8114-51EE4EC1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27D44C3-FA79-47D3-A29B-8FFD558B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75D060-5ED9-4D09-B2FE-36A11AC3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B550F-7CAC-4252-93FA-9C403575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F842AA-941E-48DF-B9B6-0512549C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C5891A-CF49-4AA9-AA0E-85CDCA63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24398E-C925-4AC1-8AD0-1DBF4D36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7571C9-AAC1-4D95-A609-25CD2852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C8D417-BEFF-47F9-8A37-AB992F81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D89328-E760-498F-9478-12D19AB9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062BD5-8F4C-44E9-AEA6-B220E2BB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3CCC96-5EE6-4962-A887-49671843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337206-56EE-4D7B-A2BC-0218233E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2215DA-47F3-46E8-9E52-E0A408E4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9F8-CD8D-425A-9B49-3E79D634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8A98-C3B2-4CF1-AE50-4B2ABFCB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DD7082-A3A5-4FEE-B680-E2DF1AFF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1BF10A-C7C9-4A3B-A5BA-4394FC10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D7EDBF-6E1D-4BC5-8777-92C18CE9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E8D725-7D43-423C-B392-9C994BA3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1E7F77-1E64-419D-AFDA-7581163A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FF6C1D-2104-4637-A463-247649C1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9E89A9-4310-4B23-9A78-5DF1536E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32AC32-5AD3-4A85-B46D-A3767BC6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260136-F7B9-4146-9D69-AFA58832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D8238C-821A-462C-88E3-AB0C3EBD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B895-D547-420A-A3B1-09601F7C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1E4561-85F0-4A36-B254-157E49F7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3D226D-F138-4BBB-BAD6-509F238F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3396E1-510F-475A-AC01-E3F3CF3D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B5EAD9-A410-489C-BFFE-DD336E26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D1F4C0-EC94-4AAA-9724-0E23D286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D9ED98-3B39-49B5-AF65-BA5AFB15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E2CAA4-AFAC-41F3-B69C-488FFED8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60A8D4-23FE-4B9A-9A97-27029172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675954-D494-4E9D-9229-10E3AB9F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1918B6-DBEF-41F8-9309-B480E324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9204-2928-467E-8F1C-B4A5874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33428E-5913-49C1-85B6-7D8F7BA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C24B96-711D-417C-8D85-3E4922DD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DFF747-D294-4467-ABFB-6661C9A1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FC70F1-A635-42A4-B61E-51ECE3A7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E2280E-3AF6-4D07-9D7B-E49A0C5E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F49C6B-8978-4C7C-963F-EE365E11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4D667F-1138-4126-9EA0-354EE918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F83A0E-A85A-46DB-94FD-DD3FA010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EFDF8C-D763-415B-91E5-CDDB531A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ACAD33-AF6D-4910-AF21-A515810E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78B1-7A4E-40B2-A047-BE1CD1AA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ACDD5B-7010-48E3-BA8C-FDC769B4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327EE8-9C5F-40F2-B79F-D76EE52E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21B315-58AC-4A54-AD9E-F8A91BC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0EA541-BCC6-4DFF-932F-3E688C71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2167CB-48F5-4FEC-B806-241AF5D5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1B0946-E831-485B-9A56-196E321A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4FA02F-19AD-449F-A7C1-4FC62CBE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BC046A-F839-4690-91EC-62B9E998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29AD01-ABC4-48CF-8A91-1A8A320F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CCA604-D511-49D6-8570-5CE80494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21D9-E1FF-4499-9339-E6D55DFC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E57309-2BB7-42C3-B7BA-F4867978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536537-81DB-4DB6-84B4-83E684AA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616B47-309F-4C3B-8162-3A0CF822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D42C9A-C97C-4D23-BCE9-D8816FF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1C5307-A1D2-4D60-BA2F-DE3E1FD8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6DE3B4-BC0F-481E-843E-430FC9ED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6AA5A3-3285-4964-9746-70709414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2F7985-F3CC-4C44-A42B-4DD5FDBB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2786B3-83DB-4738-A605-0F98C454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673E61-1325-4E90-A2DC-34822CA1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904B-54AB-4D68-B11C-A6383CA5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F765E5-923F-4B5B-9651-F45B1328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7202AE-0B7A-401B-B212-FD166AA1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015827-C7B0-45CF-8E2D-9FD78242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E87DFD-E23D-4347-84F1-9A6C9E84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A2DBF6-5452-4896-8128-13CB6BC4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E8E90A-AD50-42CD-8C0B-811D22F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285CA9-EE93-4E27-8E33-3CF52CE2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65D447-B700-4D73-9D77-97676CB1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4953B4-827D-4EBA-8A6D-10C609F4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DB1549-CEBD-410D-B0EC-AAA009E9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5576-000A-41E6-A704-5C157A7D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9365D3-FD10-4F59-817E-D4F057C9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EBE0D6-CF98-4147-A767-E3146949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2811DB-85C2-4031-A502-E5DDA39E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6B0D81-922E-4DCB-A44C-72BEC722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903C6B-EB19-4968-8A56-A0EE4032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679BEF-CC8D-4E16-AA4A-AA601DE7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612492-5E01-4C73-A4F7-8BCF6B4F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4B0757-18FC-4359-AB82-CF9EDEDF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49296B-B72C-450A-9B40-6B4D005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ADCC40-2BC9-4114-A822-250E76B0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4977-F015-41B5-AFEC-5124400F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81CD40-7804-432F-906C-B0967C28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B13F64-AE60-45CE-BD47-90CF1FD1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77649B-E667-4812-8597-C717C753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BA1CEE-9598-4AAA-9064-9E2D7BD2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94B832-B8A0-4A20-98FD-B3FC04E9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A7F476-B0ED-40A5-BCD3-F17B38D6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9E40E7-B5E5-49C3-9C60-01709C8F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E446F9-B4B3-4572-A63D-2BAA68CC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CBD946-22E8-4C48-94E4-1855A2D1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0DDD2D-4289-4AD0-8926-2A360543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894D-E69A-43DD-80A1-311024DA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0C63FD-17BD-480A-B2BF-EE99C264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24427F-C9F9-4A56-9D88-580186B8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A8AAEA-DF8D-4021-ACB7-0BD41132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BB456C-6984-4E64-8299-C4EC5C40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F4F767-C2E8-4185-8D44-ABDCB00C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998593-47F6-4BAC-8BF5-F4FD35ED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2F8854-D4D4-4CA0-BA54-735B668B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5874BB-CDD5-4C01-AFA7-740CF433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1279AC-04AE-4C3D-A4CD-8C1329B0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23EF01-0EA6-4C79-9257-11D2B0E6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5D5E-4623-45AF-A968-8076FFCF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63AABE-2435-49C5-8A28-0D5420B1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DC2698-3AFC-4AAB-B169-1D05F237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30D4E4-80B2-4345-8186-1CDC7A8F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746D3B-3812-4D93-B326-B3BDB123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B70456-7AAF-48F3-9AD9-82EBCF19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BDEDE7-26D4-4FA2-B251-EA3C1CBF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AF7B00-3F69-4002-A89B-8632D54D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3A4A2F-9942-4690-B1F1-4FFA18C1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C431CF-6A92-4176-B650-190E8727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EE38AD-1CD8-4448-B458-AE44FED7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430-38A0-4D9A-9949-E4473431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93357-DDB6-44E9-8315-96A6F8CB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34F921-ACDD-45EE-8D60-04BE43F2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0570E4-CA0A-4CC5-8900-F06AE4B0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EB2CDF-51C2-4DD7-B717-35FC9E4F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963216-07EE-43D9-A683-B66028F6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44B097-AC64-4F18-B7B6-5F18E45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B848CE-5F10-417D-8331-A9AA66B2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51F974-ADEF-4501-97D8-05D66118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519BB6-ECE2-4E59-89E0-84BFDDF6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725C08-DFC7-4C00-807C-0C486A6C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03FF56-C4DE-437D-9315-98A2491F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B421-5ECF-4CD8-A11C-FFE982CA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1BA1D6-166D-468E-9AA9-C48EA499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1D44B8-9476-43F5-8F21-ED96A20A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CDC322-57F0-4491-A3B9-24B1A343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856C19-E487-4BA4-A65D-267760B2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CDBEB7-AEF8-40AC-9315-81B318CE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025E05-9DC4-4352-ADF8-376E9111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634282-4638-41AA-A22A-670BAC14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F96AED-6178-4490-AB42-E19590F0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D95A1C-39F3-47B3-9D5F-2BD90C06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D4816B-4526-4A22-AD6F-C9F2651C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7826C-90A6-4F61-AB6D-C292A907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3372E9-87A3-4CB1-B165-28DDC34C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8598B2-2977-4E97-BD23-9AB3DC74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842C7F-1D25-4BCC-A09F-EACA498D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7CAC2B-0036-4537-B3D9-503E6445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CF709E-4F4F-4D16-BC1D-C815D40C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8CD5FC-910D-4BBA-B59E-FA8549C8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2F4192-D77A-4CFE-B004-3BB7E652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7FD48C-40B2-40AD-91DE-F1F994B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0FE927-B250-4C06-AAC6-C4F39394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3C79D0-2306-4AFA-9F8C-52DB095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9E8E8-ED5B-484F-BC10-85F58025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4E443E-AC83-4555-9363-0204EA8D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C8A2DE-1EAD-4EC1-B27D-DD115E0D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3DF7DE-F316-4B52-B397-DC443228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F7DC4-3913-4E28-98B7-668560E8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3751-2824-4365-93AD-FABBB17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0A28-FCFC-4008-BE55-470E2B7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A2DC-1DE5-4AC0-943F-05CE8C6C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FC3C-FB41-4565-AAC0-24BF81BE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3A3D6-62C8-413C-9E5C-4550F524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2D0-C757-4E01-A811-04A82E8A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936D2-58A0-433A-88EC-6AA10CE2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0586A-AC05-4C74-AAA3-71430FBD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74CBB-A32A-4D25-A5A7-5B6CC844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4BE3C-CA3A-4170-9CD0-88BF46B6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B1CF9-3EA6-4FEF-B1D2-EDBFB345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B4FE6-7CE7-4221-8359-D141E40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25EB2-DEBB-4CB0-8309-F16C745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35F3D-1403-47DC-9195-46519425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99B9D-C741-4DFD-A0C7-EF65ED44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465A0-5DDE-41CB-B729-49AA6CAC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E09-CB39-4280-AEB0-ECD9C285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36AED-4100-4127-9B49-E08D41F9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F526F-AD3B-4FEE-9E84-DDCA89BF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8C2B5-26B2-4CAA-BF0E-156D53CC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DB9DA-72AE-4495-9A75-03F4C4C8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058CD-E638-48F3-AE70-24F6DBD0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7A476-0023-4C52-A044-3ADC6041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6FC0-E7AA-49F4-8EA4-7BDCA962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E7912-657F-42C2-A976-F79FF329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D5E1C-CAD6-4DC9-A351-16AD668B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3843F-9082-4915-8D18-832EB226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B76-C695-4121-8B31-BADA8BB3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22FAC-ED29-4341-B910-D7C50BA6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648D-FD35-4BD8-BF09-EDEDFB87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63776-47F8-4649-ABE1-DF568266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1D5C6-B955-4639-9D00-E825189D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6901A-8940-4110-B37E-BD6231ED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FE989-093F-4ED7-B651-65C7D972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471B3-6822-44A5-AB18-9E99CEC9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21D6E-42D8-4A03-A2C3-5D1C7CAF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ED56B-B202-4B34-9BC2-9AC3E34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1983B-8A3F-4A66-B5DE-123FD3C1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100-1BAE-4DA2-87E9-66F4529F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4F2E-6510-499F-AD5A-E781FEF7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6475-88C8-4826-91B5-0BC4559C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5115D-F888-471A-A6C7-474DEEE0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A5606-F21B-400A-8E06-8CA7666C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3B8A9-56DC-471E-82E2-62D84F64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5A74C-AAC6-46EE-B7AB-D6487F93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0AC5C-15DC-45A3-9B74-EEC9F53B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294A-E95A-46F5-89B9-9D35ADC4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36281-D824-4D0C-ABB3-2F21EE9D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1C7AF-DC00-4D48-AF02-9380148C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F0E-1015-4520-B498-1E79A058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02F82-9C04-489C-99C2-DAB4BC47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FE1FE-CB55-4BB6-872B-9146648C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E70B1-EDD1-4E21-A272-6FD33F8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12BFB-B26E-4559-877C-29B2045F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E7DAC-EFAC-440E-8AB5-0D815B84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FF458-C8CD-4532-A65D-9536BF0E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95CDA-9B02-4022-AA83-A463C16C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EA834-4474-4AD1-A6E9-503BB9B0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5739C-560E-4AD1-8F15-0FA95C1F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FD067-C626-4548-B3AD-E839BFE5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325.xml"/><Relationship Id="rId35" Type="http://schemas.openxmlformats.org/officeDocument/2006/relationships/slideLayout" Target="../slideLayouts/slideLayout326.xml"/><Relationship Id="rId36" Type="http://schemas.openxmlformats.org/officeDocument/2006/relationships/slideLayout" Target="../slideLayouts/slideLayout327.xml"/><Relationship Id="rId37" Type="http://schemas.openxmlformats.org/officeDocument/2006/relationships/slideLayout" Target="../slideLayouts/slideLayout328.xml"/><Relationship Id="rId38" Type="http://schemas.openxmlformats.org/officeDocument/2006/relationships/slideLayout" Target="../slideLayouts/slideLayout329.xml"/><Relationship Id="rId39" Type="http://schemas.openxmlformats.org/officeDocument/2006/relationships/slideLayout" Target="../slideLayouts/slideLayout330.xml"/><Relationship Id="rId40" Type="http://schemas.openxmlformats.org/officeDocument/2006/relationships/slideLayout" Target="../slideLayouts/slideLayout331.xml"/><Relationship Id="rId41" Type="http://schemas.openxmlformats.org/officeDocument/2006/relationships/slideLayout" Target="../slideLayouts/slideLayout332.xml"/><Relationship Id="rId42" Type="http://schemas.openxmlformats.org/officeDocument/2006/relationships/slideLayout" Target="../slideLayouts/slideLayout333.xml"/><Relationship Id="rId43" Type="http://schemas.openxmlformats.org/officeDocument/2006/relationships/slideLayout" Target="../slideLayouts/slideLayout334.xml"/><Relationship Id="rId44" Type="http://schemas.openxmlformats.org/officeDocument/2006/relationships/slideLayout" Target="../slideLayouts/slideLayout335.xml"/><Relationship Id="rId4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49.xml"/><Relationship Id="rId8" Type="http://schemas.openxmlformats.org/officeDocument/2006/relationships/slideLayout" Target="../slideLayouts/slideLayout350.xml"/><Relationship Id="rId9" Type="http://schemas.openxmlformats.org/officeDocument/2006/relationships/slideLayout" Target="../slideLayouts/slideLayout351.xml"/><Relationship Id="rId10" Type="http://schemas.openxmlformats.org/officeDocument/2006/relationships/slideLayout" Target="../slideLayouts/slideLayout352.xml"/><Relationship Id="rId11" Type="http://schemas.openxmlformats.org/officeDocument/2006/relationships/slideLayout" Target="../slideLayouts/slideLayout353.xml"/><Relationship Id="rId12" Type="http://schemas.openxmlformats.org/officeDocument/2006/relationships/slideLayout" Target="../slideLayouts/slideLayout354.xml"/><Relationship Id="rId13" Type="http://schemas.openxmlformats.org/officeDocument/2006/relationships/slideLayout" Target="../slideLayouts/slideLayout355.xml"/><Relationship Id="rId14" Type="http://schemas.openxmlformats.org/officeDocument/2006/relationships/slideLayout" Target="../slideLayouts/slideLayout356.xml"/><Relationship Id="rId15" Type="http://schemas.openxmlformats.org/officeDocument/2006/relationships/slideLayout" Target="../slideLayouts/slideLayout357.xml"/><Relationship Id="rId16" Type="http://schemas.openxmlformats.org/officeDocument/2006/relationships/slideLayout" Target="../slideLayouts/slideLayout358.xml"/><Relationship Id="rId17" Type="http://schemas.openxmlformats.org/officeDocument/2006/relationships/slideLayout" Target="../slideLayouts/slideLayout359.xml"/><Relationship Id="rId18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2B92-561B-44E4-9010-D00F7336F79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2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2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2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3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3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3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4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6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81EB-95CC-492D-BF69-25DF0214673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CBB8-1E46-4085-80DB-4B33D989A89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2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2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70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2A29-D509-42C4-BACD-0631A2E495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dt" idx="3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3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2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2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5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7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7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8B97-F46B-4706-8C8F-1942AF18523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3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658A-DD8A-4C30-8CC8-3D6F750922D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25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CDC4-730D-42AB-8953-0BB46DFF1A6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27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7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8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4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28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8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8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289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290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9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9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299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1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302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305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308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0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311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314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6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317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320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2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323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326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32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33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335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33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34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344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347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350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4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355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35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36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64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67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9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0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37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5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376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8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379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1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382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4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385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8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3AB2-DBE2-41F9-9D77-6860430DF305}" type="slidenum"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49D4-2C8C-41D1-A6BE-6CE8C03D7A1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52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52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5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2915-714F-4965-BF02-24485DEFBA51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ftr" idx="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4B80-BA9B-4DC8-9F50-BC26D443816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dt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19C6-E92B-44C7-8C99-18119DC07DCA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817F-501B-42FD-97C6-81E4A7ED3B5C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8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69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6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6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6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7FCD-B3AD-4082-A8D0-04EF31EFE376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3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7795-F454-4715-9126-AD01A33B172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9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BE13-539B-4CBA-8728-AADC98784906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5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6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86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7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A4E5-B38A-42EB-A178-5E8022D542F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2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 type="dt" idx="7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 type="ftr" idx="7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7FB4-3E04-4C29-A959-B122A28116A0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3584-C102-4C28-AF41-E337C1197BB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03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04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4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04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05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5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F76B-EA73-42B7-8073-7ED862C4878D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0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10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10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10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10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1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2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2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14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 type="dt" idx="8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 type="ftr" idx="8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 type="sldNum" idx="8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7813-5EA6-4B5F-BF3D-2C9C67562B1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4"/>
    <p:sldLayoutId id="2147484001" r:id="rId35"/>
    <p:sldLayoutId id="2147484002" r:id="rId36"/>
    <p:sldLayoutId id="2147484003" r:id="rId37"/>
    <p:sldLayoutId id="2147484004" r:id="rId38"/>
    <p:sldLayoutId id="2147484005" r:id="rId39"/>
    <p:sldLayoutId id="2147484006" r:id="rId40"/>
    <p:sldLayoutId id="2147484007" r:id="rId41"/>
    <p:sldLayoutId id="2147484008" r:id="rId42"/>
    <p:sldLayoutId id="2147484009" r:id="rId43"/>
    <p:sldLayoutId id="2147484010" r:id="rId44"/>
    <p:sldLayoutId id="2147484011" r:id="rId4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9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9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 type="dt" idx="8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 type="ftr" idx="8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 type="sldNum" idx="8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E5EE-3790-4940-A21B-3EB0C142871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636F-D0B9-44DD-8B9D-A5F3504F3A09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24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B44B-C21F-432C-B6E2-9C45EE7C7B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7"/>
    <p:sldLayoutId id="2147484027" r:id="rId8"/>
    <p:sldLayoutId id="2147484028" r:id="rId9"/>
    <p:sldLayoutId id="2147484029" r:id="rId10"/>
    <p:sldLayoutId id="2147484030" r:id="rId11"/>
    <p:sldLayoutId id="2147484031" r:id="rId12"/>
    <p:sldLayoutId id="2147484032" r:id="rId13"/>
    <p:sldLayoutId id="2147484033" r:id="rId14"/>
    <p:sldLayoutId id="2147484034" r:id="rId15"/>
    <p:sldLayoutId id="2147484035" r:id="rId16"/>
    <p:sldLayoutId id="2147484036" r:id="rId17"/>
    <p:sldLayoutId id="2147484037" r:id="rId18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50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50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 type="dt" idx="9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 type="ftr" idx="9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0E39-15BA-477E-B9EB-5A2BC2157EA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61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61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62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 type="dt" idx="9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6FE3-ABB3-416F-B770-AF1F03F5C39A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0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 type="dt" idx="9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 type="ftr" idx="9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PlaceHolder 5"/>
          <p:cNvSpPr>
            <a:spLocks noGrp="1"/>
          </p:cNvSpPr>
          <p:nvPr>
            <p:ph type="sldNum" idx="9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32C2-FF7E-47C9-A2CC-622CBC07665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0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285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85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4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2855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85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5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8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9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860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2861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2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3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2864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5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6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2867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8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87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1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7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4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76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8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879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0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1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882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3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4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885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6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7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88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9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0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89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2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3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894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5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897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9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90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1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2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903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4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5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906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7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8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90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0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1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912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3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4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91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6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7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918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9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0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921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2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23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5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926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7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8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929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0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1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932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3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4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935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6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7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938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9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0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941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2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3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944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5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6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947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8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9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950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1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2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953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4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956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7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58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959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960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3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4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5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7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6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47A8-E09E-4730-A758-63410E47A736}" type="slidenum"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02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0FB5-51F8-41ED-A240-99C1A66658B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10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0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10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2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72C5-48E5-47A9-9BAE-963DDEA476C5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5C7F-C8EA-416F-ACD6-37CBDBC049B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CA2-97FB-4A4B-932B-835B5140C99C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59B8-985B-412D-9F2B-832C619F36B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DB71-F46B-4D44-AB1C-B3A8C9FCA4DF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1B79-6E69-4D66-9B98-9E2F29C3C4B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8695-4E81-42CF-B8DA-7A8C4646766C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4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5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5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6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7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47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7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7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cc"/>
                </a:solidFill>
                <a:latin typeface="Tahoma"/>
                <a:cs typeface="Traditional Arabic"/>
              </a:rPr>
              <a:t>الاسلام وبناء المجتمع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Bold Italic Art"/>
              </a:rPr>
              <a:t>سمات المجتمع الاسلامي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omic Sans MS"/>
                <a:cs typeface="Mudir MT"/>
              </a:rPr>
              <a:t>ثالثاً :-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Comic Sans MS"/>
                <a:cs typeface="Arabic Typesetting"/>
              </a:rPr>
              <a:t>صلاة العيدين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2f1311"/>
                </a:solidFill>
                <a:latin typeface="Arial"/>
                <a:cs typeface="Arabic Typesetting"/>
              </a:rPr>
              <a:t>رابعاً : -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ar-SA" sz="7200" spc="-1" strike="noStrike">
                <a:solidFill>
                  <a:srgbClr val="2f1311"/>
                </a:solidFill>
                <a:latin typeface="Arial"/>
                <a:cs typeface="Arabic Typesetting"/>
              </a:rPr>
              <a:t>صلاة الجنازة</a:t>
            </a:r>
            <a:r>
              <a:rPr b="0" lang="ar-SA" sz="7200" spc="-1" strike="noStrike">
                <a:solidFill>
                  <a:srgbClr val="2f1311"/>
                </a:solidFill>
                <a:latin typeface="Arial"/>
                <a:ea typeface="Arabic Typesetting"/>
              </a:rPr>
              <a:t> 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  <a:cs typeface="Mudir MT"/>
              </a:rPr>
              <a:t>ب- تشريع الاسلام للواجبات الاجتماعية الخاصة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Garamond"/>
                <a:cs typeface="Mudir MT"/>
              </a:rPr>
              <a:t>أولاً :-</a:t>
            </a: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udir M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udir MT"/>
              </a:rPr>
              <a:t>	</a:t>
            </a: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udir MT"/>
              </a:rPr>
              <a:t>	</a:t>
            </a: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udir MT"/>
              </a:rPr>
              <a:t>	</a:t>
            </a: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udir M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Garamond"/>
                <a:cs typeface="Mudir MT"/>
              </a:rPr>
              <a:t>بر الوالدين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0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rabic Typesetting"/>
              </a:rPr>
              <a:t>ثانياً :-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Arial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Arial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Arial"/>
                <a:ea typeface="Arabic Typesetting"/>
              </a:rPr>
              <a:t>	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rabic Typesetting"/>
              </a:rPr>
              <a:t>صلة الأرحا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6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Arial"/>
                <a:cs typeface="Arabic Typesetting"/>
              </a:rPr>
              <a:t>ثالثاً :-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Arial"/>
                <a:ea typeface="Arabic Typesetting"/>
              </a:rPr>
              <a:t>	</a:t>
            </a:r>
            <a:r>
              <a:rPr b="1" lang="ar-SA" sz="4800" spc="-1" strike="noStrike">
                <a:solidFill>
                  <a:srgbClr val="eaeaea"/>
                </a:solidFill>
                <a:latin typeface="Arial"/>
                <a:ea typeface="Arabic Typesetting"/>
              </a:rPr>
              <a:t>	</a:t>
            </a:r>
            <a:r>
              <a:rPr b="1" lang="ar-SA" sz="4800" spc="-1" strike="noStrike">
                <a:solidFill>
                  <a:srgbClr val="eaeaea"/>
                </a:solidFill>
                <a:latin typeface="Arial"/>
                <a:ea typeface="Arabic Typesetting"/>
              </a:rPr>
              <a:t>	</a:t>
            </a:r>
            <a:r>
              <a:rPr b="1" lang="ar-SA" sz="4800" spc="-1" strike="noStrike">
                <a:solidFill>
                  <a:srgbClr val="eaeaea"/>
                </a:solidFill>
                <a:latin typeface="Arial"/>
                <a:cs typeface="Mudir MT"/>
              </a:rPr>
              <a:t>الإحسان إلى الجيران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ahoma"/>
                <a:cs typeface="Arabic Typesetting"/>
              </a:rPr>
              <a:t>دعوة الإسلام إلى أسباب التألف الإجتماعي العا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أولاً :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إفشاء السلام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 Black"/>
              </a:rPr>
              <a:t>ثانياً 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00"/>
                </a:solidFill>
                <a:latin typeface="Arial Black"/>
                <a:cs typeface="Andalus"/>
              </a:rPr>
              <a:t>توفير الكبار والعطف على الصغار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4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ثالثاً :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Andalus"/>
              </a:rPr>
              <a:t>أسباب أخرى كـــــ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udir MT"/>
              </a:rPr>
              <a:t>تبادل الزيارات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udir MT"/>
              </a:rPr>
              <a:t>تشميت العاطس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سمة الأولى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Book Antiqua"/>
                <a:cs typeface="Bold Italic Art"/>
              </a:rPr>
              <a:t>إنه مجتمع متلزم بالشرع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دعوة الإسلام إلى الاخلاق الفاض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Mudir MT"/>
              </a:rPr>
              <a:t>أولاً :-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Andalus"/>
              </a:rPr>
              <a:t>الصدق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ndalus"/>
              </a:rPr>
              <a:t>ثانياً :-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Arabic Typesetting"/>
              </a:rPr>
              <a:t>الحياء 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100" spc="-1" strike="noStrike">
                <a:solidFill>
                  <a:srgbClr val="ffffff"/>
                </a:solidFill>
                <a:latin typeface="Arial"/>
                <a:cs typeface="Arabic Typesetting"/>
              </a:rPr>
              <a:t>ثالثاً :-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700" spc="-1" strike="noStrike">
                <a:solidFill>
                  <a:srgbClr val="ffffff"/>
                </a:solidFill>
                <a:latin typeface="Arial"/>
                <a:ea typeface="Mudir MT"/>
              </a:rPr>
              <a:t>	</a:t>
            </a:r>
            <a:r>
              <a:rPr b="0" lang="ar-SA" sz="4700" spc="-1" strike="noStrike">
                <a:solidFill>
                  <a:srgbClr val="ffffff"/>
                </a:solidFill>
                <a:latin typeface="Arial"/>
                <a:cs typeface="Mudir MT"/>
              </a:rPr>
              <a:t>البشاشة وطلاقة الوجه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Verdana"/>
                <a:cs typeface="Arabic Typesetting"/>
              </a:rPr>
              <a:t>رابعاً :-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  <a:cs typeface="Andalus"/>
              </a:rPr>
              <a:t>أخلاق أخرى كــــ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  <a:cs typeface="Mudir MT"/>
              </a:rPr>
              <a:t>طيب الكلا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  <a:cs typeface="Mudir MT"/>
              </a:rPr>
              <a:t>والتواض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  <a:cs typeface="Mudir MT"/>
              </a:rPr>
              <a:t>الامان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ــ/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Mudir MT"/>
              </a:rPr>
              <a:t>تشريع الاسلام للتكافل الاجتماعي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Andalus"/>
              </a:rPr>
              <a:t>أولاً :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Mudir MT"/>
              </a:rPr>
              <a:t>تشريع فريضة الزكاة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Andalus"/>
              </a:rPr>
              <a:t>ثانياً :-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Andalus"/>
              </a:rPr>
              <a:t>تشريع زكاة الفطر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Andalus"/>
              </a:rPr>
              <a:t>ثالثاً :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Mudir MT"/>
              </a:rPr>
              <a:t>تشريع النفقات الواجبة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ndalus"/>
              </a:rPr>
              <a:t>رابعاً :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udir MT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udir MT"/>
              </a:rPr>
              <a:t>       تشريع واجبات مالية آخرى كالنذور والكفارا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سمة الثانية 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2" name=""/>
          <p:cNvSpPr txBox="1"/>
          <p:nvPr/>
        </p:nvSpPr>
        <p:spPr>
          <a:xfrm>
            <a:off x="468360" y="177300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 rtl="1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Arial"/>
                <a:cs typeface="Bold Italic Art"/>
              </a:rPr>
              <a:t>أنه مجتمع جاد 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سمة الثالثة 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 rtl="1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Times New Roman"/>
                <a:cs typeface="Bold Italic Art"/>
              </a:rPr>
              <a:t>انه مجتمع متسامح</a:t>
            </a:r>
            <a:r>
              <a:rPr b="0" lang="ar-SA" sz="6600" spc="-1" strike="noStrike">
                <a:solidFill>
                  <a:srgbClr val="ffffff"/>
                </a:solidFill>
                <a:latin typeface="Times New Roman"/>
                <a:ea typeface="Andalus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cc"/>
                </a:solidFill>
                <a:latin typeface="Tahoma"/>
                <a:cs typeface="Andalus"/>
              </a:rPr>
              <a:t>السمة الرابعة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Bold Italic Art"/>
              </a:rPr>
              <a:t>أنه مجتمع آمن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cc"/>
                </a:solidFill>
                <a:latin typeface="Tahoma"/>
                <a:cs typeface="Mudir MT"/>
              </a:rPr>
              <a:t>الاسلام وبناء المجتمع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8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Bold Italic Art"/>
              </a:rPr>
              <a:t>أسباب تقوية الروابط الاجتماعية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  <a:cs typeface="Arabic Typesetting"/>
              </a:rPr>
              <a:t>أ- تشريع صلاة الجماعة والجمعة والعيدين والجنازة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udir MT"/>
              </a:rPr>
              <a:t>أولاً :-</a:t>
            </a:r>
            <a:r>
              <a:rPr b="0" lang="ar-SA" sz="5400" spc="-1" strike="noStrike">
                <a:solidFill>
                  <a:srgbClr val="ffffff"/>
                </a:solidFill>
                <a:latin typeface="Tahoma"/>
                <a:ea typeface="Arabic Typesetting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ahoma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Tahoma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Tahoma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Tahoma"/>
                <a:ea typeface="Arabic Typesetting"/>
              </a:rPr>
              <a:t>       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Arabic Typesetting"/>
              </a:rPr>
              <a:t>صلاة الجماعة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700" spc="-1" strike="noStrike">
                <a:solidFill>
                  <a:srgbClr val="ffffff"/>
                </a:solidFill>
                <a:latin typeface="Verdana"/>
                <a:cs typeface="Mudir MT"/>
              </a:rPr>
              <a:t>ثانياً :-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7100" spc="-1" strike="noStrike">
                <a:solidFill>
                  <a:srgbClr val="ffffff"/>
                </a:solidFill>
                <a:latin typeface="Verdana"/>
                <a:cs typeface="Arabic Typesetting"/>
              </a:rPr>
              <a:t>صلاة الجمعة </a:t>
            </a:r>
            <a:endParaRPr b="0" lang="en-US" sz="7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1:00:13Z</dcterms:created>
  <dc:creator>DELL N5010</dc:creator>
  <dc:description/>
  <dc:language>en-US</dc:language>
  <cp:lastModifiedBy>HAPPY</cp:lastModifiedBy>
  <dcterms:modified xsi:type="dcterms:W3CDTF">2015-10-11T21:30:35Z</dcterms:modified>
  <cp:revision>5</cp:revision>
  <dc:subject/>
  <dc:title>الاسلام وبناء المجتم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