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  <p:sldId id="268" r:id="rId50"/>
    <p:sldId id="269" r:id="rId51"/>
    <p:sldId id="270" r:id="rId52"/>
    <p:sldId id="271" r:id="rId53"/>
    <p:sldId id="272" r:id="rId54"/>
    <p:sldId id="273" r:id="rId55"/>
    <p:sldId id="274" r:id="rId56"/>
    <p:sldId id="275" r:id="rId57"/>
    <p:sldId id="276" r:id="rId58"/>
    <p:sldId id="277" r:id="rId59"/>
    <p:sldId id="278" r:id="rId60"/>
    <p:sldId id="279" r:id="rId61"/>
    <p:sldId id="280" r:id="rId62"/>
    <p:sldId id="281" r:id="rId63"/>
    <p:sldId id="282" r:id="rId64"/>
    <p:sldId id="283" r:id="rId65"/>
    <p:sldId id="284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slide" Target="slides/slide13.xml"/><Relationship Id="rId51" Type="http://schemas.openxmlformats.org/officeDocument/2006/relationships/slide" Target="slides/slide14.xml"/><Relationship Id="rId52" Type="http://schemas.openxmlformats.org/officeDocument/2006/relationships/slide" Target="slides/slide15.xml"/><Relationship Id="rId53" Type="http://schemas.openxmlformats.org/officeDocument/2006/relationships/slide" Target="slides/slide16.xml"/><Relationship Id="rId54" Type="http://schemas.openxmlformats.org/officeDocument/2006/relationships/slide" Target="slides/slide17.xml"/><Relationship Id="rId55" Type="http://schemas.openxmlformats.org/officeDocument/2006/relationships/slide" Target="slides/slide18.xml"/><Relationship Id="rId56" Type="http://schemas.openxmlformats.org/officeDocument/2006/relationships/slide" Target="slides/slide19.xml"/><Relationship Id="rId57" Type="http://schemas.openxmlformats.org/officeDocument/2006/relationships/slide" Target="slides/slide20.xml"/><Relationship Id="rId58" Type="http://schemas.openxmlformats.org/officeDocument/2006/relationships/slide" Target="slides/slide21.xml"/><Relationship Id="rId59" Type="http://schemas.openxmlformats.org/officeDocument/2006/relationships/slide" Target="slides/slide22.xml"/><Relationship Id="rId60" Type="http://schemas.openxmlformats.org/officeDocument/2006/relationships/slide" Target="slides/slide23.xml"/><Relationship Id="rId61" Type="http://schemas.openxmlformats.org/officeDocument/2006/relationships/slide" Target="slides/slide24.xml"/><Relationship Id="rId62" Type="http://schemas.openxmlformats.org/officeDocument/2006/relationships/slide" Target="slides/slide25.xml"/><Relationship Id="rId63" Type="http://schemas.openxmlformats.org/officeDocument/2006/relationships/slide" Target="slides/slide26.xml"/><Relationship Id="rId64" Type="http://schemas.openxmlformats.org/officeDocument/2006/relationships/slide" Target="slides/slide27.xml"/><Relationship Id="rId65" Type="http://schemas.openxmlformats.org/officeDocument/2006/relationships/slide" Target="slides/slide28.xml"/><Relationship Id="rId66" Type="http://schemas.openxmlformats.org/officeDocument/2006/relationships/slide" Target="slides/slide29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1BB7-43F2-4FBF-91BA-D06AF627D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092B-AB4B-4275-B76F-6F782537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A4F78-AF8C-4FBD-80C9-67F2A061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DAB01-5557-4D8C-A200-107F1F7B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80690-EA9F-46CB-B31F-10E4D022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F739C-C477-442D-8E10-AA709C77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5252E2-8FB8-4D1C-8081-6FF76B21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98931-8122-430A-91C5-A0375CC2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6BAEE-9BBA-459D-ACF1-36F78310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0220B-3942-4C48-B03E-14AE665CC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529F0-FD91-4121-85AE-DC18DE295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281F34-09AD-4F92-8B4E-9E0CC188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3AA9-BCB7-4D14-A6D7-4DF76BB19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37DABD-F1B2-4F4A-AB63-AFA5E1D5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302547-0484-4889-92FF-996AC2AF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DD24E-BC4F-4291-B8FA-D58B00C7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0F4B9-AD81-4610-B320-E80FF921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D7CEC4-6DCA-4CE5-896D-8608CE30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0CEC7A-DD66-47C6-AC14-B7836CF4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187800-5EC0-40AD-9B34-1AF89033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C06AD6-585E-4494-9695-0DD2174C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14670A-0D69-4475-866C-32436FE4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735E2F-5FAB-460F-A725-2F44F8185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FB7B-7E17-4BEB-B3CF-651364D6A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4DDB39-927B-4033-BAB1-EE23074B1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0CBE5F-A31A-4440-AC8B-2E01B64A0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380E1B-EE09-4320-AD93-45443700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28320C-9D0D-4657-A87C-35E2CBE1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1FE6725-C33A-4D85-8F2F-342F923D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2E1099-EE3B-4B34-AA25-8367D8FA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7B6307-0921-4F87-801D-6663C3D3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30DAD6-1DAF-4CD0-90B3-3839DD9C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7D6549E-1DCB-4C27-A8A5-AC4F884A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6744F0-5D0A-471B-B6CA-B2E13A73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79BC-1054-4C84-B490-D80E211E3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7043CD-DE2F-4761-9180-8E1F5CED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8EC7F34-75BE-41E0-A652-E2560A99D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248107-6750-49ED-9FE2-6B5F3B3E6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E7BC8C-8110-4167-B40A-A34A73315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1F62AA-371B-4C80-9EF6-93B03F62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6C8079-D9EC-4E02-A95C-593511DC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5B763B-60B5-4DB7-8BDF-5799213B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27FB00-DF2D-40FF-B754-10C41C48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70A6C2-2A50-4AE7-9032-ECEE5357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DF9AF0-78DA-4BC1-9B77-3DA98F6D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EE30-038B-41B5-BEC6-69C0AC78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357BB0-779D-41BC-A93C-8E744311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D3C17F-DC5F-4F3F-94FC-859551D5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64ED65-8AE3-4252-91C3-A6C8679B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3F1ACC-8FC3-458C-9AD8-804518D30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19AA6F-BFE5-4727-BF19-0BCE0FCB5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657C1A-F092-4712-AC93-A1BBBD9F3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4BDA58-C70F-472F-8486-66F5A667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A61AF1-7527-4214-B516-C7EDA829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105A2B-EDB8-415F-9998-EF14270B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D3846C-3B36-4FC1-ABE6-00F425D2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BBF0-1D89-4CD0-81F4-EBCEE2FA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3537BE-56B1-40E1-B742-8DFB4155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B8F6A1-B2B2-4C59-86CF-C0FAAA12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E41BA4-39E7-4648-B49A-36365FEA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3E47B0-F405-486A-B71F-39E0F145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E386EC-6A30-449F-9FA8-4691FB0E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AD3190-CB5B-41E8-B81E-D3BA665FF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B8D73E-7767-4188-B297-46457B83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836B52-84B6-4371-BC56-7C7DCD700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06BD08-EF4F-4877-92A6-A07EE45E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095592-CA82-438C-801C-0C9D8616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9859-7E4E-4EEA-93CD-4F28F0AF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DA850A-F709-448B-9B96-D3FBEED2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30C72D-89B6-4870-9FB3-75598732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57F97A-60FA-4664-A9DF-4C85FB07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C7D18B-C8F2-46E3-B569-0E12E388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FA537E-FC86-4F2B-8322-65F2AB1A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ED31B9-F47D-4FC1-A80A-A3F0A7C5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F11EBD-CD00-4738-A61D-526934E0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99F550-0425-4F4B-8982-C23255769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663E9D-4300-4DDF-BF46-B9E2E2F9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C815AC-50BA-4BE1-A844-CE8E1CF1F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3E9B-9316-4639-BE64-745A27D5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CECC25-6490-47BA-BBC9-F559A9C4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7FFAA6-43F1-4BD9-B7E7-2D7E4189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79CEC5-75DD-4377-A10E-5EFDC624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183FC9-ABAE-4B38-AA68-02AED290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EC83A3-22C0-4C9A-A512-D64753D1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A63F8F-DCE8-46BC-B3F8-FF99C358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EB1B9E-5588-4A09-98D6-4A3EEA7C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2E24E0-4162-4F4E-AC6F-9F16837D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CF94A3-DA0E-4047-925F-598D7A57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ABCCD8-1C05-42BE-AF00-567260C33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CC1B-AA8E-4C03-B116-0A7959A9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D14BFF-BD8A-4537-9FAB-692FB5F2F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B94E61-F504-43C4-B94F-42BAB280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487A83-C518-4E68-90B6-1E0E1A4B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942E5E-994A-4BB0-A53A-C3F416C8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DA7243-7C67-4B91-AA7B-3F1ADA8E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CB63DD-9682-49D7-85BA-891EB19E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8BB1ED-FFB9-48C0-989F-BC0E0994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31901A-0091-4F3F-B56B-8E762219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C167AA-5822-44BD-86F9-41150E19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5859A4-A500-4255-9BDA-83D4B90D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0305-0FD0-4288-AB02-9C0DAF49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2ADF35-DC5C-4C81-941D-AC0C08D7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A454E6-25B6-4EFA-B2E2-B7F3A61A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8B7934-123E-4E00-BBA2-81EA0AC8B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E42522-1FC6-4856-A792-49D52DC53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064F83-61DC-4F65-9149-5DB3182D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208C38-20C3-4541-9314-BDF15C71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FBC23E-53AC-4290-8EDE-677CE679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999453-81A6-4B3A-85F8-88B21627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B417D0-76A5-41A6-A535-73470130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FD5D31-E2BE-4219-A92D-DE4F98F1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3BA1-8D21-4B03-B517-08798A2D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0DB3-042D-4167-A68A-EFDD78AB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726891-41A5-4D07-A1DB-5CE2E951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EB45FB-B141-4D20-9450-EED7AEB3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A57829-4502-4402-8835-48575372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A03398-7EA2-4267-8D0F-0D7F61992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1A5B1F-2187-4971-ADA3-FDF94F7C6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A90B80-7300-4757-B127-FA769DFC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FC7386-EA39-4F75-8461-78B8844F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92C2D2-61E7-45F5-891B-FCBA18D6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4F27B4-663C-4876-BB1E-50BE5A00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62E550-71E9-49EA-999C-4911379F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1D58-69A8-42FD-A6FC-CAC5904D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1BFA33-B43B-42E7-9257-F8354CB9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DA983B-F9EC-4A66-A89C-0693DE28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7A9753-44B8-4421-A60E-49833B5D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FD7EAF-04E6-4FC6-8EAE-DC26BC7C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E6869B-D950-4621-B45F-DBAF5354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251EDE-F79D-4444-AF15-E6D035B4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C20C1E-A56F-4597-914B-B8CE870CA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9DE3E57-325F-481E-AF9F-502D76687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8C83808-38AA-4038-AA46-033054B3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97CC6BF-C3D7-4C96-A35D-59AD7B58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6F8A-8C79-4AA9-AA7F-8E6E50A7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F07462A-FA71-44C1-B237-C0AA5CE1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E0817E3-43CE-49DD-9D62-81863F4C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EE13C39-1BBE-4587-86DC-24788465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2394252-5515-48A2-96A4-C499C776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CF33022-D890-40C7-B9D0-E609D3C2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372FA48-6E71-4A8B-92AA-5F21A01F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A226D29-3AFB-4B99-924C-D60FDE68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7F560AC-C840-479F-BFC7-DD4A71AB1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6FC312C-F111-4258-B323-6FDCC9BB5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33F53F-727D-445F-9128-297E1311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216D-4F38-4BFF-9CD2-124AD3513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C2FF2D-0198-462F-A0C3-25B1B592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E0824E-FE4C-4F8C-8703-709379EE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D93D2D-3F22-4C20-A889-237E4C3F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3ED492-25F1-4CCC-BF14-0D83DC6B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7C91CE-8999-4301-BAA9-02BBEDFC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84B79E-179F-49FB-9F25-19280D73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E4BD3E-E735-4668-8E4F-6BA65D43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3E662B-DB69-4F62-9DD0-A8E42A41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40C13F-8506-4F83-A2AB-5C95EA09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DF6063-4EDC-47F5-BA77-7DF60A0C8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DAEB-C5F3-4A21-9C55-8BF58D554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9D4888-05A5-4D66-8B77-C6621FFA6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DE0755-1DF8-4A36-B434-185F50070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DEFD64-D503-4A41-BF6A-28EA9A05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60BD3A-4EF8-4F6B-80C7-92CD1F4F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0D8A89-7306-4D59-9DE2-3CE77FD0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7B37B4-92EC-4EB1-BCE3-F1C2C224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8749AB-2155-47B7-BE93-D5E542CE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320C2B-FAD9-42BA-87EB-52DC70B5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D69F9B-DC98-4A9B-A30F-BBB97365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E2777B-0CAD-4F3A-89FD-B2F27EEF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DA0E6-AF39-47FE-A7BA-22A1C6098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3236E0-55BB-4763-A2D5-83F897DA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1E315D-0990-44E4-9C65-D476A154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B0EACB-A41E-4450-8FAC-3BE84B5A4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9F3263-F73B-4A04-8A6E-A736C498D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1397E7-78C8-4B75-A2B5-4922997F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B5AB37-030D-476E-9E67-AFEA9D64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0BF6AF-E896-4D44-8FAE-9591B301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47F844-E019-462E-9BB5-AAE50CA1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5EF016-2F89-45A3-9980-C3503766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5B36E4-AC93-4C48-A814-D49E97F2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30B40-3270-4532-90B9-2E92E0BB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5A9CE9-9B68-46F0-BA91-17E4D692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AAB10A-4FBA-4F86-9B1A-F50EDD5D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4C675A-2016-44FF-B0CA-FD3A15B5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26CA06-C3A7-4940-B259-6347CC08D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C12338-0543-4FF4-909C-E8FA21AE8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5C6658-E823-41FF-BC33-CF3301EF0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F62167-2F06-415C-9348-6B662BB2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258B80-25B8-42EC-B097-226741C0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B16345-C10A-4775-BEB4-B573992F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9D50D6-B402-484A-8C0D-183E4746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FAFC7-FF0C-4124-A4B5-E6B9043A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113EE0-12AB-4E92-A311-9306B4E4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028F1B-1E1D-46ED-81ED-19C271DA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B3CBB4-C07C-47F2-989C-34F9BD46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A4BE18-3D0D-4CCA-85FF-608FFA4B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DCE2D8-411B-436C-AFB5-0D4C12B0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0FFCE3-059A-4286-80AC-06432AEAF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6E049C-652B-4350-9E29-A91EE2935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EEFEF69-7763-4950-827B-FEC85F56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1E09A4D-0027-406C-AD88-B0270113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63EA792-5B92-440C-BAC3-8542651C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4E90C-497A-4ED7-9B98-9DA30B70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FA1EA06-EA0E-4603-9E9A-8247E8CB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53AED6F-B306-4C7E-AAEB-638977F0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8BED53F-242E-4C4A-84EE-544BCCC3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BEE722A-0B95-4ABE-A482-CE423A7C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1823421-C1BF-411D-80E4-82B2805C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D73D063-F38A-4CB7-937B-74B644FF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4E7BE91-7A22-4FA6-98B7-88071BE3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E70BB9D-7053-4217-8EF5-E68E893E3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24445EB-8DC0-410C-AC96-5262D48A7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F2FFF9-611F-4276-BAAE-5979A05CD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17AF8-816E-4EB0-BC28-C070641F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D3675E-8779-4764-9506-FADCCD1F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A0CC128-B30C-4ED2-B455-EEF4C7CF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60BAAA-3E6C-4458-B248-B0300787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E46A536-87E1-4EBB-86AC-4C8790F5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5B6E138-7E61-443C-AAAB-0A88529B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106B9CC-DB0D-4F60-B79D-FA08098E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5D1F90-9373-4A02-BF48-EADD95CE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3FB339A-18A3-49B8-BEA2-1435C388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129F11-DDD0-4AE5-96A3-6FC60119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29681D0-CEDD-4DAB-8B51-28F95B64C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AF4D-70FC-44F6-83A8-1F9187FA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B32C2-3297-4D0F-A971-3E567D5F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876BA34-9250-4DCF-872C-FB97B8C46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C4E6253-A4D9-433D-ADFA-B538BFF8C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062C53-E56C-4A78-9318-39B024D1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F344D3-7450-4DFC-8BC5-99F0B943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53F4F2C-FE9F-4C2B-B524-8EE03734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6D4A6E-9A80-4EA7-97CA-9B22E042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F63098E-76E1-4684-80BE-046763B2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CA51EF7-4AD0-4B5E-9797-FCE23CFE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2FBCA21-2595-4E85-B69F-B7F967C6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7C50D1-5056-472F-9725-BE7A9AB8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FF98D-A98F-46E2-ADB9-EAE3C5FD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6DA382-993A-4E91-85EB-D326AEF5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FD9E7AD-9901-4F84-9709-C0FE768AE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EDC759D-D56E-4451-B47A-56B526A3B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0296AFB-A150-4625-8D8B-247CAEA1C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2656A4-534D-4ED0-A07E-57572F7A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CF773D8-7CB5-4CD1-8F9B-FAFDCE2D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E30ACA6-D877-48C8-9DF6-341371AB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F2B8497-2434-4BF1-AC4E-A64061A4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2ED190-1BB3-4A3C-8C13-CDB8B86A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8FE4E2C-A9E8-4703-9BC9-B17AD7BB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AEF46-E783-4F64-BDDD-1B9C2934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4EAA8D1-6576-4DA6-8959-0863A5EC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5014117-259D-44B2-8E2C-3EA87FF5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0C0E03D-879F-4C91-826C-2A90141E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4A78C20-4F2A-47C4-9DEA-11F7274CB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5E82ABE-2746-4CD3-9C11-4A7B02EDB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91B76AE-0FEF-4CEF-A734-8B993FBAC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7D9B358-2460-499A-A7BA-1070994F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947114A-0CAA-48DE-96B5-8F1B2C6E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D0879F0-9A72-47A4-B417-24B4CA54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EB9C31B-B290-482C-90E0-ECCC269D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D88FC-259B-4AEA-ABF7-382CDAAB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79E8B61-5373-4A96-B163-6AB0B4E6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9D1FF6C-6DE8-493F-8544-3A1F8306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8E7A3C3-CE73-4545-9391-7E8755EA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878CB2C-5AD9-458A-B793-75D31782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C74DD40-29CA-46AB-9429-8812658D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C311C61-5D9C-4F3B-B559-EB4F1B5A3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611224-D991-4DD4-90FD-B4F3FD18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8314DD4-7D73-41F3-B637-AB7629704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29EC706-7272-4FA6-8B17-19254DAB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AD22525-4DD4-4C10-BA12-D168707B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51C22-EBBB-4513-9799-0968210C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1F6033B-D9D3-40D4-A04C-B95586CA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878AF55-3722-4B21-B91D-0D624C06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B6C5AAC-53BD-482A-8614-A53EC90A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70A1A3E-26A2-443D-8B19-F0A65622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DBAA584-C109-4290-A7BF-32FE8B96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E08E2E9-2AC8-4B32-8DAB-C1B34556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776BB64-DB01-4AE2-A618-11DBBB9D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A6CD969-0654-484E-960D-E24C784FA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C994822-0374-40D3-9C4E-B29EC91B1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F064BB2-6D7E-4F3D-BB8B-19F7616D6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17F2F-9CA0-40F6-AD72-326152BA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67AB31B-BC3F-4AC7-8515-6EC520E3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1E48F9A-FA85-4455-AD3C-30D1D280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7ABB8E5-031C-4E1A-92B2-B4BB8391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AC65DCE-2ABD-4D76-87FB-5A1CCE75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1BE1A52-8CB3-42E8-A2B2-8E099D6B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9C3937D-1AC8-4B1E-99CB-FEAE19ED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F3709FA-BB1F-4FD4-8BF4-F79F6FE3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3C76E11-4684-4B3F-B854-3D436CFB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4AC0974-F920-48B4-B5E9-75A086DB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767F8D2-0312-4A32-A0AD-3DDA5CF65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F7906-FA88-440C-B764-48C30AA00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3228C75-9F38-44D8-81F5-88707387B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59833C1-F64E-4209-B9D9-C83EED111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7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172CA08-07D3-4EE5-93D9-15F06548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4D08F32-BE81-430D-AA2F-ADB986C1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743493B-85E7-4B1C-8864-DE640D8D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FA4100D-A064-4160-8213-0D85209E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06A0D62-355A-458D-AA1D-6ECBD4F6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9D30FB3-CE72-401D-9DB6-3D293B5E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2DDE5DE-22B1-4AD1-9CFF-4D31B109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0A4F0DE-5A69-4793-AF23-1E76015B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50EA3-EDCB-4AE1-BAF8-D88DA63C4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BA66438-0D08-4A33-B817-B518E320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D051953-7B61-4A5F-BABD-D87853E60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D9DB8A5-C326-4EF7-A891-233B69619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68D6204-A828-451D-B6EA-C5EBE2C3B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6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85190B0-258A-4280-B78C-EF438AC3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9880170-9219-482D-9092-3E41BD21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B2AF67D-2F99-4DE1-AEFC-DE9482A8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8158076-3352-4BC9-91CB-67888B2B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BEEE02C-C980-49BC-9A7D-9B2A22D0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0A06EE9-85D0-4BF8-8B22-C01061C9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F70B7-FDE1-412E-B97C-433B6888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3E12A50-F116-44F8-8ACA-7BA7E3E5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E003BA6-BCFF-4408-93D6-0220E886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8620C52-8B31-40A6-B931-152D1423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A6386C4-F8F1-4E66-8011-AF54C5E87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4845BB6-4D13-48E6-A537-BDDE6C83D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CBFB7C4-6DEC-4758-9299-6C655804B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4E249D8-4B34-4230-817E-BF248E4B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338DA37-0E5C-42F7-AA83-3DFC7CDE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D373A2F-282F-410E-BAFA-5E4804AB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CB8C3A8-0D7A-44AD-B798-36265486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2F275-49D5-4736-BBE8-649CA631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BD19A80-F277-4285-B82D-56A82180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A42C7DB-2CDE-47F9-A591-B834DD88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00818AF-533D-4F48-9DE6-501F12DE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25D47D1-25DF-4BB0-9120-BBD429BF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401017B-25D7-4A08-868B-9756DA9C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CF9A5D3-9DCA-4334-BC7C-E8ABF9CE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8E04E7E-5B7F-4842-8188-7D5E9FE32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715992E-20DA-4CD8-90CC-2181768B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8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ED96922-3BA6-4B6F-9CB7-82350DB0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42101A3-30B7-441E-94BB-259D02B4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FD0A-4BB8-4DDA-B699-4AD03DF6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810EA-760D-43A7-A5EB-ADB9C241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8DFC035-CFE1-488E-BA71-FC3F0363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A6EEAAC-3396-4DD2-B97F-F816D27C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461956D-6B9D-40A2-A76C-97C5918B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5DCFE40-E634-417D-8BAC-BCFC3856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901EA00-90A7-4435-AE0D-AFA823FE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0AE0DC6-9EF3-4110-AD61-4B6E0FDA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426E487-436E-4590-BDE3-9526160E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A24D56F-8890-401C-943B-88AFC7FD7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90D7E86-A958-4232-A836-D54CF563E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6764936-98E8-4855-886A-3293223F9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167A7-1C82-4387-A30C-5A5AE438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349CB57-3564-43AA-8DE8-DE988B46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0E0D2F1-E5BC-442A-9F5B-90A70FBC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3A11E2B-BFA9-4AA9-A63A-4B725924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C8811D4-C944-467D-81D7-CC6A589D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DABD2A4-AF16-4331-A570-D991E115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307A2AD-C09F-4A0F-9106-96B4F0DC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FFA3F02-6CB8-4629-8FB7-0755E33A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CA1CE88-1311-4C7C-8307-ADBA6A66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3456A25-7ECB-434F-B08E-CE0AF3BC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06317C3-2A8F-44A2-B943-3218A8CED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56070-2320-4ED0-B7F2-0BADA273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D838652-B72D-490E-855A-152E3A807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2F1E2DF-1C84-4009-80E6-AECFEA72A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4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A887BB2-7F09-455C-877F-46CAA289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009F878-B5BA-4239-8FC9-E68CD1B7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77159D8-EB34-483D-9CA4-A8C78D07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5C9EE45-6498-4F03-AC8B-2BE8039A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0BA895B-FFAB-46FC-A6F9-8086349E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9402BBF-B49D-49C8-AC96-D8D4B0EE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5BB51EB-5492-4630-AE45-2B4DD036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33F6937-C6A1-45E8-80BD-0424E8F1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FF7CF-98BC-435C-8D7C-655DBE0A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168CDD8-05C6-4224-B1E7-D67A81BF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8BD501E-F307-4D93-B962-959ED1B1B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7D6DD24-1343-4AC6-9D68-0CCCF3B53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A881A-3F22-441F-B374-16AC9CE4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22F4F-34D1-4456-8E93-630ABD23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579A7-3146-4BFA-94CC-D4CA7A91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EE41E-CCC5-48A4-A0E4-DCD0AC3C7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83571-6000-4C8A-9335-F3B7636F6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62713B-EC90-455F-9D16-500EBC520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3AAE-C437-4449-B9AD-DC792387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E781EE-EA4F-4C6A-B605-82DBE955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B744FA-E93F-41E6-A03C-4379DDE1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143AB0-4CC7-48AC-A84D-5550E4DB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4DA9A9-2B1C-49DC-B011-BDF7133F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B8F421-FF5F-46B7-8FFC-DB773F08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E7EACC-E04D-4585-A99D-63B79E62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25A258-25D4-4D47-ABC2-D1A6066B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C2E760-18FD-4384-813C-0AD20A12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0789A8-BA3E-4B8F-9D0E-3D3E2804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3FAC51-7645-4384-AC92-7DDF6ECCB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4BDE-9CA2-407B-95AA-00251A3C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7BF252-0407-408E-BBB2-CDFBD4EED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EF05C-008E-4EA0-A385-15E8274F6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C6AD5-C58F-467D-8FE2-7459EA38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54B10-6B18-454C-8176-41AACD9C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2118F-2578-4EB9-BC70-084B0C28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C0319-12E4-4FC9-B140-650043AC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8C14C-0A9C-465C-AC6D-D04376AE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9BA01-240B-4A64-B2C0-9DF97FE0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9FE17-D6E6-4979-9492-B1472B00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F73BB-161D-4C79-BC87-54417CE4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4531-25B4-4E03-851B-68FA2430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05502-1102-4E21-BC71-CB8BC0D6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31848-7ED2-4CF1-879C-4C1B2323D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537EB-07AF-4C56-845D-AE234C84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E21DF-CC74-45E2-A8B4-E2CD4E3A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62A25-DF5F-4789-ACDC-F13EACEF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55053-88BE-4E3D-8031-B1AF746F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33637-D4CA-4DF0-AF83-ECB8AEC1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F7F20-3692-441C-B979-131DDAFD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F62AC-3E01-44B2-816C-5C1B5734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E4837-ACD5-4991-B9E9-79C9643F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C6A1-A982-42B0-9859-8AFDD380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89EDF-3119-4CAD-842A-A56373B6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D2BF8-CCD3-4709-A0A0-EFD28302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02B61-EC91-4B63-A6B7-A04EA329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02BB3-548B-46FD-BDCF-8AD7B2CEE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BC771-C19D-46DA-AEAF-FFD6B7EAA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F576E-33D9-41CC-9173-70ACC1D7D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1CDB5-2272-485B-98F8-97F97A9F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0930B-C841-4B39-BB60-8D7D92DE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604BA-C3E9-4150-B476-E0530FC2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7A3DD-67DF-45AF-AC25-11453AC2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2E71-F4F9-4E26-834A-6C094298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232BC-C224-4A3E-B581-67E7FB12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CCD5D-3F43-4A53-80F2-1DD5FECF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A721C-D173-4312-80EC-4749A665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51A0B-D9FE-4B0E-BBC3-19B3766B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DB2F4-4937-4804-B9EB-D6EA2567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14B1B-D845-4BC7-A6D2-DF779ED5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C211D-2685-4D2A-9115-CBF00A7FA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8893F-AEA2-4E62-AB90-4F4602F4E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0B075-54CD-40AB-88DD-EEAC5756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ADAB27-7352-41CC-AAB6-6A4390D6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slideLayout" Target="../slideLayouts/slideLayout109.xml"/><Relationship Id="rId35" Type="http://schemas.openxmlformats.org/officeDocument/2006/relationships/slideLayout" Target="../slideLayouts/slideLayout110.xml"/><Relationship Id="rId36" Type="http://schemas.openxmlformats.org/officeDocument/2006/relationships/slideLayout" Target="../slideLayouts/slideLayout111.xml"/><Relationship Id="rId37" Type="http://schemas.openxmlformats.org/officeDocument/2006/relationships/slideLayout" Target="../slideLayouts/slideLayout112.xml"/><Relationship Id="rId38" Type="http://schemas.openxmlformats.org/officeDocument/2006/relationships/slideLayout" Target="../slideLayouts/slideLayout113.xml"/><Relationship Id="rId39" Type="http://schemas.openxmlformats.org/officeDocument/2006/relationships/slideLayout" Target="../slideLayouts/slideLayout114.xml"/><Relationship Id="rId40" Type="http://schemas.openxmlformats.org/officeDocument/2006/relationships/slideLayout" Target="../slideLayouts/slideLayout115.xml"/><Relationship Id="rId41" Type="http://schemas.openxmlformats.org/officeDocument/2006/relationships/slideLayout" Target="../slideLayouts/slideLayout116.xml"/><Relationship Id="rId42" Type="http://schemas.openxmlformats.org/officeDocument/2006/relationships/slideLayout" Target="../slideLayouts/slideLayout117.xml"/><Relationship Id="rId43" Type="http://schemas.openxmlformats.org/officeDocument/2006/relationships/slideLayout" Target="../slideLayouts/slideLayout118.xml"/><Relationship Id="rId44" Type="http://schemas.openxmlformats.org/officeDocument/2006/relationships/slideLayout" Target="../slideLayouts/slideLayout119.xml"/><Relationship Id="rId4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slideLayout" Target="../slideLayouts/slideLayout325.xml"/><Relationship Id="rId35" Type="http://schemas.openxmlformats.org/officeDocument/2006/relationships/slideLayout" Target="../slideLayouts/slideLayout326.xml"/><Relationship Id="rId36" Type="http://schemas.openxmlformats.org/officeDocument/2006/relationships/slideLayout" Target="../slideLayouts/slideLayout327.xml"/><Relationship Id="rId37" Type="http://schemas.openxmlformats.org/officeDocument/2006/relationships/slideLayout" Target="../slideLayouts/slideLayout328.xml"/><Relationship Id="rId38" Type="http://schemas.openxmlformats.org/officeDocument/2006/relationships/slideLayout" Target="../slideLayouts/slideLayout329.xml"/><Relationship Id="rId39" Type="http://schemas.openxmlformats.org/officeDocument/2006/relationships/slideLayout" Target="../slideLayouts/slideLayout330.xml"/><Relationship Id="rId40" Type="http://schemas.openxmlformats.org/officeDocument/2006/relationships/slideLayout" Target="../slideLayouts/slideLayout331.xml"/><Relationship Id="rId41" Type="http://schemas.openxmlformats.org/officeDocument/2006/relationships/slideLayout" Target="../slideLayouts/slideLayout332.xml"/><Relationship Id="rId42" Type="http://schemas.openxmlformats.org/officeDocument/2006/relationships/slideLayout" Target="../slideLayouts/slideLayout333.xml"/><Relationship Id="rId43" Type="http://schemas.openxmlformats.org/officeDocument/2006/relationships/slideLayout" Target="../slideLayouts/slideLayout334.xml"/><Relationship Id="rId44" Type="http://schemas.openxmlformats.org/officeDocument/2006/relationships/slideLayout" Target="../slideLayouts/slideLayout335.xml"/><Relationship Id="rId4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49.xml"/><Relationship Id="rId8" Type="http://schemas.openxmlformats.org/officeDocument/2006/relationships/slideLayout" Target="../slideLayouts/slideLayout350.xml"/><Relationship Id="rId9" Type="http://schemas.openxmlformats.org/officeDocument/2006/relationships/slideLayout" Target="../slideLayouts/slideLayout351.xml"/><Relationship Id="rId10" Type="http://schemas.openxmlformats.org/officeDocument/2006/relationships/slideLayout" Target="../slideLayouts/slideLayout352.xml"/><Relationship Id="rId11" Type="http://schemas.openxmlformats.org/officeDocument/2006/relationships/slideLayout" Target="../slideLayouts/slideLayout353.xml"/><Relationship Id="rId12" Type="http://schemas.openxmlformats.org/officeDocument/2006/relationships/slideLayout" Target="../slideLayouts/slideLayout354.xml"/><Relationship Id="rId13" Type="http://schemas.openxmlformats.org/officeDocument/2006/relationships/slideLayout" Target="../slideLayouts/slideLayout355.xml"/><Relationship Id="rId14" Type="http://schemas.openxmlformats.org/officeDocument/2006/relationships/slideLayout" Target="../slideLayouts/slideLayout356.xml"/><Relationship Id="rId15" Type="http://schemas.openxmlformats.org/officeDocument/2006/relationships/slideLayout" Target="../slideLayouts/slideLayout357.xml"/><Relationship Id="rId16" Type="http://schemas.openxmlformats.org/officeDocument/2006/relationships/slideLayout" Target="../slideLayouts/slideLayout358.xml"/><Relationship Id="rId17" Type="http://schemas.openxmlformats.org/officeDocument/2006/relationships/slideLayout" Target="../slideLayouts/slideLayout359.xml"/><Relationship Id="rId18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DFC1-2985-4E72-A430-A5451B39C1C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24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7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28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29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30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31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33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3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47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4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67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2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ftr" idx="2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sldNum" idx="3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33FB-9A92-4C9E-A9B3-FC24B962B2F8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4"/>
    <p:sldLayoutId id="2147483767" r:id="rId35"/>
    <p:sldLayoutId id="2147483768" r:id="rId36"/>
    <p:sldLayoutId id="2147483769" r:id="rId37"/>
    <p:sldLayoutId id="2147483770" r:id="rId38"/>
    <p:sldLayoutId id="2147483771" r:id="rId39"/>
    <p:sldLayoutId id="2147483772" r:id="rId40"/>
    <p:sldLayoutId id="2147483773" r:id="rId41"/>
    <p:sldLayoutId id="2147483774" r:id="rId42"/>
    <p:sldLayoutId id="2147483775" r:id="rId43"/>
    <p:sldLayoutId id="2147483776" r:id="rId44"/>
    <p:sldLayoutId id="2147483777" r:id="rId4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EE29-10FC-460F-B705-74878A32F6D2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1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22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23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8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0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9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670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5" name="PlaceHolder 1"/>
          <p:cNvSpPr>
            <a:spLocks noGrp="1"/>
          </p:cNvSpPr>
          <p:nvPr>
            <p:ph type="sldNum" idx="3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335C-7E6B-46C2-A060-2AE342500C9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dt" idx="3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 type="ftr" idx="3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92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92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5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95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97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97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dt" idx="3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 type="ftr" idx="3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 type="sldNum" idx="3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3193-C64A-4357-B846-04F908CF3DE6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03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03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4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4EB8-B11B-420A-8706-C8329A7164F5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4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225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3" name="PlaceHolder 1"/>
          <p:cNvSpPr>
            <a:spLocks noGrp="1"/>
          </p:cNvSpPr>
          <p:nvPr>
            <p:ph type="dt" idx="4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ftr" idx="4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 type="sldNum" idx="4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6290-BB83-47B4-9E7A-C538F651204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4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275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276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78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279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81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282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84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285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86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7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8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289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290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2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293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5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296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8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1299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1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1302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4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1305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7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1308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0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1311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3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1314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6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1317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9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1320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2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1323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5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1326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8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329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0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1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332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4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1335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7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338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0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341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3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1344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6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1347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9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1350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2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3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54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1355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7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358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9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0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361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2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3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1364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6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1367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9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370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1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2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373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4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5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376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8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379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0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1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382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3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4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385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6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87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498E-5372-465C-A323-5165FF1B8402}" type="slidenum">
              <a:rPr b="0" lang="ar-SA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r" rtl="1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 algn="r" rtl="1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 algn="r" rtl="1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E0FD-E6CA-4A08-AA47-F9AF3338B37B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4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525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28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529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42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53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554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59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8E21-91A3-4E3D-AD33-02A7A5C8F944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 type="ftr" idx="5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 type="sldNum" idx="5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79DF-BFA5-4BB9-AC3F-6400DC59136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PlaceHolder 5"/>
          <p:cNvSpPr>
            <a:spLocks noGrp="1"/>
          </p:cNvSpPr>
          <p:nvPr>
            <p:ph type="dt" idx="5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1DB7-7615-4C34-A5BB-F2392DFD20AC}" type="slidenum">
              <a:rPr b="0" lang="ar-S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6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0CA8-757E-4703-887D-53D24FC8ADC0}" type="slidenum">
              <a:rPr b="0" lang="ar-S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68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69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 type="dt" idx="6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 type="ftr" idx="6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PlaceHolder 5"/>
          <p:cNvSpPr>
            <a:spLocks noGrp="1"/>
          </p:cNvSpPr>
          <p:nvPr>
            <p:ph type="sldNum" idx="63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31CD-6A0F-43A6-9C54-485A6BAF4A4E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5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736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7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8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9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0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1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2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3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4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5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6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7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8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9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0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1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2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3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B8D3-A811-4842-BE19-FDFD4AE8396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79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A679-1734-4E52-98D5-3CA63FAB199A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8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859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0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1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2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863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64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865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6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7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8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9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70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1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872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 type="sldNum" idx="7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2C0C-1D78-4454-977F-9B0715F19616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2" name="PlaceHolder 5"/>
          <p:cNvSpPr>
            <a:spLocks noGrp="1"/>
          </p:cNvSpPr>
          <p:nvPr>
            <p:ph type="ftr" idx="7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9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920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 type="dt" idx="7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 type="ftr" idx="7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F5EB-0879-4599-95CF-EA0DB7412096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PlaceHolder 5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AB9C-BEB2-47FD-9FF0-F391902F7210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03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4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04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4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204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5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205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5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2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4" name="PlaceHolder 5"/>
          <p:cNvSpPr>
            <a:spLocks noGrp="1"/>
          </p:cNvSpPr>
          <p:nvPr>
            <p:ph type="sldNum" idx="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EE18-4D92-4C2A-9C6B-5B84D5E334D4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1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102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3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4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05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106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107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108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109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0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11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2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3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4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5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6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117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8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9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0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1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2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3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4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125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126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7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8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9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0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1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2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3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4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5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6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7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8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9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0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1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2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3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4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145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 type="dt" idx="8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PlaceHolder 4"/>
          <p:cNvSpPr>
            <a:spLocks noGrp="1"/>
          </p:cNvSpPr>
          <p:nvPr>
            <p:ph type="ftr" idx="8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PlaceHolder 5"/>
          <p:cNvSpPr>
            <a:spLocks noGrp="1"/>
          </p:cNvSpPr>
          <p:nvPr>
            <p:ph type="sldNum" idx="8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0B7D-FFC7-49B3-BC90-863ACAA635BD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4"/>
    <p:sldLayoutId id="2147484001" r:id="rId35"/>
    <p:sldLayoutId id="2147484002" r:id="rId36"/>
    <p:sldLayoutId id="2147484003" r:id="rId37"/>
    <p:sldLayoutId id="2147484004" r:id="rId38"/>
    <p:sldLayoutId id="2147484005" r:id="rId39"/>
    <p:sldLayoutId id="2147484006" r:id="rId40"/>
    <p:sldLayoutId id="2147484007" r:id="rId41"/>
    <p:sldLayoutId id="2147484008" r:id="rId42"/>
    <p:sldLayoutId id="2147484009" r:id="rId43"/>
    <p:sldLayoutId id="2147484010" r:id="rId44"/>
    <p:sldLayoutId id="2147484011" r:id="rId4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7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198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199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0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1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2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3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04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5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 type="dt" idx="85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9" name="PlaceHolder 4"/>
          <p:cNvSpPr>
            <a:spLocks noGrp="1"/>
          </p:cNvSpPr>
          <p:nvPr>
            <p:ph type="ftr" idx="86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0" name="PlaceHolder 5"/>
          <p:cNvSpPr>
            <a:spLocks noGrp="1"/>
          </p:cNvSpPr>
          <p:nvPr>
            <p:ph type="sldNum" idx="87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431A-E304-4B06-A0F2-4C4DE26B092D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86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87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90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8AB2-CD60-4E15-8AF6-477F80DA5BA3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24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6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5" name="PlaceHolder 3"/>
          <p:cNvSpPr>
            <a:spLocks noGrp="1"/>
          </p:cNvSpPr>
          <p:nvPr>
            <p:ph type="dt" idx="8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7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F4E5-4D06-4412-8797-F5A28848168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7"/>
    <p:sldLayoutId id="2147484027" r:id="rId8"/>
    <p:sldLayoutId id="2147484028" r:id="rId9"/>
    <p:sldLayoutId id="2147484029" r:id="rId10"/>
    <p:sldLayoutId id="2147484030" r:id="rId11"/>
    <p:sldLayoutId id="2147484031" r:id="rId12"/>
    <p:sldLayoutId id="2147484032" r:id="rId13"/>
    <p:sldLayoutId id="2147484033" r:id="rId14"/>
    <p:sldLayoutId id="2147484034" r:id="rId15"/>
    <p:sldLayoutId id="2147484035" r:id="rId16"/>
    <p:sldLayoutId id="2147484036" r:id="rId17"/>
    <p:sldLayoutId id="2147484037" r:id="rId18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4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505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06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507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32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533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4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5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6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7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8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9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0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1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2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3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4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5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6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7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8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549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0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1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552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3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4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5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6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7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8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9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0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1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 type="dt" idx="9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 type="ftr" idx="9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3" name="PlaceHolder 5"/>
          <p:cNvSpPr>
            <a:spLocks noGrp="1"/>
          </p:cNvSpPr>
          <p:nvPr>
            <p:ph type="sldNum" idx="9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6B29-31DC-4C65-AA76-065FCF135A1B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61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61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2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62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 type="dt" idx="9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5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78A2-1B39-4F22-A9CA-7595A886D7BD}" type="slidenum">
              <a:rPr b="0" lang="ar-SA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2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803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4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5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6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7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8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1" name="PlaceHolder 3"/>
          <p:cNvSpPr>
            <a:spLocks noGrp="1"/>
          </p:cNvSpPr>
          <p:nvPr>
            <p:ph type="dt" idx="9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PlaceHolder 4"/>
          <p:cNvSpPr>
            <a:spLocks noGrp="1"/>
          </p:cNvSpPr>
          <p:nvPr>
            <p:ph type="ftr" idx="9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3" name="PlaceHolder 5"/>
          <p:cNvSpPr>
            <a:spLocks noGrp="1"/>
          </p:cNvSpPr>
          <p:nvPr>
            <p:ph type="sldNum" idx="9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6190-8968-4F47-B7C1-024DE2A1902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0" name="Group 2"/>
          <p:cNvGrpSpPr/>
          <p:nvPr/>
        </p:nvGrpSpPr>
        <p:grpSpPr>
          <a:xfrm>
            <a:off x="2010960" y="245160"/>
            <a:ext cx="6895800" cy="5452200"/>
            <a:chOff x="2010960" y="245160"/>
            <a:chExt cx="6895800" cy="5452200"/>
          </a:xfrm>
        </p:grpSpPr>
        <p:grpSp>
          <p:nvGrpSpPr>
            <p:cNvPr id="2851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2852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3" name="Oval 5"/>
              <p:cNvSpPr/>
              <p:nvPr/>
            </p:nvSpPr>
            <p:spPr>
              <a:xfrm>
                <a:off x="382392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54" name="Group 6"/>
            <p:cNvGrpSpPr/>
            <p:nvPr/>
          </p:nvGrpSpPr>
          <p:grpSpPr>
            <a:xfrm>
              <a:off x="2010960" y="245160"/>
              <a:ext cx="6895800" cy="5452200"/>
              <a:chOff x="2010960" y="245160"/>
              <a:chExt cx="6895800" cy="5452200"/>
            </a:xfrm>
          </p:grpSpPr>
          <p:grpSp>
            <p:nvGrpSpPr>
              <p:cNvPr id="2855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2856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857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8" name="Oval 10"/>
                  <p:cNvSpPr/>
                  <p:nvPr/>
                </p:nvSpPr>
                <p:spPr>
                  <a:xfrm>
                    <a:off x="5109480" y="223560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59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2860" name="Group 12"/>
                  <p:cNvGrpSpPr/>
                  <p:nvPr/>
                </p:nvGrpSpPr>
                <p:grpSpPr>
                  <a:xfrm>
                    <a:off x="5761440" y="2322360"/>
                    <a:ext cx="2558880" cy="2742480"/>
                    <a:chOff x="5761440" y="2322360"/>
                    <a:chExt cx="2558880" cy="2742480"/>
                  </a:xfrm>
                </p:grpSpPr>
                <p:sp>
                  <p:nvSpPr>
                    <p:cNvPr id="2861" name="Freeform 13"/>
                    <p:cNvSpPr/>
                    <p:nvPr/>
                  </p:nvSpPr>
                  <p:spPr>
                    <a:xfrm rot="2711400">
                      <a:off x="5583960" y="3020040"/>
                      <a:ext cx="21276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2" name="Freeform 14"/>
                    <p:cNvSpPr/>
                    <p:nvPr/>
                  </p:nvSpPr>
                  <p:spPr>
                    <a:xfrm rot="2711400">
                      <a:off x="7134120" y="4145400"/>
                      <a:ext cx="114012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63" name="Group 15"/>
                  <p:cNvGrpSpPr/>
                  <p:nvPr/>
                </p:nvGrpSpPr>
                <p:grpSpPr>
                  <a:xfrm>
                    <a:off x="5787720" y="2148120"/>
                    <a:ext cx="3040560" cy="2529720"/>
                    <a:chOff x="5787720" y="2148120"/>
                    <a:chExt cx="3040560" cy="2529720"/>
                  </a:xfrm>
                </p:grpSpPr>
                <p:sp>
                  <p:nvSpPr>
                    <p:cNvPr id="2864" name="Freeform 16"/>
                    <p:cNvSpPr/>
                    <p:nvPr/>
                  </p:nvSpPr>
                  <p:spPr>
                    <a:xfrm rot="2103600">
                      <a:off x="5707440" y="2751480"/>
                      <a:ext cx="223632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5" name="Freeform 17"/>
                    <p:cNvSpPr/>
                    <p:nvPr/>
                  </p:nvSpPr>
                  <p:spPr>
                    <a:xfrm rot="2103600">
                      <a:off x="7542720" y="3721680"/>
                      <a:ext cx="120132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66" name="Group 18"/>
                  <p:cNvGrpSpPr/>
                  <p:nvPr/>
                </p:nvGrpSpPr>
                <p:grpSpPr>
                  <a:xfrm>
                    <a:off x="5776200" y="2065680"/>
                    <a:ext cx="3096360" cy="1991880"/>
                    <a:chOff x="5776200" y="2065680"/>
                    <a:chExt cx="3096360" cy="1991880"/>
                  </a:xfrm>
                </p:grpSpPr>
                <p:sp>
                  <p:nvSpPr>
                    <p:cNvPr id="2867" name="Freeform 19"/>
                    <p:cNvSpPr/>
                    <p:nvPr/>
                  </p:nvSpPr>
                  <p:spPr>
                    <a:xfrm rot="1582800">
                      <a:off x="5747760" y="2521440"/>
                      <a:ext cx="213984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8" name="Freeform 20"/>
                    <p:cNvSpPr/>
                    <p:nvPr/>
                  </p:nvSpPr>
                  <p:spPr>
                    <a:xfrm rot="1582800">
                      <a:off x="7652880" y="3246120"/>
                      <a:ext cx="114876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69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870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1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2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873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4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5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876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7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8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879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0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81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882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3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84" name="Group 36"/>
                  <p:cNvGrpSpPr/>
                  <p:nvPr/>
                </p:nvGrpSpPr>
                <p:grpSpPr>
                  <a:xfrm>
                    <a:off x="2085120" y="2366640"/>
                    <a:ext cx="3040200" cy="2530080"/>
                    <a:chOff x="2085120" y="2366640"/>
                    <a:chExt cx="3040200" cy="2530080"/>
                  </a:xfrm>
                </p:grpSpPr>
                <p:sp>
                  <p:nvSpPr>
                    <p:cNvPr id="2885" name="Freeform 37"/>
                    <p:cNvSpPr/>
                    <p:nvPr/>
                  </p:nvSpPr>
                  <p:spPr>
                    <a:xfrm flipH="1" rot="19496400">
                      <a:off x="2968560" y="2970000"/>
                      <a:ext cx="223632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6" name="Freeform 38"/>
                    <p:cNvSpPr/>
                    <p:nvPr/>
                  </p:nvSpPr>
                  <p:spPr>
                    <a:xfrm flipH="1" rot="19496400">
                      <a:off x="2168280" y="3940920"/>
                      <a:ext cx="120132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87" name="Group 39"/>
                  <p:cNvGrpSpPr/>
                  <p:nvPr/>
                </p:nvGrpSpPr>
                <p:grpSpPr>
                  <a:xfrm>
                    <a:off x="2040120" y="2283480"/>
                    <a:ext cx="3097080" cy="1992240"/>
                    <a:chOff x="2040120" y="2283480"/>
                    <a:chExt cx="3097080" cy="1992240"/>
                  </a:xfrm>
                </p:grpSpPr>
                <p:sp>
                  <p:nvSpPr>
                    <p:cNvPr id="2888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9" name="Freeform 41"/>
                    <p:cNvSpPr/>
                    <p:nvPr/>
                  </p:nvSpPr>
                  <p:spPr>
                    <a:xfrm flipH="1" rot="20017200">
                      <a:off x="2110320" y="346392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0" name="Group 42"/>
                  <p:cNvGrpSpPr/>
                  <p:nvPr/>
                </p:nvGrpSpPr>
                <p:grpSpPr>
                  <a:xfrm>
                    <a:off x="2010960" y="2188440"/>
                    <a:ext cx="3134160" cy="1608120"/>
                    <a:chOff x="2010960" y="2188440"/>
                    <a:chExt cx="3134160" cy="1608120"/>
                  </a:xfrm>
                </p:grpSpPr>
                <p:sp>
                  <p:nvSpPr>
                    <p:cNvPr id="2891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2" name="Freeform 44"/>
                    <p:cNvSpPr/>
                    <p:nvPr/>
                  </p:nvSpPr>
                  <p:spPr>
                    <a:xfrm flipH="1" rot="20520000">
                      <a:off x="2084040" y="299088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3" name="Group 45"/>
                  <p:cNvGrpSpPr/>
                  <p:nvPr/>
                </p:nvGrpSpPr>
                <p:grpSpPr>
                  <a:xfrm>
                    <a:off x="2166840" y="2097720"/>
                    <a:ext cx="2940480" cy="1002600"/>
                    <a:chOff x="2166840" y="2097720"/>
                    <a:chExt cx="2940480" cy="1002600"/>
                  </a:xfrm>
                </p:grpSpPr>
                <p:sp>
                  <p:nvSpPr>
                    <p:cNvPr id="2894" name="Freeform 46"/>
                    <p:cNvSpPr/>
                    <p:nvPr/>
                  </p:nvSpPr>
                  <p:spPr>
                    <a:xfrm flipH="1" rot="21136800">
                      <a:off x="3184920" y="2223720"/>
                      <a:ext cx="190512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5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42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6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897" name="Freeform 49"/>
                    <p:cNvSpPr/>
                    <p:nvPr/>
                  </p:nvSpPr>
                  <p:spPr>
                    <a:xfrm flipH="1" rot="84600">
                      <a:off x="3327840" y="2070720"/>
                      <a:ext cx="173088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8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9" name="Group 51"/>
                  <p:cNvGrpSpPr/>
                  <p:nvPr/>
                </p:nvGrpSpPr>
                <p:grpSpPr>
                  <a:xfrm>
                    <a:off x="2761200" y="1522440"/>
                    <a:ext cx="2363400" cy="787320"/>
                    <a:chOff x="2761200" y="1522440"/>
                    <a:chExt cx="2363400" cy="787320"/>
                  </a:xfrm>
                </p:grpSpPr>
                <p:sp>
                  <p:nvSpPr>
                    <p:cNvPr id="2900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1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02" name="Group 54"/>
                  <p:cNvGrpSpPr/>
                  <p:nvPr/>
                </p:nvGrpSpPr>
                <p:grpSpPr>
                  <a:xfrm>
                    <a:off x="2887560" y="1236600"/>
                    <a:ext cx="2324880" cy="1083960"/>
                    <a:chOff x="2887560" y="1236600"/>
                    <a:chExt cx="2324880" cy="1083960"/>
                  </a:xfrm>
                </p:grpSpPr>
                <p:sp>
                  <p:nvSpPr>
                    <p:cNvPr id="2903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10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4" name="Freeform 56"/>
                    <p:cNvSpPr/>
                    <p:nvPr/>
                  </p:nvSpPr>
                  <p:spPr>
                    <a:xfrm flipH="1" rot="1278000">
                      <a:off x="2935080" y="1370520"/>
                      <a:ext cx="81684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05" name="Group 57"/>
                  <p:cNvGrpSpPr/>
                  <p:nvPr/>
                </p:nvGrpSpPr>
                <p:grpSpPr>
                  <a:xfrm>
                    <a:off x="3161160" y="831240"/>
                    <a:ext cx="2170080" cy="1508040"/>
                    <a:chOff x="3161160" y="831240"/>
                    <a:chExt cx="2170080" cy="1508040"/>
                  </a:xfrm>
                </p:grpSpPr>
                <p:sp>
                  <p:nvSpPr>
                    <p:cNvPr id="2906" name="Freeform 58"/>
                    <p:cNvSpPr/>
                    <p:nvPr/>
                  </p:nvSpPr>
                  <p:spPr>
                    <a:xfrm flipH="1" rot="2028600">
                      <a:off x="3864960" y="16732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7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08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909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0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11" name="Group 63"/>
                  <p:cNvGrpSpPr/>
                  <p:nvPr/>
                </p:nvGrpSpPr>
                <p:grpSpPr>
                  <a:xfrm>
                    <a:off x="4027320" y="335160"/>
                    <a:ext cx="1460520" cy="1886400"/>
                    <a:chOff x="4027320" y="335160"/>
                    <a:chExt cx="1460520" cy="1886400"/>
                  </a:xfrm>
                </p:grpSpPr>
                <p:sp>
                  <p:nvSpPr>
                    <p:cNvPr id="2912" name="Freeform 64"/>
                    <p:cNvSpPr/>
                    <p:nvPr/>
                  </p:nvSpPr>
                  <p:spPr>
                    <a:xfrm flipH="1" rot="3474000">
                      <a:off x="4337640" y="1444320"/>
                      <a:ext cx="13557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3" name="Freeform 65"/>
                    <p:cNvSpPr/>
                    <p:nvPr/>
                  </p:nvSpPr>
                  <p:spPr>
                    <a:xfrm flipH="1" rot="3474000">
                      <a:off x="4032720" y="545400"/>
                      <a:ext cx="72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14" name="Group 66"/>
                  <p:cNvGrpSpPr/>
                  <p:nvPr/>
                </p:nvGrpSpPr>
                <p:grpSpPr>
                  <a:xfrm>
                    <a:off x="4448160" y="245160"/>
                    <a:ext cx="1122120" cy="1946520"/>
                    <a:chOff x="4448160" y="245160"/>
                    <a:chExt cx="1122120" cy="1946520"/>
                  </a:xfrm>
                </p:grpSpPr>
                <p:sp>
                  <p:nvSpPr>
                    <p:cNvPr id="2915" name="Freeform 67"/>
                    <p:cNvSpPr/>
                    <p:nvPr/>
                  </p:nvSpPr>
                  <p:spPr>
                    <a:xfrm flipH="1" rot="4126800">
                      <a:off x="4556520" y="1402200"/>
                      <a:ext cx="130716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6" name="Freeform 68"/>
                    <p:cNvSpPr/>
                    <p:nvPr/>
                  </p:nvSpPr>
                  <p:spPr>
                    <a:xfrm flipH="1" rot="4126800">
                      <a:off x="4417200" y="439920"/>
                      <a:ext cx="70236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17" name="Group 69"/>
                  <p:cNvGrpSpPr/>
                  <p:nvPr/>
                </p:nvGrpSpPr>
                <p:grpSpPr>
                  <a:xfrm>
                    <a:off x="5661720" y="952200"/>
                    <a:ext cx="2316960" cy="1112400"/>
                    <a:chOff x="5661720" y="952200"/>
                    <a:chExt cx="2316960" cy="1112400"/>
                  </a:xfrm>
                </p:grpSpPr>
                <p:sp>
                  <p:nvSpPr>
                    <p:cNvPr id="2918" name="Freeform 70"/>
                    <p:cNvSpPr/>
                    <p:nvPr/>
                  </p:nvSpPr>
                  <p:spPr>
                    <a:xfrm rot="20274000">
                      <a:off x="5655600" y="15235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9" name="Freeform 71"/>
                    <p:cNvSpPr/>
                    <p:nvPr/>
                  </p:nvSpPr>
                  <p:spPr>
                    <a:xfrm rot="20274000">
                      <a:off x="7112880" y="1090440"/>
                      <a:ext cx="81684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0" name="Group 72"/>
                  <p:cNvGrpSpPr/>
                  <p:nvPr/>
                </p:nvGrpSpPr>
                <p:grpSpPr>
                  <a:xfrm>
                    <a:off x="5529600" y="626760"/>
                    <a:ext cx="2199600" cy="1450800"/>
                    <a:chOff x="5529600" y="626760"/>
                    <a:chExt cx="2199600" cy="1450800"/>
                  </a:xfrm>
                </p:grpSpPr>
                <p:sp>
                  <p:nvSpPr>
                    <p:cNvPr id="2921" name="Freeform 73"/>
                    <p:cNvSpPr/>
                    <p:nvPr/>
                  </p:nvSpPr>
                  <p:spPr>
                    <a:xfrm rot="19678800">
                      <a:off x="5484240" y="14299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2" name="Freeform 74"/>
                    <p:cNvSpPr/>
                    <p:nvPr/>
                  </p:nvSpPr>
                  <p:spPr>
                    <a:xfrm rot="19678800">
                      <a:off x="6864480" y="810720"/>
                      <a:ext cx="8157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23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4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5" name="Group 77"/>
                  <p:cNvGrpSpPr/>
                  <p:nvPr/>
                </p:nvGrpSpPr>
                <p:grpSpPr>
                  <a:xfrm>
                    <a:off x="5355720" y="270360"/>
                    <a:ext cx="1196280" cy="1901160"/>
                    <a:chOff x="5355720" y="270360"/>
                    <a:chExt cx="1196280" cy="1901160"/>
                  </a:xfrm>
                </p:grpSpPr>
                <p:sp>
                  <p:nvSpPr>
                    <p:cNvPr id="2926" name="Freeform 78"/>
                    <p:cNvSpPr/>
                    <p:nvPr/>
                  </p:nvSpPr>
                  <p:spPr>
                    <a:xfrm rot="17742000">
                      <a:off x="5087160" y="1418400"/>
                      <a:ext cx="1309680" cy="2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7" name="Freeform 79"/>
                    <p:cNvSpPr/>
                    <p:nvPr/>
                  </p:nvSpPr>
                  <p:spPr>
                    <a:xfrm rot="17742000">
                      <a:off x="5888520" y="486000"/>
                      <a:ext cx="702360" cy="35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8" name="Group 80"/>
                  <p:cNvGrpSpPr/>
                  <p:nvPr/>
                </p:nvGrpSpPr>
                <p:grpSpPr>
                  <a:xfrm>
                    <a:off x="5347440" y="389160"/>
                    <a:ext cx="1892520" cy="1796400"/>
                    <a:chOff x="5347440" y="389160"/>
                    <a:chExt cx="1892520" cy="1796400"/>
                  </a:xfrm>
                </p:grpSpPr>
                <p:sp>
                  <p:nvSpPr>
                    <p:cNvPr id="2929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0" name="Freeform 82"/>
                    <p:cNvSpPr/>
                    <p:nvPr/>
                  </p:nvSpPr>
                  <p:spPr>
                    <a:xfrm rot="18822600">
                      <a:off x="6403320" y="585000"/>
                      <a:ext cx="766080" cy="52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31" name="Group 83"/>
                  <p:cNvGrpSpPr/>
                  <p:nvPr/>
                </p:nvGrpSpPr>
                <p:grpSpPr>
                  <a:xfrm>
                    <a:off x="5458320" y="292680"/>
                    <a:ext cx="427320" cy="1795680"/>
                    <a:chOff x="5458320" y="292680"/>
                    <a:chExt cx="427320" cy="1795680"/>
                  </a:xfrm>
                </p:grpSpPr>
                <p:sp>
                  <p:nvSpPr>
                    <p:cNvPr id="2932" name="Freeform 84"/>
                    <p:cNvSpPr/>
                    <p:nvPr/>
                  </p:nvSpPr>
                  <p:spPr>
                    <a:xfrm rot="16696200">
                      <a:off x="5007600" y="1445400"/>
                      <a:ext cx="117576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3" name="Freeform 85"/>
                    <p:cNvSpPr/>
                    <p:nvPr/>
                  </p:nvSpPr>
                  <p:spPr>
                    <a:xfrm rot="16696200">
                      <a:off x="5442480" y="533520"/>
                      <a:ext cx="63108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34" name="Group 86"/>
                  <p:cNvGrpSpPr/>
                  <p:nvPr/>
                </p:nvGrpSpPr>
                <p:grpSpPr>
                  <a:xfrm>
                    <a:off x="3062520" y="2530800"/>
                    <a:ext cx="2196000" cy="3002400"/>
                    <a:chOff x="3062520" y="2530800"/>
                    <a:chExt cx="2196000" cy="3002400"/>
                  </a:xfrm>
                </p:grpSpPr>
                <p:sp>
                  <p:nvSpPr>
                    <p:cNvPr id="2935" name="Freeform 87"/>
                    <p:cNvSpPr/>
                    <p:nvPr/>
                  </p:nvSpPr>
                  <p:spPr>
                    <a:xfrm flipH="1" rot="18336000">
                      <a:off x="3419640" y="3314880"/>
                      <a:ext cx="212652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6" name="Freeform 88"/>
                    <p:cNvSpPr/>
                    <p:nvPr/>
                  </p:nvSpPr>
                  <p:spPr>
                    <a:xfrm flipH="1" rot="18336000">
                      <a:off x="3069720" y="4591800"/>
                      <a:ext cx="11390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37" name="Group 89"/>
                  <p:cNvGrpSpPr/>
                  <p:nvPr/>
                </p:nvGrpSpPr>
                <p:grpSpPr>
                  <a:xfrm>
                    <a:off x="3791520" y="2650680"/>
                    <a:ext cx="1482120" cy="2999880"/>
                    <a:chOff x="3791520" y="2650680"/>
                    <a:chExt cx="1482120" cy="2999880"/>
                  </a:xfrm>
                </p:grpSpPr>
                <p:sp>
                  <p:nvSpPr>
                    <p:cNvPr id="2938" name="Freeform 90"/>
                    <p:cNvSpPr/>
                    <p:nvPr/>
                  </p:nvSpPr>
                  <p:spPr>
                    <a:xfrm flipH="1" rot="17543400">
                      <a:off x="3737520" y="3441240"/>
                      <a:ext cx="196740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9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40" name="Group 92"/>
                  <p:cNvGrpSpPr/>
                  <p:nvPr/>
                </p:nvGrpSpPr>
                <p:grpSpPr>
                  <a:xfrm>
                    <a:off x="4509000" y="2703600"/>
                    <a:ext cx="874080" cy="2926800"/>
                    <a:chOff x="4509000" y="2703600"/>
                    <a:chExt cx="874080" cy="2926800"/>
                  </a:xfrm>
                </p:grpSpPr>
                <p:sp>
                  <p:nvSpPr>
                    <p:cNvPr id="2941" name="Freeform 93"/>
                    <p:cNvSpPr/>
                    <p:nvPr/>
                  </p:nvSpPr>
                  <p:spPr>
                    <a:xfrm flipH="1" rot="16870800">
                      <a:off x="4087080" y="3489480"/>
                      <a:ext cx="188676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2" name="Freeform 94"/>
                    <p:cNvSpPr/>
                    <p:nvPr/>
                  </p:nvSpPr>
                  <p:spPr>
                    <a:xfrm flipH="1" rot="16870800">
                      <a:off x="4366800" y="4809600"/>
                      <a:ext cx="1012320" cy="54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43" name="Group 95"/>
                  <p:cNvGrpSpPr/>
                  <p:nvPr/>
                </p:nvGrpSpPr>
                <p:grpSpPr>
                  <a:xfrm>
                    <a:off x="5677920" y="2483640"/>
                    <a:ext cx="2280600" cy="2952720"/>
                    <a:chOff x="5677920" y="2483640"/>
                    <a:chExt cx="2280600" cy="2952720"/>
                  </a:xfrm>
                </p:grpSpPr>
                <p:sp>
                  <p:nvSpPr>
                    <p:cNvPr id="2944" name="Freeform 96"/>
                    <p:cNvSpPr/>
                    <p:nvPr/>
                  </p:nvSpPr>
                  <p:spPr>
                    <a:xfrm rot="3144000">
                      <a:off x="5415120" y="3251160"/>
                      <a:ext cx="21265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5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46" name="Group 98"/>
                  <p:cNvGrpSpPr/>
                  <p:nvPr/>
                </p:nvGrpSpPr>
                <p:grpSpPr>
                  <a:xfrm>
                    <a:off x="5647680" y="2593440"/>
                    <a:ext cx="1758600" cy="3032640"/>
                    <a:chOff x="5647680" y="2593440"/>
                    <a:chExt cx="1758600" cy="3032640"/>
                  </a:xfrm>
                </p:grpSpPr>
                <p:sp>
                  <p:nvSpPr>
                    <p:cNvPr id="2947" name="Freeform 99"/>
                    <p:cNvSpPr/>
                    <p:nvPr/>
                  </p:nvSpPr>
                  <p:spPr>
                    <a:xfrm rot="3745200">
                      <a:off x="5265000" y="3395880"/>
                      <a:ext cx="2034720" cy="36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8" name="Freeform 100"/>
                    <p:cNvSpPr/>
                    <p:nvPr/>
                  </p:nvSpPr>
                  <p:spPr>
                    <a:xfrm rot="3745200">
                      <a:off x="6352200" y="4720320"/>
                      <a:ext cx="1090800" cy="57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49" name="Group 101"/>
                  <p:cNvGrpSpPr/>
                  <p:nvPr/>
                </p:nvGrpSpPr>
                <p:grpSpPr>
                  <a:xfrm>
                    <a:off x="5576400" y="2710800"/>
                    <a:ext cx="1225080" cy="2986560"/>
                    <a:chOff x="5576400" y="2710800"/>
                    <a:chExt cx="1225080" cy="2986560"/>
                  </a:xfrm>
                </p:grpSpPr>
                <p:sp>
                  <p:nvSpPr>
                    <p:cNvPr id="2950" name="Freeform 102"/>
                    <p:cNvSpPr/>
                    <p:nvPr/>
                  </p:nvSpPr>
                  <p:spPr>
                    <a:xfrm rot="4286400">
                      <a:off x="5046840" y="3543120"/>
                      <a:ext cx="197352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1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2" name="Group 104"/>
                  <p:cNvGrpSpPr/>
                  <p:nvPr/>
                </p:nvGrpSpPr>
                <p:grpSpPr>
                  <a:xfrm>
                    <a:off x="5521320" y="2840400"/>
                    <a:ext cx="696960" cy="2778120"/>
                    <a:chOff x="5521320" y="2840400"/>
                    <a:chExt cx="696960" cy="2778120"/>
                  </a:xfrm>
                </p:grpSpPr>
                <p:sp>
                  <p:nvSpPr>
                    <p:cNvPr id="2953" name="Freeform 105"/>
                    <p:cNvSpPr/>
                    <p:nvPr/>
                  </p:nvSpPr>
                  <p:spPr>
                    <a:xfrm rot="4898400">
                      <a:off x="4896720" y="3607200"/>
                      <a:ext cx="1812960" cy="30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4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5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956" name="Freeform 108"/>
                    <p:cNvSpPr/>
                    <p:nvPr/>
                  </p:nvSpPr>
                  <p:spPr>
                    <a:xfrm rot="5755200">
                      <a:off x="4532040" y="3665160"/>
                      <a:ext cx="1771920" cy="23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7" name="Freeform 109"/>
                    <p:cNvSpPr/>
                    <p:nvPr/>
                  </p:nvSpPr>
                  <p:spPr>
                    <a:xfrm rot="5755200">
                      <a:off x="4714560" y="4932360"/>
                      <a:ext cx="950760" cy="36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58" name="Group 110"/>
              <p:cNvGrpSpPr/>
              <p:nvPr/>
            </p:nvGrpSpPr>
            <p:grpSpPr>
              <a:xfrm>
                <a:off x="2175480" y="682560"/>
                <a:ext cx="6731280" cy="4521240"/>
                <a:chOff x="2175480" y="682560"/>
                <a:chExt cx="6731280" cy="4521240"/>
              </a:xfrm>
            </p:grpSpPr>
            <p:grpSp>
              <p:nvGrpSpPr>
                <p:cNvPr id="2959" name="Group 111"/>
                <p:cNvGrpSpPr/>
                <p:nvPr/>
              </p:nvGrpSpPr>
              <p:grpSpPr>
                <a:xfrm>
                  <a:off x="2175480" y="682560"/>
                  <a:ext cx="6731280" cy="4521240"/>
                  <a:chOff x="2175480" y="682560"/>
                  <a:chExt cx="6731280" cy="4521240"/>
                </a:xfrm>
              </p:grpSpPr>
              <p:sp>
                <p:nvSpPr>
                  <p:cNvPr id="2960" name="Arc 112"/>
                  <p:cNvSpPr/>
                  <p:nvPr/>
                </p:nvSpPr>
                <p:spPr>
                  <a:xfrm flipV="1">
                    <a:off x="5740920" y="857880"/>
                    <a:ext cx="316584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1" name="Arc 113"/>
                  <p:cNvSpPr/>
                  <p:nvPr/>
                </p:nvSpPr>
                <p:spPr>
                  <a:xfrm flipH="1">
                    <a:off x="2561760" y="2270520"/>
                    <a:ext cx="248652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2" name="Arc 114"/>
                  <p:cNvSpPr/>
                  <p:nvPr/>
                </p:nvSpPr>
                <p:spPr>
                  <a:xfrm>
                    <a:off x="581868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3" name="Arc 115"/>
                  <p:cNvSpPr/>
                  <p:nvPr/>
                </p:nvSpPr>
                <p:spPr>
                  <a:xfrm flipH="1">
                    <a:off x="2175480" y="1297800"/>
                    <a:ext cx="313272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4" name="Arc 116"/>
                  <p:cNvSpPr/>
                  <p:nvPr/>
                </p:nvSpPr>
                <p:spPr>
                  <a:xfrm flipH="1">
                    <a:off x="3057120" y="682560"/>
                    <a:ext cx="228204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5" name="Arc 117"/>
                  <p:cNvSpPr/>
                  <p:nvPr/>
                </p:nvSpPr>
                <p:spPr>
                  <a:xfrm>
                    <a:off x="5491800" y="1875960"/>
                    <a:ext cx="94068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6" name="Freeform 118"/>
                  <p:cNvSpPr/>
                  <p:nvPr/>
                </p:nvSpPr>
                <p:spPr>
                  <a:xfrm flipH="1">
                    <a:off x="430272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67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68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69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Arc 124"/>
              <p:cNvSpPr/>
              <p:nvPr/>
            </p:nvSpPr>
            <p:spPr>
              <a:xfrm flipH="1">
                <a:off x="2343600" y="1740240"/>
                <a:ext cx="293076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Freeform 127"/>
              <p:cNvSpPr/>
              <p:nvPr/>
            </p:nvSpPr>
            <p:spPr>
              <a:xfrm>
                <a:off x="6155640" y="354852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Freeform 128"/>
              <p:cNvSpPr/>
              <p:nvPr/>
            </p:nvSpPr>
            <p:spPr>
              <a:xfrm flipV="1" rot="19660800">
                <a:off x="5226840" y="294876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Freeform 129"/>
              <p:cNvSpPr/>
              <p:nvPr/>
            </p:nvSpPr>
            <p:spPr>
              <a:xfrm flipH="1">
                <a:off x="2688120" y="3385800"/>
                <a:ext cx="133848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Freeform 131"/>
              <p:cNvSpPr/>
              <p:nvPr/>
            </p:nvSpPr>
            <p:spPr>
              <a:xfrm>
                <a:off x="7513920" y="3109320"/>
                <a:ext cx="1242000" cy="1974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Freeform 133"/>
              <p:cNvSpPr/>
              <p:nvPr/>
            </p:nvSpPr>
            <p:spPr>
              <a:xfrm>
                <a:off x="6937920" y="71424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Freeform 134"/>
              <p:cNvSpPr/>
              <p:nvPr/>
            </p:nvSpPr>
            <p:spPr>
              <a:xfrm flipH="1" rot="1347000">
                <a:off x="4183920" y="2155680"/>
                <a:ext cx="54396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5" name="PlaceHolder 3"/>
          <p:cNvSpPr>
            <a:spLocks noGrp="1"/>
          </p:cNvSpPr>
          <p:nvPr>
            <p:ph type="dt" idx="1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6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7" name="PlaceHolder 5"/>
          <p:cNvSpPr>
            <a:spLocks noGrp="1"/>
          </p:cNvSpPr>
          <p:nvPr>
            <p:ph type="sldNum" idx="10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3059-C2DF-42B1-B3CE-8C98F3D48AF4}" type="slidenum">
              <a:rPr b="0" lang="ar-SA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302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5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5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r" rtl="1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 algn="r" rtl="1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 algn="r" rtl="1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PlaceHolder 3"/>
          <p:cNvSpPr>
            <a:spLocks noGrp="1"/>
          </p:cNvSpPr>
          <p:nvPr>
            <p:ph type="dt" idx="10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2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F447-0985-4C20-801B-C68373303A0F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9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3100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1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2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03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104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5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6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7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8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9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0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1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2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3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4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5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6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17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8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9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0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1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2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3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4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5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6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7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28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129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0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1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2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3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34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5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8" name="PlaceHolder 3"/>
          <p:cNvSpPr>
            <a:spLocks noGrp="1"/>
          </p:cNvSpPr>
          <p:nvPr>
            <p:ph type="dt" idx="10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9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0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BFA7-AEE3-49CA-BB22-16E315CB55F4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3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97BB-7BC9-44D2-92AD-9EC08A306D9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9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79CD-373F-4BD8-9799-BD01C2E0BE88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7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9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0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1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2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3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8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0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99C8-2712-4E0E-8657-5E67B67C8213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1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971B-A74E-48BF-8DF2-05001550065C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 algn="r" rtl="1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 algn="r" rtl="1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811C-E088-46A8-BE4B-D9F003D33540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2237-3476-4AE9-B536-7DF4376AD780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4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5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5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6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6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7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7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4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475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7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7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7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cc"/>
                </a:solidFill>
                <a:latin typeface="Tahoma"/>
                <a:cs typeface="Traditional Arabic"/>
              </a:rPr>
              <a:t>الاسلام وبناء المجتمع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7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ahoma"/>
                <a:cs typeface="Bold Italic Art"/>
              </a:rPr>
              <a:t>سمات المجتمع الاسلامي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9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Comic Sans MS"/>
                <a:cs typeface="Mudir MT"/>
              </a:rPr>
              <a:t>ثالثاً :-</a:t>
            </a:r>
            <a:r>
              <a:rPr b="0" lang="ar-S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 algn="r" rt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ar-SA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ar-SA" sz="7200" spc="-1" strike="noStrike">
                <a:solidFill>
                  <a:srgbClr val="ffffff"/>
                </a:solidFill>
                <a:latin typeface="Comic Sans MS"/>
                <a:cs typeface="Arabic Typesetting"/>
              </a:rPr>
              <a:t>صلاة العيدين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98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2f1311"/>
                </a:solidFill>
                <a:latin typeface="Arial"/>
                <a:cs typeface="Arabic Typesetting"/>
              </a:rPr>
              <a:t>رابعاً : - 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r" rt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ar-SA" sz="7200" spc="-1" strike="noStrike">
                <a:solidFill>
                  <a:srgbClr val="2f1311"/>
                </a:solidFill>
                <a:latin typeface="Arial"/>
                <a:cs typeface="Arabic Typesetting"/>
              </a:rPr>
              <a:t>صلاة الجنازة</a:t>
            </a:r>
            <a:r>
              <a:rPr b="0" lang="ar-SA" sz="7200" spc="-1" strike="noStrike">
                <a:solidFill>
                  <a:srgbClr val="2f1311"/>
                </a:solidFill>
                <a:latin typeface="Arial"/>
                <a:ea typeface="Arabic Typesetting"/>
              </a:rPr>
              <a:t> </a:t>
            </a:r>
            <a:endParaRPr b="0" lang="en-US" sz="7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Verdana"/>
                <a:cs typeface="Mudir MT"/>
              </a:rPr>
              <a:t>ب- تشريع الاسلام للواجبات الاجتماعية الخاصة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Garamond"/>
                <a:cs typeface="Mudir MT"/>
              </a:rPr>
              <a:t>أولاً :-</a:t>
            </a:r>
            <a:r>
              <a:rPr b="0" lang="ar-SA" sz="4800" spc="-1" strike="noStrike">
                <a:solidFill>
                  <a:srgbClr val="ffffff"/>
                </a:solidFill>
                <a:latin typeface="Garamond"/>
                <a:ea typeface="Mudir MT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Garamond"/>
                <a:ea typeface="Mudir MT"/>
              </a:rPr>
              <a:t>	</a:t>
            </a:r>
            <a:r>
              <a:rPr b="0" lang="ar-SA" sz="4800" spc="-1" strike="noStrike">
                <a:solidFill>
                  <a:srgbClr val="ffffff"/>
                </a:solidFill>
                <a:latin typeface="Garamond"/>
                <a:ea typeface="Mudir MT"/>
              </a:rPr>
              <a:t>	</a:t>
            </a:r>
            <a:r>
              <a:rPr b="0" lang="ar-SA" sz="4800" spc="-1" strike="noStrike">
                <a:solidFill>
                  <a:srgbClr val="ffffff"/>
                </a:solidFill>
                <a:latin typeface="Garamond"/>
                <a:ea typeface="Mudir MT"/>
              </a:rPr>
              <a:t>	</a:t>
            </a:r>
            <a:r>
              <a:rPr b="0" lang="ar-SA" sz="4800" spc="-1" strike="noStrike">
                <a:solidFill>
                  <a:srgbClr val="ffffff"/>
                </a:solidFill>
                <a:latin typeface="Garamond"/>
                <a:ea typeface="Mudir M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Garamond"/>
                <a:cs typeface="Mudir MT"/>
              </a:rPr>
              <a:t>بر الوالدين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204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rabic Typesetting"/>
              </a:rPr>
              <a:t>ثانياً :-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Arial"/>
                <a:ea typeface="Arabic Typesetting"/>
              </a:rPr>
              <a:t>	</a:t>
            </a:r>
            <a:r>
              <a:rPr b="0" lang="ar-SA" sz="6000" spc="-1" strike="noStrike">
                <a:solidFill>
                  <a:srgbClr val="ffffff"/>
                </a:solidFill>
                <a:latin typeface="Arial"/>
                <a:ea typeface="Arabic Typesetting"/>
              </a:rPr>
              <a:t>	</a:t>
            </a:r>
            <a:r>
              <a:rPr b="0" lang="ar-SA" sz="6000" spc="-1" strike="noStrike">
                <a:solidFill>
                  <a:srgbClr val="ffffff"/>
                </a:solidFill>
                <a:latin typeface="Arial"/>
                <a:ea typeface="Arabic Typesetting"/>
              </a:rPr>
              <a:t>	</a:t>
            </a:r>
            <a:r>
              <a:rPr b="0" lang="ar-SA" sz="6000" spc="-1" strike="noStrike">
                <a:solidFill>
                  <a:srgbClr val="ffffff"/>
                </a:solidFill>
                <a:latin typeface="Arial"/>
                <a:ea typeface="Arabic Typesetting"/>
              </a:rPr>
              <a:t>	</a:t>
            </a:r>
            <a:r>
              <a:rPr b="1" lang="ar-SA" sz="6000" spc="-1" strike="noStrike">
                <a:solidFill>
                  <a:srgbClr val="ffffff"/>
                </a:solidFill>
                <a:latin typeface="Arial"/>
                <a:cs typeface="Arabic Typesetting"/>
              </a:rPr>
              <a:t>صلة الأرحام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6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Arial"/>
                <a:cs typeface="Arabic Typesetting"/>
              </a:rPr>
              <a:t>ثالثاً :-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Arial"/>
                <a:ea typeface="Arabic Typesetting"/>
              </a:rPr>
              <a:t>	</a:t>
            </a:r>
            <a:r>
              <a:rPr b="1" lang="ar-SA" sz="4800" spc="-1" strike="noStrike">
                <a:solidFill>
                  <a:srgbClr val="eaeaea"/>
                </a:solidFill>
                <a:latin typeface="Arial"/>
                <a:ea typeface="Arabic Typesetting"/>
              </a:rPr>
              <a:t>	</a:t>
            </a:r>
            <a:r>
              <a:rPr b="1" lang="ar-SA" sz="4800" spc="-1" strike="noStrike">
                <a:solidFill>
                  <a:srgbClr val="eaeaea"/>
                </a:solidFill>
                <a:latin typeface="Arial"/>
                <a:ea typeface="Arabic Typesetting"/>
              </a:rPr>
              <a:t>	</a:t>
            </a:r>
            <a:r>
              <a:rPr b="1" lang="ar-SA" sz="4800" spc="-1" strike="noStrike">
                <a:solidFill>
                  <a:srgbClr val="eaeaea"/>
                </a:solidFill>
                <a:latin typeface="Arial"/>
                <a:cs typeface="Mudir MT"/>
              </a:rPr>
              <a:t>الإحسان إلى الجيران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08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ahoma"/>
                <a:cs typeface="Arabic Typesetting"/>
              </a:rPr>
              <a:t>دعوة الإسلام إلى أسباب التألف الإجتماعي العام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10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أولاً :-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إفشاء السلام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ial Black"/>
              </a:rPr>
              <a:t>ثانياً :-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 rtl="1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00"/>
                </a:solidFill>
                <a:latin typeface="Arial Black"/>
                <a:cs typeface="Andalus"/>
              </a:rPr>
              <a:t>توفير الكبار والعطف على الصغار 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14" name=""/>
          <p:cNvSpPr txBox="1"/>
          <p:nvPr/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ثالثاً :-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4800" spc="-1" strike="noStrike">
                <a:solidFill>
                  <a:srgbClr val="ffffff"/>
                </a:solidFill>
                <a:latin typeface="Tahoma"/>
                <a:cs typeface="Andalus"/>
              </a:rPr>
              <a:t>أسباب أخرى كـــــ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Mudir MT"/>
              </a:rPr>
              <a:t>تبادل الزيارات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Mudir MT"/>
              </a:rPr>
              <a:t>تشميت العاطس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سمة الأولى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Book Antiqua"/>
                <a:cs typeface="Bold Italic Art"/>
              </a:rPr>
              <a:t>إنه مجتمع متلزم بالشرع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1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د/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دعوة الإسلام إلى الاخلاق الفاضلة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Tahoma"/>
                <a:cs typeface="Mudir MT"/>
              </a:rPr>
              <a:t>أولاً :-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7200" spc="-1" strike="noStrike">
                <a:solidFill>
                  <a:srgbClr val="ffffff"/>
                </a:solidFill>
                <a:latin typeface="Tahoma"/>
                <a:cs typeface="Andalus"/>
              </a:rPr>
              <a:t>الصدق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2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ndalus"/>
              </a:rPr>
              <a:t>ثانياً :-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10600" spc="-1" strike="noStrike">
                <a:solidFill>
                  <a:srgbClr val="ffffff"/>
                </a:solidFill>
                <a:latin typeface="Tahoma"/>
                <a:cs typeface="Arabic Typesetting"/>
              </a:rPr>
              <a:t>الحياء </a:t>
            </a:r>
            <a:endParaRPr b="0" lang="en-US" sz="10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100" spc="-1" strike="noStrike">
                <a:solidFill>
                  <a:srgbClr val="ffffff"/>
                </a:solidFill>
                <a:latin typeface="Arial"/>
                <a:cs typeface="Arabic Typesetting"/>
              </a:rPr>
              <a:t>ثالثاً :- 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700" spc="-1" strike="noStrike">
                <a:solidFill>
                  <a:srgbClr val="ffffff"/>
                </a:solidFill>
                <a:latin typeface="Arial"/>
                <a:ea typeface="Mudir MT"/>
              </a:rPr>
              <a:t>	</a:t>
            </a:r>
            <a:r>
              <a:rPr b="0" lang="ar-SA" sz="4700" spc="-1" strike="noStrike">
                <a:solidFill>
                  <a:srgbClr val="ffffff"/>
                </a:solidFill>
                <a:latin typeface="Arial"/>
                <a:cs typeface="Mudir MT"/>
              </a:rPr>
              <a:t>البشاشة وطلاقة الوجه</a:t>
            </a: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Verdana"/>
                <a:cs typeface="Arabic Typesetting"/>
              </a:rPr>
              <a:t>رابعاً :-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  <a:cs typeface="Andalus"/>
              </a:rPr>
              <a:t>أخلاق أخرى كـــــ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  <a:cs typeface="Mudir MT"/>
              </a:rPr>
              <a:t>طيب الكلام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  <a:cs typeface="Mudir MT"/>
              </a:rPr>
              <a:t>والتواض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  <a:cs typeface="Mudir MT"/>
              </a:rPr>
              <a:t>الامانة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26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هــ/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Mudir MT"/>
              </a:rPr>
              <a:t>تشريع الاسلام للتكافل الاجتماعي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2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ahoma"/>
                <a:cs typeface="Andalus"/>
              </a:rPr>
              <a:t>أولاً :-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4800" spc="-1" strike="noStrike">
                <a:solidFill>
                  <a:srgbClr val="ffffff"/>
                </a:solidFill>
                <a:latin typeface="Tahoma"/>
                <a:cs typeface="Mudir MT"/>
              </a:rPr>
              <a:t>تشريع فريضة الزكاة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3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Arial"/>
                <a:cs typeface="Andalus"/>
              </a:rPr>
              <a:t>ثانياً :-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ar-SA" sz="4800" spc="-1" strike="noStrike">
                <a:solidFill>
                  <a:srgbClr val="ffffff"/>
                </a:solidFill>
                <a:latin typeface="Arial"/>
                <a:cs typeface="Andalus"/>
              </a:rPr>
              <a:t>تشريع زكاة الفطر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ahoma"/>
                <a:cs typeface="Andalus"/>
              </a:rPr>
              <a:t>ثالثاً :-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ar-SA" sz="4800" spc="-1" strike="noStrike">
                <a:solidFill>
                  <a:srgbClr val="ffffff"/>
                </a:solidFill>
                <a:latin typeface="Tahoma"/>
                <a:cs typeface="Mudir MT"/>
              </a:rPr>
              <a:t>تشريع النفقات الواجبة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3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  <a:cs typeface="Andalus"/>
              </a:rPr>
              <a:t>رابعاً :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udir MT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udir MT"/>
              </a:rPr>
              <a:t>       تشريع واجبات مالية آخرى كالنذور والكفارات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سمة الثانية 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82" name=""/>
          <p:cNvSpPr txBox="1"/>
          <p:nvPr/>
        </p:nvSpPr>
        <p:spPr>
          <a:xfrm>
            <a:off x="468360" y="177300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 rtl="1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ff"/>
                </a:solidFill>
                <a:latin typeface="Arial"/>
                <a:cs typeface="Bold Italic Art"/>
              </a:rPr>
              <a:t>أنه مجتمع جاد 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eec94"/>
                </a:solidFill>
                <a:latin typeface="Times New Roman"/>
                <a:cs typeface="Simplified Arabic"/>
              </a:rPr>
              <a:t>السمة الثالثة 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8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 rtl="1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ff"/>
                </a:solidFill>
                <a:latin typeface="Times New Roman"/>
                <a:cs typeface="Bold Italic Art"/>
              </a:rPr>
              <a:t>انه مجتمع متسامح</a:t>
            </a:r>
            <a:r>
              <a:rPr b="0" lang="ar-SA" sz="6600" spc="-1" strike="noStrike">
                <a:solidFill>
                  <a:srgbClr val="ffffff"/>
                </a:solidFill>
                <a:latin typeface="Times New Roman"/>
                <a:ea typeface="Andalus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cc"/>
                </a:solidFill>
                <a:latin typeface="Tahoma"/>
                <a:cs typeface="Andalus"/>
              </a:rPr>
              <a:t>السمة الرابعة 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 rt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Bold Italic Art"/>
              </a:rPr>
              <a:t>أنه مجتمع آمن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cc"/>
                </a:solidFill>
                <a:latin typeface="Tahoma"/>
                <a:cs typeface="Mudir MT"/>
              </a:rPr>
              <a:t>الاسلام وبناء المجتمع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8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ahoma"/>
                <a:cs typeface="Bold Italic Art"/>
              </a:rPr>
              <a:t>أسباب تقوية الروابط الاجتماعية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9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 rtl="1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Arial"/>
                <a:cs typeface="Arabic Typesetting"/>
              </a:rPr>
              <a:t>أ- تشريع صلاة الجماعة والجمعة والعيدين والجنازة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9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Tahoma"/>
                <a:cs typeface="Mudir MT"/>
              </a:rPr>
              <a:t>أولاً :-</a:t>
            </a:r>
            <a:r>
              <a:rPr b="0" lang="ar-SA" sz="5400" spc="-1" strike="noStrike">
                <a:solidFill>
                  <a:srgbClr val="ffffff"/>
                </a:solidFill>
                <a:latin typeface="Tahoma"/>
                <a:ea typeface="Arabic Typesetting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Tahoma"/>
                <a:ea typeface="Arabic Typesetting"/>
              </a:rPr>
              <a:t>	</a:t>
            </a:r>
            <a:r>
              <a:rPr b="0" lang="ar-SA" sz="6000" spc="-1" strike="noStrike">
                <a:solidFill>
                  <a:srgbClr val="ffffff"/>
                </a:solidFill>
                <a:latin typeface="Tahoma"/>
                <a:ea typeface="Arabic Typesetting"/>
              </a:rPr>
              <a:t>	</a:t>
            </a:r>
            <a:r>
              <a:rPr b="0" lang="ar-SA" sz="6000" spc="-1" strike="noStrike">
                <a:solidFill>
                  <a:srgbClr val="ffffff"/>
                </a:solidFill>
                <a:latin typeface="Tahoma"/>
                <a:ea typeface="Arabic Typesetting"/>
              </a:rPr>
              <a:t>	</a:t>
            </a:r>
            <a:r>
              <a:rPr b="0" lang="ar-SA" sz="6000" spc="-1" strike="noStrike">
                <a:solidFill>
                  <a:srgbClr val="ffffff"/>
                </a:solidFill>
                <a:latin typeface="Tahoma"/>
                <a:ea typeface="Arabic Typesetting"/>
              </a:rPr>
              <a:t>        </a:t>
            </a: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Arabic Typesetting"/>
              </a:rPr>
              <a:t>صلاة الجماعة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r" rtl="1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700" spc="-1" strike="noStrike">
                <a:solidFill>
                  <a:srgbClr val="ffffff"/>
                </a:solidFill>
                <a:latin typeface="Verdana"/>
                <a:cs typeface="Mudir MT"/>
              </a:rPr>
              <a:t>ثانياً :- 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1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ar-SA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ar-SA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ar-SA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ar-SA" sz="7100" spc="-1" strike="noStrike">
                <a:solidFill>
                  <a:srgbClr val="ffffff"/>
                </a:solidFill>
                <a:latin typeface="Verdana"/>
                <a:cs typeface="Arabic Typesetting"/>
              </a:rPr>
              <a:t>صلاة الجمعة </a:t>
            </a:r>
            <a:endParaRPr b="0" lang="en-US" sz="7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11:00:13Z</dcterms:created>
  <dc:creator>DELL N5010</dc:creator>
  <dc:description/>
  <dc:language>en-US</dc:language>
  <cp:lastModifiedBy>HAPPY</cp:lastModifiedBy>
  <dcterms:modified xsi:type="dcterms:W3CDTF">2015-10-11T21:30:35Z</dcterms:modified>
  <cp:revision>5</cp:revision>
  <dc:subject/>
  <dc:title>الاسلام وبناء المجتم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