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DFD-7D1E-4445-B404-FF39CB86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477-E0B8-4A21-901F-BDCC9D3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B272B-E77C-4797-88B3-F0D0E246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88816-3C77-4119-BF69-91167F91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C0B4D-CEC2-4BFE-A3F9-A2C67816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DB831-DC9C-4CE9-A5BC-37A6391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2F3DB-EF66-4DE5-BAB7-11ADBC4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01F92-0B72-46B7-AED0-810704F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D9081-D6C6-4733-9892-DB1B477F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F25D6-2C32-4162-B21C-D34BAD6F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3E37A-B3D6-444D-8020-2A27DF16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1C694-D6D8-498B-90E9-13EB60C5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EDD-AE48-48CC-B914-F6E2307A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5ED88-93B0-4CC3-9793-366F1BE4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53821-1043-498B-AEDC-CC1D9BC6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4D7F6-A90E-484F-B75F-5EA56683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43C25-F506-480F-BC9E-49783442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B703E-5A89-42FE-8038-D5F2BFF9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50AD0-BB13-4926-A1E3-AF27179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F2350-BA4B-4CE6-A1A5-D4879A4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C0AB2-B859-4E6C-B535-E12EF1D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0CF65-A173-4DD2-B755-8A8F06CA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12D3D-1DCA-4ABC-9AFA-8E839B12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CD1-DDE8-4628-BD8C-5415114B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BBF37-1AE8-4581-9BBF-ED57D440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72691-D17F-4CE7-8DED-2CCB7CEC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F6CA7-0E85-4E35-A42B-1DC1DF8D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F8C49-CD00-4D6F-A733-03371837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975F8-7904-4217-921B-DCDDB7BD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00918-0C0A-4479-8525-A521C07E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FB756-12A7-48E6-832D-09B61BBC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B2523-2AE0-45DA-95B7-061B1BF6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9E6-ED33-48B7-B6A0-DECEB8A4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E67B1-0E3B-4452-AB49-926A3569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CB213-14B9-450F-A3E0-23D3617E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93A9D-55E5-4EB1-980D-75DCE227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436BC-6FFB-4269-9350-24AE8FE0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55C4C-A84B-42E6-9A6C-EFAC83C3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566F5-70F6-4247-9830-24AEF9CE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7293-4CEB-4F3B-A1D5-0E4156AD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49D7-43C0-412D-96D3-73834C32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81AA-39AB-4F14-A2B3-B2BFB340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3840-82CE-4B44-8C22-9C5E49BB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262-CA23-49A1-9697-37EB911A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1757-E963-4F9B-B391-8E6FF46E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CE3F6-3352-4727-8C6C-D74C1100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8DA0-892A-47CE-8A35-747E874C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8543A-419E-4F64-A294-A1271337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F2A7-6372-4A5C-A921-42866FBB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23C4-CA07-49C8-B3B1-F975706A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C2D6-733C-4E83-9368-6607F3B8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1DB1F-5670-4D76-B602-B7479FFE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584DB-F108-4280-98D2-E13C5D96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5D1FF-BD5C-4707-9FEC-3C2080FE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9F0-1BE8-4A5F-A950-63D64053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DF88-4E2D-43EF-8012-87A405CF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D0DFD-9726-4A59-AD8D-F27402C3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BD5D0-AC01-4C20-997F-FE20A74B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AC5B0-F4E7-42B6-B57F-AF18C114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94838-8C66-4A77-AF9B-77517F18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3014F-5618-41A7-BEFD-EE7C68AA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67CA-C15F-4D48-80AD-4D625770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E100A-BB86-4747-800B-E0BB5EBE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95F60-10FC-44B4-A85B-426DB659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01C94-7507-4261-B997-A09E165A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D7D-2461-4A99-B278-9038DBBD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BDAEC-C712-4260-B2FF-57734175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7EAB-A95A-4626-B73B-A95F8693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2BA66-1C07-4F5E-9FB6-2C76A054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11F66-9ED4-47DF-8ECC-13D1D08D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BDA99-D9E6-4F23-8B50-AB18BF26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1AA6F-DF27-473A-AE93-ADC01A2F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724AD-678D-4A1F-BE33-6F915CB1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FAF2-EDB2-48BB-BD25-A7F23E50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5CD02-1575-4461-A30F-4CE51E3D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F95E4-B5F8-415B-A155-18D3611E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DCD-DE8C-4A90-AE06-662F2334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E34DD-3A52-417B-BBF7-BA261395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9C502-5650-4A22-B68B-D2FB8FC9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A78B1-371A-4FB1-A810-84F62F76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19C95-B122-4AA3-B2A2-A3B443A3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4D186-08A7-4896-9E49-2FA705EE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D3C50-ECFD-478B-A7B3-A3432243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F6B7-5B6F-490D-AEFA-7BD612BA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88858-6873-4B0F-B0C1-2C8D8EAB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913F4-9D8B-4E74-B7BA-7B2CB072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1211C-A662-460A-99BE-1D96826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43D-0D62-4D50-ABF2-D9345BC2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C0A50-F1F5-47C1-8D66-D56D7162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8A197-8524-4050-A078-68272CFF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ADDCD-534D-46A1-B9D5-654F3378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23D0A-D1C1-455B-AA5F-FCDA8D43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376D9-E874-4EF2-8944-F0DD347A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6A29-CBA4-493F-BBF4-D38342B3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1871A-C8AD-4E46-B108-FBC76018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40430-C779-4DCC-8E0B-B5998514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DEABD-E3E0-4477-8979-E31EAFB5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51579-AFB7-4AAE-8BB7-0F39D258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795-F56E-40F2-94D4-11BB4590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6F474-4AB7-47CD-BA46-31DE0F3B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C0790-3A22-42E3-8F8C-F5008DF8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2A401-663F-4378-BF8F-6FAEFDC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DC8C8-5459-4916-BFE6-01D03BA4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BA9FC-1FAB-4DC4-8D3E-B9A17069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3AFD6-5D4E-4987-938E-68C6C9A2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A5DF4-A333-4D8F-AC68-80406847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5D12A-10CD-426D-A730-68E93AE9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0C009-A259-46B5-BDD5-C7370BF8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B8AA5-19D2-45A7-BD38-6752808C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C09-59A9-413A-8DD5-829F216C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201F3-A90E-4CBC-942E-03B86AD1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A1CA8-AE0A-4688-BEE2-0D01CC5A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F9E06-CE09-440D-9C28-4550522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06104-A15F-405F-A594-63DA03FB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D0167-A0FF-4939-8D58-11933711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74BF-C051-406E-B26A-B577CC47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26B9B-CD6D-4B29-8B19-DEA108E4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993E9-00FA-4AA3-B670-B1F1C2FE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EAC53-F1EE-4233-BC9B-F96330EB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BDD42-D874-42C1-A85E-7B3B29D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96A1-801F-4300-B73D-12A9246DBE2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7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7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0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1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1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7957-3479-4E8F-A531-D84A0E749E90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7C6A-4747-49B3-85C3-1313F4F8E2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1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2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2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2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3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3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3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4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4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4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5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5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5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5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6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6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6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7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7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7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8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8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8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9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9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9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0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0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0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1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1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1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2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6985-FBEE-4B48-B7E8-4AFDD653EF27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CE65-1E7C-4677-A76B-57B7E2B31AA5}" type="slidenum">
              <a:rPr b="1" lang="ar-SA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3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3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7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3DF0-547C-4D0E-8A2F-086DA0CB2C3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6CA5-9067-4F73-AF16-6537C6B3351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3A19-6CA0-4095-9FB8-A95F61DB4A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55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55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555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55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5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560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561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564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567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7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7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76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579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582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585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58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59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594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97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60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603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606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60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612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61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618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621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3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5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626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629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632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635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638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641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644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647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650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653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56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58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659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660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7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66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0FF1-5156-40DA-87ED-39CCFC2C4898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2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2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1AD5-7E4E-48F1-83C2-455744FAB910}" type="slidenum">
              <a:rPr b="1" lang="ar-SA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ndalus"/>
              </a:rPr>
              <a:t>مفهوم المجتمع المسلم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Garamond"/>
                <a:cs typeface="DecoType Naskh Variants"/>
              </a:rPr>
              <a:t>أولاً : تعريف المجتمع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ثانياً : تعريف الجماعة</a:t>
            </a:r>
            <a:r>
              <a:rPr b="0" lang="ar-SA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300" spc="-1" strike="noStrike">
                <a:solidFill>
                  <a:srgbClr val="ffffff"/>
                </a:solidFill>
                <a:latin typeface="Arial"/>
                <a:cs typeface="DecoType Naskh"/>
              </a:rPr>
              <a:t>ثالثاًَ : تعريف الأمة </a:t>
            </a:r>
            <a:endParaRPr b="0" lang="en-US" sz="9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6600"/>
                </a:solidFill>
                <a:latin typeface="Arial"/>
              </a:rPr>
              <a:t>المجتمع المسلم 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86" name="Picture 5" descr="Kaab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1413000"/>
            <a:ext cx="8496360" cy="52117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ypesetting"/>
              </a:rPr>
              <a:t>خلائق مسلمون في أرضهم مستقرون تجمعهم رابطة الإسلام ، وتدار أمورهم في ضوء تشريعات إسلامية وأحكام ، ويرعى شؤونهم ولاة أمر منهم وحكام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9" name="Organization Chart 4"/>
          <p:cNvGrpSpPr/>
          <p:nvPr/>
        </p:nvGrpSpPr>
        <p:grpSpPr>
          <a:xfrm>
            <a:off x="457200" y="1600200"/>
            <a:ext cx="8229240" cy="4529160"/>
            <a:chOff x="457200" y="1600200"/>
            <a:chExt cx="8229240" cy="4529160"/>
          </a:xfrm>
        </p:grpSpPr>
        <p:cxnSp>
          <p:nvCxnSpPr>
            <p:cNvPr id="890" name="_s1028"/>
            <p:cNvCxnSpPr>
              <a:stCxn id="891" idx="0"/>
              <a:endCxn id="892" idx="2"/>
            </p:cNvCxnSpPr>
            <p:nvPr/>
          </p:nvCxnSpPr>
          <p:spPr>
            <a:xfrm flipH="1" flipV="1" rot="5400000">
              <a:off x="2517840" y="2264760"/>
              <a:ext cx="906480" cy="319968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3" name="_s1029"/>
            <p:cNvCxnSpPr>
              <a:stCxn id="894" idx="0"/>
              <a:endCxn id="892" idx="2"/>
            </p:cNvCxnSpPr>
            <p:nvPr/>
          </p:nvCxnSpPr>
          <p:spPr>
            <a:xfrm flipH="1" flipV="1" rot="5400000">
              <a:off x="3583800" y="3330720"/>
              <a:ext cx="906480" cy="106776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5" name="_s1030"/>
            <p:cNvCxnSpPr>
              <a:stCxn id="896" idx="0"/>
              <a:endCxn id="892" idx="2"/>
            </p:cNvCxnSpPr>
            <p:nvPr/>
          </p:nvCxnSpPr>
          <p:spPr>
            <a:xfrm flipV="1" rot="16200000">
              <a:off x="5717880" y="2263680"/>
              <a:ext cx="906480" cy="320148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7" name="_s1031"/>
            <p:cNvCxnSpPr>
              <a:stCxn id="898" idx="0"/>
              <a:endCxn id="892" idx="2"/>
            </p:cNvCxnSpPr>
            <p:nvPr/>
          </p:nvCxnSpPr>
          <p:spPr>
            <a:xfrm flipV="1" rot="16200000">
              <a:off x="4650840" y="3330720"/>
              <a:ext cx="906480" cy="106740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92" name="_s1032"/>
            <p:cNvSpPr/>
            <p:nvPr/>
          </p:nvSpPr>
          <p:spPr>
            <a:xfrm>
              <a:off x="3656160" y="1600200"/>
              <a:ext cx="1829160" cy="181152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300" spc="-1" strike="noStrike">
                  <a:solidFill>
                    <a:srgbClr val="ffffff"/>
                  </a:solidFill>
                  <a:latin typeface="Arial"/>
                </a:rPr>
                <a:t>أسس بناء المجتمع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_s1033"/>
            <p:cNvSpPr/>
            <p:nvPr/>
          </p:nvSpPr>
          <p:spPr>
            <a:xfrm>
              <a:off x="4722840" y="4317840"/>
              <a:ext cx="1829160" cy="1811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روابط الإجتماعية </a:t>
              </a:r>
              <a:r>
                <a:rPr b="0" lang="ar-SA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_s1034"/>
            <p:cNvSpPr/>
            <p:nvPr/>
          </p:nvSpPr>
          <p:spPr>
            <a:xfrm>
              <a:off x="6857280" y="4317840"/>
              <a:ext cx="1829160" cy="1811520"/>
            </a:xfrm>
            <a:prstGeom prst="roundRect">
              <a:avLst>
                <a:gd name="adj" fmla="val 16667"/>
              </a:avLst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500" spc="-1" strike="noStrike">
                  <a:solidFill>
                    <a:srgbClr val="ffffff"/>
                  </a:solidFill>
                  <a:latin typeface="Arial"/>
                  <a:ea typeface="Mudir MT"/>
                </a:rPr>
                <a:t>   </a:t>
              </a:r>
              <a:r>
                <a:rPr b="1" lang="ar-SA" sz="2500" spc="-1" strike="noStrike">
                  <a:solidFill>
                    <a:srgbClr val="ffffff"/>
                  </a:solidFill>
                  <a:latin typeface="Arial"/>
                  <a:cs typeface="Mudir MT"/>
                </a:rPr>
                <a:t>الإنسان </a:t>
              </a:r>
              <a:r>
                <a:rPr b="1" lang="ar-SA" sz="2500" spc="-1" strike="noStrike">
                  <a:solidFill>
                    <a:srgbClr val="ffffff"/>
                  </a:solidFill>
                  <a:latin typeface="Arial"/>
                  <a:ea typeface="Mudir MT"/>
                </a:rPr>
                <a:t>	</a:t>
              </a:r>
              <a:r>
                <a:rPr b="1" lang="ar-SA" sz="3500" spc="-1" strike="noStrike">
                  <a:solidFill>
                    <a:srgbClr val="ffffff"/>
                  </a:solidFill>
                  <a:latin typeface="Arial"/>
                  <a:ea typeface="Mudir MT"/>
                </a:rPr>
                <a:t> </a:t>
              </a:r>
              <a:r>
                <a:rPr b="1" lang="ar-SA" sz="1500" spc="-1" strike="noStrike">
                  <a:solidFill>
                    <a:srgbClr val="ffffff"/>
                  </a:solidFill>
                  <a:latin typeface="Arial"/>
                  <a:ea typeface="Mudir MT"/>
                </a:rPr>
                <a:t>	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_s1035"/>
            <p:cNvSpPr/>
            <p:nvPr/>
          </p:nvSpPr>
          <p:spPr>
            <a:xfrm>
              <a:off x="2588760" y="4317840"/>
              <a:ext cx="1829160" cy="18115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ffffff"/>
                  </a:solidFill>
                  <a:latin typeface="Arial"/>
                </a:rPr>
                <a:t>       الضبط الاجتماعي </a:t>
              </a:r>
              <a:r>
                <a:rPr b="1" lang="ar-SA" sz="23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_s1036"/>
            <p:cNvSpPr/>
            <p:nvPr/>
          </p:nvSpPr>
          <p:spPr>
            <a:xfrm>
              <a:off x="457200" y="4317840"/>
              <a:ext cx="1826640" cy="1811520"/>
            </a:xfrm>
            <a:prstGeom prst="roundRect">
              <a:avLst>
                <a:gd name="adj" fmla="val 16667"/>
              </a:avLst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ffffff"/>
                  </a:solidFill>
                  <a:latin typeface="Arial"/>
                  <a:cs typeface="Mudir MT"/>
                </a:rPr>
                <a:t>الأرض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8:30:01Z</dcterms:created>
  <dc:creator>hany</dc:creator>
  <dc:description/>
  <dc:language>en-US</dc:language>
  <cp:lastModifiedBy>HAPPY</cp:lastModifiedBy>
  <dcterms:modified xsi:type="dcterms:W3CDTF">2015-10-11T21:29:58Z</dcterms:modified>
  <cp:revision>6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