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AC3-908F-408A-90CE-8FB14965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684-5367-40A5-A594-8DE6B18C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E4C4E-5D4E-4530-83F1-27AC2FEC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5DC37-36D8-45AA-84D3-1E14C901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D5209-31CB-44F8-93AB-6ADD954E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44D64-AB29-498A-BFE2-0C7AFC4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0E8E2-1564-4FD7-B24D-6269B2A4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02617-3927-4A52-8E7C-DCD6D4A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934A4-AE1E-40AF-953B-4BD4A243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DDCD7-82E5-43F9-85E3-F7BEDCE1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B7933-0B4C-4E74-9C03-32064F66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258F8-49B5-45CE-BD3E-A99D4DB9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D10-ADEA-4EB0-BEC1-BFF24AC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CF83B-EA6F-404E-9EC6-E9C1F187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C08EE-5765-4450-9458-3B824183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CE226-3C30-4B80-8C9E-4FC0A6F2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FDFFD-B76C-4E3B-8579-E5A30D4B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C3010-EE47-4DAE-86FA-3198F938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767A5-C06B-48B6-83DA-B9CA6B1F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C8D1C-D767-4A22-BFE5-402FC532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65601-D7A7-4D18-8301-7314874C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4607B-5DF7-40E9-A889-6C4C3B05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B9491-E395-45CC-8AFB-7E32E1C9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CA0-AD61-4929-AEF5-41DFA7B8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83D4A-FE13-4453-B9C8-41ADB5D1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3B68B-98E4-408F-8046-AA80F63D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9EA58-CA0D-4D8B-9419-FE748C7F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016CD-8559-4C1B-BC53-87673076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E92BF-74CA-4799-93EE-254389D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E8D53-07E1-4A5B-BE65-2D28BF7E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A26B9-1D05-4222-86CC-E5F330FF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EB2C5-DB48-4842-ABA7-3BA8BCAC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0B4-C7DC-4057-BEEB-3222C408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6C01A-D3DB-4CF7-979C-26B7F8A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DAB50-4C45-4448-86DE-CAB4755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8B87-FF43-4F2D-855A-753FC835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6B210-CF2F-4217-8302-DCC68427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755B1-A170-4D8B-9FC7-20B5E365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06FB-D4EF-45C6-AC9E-D8AB9956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B4A9-C0D1-46F1-9236-A8E82E20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E820-1389-4502-A9F3-6D23C668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BA0F-FC8C-4EDF-AE79-B76AF84A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24BA-9E58-478D-9580-B0463719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7A6-7077-4BF0-8E4F-B29AFAE3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8854-8C73-4279-9CD4-E7E8054A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6EEE-86FA-4BDF-80E5-3B16323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4B14-433D-493B-8B0A-692E47B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CDE3C-9CAA-4ADB-9D13-F577793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705D-74EE-4C99-839E-353C7340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4899-6763-4149-93D0-FE810267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0FBE-3619-42E7-B56A-F47DFFD2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F90D0-843F-43F8-BF7C-2E9CE069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9E3F-1E88-4DEF-9D9B-329B643F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19A6-C950-47F2-9C31-F0BAC0C3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7E6-50AD-499C-96A2-8489348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B151-74D0-4B03-980C-CB599CAA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237C6-15F0-45E0-8853-BE79DC9C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E3895-A1B2-4040-A81A-11E851C6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E7E5-1E84-40D2-AAF9-8D0862D2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8537-BD89-4951-8AC8-43820E9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FDDD-11AC-4D87-B5B6-D511EB37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FB83F-D5A2-498D-B3B8-751FA55F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6A701-41E2-4264-B135-3C681FD6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879AA-A9FB-4721-A7CA-E922915B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47E66-BC8C-4992-BD87-CB2580FD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49C-7371-4217-9CE7-BF8F106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F7C7-2FF3-474F-AE30-363627B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CA02-CACE-4C02-AD0D-B3A98A9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85178-B4AA-47E2-8FA2-7D4E0077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CFA1-97A7-4940-9440-985BD721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025C-3679-40E1-8F5D-396525D8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E89F-F001-4F8F-A65D-28EADA2B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7A1D-482A-453A-82CB-899C19E6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E89A0-3E57-40EC-BAF7-DE1ED08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101C6-447B-4B1C-8BB8-8D94C213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B177C-77E3-42A0-89FC-D547A7E9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867-8EA3-47D2-BF57-38BCCB4F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2D270-B264-4632-B8DC-ABFC52E2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929E-7918-41D2-876D-D26B596D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1F98-B2ED-45B2-A299-8BD3D26C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53BC-5729-4A92-8BD8-C7FBA0C4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0121-BE8C-4231-B965-540A26F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8ED30-F6CE-4D5F-8DEE-7A4D1C58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7D2B-04BE-445C-9D73-B859CC00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10B4-1F71-431F-90AB-8691E3E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7384C-0C28-4B0E-A25E-6E56E640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9AC0-D97E-4046-8CB6-971F2FBB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0EF-F4D9-4B59-9E15-678B887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4637-0C8B-4DB4-A595-178D3251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96071-BD14-49B6-8337-E25CFD7F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EAD1-A7E6-45F8-81F9-C18537AD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F90A-1EA7-4D46-BD2F-24EB4702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E709-32BF-43A8-BB0D-669765F1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43FF5-BBB3-4DAC-8EBC-8AC0F6E9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364B5-5E0E-4708-BFCD-1F95BD3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EEF3-4A97-4FA6-BA19-8E3BABB4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EF3A-CA6B-4301-B0D0-322D202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50340-D269-44CD-BB7B-162FB5E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219-835A-4924-867D-857BE8A8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58604-DCB2-46EA-A46D-61F51976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EBA36-B73D-4E97-A760-A61A4B3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86ABF-5729-423D-B08C-6DE66876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3A43B-04A6-46B3-9ECA-B422011B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AEF4B-6060-417F-8B2A-3C970F5D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73DEB-7D01-4814-92DB-6B7DDD98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C8D91-EF31-4F3B-AB6A-7009CB1F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0D01-5F85-4550-BBFB-98C986C1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78DC2-685D-43CB-9472-E9DADF3E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00E0F-7D85-4EEC-A9A8-C23E8106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15D-D6C6-4F82-8BA5-EB4AE301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BCF4-63CD-4C53-B0C1-3A55DCB8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CE787-2C32-4DD5-9A49-50EAB2C8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BCD1-30E1-4DDA-B8F4-7FF345A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EE941-E6EA-4616-8A6E-E7E66DA4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50F15-163A-4F13-A831-D59AE988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7308E-CE43-454A-8FF0-32F307B4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3CA8E-E92E-49B9-B870-38CDAFD5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47081-7E53-4862-B68C-5775E41B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E85EC-3865-4CEB-990F-9D719D3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017F0-4CA7-4A19-82A1-4305D788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CBF1-0699-4E4F-85C3-9C898F7E068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7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7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0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1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1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3BF9-3B5E-4FD9-9943-076D153EE13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998-AA6F-4B3D-B98C-E9E815E033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1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2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2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3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3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3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4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4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4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5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5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5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5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6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7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7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7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8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8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8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9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9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9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0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0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0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1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1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1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2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0DAD-C6E6-49AA-9883-5D74399265F4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952C-643E-40A6-AEAD-570B8704655B}" type="slidenum">
              <a:rPr b="1" lang="ar-SA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3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3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7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A025-21D5-4C4F-89B0-4133FF398655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3CFA-7F41-4373-B45F-794806B84A7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FFB7-6BB5-45A2-8F05-ECA0C948B2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55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55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55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55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5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560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561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564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567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7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7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7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79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8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585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58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59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594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97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60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60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606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60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612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61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618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621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3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5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626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62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632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635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638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641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644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647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650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653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56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8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659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660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7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66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32C7-3EF8-4D43-989D-9F31A78FDD19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2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2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492B-5AB4-4E18-959F-2EDE57D77720}" type="slidenum">
              <a:rPr b="1" lang="ar-SA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ndalus"/>
              </a:rPr>
              <a:t>مفهوم المجتمع المسلم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Garamond"/>
                <a:cs typeface="DecoType Naskh Variants"/>
              </a:rPr>
              <a:t>أولاً : تعريف المجتمع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ثانياً : تعريف الجماعة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300" spc="-1" strike="noStrike">
                <a:solidFill>
                  <a:srgbClr val="ffffff"/>
                </a:solidFill>
                <a:latin typeface="Arial"/>
                <a:cs typeface="DecoType Naskh"/>
              </a:rPr>
              <a:t>ثالثاًَ : تعريف الأمة </a:t>
            </a:r>
            <a:endParaRPr b="0" lang="en-US" sz="9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6600"/>
                </a:solidFill>
                <a:latin typeface="Arial"/>
              </a:rPr>
              <a:t>المجتمع المسلم 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886" name="Picture 5" descr="Kaab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1413000"/>
            <a:ext cx="8496360" cy="52117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ypesetting"/>
              </a:rPr>
              <a:t>خلائق مسلمون في أرضهم مستقرون تجمعهم رابطة الإسلام ، وتدار أمورهم في ضوء تشريعات إسلامية وأحكام ، ويرعى شؤونهم ولاة أمر منهم وحكام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9" name="Organization Chart 4"/>
          <p:cNvGrpSpPr/>
          <p:nvPr/>
        </p:nvGrpSpPr>
        <p:grpSpPr>
          <a:xfrm>
            <a:off x="457200" y="1600200"/>
            <a:ext cx="8229240" cy="4529160"/>
            <a:chOff x="457200" y="1600200"/>
            <a:chExt cx="8229240" cy="4529160"/>
          </a:xfrm>
        </p:grpSpPr>
        <p:cxnSp>
          <p:nvCxnSpPr>
            <p:cNvPr id="890" name="_s1028"/>
            <p:cNvCxnSpPr>
              <a:stCxn id="891" idx="0"/>
              <a:endCxn id="892" idx="2"/>
            </p:cNvCxnSpPr>
            <p:nvPr/>
          </p:nvCxnSpPr>
          <p:spPr>
            <a:xfrm flipH="1" flipV="1" rot="5400000">
              <a:off x="2517840" y="2264760"/>
              <a:ext cx="906480" cy="319968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3" name="_s1029"/>
            <p:cNvCxnSpPr>
              <a:stCxn id="894" idx="0"/>
              <a:endCxn id="892" idx="2"/>
            </p:cNvCxnSpPr>
            <p:nvPr/>
          </p:nvCxnSpPr>
          <p:spPr>
            <a:xfrm flipH="1" flipV="1" rot="5400000">
              <a:off x="3583800" y="3330720"/>
              <a:ext cx="906480" cy="106776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5" name="_s1030"/>
            <p:cNvCxnSpPr>
              <a:stCxn id="896" idx="0"/>
              <a:endCxn id="892" idx="2"/>
            </p:cNvCxnSpPr>
            <p:nvPr/>
          </p:nvCxnSpPr>
          <p:spPr>
            <a:xfrm flipV="1" rot="16200000">
              <a:off x="5717880" y="2263680"/>
              <a:ext cx="906480" cy="320148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7" name="_s1031"/>
            <p:cNvCxnSpPr>
              <a:stCxn id="898" idx="0"/>
              <a:endCxn id="892" idx="2"/>
            </p:cNvCxnSpPr>
            <p:nvPr/>
          </p:nvCxnSpPr>
          <p:spPr>
            <a:xfrm flipV="1" rot="16200000">
              <a:off x="4650840" y="3330720"/>
              <a:ext cx="906480" cy="106740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2" name="_s1032"/>
            <p:cNvSpPr/>
            <p:nvPr/>
          </p:nvSpPr>
          <p:spPr>
            <a:xfrm>
              <a:off x="3656160" y="1600200"/>
              <a:ext cx="1829160" cy="18115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300" spc="-1" strike="noStrike">
                  <a:solidFill>
                    <a:srgbClr val="ffffff"/>
                  </a:solidFill>
                  <a:latin typeface="Arial"/>
                </a:rPr>
                <a:t>أسس بناء المجتم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_s1033"/>
            <p:cNvSpPr/>
            <p:nvPr/>
          </p:nvSpPr>
          <p:spPr>
            <a:xfrm>
              <a:off x="4722840" y="4317840"/>
              <a:ext cx="1829160" cy="1811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</a:rPr>
                <a:t>الروابط الإجتماعية </a:t>
              </a:r>
              <a:r>
                <a:rPr b="0" lang="ar-SA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_s1034"/>
            <p:cNvSpPr/>
            <p:nvPr/>
          </p:nvSpPr>
          <p:spPr>
            <a:xfrm>
              <a:off x="6857280" y="4317840"/>
              <a:ext cx="1829160" cy="1811520"/>
            </a:xfrm>
            <a:prstGeom prst="roundRect">
              <a:avLst>
                <a:gd name="adj" fmla="val 16667"/>
              </a:avLst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500" spc="-1" strike="noStrike">
                  <a:solidFill>
                    <a:srgbClr val="ffffff"/>
                  </a:solidFill>
                  <a:latin typeface="Arial"/>
                  <a:ea typeface="Mudir MT"/>
                </a:rPr>
                <a:t>   </a:t>
              </a:r>
              <a:r>
                <a:rPr b="1" lang="ar-SA" sz="2500" spc="-1" strike="noStrike">
                  <a:solidFill>
                    <a:srgbClr val="ffffff"/>
                  </a:solidFill>
                  <a:latin typeface="Arial"/>
                  <a:cs typeface="Mudir MT"/>
                </a:rPr>
                <a:t>الإنسان </a:t>
              </a:r>
              <a:r>
                <a:rPr b="1" lang="ar-SA" sz="2500" spc="-1" strike="noStrike">
                  <a:solidFill>
                    <a:srgbClr val="ffffff"/>
                  </a:solidFill>
                  <a:latin typeface="Arial"/>
                  <a:ea typeface="Mudir MT"/>
                </a:rPr>
                <a:t>	</a:t>
              </a:r>
              <a:r>
                <a:rPr b="1" lang="ar-SA" sz="3500" spc="-1" strike="noStrike">
                  <a:solidFill>
                    <a:srgbClr val="ffffff"/>
                  </a:solidFill>
                  <a:latin typeface="Arial"/>
                  <a:ea typeface="Mudir MT"/>
                </a:rPr>
                <a:t> </a:t>
              </a:r>
              <a:r>
                <a:rPr b="1" lang="ar-SA" sz="1500" spc="-1" strike="noStrike">
                  <a:solidFill>
                    <a:srgbClr val="ffffff"/>
                  </a:solidFill>
                  <a:latin typeface="Arial"/>
                  <a:ea typeface="Mudir MT"/>
                </a:rPr>
                <a:t>	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1035"/>
            <p:cNvSpPr/>
            <p:nvPr/>
          </p:nvSpPr>
          <p:spPr>
            <a:xfrm>
              <a:off x="2588760" y="4317840"/>
              <a:ext cx="1829160" cy="18115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300" spc="-1" strike="noStrike">
                  <a:solidFill>
                    <a:srgbClr val="ffffff"/>
                  </a:solidFill>
                  <a:latin typeface="Arial"/>
                </a:rPr>
                <a:t>       الضبط الاجتماعي </a:t>
              </a:r>
              <a:r>
                <a:rPr b="1" lang="ar-SA" sz="23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_s1036"/>
            <p:cNvSpPr/>
            <p:nvPr/>
          </p:nvSpPr>
          <p:spPr>
            <a:xfrm>
              <a:off x="457200" y="4317840"/>
              <a:ext cx="1826640" cy="1811520"/>
            </a:xfrm>
            <a:prstGeom prst="roundRect">
              <a:avLst>
                <a:gd name="adj" fmla="val 16667"/>
              </a:avLst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ffffff"/>
                  </a:solidFill>
                  <a:latin typeface="Arial"/>
                  <a:cs typeface="Mudir MT"/>
                </a:rPr>
                <a:t>الأرض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8:30:01Z</dcterms:created>
  <dc:creator>hany</dc:creator>
  <dc:description/>
  <dc:language>en-US</dc:language>
  <cp:lastModifiedBy>HAPPY</cp:lastModifiedBy>
  <dcterms:modified xsi:type="dcterms:W3CDTF">2015-10-11T21:29:58Z</dcterms:modified>
  <cp:revision>6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