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220-9D7B-41AF-9A2D-798E7860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E22-93F8-487B-9A3F-CD2F663D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D62-8B97-4E4D-BA5F-1FE57211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13C-E7EE-4919-8294-1991C813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6438-9880-4080-806D-1E46D34A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2942-18E0-4183-91D2-F0B236C3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A4DF-5762-4D0C-8D67-4899C6F3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701B-FC43-41F6-864C-686DFED6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C416-27DC-43B8-85F2-D995EB11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CF60-7E85-451C-A403-7ADC34C9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DFE2-4461-421E-9E96-E7EA98F4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88C-C914-4851-BE8B-0A223201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2EA-78DC-4816-BAFD-C1EBB0A0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744A-571E-4DD7-BBD0-57F9ABE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C182-04C8-44D8-AB8E-2DB1318E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E2EE-C628-4111-A5C6-48F8048B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7941-2F94-4076-AA09-5C478DB3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DA0A-8382-43CD-8C18-94CEB017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498E8-8D6B-40D4-AF77-8BCCB8DB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1BF6-D2FB-4725-8999-C8779452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6AB2-2B60-42C5-949A-2DD512E5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FEF1-56BD-458B-BD93-0A5C6E4A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96C-E2A2-428E-88DB-E0E68107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FCEA9-FA75-4CBB-B5A4-B7B6402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D75F-6730-4485-A91A-BAFA543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4710-B4BB-4E20-A54E-0107767A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97C2-4AED-41CC-9172-7169715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2C9E-8207-4907-9A5E-426E648B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FFC7-683C-4E00-9441-2EBE8185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44F7-50C5-4DB8-970C-86FBB767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DE2-78E1-4D6A-A137-AA1AEA71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491-9670-460A-88CC-BC4643E6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E65-85D4-430C-9759-3076BB38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89E-6FDD-4900-BDBD-1115C268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119-F527-4410-AE20-9AD82F2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16A-D6CF-492C-B1EB-C804FA1A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12E7-0490-40A7-A32B-DF73EB6BD2D8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7090-9BC9-450A-A91B-4743F3D15C1B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9554-F529-40B6-8ACD-B2DB09218093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2762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8" name="Picture 4" descr="007-work_so-tired"/>
          <p:cNvPicPr/>
          <p:nvPr/>
        </p:nvPicPr>
        <p:blipFill>
          <a:blip r:embed="rId1"/>
          <a:stretch/>
        </p:blipFill>
        <p:spPr>
          <a:xfrm>
            <a:off x="1042920" y="1773360"/>
            <a:ext cx="612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ff00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entury Gothic"/>
              </a:rPr>
              <a:t>العوامل الوقائية : </a:t>
            </a:r>
            <a:r>
              <a:rPr b="0" lang="ar-SA" sz="2800" spc="-1" strike="noStrike">
                <a:solidFill>
                  <a:srgbClr val="7f7f7f"/>
                </a:solidFill>
                <a:latin typeface="Century Gothic"/>
              </a:rPr>
              <a:t>وتتمثل في / الأمن الوظيفي ، ظروف العمل ، سياسات الشركة ، الأجور ، نوعية الإشراف طبيعة العلاقات ، مكانة العمل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700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00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entury Gothic"/>
              </a:rPr>
              <a:t>العوامل الدافعة </a:t>
            </a:r>
            <a:r>
              <a:rPr b="0" lang="ar-SA" sz="2800" spc="-1" strike="noStrike">
                <a:solidFill>
                  <a:srgbClr val="7f7f7f"/>
                </a:solidFill>
                <a:latin typeface="Century Gothic"/>
              </a:rPr>
              <a:t>: وتتمثل في/ الإنجاز ، الاعتراف، طابع التحدي في العمل، المسؤولية ، النمو ، التقدم والتعلم ، عمل ذو معنى تام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4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7-10-01T21:46:43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