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7F2-12D4-4D29-AE4E-9B99A663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916-0340-4B60-B3E0-D0F3B31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34C-8D99-40A3-9CAF-574DE985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A7A-5919-48BD-BD1D-81D7046D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258B-31DE-4856-A98A-14894857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BEA5-6DB2-4D05-ACA6-1E7E6236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FF7-4CF2-475D-A9C0-7F73D6DE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D93B-9497-4223-A555-14047916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9484-33AD-4495-AAFC-9B9116D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FB9D-B570-4B97-9D0E-05BBCE44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8ABB-0B04-4415-8BCE-4633D2B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8BC-A07C-4479-B8EA-61F67749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A200-F6F8-42F0-A36B-FD67DF1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6A7A-3C21-491F-A545-B225F55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974C-C149-4EF3-94DC-60F87E2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AEEB-90F3-4882-8723-04670D41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00D8-D96F-48FD-9ED8-15B2FA10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AF85-E545-45D6-A306-2826949F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7688-39C0-4C7D-9358-237A2080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88A3-9244-4128-B7B7-B67D43D3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6D16-35FA-4F45-B7CD-14D2B368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661C-2B42-4D66-9E17-6127571F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507-02D9-475A-8988-1C757708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9749-00D4-4F47-B8BE-D9E2EC31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FF84-08BF-457E-864C-18E95DDD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122F-DB95-486F-AE1F-05F4EC9E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A107-A655-4B56-85A3-45376C75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B887-C234-43D5-A37D-09B14F53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1677-DE0E-482F-A3C8-585F01AB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9B7E-0CD9-4269-B50B-53093692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B13-89B7-4A17-B6D9-D11F44CE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18D-B9F3-488B-8219-E6AD646F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859-AF15-40F6-8EF6-00173678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D10-6A7C-4621-8BE3-71B39BB6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545-4EF5-4013-BC16-F74364FE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DBD-C07C-488D-AABC-8C60A428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F78F-693F-4369-BF3F-F83630EE4DB4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916-F252-472A-AA78-337814A1CFCD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2B30-BB46-4C26-841D-19E05FA409CB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2762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8" name="Picture 4" descr="007-work_so-tired"/>
          <p:cNvPicPr/>
          <p:nvPr/>
        </p:nvPicPr>
        <p:blipFill>
          <a:blip r:embed="rId1"/>
          <a:stretch/>
        </p:blipFill>
        <p:spPr>
          <a:xfrm>
            <a:off x="1042920" y="1773360"/>
            <a:ext cx="612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ff00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entury Gothic"/>
              </a:rPr>
              <a:t>العوامل الوقائية : </a:t>
            </a:r>
            <a:r>
              <a:rPr b="0" lang="ar-SA" sz="2800" spc="-1" strike="noStrike">
                <a:solidFill>
                  <a:srgbClr val="7f7f7f"/>
                </a:solidFill>
                <a:latin typeface="Century Gothic"/>
              </a:rPr>
              <a:t>وتتمثل في / الأمن الوظيفي ، ظروف العمل ، سياسات الشركة ، الأجور ، نوعية الإشراف طبيعة العلاقات ، مكانة العمل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700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00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entury Gothic"/>
              </a:rPr>
              <a:t>العوامل الدافعة </a:t>
            </a:r>
            <a:r>
              <a:rPr b="0" lang="ar-SA" sz="2800" spc="-1" strike="noStrike">
                <a:solidFill>
                  <a:srgbClr val="7f7f7f"/>
                </a:solidFill>
                <a:latin typeface="Century Gothic"/>
              </a:rPr>
              <a:t>: وتتمثل في/ الإنجاز ، الاعتراف، طابع التحدي في العمل، المسؤولية ، النمو ، التقدم والتعلم ، عمل ذو معنى تام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4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7-10-01T21:46:43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