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242-5E4A-4E0D-976E-F55DDEFA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B01-AB2C-47E7-BB61-B129F854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174-F77C-4B76-A54B-340E8631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5EA-4FC3-4EBC-BCB4-5BE365B4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77C9-1210-4342-8244-9BCFFA38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795A-2CA6-40EA-8E6D-131597AA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81AA-AA12-4D54-A358-B0DBE84A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8F57-63C4-4DB5-970A-5A7F635C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5980-1CC2-444F-8558-48D0E03E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290D-95E1-4FBE-ADB1-687CC245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9A1E-4BBC-486B-94EC-58383E62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93AC-12DF-454C-B1BA-651CCB30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3E20-9D1F-4F71-A4A9-1FE4BC2D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6292-1EBE-4BFF-9BA3-5A4E0DF6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41CA-CA94-40D2-BEFF-E3DD127E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C703-6FEA-4C68-9885-DD4C6912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19D7-2542-4B92-8EE3-5F420114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0801-F2F5-492B-BDD5-24854097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7DF9-E728-4C10-8FB3-AB464DC5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47E22-FEC9-4B9E-8B19-85A6E1E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42C5-A219-49E1-BF0C-2E73F5B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BA48-61B4-4FF9-98F6-96042CBD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69A0-26C0-4618-B4D5-F744BB3F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A0480-3334-4E61-9771-6D9EA91E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62E89-C2A6-496B-9BA8-441764CE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866D0-41F6-430D-AB33-E12A9DFE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9E9C2-4533-4A05-A158-5704FFFC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887C0-95DD-40CC-99CD-B7010D71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0729-BF0B-4BDD-B833-96DB3316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DB008-EDD0-4A48-ADD6-D860A2FD2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956-3F07-492E-BEB1-EA36012E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71D6-BC75-487E-A2EB-4D2FE884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FA2-028D-43D7-8F90-906E23DD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A97-7A2E-4C4A-AB63-4F9FBF2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EC4-C704-45C1-8BFD-5F84B6FE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361-718A-4BC5-A8EA-35D0D6CF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6390-725F-4C75-8FF6-47AE54AD105E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6BEE-05A8-4754-9204-FC550A0A7CFF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BD68-EC8E-45DF-BF6E-B1B4BB69D295}" type="slidenum">
              <a:rPr b="0" lang="ar-SA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2f5897"/>
                </a:solidFill>
                <a:latin typeface="Palatino Linotype"/>
              </a:rPr>
              <a:t>الدوافع والحوافز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33" name="Picture 4" descr="incentive"/>
          <p:cNvPicPr/>
          <p:nvPr/>
        </p:nvPicPr>
        <p:blipFill>
          <a:blip r:embed="rId1"/>
          <a:stretch/>
        </p:blipFill>
        <p:spPr>
          <a:xfrm>
            <a:off x="826920" y="2349360"/>
            <a:ext cx="727416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الفرق بين الدوافع و الحوافز : الدافعية هي محرك داخل للسلوك الإنساني و تنبع من ذات الفرد لإشباع حاجة محدده في حين أن الحوافز هي المحركات و المؤثرات الخارجية التي تستخدمها الإدارة لإثاره دوافع الإنجاز لدى الأفراد العاملين و بناء عليه يمكن القول أن الدافعية هي عوامل داخل الأفراد في حن أن الحوافز عوامل خارج الفرد 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نواع الدوافع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أولية والدوافع الثانو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فردية والدوافع الإجتماع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دوافع الشعورية والدوافع اللاشعورية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3" name="Picture 4" descr="20110922-work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دوافع الأولية و الدوافع الثانو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قصد بالدوافع الأولية أو الفسيولوجية أو العضوية بأنها تلك الدوافع التي تعتمد على التكوين البيولوجي للإنسان و ترتبط هذه الدوافع المختلفة بالتكوين العضوي و بأجهزة الجسم المختلفة و هذه الدوافع من اهم أنواع الدوافع على الأطلاق حيث يرتبط إشباعها باستمرار الحياه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01680" indent="-3016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تتميز هذه الدوافع بالثبات و عدم التغير و من أمثلة هذه الدوافع الدافع الى الاكل  أو الشرب او التنفس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646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ما الدوافع الثانوية أو المكتسبة فهي تلك الدوافع التي تكتسب من البيئة و ما يتوفر فيها من قوى و مؤثرات و تتميز هذه الدوافع بأنها تتمتع بالمرونة العالية و قابليتها للتغير و التعديل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ن امثلة هذه الدوافع الدافع الى السيطرة او الالتزام بالقيم السائدة بالمجتمع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دوافع الفردية و الدوافع الاجتما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و يقصد بالدوافع الفردية تلك القوى الداخلية التي تحرك السلوك الإنساني و الضرورية لحياه الفرد و بغض النظر عما أذا وجد في جماعه أو كان يعيش في عزلة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طبقا لهذا المفهوم فإننا نجد أن جميع الدوافع الفسيولوجية أو الأولية التي سبق ذكرها تعد دوافع فرديه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64680" y="1773000"/>
            <a:ext cx="4041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قصد بالدوافع الاجتماعية تلك الدوافع التي يكتسبها الفرد في خلال مراحل التنشئة الاجتماعية أو التي تتأثر بالعوامل البيئية و الثقافية التي يعيش في ظله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طبقا لهذا المفهوم فإننا نجد أن جميع الدوافع المكتسبة أو الثانوية دوافع اجتماعيه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دوافع و الشعورية و الدوافع اللاشعور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2491920"/>
            <a:ext cx="403848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قصد بالدوافع الشعورية تلك الدوافع التي تخضع لسيطرة و تحكم و إرادة الفرد حيث يدرك الفرد أو يعي السلوك الناجم عنها و بالتلى فإنه يستطيع توجيه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36320" y="2494080"/>
            <a:ext cx="40417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ما الدوافع الغير شعورية فهي تلك الدوافع التي لا تخضع لسيطرة و تحكم و إرادة الفرد و بالتالي فإنه لا يستطيع توجيهه و في واقع الامر فإن هذه الدوافع تكون من فعل العقل الباطن مثل الكراهية أو الجب لشخص معين دون الاخر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f5897"/>
                </a:solidFill>
                <a:latin typeface="Palatino Linotype"/>
              </a:rPr>
              <a:t>نظريات الدوافع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Century Gothic"/>
              </a:rPr>
              <a:t>أولا : نظرية تدرج الحالات (ابراهام ماسلو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65" name="Picture 4" descr="c5ohx765kr3qeak7c1cg"/>
          <p:cNvPicPr/>
          <p:nvPr/>
        </p:nvPicPr>
        <p:blipFill>
          <a:blip r:embed="rId1"/>
          <a:stretch/>
        </p:blipFill>
        <p:spPr>
          <a:xfrm>
            <a:off x="1233360" y="1628640"/>
            <a:ext cx="72010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نظرية تدرج الحاجات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00000" y="2923920"/>
            <a:ext cx="7545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f7f7f"/>
                </a:solidFill>
                <a:latin typeface="Century Gothic"/>
              </a:rPr>
              <a:t>قدم إبراهيم ماسلو نظريته الشهيرة في تدرج الحاجات و استند في هذه النظرية على أن هناك مجموعة من الحاجات التي يشعر بها الفرد و تعمل كمحرك و دوافع للسلوك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تخلص نظرية تدرج الحاجات في الخطوات التال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26560" y="2708280"/>
            <a:ext cx="785988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أ / الإنسان هو كائن يشعر باحتياج لأشياء معينة و هذا الاحتياج يؤثر على سلوكه فالحاجات غير المشبعة تسبب توترا لدى الفرد و الفرد يود أن ينهي حاله التوتر هذه خلال مجهود و سعي منه للبحث عن إشباع الحاجه و بالتالي فإن الحاجه الغير مشبعة هي حاجة مؤثرة على السلوك و العكس فإن الحاجه التي تم إشباعها لا تحرك و لا تدفع السلوك الإنساني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10920" y="160020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ب / تتدرج الحاجات في هرم يبدأ بالحاجات الأساسية الأولية اللازمة لبقاء الجسم و تتدرج في سلم من الحاجات يعكس مدى أهمية أو مدى إلحاح هذه الحاجات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6800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ج / يقوم الفرد في إشباعه للحاجات بدءا بالحاجات الأساسية الأولية ثم يعيد سلالم الإشباع بالانتقال الى الحاجة الى الأمان ثم الحاجات الاجتماعية ثم حاجات التقدير و أخيرا حاجات تحقيق الذات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f5897"/>
                </a:solidFill>
                <a:latin typeface="Palatino Linotype"/>
              </a:rPr>
              <a:t>نلاحظ ؟؟ مجموعه من العاملين يقمون بأداء عمل معين من طبيعة واحده و في ظروف واحده فإننا سنجد أن المجهود الذي يبذله كل منهم سيختلف من عامل الى عامل اخر مما يؤدي الى اختلاف إنتاجيه كل منهما و أحد أسباب هذا الاختلاف هو دافع كل منهمها في ذلك الوقت و تلك الظروف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د / إن الحاجات غير المشبعة لمدة طويلة أو التي يعاني الفرد من صعوبة إشباعها قد تؤدي إلى إحباط و توتر قد يسبب ألاما نفسية و يؤدي الامر إلى العديد من الوسائل الدفاعية التي تمثل ردود أفعال يحاول الفرد من خلالها أن يحمي نفسه من هذا الإحباط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ات الفسيولوج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86920" y="2781360"/>
            <a:ext cx="698508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تظهر هذه الحاجات من خلال الفسيولوجية الأساسية للحياة و هي ضرورية للإنسان لضمان البقاء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ات السيكولوج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حاجات الأولية أو الفسيولوجية حاجات مشتركة بين الأفراد و لا بد من إشباعها أولا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ألا أن الحاجات السيكولوجية تختلف من فرد لا خر و تختلف بالنسبة للفرد عن ذلك الاخر خلال نموه و نضجه العقلي و تختلف أهميتها من فرد إلى اخر و بعض الأحيان قد نجدها متضاربة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ثل أن يشعر الفرد بالحاجة إلى تحقيق الذات و لتأكيد أهميته فقد يسلك مسلطا عدوانيا مع الأخرين بينما شخص أخر على النقيض من ذلك فهو يرغب أن يكون متسامحا و يركز جهده في العمل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اجات أربعه حاجات 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86920" y="2923920"/>
            <a:ext cx="619308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لحاجة إلى الأمان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لحاجة إلى الانتماء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لحاجه إلى الاحترام و التقدير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لحاجة الى تحقيق الذات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أمان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تظهر الحاجة إلى الأمان بعد أن يقوم الفرد بإشباع حاجاته الفسيولوجية فبمجرد أن يقوم بإشباعها تفقد هذه الحاجه أهميتها كدافع للسلوك و يقصد الحاجة الى الأمن هي حماية الفرد من  أي نوع من المخاطر يسبب له عدم استقرار في حياته أو أي خطر يهدد كيانه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ثل يفضل الفرد أن يشغل وظيفة تضمن له الاستقرار العائلي في توفير دخل ثابت أفضل من أن يشغل و وظيفة أعلى و غير مضمون الاستمرار فيها ففي الحالة الثاني الفرد يشعر بتوتر و القلق مما يؤثر على سلوك الفرد و تصرفاته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إنتماء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71280" y="2852640"/>
            <a:ext cx="713412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بعد أن يقوم الفرد بإشباع حاجاته إلى الأمن تظهر حاجة أخرى غير مشبعة و هي الحاجة الى الحب و الانتماء إلى الأفراد الذين يعيش معهم أو يتعامل معهم في الهمل أو النادي أو البيت أو الجامعة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فعدم إشباع هذه الحاجة يعرض الفرد الى التوتر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احترام و التقدير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565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و يقصد بها رغبة الفرد في احترام الاخرين له و يكون له مكانة و هيبة في البيئة المحيطة به سواء في البيت او العمل او في إي جماعة ينتمي اليها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الى تحقيق الذات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8560" y="3141720"/>
            <a:ext cx="742788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لإشباع هذا النوع من الحاجات لابد أن يعمل الفرد في المكان الذي يتناسب مع قدرته و استعداده لإثبات وجوده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5897"/>
                </a:solidFill>
                <a:latin typeface="Palatino Linotype"/>
              </a:rPr>
              <a:t>ثانياً: نظرية عوامل الوقاية وعوامل الدفع (هيرزبرج)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وقائية : وتتمثل في / الأمن الوظيفي ، ظروف العمل ، سياسات الشركة ، الأجور ، نوعية الإشراف طبيعة العلاقات ، مكانة العمل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609480" indent="-609480" algn="r" rtl="1">
              <a:spcBef>
                <a:spcPts val="601"/>
              </a:spcBef>
              <a:buClr>
                <a:srgbClr val="7f7f7f"/>
              </a:buClr>
              <a:buFont typeface="Century Gothic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عوامل الدافعة : وتتمثل في/ الإنجاز ، الاعتراف، طابع التحدي في العمل، المسؤولية ، النمو ، التقدم والتعلم ، عمل ذو معنى تام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1988640"/>
            <a:ext cx="7343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جدول مقارنة بين نظريتي ماسلو و هيرزبرج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هي سلسلة من الاستجابات ، تبدأ بالحاجات التي يشعر بها الفرد ، وينتج عنها رغبات ، مما يؤدي إلى احدث السلوك لتحقيق الرضا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7" name="Picture 5" descr="A_leader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ثالثاً: نظرية </a:t>
            </a:r>
            <a:r>
              <a:rPr b="0" lang="en-US" sz="2800" spc="-1" strike="noStrike">
                <a:solidFill>
                  <a:srgbClr val="2f5897"/>
                </a:solidFill>
                <a:latin typeface="Palatino Linotype"/>
              </a:rPr>
              <a:t>X,Y,Z</a:t>
            </a:r>
            <a:br>
              <a:rPr sz="2800"/>
            </a:br>
            <a:r>
              <a:rPr b="0" lang="ar-SA" sz="2800" spc="-1" strike="noStrike">
                <a:solidFill>
                  <a:srgbClr val="2f5897"/>
                </a:solidFill>
                <a:latin typeface="Palatino Linotype"/>
              </a:rPr>
              <a:t>(ماكيجروجر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989000"/>
          <a:ext cx="8458200" cy="45720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حب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ره الفرد العم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مارسة الرقابة الذات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هناك ضرورة للرقابة المباش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سعى الفرد إلى تحمل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د يتجنب المسؤول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الذات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وجيه عن طريق الآخري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موحات عالية ودوافع للإبتكا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ديه طموح قل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عنو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كون مدفوعا للعمل نتيجة للحوافز المادية أو الإقتصا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رغب في الإثراء الوظيف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يفضل التخصص الدقيق في الوظي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نظرية 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x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8920" y="184464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وضع هذه النظرية ماكجر يجور في كتابه الشهير  ( الجانب الإنساني للمنظمة ) و هي تركز على الافتراضات المتعلقة بسلوك العنصر البشري في العمل و التي تتمثل في 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أن الإنسان لديه بصفة عامة كره ضمني للعمل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ترتب على كره الإنسان للعمل أن تصبح هناك ضورة للرقابة على الأفراد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أن الأنسان يفضل أن يتم توجيه للعمل و يرغب في تجنب المسؤولية و يكون لديه طموح قليل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نظرية </a:t>
            </a: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Y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 تقوم على الافتراضات الأتية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تكاليف المجهودات المادية و الذهنية الخاصة بالعمل ماهي إلا أمر طبيعي يشبه اللعب و الراح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رقابة الخارجية الموجهة إلى السلوك الإنساني و كذل التهديد بالعقاب لا تعد الوسائل الوحيدة التي تدفع الأفراد الى بذل مزيد من الجهود لتحقيق الأهداف التنظيم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التزام بالأهداف يعد بمنزلة دالة للقائد المرتبط بتحقيق الأهداف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 الإنسان المتوسط يستطيع أن يتعلم تحت ظروف مناسب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ن معظم الأفراد العاملين يرغبون في إشباع حاجتهم الاجتماعية و الأدبية و تحقيق الذات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قام و ليم أوشي بتقديم نظريه </a:t>
            </a: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en-US" sz="4000" spc="-1" strike="noStrike">
                <a:solidFill>
                  <a:srgbClr val="2f5897"/>
                </a:solidFill>
                <a:latin typeface="Palatino Linotype"/>
              </a:rPr>
              <a:t>z</a:t>
            </a: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و تقوم على الافتراضات الأتية 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8000" y="1699920"/>
            <a:ext cx="90360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لموافقة على العمل مدى الحياة دون اشتراط التسريح أو التوقف عن العمل ( أن وظيفة مدى الحياه أهم خاصية تتميز بها المنظمة في اليابان )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يجب التركيز على الثقة و كسب الولاء في علاقة العامل بصاحب العمل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لاهتمام الشامل بالأفراد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براز المسؤولية الفردية كعامل أساسي في العمل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لاستفادة من تأثير المشاركة في الإدارة بحيث تحظى القرارات بالرضا التام  أو الموافقة الجماعية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</a:rPr>
              <a:t>اجاء اختبارات عالية المستوى قبل توليه مستوى وظيفي أعلى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2f5897"/>
                </a:solidFill>
                <a:latin typeface="Palatino Linotype"/>
              </a:rPr>
              <a:t>رابعاً: نظرية دافع الإنجاز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إنجا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قوة 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اجة إلى الانتماء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200" name="Picture 4" descr="motivation_research"/>
          <p:cNvPicPr/>
          <p:nvPr/>
        </p:nvPicPr>
        <p:blipFill>
          <a:blip r:embed="rId1"/>
          <a:stretch/>
        </p:blipFill>
        <p:spPr>
          <a:xfrm>
            <a:off x="0" y="1557360"/>
            <a:ext cx="3132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إنجاز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187280" y="2205000"/>
            <a:ext cx="74995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ويشير دافع الإنجاز إلى تلك الرغبة لأداء العمل بصورة جيدة و يعد دافع الإنجاز من الدوافع المتعلمة أي انها ترجع الى خبرات الشخص و رصيد ما تعلمه و ترجع الى تربيته السابق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ثال على ذلك أن الشعوب التي تحتوي اساطيرها و حكايات الصغار فيها على قيم إ نجاز عالية أن الأطفال فيها ذو إنجاز عال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الى القو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4000" y="2565000"/>
            <a:ext cx="800244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افراد الذين ليدهم حاجة الى القوه يحاولون عادة التأثير على الاخرين مباشره من خلال تقديم مقترحات مستمرة و مباشرة والإعلان عن آرائهم و تقيميهم للمواقف و الأشخاص 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يتميزون عادة بالقدرة على التعبير والطلاقة اللغوية و كثره الكلام و أطاله النقاش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اجة إلى الانتماء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116000" y="2637000"/>
            <a:ext cx="75708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عندما يقضي الشخص وقته في التفكر بشأن إقامه علاقات ودية مع الأخرين ففي هذه الحالة تصبح لديه حاجة الى الانتماء أو الاندماج بالأخرين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ان الناس يرغبون في الحصول على حب الاخرين لهم فإنهم بالتالي يهتمون بمرعاه الاخرين و احساسيهم و يبنون جهودهم في تنميه العلاقات الطيبة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أهم أسس التطبيق الإداري من قبل نظرية دافع الإنجاز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55280" y="234900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اذا كان دافع الإنجاز من الدوافع المتعلمة فإننا بنا عليه يمكننا تصميم بعض برامج التدريب التي يمكنها رفع الإنجاز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لا بد من تزويد الموظفين من وقت لآخر بعلوات عن مدى تقدمهم في العمل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team_work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أنواع الحوافز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ا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معنو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فرد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جماع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إيجا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حوافز السلبي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تعريف الدافعية من وجهة علماء النفس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49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عمليه السلوك و الاحتفاظ به في حالة استمرار و كذلك هي عملية تنظيم السلو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920" y="3933720"/>
            <a:ext cx="775368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نلاحظ ان هناك خاصيه مشتركه بين جميع هذه التعريفات فجميعها تستمد أصولها من كلمة يدفع بمعنى يحر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ماد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11280" y="2421000"/>
            <a:ext cx="8286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و تشمل المكافآت و زياده الأجور و الرواتب و المشاركة بالأرباح  و منح نسبه من المبيعات أو الأرباح و الترقيات الوظيفية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معنو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7080" y="2707920"/>
            <a:ext cx="793116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و تشمل خطابات الشكر و المشاركة في القرارات الإدارية و الثناء و المديح و شهادات التفوق و التميز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فرد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تختص بأفراد محددين في المنشأة و مثال ذلك تقديم مكافاة لأفضل موظف خطاب شكر لأفضل شخص منتج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و هذه الحوافز تستخدم لدعم التنافس الإيجابي بين الأفراد لكن قد يترتب عليها ظهور الغيرة و الحسد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جماع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4000" y="2924280"/>
            <a:ext cx="800244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توجه هذه الحوافز لإثارة دوافع الروح الجماعية و التعاون بين العاملين و دعم مبادئ التكاتف لتحقيق أهداف المنشأة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مثل إنشاء جائزة لأفضل قسم أو افضل أداره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حوافز الإيجابية و السلب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560" y="2997000"/>
            <a:ext cx="843588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Gothic"/>
              </a:rPr>
              <a:t>الحوافز كما هي إيجابية فأنها يمكن أن تكون سلبية كذلك فالمكافأة المالية لأحد الموظفين هي حافز مادي إيجابي في حين أن الخصم من الراتب هو حافز مادي سلبي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2f5897"/>
                </a:solidFill>
                <a:latin typeface="Palatino Linotype"/>
              </a:rPr>
              <a:t>صنفي الحوافز التالية حسب أنواعها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الخصم من الراتب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زيادة الأجو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موظ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مكافأة لأفضل قسم و إدارة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خطاب شكر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224" name="Picture 4" descr="تنسيق1"/>
          <p:cNvPicPr/>
          <p:nvPr/>
        </p:nvPicPr>
        <p:blipFill>
          <a:blip r:embed="rId1"/>
          <a:stretch/>
        </p:blipFill>
        <p:spPr>
          <a:xfrm>
            <a:off x="0" y="1916280"/>
            <a:ext cx="451476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يمكن القول ان الدافعية ببساطه هي 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2276640"/>
            <a:ext cx="835344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درجة حماس الفرد للسلوك الموجه ل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لا ان الامر يحتاج الى  النظر الى مجموعه من الاعتبارات قد تم اخذها في الحسبان عبر النظريات المحتفلة للدافعية  و هي ثلاث اعتبارات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درجه الحماس و الدافعية لدى الفرد تتأثر بوجود مؤثرات سواء داخل الفرد أو خارجة فتنشا هذه الحالة شيئا من الحماس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السلوك الدافعي هو سلوك موجه في أتجاه محدد و هذا الاتجاه المحدد قد يكون هدفا أو جهة معينه أو حافز أو اختيار بديل من بدائل  السلوك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إن درجة إشباع  الحاجة أو تحقيق الهدف قد تؤدي بالسلوك مره أخرى إما تكراراه أو تثبيته أو تغيره أو تحويله الى سلوك هادف أخر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منطلقات تحديد الدافعية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26920" y="2349000"/>
            <a:ext cx="7283520" cy="30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تنشيط السلوك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توجيه السلوك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Gothic"/>
              </a:rPr>
              <a:t>تثبيت و تعديل السلوك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شكل رقم (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1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-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8</a:t>
            </a: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 )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يوضح الشكل أن وجود حاله خارجيه من المثيرات قد تتسبب في نشأة و ظهور سلوك جديد او  أن حاله داخليه للفرد بألحاجه الى شيء معين أو بالتوقع أو الرغبة لشيء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أو عدم التوازن يؤدي إلى تنشيط السلوك وهذا السلوك الذي تم تنشيطه و سيكون موجها الى هدف معين أو حافز معين أو بديل محدد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2200" indent="-322200" algn="r" rt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f7f7f"/>
                </a:solidFill>
                <a:latin typeface="Century Gothic"/>
              </a:rPr>
              <a:t>ثم يأتي بعد ذلك المرحلة الثالثة التي يقوم الفرد فيها بالتفكير و النظر و التبصر في حصيلة الخبرة الماضية و التي ستؤثر فيما بعد إما على الحفاظ على السلوك الذي تم التوصل  اليه و تثبيته أو تحويله الى سلوك موجه الى هدف أخر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2f5897"/>
                </a:solidFill>
                <a:latin typeface="Palatino Linotype"/>
              </a:rPr>
              <a:t>الفرق بين الدوافع والحواف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9" name="Picture 4" descr="007-work_so-tired"/>
          <p:cNvPicPr/>
          <p:nvPr/>
        </p:nvPicPr>
        <p:blipFill>
          <a:blip r:embed="rId1"/>
          <a:stretch/>
        </p:blipFill>
        <p:spPr>
          <a:xfrm>
            <a:off x="1512720" y="1916280"/>
            <a:ext cx="6118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21:58:10Z</dcterms:created>
  <dc:creator/>
  <dc:description/>
  <dc:language>en-US</dc:language>
  <cp:lastModifiedBy/>
  <dcterms:modified xsi:type="dcterms:W3CDTF">2016-11-03T22:16:11Z</dcterms:modified>
  <cp:revision>4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