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272-E25D-4256-9E4F-4B488814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578-76C4-4133-85CF-F2DCF52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B3E-5B93-4C45-B8C0-B39F4D19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49C-4292-4457-B45F-BC5D7A5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05F4-B735-43F0-B6B8-F211B34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ED8-BA3E-427E-85B0-D096EC7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224-27EC-4D5E-A1A8-23B3E57D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A54-367B-4549-A15A-B5DF8FDE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0D6-AF88-408D-B13F-7B55EC44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F969-AA6B-435F-9F21-AFB7473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72A4-BF5B-4208-8351-11D2F33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9FB-D1FB-472C-ACB5-A75ED73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619C-72DA-43D1-9B7F-AEFF504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739-BC4E-4120-9DBF-E184B6E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BED-3ACE-417F-9B8F-5A72E77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3B1-F544-41DB-A80D-B6F7DBAD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2CAE-9DB1-4B5D-A3AD-E042D0BC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2453-95B2-4695-BB6D-8D2FE72E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D82E-4CE9-4BC4-8AFE-61739A58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43CD-6555-4A11-B458-02F7B5E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B390-BEF4-4E8C-B238-57D0007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20B0-1CC7-479D-A8C0-E9F9D675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DA4-D042-4EBE-9A6C-77AC2AB5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43D9-6DFB-47A3-A96E-9E355CB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FF6C-2DA7-4565-B5E1-04D37CB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9082-2961-4CC5-8E2B-0F5ECC8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44CC-63C4-440B-9443-F79D0C9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2337-FED9-44BB-B2C7-A56EDFD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8028-72C0-4A87-BFC2-3527B1EF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AE59-0BEC-4175-8628-4C74363F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D10-8A67-4A43-8E71-7B647A22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203-F733-4854-ABF7-4006A03D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F49-99D5-4EC5-AC88-ADA9FF0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D8F-1B3B-4123-B53C-409ADA7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7DA-B33C-4DB5-A344-438C732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E8E-86C6-436D-A1C9-177B153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C8B4-17B6-45DD-8273-FE86575CD8D5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A7AF-A56B-4A06-B620-48409F7D8580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334-9EFE-405A-A212-98EBFD69C845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الفرق بين الدوافع و الحوافز : الدافعية هي محرك داخل للسلوك الإنساني و تنبع من ذات الفرد لإشباع حاجة محدده في حين أن الحوافز هي المحركات و المؤثرات الخارجية التي تستخدمها الإدارة لإثاره دوافع الإنجاز لدى الأفراد العاملين و بناء عليه يمكن القول أن الدافعية هي عوامل داخل الأفراد في حن أن الحوافز عوامل خارج الفرد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3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الأولية و الدوافع الثانو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أولية أو الفسيولوجية أو العضوية بأنها تلك الدوافع التي تعتمد على التكوين البيولوجي للإنسان و ترتبط هذه الدوافع المختلفة بالتكوين العضوي و بأجهزة الجسم المختلفة و هذه الدوافع من اهم أنواع الدوافع على الأطلاق حيث يرتبط إشباعها باستمرار الحيا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تميز هذه الدوافع بالثبات و عدم التغير و من أمثلة هذه الدوافع الدافع الى الاكل  أو الشرب او التنفس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ما الدوافع الثانوية أو المكتسبة فهي تلك الدوافع التي تكتسب من البيئة و ما يتوفر فيها من قوى و مؤثرات و تتميز هذه الدوافع بأنها تتمتع بالمرونة العالية و قابليتها للتغير و التعدي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ن امثلة هذه الدوافع الدافع الى السيطرة او الالتزام بالقيم السائدة بالمجتمع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الفردية و الدوافع الاجتما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 يقصد بالدوافع الفردية تلك القوى الداخلية التي تحرك السلوك الإنساني و الضرورية لحياه الفرد و بغض النظر عما أذا وجد في جماعه أو كان يعيش في عزل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طبقا لهذا المفهوم فإننا نجد أن جميع الدوافع الفسيولوجية أو الأولية التي سبق ذكرها تعد دوافع فرديه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4680" y="1773000"/>
            <a:ext cx="4041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اجتماعية تلك الدوافع التي يكتسبها الفرد في خلال مراحل التنشئة الاجتماعية أو التي تتأثر بالعوامل البيئية و الثقافية التي يعيش في ظله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طبقا لهذا المفهوم فإننا نجد أن جميع الدوافع المكتسبة أو الثانوية دوافع اجتماعيه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و الشعورية و الدوافع اللاشعور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2491920"/>
            <a:ext cx="403848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شعورية تلك الدوافع التي تخضع لسيطرة و تحكم و إرادة الفرد حيث يدرك الفرد أو يعي السلوك الناجم عنها و بالتلى فإنه يستطيع توجيه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6320" y="2494080"/>
            <a:ext cx="40417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ما الدوافع الغير شعورية فهي تلك الدوافع التي لا تخضع لسيطرة و تحكم و إرادة الفرد و بالتالي فإنه لا يستطيع توجيهه و في واقع الامر فإن هذه الدوافع تكون من فعل العقل الباطن مثل الكراهية أو الجب لشخص معين دون الاخ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65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تدرج الحاجات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00000" y="2923920"/>
            <a:ext cx="7545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f7f7f"/>
                </a:solidFill>
                <a:latin typeface="Century Gothic"/>
              </a:rPr>
              <a:t>قدم إبراهيم ماسلو نظريته الشهيرة في تدرج الحاجات و استند في هذه النظرية على أن هناك مجموعة من الحاجات التي يشعر بها الفرد و تعمل كمحرك و دوافع للسلوك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تخلص نظرية تدرج الحاجات في الخطوات التال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560" y="2708280"/>
            <a:ext cx="78598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 / الإنسان هو كائن يشعر باحتياج لأشياء معينة و هذا الاحتياج يؤثر على سلوكه فالحاجات غير المشبعة تسبب توترا لدى الفرد و الفرد يود أن ينهي حاله التوتر هذه خلال مجهود و سعي منه للبحث عن إشباع الحاجه و بالتالي فإن الحاجه الغير مشبعة هي حاجة مؤثرة على السلوك و العكس فإن الحاجه التي تم إشباعها لا تحرك و لا تدفع السلوك الإنساني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10920" y="160020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ب / تتدرج الحاجات في هرم يبدأ بالحاجات الأساسية الأولية اللازمة لبقاء الجسم و تتدرج في سلم من الحاجات يعكس مدى أهمية أو مدى إلحاح هذه الحاجات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ج / يقوم الفرد في إشباعه للحاجات بدءا بالحاجات الأساسية الأولية ثم يعيد سلالم الإشباع بالانتقال الى الحاجة الى الأمان ثم الحاجات الاجتماعية ثم حاجات التقدير و أخيرا حاجات تحقيق الذات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نلاحظ ؟؟ مجموعه من العاملين يقمون بأداء عمل معين من طبيعة واحده و في ظروف واحده فإننا سنجد أن المجهود الذي يبذله كل منهم سيختلف من عامل الى عامل اخر مما يؤدي الى اختلاف إنتاجيه كل منهما و أحد أسباب هذا الاختلاف هو دافع كل منهمها في ذلك الوقت و تلك الظروف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د / إن الحاجات غير المشبعة لمدة طويلة أو التي يعاني الفرد من صعوبة إشباعها قد تؤدي إلى إحباط و توتر قد يسبب ألاما نفسية و يؤدي الامر إلى العديد من الوسائل الدفاعية التي تمثل ردود أفعال يحاول الفرد من خلالها أن يحمي نفسه من هذا الإحباط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ات الفسيولوج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6920" y="2781360"/>
            <a:ext cx="698508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ظهر هذه الحاجات من خلال الفسيولوجية الأساسية للحياة و هي ضرورية للإنسان لضمان البقاء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ات السيكولوج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حاجات الأولية أو الفسيولوجية حاجات مشتركة بين الأفراد و لا بد من إشباعها أولا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لا أن الحاجات السيكولوجية تختلف من فرد لا خر و تختلف بالنسبة للفرد عن ذلك الاخر خلال نموه و نضجه العقلي و تختلف أهميتها من فرد إلى اخر و بعض الأحيان قد نجدها متضاربة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ل أن يشعر الفرد بالحاجة إلى تحقيق الذات و لتأكيد أهميته فقد يسلك مسلطا عدوانيا مع الأخرين بينما شخص أخر على النقيض من ذلك فهو يرغب أن يكون متسامحا و يركز جهده في العمل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اجات أربعه حاجات 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6920" y="2923920"/>
            <a:ext cx="619308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إلى الأمان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إلى الانتماء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ه إلى الاحترام و التقدي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الى تحقيق الذات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أمان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ظهر الحاجة إلى الأمان بعد أن يقوم الفرد بإشباع حاجاته الفسيولوجية فبمجرد أن يقوم بإشباعها تفقد هذه الحاجه أهميتها كدافع للسلوك و يقصد الحاجة الى الأمن هي حماية الفرد من  أي نوع من المخاطر يسبب له عدم استقرار في حياته أو أي خطر يهدد كيان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ل يفضل الفرد أن يشغل وظيفة تضمن له الاستقرار العائلي في توفير دخل ثابت أفضل من أن يشغل و وظيفة أعلى و غير مضمون الاستمرار فيها ففي الحالة الثاني الفرد يشعر بتوتر و القلق مما يؤثر على سلوك الفرد و تصرفات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إنتماء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71280" y="2852640"/>
            <a:ext cx="713412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بعد أن يقوم الفرد بإشباع حاجاته إلى الأمن تظهر حاجة أخرى غير مشبعة و هي الحاجة الى الحب و الانتماء إلى الأفراد الذين يعيش معهم أو يتعامل معهم في الهمل أو النادي أو البيت أو الجامعة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فعدم إشباع هذه الحاجة يعرض الفرد الى التوت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احترام و التقدير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565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 يقصد بها رغبة الفرد في احترام الاخرين له و يكون له مكانة و هيبة في البيئة المحيطة به سواء في البيت او العمل او في إي جماعة ينتمي اليها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الى تحقيق الذات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560" y="3141720"/>
            <a:ext cx="74278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لإشباع هذا النوع من الحاجات لابد أن يعمل الفرد في المكان الذي يتناسب مع قدرته و استعداده لإثبات وجود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343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جدول مقارنة بين نظريتي ماسلو و هيرزبرج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7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x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8920" y="18446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ضع هذه النظرية ماكجر يجور في كتابه الشهير  ( الجانب الإنساني للمنظمة ) و هي تركز على الافتراضات المتعلقة بسلوك العنصر البشري في العمل و التي تتمثل في 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ن الإنسان لديه بصفة عامة كره ضمني للعمل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ترتب على كره الإنسان للعمل أن تصبح هناك ضورة للرقابة على الأفراد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ن الأنسان يفضل أن يتم توجيه للعمل و يرغب في تجنب المسؤولية و يكون لديه طموح قلي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Y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 تقوم على الافتراضات الأت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تكاليف المجهودات المادية و الذهنية الخاصة بالعمل ماهي إلا أمر طبيعي يشبه اللعب و الراح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رقابة الخارجية الموجهة إلى السلوك الإنساني و كذل التهديد بالعقاب لا تعد الوسائل الوحيدة التي تدفع الأفراد الى بذل مزيد من الجهود لتحقيق الأهداف التنظيم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التزام بالأهداف يعد بمنزلة دالة للقائد المرتبط بتحقيق الأهداف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 الإنسان المتوسط يستطيع أن يتعلم تحت ظروف مناسب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ن معظم الأفراد العاملين يرغبون في إشباع حاجتهم الاجتماعية و الأدبية و تحقيق الذات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قام و ليم أوشي بتقديم نظريه 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z</a:t>
            </a: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و تقوم على الافتراضات الأتية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699920"/>
            <a:ext cx="903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موافقة على العمل مدى الحياة دون اشتراط التسريح أو التوقف عن العمل ( أن وظيفة مدى الحياه أهم خاصية تتميز بها المنظمة في اليابان 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يجب التركيز على الثقة و كسب الولاء في علاقة العامل بصاحب العمل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اهتمام الشامل بالأفراد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براز المسؤولية الفردية كعامل أساسي في العمل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استفادة من تأثير المشاركة في الإدارة بحيث تحظى القرارات بالرضا التام  أو الموافقة الجماعية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جاء اختبارات عالية المستوى قبل توليه مستوى وظيفي أعلى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200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إنجاز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87280" y="2205000"/>
            <a:ext cx="7499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يشير دافع الإنجاز إلى تلك الرغبة لأداء العمل بصورة جيدة و يعد دافع الإنجاز من الدوافع المتعلمة أي انها ترجع الى خبرات الشخص و رصيد ما تعلمه و ترجع الى تربيته السابق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ال على ذلك أن الشعوب التي تحتوي اساطيرها و حكايات الصغار فيها على قيم إ نجاز عالية أن الأطفال فيها ذو إنجاز عا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الى القو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4000" y="2565000"/>
            <a:ext cx="8002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افراد الذين ليدهم حاجة الى القوه يحاولون عادة التأثير على الاخرين مباشره من خلال تقديم مقترحات مستمرة و مباشرة والإعلان عن آرائهم و تقيميهم للمواقف و الأشخاص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تميزون عادة بالقدرة على التعبير والطلاقة اللغوية و كثره الكلام و أطاله النقاش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انتماء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6000" y="2637000"/>
            <a:ext cx="7570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عندما يقضي الشخص وقته في التفكر بشأن إقامه علاقات ودية مع الأخرين ففي هذه الحالة تصبح لديه حاجة الى الانتماء أو الاندماج بالأخرين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ن الناس يرغبون في الحصول على حب الاخرين لهم فإنهم بالتالي يهتمون بمرعاه الاخرين و احساسيهم و يبنون جهودهم في تنميه العلاقات الطيبة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هم أسس التطبيق الإداري من قبل نظرية دافع الإنجاز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55280" y="234900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ذا كان دافع الإنجاز من الدوافع المتعلمة فإننا بنا عليه يمكننا تصميم بعض برامج التدريب التي يمكنها رفع الإنجا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لا بد من تزويد الموظفين من وقت لآخر بعلوات عن مدى تقدمهم في العمل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 من وجهة علماء النفس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49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عمليه السلوك و الاحتفاظ به في حالة استمرار و كذلك هي عملية تنظيم السلو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920" y="3933720"/>
            <a:ext cx="775368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نلاحظ ان هناك خاصيه مشتركه بين جميع هذه التعريفات فجميعها تستمد أصولها من كلمة يدفع بمعنى يحر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ماد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2421000"/>
            <a:ext cx="8286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تشمل المكافآت و زياده الأجور و الرواتب و المشاركة بالأرباح  و منح نسبه من المبيعات أو الأرباح و الترقيات الوظيفية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معنو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7080" y="2707920"/>
            <a:ext cx="793116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تشمل خطابات الشكر و المشاركة في القرارات الإدارية و الثناء و المديح و شهادات التفوق و التميز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فرد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تختص بأفراد محددين في المنشأة و مثال ذلك تقديم مكافاة لأفضل موظف خطاب شكر لأفضل شخص منتج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هذه الحوافز تستخدم لدعم التنافس الإيجابي بين الأفراد لكن قد يترتب عليها ظهور الغيرة و الحسد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جماع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4000" y="2924280"/>
            <a:ext cx="800244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توجه هذه الحوافز لإثارة دوافع الروح الجماعية و التعاون بين العاملين و دعم مبادئ التكاتف لتحقيق أهداف المنشأة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مثل إنشاء جائزة لأفضل قسم أو افضل أداره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إيجابية و السلب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56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لحوافز كما هي إيجابية فأنها يمكن أن تكون سلبية كذلك فالمكافأة المالية لأحد الموظفين هي حافز مادي إيجابي في حين أن الخصم من الراتب هو حافز مادي سلبي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22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يمكن القول ان الدافعية ببساطه هي 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2276640"/>
            <a:ext cx="8353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درجة حماس الفرد للسلوك الموجه ل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لا ان الامر يحتاج الى  النظر الى مجموعه من الاعتبارات قد تم اخذها في الحسبان عبر النظريات المحتفلة للدافعية  و هي ثلاث اعتبارات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درجه الحماس و الدافعية لدى الفرد تتأثر بوجود مؤثرات سواء داخل الفرد أو خارجة فتنشا هذه الحالة شيئا من الحماس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سلوك الدافعي هو سلوك موجه في أتجاه محدد و هذا الاتجاه المحدد قد يكون هدفا أو جهة معينه أو حافز أو اختيار بديل من بدائل  السلو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درجة إشباع  الحاجة أو تحقيق الهدف قد تؤدي بالسلوك مره أخرى إما تكراراه أو تثبيته أو تغيره أو تحويله الى سلوك هادف أخ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منطلقات تحديد الدافع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2349000"/>
            <a:ext cx="728352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نشيط السلو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وجيه السلوك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ثبيت و تعديل السلوك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شكل رقم (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1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-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8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 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يوضح الشكل أن وجود حاله خارجيه من المثيرات قد تتسبب في نشأة و ظهور سلوك جديد او  أن حاله داخليه للفرد بألحاجه الى شيء معين أو بالتوقع أو الرغبة لشي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أو عدم التوازن يؤدي إلى تنشيط السلوك وهذا السلوك الذي تم تنشيطه و سيكون موجها الى هدف معين أو حافز معين أو بديل محدد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ثم يأتي بعد ذلك المرحلة الثالثة التي يقوم الفرد فيها بالتفكير و النظر و التبصر في حصيلة الخبرة الماضية و التي ستؤثر فيما بعد إما على الحفاظ على السلوك الذي تم التوصل  اليه و تثبيته أو تحويله الى سلوك موجه الى هدف أخر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9" name="Picture 4" descr="007-work_so-tired"/>
          <p:cNvPicPr/>
          <p:nvPr/>
        </p:nvPicPr>
        <p:blipFill>
          <a:blip r:embed="rId1"/>
          <a:stretch/>
        </p:blipFill>
        <p:spPr>
          <a:xfrm>
            <a:off x="1512720" y="1916280"/>
            <a:ext cx="6118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6-11-03T22:16:11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