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CC19-53A6-4CAA-86AC-FA7E9669F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982F-B13F-42D8-943B-7F3FC182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88A9-06CB-40CE-9F75-359A1385B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1635-8921-419D-8B8F-1C97F5D29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5B1C-DF8D-4541-8A0D-3DC98141C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A5B8-76A1-4F28-ADDF-58DF5123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3E17-CBAC-4BDA-9E5C-EC70ACCE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CE53-A4AC-4F67-B58D-03BAD781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46CB-B727-4E21-95CF-20DB1E3E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DDFA-EEC6-4056-B816-4486F4F4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E5FC-0212-4267-ADED-2676C4EE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55D2-D7CF-4F01-AC2E-A16F0BBB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257E-E048-4CFF-BD7C-0110B4A9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2679-5374-4002-AA91-4870CB51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D06E-5547-4998-8ACD-A21E7784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EFE7-D9FE-4EF9-A6D3-CA6525260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4D5E-68A8-4953-97C0-C2E2A71B0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70D4D-9BAC-4560-A9B2-DAA0D22AA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ECAEF-968B-43C0-BCBA-861F37F8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66A3A-4B54-46D9-A15E-6E477B36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65092-9C08-4E60-8ECF-A1291694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B6569-51E9-4E7D-97E7-B691E91C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F2F3-10E1-43A0-98FF-A5C01741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4AF20-A88E-42C2-9C7A-BF913BC4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CB76B-13EA-42B2-A330-97C563C5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AC872-400D-4A83-8C0D-A908C1E6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8838E-560E-41A4-BDDA-839196F6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090E8-5E6E-4D01-8DD7-0A0274DE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FC1F9-BF91-4D62-ADF9-8753DF900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66B3C-E555-46C9-81CE-118BDA76C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BDA1-3052-42BD-9C4C-1E91D413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742C-2964-4CFF-A819-CD5414AB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F4FF-306B-4D54-9210-55818EC1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24E1-C5B5-4A81-977F-41038130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028E-4E5F-4C0D-A2E5-D431790F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2563-BFA3-4033-8AB2-C265CAFF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8125-869F-458D-9A95-D37DEE8EEBFF}" type="slidenum"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55DF-E2D1-480A-9E38-876648253CB9}" type="slidenum"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4379-A1C9-48E8-8BAE-03AAB4552DFE}" type="slidenum"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2f5897"/>
                </a:solidFill>
                <a:latin typeface="Palatino Linotype"/>
              </a:rPr>
              <a:t>الدوافع والحوافز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33" name="Picture 4" descr="incentive"/>
          <p:cNvPicPr/>
          <p:nvPr/>
        </p:nvPicPr>
        <p:blipFill>
          <a:blip r:embed="rId1"/>
          <a:stretch/>
        </p:blipFill>
        <p:spPr>
          <a:xfrm>
            <a:off x="826920" y="2349360"/>
            <a:ext cx="7274160" cy="37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2f5897"/>
                </a:solidFill>
                <a:latin typeface="Palatino Linotype"/>
              </a:rPr>
              <a:t>صنفي الحوافز التالية حسب أنواعها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خصم من الراتب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زيادة الأجور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مكافأة لأفضل موظ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مكافأة لأفضل قسم و إدار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خطاب شكر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57" name="Picture 4" descr="تنسيق1"/>
          <p:cNvPicPr/>
          <p:nvPr/>
        </p:nvPicPr>
        <p:blipFill>
          <a:blip r:embed="rId1"/>
          <a:stretch/>
        </p:blipFill>
        <p:spPr>
          <a:xfrm>
            <a:off x="0" y="1916280"/>
            <a:ext cx="451476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تعريف الدافعية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هي سلسلة من الاستجابات ، تبدأ بالحاجات التي يشعر بها الفرد ، وينتج عنها رغبات ، مما يؤدي إلى احدث السلوك لتحقيق الرضا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6" name="Picture 5" descr="A_leader"/>
          <p:cNvPicPr/>
          <p:nvPr/>
        </p:nvPicPr>
        <p:blipFill>
          <a:blip r:embed="rId1"/>
          <a:stretch/>
        </p:blipFill>
        <p:spPr>
          <a:xfrm>
            <a:off x="0" y="4005360"/>
            <a:ext cx="9144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الفرق بين الدوافع والحوافز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38" name="Picture 4" descr="007-work_so-tired"/>
          <p:cNvPicPr/>
          <p:nvPr/>
        </p:nvPicPr>
        <p:blipFill>
          <a:blip r:embed="rId1"/>
          <a:stretch/>
        </p:blipFill>
        <p:spPr>
          <a:xfrm>
            <a:off x="1042920" y="1773360"/>
            <a:ext cx="61200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أنواع الدوافع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دوافع الأولية والدوافع الثانوية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دوافع الفردية والدوافع الإجتماعية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دوافع الشعورية والدوافع اللاشعورية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1" name="Picture 4" descr="20110922-work"/>
          <p:cNvPicPr/>
          <p:nvPr/>
        </p:nvPicPr>
        <p:blipFill>
          <a:blip r:embed="rId1"/>
          <a:stretch/>
        </p:blipFill>
        <p:spPr>
          <a:xfrm>
            <a:off x="0" y="3933720"/>
            <a:ext cx="91440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f5897"/>
                </a:solidFill>
                <a:latin typeface="Palatino Linotype"/>
              </a:rPr>
              <a:t>نظريات الدوافع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entury Gothic"/>
              </a:rPr>
              <a:t>أولا : نظرية تدرج الحالات (ابراهام ماسلو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4" name="Picture 4" descr="c5ohx765kr3qeak7c1cg"/>
          <p:cNvPicPr/>
          <p:nvPr/>
        </p:nvPicPr>
        <p:blipFill>
          <a:blip r:embed="rId1"/>
          <a:stretch/>
        </p:blipFill>
        <p:spPr>
          <a:xfrm>
            <a:off x="1233360" y="1628640"/>
            <a:ext cx="72010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2f5897"/>
                </a:solidFill>
                <a:latin typeface="Palatino Linotype"/>
              </a:rPr>
              <a:t>ثانياً: نظرية عوامل الوقاية وعوامل الدفع (هيرزبرج)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601"/>
              </a:spcBef>
              <a:buClr>
                <a:srgbClr val="7f7f7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عوامل الوقائية : وتتمثل في / الأمن الوظيفي ، ظروف العمل ، سياسات الشركة ، الأجور ، نوعية الإشراف طبيعة العلاقات ، مكانة العمل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609480" indent="-609480" algn="r" rtl="1">
              <a:spcBef>
                <a:spcPts val="601"/>
              </a:spcBef>
              <a:buClr>
                <a:srgbClr val="7f7f7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609480" indent="-609480" algn="r" rtl="1">
              <a:spcBef>
                <a:spcPts val="601"/>
              </a:spcBef>
              <a:buClr>
                <a:srgbClr val="7f7f7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عوامل الدافعة : وتتمثل في/ الإنجاز ، الاعتراف، طابع التحدي في العمل، المسؤولية ، النمو ، التقدم والتعلم ، عمل ذو معنى تام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f5897"/>
                </a:solidFill>
                <a:latin typeface="Palatino Linotype"/>
              </a:rPr>
              <a:t>ثالثاً: نظرية </a:t>
            </a:r>
            <a:r>
              <a:rPr b="0" lang="en-US" sz="2800" spc="-1" strike="noStrike">
                <a:solidFill>
                  <a:srgbClr val="2f5897"/>
                </a:solidFill>
                <a:latin typeface="Palatino Linotype"/>
              </a:rPr>
              <a:t>X,Y,Z</a:t>
            </a:r>
            <a:br>
              <a:rPr sz="2800"/>
            </a:br>
            <a:r>
              <a:rPr b="0" lang="ar-SA" sz="2800" spc="-1" strike="noStrike">
                <a:solidFill>
                  <a:srgbClr val="2f5897"/>
                </a:solidFill>
                <a:latin typeface="Palatino Linotype"/>
              </a:rPr>
              <a:t>(ماكيجروجر)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68360" y="1989000"/>
          <a:ext cx="8458200" cy="4572000"/>
        </p:xfrm>
        <a:graphic>
          <a:graphicData uri="http://schemas.openxmlformats.org/drawingml/2006/table">
            <a:tbl>
              <a:tblPr/>
              <a:tblGrid>
                <a:gridCol w="4228920"/>
                <a:gridCol w="4229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نظرية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نظرية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حب الفرد العم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كره الفرد العم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مارسة الرقابة الذات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هناك ضرورة للرقابة المباشر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سعى الفرد إلى تحمل المسؤول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فرد يتجنب المسؤول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فضل التوجيه الذات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فضل التوجيه عن طريق الآخري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طموحات عالية ودوافع للإبتكا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لديه طموح قلي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كون مدفوعا للعمل نتيجة للحوافز المعنو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كون مدفوعا للعمل نتيجة للحوافز المادية أو الإقتصاد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رغب في الإثراء الوظيف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فضل التخصص الدقيق في الوظيف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2f5897"/>
                </a:solidFill>
                <a:latin typeface="Palatino Linotype"/>
              </a:rPr>
              <a:t>رابعاً: نظرية دافع الإنجاز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اجة إلى الإنجا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اجة إلى القوة 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اجة إلى الانتماء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51" name="Picture 4" descr="motivation_research"/>
          <p:cNvPicPr/>
          <p:nvPr/>
        </p:nvPicPr>
        <p:blipFill>
          <a:blip r:embed="rId1"/>
          <a:stretch/>
        </p:blipFill>
        <p:spPr>
          <a:xfrm>
            <a:off x="0" y="1557360"/>
            <a:ext cx="3132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team_work"/>
          <p:cNvPicPr/>
          <p:nvPr/>
        </p:nvPicPr>
        <p:blipFill>
          <a:blip r:embed="rId1"/>
          <a:stretch/>
        </p:blipFill>
        <p:spPr>
          <a:xfrm>
            <a:off x="0" y="0"/>
            <a:ext cx="3348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2f5897"/>
                </a:solidFill>
                <a:latin typeface="Palatino Linotype"/>
              </a:rPr>
              <a:t>أنواع الحوافز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ماد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معنو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فرد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جماع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إيجاب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سلب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21:58:10Z</dcterms:created>
  <dc:creator/>
  <dc:description/>
  <dc:language>en-US</dc:language>
  <cp:lastModifiedBy/>
  <dcterms:modified xsi:type="dcterms:W3CDTF">2016-04-14T06:24:43Z</dcterms:modified>
  <cp:revision>4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