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448-2D97-4228-B08A-22CEC7B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0A3-3C68-4FEE-B893-1EEB51D8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4EA-8B47-49D8-B1B9-9C613EDC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684-967E-4907-B3F2-67CB90DA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DE8-64ED-4715-ACEC-93899214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D3A-13D1-43E0-B390-0FDAE89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5C7C-9B28-4AF9-8AB8-4D191589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C245-91A0-4BBF-AED3-A4664460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D0B-083F-4384-B0CE-252A428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546-15AE-4D39-9EBE-EDA0434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2CCE-9DBB-4879-8952-5F1A54C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671-8549-442A-8ADE-7F8DD9D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A30-48C1-4D95-8EA0-B7943F9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E729-EE80-4721-A494-B7EC93F8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6340-C233-4261-B2FE-4603379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9CE0-561A-40AD-B70D-47599BE6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9125-3F21-458F-9B39-35696547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455D-DA4D-45E5-858C-B18BCFA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219E-C3B6-49D9-8D5E-04D3206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C8C5-C7E3-468D-9DEC-32F87116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375F-11D0-4C1C-A2C8-3DC2ED28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8060-9F4D-49DD-B6DC-6531E169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E9E-C1CA-4E13-A3AC-3D381E3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88F5-0F8D-44C9-82A4-A41F3F35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CE8B-FA3B-4B8C-9B88-28F1BF9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1E80-34DE-47AB-A601-0EBFC465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09AC-64AC-41E3-8116-E76A041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B601-0B1F-4309-B0F8-84D210C8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0136-CFDB-4462-BC57-CDE7F64A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36C8-A70D-4314-8D16-047AF71E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751-24EC-408A-BDED-63646872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5D6-6940-4783-826C-6E90E4C6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4C1-78CD-40C7-B049-93787F13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F9B-87AC-46E1-9110-67E0077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21E-B4E3-4041-978A-C7615A6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D19-B548-4408-87C1-4FA178B3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1875-BC60-4326-84F0-6EF7421636C2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2E1-6199-4441-B81A-051D64E6C8E4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FC45-F9E5-44BF-8BAF-1EE092E7675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7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رابعاً: نظرية دافع الإنجاز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إنجا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قو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انتما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1" name="Picture 4" descr="motivation_research"/>
          <p:cNvPicPr/>
          <p:nvPr/>
        </p:nvPicPr>
        <p:blipFill>
          <a:blip r:embed="rId1"/>
          <a:stretch/>
        </p:blipFill>
        <p:spPr>
          <a:xfrm>
            <a:off x="0" y="1557360"/>
            <a:ext cx="313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6-04-14T06:24:4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