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F4B9-6008-4E77-BA59-35EB76CA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B4CF-D6BB-48C0-B582-7C3C0D55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1916-EAB8-43E8-B5E1-214F5899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6637-75EB-4054-BC89-C4CCD4E3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74C8-ACCE-4436-AD22-3A934A27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229E-5154-42DF-B8D7-7652DEC2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9F1F-DF1F-4CF4-A1BB-DECFC7C1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D170-3E71-47B5-977D-75F15C5A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DE1E-E767-4500-AFB2-0474BC8E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F16E-55D6-4102-AFD7-5F74E10C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C242-59FD-4A7C-9063-58DE60A9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6292-398B-48A9-A03C-D1AA9A33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FA00-9ED3-452C-91A6-9D0376D3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7F00-9C8A-470D-9410-8C51264B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EBA9-5DD4-4BBC-A6C0-52EB5787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59A6-AFFB-41EC-AA76-C246FB70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6175-BE7C-4276-AA4D-0C561C7C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1092-6741-437A-AE1A-329E3D69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812-B384-4A57-B827-EAD9F6CE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E92F-926D-442F-8137-AC113181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597B-D544-4180-89D8-B585E380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9989-4CA4-4C4E-89D2-C5184373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D335-0C21-4DA8-8797-0DBFD005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141-D2C3-4B0C-8E19-7B52B37F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F35E-D3EC-4EE8-AC2E-EEDB5342E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184D-2D66-49DA-B785-4AE38C870D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cecff"/>
                </a:solidFill>
                <a:latin typeface="Arial"/>
              </a:rPr>
              <a:t>البرامج التربوية فى رياض الاطفال</a:t>
            </a:r>
            <a:r>
              <a:rPr b="0" lang="ar-SA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طبيقات على الاتجاهات النظرية الرئيس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اتجاه بانك ستريت النمائى التفاعلى</a:t>
            </a: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ركز البرنامج على نمو كل من الثقة بالذات و الابتكارية و المسئولية و الانتاج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شير كلمة نمائى الى الاهتمام بكون المنهج فى البرناج فرديا بما يلائم نمو كل طف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ى حين يشير“تفاعلى ” الى الايمان بان التعلم الافضل يكون من خلال تفاعل الاطفال مع اقرانهم و مع الكبار مما يخلق بيئة تعلم ثر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تطلب هذا الاتجاه من المعلمة ان تقيس و تقيم تطور الاطفال باستمرا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تطلب اتجاه بانك ستريت بيئة تعلم تسمح للاطفال بالاختيار من عدد متنوع من الانشطة (حسية و حركية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تابع برنامج البانك ستريت</a:t>
            </a: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تم توفير العديد من الخامات للاستكشاف و اللعب (مكعبات البناء –الكتب –العاب ذات فواعد – خامات العد –الملابس – الدمى – الرمل – حيوانات اليفة )بعض الخامات من صنع المعلمة – من صنع الاطفال – او تجاري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جالات المنهج تتكامل معا من خلال“ وحدات ”او ” محاور“ نمائية ( الحبوب – بناء منزل – من يعاونوننا فى المجتمع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وحدة او المحور يجب ان يحقق المحكات التالية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يدور حول شىء يهم الاطفال     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يعاون فى نمو تعلم المفاهي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وجود مصادر و خامات متاحة للعمل به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مناسب لعمر الاطفا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يقود الى انشطة و مناقشات        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يساهم فى التعلم الستقل للاطفا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يتصل بخبرات الاطفال السابق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تابع بانك ستريت</a:t>
            </a: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بمجرد اختيار المحور فان الانشطة تقود لبعضها , فقد يكون هناك مشروع جماعى مما يتطلب من الاطفال توظيف مهارات مثل العد, القياس , الوزن , الملاحظة , القراءة , الكتاب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تولد الدافعية لدى الاطفال من المتعة الناجمة عن العمل فى المشرو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 يتم استخدام اسلوب المكافآت الخارجية للتأثير على الاطفال و تعلمه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تم بناء الجدول اليومى بعناية بحيث يحقق التوازن فى كافة المجال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تميز الجدول اليومى بالمرون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عتبر القراءة و الكتابة من بين العديد من الانشطة التى يمكن للاطفال ممارستها داخل الفصل , و من الضرورى ان ترتبط عن قرب بتعبيرات الاطفال الفردية و اختياراتهم الحرة , و لا يكون هناك منهج ثابت للقراءة و الكتاب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قوم المعلمة بالقراءة اليومية للاطفال فى موضوعات متنوع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ثمن البرنامج الاشتراك الوالد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نموذج التدريس المباشر ( الدايستار )</a:t>
            </a: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ذا البرنامج متمركزحول الجوانب الاكاديم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رتكز البرنامج على فلسفة ترفض الانتظار حتى يكون الطفل مستعدا اكاديميا لتعليمه و تنميت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وضح اصحاب هذا الاتجاه ان التطبيق المرتبط بالنضج الذى يتبع تفتح الاطفال و نماذج المناهج المرتكزة على اللعب لا تخدم نمو الطفل , و انه بالامكان معاونة اولئك الاطفال على التحصيل الجيد من خلالتدعيم السلوك المرتبط بالعمل لا اللع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ذا البرنامج قد اثار جدلا واسعا و كذلك شهرة واسع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 يركز البرنامج على التدريس فى ثلاثة مجالات :  القراءة , اللغة , و الحساب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تابع برنامج الدايستار</a:t>
            </a: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جال القراءة : النظر الى الرموز المكتوبة او الحروف و ان ينطقوا بسرعة صوت الحر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جال اللغة : ان يجيبوا على سؤال حول الصور المعروضة عليهم , و تعليمهم استخدام المصطلحات المقابلة لها و المفاهيم المتصلة ب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جال الحساب : تعليمهم العد للأمام و للخلف و ان يعدوا فى مجموعات و تعلم وظائف الرموز (+,-,=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تم تنظيم الاطفال فى مجموعات للتدريس (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اطفال)يتم تنظيمهم طبقا لقدراتهم (العدد الكلى للفصل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طفل 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حصص مدة كل منها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دقيق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تابع الدايستار</a:t>
            </a: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ترة التنظيف و الترتيب تعتبر قصيرة , و جدول التدريس له الاولوية على غيره من الانشط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مبادىء الاساسة لهذا البرنامج هى 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كافىء الطفل الذى يحاو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تجنب مكافأة السلوك غير المرغوب في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تجنب اشعار الطفل بالخجل او الملاطفة ( المعلمة تخبر الاطفال ماعليهم القيام به , و انهم سوف يصبحون اذكياء , و انها ستكون فخورة بهم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المحافظة على روح الفريق ( عدم القبول بالوشاية او النميمة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التركيز على قواعد السلوك التى يجب مراعاتها من خلال التذكير الدائم بالقاعد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اعلاء الدافعية للعمل بدلا من اللع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امداد الطفل بتعريفات محددة للنجاح و الفش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تابع برنامج الدايستار</a:t>
            </a: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جلس الاطفال فى شبه دائرة حول المعلم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معلمة تتبع التوجيهات و الارشادات الموجودة فى الكتاب المرشد بدق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خصائص المميزة للبرنامج هى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التأكيد على السرع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التأكيد على الاستجابات اللفظية لمجموعة الاطفال كلها و التى تأخذ شكل الترديد الجماع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وحدات تدريسية مخطط لها بعناية تراجع باستمر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مطالب عمل ثقيلة خلال الفترات مع القليل من التسامح تجاه السلوك الذى لا يندرج تحت العم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تابع الدايستار</a:t>
            </a: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معلمة تعطى الاطفال البسكويت و الحلوى و الجوائز و التصافح بالايدى و اخبارهم كم هم أذكيا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استجابات غير الصحيحة لا تقبل و بالتالى يتم طرح السؤال من جديد حتى تأتى الاجابة الصحيحة حينئذ يتم تدعيم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سيطرة على الفصل و انضباطه امر اساسى و يتم مكافأة الاطفال لاشتراكهم و استجابته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ناك القليل من خامات اللعب فهى خامات غير مرغوب فيها رغبة فى الاقلال من اسباب التشتي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ن التوقع ان يظل الاطفال هادئين اثناء الفترات التى لا يكون فيها تدريس , كما انهم يرون الفسحة لا تعاون الاطفال على التهدئة و تجعل من عودة الاطفال للعمل امر صع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4:58:20Z</dcterms:created>
  <dc:creator>user</dc:creator>
  <dc:description/>
  <dc:language>en-US</dc:language>
  <cp:lastModifiedBy>Lena Alkhuraiji</cp:lastModifiedBy>
  <dcterms:modified xsi:type="dcterms:W3CDTF">2017-12-01T11:17:51Z</dcterms:modified>
  <cp:revision>39</cp:revision>
  <dc:subject/>
  <dc:title>البرامج التربوية فى رياض الاطفال</dc:title>
</cp:coreProperties>
</file>