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437B-9509-44C8-A42B-8851F7FC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F36D-F070-4B0A-BD78-C07B9511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7B9C-0A89-4ADC-A5D2-5E5A034B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64A-B2EB-4ECC-B17A-DC01DCC4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AA87-9297-4C0C-9A9C-FAFCFA74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8ECB-5589-4A33-BAB6-806AA046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7FA2-32A2-4C59-A4A8-7FE93A81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1156-024D-4D5C-83AB-C3E1500E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80CF-B255-42FC-9251-E12F6ABE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F66F-69E2-450B-9645-79BAC1E1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6C16-0592-452A-8B5C-614239DD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8E2E-A529-44F3-99BA-5F8D7B23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F032-EEF4-4165-B553-E305C903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E9D8-ADEE-4172-BF39-C8D91C16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0D67-562B-4B41-8844-A226FA3F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46E8-A6C0-43F6-8248-F7674563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24AE-8FC0-4263-A660-60166B45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3847-82CB-497F-B803-0CD1396D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1D09-3F12-46E9-966B-3629508D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55A1-DF10-435C-B5B4-931FBD3C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48C4-2EE7-4A98-929D-DECD5CAB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45D8-4E29-454D-A823-047BAA22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6FB2-9C0D-4B45-8CD8-DC495064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F091-0A5F-40B2-802C-CCAC205E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8960-5AF5-4256-B054-103034692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CA97-6575-49E3-9001-8E86A8B3FF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cecff"/>
                </a:solidFill>
                <a:latin typeface="Arial"/>
              </a:rPr>
              <a:t>البرامج التربوية فى رياض الاطفال</a:t>
            </a:r>
            <a:r>
              <a:rPr b="0" lang="ar-SA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طبيقات على الاتجاهات النظرية الرئيس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اتجاه بانك ستريت النمائى التفاعلى</a:t>
            </a: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ركز البرنامج على نمو كل من الثقة بالذات و الابتكارية و المسئولية و الانتاج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شير كلمة نمائى الى الاهتمام بكون المنهج فى البرناج فرديا بما يلائم نمو كل طف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ى حين يشير“تفاعلى ” الى الايمان بان التعلم الافضل يكون من خلال تفاعل الاطفال مع اقرانهم و مع الكبار مما يخلق بيئة تعلم ثر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تطلب هذا الاتجاه من المعلمة ان تقيس و تقيم تطور الاطفال باستمرا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تطلب اتجاه بانك ستريت بيئة تعلم تسمح للاطفال بالاختيار من عدد متنوع من الانشطة (حسية و حركية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تابع برنامج البانك ستريت</a:t>
            </a: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تم توفير العديد من الخامات للاستكشاف و اللعب (مكعبات البناء –الكتب –العاب ذات فواعد – خامات العد –الملابس – الدمى – الرمل – حيوانات اليفة )بعض الخامات من صنع المعلمة – من صنع الاطفال – او تجاري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جالات المنهج تتكامل معا من خلال“ وحدات ”او ” محاور“ نمائية ( الحبوب – بناء منزل – من يعاونوننا فى المجتمع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وحدة او المحور يجب ان يحقق المحكات التالية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يدور حول شىء يهم الاطفال     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يعاون فى نمو تعلم المفاهي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وجود مصادر و خامات متاحة للعمل به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مناسب لعمر الاطفا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يقود الى انشطة و مناقشات         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يساهم فى التعلم الستقل للاطفا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يتصل بخبرات الاطفال السابق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تابع بانك ستريت</a:t>
            </a: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بمجرد اختيار المحور فان الانشطة تقود لبعضها , فقد يكون هناك مشروع جماعى مما يتطلب من الاطفال توظيف مهارات مثل العد, القياس , الوزن , الملاحظة , القراءة , الكتاب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تولد الدافعية لدى الاطفال من المتعة الناجمة عن العمل فى المشرو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 يتم استخدام اسلوب المكافآت الخارجية للتأثير على الاطفال و تعلمه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تم بناء الجدول اليومى بعناية بحيث يحقق التوازن فى كافة المجال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تميز الجدول اليومى بالمرون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عتبر القراءة و الكتابة من بين العديد من الانشطة التى يمكن للاطفال ممارستها داخل الفصل , و من الضرورى ان ترتبط عن قرب بتعبيرات الاطفال الفردية و اختياراتهم الحرة , و لا يكون هناك منهج ثابت للقراءة و الكتاب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قوم المعلمة بالقراءة اليومية للاطفال فى موضوعات متنوع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ثمن البرنامج الاشتراك الوالد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نموذج التدريس المباشر ( الدايستار )</a:t>
            </a: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ذا البرنامج متمركزحول الجوانب الاكاديم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رتكز البرنامج على فلسفة ترفض الانتظار حتى يكون الطفل مستعدا اكاديميا لتعليمه و تنميت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وضح اصحاب هذا الاتجاه ان التطبيق المرتبط بالنضج الذى يتبع تفتح الاطفال و نماذج المناهج المرتكزة على اللعب لا تخدم نمو الطفل , و انه بالامكان معاونة اولئك الاطفال على التحصيل الجيد من خلالتدعيم السلوك المرتبط بالعمل لا اللع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ذا البرنامج قد اثار جدلا واسعا و كذلك شهرة واسع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 يركز البرنامج على التدريس فى ثلاثة مجالات :  القراءة , اللغة , و الحساب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تابع برنامج الدايستار</a:t>
            </a: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جال القراءة : النظر الى الرموز المكتوبة او الحروف و ان ينطقوا بسرعة صوت الحر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جال اللغة : ان يجيبوا على سؤال حول الصور المعروضة عليهم , و تعليمهم استخدام المصطلحات المقابلة لها و المفاهيم المتصلة ب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جال الحساب : تعليمهم العد للأمام و للخلف و ان يعدوا فى مجموعات و تعلم وظائف الرموز (+,-,=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تم تنظيم الاطفال فى مجموعات للتدريس (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اطفال)يتم تنظيمهم طبقا لقدراتهم (العدد الكلى للفصل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طفل 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حصص مدة كل منها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دقيق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تابع الدايستار</a:t>
            </a: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ترة التنظيف و الترتيب تعتبر قصيرة , و جدول التدريس له الاولوية على غيره من الانشط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مبادىء الاساسة لهذا البرنامج هى 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كافىء الطفل الذى يحاو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تجنب مكافأة السلوك غير المرغوب في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تجنب اشعار الطفل بالخجل او الملاطفة ( المعلمة تخبر الاطفال ماعليهم القيام به , و انهم سوف يصبحون اذكياء , و انها ستكون فخورة بهم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المحافظة على روح الفريق ( عدم القبول بالوشاية او النميمة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التركيز على قواعد السلوك التى يجب مراعاتها من خلال التذكير الدائم بالقاعد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اعلاء الدافعية للعمل بدلا من اللع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- امداد الطفل بتعريفات محددة للنجاح و الفش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تابع برنامج الدايستار</a:t>
            </a: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جلس الاطفال فى شبه دائرة حول المعلم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معلمة تتبع التوجيهات و الارشادات الموجودة فى الكتاب المرشد بدق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خصائص المميزة للبرنامج هى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التأكيد على السرع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التأكيد على الاستجابات اللفظية لمجموعة الاطفال كلها و التى تأخذ شكل الترديد الجماع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وحدات تدريسية مخطط لها بعناية تراجع باستمر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مطالب عمل ثقيلة خلال الفترات مع القليل من التسامح تجاه السلوك الذى لا يندرج تحت العم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تابع الدايستار</a:t>
            </a: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معلمة تعطى الاطفال البسكويت و الحلوى و الجوائز و التصافح بالايدى و اخبارهم كم هم أذكيا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استجابات غير الصحيحة لا تقبل و بالتالى يتم طرح السؤال من جديد حتى تأتى الاجابة الصحيحة حينئذ يتم تدعيم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سيطرة على الفصل و انضباطه امر اساسى و يتم مكافأة الاطفال لاشتراكهم و استجابته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ناك القليل من خامات اللعب فهى خامات غير مرغوب فيها رغبة فى الاقلال من اسباب التشتي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ن التوقع ان يظل الاطفال هادئين اثناء الفترات التى لا يكون فيها تدريس , كما انهم يرون الفسحة لا تعاون الاطفال على التهدئة و تجعل من عودة الاطفال للعمل امر صع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4:58:20Z</dcterms:created>
  <dc:creator>user</dc:creator>
  <dc:description/>
  <dc:language>en-US</dc:language>
  <cp:lastModifiedBy>Lena Alkhuraiji</cp:lastModifiedBy>
  <dcterms:modified xsi:type="dcterms:W3CDTF">2017-12-01T11:17:51Z</dcterms:modified>
  <cp:revision>39</cp:revision>
  <dc:subject/>
  <dc:title>البرامج التربوية فى رياض الاطفال</dc:title>
</cp:coreProperties>
</file>