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E72B-F0B6-4081-9B07-6E1D17D0DD9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2C7F-DC9C-4B40-A940-DCF72868A9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52DA-5CA4-4F34-876D-B164DF3318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34EC-4C8B-45ED-ACA8-1A550A0B7AE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9465-7001-41C1-B7A3-514D6A10D6D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A63-6D77-4685-9A08-787F73D7B4B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8617-8F57-4307-B0BA-53E8F671E57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BD9-E8F9-46E7-8A9D-631926E8DC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BD8D-2902-4406-B1DF-1F328A9AED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DC52-A620-4146-AE35-BB1A7FE1A8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8775-DEDE-4642-8F81-1A22C612B3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6CDB-D9C9-4A11-9598-7F62166D8C5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DB67-5936-4E6B-8E93-D42A81B1DE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A74-C74D-46D5-81FC-49D500C4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5C9-5D22-4F5F-962F-8A18471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557-CE58-4958-A981-0DA0FD68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3F6-1A34-4314-87BA-59923218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10F-2C95-4E00-90C4-337F917C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15B-5578-4AE8-A393-E62C8C08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C1F-9938-4D83-A54A-FA04D46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93E-156E-4EB9-AE27-2D101DD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641-FE79-4205-BDFD-4C27CF80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74C-A80B-499C-B033-1593EA9D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7FC-A23C-4E1E-AAEB-B071085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2CF-EAC7-485C-A244-526642CD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5A1-CD75-4756-BA25-B6D721C197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5960" y="151920"/>
            <a:ext cx="8915400" cy="193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t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ci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ay vary 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n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molecule is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a 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ha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 every possible posi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5888-EFAD-4BC8-8262-3B44A25CEF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152280" y="1752480"/>
            <a:ext cx="90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f there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ne or more carbon-carbon double bo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n the            molecule is an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unsaturated fatty aci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- formed by the removal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toms from the carbon skele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333-798A-4FF8-8692-8B93492A6F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33520" y="1004760"/>
            <a:ext cx="850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components are saturated (there is no double bonds between the carbons. All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link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1733400"/>
            <a:ext cx="88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saturated with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33520" y="22096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animal fats are saturated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" y="268128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sol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457200" y="3062160"/>
            <a:ext cx="83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aturated fats-rich diet results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therosclerosi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57200" y="455292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se double bonds are formed by the removal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tom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57200" y="5029200"/>
            <a:ext cx="75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Most vegetable fats (oils)</a:t>
            </a:r>
            <a:r>
              <a:rPr b="0" lang="ar-EG" sz="20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and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fish fats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 are unsaturated.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57200" y="5410080"/>
            <a:ext cx="90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are liquid at room temperatu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57200" y="5845320"/>
            <a:ext cx="859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can be synthetically converted to saturated (solid) by adding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(</a:t>
            </a: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Hydrogenatio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مربع نص 13"/>
          <p:cNvSpPr/>
          <p:nvPr/>
        </p:nvSpPr>
        <p:spPr>
          <a:xfrm>
            <a:off x="1295280" y="7632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A)- 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مربع نص 15"/>
          <p:cNvSpPr/>
          <p:nvPr/>
        </p:nvSpPr>
        <p:spPr>
          <a:xfrm>
            <a:off x="1295280" y="3573360"/>
            <a:ext cx="601992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B)- Un-saturated Fa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7BCB-E0CD-478C-A6D3-ED54F9BEBD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4920" y="28954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phosphate group carries a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negativ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04920" y="4038480"/>
            <a:ext cx="34290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atty acid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tail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ob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but the phosphate group and its attachments form a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hydrophili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us, it i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mphipath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grpSp>
        <p:nvGrpSpPr>
          <p:cNvPr id="275" name="مربع نص 7"/>
          <p:cNvGrpSpPr/>
          <p:nvPr/>
        </p:nvGrpSpPr>
        <p:grpSpPr>
          <a:xfrm>
            <a:off x="798480" y="103320"/>
            <a:ext cx="7699320" cy="1006200"/>
            <a:chOff x="798480" y="103320"/>
            <a:chExt cx="7699320" cy="1006200"/>
          </a:xfrm>
        </p:grpSpPr>
        <p:pic>
          <p:nvPicPr>
            <p:cNvPr id="276" name="مربع نص 7" descr=""/>
            <p:cNvPicPr/>
            <p:nvPr/>
          </p:nvPicPr>
          <p:blipFill>
            <a:blip r:embed="rId2"/>
            <a:stretch/>
          </p:blipFill>
          <p:spPr>
            <a:xfrm>
              <a:off x="798480" y="103320"/>
              <a:ext cx="769932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914400" y="2206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)- Phospholip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مستطيل 8"/>
          <p:cNvSpPr/>
          <p:nvPr/>
        </p:nvSpPr>
        <p:spPr>
          <a:xfrm>
            <a:off x="411120" y="1352520"/>
            <a:ext cx="51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re major components of cell membr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مستطيل 9"/>
          <p:cNvSpPr/>
          <p:nvPr/>
        </p:nvSpPr>
        <p:spPr>
          <a:xfrm>
            <a:off x="380880" y="19051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have two fatty acids attached to glycerol and a </a:t>
            </a: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phosphate group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t the thir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52280" y="1655640"/>
            <a:ext cx="8763120" cy="13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teroids are lipids with a carbon skeleton consisting of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ملتحمة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steroids are created by varying functional groups attached to the r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761B-A06F-433B-B6B5-49848A41024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743200"/>
            <a:ext cx="4076640" cy="1465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228600" y="30988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2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Cholestero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04920" y="4267080"/>
            <a:ext cx="883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ndalus"/>
                <a:cs typeface="Andalus"/>
              </a:rPr>
              <a:t>المادة الخام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rom which all other steroids are synthesiz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any of these other steroids are hormones, including the vertebrate  sex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hile cholesterol is clearly an essential molecule, high levels of  cholesterol in the blood may contribute to </a:t>
            </a: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theroscler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مربع نص 8"/>
          <p:cNvGrpSpPr/>
          <p:nvPr/>
        </p:nvGrpSpPr>
        <p:grpSpPr>
          <a:xfrm>
            <a:off x="573120" y="36360"/>
            <a:ext cx="7699320" cy="1000440"/>
            <a:chOff x="573120" y="36360"/>
            <a:chExt cx="7699320" cy="1000440"/>
          </a:xfrm>
        </p:grpSpPr>
        <p:pic>
          <p:nvPicPr>
            <p:cNvPr id="286" name="مربع نص 8" descr=""/>
            <p:cNvPicPr/>
            <p:nvPr/>
          </p:nvPicPr>
          <p:blipFill>
            <a:blip r:embed="rId2"/>
            <a:stretch/>
          </p:blipFill>
          <p:spPr>
            <a:xfrm>
              <a:off x="573120" y="36360"/>
              <a:ext cx="7699320" cy="10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85800" y="152280"/>
              <a:ext cx="7467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3)- Steroid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8" name="مستطيل 10"/>
          <p:cNvSpPr/>
          <p:nvPr/>
        </p:nvSpPr>
        <p:spPr>
          <a:xfrm>
            <a:off x="152280" y="120024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clude cholesterol and certain horm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22C7-D8A0-4B52-8B75-C6CFADA912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581280" y="1878120"/>
            <a:ext cx="1828800" cy="703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048120" y="2971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(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osed of Lipids</a:t>
            </a:r>
            <a:r>
              <a:rPr b="1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457200" y="4800600"/>
            <a:ext cx="144792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438280" y="4800600"/>
            <a:ext cx="1752840" cy="7038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800600" y="4800600"/>
            <a:ext cx="19810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04920" y="5257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243828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8769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10"/>
          <p:cNvGrpSpPr/>
          <p:nvPr/>
        </p:nvGrpSpPr>
        <p:grpSpPr>
          <a:xfrm>
            <a:off x="1066680" y="5715000"/>
            <a:ext cx="2743200" cy="1163160"/>
            <a:chOff x="1066680" y="5715000"/>
            <a:chExt cx="2743200" cy="1163160"/>
          </a:xfrm>
        </p:grpSpPr>
        <p:grpSp>
          <p:nvGrpSpPr>
            <p:cNvPr id="301" name="Group 11"/>
            <p:cNvGrpSpPr/>
            <p:nvPr/>
          </p:nvGrpSpPr>
          <p:grpSpPr>
            <a:xfrm>
              <a:off x="1066680" y="5715000"/>
              <a:ext cx="2743200" cy="914400"/>
              <a:chOff x="1066680" y="5715000"/>
              <a:chExt cx="2743200" cy="914400"/>
            </a:xfrm>
          </p:grpSpPr>
          <p:sp>
            <p:nvSpPr>
              <p:cNvPr id="302" name="Line 12"/>
              <p:cNvSpPr/>
              <p:nvPr/>
            </p:nvSpPr>
            <p:spPr>
              <a:xfrm>
                <a:off x="3809880" y="571500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3"/>
              <p:cNvSpPr/>
              <p:nvPr/>
            </p:nvSpPr>
            <p:spPr>
              <a:xfrm flipH="1">
                <a:off x="1066680" y="662940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V="1">
                <a:off x="1066680" y="6019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Text Box 15"/>
            <p:cNvSpPr/>
            <p:nvPr/>
          </p:nvSpPr>
          <p:spPr>
            <a:xfrm>
              <a:off x="1219320" y="6235560"/>
              <a:ext cx="236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6" name="Group 16"/>
          <p:cNvGrpSpPr/>
          <p:nvPr/>
        </p:nvGrpSpPr>
        <p:grpSpPr>
          <a:xfrm>
            <a:off x="1143000" y="3429000"/>
            <a:ext cx="6781680" cy="1219320"/>
            <a:chOff x="1143000" y="3429000"/>
            <a:chExt cx="6781680" cy="1219320"/>
          </a:xfrm>
        </p:grpSpPr>
        <p:sp>
          <p:nvSpPr>
            <p:cNvPr id="307" name="Line 17"/>
            <p:cNvSpPr/>
            <p:nvPr/>
          </p:nvSpPr>
          <p:spPr>
            <a:xfrm>
              <a:off x="2971800" y="342900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18"/>
            <p:cNvSpPr/>
            <p:nvPr/>
          </p:nvSpPr>
          <p:spPr>
            <a:xfrm>
              <a:off x="4419720" y="34290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19"/>
            <p:cNvSpPr/>
            <p:nvPr/>
          </p:nvSpPr>
          <p:spPr>
            <a:xfrm>
              <a:off x="1143000" y="4038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0"/>
            <p:cNvSpPr/>
            <p:nvPr/>
          </p:nvSpPr>
          <p:spPr>
            <a:xfrm>
              <a:off x="114300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1"/>
            <p:cNvSpPr/>
            <p:nvPr/>
          </p:nvSpPr>
          <p:spPr>
            <a:xfrm>
              <a:off x="3352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2"/>
            <p:cNvSpPr/>
            <p:nvPr/>
          </p:nvSpPr>
          <p:spPr>
            <a:xfrm>
              <a:off x="792468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5791320" y="40384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24"/>
          <p:cNvSpPr/>
          <p:nvPr/>
        </p:nvSpPr>
        <p:spPr>
          <a:xfrm>
            <a:off x="7238880" y="4800600"/>
            <a:ext cx="160020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25"/>
          <p:cNvSpPr/>
          <p:nvPr/>
        </p:nvSpPr>
        <p:spPr>
          <a:xfrm>
            <a:off x="7086600" y="52578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Sex Hormones    &amp; Choleste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2"/>
          <a:srcRect l="32394" t="16604" r="13798" b="12111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2E73-2272-44FB-A031-E3130BA94B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228600" y="144792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1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olypeptide is a polymer of amino acids connected in a specific sequ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2.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	</a:t>
            </a:r>
            <a:r>
              <a:rPr b="1" lang="en-US" sz="2400" spc="-1" strike="noStrike">
                <a:solidFill>
                  <a:srgbClr val="292929"/>
                </a:solidFill>
                <a:latin typeface="Andalus"/>
                <a:ea typeface="Andalus"/>
              </a:rPr>
              <a:t>A protein’s function depends on its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8482-81F0-4F50-8BAD-C139024A75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6320"/>
            <a:ext cx="9144000" cy="63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Their functions include structural support, storage, transport of other substances, intercellular signaling, movement, and defense against microb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ndalus"/>
                <a:ea typeface="Andalus"/>
              </a:rPr>
              <a:t>Some proteins works as enzymes in the cell that regulate metabolism by accelerating chemical rea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protein polymers are constructed from 20 monomers,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amino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mers of proteins are called polypep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1720" indent="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protein consists of one or more peptides (polypeptides) folded and coiled  into a specific co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6"/>
          <p:cNvSpPr/>
          <p:nvPr/>
        </p:nvSpPr>
        <p:spPr>
          <a:xfrm>
            <a:off x="838080" y="76320"/>
            <a:ext cx="7315200" cy="76428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641-674B-431D-BB3F-BBF9E80C8D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228600" y="58672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sical and chemical characteristics of th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 determine the unique characteristics of a particular amino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5105520" y="3581280"/>
            <a:ext cx="1447560" cy="1269000"/>
            <a:chOff x="5105520" y="3581280"/>
            <a:chExt cx="1447560" cy="1269000"/>
          </a:xfrm>
        </p:grpSpPr>
        <p:sp>
          <p:nvSpPr>
            <p:cNvPr id="65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5105520" y="44514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de chai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2781360" y="2057400"/>
            <a:ext cx="2209680" cy="2379960"/>
            <a:chOff x="2781360" y="2057400"/>
            <a:chExt cx="2209680" cy="2379960"/>
          </a:xfrm>
        </p:grpSpPr>
        <p:sp>
          <p:nvSpPr>
            <p:cNvPr id="68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2781360" y="373356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ino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6553080" y="2133720"/>
            <a:ext cx="2362320" cy="2379960"/>
            <a:chOff x="6553080" y="2133720"/>
            <a:chExt cx="2362320" cy="2379960"/>
          </a:xfrm>
        </p:grpSpPr>
        <p:sp>
          <p:nvSpPr>
            <p:cNvPr id="71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0"/>
            <p:cNvSpPr/>
            <p:nvPr/>
          </p:nvSpPr>
          <p:spPr>
            <a:xfrm>
              <a:off x="7696080" y="38098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arboxyl group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Text Box 13"/>
          <p:cNvSpPr/>
          <p:nvPr/>
        </p:nvSpPr>
        <p:spPr>
          <a:xfrm>
            <a:off x="304920" y="2286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ein is a polymer of amino acids (constructed from 20 amino acids) (to form Polypeptid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4920" y="2249640"/>
            <a:ext cx="2743200" cy="703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General Formula of the Amino Acid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Group 15"/>
          <p:cNvGrpSpPr/>
          <p:nvPr/>
        </p:nvGrpSpPr>
        <p:grpSpPr>
          <a:xfrm>
            <a:off x="3733920" y="1905120"/>
            <a:ext cx="4267080" cy="2100600"/>
            <a:chOff x="3733920" y="1905120"/>
            <a:chExt cx="4267080" cy="2100600"/>
          </a:xfrm>
        </p:grpSpPr>
        <p:sp>
          <p:nvSpPr>
            <p:cNvPr id="76" name="Text Box 16"/>
            <p:cNvSpPr/>
            <p:nvPr/>
          </p:nvSpPr>
          <p:spPr>
            <a:xfrm>
              <a:off x="5486400" y="26668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17"/>
            <p:cNvSpPr/>
            <p:nvPr/>
          </p:nvSpPr>
          <p:spPr>
            <a:xfrm>
              <a:off x="5486400" y="19051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 Box 18"/>
            <p:cNvSpPr/>
            <p:nvPr/>
          </p:nvSpPr>
          <p:spPr>
            <a:xfrm>
              <a:off x="5524560" y="36068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1" name="Group 21"/>
            <p:cNvGrpSpPr/>
            <p:nvPr/>
          </p:nvGrpSpPr>
          <p:grpSpPr>
            <a:xfrm>
              <a:off x="3733920" y="1981080"/>
              <a:ext cx="1828800" cy="1677960"/>
              <a:chOff x="3733920" y="1981080"/>
              <a:chExt cx="1828800" cy="1677960"/>
            </a:xfrm>
          </p:grpSpPr>
          <p:sp>
            <p:nvSpPr>
              <p:cNvPr id="82" name="Text Box 22"/>
              <p:cNvSpPr/>
              <p:nvPr/>
            </p:nvSpPr>
            <p:spPr>
              <a:xfrm>
                <a:off x="4495680" y="26665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3809880" y="198108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Text Box 24"/>
              <p:cNvSpPr/>
              <p:nvPr/>
            </p:nvSpPr>
            <p:spPr>
              <a:xfrm>
                <a:off x="3733920" y="32601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660066"/>
                    </a:solidFill>
                    <a:latin typeface="Andalus"/>
                    <a:ea typeface="Andalus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 Box 29"/>
            <p:cNvSpPr/>
            <p:nvPr/>
          </p:nvSpPr>
          <p:spPr>
            <a:xfrm>
              <a:off x="6477120" y="2666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30"/>
            <p:cNvSpPr/>
            <p:nvPr/>
          </p:nvSpPr>
          <p:spPr>
            <a:xfrm>
              <a:off x="6858000" y="333684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r>
                <a:rPr b="0" lang="en-GB" sz="2000" spc="-1" strike="noStrike">
                  <a:solidFill>
                    <a:srgbClr val="660066"/>
                  </a:solidFill>
                  <a:latin typeface="Andalus"/>
                  <a:ea typeface="Andalus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31"/>
            <p:cNvSpPr/>
            <p:nvPr/>
          </p:nvSpPr>
          <p:spPr>
            <a:xfrm>
              <a:off x="6934320" y="20415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99cc"/>
                  </a:solidFill>
                  <a:latin typeface="Andalus"/>
                  <a:ea typeface="Andalu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 Box 35"/>
          <p:cNvSpPr/>
          <p:nvPr/>
        </p:nvSpPr>
        <p:spPr>
          <a:xfrm>
            <a:off x="228600" y="4876920"/>
            <a:ext cx="84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ide chain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links with</a:t>
            </a:r>
            <a:r>
              <a:rPr b="0" lang="ar-EG" sz="2400" spc="-1" strike="noStrike">
                <a:solidFill>
                  <a:srgbClr val="000000"/>
                </a:solidFill>
                <a:latin typeface="Andalus"/>
                <a:cs typeface="Andalus"/>
              </a:rPr>
              <a:t>ـ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0"/>
          <p:cNvSpPr/>
          <p:nvPr/>
        </p:nvSpPr>
        <p:spPr>
          <a:xfrm>
            <a:off x="304920" y="11509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components includ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arboxyl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mino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a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ariabl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or side cha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1"/>
          <p:cNvSpPr/>
          <p:nvPr/>
        </p:nvSpPr>
        <p:spPr>
          <a:xfrm>
            <a:off x="228600" y="5410080"/>
            <a:ext cx="891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ces in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s produce the 20 different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A249-7B27-477F-A00C-838C5B67F6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eptide bond formed between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carboxyl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ne amino acid and the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amino group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505320" y="328464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914040" y="314784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33720" y="26510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124080" y="2614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133720" y="1828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2171880" y="35305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libri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2362320"/>
            <a:ext cx="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2438280" y="320040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143000" y="2590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57200" y="19051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380880" y="31845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914400" y="24638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16"/>
          <p:cNvSpPr/>
          <p:nvPr/>
        </p:nvSpPr>
        <p:spPr>
          <a:xfrm flipH="1">
            <a:off x="159984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7"/>
          <p:cNvSpPr/>
          <p:nvPr/>
        </p:nvSpPr>
        <p:spPr>
          <a:xfrm flipH="1">
            <a:off x="2590560" y="29718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3162240" y="1752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3365640" y="228600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3505320" y="317340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4724280" y="33019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Calibri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5257440" y="324180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23"/>
          <p:cNvGrpSpPr/>
          <p:nvPr/>
        </p:nvGrpSpPr>
        <p:grpSpPr>
          <a:xfrm>
            <a:off x="5435640" y="1828800"/>
            <a:ext cx="3556080" cy="2405160"/>
            <a:chOff x="5435640" y="1828800"/>
            <a:chExt cx="3556080" cy="2405160"/>
          </a:xfrm>
        </p:grpSpPr>
        <p:sp>
          <p:nvSpPr>
            <p:cNvPr id="120" name="Text Box 24"/>
            <p:cNvSpPr/>
            <p:nvPr/>
          </p:nvSpPr>
          <p:spPr>
            <a:xfrm>
              <a:off x="647712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647712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6515280" y="35305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Calibri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 flipV="1">
              <a:off x="6781680" y="236160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81680" y="320004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5486400" y="2590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435640" y="18288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5715000" y="236196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 flipH="1">
              <a:off x="594324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H="1">
              <a:off x="6933960" y="297144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7467480" y="25905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35"/>
            <p:cNvSpPr/>
            <p:nvPr/>
          </p:nvSpPr>
          <p:spPr>
            <a:xfrm>
              <a:off x="7848720" y="32605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Calibri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Text Box 36"/>
            <p:cNvSpPr/>
            <p:nvPr/>
          </p:nvSpPr>
          <p:spPr>
            <a:xfrm>
              <a:off x="7924680" y="1965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Calibri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 flipH="1">
              <a:off x="7823160" y="238752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H="1">
              <a:off x="7899480" y="246348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7848720" y="314928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Line 40"/>
          <p:cNvSpPr/>
          <p:nvPr/>
        </p:nvSpPr>
        <p:spPr>
          <a:xfrm>
            <a:off x="3657600" y="297180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1"/>
          <p:cNvSpPr/>
          <p:nvPr/>
        </p:nvSpPr>
        <p:spPr>
          <a:xfrm>
            <a:off x="3505320" y="231156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42"/>
          <p:cNvGrpSpPr/>
          <p:nvPr/>
        </p:nvGrpSpPr>
        <p:grpSpPr>
          <a:xfrm>
            <a:off x="2743200" y="2971800"/>
            <a:ext cx="1752480" cy="1906560"/>
            <a:chOff x="2743200" y="2971800"/>
            <a:chExt cx="1752480" cy="1906560"/>
          </a:xfrm>
        </p:grpSpPr>
        <p:sp>
          <p:nvSpPr>
            <p:cNvPr id="139" name="Text Box 43"/>
            <p:cNvSpPr/>
            <p:nvPr/>
          </p:nvSpPr>
          <p:spPr>
            <a:xfrm>
              <a:off x="2743200" y="45100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3581280" y="297180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45"/>
          <p:cNvGrpSpPr/>
          <p:nvPr/>
        </p:nvGrpSpPr>
        <p:grpSpPr>
          <a:xfrm>
            <a:off x="152280" y="2895480"/>
            <a:ext cx="8077320" cy="76320"/>
            <a:chOff x="152280" y="2895480"/>
            <a:chExt cx="8077320" cy="76320"/>
          </a:xfrm>
        </p:grpSpPr>
        <p:sp>
          <p:nvSpPr>
            <p:cNvPr id="142" name="Line 46"/>
            <p:cNvSpPr/>
            <p:nvPr/>
          </p:nvSpPr>
          <p:spPr>
            <a:xfrm flipH="1">
              <a:off x="152280" y="289548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>
              <a:off x="7238880" y="29718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0"/>
          <p:cNvGrpSpPr/>
          <p:nvPr/>
        </p:nvGrpSpPr>
        <p:grpSpPr>
          <a:xfrm>
            <a:off x="4419720" y="5105520"/>
            <a:ext cx="4724280" cy="398880"/>
            <a:chOff x="4419720" y="5105520"/>
            <a:chExt cx="4724280" cy="398880"/>
          </a:xfrm>
        </p:grpSpPr>
        <p:sp>
          <p:nvSpPr>
            <p:cNvPr id="145" name="AutoShape 51"/>
            <p:cNvSpPr/>
            <p:nvPr/>
          </p:nvSpPr>
          <p:spPr>
            <a:xfrm>
              <a:off x="4419720" y="510552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791320" y="5105520"/>
              <a:ext cx="335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olypeptide (Protein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Text Box 54"/>
          <p:cNvSpPr/>
          <p:nvPr/>
        </p:nvSpPr>
        <p:spPr>
          <a:xfrm>
            <a:off x="6477120" y="426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533520" y="5086440"/>
            <a:ext cx="4267080" cy="398880"/>
            <a:chOff x="533520" y="5086440"/>
            <a:chExt cx="4267080" cy="398880"/>
          </a:xfrm>
        </p:grpSpPr>
        <p:sp>
          <p:nvSpPr>
            <p:cNvPr id="149" name="Text Box 48"/>
            <p:cNvSpPr/>
            <p:nvPr/>
          </p:nvSpPr>
          <p:spPr>
            <a:xfrm>
              <a:off x="533520" y="50864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cc"/>
                  </a:solidFill>
                  <a:latin typeface="Andalus"/>
                  <a:ea typeface="Andalus"/>
                </a:rPr>
                <a:t>Amino acids                      Peptid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>
              <a:off x="2286000" y="5181480"/>
              <a:ext cx="990000" cy="228240"/>
            </a:xfrm>
            <a:prstGeom prst="rightArrow">
              <a:avLst>
                <a:gd name="adj1" fmla="val 50000"/>
                <a:gd name="adj2" fmla="val 10843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2"/>
          <p:cNvSpPr/>
          <p:nvPr/>
        </p:nvSpPr>
        <p:spPr>
          <a:xfrm>
            <a:off x="76320" y="57276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07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mino acids are joined together when a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ehydration rea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moves a hydroxyl group from the carboxyl end of one amino acid and a hydrogen from the amino group of another. The resulting covalent bond is called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peptide bon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مربع نص 58"/>
          <p:cNvSpPr/>
          <p:nvPr/>
        </p:nvSpPr>
        <p:spPr>
          <a:xfrm>
            <a:off x="1752480" y="220680"/>
            <a:ext cx="5943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The Peptide B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59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6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7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9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60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1" lang="en-US" sz="5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cc"/>
                </a:solidFill>
                <a:latin typeface="Andalus"/>
                <a:ea typeface="Andalus"/>
              </a:rPr>
              <a:t>The Hydrophobic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B6A5-F1F6-40D0-A386-7A29D490F0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مجموعة 14"/>
          <p:cNvGrpSpPr/>
          <p:nvPr/>
        </p:nvGrpSpPr>
        <p:grpSpPr>
          <a:xfrm>
            <a:off x="0" y="1752480"/>
            <a:ext cx="9144000" cy="2590920"/>
            <a:chOff x="0" y="1752480"/>
            <a:chExt cx="9144000" cy="2590920"/>
          </a:xfrm>
        </p:grpSpPr>
        <p:pic>
          <p:nvPicPr>
            <p:cNvPr id="157" name="Picture 10" descr=""/>
            <p:cNvPicPr/>
            <p:nvPr/>
          </p:nvPicPr>
          <p:blipFill>
            <a:blip r:embed="rId2"/>
            <a:stretch/>
          </p:blipFill>
          <p:spPr>
            <a:xfrm>
              <a:off x="0" y="1752480"/>
              <a:ext cx="491328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3" descr=""/>
            <p:cNvPicPr/>
            <p:nvPr/>
          </p:nvPicPr>
          <p:blipFill>
            <a:blip r:embed="rId3"/>
            <a:stretch/>
          </p:blipFill>
          <p:spPr>
            <a:xfrm>
              <a:off x="4437360" y="1752480"/>
              <a:ext cx="4706640" cy="259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Text Box 15"/>
          <p:cNvGrpSpPr/>
          <p:nvPr/>
        </p:nvGrpSpPr>
        <p:grpSpPr>
          <a:xfrm>
            <a:off x="-285840" y="4157640"/>
            <a:ext cx="9711000" cy="4194360"/>
            <a:chOff x="-285840" y="4157640"/>
            <a:chExt cx="9711000" cy="4194360"/>
          </a:xfrm>
        </p:grpSpPr>
        <p:pic>
          <p:nvPicPr>
            <p:cNvPr id="160" name="Text Box 15" descr=""/>
            <p:cNvPicPr/>
            <p:nvPr/>
          </p:nvPicPr>
          <p:blipFill>
            <a:blip r:embed="rId4"/>
            <a:stretch/>
          </p:blipFill>
          <p:spPr>
            <a:xfrm>
              <a:off x="-285840" y="4157640"/>
              <a:ext cx="9711000" cy="32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0" y="4419720"/>
              <a:ext cx="914400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.Fats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 store large amounts of energ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ospholip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are major components of cell membra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ndalu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teroids </a:t>
              </a:r>
              <a:r>
                <a:rPr b="1" lang="en-US" sz="2800" spc="-1" strike="noStrike">
                  <a:solidFill>
                    <a:srgbClr val="292929"/>
                  </a:solidFill>
                  <a:latin typeface="Andalus"/>
                  <a:ea typeface="Andalus"/>
                </a:rPr>
                <a:t>include cholesterol and certain hormon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520" y="1066680"/>
            <a:ext cx="8534520" cy="521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ndalus"/>
                <a:ea typeface="Andalus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unifying feature of lipids is that they all have little or no affinity for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This is because their structures are dominated by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Lip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though fats are not polymers, they are large molecules assembled from smaller molecules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ehydration react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s constructed from two kinds of smaller molecules,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glycerol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fatty ac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4369-BBA1-4E12-ADF4-38F9EF65F9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مربع نص 5"/>
          <p:cNvGrpSpPr/>
          <p:nvPr/>
        </p:nvGrpSpPr>
        <p:grpSpPr>
          <a:xfrm>
            <a:off x="1487520" y="30240"/>
            <a:ext cx="6248520" cy="1000080"/>
            <a:chOff x="1487520" y="30240"/>
            <a:chExt cx="6248520" cy="1000080"/>
          </a:xfrm>
        </p:grpSpPr>
        <p:pic>
          <p:nvPicPr>
            <p:cNvPr id="165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87520" y="30240"/>
              <a:ext cx="62485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600200" y="144360"/>
              <a:ext cx="601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)- Fats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AF13-06DC-4FB6-969C-3AFAF5C740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880" y="4357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 is composed of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hree fatty acid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linked with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one glycero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80880" y="4815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s are classified into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Un-saturat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fat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6"/>
          <p:cNvSpPr/>
          <p:nvPr/>
        </p:nvSpPr>
        <p:spPr>
          <a:xfrm rot="10800000">
            <a:off x="2133720" y="1369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174" name="Group 8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175" name="Text Box 9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1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178" name="Text Box 12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Calibri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14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182" name="Text Box 16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" name="Text Box 17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Text Box 18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Text Box 19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Text Box 20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Text Box 21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Calibri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" name="Line 22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" name="Line 23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Line 24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" name="Line 25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" name="Line 26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" name="Line 27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" name="Text Box 28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Calibri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95" name="Group 29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196" name="Text Box 30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Line 31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98" name="Group 32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199" name="Text Box 33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Line 34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1" name="Group 35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202" name="Text Box 36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3" name="Line 37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4" name="Group 38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205" name="Text Box 39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Line 40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7" name="Group 41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208" name="Text Box 42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Line 43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0" name="Group 44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211" name="Text Box 45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2" name="Line 46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3" name="Group 47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214" name="Text Box 48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5" name="Line 49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6" name="Group 50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217" name="Text Box 51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 rtl="1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Calibri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8" name="Line 52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19" name="Group 53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220" name="Line 54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21" name="Line 55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22" name="Text Box 56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Calibri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3" name="Line 57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4" name="Line 58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1536840" y="1335240"/>
            <a:ext cx="4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0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227" name="Text Box 61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Text Box 62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63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 Box 64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Line 65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66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67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68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69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70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71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73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74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75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76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77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78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79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Text Box 80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81"/>
          <p:cNvSpPr/>
          <p:nvPr/>
        </p:nvSpPr>
        <p:spPr>
          <a:xfrm>
            <a:off x="502920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ndalus"/>
                <a:ea typeface="Andalus"/>
              </a:rPr>
              <a:t>Dehyd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83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85"/>
          <p:cNvSpPr/>
          <p:nvPr/>
        </p:nvSpPr>
        <p:spPr>
          <a:xfrm>
            <a:off x="380880" y="5302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Glycerol consists of a three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keleton with an 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group attached to each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6"/>
          <p:cNvSpPr/>
          <p:nvPr/>
        </p:nvSpPr>
        <p:spPr>
          <a:xfrm>
            <a:off x="380880" y="57913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fatty acid consists of a carboxyl group (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COO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) attached to a long carbon skeleton, often 16 to 18 carbons lo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87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1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301 L 0.2 0.22223 E">
                                      <p:cBhvr>
                                        <p:cTn id="14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14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3:45:16Z</dcterms:created>
  <dc:creator>DELL</dc:creator>
  <dc:description/>
  <dc:language>en-US</dc:language>
  <cp:lastModifiedBy>DELL</cp:lastModifiedBy>
  <dcterms:modified xsi:type="dcterms:W3CDTF">2013-09-24T03:53:13Z</dcterms:modified>
  <cp:revision>5</cp:revision>
  <dc:subject/>
  <dc:title>الشريحة 1</dc:title>
</cp:coreProperties>
</file>