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948F-2540-4507-84D4-D0C09EFE2C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5D36-043C-4E19-85D4-20AE35F6F29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5D2C-5F52-4CE5-A93A-014CB8D7773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DF9A-AC20-4CAA-A41C-37B51532137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D36B-ECE9-4001-A1B4-D49F72E9416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F5A3-F0F5-435F-AE71-4E44D3AEEC1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BB19-6E6B-4F02-B010-7DEB0A8374D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F3EE-AF3D-4185-82AC-EEF7E7EC553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06C8-1E7B-4867-A963-6C128D8AE87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2C90-2A5E-4884-B9AA-C736980A262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ABD-2746-4776-985B-1898322F52B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26C9-73DC-458A-9481-D7645CD96D9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9983-A7E7-4879-8AF4-4A2C88B2AE2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F8CF-FBFA-465F-A3A9-35581DA0D5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7EF-F151-4147-8AD3-668FE608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5E6-B564-48B0-9043-2640D23B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2D4-D2EF-4229-BE4E-4B80553F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FE7-ABBC-4EAE-9226-28ABEBAB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AE5-E7D4-4271-AEA3-4F616237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F9D0-6C51-4557-8E62-B64E2357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F4D-EC63-434A-A870-FC87F017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C22-2650-41CE-B9B7-18B95CF4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30AC-1281-4463-8BB7-A1F565FB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201-5342-41CB-B0DC-E78C8F65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4E9-4933-4765-9C7D-1C6395B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B15-E2EC-4BEA-8EB0-50AA1173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6E4D-9494-40F9-AB8E-C8DE61CDF8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28600" y="304560"/>
            <a:ext cx="8610480" cy="16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 RNA molecule is single polynucleotide chain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single stra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NA molecules have two polynucleotide strands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ouble stra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spiral around to form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double heli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1600200"/>
            <a:ext cx="899136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971800" y="152280"/>
            <a:ext cx="6172200" cy="6400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52280" y="581040"/>
            <a:ext cx="3657600" cy="73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airs of nitrogen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ases (one from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rand) connec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 chai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DNA molecu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ave thousand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llions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base pair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b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33160" y="1905120"/>
            <a:ext cx="80010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a)- Messenger RNA (mRNA) is the blueprint for construction of a prote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b)- Ribosomal RNA (rRNA) is the construction site where the protein is made</a:t>
            </a:r>
            <a:r>
              <a:rPr b="0" lang="en-GB" sz="2600" spc="-1" strike="noStrike">
                <a:solidFill>
                  <a:srgbClr val="000000"/>
                </a:solidFill>
                <a:latin typeface="Andalus"/>
                <a:ea typeface="Andalus"/>
              </a:rPr>
              <a:t> in the ribosome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c)- Transfer RNA (tRNA) is the truck delivering the proper amino acid to the site at the right ti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مربع نص 3"/>
          <p:cNvGrpSpPr/>
          <p:nvPr/>
        </p:nvGrpSpPr>
        <p:grpSpPr>
          <a:xfrm>
            <a:off x="1517760" y="530280"/>
            <a:ext cx="5651280" cy="718920"/>
            <a:chOff x="1517760" y="530280"/>
            <a:chExt cx="5651280" cy="718920"/>
          </a:xfrm>
        </p:grpSpPr>
        <p:pic>
          <p:nvPicPr>
            <p:cNvPr id="136" name="مربع نص 3" descr=""/>
            <p:cNvPicPr/>
            <p:nvPr/>
          </p:nvPicPr>
          <p:blipFill>
            <a:blip r:embed="rId1"/>
            <a:stretch/>
          </p:blipFill>
          <p:spPr>
            <a:xfrm>
              <a:off x="1517760" y="530280"/>
              <a:ext cx="5651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523880" y="533520"/>
              <a:ext cx="563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r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ibo</a:t>
              </a: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n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ucleic </a:t>
              </a:r>
              <a:r>
                <a:rPr b="0" lang="en-US" sz="40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a</a:t>
              </a:r>
              <a:r>
                <a:rPr b="0" lang="en-US" sz="4000" spc="-1" strike="noStrike">
                  <a:solidFill>
                    <a:srgbClr val="ff3300"/>
                  </a:solidFill>
                  <a:latin typeface="Andalus"/>
                  <a:ea typeface="Andalus"/>
                </a:rPr>
                <a:t>cid (</a:t>
              </a:r>
              <a:r>
                <a:rPr b="0" lang="en-GB" sz="4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RNA)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2"/>
          <p:cNvGrpSpPr/>
          <p:nvPr/>
        </p:nvGrpSpPr>
        <p:grpSpPr>
          <a:xfrm>
            <a:off x="4737240" y="262080"/>
            <a:ext cx="4314600" cy="6217920"/>
            <a:chOff x="4737240" y="262080"/>
            <a:chExt cx="4314600" cy="6217920"/>
          </a:xfrm>
        </p:grpSpPr>
        <p:pic>
          <p:nvPicPr>
            <p:cNvPr id="139" name="Rectangle 2" descr=""/>
            <p:cNvPicPr/>
            <p:nvPr/>
          </p:nvPicPr>
          <p:blipFill>
            <a:blip r:embed="rId1"/>
            <a:stretch/>
          </p:blipFill>
          <p:spPr>
            <a:xfrm>
              <a:off x="4737240" y="262080"/>
              <a:ext cx="4314600" cy="62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4800600" y="304920"/>
              <a:ext cx="419112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Rectangle 3"/>
          <p:cNvGrpSpPr/>
          <p:nvPr/>
        </p:nvGrpSpPr>
        <p:grpSpPr>
          <a:xfrm>
            <a:off x="60480" y="262080"/>
            <a:ext cx="4316400" cy="6217920"/>
            <a:chOff x="60480" y="262080"/>
            <a:chExt cx="4316400" cy="6217920"/>
          </a:xfrm>
        </p:grpSpPr>
        <p:pic>
          <p:nvPicPr>
            <p:cNvPr id="142" name="Rectangle 3" descr=""/>
            <p:cNvPicPr/>
            <p:nvPr/>
          </p:nvPicPr>
          <p:blipFill>
            <a:blip r:embed="rId2"/>
            <a:stretch/>
          </p:blipFill>
          <p:spPr>
            <a:xfrm>
              <a:off x="60480" y="262080"/>
              <a:ext cx="4316400" cy="62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27080" y="304920"/>
              <a:ext cx="4190760" cy="60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5"/>
          <p:cNvGrpSpPr/>
          <p:nvPr/>
        </p:nvGrpSpPr>
        <p:grpSpPr>
          <a:xfrm>
            <a:off x="660240" y="1279440"/>
            <a:ext cx="7645320" cy="2692440"/>
            <a:chOff x="660240" y="1279440"/>
            <a:chExt cx="7645320" cy="2692440"/>
          </a:xfrm>
        </p:grpSpPr>
        <p:grpSp>
          <p:nvGrpSpPr>
            <p:cNvPr id="145" name="Group 6"/>
            <p:cNvGrpSpPr/>
            <p:nvPr/>
          </p:nvGrpSpPr>
          <p:grpSpPr>
            <a:xfrm>
              <a:off x="1448280" y="1279440"/>
              <a:ext cx="1602000" cy="1326960"/>
              <a:chOff x="1448280" y="1279440"/>
              <a:chExt cx="1602000" cy="1326960"/>
            </a:xfrm>
          </p:grpSpPr>
          <p:sp>
            <p:nvSpPr>
              <p:cNvPr id="146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8"/>
              <p:cNvSpPr/>
              <p:nvPr/>
            </p:nvSpPr>
            <p:spPr>
              <a:xfrm>
                <a:off x="1986480" y="1279440"/>
                <a:ext cx="3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8" name="Group 9"/>
              <p:cNvGrpSpPr/>
              <p:nvPr/>
            </p:nvGrpSpPr>
            <p:grpSpPr>
              <a:xfrm>
                <a:off x="2301840" y="1755720"/>
                <a:ext cx="498240" cy="850680"/>
                <a:chOff x="2301840" y="1755720"/>
                <a:chExt cx="498240" cy="850680"/>
              </a:xfrm>
            </p:grpSpPr>
            <p:sp>
              <p:nvSpPr>
                <p:cNvPr id="149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Text Box 11"/>
                <p:cNvSpPr/>
                <p:nvPr/>
              </p:nvSpPr>
              <p:spPr>
                <a:xfrm>
                  <a:off x="2328120" y="223812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ndalus"/>
                      <a:ea typeface="Andalus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Text Box 12"/>
                <p:cNvSpPr/>
                <p:nvPr/>
              </p:nvSpPr>
              <p:spPr>
                <a:xfrm>
                  <a:off x="2301840" y="1755720"/>
                  <a:ext cx="471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ndalus"/>
                      <a:ea typeface="Andalus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52" name="Text Box 13"/>
              <p:cNvSpPr/>
              <p:nvPr/>
            </p:nvSpPr>
            <p:spPr>
              <a:xfrm>
                <a:off x="2577600" y="203508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Text Box 16"/>
              <p:cNvSpPr/>
              <p:nvPr/>
            </p:nvSpPr>
            <p:spPr>
              <a:xfrm>
                <a:off x="1658160" y="18000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Text Box 18"/>
              <p:cNvSpPr/>
              <p:nvPr/>
            </p:nvSpPr>
            <p:spPr>
              <a:xfrm>
                <a:off x="1448280" y="19332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Text Box 19"/>
              <p:cNvSpPr/>
              <p:nvPr/>
            </p:nvSpPr>
            <p:spPr>
              <a:xfrm>
                <a:off x="1448280" y="1387440"/>
                <a:ext cx="709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CH</a:t>
                </a:r>
                <a:r>
                  <a:rPr b="1" lang="en-GB" sz="2000" spc="-1" strike="noStrike" baseline="-25000">
                    <a:solidFill>
                      <a:srgbClr val="000000"/>
                    </a:solidFill>
                    <a:latin typeface="Andalus"/>
                    <a:ea typeface="Andalu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9" name="Text Box 20"/>
            <p:cNvSpPr/>
            <p:nvPr/>
          </p:nvSpPr>
          <p:spPr>
            <a:xfrm>
              <a:off x="660240" y="2651040"/>
              <a:ext cx="26798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eoxyribose sugar</a:t>
              </a: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1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</a:t>
              </a:r>
              <a:r>
                <a:rPr b="1" lang="en-GB" sz="20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O on C2 is missed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21"/>
            <p:cNvGrpSpPr/>
            <p:nvPr/>
          </p:nvGrpSpPr>
          <p:grpSpPr>
            <a:xfrm>
              <a:off x="6545520" y="1432080"/>
              <a:ext cx="1602000" cy="1327320"/>
              <a:chOff x="6545520" y="1432080"/>
              <a:chExt cx="1602000" cy="1327320"/>
            </a:xfrm>
          </p:grpSpPr>
          <p:sp>
            <p:nvSpPr>
              <p:cNvPr id="161" name="AutoShape 22"/>
              <p:cNvSpPr/>
              <p:nvPr/>
            </p:nvSpPr>
            <p:spPr>
              <a:xfrm>
                <a:off x="6729120" y="1756080"/>
                <a:ext cx="1103400" cy="60948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23"/>
              <p:cNvSpPr/>
              <p:nvPr/>
            </p:nvSpPr>
            <p:spPr>
              <a:xfrm>
                <a:off x="7084080" y="1432080"/>
                <a:ext cx="33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24"/>
              <p:cNvSpPr/>
              <p:nvPr/>
            </p:nvSpPr>
            <p:spPr>
              <a:xfrm>
                <a:off x="7609320" y="2213280"/>
                <a:ext cx="129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25"/>
              <p:cNvSpPr/>
              <p:nvPr/>
            </p:nvSpPr>
            <p:spPr>
              <a:xfrm>
                <a:off x="7425360" y="2391120"/>
                <a:ext cx="564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O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Text Box 26"/>
              <p:cNvSpPr/>
              <p:nvPr/>
            </p:nvSpPr>
            <p:spPr>
              <a:xfrm>
                <a:off x="7399440" y="190836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27"/>
              <p:cNvSpPr/>
              <p:nvPr/>
            </p:nvSpPr>
            <p:spPr>
              <a:xfrm>
                <a:off x="7674840" y="218772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28"/>
              <p:cNvSpPr/>
              <p:nvPr/>
            </p:nvSpPr>
            <p:spPr>
              <a:xfrm>
                <a:off x="7832880" y="206064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29"/>
              <p:cNvSpPr/>
              <p:nvPr/>
            </p:nvSpPr>
            <p:spPr>
              <a:xfrm>
                <a:off x="6939720" y="2213280"/>
                <a:ext cx="2592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30"/>
              <p:cNvSpPr/>
              <p:nvPr/>
            </p:nvSpPr>
            <p:spPr>
              <a:xfrm>
                <a:off x="6755760" y="19530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31"/>
              <p:cNvSpPr/>
              <p:nvPr/>
            </p:nvSpPr>
            <p:spPr>
              <a:xfrm>
                <a:off x="6729120" y="1832040"/>
                <a:ext cx="133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Text Box 32"/>
              <p:cNvSpPr/>
              <p:nvPr/>
            </p:nvSpPr>
            <p:spPr>
              <a:xfrm>
                <a:off x="6545520" y="2086200"/>
                <a:ext cx="47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ext Box 33"/>
              <p:cNvSpPr/>
              <p:nvPr/>
            </p:nvSpPr>
            <p:spPr>
              <a:xfrm>
                <a:off x="6545520" y="1540080"/>
                <a:ext cx="709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CH</a:t>
                </a:r>
                <a:r>
                  <a:rPr b="1" lang="en-GB" sz="2000" spc="-1" strike="noStrike" baseline="-25000">
                    <a:solidFill>
                      <a:srgbClr val="000000"/>
                    </a:solidFill>
                    <a:latin typeface="Andalus"/>
                    <a:ea typeface="Andalu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3" name="Text Box 34"/>
            <p:cNvSpPr/>
            <p:nvPr/>
          </p:nvSpPr>
          <p:spPr>
            <a:xfrm>
              <a:off x="5867280" y="2743200"/>
              <a:ext cx="243828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ibose suga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no missed O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Text Box 35"/>
          <p:cNvSpPr/>
          <p:nvPr/>
        </p:nvSpPr>
        <p:spPr>
          <a:xfrm>
            <a:off x="5842080" y="36576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bo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ucleic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36"/>
          <p:cNvSpPr/>
          <p:nvPr/>
        </p:nvSpPr>
        <p:spPr>
          <a:xfrm>
            <a:off x="279360" y="365760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eoxiribo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ucleic-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279360" y="4479840"/>
            <a:ext cx="8686800" cy="901800"/>
            <a:chOff x="279360" y="4479840"/>
            <a:chExt cx="8686800" cy="901800"/>
          </a:xfrm>
        </p:grpSpPr>
        <p:sp>
          <p:nvSpPr>
            <p:cNvPr id="177" name="Text Box 38"/>
            <p:cNvSpPr/>
            <p:nvPr/>
          </p:nvSpPr>
          <p:spPr>
            <a:xfrm>
              <a:off x="5079960" y="447984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ingle stranded nucleic aci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279360" y="4556160"/>
              <a:ext cx="380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ouble stranded nucleic acid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965160" y="5181480"/>
            <a:ext cx="7467480" cy="885960"/>
            <a:chOff x="965160" y="5181480"/>
            <a:chExt cx="7467480" cy="885960"/>
          </a:xfrm>
        </p:grpSpPr>
        <p:sp>
          <p:nvSpPr>
            <p:cNvPr id="180" name="Text Box 41"/>
            <p:cNvSpPr/>
            <p:nvPr/>
          </p:nvSpPr>
          <p:spPr>
            <a:xfrm>
              <a:off x="965160" y="524196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Bases: A, G, C, 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5842080" y="51814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Bases: A, G, C, </a:t>
              </a: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مستطيل 43"/>
          <p:cNvSpPr/>
          <p:nvPr/>
        </p:nvSpPr>
        <p:spPr>
          <a:xfrm>
            <a:off x="1491120" y="533520"/>
            <a:ext cx="137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ستطيل 44"/>
          <p:cNvSpPr/>
          <p:nvPr/>
        </p:nvSpPr>
        <p:spPr>
          <a:xfrm>
            <a:off x="6580800" y="60948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8600" y="1924920"/>
            <a:ext cx="38545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Repeated Sugar - Phosph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3106800"/>
            <a:ext cx="314640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ugar–Phosphate-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4170240"/>
            <a:ext cx="24382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Text Box 6"/>
          <p:cNvGrpSpPr/>
          <p:nvPr/>
        </p:nvGrpSpPr>
        <p:grpSpPr>
          <a:xfrm>
            <a:off x="5810400" y="1871640"/>
            <a:ext cx="3509640" cy="774720"/>
            <a:chOff x="5810400" y="1871640"/>
            <a:chExt cx="3509640" cy="774720"/>
          </a:xfrm>
        </p:grpSpPr>
        <p:pic>
          <p:nvPicPr>
            <p:cNvPr id="188" name="Text Box 6" descr=""/>
            <p:cNvPicPr/>
            <p:nvPr/>
          </p:nvPicPr>
          <p:blipFill>
            <a:blip r:embed="rId1"/>
            <a:stretch/>
          </p:blipFill>
          <p:spPr>
            <a:xfrm>
              <a:off x="5810400" y="1871640"/>
              <a:ext cx="35096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67280" y="199044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AutoShape 7"/>
          <p:cNvGrpSpPr/>
          <p:nvPr/>
        </p:nvGrpSpPr>
        <p:grpSpPr>
          <a:xfrm>
            <a:off x="4206960" y="2157480"/>
            <a:ext cx="1260360" cy="701640"/>
            <a:chOff x="4206960" y="2157480"/>
            <a:chExt cx="1260360" cy="701640"/>
          </a:xfrm>
        </p:grpSpPr>
        <p:pic>
          <p:nvPicPr>
            <p:cNvPr id="191" name="AutoShape 7" descr=""/>
            <p:cNvPicPr/>
            <p:nvPr/>
          </p:nvPicPr>
          <p:blipFill>
            <a:blip r:embed="rId2"/>
            <a:stretch/>
          </p:blipFill>
          <p:spPr>
            <a:xfrm>
              <a:off x="4206960" y="2157480"/>
              <a:ext cx="126036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267080" y="2341440"/>
              <a:ext cx="92088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Text Box 9"/>
          <p:cNvGrpSpPr/>
          <p:nvPr/>
        </p:nvGrpSpPr>
        <p:grpSpPr>
          <a:xfrm>
            <a:off x="5505480" y="2928600"/>
            <a:ext cx="3510000" cy="1068840"/>
            <a:chOff x="5505480" y="2928600"/>
            <a:chExt cx="3510000" cy="1068840"/>
          </a:xfrm>
        </p:grpSpPr>
        <p:pic>
          <p:nvPicPr>
            <p:cNvPr id="194" name="Text Box 9" descr=""/>
            <p:cNvPicPr/>
            <p:nvPr/>
          </p:nvPicPr>
          <p:blipFill>
            <a:blip r:embed="rId3"/>
            <a:stretch/>
          </p:blipFill>
          <p:spPr>
            <a:xfrm>
              <a:off x="5505480" y="3054240"/>
              <a:ext cx="35100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562720" y="2928600"/>
              <a:ext cx="3200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AutoShape 10"/>
          <p:cNvGrpSpPr/>
          <p:nvPr/>
        </p:nvGrpSpPr>
        <p:grpSpPr>
          <a:xfrm>
            <a:off x="3524400" y="3219480"/>
            <a:ext cx="1942920" cy="700200"/>
            <a:chOff x="3524400" y="3219480"/>
            <a:chExt cx="1942920" cy="700200"/>
          </a:xfrm>
        </p:grpSpPr>
        <p:pic>
          <p:nvPicPr>
            <p:cNvPr id="197" name="AutoShape 10" descr=""/>
            <p:cNvPicPr/>
            <p:nvPr/>
          </p:nvPicPr>
          <p:blipFill>
            <a:blip r:embed="rId4"/>
            <a:stretch/>
          </p:blipFill>
          <p:spPr>
            <a:xfrm>
              <a:off x="3524400" y="3219480"/>
              <a:ext cx="19429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581280" y="3405240"/>
              <a:ext cx="1474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Text Box 12"/>
          <p:cNvGrpSpPr/>
          <p:nvPr/>
        </p:nvGrpSpPr>
        <p:grpSpPr>
          <a:xfrm>
            <a:off x="5121360" y="4237200"/>
            <a:ext cx="3510000" cy="772920"/>
            <a:chOff x="5121360" y="4237200"/>
            <a:chExt cx="3510000" cy="772920"/>
          </a:xfrm>
        </p:grpSpPr>
        <p:pic>
          <p:nvPicPr>
            <p:cNvPr id="200" name="Text Box 12" descr=""/>
            <p:cNvPicPr/>
            <p:nvPr/>
          </p:nvPicPr>
          <p:blipFill>
            <a:blip r:embed="rId5"/>
            <a:stretch/>
          </p:blipFill>
          <p:spPr>
            <a:xfrm>
              <a:off x="5121360" y="4237200"/>
              <a:ext cx="35100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181480" y="435420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AutoShape 13"/>
          <p:cNvGrpSpPr/>
          <p:nvPr/>
        </p:nvGrpSpPr>
        <p:grpSpPr>
          <a:xfrm>
            <a:off x="2682720" y="4400640"/>
            <a:ext cx="2479680" cy="701640"/>
            <a:chOff x="2682720" y="4400640"/>
            <a:chExt cx="2479680" cy="701640"/>
          </a:xfrm>
        </p:grpSpPr>
        <p:pic>
          <p:nvPicPr>
            <p:cNvPr id="203" name="AutoShape 13" descr=""/>
            <p:cNvPicPr/>
            <p:nvPr/>
          </p:nvPicPr>
          <p:blipFill>
            <a:blip r:embed="rId6"/>
            <a:stretch/>
          </p:blipFill>
          <p:spPr>
            <a:xfrm>
              <a:off x="2682720" y="4400640"/>
              <a:ext cx="2479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743200" y="4586400"/>
              <a:ext cx="19051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08" name="عنصر نائب لرقم الشريحة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019B-1880-48B7-B3C0-11F4BC8BEF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Text Box 14"/>
          <p:cNvGrpSpPr/>
          <p:nvPr/>
        </p:nvGrpSpPr>
        <p:grpSpPr>
          <a:xfrm>
            <a:off x="396720" y="1663560"/>
            <a:ext cx="5235840" cy="774720"/>
            <a:chOff x="396720" y="1663560"/>
            <a:chExt cx="5235840" cy="774720"/>
          </a:xfrm>
        </p:grpSpPr>
        <p:pic>
          <p:nvPicPr>
            <p:cNvPr id="210" name="Text Box 14" descr=""/>
            <p:cNvPicPr/>
            <p:nvPr/>
          </p:nvPicPr>
          <p:blipFill>
            <a:blip r:embed="rId2"/>
            <a:stretch/>
          </p:blipFill>
          <p:spPr>
            <a:xfrm>
              <a:off x="396720" y="1663560"/>
              <a:ext cx="52358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57200" y="1778040"/>
              <a:ext cx="512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DNA Double strande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Text Box 15"/>
          <p:cNvGrpSpPr/>
          <p:nvPr/>
        </p:nvGrpSpPr>
        <p:grpSpPr>
          <a:xfrm>
            <a:off x="781200" y="2646360"/>
            <a:ext cx="5235480" cy="766800"/>
            <a:chOff x="781200" y="2646360"/>
            <a:chExt cx="5235480" cy="766800"/>
          </a:xfrm>
        </p:grpSpPr>
        <p:pic>
          <p:nvPicPr>
            <p:cNvPr id="213" name="Text Box 15" descr=""/>
            <p:cNvPicPr/>
            <p:nvPr/>
          </p:nvPicPr>
          <p:blipFill>
            <a:blip r:embed="rId3"/>
            <a:stretch/>
          </p:blipFill>
          <p:spPr>
            <a:xfrm>
              <a:off x="781200" y="2646360"/>
              <a:ext cx="523548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838080" y="2755800"/>
              <a:ext cx="512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NA single stranded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16"/>
          <p:cNvGrpSpPr/>
          <p:nvPr/>
        </p:nvGrpSpPr>
        <p:grpSpPr>
          <a:xfrm>
            <a:off x="2400480" y="4772160"/>
            <a:ext cx="529560" cy="1019880"/>
            <a:chOff x="2400480" y="4772160"/>
            <a:chExt cx="529560" cy="1019880"/>
          </a:xfrm>
        </p:grpSpPr>
        <p:sp>
          <p:nvSpPr>
            <p:cNvPr id="216" name="Text Box 17"/>
            <p:cNvSpPr/>
            <p:nvPr/>
          </p:nvSpPr>
          <p:spPr>
            <a:xfrm>
              <a:off x="2400480" y="533232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Line 18"/>
            <p:cNvSpPr/>
            <p:nvPr/>
          </p:nvSpPr>
          <p:spPr>
            <a:xfrm flipV="1">
              <a:off x="2665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9"/>
          <p:cNvGrpSpPr/>
          <p:nvPr/>
        </p:nvGrpSpPr>
        <p:grpSpPr>
          <a:xfrm>
            <a:off x="3106800" y="4772160"/>
            <a:ext cx="529920" cy="1019880"/>
            <a:chOff x="3106800" y="4772160"/>
            <a:chExt cx="529920" cy="1019880"/>
          </a:xfrm>
        </p:grpSpPr>
        <p:sp>
          <p:nvSpPr>
            <p:cNvPr id="219" name="Text Box 20"/>
            <p:cNvSpPr/>
            <p:nvPr/>
          </p:nvSpPr>
          <p:spPr>
            <a:xfrm>
              <a:off x="310680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Line 21"/>
            <p:cNvSpPr/>
            <p:nvPr/>
          </p:nvSpPr>
          <p:spPr>
            <a:xfrm flipV="1">
              <a:off x="337176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22"/>
          <p:cNvGrpSpPr/>
          <p:nvPr/>
        </p:nvGrpSpPr>
        <p:grpSpPr>
          <a:xfrm>
            <a:off x="3813120" y="4772160"/>
            <a:ext cx="529920" cy="1019880"/>
            <a:chOff x="3813120" y="4772160"/>
            <a:chExt cx="529920" cy="1019880"/>
          </a:xfrm>
        </p:grpSpPr>
        <p:sp>
          <p:nvSpPr>
            <p:cNvPr id="222" name="Text Box 23"/>
            <p:cNvSpPr/>
            <p:nvPr/>
          </p:nvSpPr>
          <p:spPr>
            <a:xfrm>
              <a:off x="381312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 flipV="1">
              <a:off x="4078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25"/>
          <p:cNvGrpSpPr/>
          <p:nvPr/>
        </p:nvGrpSpPr>
        <p:grpSpPr>
          <a:xfrm>
            <a:off x="4519440" y="4772160"/>
            <a:ext cx="529920" cy="1019880"/>
            <a:chOff x="4519440" y="4772160"/>
            <a:chExt cx="529920" cy="1019880"/>
          </a:xfrm>
        </p:grpSpPr>
        <p:sp>
          <p:nvSpPr>
            <p:cNvPr id="225" name="Text Box 26"/>
            <p:cNvSpPr/>
            <p:nvPr/>
          </p:nvSpPr>
          <p:spPr>
            <a:xfrm>
              <a:off x="451944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 flipV="1">
              <a:off x="478440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Group 28"/>
          <p:cNvGrpSpPr/>
          <p:nvPr/>
        </p:nvGrpSpPr>
        <p:grpSpPr>
          <a:xfrm>
            <a:off x="5226120" y="4772160"/>
            <a:ext cx="529920" cy="1019880"/>
            <a:chOff x="5226120" y="4772160"/>
            <a:chExt cx="529920" cy="1019880"/>
          </a:xfrm>
        </p:grpSpPr>
        <p:sp>
          <p:nvSpPr>
            <p:cNvPr id="228" name="Text Box 29"/>
            <p:cNvSpPr/>
            <p:nvPr/>
          </p:nvSpPr>
          <p:spPr>
            <a:xfrm>
              <a:off x="522612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 flipV="1">
              <a:off x="549108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Group 31"/>
          <p:cNvGrpSpPr/>
          <p:nvPr/>
        </p:nvGrpSpPr>
        <p:grpSpPr>
          <a:xfrm>
            <a:off x="5932440" y="4772160"/>
            <a:ext cx="529920" cy="1019880"/>
            <a:chOff x="5932440" y="4772160"/>
            <a:chExt cx="529920" cy="1019880"/>
          </a:xfrm>
        </p:grpSpPr>
        <p:sp>
          <p:nvSpPr>
            <p:cNvPr id="231" name="Text Box 32"/>
            <p:cNvSpPr/>
            <p:nvPr/>
          </p:nvSpPr>
          <p:spPr>
            <a:xfrm>
              <a:off x="5932440" y="5332320"/>
              <a:ext cx="5299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 flipV="1">
              <a:off x="619740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Group 34"/>
          <p:cNvGrpSpPr/>
          <p:nvPr/>
        </p:nvGrpSpPr>
        <p:grpSpPr>
          <a:xfrm>
            <a:off x="6640560" y="4772160"/>
            <a:ext cx="528120" cy="1019880"/>
            <a:chOff x="6640560" y="4772160"/>
            <a:chExt cx="528120" cy="1019880"/>
          </a:xfrm>
        </p:grpSpPr>
        <p:sp>
          <p:nvSpPr>
            <p:cNvPr id="234" name="Text Box 35"/>
            <p:cNvSpPr/>
            <p:nvPr/>
          </p:nvSpPr>
          <p:spPr>
            <a:xfrm>
              <a:off x="6640560" y="5332320"/>
              <a:ext cx="5281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36"/>
            <p:cNvSpPr/>
            <p:nvPr/>
          </p:nvSpPr>
          <p:spPr>
            <a:xfrm flipV="1">
              <a:off x="6906240" y="4772160"/>
              <a:ext cx="0" cy="560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6" name="Group 37"/>
          <p:cNvGrpSpPr/>
          <p:nvPr/>
        </p:nvGrpSpPr>
        <p:grpSpPr>
          <a:xfrm>
            <a:off x="2400480" y="4100400"/>
            <a:ext cx="5828400" cy="459720"/>
            <a:chOff x="2400480" y="4100400"/>
            <a:chExt cx="5828400" cy="459720"/>
          </a:xfrm>
        </p:grpSpPr>
        <p:sp>
          <p:nvSpPr>
            <p:cNvPr id="237" name="Text Box 38"/>
            <p:cNvSpPr/>
            <p:nvPr/>
          </p:nvSpPr>
          <p:spPr>
            <a:xfrm>
              <a:off x="240048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39"/>
            <p:cNvSpPr/>
            <p:nvPr/>
          </p:nvSpPr>
          <p:spPr>
            <a:xfrm>
              <a:off x="310716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40"/>
            <p:cNvSpPr/>
            <p:nvPr/>
          </p:nvSpPr>
          <p:spPr>
            <a:xfrm>
              <a:off x="593316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41"/>
            <p:cNvSpPr/>
            <p:nvPr/>
          </p:nvSpPr>
          <p:spPr>
            <a:xfrm>
              <a:off x="381348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42"/>
            <p:cNvSpPr/>
            <p:nvPr/>
          </p:nvSpPr>
          <p:spPr>
            <a:xfrm>
              <a:off x="451980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 Box 43"/>
            <p:cNvSpPr/>
            <p:nvPr/>
          </p:nvSpPr>
          <p:spPr>
            <a:xfrm>
              <a:off x="5226840" y="4100400"/>
              <a:ext cx="5295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44"/>
            <p:cNvSpPr/>
            <p:nvPr/>
          </p:nvSpPr>
          <p:spPr>
            <a:xfrm>
              <a:off x="6639480" y="4100400"/>
              <a:ext cx="5263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45"/>
            <p:cNvSpPr/>
            <p:nvPr/>
          </p:nvSpPr>
          <p:spPr>
            <a:xfrm>
              <a:off x="7169400" y="4435920"/>
              <a:ext cx="105948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Line 46"/>
          <p:cNvSpPr/>
          <p:nvPr/>
        </p:nvSpPr>
        <p:spPr>
          <a:xfrm>
            <a:off x="7169040" y="5668920"/>
            <a:ext cx="106056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5226120" y="5332320"/>
            <a:ext cx="53028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49"/>
          <p:cNvSpPr/>
          <p:nvPr/>
        </p:nvSpPr>
        <p:spPr>
          <a:xfrm>
            <a:off x="2400480" y="5332320"/>
            <a:ext cx="5299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457200" y="5332320"/>
            <a:ext cx="15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546120" y="42130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5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8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2" name="عنصر نائب لرقم الشريحة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3661-B5E2-45A9-8CA5-C79600DEB6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ArticulateFlashObject"/>
          <p:cNvGraphicFramePr/>
          <p:nvPr/>
        </p:nvGraphicFramePr>
        <p:xfrm>
          <a:off x="2540160" y="1905120"/>
          <a:ext cx="4063680" cy="304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ArticulateFlashObjec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0160" y="1905120"/>
                    <a:ext cx="4063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2"/>
          <a:srcRect l="32394" t="16604" r="14349" b="12697"/>
          <a:stretch/>
        </p:blipFill>
        <p:spPr>
          <a:xfrm>
            <a:off x="0" y="0"/>
            <a:ext cx="9188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32394" t="16604" r="14897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32430" t="21683" r="14861" b="11914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228600" y="1600200"/>
            <a:ext cx="8686440" cy="4876560"/>
            <a:chOff x="228600" y="1600200"/>
            <a:chExt cx="8686440" cy="4876560"/>
          </a:xfrm>
        </p:grpSpPr>
        <p:sp>
          <p:nvSpPr>
            <p:cNvPr id="57" name="Rectangle 8"/>
            <p:cNvSpPr/>
            <p:nvPr/>
          </p:nvSpPr>
          <p:spPr>
            <a:xfrm>
              <a:off x="228600" y="1600200"/>
              <a:ext cx="8686440" cy="4876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316440" y="1695240"/>
              <a:ext cx="8540280" cy="467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4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Nucleic acids (DNA &amp; RN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04920" y="51166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In April 1953, James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Watson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and Francis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Crick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shook the scientific world with an elegant double-helical model 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Watson and Crick began to work on a model of DNA with two strands, the </a:t>
            </a:r>
            <a:r>
              <a:rPr b="0" lang="en-US" sz="1800" spc="-1" strike="noStrike">
                <a:solidFill>
                  <a:srgbClr val="ff3300"/>
                </a:solidFill>
                <a:latin typeface="Andalus"/>
                <a:ea typeface="Andalus"/>
              </a:rPr>
              <a:t>double helix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4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5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مستطيل 10"/>
          <p:cNvSpPr/>
          <p:nvPr/>
        </p:nvSpPr>
        <p:spPr>
          <a:xfrm>
            <a:off x="304920" y="3888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Watson and Crick discovered the double helix by building models to conform to X-ray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5960" y="0"/>
            <a:ext cx="8915400" cy="743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A gene is a small region in the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ic acids store and transmit hereditary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re are two types of nucleic acid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1)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ibo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ucleic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cid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RN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2)-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d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eoxyribo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ucleic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cid (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DNA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NA also directs mRNA synthesis, thus, controls protein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sms inherit DNA from their par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ach DNA molecule is very long and usually consists of hundreds to thousands of ge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820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SzPct val="120000"/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When a cell divides, its DNA is copied and passed to the next generation of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RNA interacts with ribosomes to direct the synthesis of amino acids in a polypeptide (prote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228600"/>
            <a:ext cx="495324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-380880" y="855720"/>
            <a:ext cx="4343400" cy="57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000000"/>
              </a:buClr>
              <a:buSzPct val="122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600" spc="-1" strike="noStrike">
                <a:solidFill>
                  <a:srgbClr val="0000ff"/>
                </a:solidFill>
                <a:latin typeface="Andalus"/>
                <a:ea typeface="Andalus"/>
              </a:rPr>
              <a:t>PO</a:t>
            </a:r>
            <a:r>
              <a:rPr b="0" lang="en-US" sz="26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group of one nucleotide is attached to the </a:t>
            </a:r>
            <a:r>
              <a:rPr b="0" lang="en-US" sz="2600" spc="-1" strike="noStrike">
                <a:solidFill>
                  <a:srgbClr val="0000ff"/>
                </a:solidFill>
                <a:latin typeface="Andalus"/>
                <a:ea typeface="Andalus"/>
              </a:rPr>
              <a:t>sugar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of the next nucleotide in lin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SzPct val="122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result is a “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backbone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ndalus"/>
                <a:cs typeface="Andalus"/>
              </a:rPr>
              <a:t>تبادل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ndalus"/>
                    <a:ea typeface="Andalus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ndalus"/>
                    <a:ea typeface="Andalus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ndalus"/>
                    <a:ea typeface="Andalus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1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1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1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1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47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118" name="Text Box 48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49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0" name="Group 50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121" name="Text Box 51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Calibri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Text Box 52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3" name="Text Box 53"/>
          <p:cNvSpPr/>
          <p:nvPr/>
        </p:nvSpPr>
        <p:spPr>
          <a:xfrm>
            <a:off x="3505320" y="44197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ndalus"/>
                <a:ea typeface="Andalus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57"/>
          <p:cNvSpPr/>
          <p:nvPr/>
        </p:nvSpPr>
        <p:spPr>
          <a:xfrm>
            <a:off x="2895480" y="3808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560" y="1143000"/>
            <a:ext cx="876276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ic acids are polymers of monomers calle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nucleotid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ch nucleotide consists of three parts: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nitrogen base, a pentose sugar, and a phosphate group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itrogen bases (rings of carbon and nitrogen) come in two types: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Puri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yrimidi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entose sugar joined to the nitrogen base is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ribos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nucleotides of RNA and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deoxyribos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only difference between the sugars is the lack of an oxygen atom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rbon 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n deoxyrib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مربع نص 5"/>
          <p:cNvGrpSpPr/>
          <p:nvPr/>
        </p:nvGrpSpPr>
        <p:grpSpPr>
          <a:xfrm>
            <a:off x="146160" y="378000"/>
            <a:ext cx="8851680" cy="1071720"/>
            <a:chOff x="146160" y="378000"/>
            <a:chExt cx="8851680" cy="1071720"/>
          </a:xfrm>
        </p:grpSpPr>
        <p:pic>
          <p:nvPicPr>
            <p:cNvPr id="127" name="مربع نص 5" descr=""/>
            <p:cNvPicPr/>
            <p:nvPr/>
          </p:nvPicPr>
          <p:blipFill>
            <a:blip r:embed="rId1"/>
            <a:stretch/>
          </p:blipFill>
          <p:spPr>
            <a:xfrm>
              <a:off x="146160" y="378000"/>
              <a:ext cx="88516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52280" y="380880"/>
              <a:ext cx="883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The nucleic acid strand is  a polymer of nucleotid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heel spokes="8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534600"/>
            <a:ext cx="8534160" cy="61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olynucleotides are synthesized by connecting the sugars of one nucleotide to the phosphate of the next with a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phosphodiest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is creates a repeating backbone of </a:t>
            </a:r>
            <a:r>
              <a:rPr b="0" lang="en-US" sz="2400" spc="-1" strike="noStrike">
                <a:solidFill>
                  <a:srgbClr val="ff3300"/>
                </a:solidFill>
                <a:latin typeface="Andalus"/>
                <a:ea typeface="Andalus"/>
              </a:rPr>
              <a:t>sugar-phosphat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linear order of bases in a gene specifies the order of amino acids (the monomers of a protei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10:40Z</dcterms:created>
  <dc:creator>DELL</dc:creator>
  <dc:description/>
  <dc:language>en-US</dc:language>
  <cp:lastModifiedBy>DELL</cp:lastModifiedBy>
  <dcterms:modified xsi:type="dcterms:W3CDTF">2013-09-24T04:37:05Z</dcterms:modified>
  <cp:revision>2</cp:revision>
  <dc:subject/>
  <dc:title>الشريحة 1</dc:title>
</cp:coreProperties>
</file>