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BC51-4003-46CD-9C6E-9028DF5FF91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DFE4-A125-4416-9596-B4681B6CA09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7609-4DE5-48DD-94CB-93277768300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81DF-DBDF-475D-8C2A-DF1668C7308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B624-08BF-4E4A-AC47-87E828D3EAE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EF3A-0734-497B-BD73-CF316159FCE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780B-AFD4-477D-BE08-62299C4608C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B019-776D-4569-8BA2-44C8586EFBD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1AAF-A6B0-4B60-9824-72B5AF5277D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B63F-0847-470B-967B-E6EE4158370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A438-4D09-44DD-A719-D92336DD68B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1C45-7F1F-4D65-B699-66CA7C78ED1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432F-8FA6-419C-AAD6-950060D6C54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4FEE-C353-407F-97B1-8471C94BA15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0109-68B1-4A25-8D3D-430D1856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AAB5-FB4A-4DFB-87F4-C7FC70FD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D973-6D90-42AF-A293-BD743A33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0983-6815-4D80-A84C-EB33C8F5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C258-3F03-4518-8B16-85BF38D1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651-991F-4386-AE22-4FEB34FC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721-DB89-4F4C-8A28-A33C3C08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DF5-785A-459C-AE69-A0CF2202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504A-2D80-4B94-83D8-50FEA2A1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AD6C-17FC-4C9D-9556-359D932F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867F-F08E-4377-A444-51115D70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93B0-F419-4CC8-93AF-D5794F1A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5A52-70AE-4304-BFF7-E89CAF47C58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32394" t="16604" r="14897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28600" y="304560"/>
            <a:ext cx="8610480" cy="163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 RNA molecule is single polynucleotide chain (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single stran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DNA molecules have two polynucleotide strands (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double stran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 that spiral around to form a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double helix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1600200"/>
            <a:ext cx="8991360" cy="4775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971800" y="152280"/>
            <a:ext cx="6172200" cy="6400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52280" y="581040"/>
            <a:ext cx="3657600" cy="73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sugar-phosphate backbones of the two polynucleotides are on the outside of the heli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airs of nitrogenou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bases (one from eac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trand) connect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olynucleotide chai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with hydrogen bo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DNA molecul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have thousands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illions of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base pair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bP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33160" y="1905120"/>
            <a:ext cx="800100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a)- Messenger RNA (mRNA) is the blueprint for construction of a protei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b)- Ribosomal RNA (rRNA) is the construction site where the protein is made</a:t>
            </a:r>
            <a:r>
              <a:rPr b="0" lang="en-GB" sz="2600" spc="-1" strike="noStrike">
                <a:solidFill>
                  <a:srgbClr val="000000"/>
                </a:solidFill>
                <a:latin typeface="Andalus"/>
                <a:ea typeface="Andalus"/>
              </a:rPr>
              <a:t> in the ribosome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c)- Transfer RNA (tRNA) is the truck delivering the proper amino acid to the site at the right tim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مربع نص 3"/>
          <p:cNvGrpSpPr/>
          <p:nvPr/>
        </p:nvGrpSpPr>
        <p:grpSpPr>
          <a:xfrm>
            <a:off x="1517760" y="530280"/>
            <a:ext cx="5651280" cy="718920"/>
            <a:chOff x="1517760" y="530280"/>
            <a:chExt cx="5651280" cy="718920"/>
          </a:xfrm>
        </p:grpSpPr>
        <p:pic>
          <p:nvPicPr>
            <p:cNvPr id="136" name="مربع نص 3" descr=""/>
            <p:cNvPicPr/>
            <p:nvPr/>
          </p:nvPicPr>
          <p:blipFill>
            <a:blip r:embed="rId1"/>
            <a:stretch/>
          </p:blipFill>
          <p:spPr>
            <a:xfrm>
              <a:off x="1517760" y="530280"/>
              <a:ext cx="56512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523880" y="533520"/>
              <a:ext cx="5639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000ff"/>
                  </a:solidFill>
                  <a:uFillTx/>
                  <a:latin typeface="Andalus"/>
                  <a:ea typeface="Andalus"/>
                </a:rPr>
                <a:t>r</a:t>
              </a:r>
              <a:r>
                <a:rPr b="0" lang="en-US" sz="4000" spc="-1" strike="noStrike">
                  <a:solidFill>
                    <a:srgbClr val="ff3300"/>
                  </a:solidFill>
                  <a:latin typeface="Andalus"/>
                  <a:ea typeface="Andalus"/>
                </a:rPr>
                <a:t>ibo</a:t>
              </a:r>
              <a:r>
                <a:rPr b="0" lang="en-US" sz="4000" spc="-1" strike="noStrike" u="sng">
                  <a:solidFill>
                    <a:srgbClr val="0000ff"/>
                  </a:solidFill>
                  <a:uFillTx/>
                  <a:latin typeface="Andalus"/>
                  <a:ea typeface="Andalus"/>
                </a:rPr>
                <a:t>n</a:t>
              </a:r>
              <a:r>
                <a:rPr b="0" lang="en-US" sz="4000" spc="-1" strike="noStrike">
                  <a:solidFill>
                    <a:srgbClr val="ff3300"/>
                  </a:solidFill>
                  <a:latin typeface="Andalus"/>
                  <a:ea typeface="Andalus"/>
                </a:rPr>
                <a:t>ucleic </a:t>
              </a:r>
              <a:r>
                <a:rPr b="0" lang="en-US" sz="4000" spc="-1" strike="noStrike" u="sng">
                  <a:solidFill>
                    <a:srgbClr val="0000ff"/>
                  </a:solidFill>
                  <a:uFillTx/>
                  <a:latin typeface="Andalus"/>
                  <a:ea typeface="Andalus"/>
                </a:rPr>
                <a:t>a</a:t>
              </a:r>
              <a:r>
                <a:rPr b="0" lang="en-US" sz="4000" spc="-1" strike="noStrike">
                  <a:solidFill>
                    <a:srgbClr val="ff3300"/>
                  </a:solidFill>
                  <a:latin typeface="Andalus"/>
                  <a:ea typeface="Andalus"/>
                </a:rPr>
                <a:t>cid (</a:t>
              </a:r>
              <a:r>
                <a:rPr b="0" lang="en-GB" sz="40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RNA)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Rectangle 2"/>
          <p:cNvGrpSpPr/>
          <p:nvPr/>
        </p:nvGrpSpPr>
        <p:grpSpPr>
          <a:xfrm>
            <a:off x="4737240" y="262080"/>
            <a:ext cx="4314600" cy="6217920"/>
            <a:chOff x="4737240" y="262080"/>
            <a:chExt cx="4314600" cy="6217920"/>
          </a:xfrm>
        </p:grpSpPr>
        <p:pic>
          <p:nvPicPr>
            <p:cNvPr id="139" name="Rectangle 2" descr=""/>
            <p:cNvPicPr/>
            <p:nvPr/>
          </p:nvPicPr>
          <p:blipFill>
            <a:blip r:embed="rId1"/>
            <a:stretch/>
          </p:blipFill>
          <p:spPr>
            <a:xfrm>
              <a:off x="4737240" y="262080"/>
              <a:ext cx="4314600" cy="62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800600" y="304920"/>
              <a:ext cx="4191120" cy="60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Rectangle 3"/>
          <p:cNvGrpSpPr/>
          <p:nvPr/>
        </p:nvGrpSpPr>
        <p:grpSpPr>
          <a:xfrm>
            <a:off x="60480" y="262080"/>
            <a:ext cx="4316400" cy="6217920"/>
            <a:chOff x="60480" y="262080"/>
            <a:chExt cx="4316400" cy="6217920"/>
          </a:xfrm>
        </p:grpSpPr>
        <p:pic>
          <p:nvPicPr>
            <p:cNvPr id="142" name="Rectangle 3" descr=""/>
            <p:cNvPicPr/>
            <p:nvPr/>
          </p:nvPicPr>
          <p:blipFill>
            <a:blip r:embed="rId2"/>
            <a:stretch/>
          </p:blipFill>
          <p:spPr>
            <a:xfrm>
              <a:off x="60480" y="262080"/>
              <a:ext cx="4316400" cy="62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127080" y="304920"/>
              <a:ext cx="4190760" cy="60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5"/>
          <p:cNvGrpSpPr/>
          <p:nvPr/>
        </p:nvGrpSpPr>
        <p:grpSpPr>
          <a:xfrm>
            <a:off x="660240" y="1279440"/>
            <a:ext cx="7645320" cy="2692440"/>
            <a:chOff x="660240" y="1279440"/>
            <a:chExt cx="7645320" cy="2692440"/>
          </a:xfrm>
        </p:grpSpPr>
        <p:grpSp>
          <p:nvGrpSpPr>
            <p:cNvPr id="145" name="Group 6"/>
            <p:cNvGrpSpPr/>
            <p:nvPr/>
          </p:nvGrpSpPr>
          <p:grpSpPr>
            <a:xfrm>
              <a:off x="1448280" y="1279440"/>
              <a:ext cx="1602000" cy="1326960"/>
              <a:chOff x="1448280" y="1279440"/>
              <a:chExt cx="1602000" cy="1326960"/>
            </a:xfrm>
          </p:grpSpPr>
          <p:sp>
            <p:nvSpPr>
              <p:cNvPr id="146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Text Box 8"/>
              <p:cNvSpPr/>
              <p:nvPr/>
            </p:nvSpPr>
            <p:spPr>
              <a:xfrm>
                <a:off x="1986480" y="1279440"/>
                <a:ext cx="33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6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o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48" name="Group 9"/>
              <p:cNvGrpSpPr/>
              <p:nvPr/>
            </p:nvGrpSpPr>
            <p:grpSpPr>
              <a:xfrm>
                <a:off x="2301840" y="1755720"/>
                <a:ext cx="498240" cy="850680"/>
                <a:chOff x="2301840" y="1755720"/>
                <a:chExt cx="498240" cy="850680"/>
              </a:xfrm>
            </p:grpSpPr>
            <p:sp>
              <p:nvSpPr>
                <p:cNvPr id="149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0" name="Text Box 11"/>
                <p:cNvSpPr/>
                <p:nvPr/>
              </p:nvSpPr>
              <p:spPr>
                <a:xfrm>
                  <a:off x="2328120" y="2238120"/>
                  <a:ext cx="47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ndalus"/>
                      <a:ea typeface="Andalus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Text Box 12"/>
                <p:cNvSpPr/>
                <p:nvPr/>
              </p:nvSpPr>
              <p:spPr>
                <a:xfrm>
                  <a:off x="2301840" y="1755720"/>
                  <a:ext cx="47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ndalus"/>
                      <a:ea typeface="Andalus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52" name="Text Box 13"/>
              <p:cNvSpPr/>
              <p:nvPr/>
            </p:nvSpPr>
            <p:spPr>
              <a:xfrm>
                <a:off x="2577600" y="203508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Text Box 16"/>
              <p:cNvSpPr/>
              <p:nvPr/>
            </p:nvSpPr>
            <p:spPr>
              <a:xfrm>
                <a:off x="1658160" y="180000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Text Box 18"/>
              <p:cNvSpPr/>
              <p:nvPr/>
            </p:nvSpPr>
            <p:spPr>
              <a:xfrm>
                <a:off x="1448280" y="193320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Text Box 19"/>
              <p:cNvSpPr/>
              <p:nvPr/>
            </p:nvSpPr>
            <p:spPr>
              <a:xfrm>
                <a:off x="1448280" y="1387440"/>
                <a:ext cx="709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CH</a:t>
                </a:r>
                <a:r>
                  <a:rPr b="1" lang="en-GB" sz="2000" spc="-1" strike="noStrike" baseline="-25000">
                    <a:solidFill>
                      <a:srgbClr val="000000"/>
                    </a:solidFill>
                    <a:latin typeface="Andalus"/>
                    <a:ea typeface="Andalu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9" name="Text Box 20"/>
            <p:cNvSpPr/>
            <p:nvPr/>
          </p:nvSpPr>
          <p:spPr>
            <a:xfrm>
              <a:off x="660240" y="2651040"/>
              <a:ext cx="267984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Deoxyribose sugar</a:t>
              </a:r>
              <a:r>
                <a:rPr b="1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(</a:t>
              </a:r>
              <a:r>
                <a:rPr b="1" lang="en-GB" sz="20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O on C2 is missed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0" name="Group 21"/>
            <p:cNvGrpSpPr/>
            <p:nvPr/>
          </p:nvGrpSpPr>
          <p:grpSpPr>
            <a:xfrm>
              <a:off x="6545520" y="1432080"/>
              <a:ext cx="1602000" cy="1327320"/>
              <a:chOff x="6545520" y="1432080"/>
              <a:chExt cx="1602000" cy="1327320"/>
            </a:xfrm>
          </p:grpSpPr>
          <p:sp>
            <p:nvSpPr>
              <p:cNvPr id="161" name="AutoShape 22"/>
              <p:cNvSpPr/>
              <p:nvPr/>
            </p:nvSpPr>
            <p:spPr>
              <a:xfrm>
                <a:off x="6729120" y="1756080"/>
                <a:ext cx="1103400" cy="60948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Text Box 23"/>
              <p:cNvSpPr/>
              <p:nvPr/>
            </p:nvSpPr>
            <p:spPr>
              <a:xfrm>
                <a:off x="7084080" y="1432080"/>
                <a:ext cx="33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6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o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Line 24"/>
              <p:cNvSpPr/>
              <p:nvPr/>
            </p:nvSpPr>
            <p:spPr>
              <a:xfrm>
                <a:off x="7609320" y="2213280"/>
                <a:ext cx="129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Text Box 25"/>
              <p:cNvSpPr/>
              <p:nvPr/>
            </p:nvSpPr>
            <p:spPr>
              <a:xfrm>
                <a:off x="7425360" y="2391120"/>
                <a:ext cx="564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O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Text Box 26"/>
              <p:cNvSpPr/>
              <p:nvPr/>
            </p:nvSpPr>
            <p:spPr>
              <a:xfrm>
                <a:off x="7399440" y="190836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Text Box 27"/>
              <p:cNvSpPr/>
              <p:nvPr/>
            </p:nvSpPr>
            <p:spPr>
              <a:xfrm>
                <a:off x="7674840" y="218772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Line 28"/>
              <p:cNvSpPr/>
              <p:nvPr/>
            </p:nvSpPr>
            <p:spPr>
              <a:xfrm>
                <a:off x="7832880" y="20606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Line 29"/>
              <p:cNvSpPr/>
              <p:nvPr/>
            </p:nvSpPr>
            <p:spPr>
              <a:xfrm>
                <a:off x="6939720" y="2213280"/>
                <a:ext cx="2592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Text Box 30"/>
              <p:cNvSpPr/>
              <p:nvPr/>
            </p:nvSpPr>
            <p:spPr>
              <a:xfrm>
                <a:off x="6755760" y="195300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Line 31"/>
              <p:cNvSpPr/>
              <p:nvPr/>
            </p:nvSpPr>
            <p:spPr>
              <a:xfrm>
                <a:off x="6729120" y="1832040"/>
                <a:ext cx="1332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Text Box 32"/>
              <p:cNvSpPr/>
              <p:nvPr/>
            </p:nvSpPr>
            <p:spPr>
              <a:xfrm>
                <a:off x="6545520" y="208620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Text Box 33"/>
              <p:cNvSpPr/>
              <p:nvPr/>
            </p:nvSpPr>
            <p:spPr>
              <a:xfrm>
                <a:off x="6545520" y="1540080"/>
                <a:ext cx="709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CH</a:t>
                </a:r>
                <a:r>
                  <a:rPr b="1" lang="en-GB" sz="2000" spc="-1" strike="noStrike" baseline="-25000">
                    <a:solidFill>
                      <a:srgbClr val="000000"/>
                    </a:solidFill>
                    <a:latin typeface="Andalus"/>
                    <a:ea typeface="Andalu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3" name="Text Box 34"/>
            <p:cNvSpPr/>
            <p:nvPr/>
          </p:nvSpPr>
          <p:spPr>
            <a:xfrm>
              <a:off x="5867280" y="2743200"/>
              <a:ext cx="2438280" cy="95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Ribose sugar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(</a:t>
              </a: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no missed O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Text Box 35"/>
          <p:cNvSpPr/>
          <p:nvPr/>
        </p:nvSpPr>
        <p:spPr>
          <a:xfrm>
            <a:off x="5842080" y="365760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R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ibo-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ucleic-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36"/>
          <p:cNvSpPr/>
          <p:nvPr/>
        </p:nvSpPr>
        <p:spPr>
          <a:xfrm>
            <a:off x="279360" y="365760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eoxiribo-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ucleic-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Group 37"/>
          <p:cNvGrpSpPr/>
          <p:nvPr/>
        </p:nvGrpSpPr>
        <p:grpSpPr>
          <a:xfrm>
            <a:off x="279360" y="4479840"/>
            <a:ext cx="8686800" cy="901800"/>
            <a:chOff x="279360" y="4479840"/>
            <a:chExt cx="8686800" cy="901800"/>
          </a:xfrm>
        </p:grpSpPr>
        <p:sp>
          <p:nvSpPr>
            <p:cNvPr id="177" name="Text Box 38"/>
            <p:cNvSpPr/>
            <p:nvPr/>
          </p:nvSpPr>
          <p:spPr>
            <a:xfrm>
              <a:off x="5079960" y="447984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Single stranded nucleic acid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 Box 39"/>
            <p:cNvSpPr/>
            <p:nvPr/>
          </p:nvSpPr>
          <p:spPr>
            <a:xfrm>
              <a:off x="279360" y="4556160"/>
              <a:ext cx="380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Double stranded nucleic acid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40"/>
          <p:cNvGrpSpPr/>
          <p:nvPr/>
        </p:nvGrpSpPr>
        <p:grpSpPr>
          <a:xfrm>
            <a:off x="965160" y="5181480"/>
            <a:ext cx="7467480" cy="885960"/>
            <a:chOff x="965160" y="5181480"/>
            <a:chExt cx="7467480" cy="885960"/>
          </a:xfrm>
        </p:grpSpPr>
        <p:sp>
          <p:nvSpPr>
            <p:cNvPr id="180" name="Text Box 41"/>
            <p:cNvSpPr/>
            <p:nvPr/>
          </p:nvSpPr>
          <p:spPr>
            <a:xfrm>
              <a:off x="965160" y="524196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Bases: A, G, C, </a:t>
              </a: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 Box 42"/>
            <p:cNvSpPr/>
            <p:nvPr/>
          </p:nvSpPr>
          <p:spPr>
            <a:xfrm>
              <a:off x="5842080" y="518148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Bases: A, G, C, </a:t>
              </a: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مستطيل 43"/>
          <p:cNvSpPr/>
          <p:nvPr/>
        </p:nvSpPr>
        <p:spPr>
          <a:xfrm>
            <a:off x="1491120" y="533520"/>
            <a:ext cx="137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مستطيل 44"/>
          <p:cNvSpPr/>
          <p:nvPr/>
        </p:nvSpPr>
        <p:spPr>
          <a:xfrm>
            <a:off x="6580800" y="609480"/>
            <a:ext cx="13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28600" y="1924920"/>
            <a:ext cx="385452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Repeated Sugar - Phosph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28600" y="3106800"/>
            <a:ext cx="314640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Sugar–Phosphate-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4170240"/>
            <a:ext cx="243828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Polynucleot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Text Box 6"/>
          <p:cNvGrpSpPr/>
          <p:nvPr/>
        </p:nvGrpSpPr>
        <p:grpSpPr>
          <a:xfrm>
            <a:off x="5810400" y="1871640"/>
            <a:ext cx="3509640" cy="774720"/>
            <a:chOff x="5810400" y="1871640"/>
            <a:chExt cx="3509640" cy="774720"/>
          </a:xfrm>
        </p:grpSpPr>
        <p:pic>
          <p:nvPicPr>
            <p:cNvPr id="188" name="Text Box 6" descr=""/>
            <p:cNvPicPr/>
            <p:nvPr/>
          </p:nvPicPr>
          <p:blipFill>
            <a:blip r:embed="rId1"/>
            <a:stretch/>
          </p:blipFill>
          <p:spPr>
            <a:xfrm>
              <a:off x="5810400" y="1871640"/>
              <a:ext cx="35096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867280" y="199044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DNA backbon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AutoShape 7"/>
          <p:cNvGrpSpPr/>
          <p:nvPr/>
        </p:nvGrpSpPr>
        <p:grpSpPr>
          <a:xfrm>
            <a:off x="4206960" y="2157480"/>
            <a:ext cx="1260360" cy="701640"/>
            <a:chOff x="4206960" y="2157480"/>
            <a:chExt cx="1260360" cy="701640"/>
          </a:xfrm>
        </p:grpSpPr>
        <p:pic>
          <p:nvPicPr>
            <p:cNvPr id="191" name="AutoShape 7" descr=""/>
            <p:cNvPicPr/>
            <p:nvPr/>
          </p:nvPicPr>
          <p:blipFill>
            <a:blip r:embed="rId2"/>
            <a:stretch/>
          </p:blipFill>
          <p:spPr>
            <a:xfrm>
              <a:off x="4206960" y="2157480"/>
              <a:ext cx="126036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267080" y="2341440"/>
              <a:ext cx="92088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Text Box 9"/>
          <p:cNvGrpSpPr/>
          <p:nvPr/>
        </p:nvGrpSpPr>
        <p:grpSpPr>
          <a:xfrm>
            <a:off x="5505480" y="2928600"/>
            <a:ext cx="3510000" cy="1068840"/>
            <a:chOff x="5505480" y="2928600"/>
            <a:chExt cx="3510000" cy="1068840"/>
          </a:xfrm>
        </p:grpSpPr>
        <p:pic>
          <p:nvPicPr>
            <p:cNvPr id="194" name="Text Box 9" descr=""/>
            <p:cNvPicPr/>
            <p:nvPr/>
          </p:nvPicPr>
          <p:blipFill>
            <a:blip r:embed="rId3"/>
            <a:stretch/>
          </p:blipFill>
          <p:spPr>
            <a:xfrm>
              <a:off x="5505480" y="3054240"/>
              <a:ext cx="35100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562720" y="2928600"/>
              <a:ext cx="3200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One nucleotid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AutoShape 10"/>
          <p:cNvGrpSpPr/>
          <p:nvPr/>
        </p:nvGrpSpPr>
        <p:grpSpPr>
          <a:xfrm>
            <a:off x="3524400" y="3219480"/>
            <a:ext cx="1942920" cy="700200"/>
            <a:chOff x="3524400" y="3219480"/>
            <a:chExt cx="1942920" cy="700200"/>
          </a:xfrm>
        </p:grpSpPr>
        <p:pic>
          <p:nvPicPr>
            <p:cNvPr id="197" name="AutoShape 10" descr=""/>
            <p:cNvPicPr/>
            <p:nvPr/>
          </p:nvPicPr>
          <p:blipFill>
            <a:blip r:embed="rId4"/>
            <a:stretch/>
          </p:blipFill>
          <p:spPr>
            <a:xfrm>
              <a:off x="3524400" y="3219480"/>
              <a:ext cx="19429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3581280" y="3405240"/>
              <a:ext cx="1474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Text Box 12"/>
          <p:cNvGrpSpPr/>
          <p:nvPr/>
        </p:nvGrpSpPr>
        <p:grpSpPr>
          <a:xfrm>
            <a:off x="5121360" y="4237200"/>
            <a:ext cx="3510000" cy="772920"/>
            <a:chOff x="5121360" y="4237200"/>
            <a:chExt cx="3510000" cy="772920"/>
          </a:xfrm>
        </p:grpSpPr>
        <p:pic>
          <p:nvPicPr>
            <p:cNvPr id="200" name="Text Box 12" descr=""/>
            <p:cNvPicPr/>
            <p:nvPr/>
          </p:nvPicPr>
          <p:blipFill>
            <a:blip r:embed="rId5"/>
            <a:stretch/>
          </p:blipFill>
          <p:spPr>
            <a:xfrm>
              <a:off x="5121360" y="4237200"/>
              <a:ext cx="35100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5181480" y="435420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DNA Molecul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AutoShape 13"/>
          <p:cNvGrpSpPr/>
          <p:nvPr/>
        </p:nvGrpSpPr>
        <p:grpSpPr>
          <a:xfrm>
            <a:off x="2682720" y="4400640"/>
            <a:ext cx="2479680" cy="701640"/>
            <a:chOff x="2682720" y="4400640"/>
            <a:chExt cx="2479680" cy="701640"/>
          </a:xfrm>
        </p:grpSpPr>
        <p:pic>
          <p:nvPicPr>
            <p:cNvPr id="203" name="AutoShape 13" descr=""/>
            <p:cNvPicPr/>
            <p:nvPr/>
          </p:nvPicPr>
          <p:blipFill>
            <a:blip r:embed="rId6"/>
            <a:stretch/>
          </p:blipFill>
          <p:spPr>
            <a:xfrm>
              <a:off x="2682720" y="4400640"/>
              <a:ext cx="2479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743200" y="4586400"/>
              <a:ext cx="19051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08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877C-5BA9-4C33-B996-E0527E98401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Text Box 14"/>
          <p:cNvGrpSpPr/>
          <p:nvPr/>
        </p:nvGrpSpPr>
        <p:grpSpPr>
          <a:xfrm>
            <a:off x="396720" y="1663560"/>
            <a:ext cx="5235840" cy="774720"/>
            <a:chOff x="396720" y="1663560"/>
            <a:chExt cx="5235840" cy="774720"/>
          </a:xfrm>
        </p:grpSpPr>
        <p:pic>
          <p:nvPicPr>
            <p:cNvPr id="210" name="Text Box 14" descr=""/>
            <p:cNvPicPr/>
            <p:nvPr/>
          </p:nvPicPr>
          <p:blipFill>
            <a:blip r:embed="rId2"/>
            <a:stretch/>
          </p:blipFill>
          <p:spPr>
            <a:xfrm>
              <a:off x="396720" y="1663560"/>
              <a:ext cx="52358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57200" y="1778040"/>
              <a:ext cx="512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DNA Double stranded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Text Box 15"/>
          <p:cNvGrpSpPr/>
          <p:nvPr/>
        </p:nvGrpSpPr>
        <p:grpSpPr>
          <a:xfrm>
            <a:off x="781200" y="2646360"/>
            <a:ext cx="5235480" cy="766800"/>
            <a:chOff x="781200" y="2646360"/>
            <a:chExt cx="5235480" cy="766800"/>
          </a:xfrm>
        </p:grpSpPr>
        <p:pic>
          <p:nvPicPr>
            <p:cNvPr id="213" name="Text Box 15" descr=""/>
            <p:cNvPicPr/>
            <p:nvPr/>
          </p:nvPicPr>
          <p:blipFill>
            <a:blip r:embed="rId3"/>
            <a:stretch/>
          </p:blipFill>
          <p:spPr>
            <a:xfrm>
              <a:off x="781200" y="2646360"/>
              <a:ext cx="523548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838080" y="2755800"/>
              <a:ext cx="512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RNA single stranded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16"/>
          <p:cNvGrpSpPr/>
          <p:nvPr/>
        </p:nvGrpSpPr>
        <p:grpSpPr>
          <a:xfrm>
            <a:off x="2400480" y="4772160"/>
            <a:ext cx="529560" cy="1019880"/>
            <a:chOff x="2400480" y="4772160"/>
            <a:chExt cx="529560" cy="1019880"/>
          </a:xfrm>
        </p:grpSpPr>
        <p:sp>
          <p:nvSpPr>
            <p:cNvPr id="216" name="Text Box 17"/>
            <p:cNvSpPr/>
            <p:nvPr/>
          </p:nvSpPr>
          <p:spPr>
            <a:xfrm>
              <a:off x="2400480" y="533232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Line 18"/>
            <p:cNvSpPr/>
            <p:nvPr/>
          </p:nvSpPr>
          <p:spPr>
            <a:xfrm flipV="1">
              <a:off x="266508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19"/>
          <p:cNvGrpSpPr/>
          <p:nvPr/>
        </p:nvGrpSpPr>
        <p:grpSpPr>
          <a:xfrm>
            <a:off x="3106800" y="4772160"/>
            <a:ext cx="529920" cy="1019880"/>
            <a:chOff x="3106800" y="4772160"/>
            <a:chExt cx="529920" cy="1019880"/>
          </a:xfrm>
        </p:grpSpPr>
        <p:sp>
          <p:nvSpPr>
            <p:cNvPr id="219" name="Text Box 20"/>
            <p:cNvSpPr/>
            <p:nvPr/>
          </p:nvSpPr>
          <p:spPr>
            <a:xfrm>
              <a:off x="3106800" y="5332320"/>
              <a:ext cx="5299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Line 21"/>
            <p:cNvSpPr/>
            <p:nvPr/>
          </p:nvSpPr>
          <p:spPr>
            <a:xfrm flipV="1">
              <a:off x="337176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22"/>
          <p:cNvGrpSpPr/>
          <p:nvPr/>
        </p:nvGrpSpPr>
        <p:grpSpPr>
          <a:xfrm>
            <a:off x="3813120" y="4772160"/>
            <a:ext cx="529920" cy="1019880"/>
            <a:chOff x="3813120" y="4772160"/>
            <a:chExt cx="529920" cy="1019880"/>
          </a:xfrm>
        </p:grpSpPr>
        <p:sp>
          <p:nvSpPr>
            <p:cNvPr id="222" name="Text Box 23"/>
            <p:cNvSpPr/>
            <p:nvPr/>
          </p:nvSpPr>
          <p:spPr>
            <a:xfrm>
              <a:off x="3813120" y="5332320"/>
              <a:ext cx="5299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 flipV="1">
              <a:off x="407808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Group 25"/>
          <p:cNvGrpSpPr/>
          <p:nvPr/>
        </p:nvGrpSpPr>
        <p:grpSpPr>
          <a:xfrm>
            <a:off x="4519440" y="4772160"/>
            <a:ext cx="529920" cy="1019880"/>
            <a:chOff x="4519440" y="4772160"/>
            <a:chExt cx="529920" cy="1019880"/>
          </a:xfrm>
        </p:grpSpPr>
        <p:sp>
          <p:nvSpPr>
            <p:cNvPr id="225" name="Text Box 26"/>
            <p:cNvSpPr/>
            <p:nvPr/>
          </p:nvSpPr>
          <p:spPr>
            <a:xfrm>
              <a:off x="4519440" y="5332320"/>
              <a:ext cx="5299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Line 27"/>
            <p:cNvSpPr/>
            <p:nvPr/>
          </p:nvSpPr>
          <p:spPr>
            <a:xfrm flipV="1">
              <a:off x="478440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Group 28"/>
          <p:cNvGrpSpPr/>
          <p:nvPr/>
        </p:nvGrpSpPr>
        <p:grpSpPr>
          <a:xfrm>
            <a:off x="5226120" y="4772160"/>
            <a:ext cx="529920" cy="1019880"/>
            <a:chOff x="5226120" y="4772160"/>
            <a:chExt cx="529920" cy="1019880"/>
          </a:xfrm>
        </p:grpSpPr>
        <p:sp>
          <p:nvSpPr>
            <p:cNvPr id="228" name="Text Box 29"/>
            <p:cNvSpPr/>
            <p:nvPr/>
          </p:nvSpPr>
          <p:spPr>
            <a:xfrm>
              <a:off x="5226120" y="5332320"/>
              <a:ext cx="5299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 flipV="1">
              <a:off x="549108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Group 31"/>
          <p:cNvGrpSpPr/>
          <p:nvPr/>
        </p:nvGrpSpPr>
        <p:grpSpPr>
          <a:xfrm>
            <a:off x="5932440" y="4772160"/>
            <a:ext cx="529920" cy="1019880"/>
            <a:chOff x="5932440" y="4772160"/>
            <a:chExt cx="529920" cy="1019880"/>
          </a:xfrm>
        </p:grpSpPr>
        <p:sp>
          <p:nvSpPr>
            <p:cNvPr id="231" name="Text Box 32"/>
            <p:cNvSpPr/>
            <p:nvPr/>
          </p:nvSpPr>
          <p:spPr>
            <a:xfrm>
              <a:off x="5932440" y="5332320"/>
              <a:ext cx="5299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Line 33"/>
            <p:cNvSpPr/>
            <p:nvPr/>
          </p:nvSpPr>
          <p:spPr>
            <a:xfrm flipV="1">
              <a:off x="619740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Group 34"/>
          <p:cNvGrpSpPr/>
          <p:nvPr/>
        </p:nvGrpSpPr>
        <p:grpSpPr>
          <a:xfrm>
            <a:off x="6640560" y="4772160"/>
            <a:ext cx="528120" cy="1019880"/>
            <a:chOff x="6640560" y="4772160"/>
            <a:chExt cx="528120" cy="1019880"/>
          </a:xfrm>
        </p:grpSpPr>
        <p:sp>
          <p:nvSpPr>
            <p:cNvPr id="234" name="Text Box 35"/>
            <p:cNvSpPr/>
            <p:nvPr/>
          </p:nvSpPr>
          <p:spPr>
            <a:xfrm>
              <a:off x="6640560" y="5332320"/>
              <a:ext cx="5281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Line 36"/>
            <p:cNvSpPr/>
            <p:nvPr/>
          </p:nvSpPr>
          <p:spPr>
            <a:xfrm flipV="1">
              <a:off x="690624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37"/>
          <p:cNvGrpSpPr/>
          <p:nvPr/>
        </p:nvGrpSpPr>
        <p:grpSpPr>
          <a:xfrm>
            <a:off x="2400480" y="4100400"/>
            <a:ext cx="5828400" cy="459720"/>
            <a:chOff x="2400480" y="4100400"/>
            <a:chExt cx="5828400" cy="459720"/>
          </a:xfrm>
        </p:grpSpPr>
        <p:sp>
          <p:nvSpPr>
            <p:cNvPr id="237" name="Text Box 38"/>
            <p:cNvSpPr/>
            <p:nvPr/>
          </p:nvSpPr>
          <p:spPr>
            <a:xfrm>
              <a:off x="2400480" y="410040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Text Box 39"/>
            <p:cNvSpPr/>
            <p:nvPr/>
          </p:nvSpPr>
          <p:spPr>
            <a:xfrm>
              <a:off x="3107160" y="410040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Text Box 40"/>
            <p:cNvSpPr/>
            <p:nvPr/>
          </p:nvSpPr>
          <p:spPr>
            <a:xfrm>
              <a:off x="5933160" y="410040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 Box 41"/>
            <p:cNvSpPr/>
            <p:nvPr/>
          </p:nvSpPr>
          <p:spPr>
            <a:xfrm>
              <a:off x="3813480" y="410040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 Box 42"/>
            <p:cNvSpPr/>
            <p:nvPr/>
          </p:nvSpPr>
          <p:spPr>
            <a:xfrm>
              <a:off x="4519800" y="410040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Text Box 43"/>
            <p:cNvSpPr/>
            <p:nvPr/>
          </p:nvSpPr>
          <p:spPr>
            <a:xfrm>
              <a:off x="5226840" y="410040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Text Box 44"/>
            <p:cNvSpPr/>
            <p:nvPr/>
          </p:nvSpPr>
          <p:spPr>
            <a:xfrm>
              <a:off x="6639480" y="4100400"/>
              <a:ext cx="5263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Line 45"/>
            <p:cNvSpPr/>
            <p:nvPr/>
          </p:nvSpPr>
          <p:spPr>
            <a:xfrm>
              <a:off x="7169400" y="4435920"/>
              <a:ext cx="105948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Line 46"/>
          <p:cNvSpPr/>
          <p:nvPr/>
        </p:nvSpPr>
        <p:spPr>
          <a:xfrm>
            <a:off x="7169040" y="5668920"/>
            <a:ext cx="106056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5226120" y="5332320"/>
            <a:ext cx="53028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49"/>
          <p:cNvSpPr/>
          <p:nvPr/>
        </p:nvSpPr>
        <p:spPr>
          <a:xfrm>
            <a:off x="2400480" y="5332320"/>
            <a:ext cx="52992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457200" y="5332320"/>
            <a:ext cx="15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546120" y="421308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500"/>
                            </p:stCondLst>
                            <p:childTnLst>
                              <p:par>
                                <p:cTn id="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8500"/>
                            </p:stCondLst>
                            <p:childTnLst>
                              <p:par>
                                <p:cTn id="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35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52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D278-2376-4898-A462-E586848B1B3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3" name="ArticulateFlashObject"/>
          <p:cNvGraphicFramePr/>
          <p:nvPr/>
        </p:nvGraphicFramePr>
        <p:xfrm>
          <a:off x="2540160" y="1905120"/>
          <a:ext cx="4063680" cy="304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ArticulateFlashObjec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0160" y="1905120"/>
                    <a:ext cx="406368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"/>
          <p:cNvPicPr/>
          <p:nvPr/>
        </p:nvPicPr>
        <p:blipFill>
          <a:blip r:embed="rId2"/>
          <a:srcRect l="32394" t="16604" r="14349" b="12697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rcRect l="32394" t="16604" r="14897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rcRect l="32430" t="21683" r="14861" b="11914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228600" y="1600200"/>
            <a:ext cx="8686440" cy="4876560"/>
            <a:chOff x="228600" y="1600200"/>
            <a:chExt cx="8686440" cy="4876560"/>
          </a:xfrm>
        </p:grpSpPr>
        <p:sp>
          <p:nvSpPr>
            <p:cNvPr id="57" name="Rectangle 8"/>
            <p:cNvSpPr/>
            <p:nvPr/>
          </p:nvSpPr>
          <p:spPr>
            <a:xfrm>
              <a:off x="228600" y="1600200"/>
              <a:ext cx="8686440" cy="4876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" name="Picture 9" descr=""/>
            <p:cNvPicPr/>
            <p:nvPr/>
          </p:nvPicPr>
          <p:blipFill>
            <a:blip r:embed="rId1"/>
            <a:srcRect l="0" t="0" r="0" b="4968"/>
            <a:stretch/>
          </p:blipFill>
          <p:spPr>
            <a:xfrm>
              <a:off x="316440" y="1695240"/>
              <a:ext cx="8540280" cy="467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1143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4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- 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Nucleic acids (DNA &amp; RN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04920" y="51166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In April 1953, James </a:t>
            </a:r>
            <a:r>
              <a:rPr b="0" lang="en-US" sz="1800" spc="-1" strike="noStrike">
                <a:solidFill>
                  <a:srgbClr val="ff3300"/>
                </a:solidFill>
                <a:latin typeface="Andalus"/>
                <a:ea typeface="Andalus"/>
              </a:rPr>
              <a:t>Watson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and Francis </a:t>
            </a:r>
            <a:r>
              <a:rPr b="0" lang="en-US" sz="1800" spc="-1" strike="noStrike">
                <a:solidFill>
                  <a:srgbClr val="ff3300"/>
                </a:solidFill>
                <a:latin typeface="Andalus"/>
                <a:ea typeface="Andalus"/>
              </a:rPr>
              <a:t>Crick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shook the scientific world with an elegant double-helical model for the structure of deoxyribonucleic acid or D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Watson and Crick began to work on a model of DNA with two strands, the </a:t>
            </a:r>
            <a:r>
              <a:rPr b="0" lang="en-US" sz="1800" spc="-1" strike="noStrike">
                <a:solidFill>
                  <a:srgbClr val="ff3300"/>
                </a:solidFill>
                <a:latin typeface="Andalus"/>
                <a:ea typeface="Andalus"/>
              </a:rPr>
              <a:t>double helix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64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65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مستطيل 10"/>
          <p:cNvSpPr/>
          <p:nvPr/>
        </p:nvSpPr>
        <p:spPr>
          <a:xfrm>
            <a:off x="304920" y="3888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Watson and Crick discovered the double helix by building models to conform to X-ray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5960" y="0"/>
            <a:ext cx="8915400" cy="74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A gene is a small region in the 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Nucleic acids store and transmit hereditary inform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re are two types of nucleic acid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1)-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r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ibo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ucleic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cid (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RNA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2)-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d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eoxyribo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ucleic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cid (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DNA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DNA also directs mRNA synthesis, thus, controls protein synthe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rganisms inherit DNA from their par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820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SzPct val="12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Each DNA molecule is very long and usually consists of hundreds to thousands of ge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820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SzPct val="12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When a cell divides, its DNA is copied and passed to the next generation of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mRNA interacts with ribosomes to direct the synthesis of amino acids in a polypeptide (protei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228600"/>
            <a:ext cx="4953240" cy="62485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-380880" y="855720"/>
            <a:ext cx="4343400" cy="57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000000"/>
              </a:buClr>
              <a:buSzPct val="122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0" lang="en-US" sz="2600" spc="-1" strike="noStrike">
                <a:solidFill>
                  <a:srgbClr val="0000ff"/>
                </a:solidFill>
                <a:latin typeface="Andalus"/>
                <a:ea typeface="Andalus"/>
              </a:rPr>
              <a:t>PO</a:t>
            </a:r>
            <a:r>
              <a:rPr b="0" lang="en-US" sz="26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group of one nucleotide is attached to the </a:t>
            </a:r>
            <a:r>
              <a:rPr b="0" lang="en-US" sz="2600" spc="-1" strike="noStrike">
                <a:solidFill>
                  <a:srgbClr val="0000ff"/>
                </a:solidFill>
                <a:latin typeface="Andalus"/>
                <a:ea typeface="Andalus"/>
              </a:rPr>
              <a:t>sugar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of the next nucleotide in lin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SzPct val="122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The result is a “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backbone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ndalus"/>
                <a:cs typeface="Andalus"/>
              </a:rPr>
              <a:t>تبادل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phosphates and sugars, from which the bases star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74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77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91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Sugar-phosphate backbon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95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96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ndalus"/>
                    <a:ea typeface="Andalus"/>
                  </a:rPr>
                  <a:t>Thymine (T)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ndalus"/>
                    <a:ea typeface="Andalus"/>
                  </a:rPr>
                  <a:t>Adenine (A)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ndalus"/>
                    <a:ea typeface="Andalus"/>
                  </a:rPr>
                  <a:t>Cytosine (C)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ndalus"/>
                    <a:ea typeface="Andalus"/>
                  </a:rPr>
                  <a:t>Guanine (G)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urin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yrimidine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103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107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110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Hydrogen bond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113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Nitrogenous base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47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118" name="Text Box 48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 Box 49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0" name="Group 50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121" name="Text Box 51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Calibri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Text Box 52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23" name="Text Box 53"/>
          <p:cNvSpPr/>
          <p:nvPr/>
        </p:nvSpPr>
        <p:spPr>
          <a:xfrm>
            <a:off x="3505320" y="44197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ndalus"/>
                <a:ea typeface="Andalus"/>
              </a:rPr>
              <a:t>Uracil (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مربع نص 57"/>
          <p:cNvSpPr/>
          <p:nvPr/>
        </p:nvSpPr>
        <p:spPr>
          <a:xfrm>
            <a:off x="2895480" y="38088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Nitrogenous b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9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560" y="1143000"/>
            <a:ext cx="876276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Nucleic acids are polymers of monomers called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nucleotid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ach nucleotide consists of three parts: a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nitrogen base, a pentose sugar, and a phosphate group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nitrogen bases (rings of carbon and nitrogen) come in two types: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Purin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yrimidin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pentose sugar joined to the nitrogen base is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ribos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n nucleotides of RNA and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deoxyribos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n 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only difference between the sugars is the lack of an oxygen atom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carbon 2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n deoxyribo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مربع نص 5"/>
          <p:cNvGrpSpPr/>
          <p:nvPr/>
        </p:nvGrpSpPr>
        <p:grpSpPr>
          <a:xfrm>
            <a:off x="146160" y="378000"/>
            <a:ext cx="8851680" cy="1071720"/>
            <a:chOff x="146160" y="378000"/>
            <a:chExt cx="8851680" cy="1071720"/>
          </a:xfrm>
        </p:grpSpPr>
        <p:pic>
          <p:nvPicPr>
            <p:cNvPr id="127" name="مربع نص 5" descr=""/>
            <p:cNvPicPr/>
            <p:nvPr/>
          </p:nvPicPr>
          <p:blipFill>
            <a:blip r:embed="rId1"/>
            <a:stretch/>
          </p:blipFill>
          <p:spPr>
            <a:xfrm>
              <a:off x="146160" y="378000"/>
              <a:ext cx="8851680" cy="59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52280" y="380880"/>
              <a:ext cx="8839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The nucleic acid strand is  a polymer of nucleotide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wheel spokes="8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534600"/>
            <a:ext cx="8534160" cy="61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olynucleotides are synthesized by connecting the sugars of one nucleotide to the phosphate of the next with a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phosphodiester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is creates a repeating backbone of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sugar-phosphat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units with the nitrogen bases as appendag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Genes are normally hundreds to thousands of nucleotides lo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linear order of bases in a gene specifies the order of amino acids (the monomers of a protei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4:10:40Z</dcterms:created>
  <dc:creator>DELL</dc:creator>
  <dc:description/>
  <dc:language>en-US</dc:language>
  <cp:lastModifiedBy>DELL</cp:lastModifiedBy>
  <dcterms:modified xsi:type="dcterms:W3CDTF">2013-09-24T04:37:05Z</dcterms:modified>
  <cp:revision>2</cp:revision>
  <dc:subject/>
  <dc:title>الشريحة 1</dc:title>
</cp:coreProperties>
</file>