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1536-FD9F-4569-8B76-E41B80444E4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65A6-F38E-4156-BE93-78DA338365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D78-164A-4D77-A95B-BEC9D3EEC14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5E4-6799-4621-A11D-9F0074BE7FF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41FB-D4E0-4FB9-B28E-39D943B255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C1B3-7A25-4ABD-A3B5-57A5ED2EF26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F640-C9CF-4F59-82DD-9CC019AB9C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F0C7-BF8D-4483-8AC4-FDD2911249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751-CE4B-4C32-951F-ABE6125FC1F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BC3B-C95A-4573-B524-BD8C29127FF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F28E-B0AD-4DE8-A7AA-4C158B6F32B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5C9E-64CC-4DF5-8AD6-53DD608AA4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F5B-005A-4D19-92CE-10212FFBA7D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B743-259C-46BF-A4A0-93A941CD321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675-AB73-4F6D-AAE1-BD5D3E5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7A3-6E75-44F4-8603-B09CE9EE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4D7-7CB7-4479-BA69-4C5940D1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595-8CEA-4F28-B779-54E65A16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48D-81F6-4305-8A97-D6C7FFF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36D-B7B8-4939-9563-26DB8938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B63-E30A-4B26-A7A0-393A64A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FA3-8C3D-40BA-B53A-E2BF4F0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DC9-9925-4D4E-A8D9-0E748AA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969-4D3E-445B-97F6-B3137EA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C4A-C1F8-45BB-B749-ABFF420B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7D0-7E5B-4509-83BC-4C14FCC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5A9-C86B-4039-B82B-F622F1036B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304560"/>
            <a:ext cx="8610480" cy="16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RNA molecule is single polynucleotide chain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ing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molecules have two polynucleotide strands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oub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spiral around to form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71800" y="152280"/>
            <a:ext cx="6172200" cy="6400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2280" y="581040"/>
            <a:ext cx="3657600" cy="73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irs of nitroge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ases (one from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rand) connec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 chai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DNA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thousand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llions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base pair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a)- Messenger RNA (mRNA) is the blueprint for construction of a prote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b)- Ribosomal RNA (rRNA) is the construction site where the protein is made</a:t>
            </a:r>
            <a:r>
              <a:rPr b="0" lang="en-GB" sz="2600" spc="-1" strike="noStrike">
                <a:solidFill>
                  <a:srgbClr val="000000"/>
                </a:solidFill>
                <a:latin typeface="Andalus"/>
                <a:ea typeface="Andalus"/>
              </a:rPr>
              <a:t> in the ribosom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c)- Transfer RNA (tRNA) is the truck delivering the proper amino acid to the site at the right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مربع نص 3"/>
          <p:cNvGrpSpPr/>
          <p:nvPr/>
        </p:nvGrpSpPr>
        <p:grpSpPr>
          <a:xfrm>
            <a:off x="1517760" y="530280"/>
            <a:ext cx="5651280" cy="718920"/>
            <a:chOff x="1517760" y="530280"/>
            <a:chExt cx="5651280" cy="718920"/>
          </a:xfrm>
        </p:grpSpPr>
        <p:pic>
          <p:nvPicPr>
            <p:cNvPr id="136" name="مربع نص 3" descr=""/>
            <p:cNvPicPr/>
            <p:nvPr/>
          </p:nvPicPr>
          <p:blipFill>
            <a:blip r:embed="rId1"/>
            <a:stretch/>
          </p:blipFill>
          <p:spPr>
            <a:xfrm>
              <a:off x="1517760" y="530280"/>
              <a:ext cx="5651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3880" y="533520"/>
              <a:ext cx="563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r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ibo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n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ucleic 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cid (</a:t>
              </a:r>
              <a:r>
                <a:rPr b="0" lang="en-GB" sz="4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RNA)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4737240" y="262080"/>
            <a:ext cx="4314600" cy="6217920"/>
            <a:chOff x="4737240" y="262080"/>
            <a:chExt cx="4314600" cy="621792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4737240" y="262080"/>
              <a:ext cx="43146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0600" y="304920"/>
              <a:ext cx="419112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3"/>
          <p:cNvGrpSpPr/>
          <p:nvPr/>
        </p:nvGrpSpPr>
        <p:grpSpPr>
          <a:xfrm>
            <a:off x="60480" y="262080"/>
            <a:ext cx="4316400" cy="6217920"/>
            <a:chOff x="60480" y="262080"/>
            <a:chExt cx="4316400" cy="6217920"/>
          </a:xfrm>
        </p:grpSpPr>
        <p:pic>
          <p:nvPicPr>
            <p:cNvPr id="142" name="Rectangle 3" descr=""/>
            <p:cNvPicPr/>
            <p:nvPr/>
          </p:nvPicPr>
          <p:blipFill>
            <a:blip r:embed="rId2"/>
            <a:stretch/>
          </p:blipFill>
          <p:spPr>
            <a:xfrm>
              <a:off x="60480" y="262080"/>
              <a:ext cx="43164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7080" y="304920"/>
              <a:ext cx="419076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0240" y="1279440"/>
            <a:ext cx="7645320" cy="2692440"/>
            <a:chOff x="660240" y="1279440"/>
            <a:chExt cx="7645320" cy="2692440"/>
          </a:xfrm>
        </p:grpSpPr>
        <p:grpSp>
          <p:nvGrpSpPr>
            <p:cNvPr id="145" name="Group 6"/>
            <p:cNvGrpSpPr/>
            <p:nvPr/>
          </p:nvGrpSpPr>
          <p:grpSpPr>
            <a:xfrm>
              <a:off x="1448280" y="1279440"/>
              <a:ext cx="1602000" cy="1326960"/>
              <a:chOff x="1448280" y="1279440"/>
              <a:chExt cx="1602000" cy="1326960"/>
            </a:xfrm>
          </p:grpSpPr>
          <p:sp>
            <p:nvSpPr>
              <p:cNvPr id="14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8"/>
              <p:cNvSpPr/>
              <p:nvPr/>
            </p:nvSpPr>
            <p:spPr>
              <a:xfrm>
                <a:off x="1986480" y="127944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8" name="Group 9"/>
              <p:cNvGrpSpPr/>
              <p:nvPr/>
            </p:nvGrpSpPr>
            <p:grpSpPr>
              <a:xfrm>
                <a:off x="2301840" y="1755720"/>
                <a:ext cx="498240" cy="850680"/>
                <a:chOff x="2301840" y="1755720"/>
                <a:chExt cx="498240" cy="850680"/>
              </a:xfrm>
            </p:grpSpPr>
            <p:sp>
              <p:nvSpPr>
                <p:cNvPr id="14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Text Box 11"/>
                <p:cNvSpPr/>
                <p:nvPr/>
              </p:nvSpPr>
              <p:spPr>
                <a:xfrm>
                  <a:off x="2328120" y="22381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Text Box 12"/>
                <p:cNvSpPr/>
                <p:nvPr/>
              </p:nvSpPr>
              <p:spPr>
                <a:xfrm>
                  <a:off x="2301840" y="17557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Text Box 13"/>
              <p:cNvSpPr/>
              <p:nvPr/>
            </p:nvSpPr>
            <p:spPr>
              <a:xfrm>
                <a:off x="2577600" y="203508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1658160" y="1800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18"/>
              <p:cNvSpPr/>
              <p:nvPr/>
            </p:nvSpPr>
            <p:spPr>
              <a:xfrm>
                <a:off x="1448280" y="1933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19"/>
              <p:cNvSpPr/>
              <p:nvPr/>
            </p:nvSpPr>
            <p:spPr>
              <a:xfrm>
                <a:off x="1448280" y="138744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 Box 20"/>
            <p:cNvSpPr/>
            <p:nvPr/>
          </p:nvSpPr>
          <p:spPr>
            <a:xfrm>
              <a:off x="660240" y="2651040"/>
              <a:ext cx="2679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eoxyribose sugar</a:t>
              </a: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 on C2 is missed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21"/>
            <p:cNvGrpSpPr/>
            <p:nvPr/>
          </p:nvGrpSpPr>
          <p:grpSpPr>
            <a:xfrm>
              <a:off x="6545520" y="1432080"/>
              <a:ext cx="1602000" cy="1327320"/>
              <a:chOff x="6545520" y="1432080"/>
              <a:chExt cx="1602000" cy="1327320"/>
            </a:xfrm>
          </p:grpSpPr>
          <p:sp>
            <p:nvSpPr>
              <p:cNvPr id="161" name="AutoShape 22"/>
              <p:cNvSpPr/>
              <p:nvPr/>
            </p:nvSpPr>
            <p:spPr>
              <a:xfrm>
                <a:off x="6729120" y="1756080"/>
                <a:ext cx="1103400" cy="60948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23"/>
              <p:cNvSpPr/>
              <p:nvPr/>
            </p:nvSpPr>
            <p:spPr>
              <a:xfrm>
                <a:off x="7084080" y="143208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7609320" y="2213280"/>
                <a:ext cx="12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25"/>
              <p:cNvSpPr/>
              <p:nvPr/>
            </p:nvSpPr>
            <p:spPr>
              <a:xfrm>
                <a:off x="7425360" y="2391120"/>
                <a:ext cx="56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26"/>
              <p:cNvSpPr/>
              <p:nvPr/>
            </p:nvSpPr>
            <p:spPr>
              <a:xfrm>
                <a:off x="7399440" y="190836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7674840" y="218772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28"/>
              <p:cNvSpPr/>
              <p:nvPr/>
            </p:nvSpPr>
            <p:spPr>
              <a:xfrm>
                <a:off x="7832880" y="2060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29"/>
              <p:cNvSpPr/>
              <p:nvPr/>
            </p:nvSpPr>
            <p:spPr>
              <a:xfrm>
                <a:off x="6939720" y="2213280"/>
                <a:ext cx="2592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6755760" y="1953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31"/>
              <p:cNvSpPr/>
              <p:nvPr/>
            </p:nvSpPr>
            <p:spPr>
              <a:xfrm>
                <a:off x="6729120" y="1832040"/>
                <a:ext cx="133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 Box 32"/>
              <p:cNvSpPr/>
              <p:nvPr/>
            </p:nvSpPr>
            <p:spPr>
              <a:xfrm>
                <a:off x="6545520" y="2086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33"/>
              <p:cNvSpPr/>
              <p:nvPr/>
            </p:nvSpPr>
            <p:spPr>
              <a:xfrm>
                <a:off x="6545520" y="154008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34"/>
            <p:cNvSpPr/>
            <p:nvPr/>
          </p:nvSpPr>
          <p:spPr>
            <a:xfrm>
              <a:off x="5867280" y="2743200"/>
              <a:ext cx="243828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ibose suga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no missed O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35"/>
          <p:cNvSpPr/>
          <p:nvPr/>
        </p:nvSpPr>
        <p:spPr>
          <a:xfrm>
            <a:off x="5842080" y="3657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279360" y="36576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eoxir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279360" y="4479840"/>
            <a:ext cx="8686800" cy="901800"/>
            <a:chOff x="279360" y="4479840"/>
            <a:chExt cx="8686800" cy="901800"/>
          </a:xfrm>
        </p:grpSpPr>
        <p:sp>
          <p:nvSpPr>
            <p:cNvPr id="177" name="Text Box 38"/>
            <p:cNvSpPr/>
            <p:nvPr/>
          </p:nvSpPr>
          <p:spPr>
            <a:xfrm>
              <a:off x="5079960" y="447984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ng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279360" y="455616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oub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965160" y="5181480"/>
            <a:ext cx="7467480" cy="885960"/>
            <a:chOff x="965160" y="5181480"/>
            <a:chExt cx="7467480" cy="885960"/>
          </a:xfrm>
        </p:grpSpPr>
        <p:sp>
          <p:nvSpPr>
            <p:cNvPr id="180" name="Text Box 41"/>
            <p:cNvSpPr/>
            <p:nvPr/>
          </p:nvSpPr>
          <p:spPr>
            <a:xfrm>
              <a:off x="965160" y="524196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5842080" y="5181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مستطيل 43"/>
          <p:cNvSpPr/>
          <p:nvPr/>
        </p:nvSpPr>
        <p:spPr>
          <a:xfrm>
            <a:off x="1491120" y="533520"/>
            <a:ext cx="13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44"/>
          <p:cNvSpPr/>
          <p:nvPr/>
        </p:nvSpPr>
        <p:spPr>
          <a:xfrm>
            <a:off x="6580800" y="60948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" y="1924920"/>
            <a:ext cx="38545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Repeated Sugar - 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106800"/>
            <a:ext cx="314640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ugar–Phosphate-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4170240"/>
            <a:ext cx="2438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Text Box 6"/>
          <p:cNvGrpSpPr/>
          <p:nvPr/>
        </p:nvGrpSpPr>
        <p:grpSpPr>
          <a:xfrm>
            <a:off x="5810400" y="1871640"/>
            <a:ext cx="3509640" cy="774720"/>
            <a:chOff x="5810400" y="1871640"/>
            <a:chExt cx="3509640" cy="774720"/>
          </a:xfrm>
        </p:grpSpPr>
        <p:pic>
          <p:nvPicPr>
            <p:cNvPr id="188" name="Text Box 6" descr=""/>
            <p:cNvPicPr/>
            <p:nvPr/>
          </p:nvPicPr>
          <p:blipFill>
            <a:blip r:embed="rId1"/>
            <a:stretch/>
          </p:blipFill>
          <p:spPr>
            <a:xfrm>
              <a:off x="5810400" y="1871640"/>
              <a:ext cx="3509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67280" y="199044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AutoShape 7"/>
          <p:cNvGrpSpPr/>
          <p:nvPr/>
        </p:nvGrpSpPr>
        <p:grpSpPr>
          <a:xfrm>
            <a:off x="4206960" y="2157480"/>
            <a:ext cx="1260360" cy="701640"/>
            <a:chOff x="4206960" y="2157480"/>
            <a:chExt cx="1260360" cy="701640"/>
          </a:xfrm>
        </p:grpSpPr>
        <p:pic>
          <p:nvPicPr>
            <p:cNvPr id="191" name="AutoShape 7" descr=""/>
            <p:cNvPicPr/>
            <p:nvPr/>
          </p:nvPicPr>
          <p:blipFill>
            <a:blip r:embed="rId2"/>
            <a:stretch/>
          </p:blipFill>
          <p:spPr>
            <a:xfrm>
              <a:off x="4206960" y="2157480"/>
              <a:ext cx="1260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67080" y="2341440"/>
              <a:ext cx="920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Text Box 9"/>
          <p:cNvGrpSpPr/>
          <p:nvPr/>
        </p:nvGrpSpPr>
        <p:grpSpPr>
          <a:xfrm>
            <a:off x="5505480" y="2928600"/>
            <a:ext cx="3510000" cy="1068840"/>
            <a:chOff x="5505480" y="2928600"/>
            <a:chExt cx="3510000" cy="1068840"/>
          </a:xfrm>
        </p:grpSpPr>
        <p:pic>
          <p:nvPicPr>
            <p:cNvPr id="194" name="Text Box 9" descr=""/>
            <p:cNvPicPr/>
            <p:nvPr/>
          </p:nvPicPr>
          <p:blipFill>
            <a:blip r:embed="rId3"/>
            <a:stretch/>
          </p:blipFill>
          <p:spPr>
            <a:xfrm>
              <a:off x="5505480" y="3054240"/>
              <a:ext cx="3510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62720" y="2928600"/>
              <a:ext cx="320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AutoShape 10"/>
          <p:cNvGrpSpPr/>
          <p:nvPr/>
        </p:nvGrpSpPr>
        <p:grpSpPr>
          <a:xfrm>
            <a:off x="3524400" y="3219480"/>
            <a:ext cx="1942920" cy="700200"/>
            <a:chOff x="3524400" y="3219480"/>
            <a:chExt cx="1942920" cy="700200"/>
          </a:xfrm>
        </p:grpSpPr>
        <p:pic>
          <p:nvPicPr>
            <p:cNvPr id="197" name="AutoShape 10" descr=""/>
            <p:cNvPicPr/>
            <p:nvPr/>
          </p:nvPicPr>
          <p:blipFill>
            <a:blip r:embed="rId4"/>
            <a:stretch/>
          </p:blipFill>
          <p:spPr>
            <a:xfrm>
              <a:off x="3524400" y="3219480"/>
              <a:ext cx="19429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581280" y="3405240"/>
              <a:ext cx="1474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Text Box 12"/>
          <p:cNvGrpSpPr/>
          <p:nvPr/>
        </p:nvGrpSpPr>
        <p:grpSpPr>
          <a:xfrm>
            <a:off x="5121360" y="4237200"/>
            <a:ext cx="3510000" cy="772920"/>
            <a:chOff x="5121360" y="4237200"/>
            <a:chExt cx="3510000" cy="772920"/>
          </a:xfrm>
        </p:grpSpPr>
        <p:pic>
          <p:nvPicPr>
            <p:cNvPr id="200" name="Text Box 12" descr=""/>
            <p:cNvPicPr/>
            <p:nvPr/>
          </p:nvPicPr>
          <p:blipFill>
            <a:blip r:embed="rId5"/>
            <a:stretch/>
          </p:blipFill>
          <p:spPr>
            <a:xfrm>
              <a:off x="5121360" y="4237200"/>
              <a:ext cx="35100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81480" y="43542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AutoShape 13"/>
          <p:cNvGrpSpPr/>
          <p:nvPr/>
        </p:nvGrpSpPr>
        <p:grpSpPr>
          <a:xfrm>
            <a:off x="2682720" y="4400640"/>
            <a:ext cx="2479680" cy="701640"/>
            <a:chOff x="2682720" y="4400640"/>
            <a:chExt cx="2479680" cy="701640"/>
          </a:xfrm>
        </p:grpSpPr>
        <p:pic>
          <p:nvPicPr>
            <p:cNvPr id="203" name="AutoShape 13" descr=""/>
            <p:cNvPicPr/>
            <p:nvPr/>
          </p:nvPicPr>
          <p:blipFill>
            <a:blip r:embed="rId6"/>
            <a:stretch/>
          </p:blipFill>
          <p:spPr>
            <a:xfrm>
              <a:off x="2682720" y="4400640"/>
              <a:ext cx="247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43200" y="4586400"/>
              <a:ext cx="1905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E09-2DDB-4778-BC3E-A00D7DE81B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 Box 14"/>
          <p:cNvGrpSpPr/>
          <p:nvPr/>
        </p:nvGrpSpPr>
        <p:grpSpPr>
          <a:xfrm>
            <a:off x="396720" y="1663560"/>
            <a:ext cx="5235840" cy="774720"/>
            <a:chOff x="396720" y="1663560"/>
            <a:chExt cx="5235840" cy="774720"/>
          </a:xfrm>
        </p:grpSpPr>
        <p:pic>
          <p:nvPicPr>
            <p:cNvPr id="210" name="Text Box 14" descr=""/>
            <p:cNvPicPr/>
            <p:nvPr/>
          </p:nvPicPr>
          <p:blipFill>
            <a:blip r:embed="rId2"/>
            <a:stretch/>
          </p:blipFill>
          <p:spPr>
            <a:xfrm>
              <a:off x="396720" y="1663560"/>
              <a:ext cx="5235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1778040"/>
              <a:ext cx="51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Doub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Text Box 15"/>
          <p:cNvGrpSpPr/>
          <p:nvPr/>
        </p:nvGrpSpPr>
        <p:grpSpPr>
          <a:xfrm>
            <a:off x="781200" y="2646360"/>
            <a:ext cx="5235480" cy="766800"/>
            <a:chOff x="781200" y="2646360"/>
            <a:chExt cx="5235480" cy="766800"/>
          </a:xfrm>
        </p:grpSpPr>
        <p:pic>
          <p:nvPicPr>
            <p:cNvPr id="213" name="Text Box 15" descr=""/>
            <p:cNvPicPr/>
            <p:nvPr/>
          </p:nvPicPr>
          <p:blipFill>
            <a:blip r:embed="rId3"/>
            <a:stretch/>
          </p:blipFill>
          <p:spPr>
            <a:xfrm>
              <a:off x="781200" y="2646360"/>
              <a:ext cx="5235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38080" y="2755800"/>
              <a:ext cx="512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NA sing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2400480" y="4772160"/>
            <a:ext cx="529560" cy="1019880"/>
            <a:chOff x="2400480" y="4772160"/>
            <a:chExt cx="529560" cy="1019880"/>
          </a:xfrm>
        </p:grpSpPr>
        <p:sp>
          <p:nvSpPr>
            <p:cNvPr id="216" name="Text Box 17"/>
            <p:cNvSpPr/>
            <p:nvPr/>
          </p:nvSpPr>
          <p:spPr>
            <a:xfrm>
              <a:off x="2400480" y="533232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V="1">
              <a:off x="2665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3106800" y="4772160"/>
            <a:ext cx="529920" cy="1019880"/>
            <a:chOff x="3106800" y="4772160"/>
            <a:chExt cx="529920" cy="1019880"/>
          </a:xfrm>
        </p:grpSpPr>
        <p:sp>
          <p:nvSpPr>
            <p:cNvPr id="219" name="Text Box 20"/>
            <p:cNvSpPr/>
            <p:nvPr/>
          </p:nvSpPr>
          <p:spPr>
            <a:xfrm>
              <a:off x="310680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 flipV="1">
              <a:off x="337176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3813120" y="4772160"/>
            <a:ext cx="529920" cy="1019880"/>
            <a:chOff x="3813120" y="4772160"/>
            <a:chExt cx="529920" cy="1019880"/>
          </a:xfrm>
        </p:grpSpPr>
        <p:sp>
          <p:nvSpPr>
            <p:cNvPr id="222" name="Text Box 23"/>
            <p:cNvSpPr/>
            <p:nvPr/>
          </p:nvSpPr>
          <p:spPr>
            <a:xfrm>
              <a:off x="3813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V="1">
              <a:off x="4078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4519440" y="4772160"/>
            <a:ext cx="529920" cy="1019880"/>
            <a:chOff x="4519440" y="4772160"/>
            <a:chExt cx="529920" cy="1019880"/>
          </a:xfrm>
        </p:grpSpPr>
        <p:sp>
          <p:nvSpPr>
            <p:cNvPr id="225" name="Text Box 26"/>
            <p:cNvSpPr/>
            <p:nvPr/>
          </p:nvSpPr>
          <p:spPr>
            <a:xfrm>
              <a:off x="4519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 flipV="1">
              <a:off x="4784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226120" y="4772160"/>
            <a:ext cx="529920" cy="1019880"/>
            <a:chOff x="5226120" y="4772160"/>
            <a:chExt cx="529920" cy="1019880"/>
          </a:xfrm>
        </p:grpSpPr>
        <p:sp>
          <p:nvSpPr>
            <p:cNvPr id="228" name="Text Box 29"/>
            <p:cNvSpPr/>
            <p:nvPr/>
          </p:nvSpPr>
          <p:spPr>
            <a:xfrm>
              <a:off x="5226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 flipV="1">
              <a:off x="5491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5932440" y="4772160"/>
            <a:ext cx="529920" cy="1019880"/>
            <a:chOff x="5932440" y="4772160"/>
            <a:chExt cx="529920" cy="1019880"/>
          </a:xfrm>
        </p:grpSpPr>
        <p:sp>
          <p:nvSpPr>
            <p:cNvPr id="231" name="Text Box 32"/>
            <p:cNvSpPr/>
            <p:nvPr/>
          </p:nvSpPr>
          <p:spPr>
            <a:xfrm>
              <a:off x="5932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V="1">
              <a:off x="6197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6640560" y="4772160"/>
            <a:ext cx="528120" cy="1019880"/>
            <a:chOff x="6640560" y="4772160"/>
            <a:chExt cx="528120" cy="1019880"/>
          </a:xfrm>
        </p:grpSpPr>
        <p:sp>
          <p:nvSpPr>
            <p:cNvPr id="234" name="Text Box 35"/>
            <p:cNvSpPr/>
            <p:nvPr/>
          </p:nvSpPr>
          <p:spPr>
            <a:xfrm>
              <a:off x="6640560" y="5332320"/>
              <a:ext cx="5281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690624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2400480" y="4100400"/>
            <a:ext cx="5828400" cy="459720"/>
            <a:chOff x="2400480" y="4100400"/>
            <a:chExt cx="5828400" cy="459720"/>
          </a:xfrm>
        </p:grpSpPr>
        <p:sp>
          <p:nvSpPr>
            <p:cNvPr id="237" name="Text Box 38"/>
            <p:cNvSpPr/>
            <p:nvPr/>
          </p:nvSpPr>
          <p:spPr>
            <a:xfrm>
              <a:off x="2400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107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5933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813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51980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22684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6639480" y="4100400"/>
              <a:ext cx="5263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169400" y="4435920"/>
              <a:ext cx="105948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Line 46"/>
          <p:cNvSpPr/>
          <p:nvPr/>
        </p:nvSpPr>
        <p:spPr>
          <a:xfrm>
            <a:off x="7169040" y="5668920"/>
            <a:ext cx="106056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226120" y="5332320"/>
            <a:ext cx="53028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2400480" y="5332320"/>
            <a:ext cx="529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57200" y="53323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46120" y="42130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724-76DE-447C-B416-B591C01DE9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ArticulateFlashObject"/>
          <p:cNvGraphicFramePr/>
          <p:nvPr/>
        </p:nvGraphicFramePr>
        <p:xfrm>
          <a:off x="2540160" y="1905120"/>
          <a:ext cx="406368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0160" y="1905120"/>
                    <a:ext cx="4063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57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Nucleic acids (DNA &amp; RN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4920" y="51166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In April 1953, Jame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Wats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nd Franci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Crick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began to work on a model of DNA with two strands, the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مستطيل 10"/>
          <p:cNvSpPr/>
          <p:nvPr/>
        </p:nvSpPr>
        <p:spPr>
          <a:xfrm>
            <a:off x="304920" y="38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discovered the double helix by building models to conform to X-ra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960" y="0"/>
            <a:ext cx="8915400" cy="74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 gene is a small region in the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store and transmit hereditary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nucleic aci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eoxyr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also directs mRNA synthesis, thus, controls protein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inherit DNA from their par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ach DNA molecule is very long and usually consists of hundreds to thousands of g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When a cell divides, its DNA is copied and passed to the next generation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RNA interacts with ribosomes to direct the synthesis of amino acids in a polypeptide (prot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228600"/>
            <a:ext cx="495324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380880" y="855720"/>
            <a:ext cx="434340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PO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group of one nucleotide is attached to 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sugar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of the next nucleotide in 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result is a “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ndalus"/>
                <a:cs typeface="Andalus"/>
              </a:rPr>
              <a:t>تبادل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ndalus"/>
                    <a:ea typeface="Andalus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ndalus"/>
                    <a:ea typeface="Andalus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ndalus"/>
                    <a:ea typeface="Andalus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1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1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1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118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121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" name="Text Box 53"/>
          <p:cNvSpPr/>
          <p:nvPr/>
        </p:nvSpPr>
        <p:spPr>
          <a:xfrm>
            <a:off x="3505320" y="4419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ndalus"/>
                <a:ea typeface="Andalus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57"/>
          <p:cNvSpPr/>
          <p:nvPr/>
        </p:nvSpPr>
        <p:spPr>
          <a:xfrm>
            <a:off x="2895480" y="380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560" y="1143000"/>
            <a:ext cx="87627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are polymers of monomers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ucleotid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nucleotide consists of three parts: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itrogen base, a pentose sugar, and a phosphate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itrogen bases (rings of carbon and nitrogen) come in two types: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ur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yrimid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entose sugar joined to the nitrogen base is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nucleotides of RNA an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eoxy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nly difference between the sugars is the lack of an oxygen atom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rbon 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eoxyri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مربع نص 5"/>
          <p:cNvGrpSpPr/>
          <p:nvPr/>
        </p:nvGrpSpPr>
        <p:grpSpPr>
          <a:xfrm>
            <a:off x="146160" y="378000"/>
            <a:ext cx="8851680" cy="1071720"/>
            <a:chOff x="146160" y="378000"/>
            <a:chExt cx="8851680" cy="1071720"/>
          </a:xfrm>
        </p:grpSpPr>
        <p:pic>
          <p:nvPicPr>
            <p:cNvPr id="127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6160" y="378000"/>
              <a:ext cx="88516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380880"/>
              <a:ext cx="883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The nucleic acid strand is  a polymer of nucleotid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534600"/>
            <a:ext cx="8534160" cy="61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s are synthesized by connecting the sugars of one nucleotide to the phosphate of the next with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hosphodies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creates a repeating backbone of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sugar-phosphat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linear order of bases in a gene specifies the order of amino acids (the monomers of a prote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10:40Z</dcterms:created>
  <dc:creator>DELL</dc:creator>
  <dc:description/>
  <dc:language>en-US</dc:language>
  <cp:lastModifiedBy>DELL</cp:lastModifiedBy>
  <dcterms:modified xsi:type="dcterms:W3CDTF">2013-09-24T04:37:05Z</dcterms:modified>
  <cp:revision>2</cp:revision>
  <dc:subject/>
  <dc:title>الشريحة 1</dc:title>
</cp:coreProperties>
</file>