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F90-7E55-48D7-A327-96517A29F22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121C-9CE2-4B6F-9518-0C236D5025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DDD-3899-4D06-B751-9813332C2DA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F691-C27D-4B75-A47C-B3602E0732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A89-BB8F-450B-911A-C25D4655979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42B2-16F4-4BF1-A939-369D614E76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CC1-741D-46FB-9F8D-2E3C7CD8395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9710-0448-4F4B-B5A1-8DED36FAC4B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9D1-5F53-4F01-911B-45BBB71299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596-F47E-4867-A7E8-5B2DB7E9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A8D-4D5F-422C-B337-DA44D109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94B-DC67-4D26-AF70-2DC05900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054-0E08-4C4C-B7A4-710F6BAE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31B-6673-4DFF-B0BF-E5060F90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1A4-D1D2-42B8-BC92-A928E0B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735-C546-4101-A679-B3A4763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E7A-118C-4667-B85A-2D1AA376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E35-93C9-4631-BE80-B96A0A84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A46-ADF4-414D-B4A4-AE822BC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0CA-0105-44E0-B31A-CF7D2F6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AD1-6047-4921-B38B-7D45333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716-B624-424C-8C4F-279C0B9ED8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5000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5625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1357200"/>
            <a:ext cx="896472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ystemat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taxonomy, which is the naming and classification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axonomy: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that branch of biology dealing with the identification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naming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ristotl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ncient Greek philosopher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began the science of taxonom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Carolus Linne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1700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Swedish botanist) classified all then-known organisms into two large kingdo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) Kingdom Plant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) Kingdom Animal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Robert Whittak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 1969 proposed five kingdoms: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Plantae, Animalia, Fungi, Protista, and Monera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cent studies suggest that three domains be employed: Archaea, Bacteria, and Eukaryot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ربع نص 10"/>
          <p:cNvSpPr/>
          <p:nvPr/>
        </p:nvSpPr>
        <p:spPr>
          <a:xfrm>
            <a:off x="428760" y="71280"/>
            <a:ext cx="8072280" cy="11912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nimal Classifi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Systematic/Tax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1280" y="1891800"/>
            <a:ext cx="7321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lassified species as the smallest unit, and that each species nested within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Speci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Latin word meaning “kind” or “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)- Morphological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)- The potential to interbreed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with each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other in nature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to produce fertile off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5"/>
          <p:cNvSpPr/>
          <p:nvPr/>
        </p:nvSpPr>
        <p:spPr>
          <a:xfrm>
            <a:off x="500040" y="3571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4400640" cy="36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1280" y="1356840"/>
            <a:ext cx="4786560" cy="60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a species is a population or group of populations whose members have the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potential to interbreed with each other in n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o produce fertile offspring, but cannot produce fertile offspring with members of other spec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n contrast, humans have considerable diversity, but we all belong to the same species because of our capacity to interbreed.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785880" y="1429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1609560"/>
            <a:ext cx="8858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: depends on both common ancestry and the amount of differences among group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traditional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dating to Linneaus view, is that </a:t>
            </a:r>
            <a:r>
              <a:rPr b="0" lang="en-US" sz="2600" spc="-1" strike="noStrike">
                <a:solidFill>
                  <a:srgbClr val="0000cc"/>
                </a:solidFill>
                <a:latin typeface="Andalus"/>
                <a:ea typeface="Andalus"/>
              </a:rPr>
              <a:t>birds have feather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Andalus"/>
                <a:ea typeface="Andalus"/>
              </a:rPr>
              <a:t>reptiles have scale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600" spc="-1" strike="noStrike">
                <a:solidFill>
                  <a:srgbClr val="ff3399"/>
                </a:solidFill>
                <a:latin typeface="Andalus"/>
                <a:ea typeface="Andalus"/>
              </a:rPr>
              <a:t>mammals have hair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Linneus placed each of these groups in a separate class within the Phylum Chordat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1280" y="1305000"/>
            <a:ext cx="8893440" cy="64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developed the concept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inomial nomencl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Under the binomial system, each species is assigned a two-part latinized name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 binomia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first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genu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is the group to which a species belo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second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refers to the </a:t>
            </a:r>
            <a:r>
              <a:rPr b="0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peci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ge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letter of the genu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pital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both nam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talic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atin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ich means “wise ma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ndalus"/>
                <a:ea typeface="Andalus"/>
              </a:rPr>
              <a:t>Binomial nomencl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00160" y="6323040"/>
            <a:ext cx="68580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Andalus"/>
                <a:ea typeface="Andalu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(The Wise Man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642960" y="285840"/>
            <a:ext cx="785808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Systematic position of hu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landeslifescience7.wikispaces.com/file/view/human_taxonomy.jpg/253608144/422x550/human_taxonomy.jpg"/>
          <p:cNvPicPr/>
          <p:nvPr/>
        </p:nvPicPr>
        <p:blipFill>
          <a:blip r:embed="rId1"/>
          <a:stretch/>
        </p:blipFill>
        <p:spPr>
          <a:xfrm>
            <a:off x="1071720" y="1214280"/>
            <a:ext cx="7143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ArticulateFlashObject"/>
          <p:cNvGraphicFramePr/>
          <p:nvPr/>
        </p:nvGraphicFramePr>
        <p:xfrm>
          <a:off x="395280" y="1844640"/>
          <a:ext cx="8128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128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7:35:09Z</dcterms:created>
  <dc:creator>DELL</dc:creator>
  <dc:description/>
  <dc:language>en-US</dc:language>
  <cp:lastModifiedBy>somer</cp:lastModifiedBy>
  <dcterms:modified xsi:type="dcterms:W3CDTF">2014-10-29T06:18:02Z</dcterms:modified>
  <cp:revision>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F7CF6796-EF7F-45D5-903A-3C4AF556FB2D</vt:lpwstr>
  </property>
  <property fmtid="{D5CDD505-2E9C-101B-9397-08002B2CF9AE}" pid="3" name="ArticulatePath">
    <vt:lpwstr>lec---12</vt:lpwstr>
  </property>
</Properties>
</file>