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FFEC-D434-4F64-8D4C-FFCF115E2A6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DDE8-6466-4913-A0AA-013101901AC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D1A8-A172-40FC-A72D-BB0E181B807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B7DD-C1A9-48FF-AA9D-4D980E7A5E0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86A9-A0FC-4640-BFE8-EF63C2F371F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473B-BA2F-4EE7-AC9D-7569BD713B7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536D-9FD4-4A1F-BA67-CA9C5991E3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33AC-6CC3-4505-9648-6E529B31AE6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91CB-B1EB-4155-9331-7FAE58A7239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F0D-2A78-4A66-A1B8-71F603D3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FD8-183D-4DBA-B688-85EAB4E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9676-9AA0-4043-8CA7-86898C96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E6C5-AB31-4580-BF28-773C66F1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68A-B2FF-431F-9A40-2382B83D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289-DB6A-4A65-80A5-EFED841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8E3-710A-476D-885A-35F987F4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58CE-5F7F-4FD1-A9DC-94538649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C17-3C77-48D9-B703-873CC535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28C-E61C-4FF2-B04E-4B11F38C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A69-A59A-4B68-8701-216A190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CB6-641E-46F6-95FB-5E272169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B683-492E-4826-A274-07D2763251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31847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500040"/>
            <a:ext cx="87868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5625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1357200"/>
            <a:ext cx="896472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ystematic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taxonomy, which is the naming and classification 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of species and groups of spec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Taxonomy: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s that branch of biology dealing with the identification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naming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of 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Aristotl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ncient Greek philosopher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began the science of taxonom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Carolus Linne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1700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(Swedish botanist) classified all then-known organisms into two large kingdo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a) Kingdom Plant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) Kingdom Animalia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Andalus"/>
                <a:ea typeface="Andalus"/>
              </a:rPr>
              <a:t>Robert Whittaker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in 1969 proposed five kingdoms: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Plantae, Animalia, Fungi, Protista, and Monera</a:t>
            </a:r>
            <a:r>
              <a:rPr b="0" lang="en-US" sz="2000" spc="-1" strike="noStrike">
                <a:solidFill>
                  <a:srgbClr val="0000cc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Recent studies suggest that three domains be employed: Archaea, Bacteria, and Eukaryote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مربع نص 10"/>
          <p:cNvSpPr/>
          <p:nvPr/>
        </p:nvSpPr>
        <p:spPr>
          <a:xfrm>
            <a:off x="428760" y="71280"/>
            <a:ext cx="8072280" cy="11912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Animal Classifi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ndalus"/>
                <a:ea typeface="Andalus"/>
              </a:rPr>
              <a:t>Systematic/Tax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0" t="0" r="57724" b="6935"/>
          <a:stretch/>
        </p:blipFill>
        <p:spPr>
          <a:xfrm>
            <a:off x="6754680" y="836640"/>
            <a:ext cx="2281320" cy="5832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1280" y="1891800"/>
            <a:ext cx="7321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lassified species as the smallest unit, and that each species nested within 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 higher categ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Speci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Latin word meaning “kind” or “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ifferentiation between species based 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)- Morphological dif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)- The potential to interbreed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with each</a:t>
            </a:r>
            <a:br>
              <a:rPr sz="2400"/>
            </a:b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 other in nature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to produce fertile offsp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ربع نص 5"/>
          <p:cNvSpPr/>
          <p:nvPr/>
        </p:nvSpPr>
        <p:spPr>
          <a:xfrm>
            <a:off x="500040" y="3571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43280" y="1785960"/>
            <a:ext cx="4400640" cy="3643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71280" y="1356840"/>
            <a:ext cx="4786560" cy="60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us, a species is a population or group of populations whose members have the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potential to interbreed with each other in n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to produce fertile offspring, but cannot produce fertile offspring with members of other spec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In contrast, humans have considerable diversity, but we all belong to the same species because of our capacity to interbreed.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ربع نص 5"/>
          <p:cNvSpPr/>
          <p:nvPr/>
        </p:nvSpPr>
        <p:spPr>
          <a:xfrm>
            <a:off x="785880" y="142920"/>
            <a:ext cx="7000920" cy="91692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dalus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85840" y="1609560"/>
            <a:ext cx="8858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: depends on both common ancestry and the amount of differences among group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The traditional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dating to Linneaus view, is that </a:t>
            </a:r>
            <a:r>
              <a:rPr b="0" lang="en-US" sz="2600" spc="-1" strike="noStrike">
                <a:solidFill>
                  <a:srgbClr val="0000cc"/>
                </a:solidFill>
                <a:latin typeface="Andalus"/>
                <a:ea typeface="Andalus"/>
              </a:rPr>
              <a:t>birds have feather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600" spc="-1" strike="noStrike">
                <a:solidFill>
                  <a:srgbClr val="ff0000"/>
                </a:solidFill>
                <a:latin typeface="Andalus"/>
                <a:ea typeface="Andalus"/>
              </a:rPr>
              <a:t>reptiles have scales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600" spc="-1" strike="noStrike">
                <a:solidFill>
                  <a:srgbClr val="ff3399"/>
                </a:solidFill>
                <a:latin typeface="Andalus"/>
                <a:ea typeface="Andalus"/>
              </a:rPr>
              <a:t>mammals have hair</a:t>
            </a:r>
            <a:r>
              <a:rPr b="0" lang="ar-SA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ndalus"/>
                <a:ea typeface="Andalus"/>
              </a:rPr>
              <a:t>Linneus placed each of these groups in a separate class within the Phylum Chordata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Traditional Classif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1280" y="1305000"/>
            <a:ext cx="8893440" cy="64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Linneu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developed the concept of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inomial nomenclature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ereby scientists could communicate clear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Under the binomial system, each species is assigned a two-part latinized name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 binomia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first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</a:t>
            </a:r>
            <a:r>
              <a:rPr b="0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genu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is the group to which a species belo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e second par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refers to the </a:t>
            </a:r>
            <a:r>
              <a:rPr b="0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peci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ge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first letter of the genu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apital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both nam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italic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latinize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 example, Linnaeus assigned to humans the scientific name 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 </a:t>
            </a:r>
            <a:r>
              <a:rPr b="0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hich means “wise ma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مربع نص 3"/>
          <p:cNvSpPr/>
          <p:nvPr/>
        </p:nvSpPr>
        <p:spPr>
          <a:xfrm>
            <a:off x="928800" y="357120"/>
            <a:ext cx="700092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ndalus"/>
                <a:ea typeface="Andalus"/>
              </a:rPr>
              <a:t>Binomial nomencla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00160" y="6323040"/>
            <a:ext cx="68580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cientific name: </a:t>
            </a:r>
            <a:r>
              <a:rPr b="1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Homo</a:t>
            </a:r>
            <a:r>
              <a:rPr b="0" i="1" lang="en-US" sz="2400" spc="-1" strike="noStrike">
                <a:solidFill>
                  <a:srgbClr val="0000cc"/>
                </a:solidFill>
                <a:latin typeface="Andalus"/>
                <a:ea typeface="Andalus"/>
              </a:rPr>
              <a:t> </a:t>
            </a:r>
            <a:r>
              <a:rPr b="1" i="1" lang="en-US" sz="2400" spc="-1" strike="noStrike">
                <a:solidFill>
                  <a:srgbClr val="990099"/>
                </a:solidFill>
                <a:latin typeface="Andalus"/>
                <a:ea typeface="Andalus"/>
              </a:rPr>
              <a:t>sapiens</a:t>
            </a:r>
            <a:r>
              <a:rPr b="1" i="1" lang="en-US" sz="2000" spc="-1" strike="noStrike">
                <a:solidFill>
                  <a:srgbClr val="990099"/>
                </a:solidFill>
                <a:latin typeface="Andalus"/>
                <a:ea typeface="Andalu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(The Wise Man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مربع نص 4"/>
          <p:cNvSpPr/>
          <p:nvPr/>
        </p:nvSpPr>
        <p:spPr>
          <a:xfrm>
            <a:off x="642960" y="285840"/>
            <a:ext cx="7858080" cy="15562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Systematic position of hu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landeslifescience7.wikispaces.com/file/view/human_taxonomy.jpg/253608144/422x550/human_taxonomy.jpg"/>
          <p:cNvPicPr/>
          <p:nvPr/>
        </p:nvPicPr>
        <p:blipFill>
          <a:blip r:embed="rId1"/>
          <a:stretch/>
        </p:blipFill>
        <p:spPr>
          <a:xfrm>
            <a:off x="1071720" y="1214280"/>
            <a:ext cx="71434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70c0"/>
              </a:gs>
              <a:gs pos="100000">
                <a:srgbClr val="4780c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ArticulateFlashObject"/>
          <p:cNvGraphicFramePr/>
          <p:nvPr/>
        </p:nvGraphicFramePr>
        <p:xfrm>
          <a:off x="395280" y="1844640"/>
          <a:ext cx="81280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ArticulateFlashObjec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1280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7:35:09Z</dcterms:created>
  <dc:creator>DELL</dc:creator>
  <dc:description/>
  <dc:language>en-US</dc:language>
  <cp:lastModifiedBy>somer</cp:lastModifiedBy>
  <dcterms:modified xsi:type="dcterms:W3CDTF">2014-10-29T06:18:02Z</dcterms:modified>
  <cp:revision>4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F7CF6796-EF7F-45D5-903A-3C4AF556FB2D</vt:lpwstr>
  </property>
  <property fmtid="{D5CDD505-2E9C-101B-9397-08002B2CF9AE}" pid="3" name="ArticulatePath">
    <vt:lpwstr>lec---12</vt:lpwstr>
  </property>
</Properties>
</file>