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4379-67F3-40BA-8E38-F15721F37A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76E8-BD79-40AF-B467-DEC324D6913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A44A-2B43-4E49-B677-A019CFE9FBB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EBE-8253-463D-BCB0-1A7C6A444F1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B833-DA90-4CE4-B13D-7EE286591CE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89F-013C-499F-A1A4-42C198B482D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92FE-2583-4BED-ACCA-C21CCE7262D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45D0-09D4-4C00-8794-3970CF263E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3E1-26AC-4BAA-A412-39ACE054307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9AD-CB8E-44E9-AAB3-3FDC8F3F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3B5-8204-48F2-8064-9F363B2D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961-4A2D-4B55-9312-4C9720C5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A25-FC44-44A9-9AC8-00FB6578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A0E-8659-429E-9547-7976F51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D84-E549-442C-83C1-5F695A5C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595-472E-499E-A5AE-C8081A28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C94-A36C-463A-8471-2ED137DE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0D3-E39B-45E8-9200-5776FAF3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E4C-4B00-439D-8737-626A31A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B64-CBF3-42F9-87CE-EB462A3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C0E-F78A-4A78-8EA2-C4D9C0E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0D9B-6354-439E-8F7D-60CDF33738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50004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5625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1357200"/>
            <a:ext cx="896472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ystemat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taxonomy, which is the naming and classification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axonomy: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that branch of biology dealing with the identification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naming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ristotl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ncient Greek philosopher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began the science of taxonom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Carolus Linne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1700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Swedish botanist) classified all then-known organisms into two large kingdo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) Kingdom Plant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) Kingdom Animal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Robert Whittak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 1969 proposed five kingdoms: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Plantae, Animalia, Fungi, Protista, and Monera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cent studies suggest that three domains be employed: Archaea, Bacteria, and Eukaryot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ربع نص 10"/>
          <p:cNvSpPr/>
          <p:nvPr/>
        </p:nvSpPr>
        <p:spPr>
          <a:xfrm>
            <a:off x="428760" y="71280"/>
            <a:ext cx="8072280" cy="11912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nimal Classifi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Systematic/Tax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1280" y="1891800"/>
            <a:ext cx="7321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lassified species as the smallest unit, and that each species nested within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Speci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Latin word meaning “kind” or “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)- Morphological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)- The potential to interbreed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with each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other in nature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to produce fertile offsp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5"/>
          <p:cNvSpPr/>
          <p:nvPr/>
        </p:nvSpPr>
        <p:spPr>
          <a:xfrm>
            <a:off x="500040" y="3571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4400640" cy="36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1280" y="1356840"/>
            <a:ext cx="4786560" cy="60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a species is a population or group of populations whose members have the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potential to interbreed with each other in n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o produce fertile offspring, but cannot produce fertile offspring with members of other spec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n contrast, humans have considerable diversity, but we all belong to the same species because of our capacity to interbreed.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785880" y="1429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5840" y="1609560"/>
            <a:ext cx="8858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: depends on both common ancestry and the amount of differences among group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traditional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dating to Linneaus view, is that </a:t>
            </a:r>
            <a:r>
              <a:rPr b="0" lang="en-US" sz="2600" spc="-1" strike="noStrike">
                <a:solidFill>
                  <a:srgbClr val="0000cc"/>
                </a:solidFill>
                <a:latin typeface="Andalus"/>
                <a:ea typeface="Andalus"/>
              </a:rPr>
              <a:t>birds have feather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Andalus"/>
                <a:ea typeface="Andalus"/>
              </a:rPr>
              <a:t>reptiles have scale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600" spc="-1" strike="noStrike">
                <a:solidFill>
                  <a:srgbClr val="ff3399"/>
                </a:solidFill>
                <a:latin typeface="Andalus"/>
                <a:ea typeface="Andalus"/>
              </a:rPr>
              <a:t>mammals have hair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Linneus placed each of these groups in a separate class within the Phylum Chordat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1280" y="1305000"/>
            <a:ext cx="8893440" cy="64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developed the concept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inomial nomencl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Under the binomial system, each species is assigned a two-part latinized name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 binomia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first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genu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is the group to which a species belo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second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refers to the </a:t>
            </a:r>
            <a:r>
              <a:rPr b="0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peci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ge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letter of the genu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pital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both nam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talic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atin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ich means “wise ma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ndalus"/>
                <a:ea typeface="Andalus"/>
              </a:rPr>
              <a:t>Binomial nomencla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00160" y="6323040"/>
            <a:ext cx="68580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Andalus"/>
                <a:ea typeface="Andalu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(The Wise Man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642960" y="285840"/>
            <a:ext cx="785808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Systematic position of hu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landeslifescience7.wikispaces.com/file/view/human_taxonomy.jpg/253608144/422x550/human_taxonomy.jpg"/>
          <p:cNvPicPr/>
          <p:nvPr/>
        </p:nvPicPr>
        <p:blipFill>
          <a:blip r:embed="rId1"/>
          <a:stretch/>
        </p:blipFill>
        <p:spPr>
          <a:xfrm>
            <a:off x="1071720" y="1214280"/>
            <a:ext cx="7143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ArticulateFlashObject"/>
          <p:cNvGraphicFramePr/>
          <p:nvPr/>
        </p:nvGraphicFramePr>
        <p:xfrm>
          <a:off x="395280" y="1844640"/>
          <a:ext cx="81280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128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7:35:09Z</dcterms:created>
  <dc:creator>DELL</dc:creator>
  <dc:description/>
  <dc:language>en-US</dc:language>
  <cp:lastModifiedBy>somer</cp:lastModifiedBy>
  <dcterms:modified xsi:type="dcterms:W3CDTF">2014-10-29T06:18:02Z</dcterms:modified>
  <cp:revision>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F7CF6796-EF7F-45D5-903A-3C4AF556FB2D</vt:lpwstr>
  </property>
  <property fmtid="{D5CDD505-2E9C-101B-9397-08002B2CF9AE}" pid="3" name="ArticulatePath">
    <vt:lpwstr>lec---12</vt:lpwstr>
  </property>
</Properties>
</file>