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17EF5-CBFA-4390-8C8C-8D776C546439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D69D0-BEEB-474B-958E-3CAE07C088EF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B1E26-73DC-432A-9BA4-345705557373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74754-1E8F-4CAF-9DC5-A1C7F1CAB2B0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14FA2-AFBA-4C63-AAE9-925879D51C92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6FB9-66AC-4702-B0EB-5BD797E654E1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8DD82-7F80-4A13-98B0-34D8AD6885D6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EEECA-F000-4FE9-995B-78544136B1F1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B6294-CFF7-435C-B8FB-B40DCDF7D466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0962-FC5D-40D5-A5F8-2FCAEC890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8043-9830-4C1F-B97A-0DA350D43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4090-7ED4-42EF-B934-C4B84C323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A710-713C-4CF2-9032-82D03A1D6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FD9F-FD62-4BCA-A6BA-79074957E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E80E-0D49-4AF5-870A-362E7F508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541C-B969-423F-A4E6-2EDFB0C3D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5B16-E8DD-4739-BDA7-562FDDA3F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3DA4-595B-4BA5-8F32-2E3B1E525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FDA7-CB18-415F-9CF3-2504EC9A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0023-C878-4459-9F0A-7A1DA5C2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A4DC-D3D2-43C4-9BF4-27F8E455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DE754-B0DF-4BDE-8DAD-AB91688548C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859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radley Hand ITC"/>
                <a:ea typeface="Andalus"/>
              </a:rPr>
              <a:t>Animal Taxonom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صورة 4" descr="slide-1-728.jpg"/>
          <p:cNvPicPr/>
          <p:nvPr/>
        </p:nvPicPr>
        <p:blipFill>
          <a:blip r:embed="rId1"/>
          <a:srcRect l="0" t="28022" r="0" b="0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rcRect l="31847" t="16604" r="14349" b="121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D:\SAWSAN FILES DONT DELETE IMPORTANT\DESKTOP FILES IMPORTANT\Watsons visit\DSC_0413.JPG"/>
          <p:cNvPicPr/>
          <p:nvPr/>
        </p:nvPicPr>
        <p:blipFill>
          <a:blip r:embed="rId1"/>
          <a:stretch/>
        </p:blipFill>
        <p:spPr>
          <a:xfrm>
            <a:off x="0" y="500040"/>
            <a:ext cx="878688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rcRect l="32394" t="15625" r="14349" b="121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79280" y="1357200"/>
            <a:ext cx="8964720" cy="55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ndalus"/>
                <a:ea typeface="Andalus"/>
              </a:rPr>
              <a:t>Systematic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includes taxonomy, which is the naming and classification </a:t>
            </a:r>
            <a:r>
              <a:rPr b="0" lang="ar-SA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of species and groups of speci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Taxonomy: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is that branch of biology dealing with the identification</a:t>
            </a:r>
            <a:r>
              <a:rPr b="0" lang="ar-SA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and naming</a:t>
            </a:r>
            <a:r>
              <a:rPr b="0" lang="ar-SA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of organism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cc"/>
                </a:solidFill>
                <a:uFillTx/>
                <a:latin typeface="Andalus"/>
                <a:ea typeface="Andalus"/>
              </a:rPr>
              <a:t>Aristotle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ancient Greek philosopher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) began the science of taxonom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cc"/>
                </a:solidFill>
                <a:uFillTx/>
                <a:latin typeface="Andalus"/>
                <a:ea typeface="Andalus"/>
              </a:rPr>
              <a:t>Carolus Linneu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(1700s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(Swedish botanist) classified all then-known organisms into two large kingdom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        </a:t>
            </a:r>
            <a:r>
              <a:rPr b="0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a) Kingdom Planta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          </a:t>
            </a:r>
            <a:r>
              <a:rPr b="0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b) Kingdom Animalia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cc"/>
                </a:solidFill>
                <a:uFillTx/>
                <a:latin typeface="Andalus"/>
                <a:ea typeface="Andalus"/>
              </a:rPr>
              <a:t>Robert Whittaker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in 1969 proposed five kingdoms: </a:t>
            </a:r>
            <a:r>
              <a:rPr b="0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Plantae, Animalia, Fungi, Protista, and Monera</a:t>
            </a:r>
            <a:r>
              <a:rPr b="0" lang="en-US" sz="2000" spc="-1" strike="noStrike">
                <a:solidFill>
                  <a:srgbClr val="0000cc"/>
                </a:solidFill>
                <a:latin typeface="Andalus"/>
                <a:ea typeface="Andalu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Recent studies suggest that three domains be employed: Archaea, Bacteria, and Eukaryote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مربع نص 10"/>
          <p:cNvSpPr/>
          <p:nvPr/>
        </p:nvSpPr>
        <p:spPr>
          <a:xfrm>
            <a:off x="428760" y="71280"/>
            <a:ext cx="8072280" cy="1191240"/>
          </a:xfrm>
          <a:prstGeom prst="rect">
            <a:avLst/>
          </a:prstGeom>
          <a:gradFill rotWithShape="0">
            <a:gsLst>
              <a:gs pos="0">
                <a:srgbClr val="00b0f0"/>
              </a:gs>
              <a:gs pos="100000">
                <a:srgbClr val="4780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dalus"/>
                <a:ea typeface="Andalus"/>
              </a:rPr>
              <a:t>Animal Classification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ndalus"/>
                <a:ea typeface="Andalus"/>
              </a:rPr>
              <a:t>Systematic/Taxono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rcRect l="0" t="0" r="57724" b="6935"/>
          <a:stretch/>
        </p:blipFill>
        <p:spPr>
          <a:xfrm>
            <a:off x="6754680" y="836640"/>
            <a:ext cx="2281320" cy="5832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71280" y="1891800"/>
            <a:ext cx="73216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Linneu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classified species as the smallest unit, and that each species nested within </a:t>
            </a:r>
            <a:r>
              <a:rPr b="0" lang="ar-SA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 higher categ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Species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is a Latin word meaning “kind” or “appear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Differentiation between species based 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    </a:t>
            </a:r>
            <a:r>
              <a:rPr b="0" lang="en-GB" sz="2400" spc="-1" strike="noStrike">
                <a:solidFill>
                  <a:srgbClr val="ff0000"/>
                </a:solidFill>
                <a:latin typeface="Andalus"/>
                <a:ea typeface="Andalus"/>
              </a:rPr>
              <a:t>a)- Morphological differe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ndalus"/>
                <a:ea typeface="Andalus"/>
              </a:rPr>
              <a:t>      </a:t>
            </a:r>
            <a:r>
              <a:rPr b="0" lang="en-GB" sz="2400" spc="-1" strike="noStrike">
                <a:solidFill>
                  <a:srgbClr val="ff0000"/>
                </a:solidFill>
                <a:latin typeface="Andalus"/>
                <a:ea typeface="Andalus"/>
              </a:rPr>
              <a:t>b)- The potential to interbreed</a:t>
            </a:r>
            <a:r>
              <a:rPr b="0" lang="ar-SA" sz="2400" spc="-1" strike="noStrike">
                <a:solidFill>
                  <a:srgbClr val="ff0000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Andalus"/>
                <a:ea typeface="Andalus"/>
              </a:rPr>
              <a:t>with each</a:t>
            </a:r>
            <a:br>
              <a:rPr sz="2400"/>
            </a:br>
            <a:r>
              <a:rPr b="0" lang="ar-SA" sz="2400" spc="-1" strike="noStrike">
                <a:solidFill>
                  <a:srgbClr val="ff0000"/>
                </a:solidFill>
                <a:latin typeface="Andalus"/>
                <a:ea typeface="Andalus"/>
              </a:rPr>
              <a:t>     </a:t>
            </a:r>
            <a:r>
              <a:rPr b="0" lang="en-GB" sz="2400" spc="-1" strike="noStrike">
                <a:solidFill>
                  <a:srgbClr val="ff0000"/>
                </a:solidFill>
                <a:latin typeface="Andalus"/>
                <a:ea typeface="Andalus"/>
              </a:rPr>
              <a:t> other in nature</a:t>
            </a:r>
            <a:r>
              <a:rPr b="0" lang="ar-SA" sz="2400" spc="-1" strike="noStrike">
                <a:solidFill>
                  <a:srgbClr val="ff0000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Andalus"/>
                <a:ea typeface="Andalus"/>
              </a:rPr>
              <a:t>to produce fertile offsp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مربع نص 5"/>
          <p:cNvSpPr/>
          <p:nvPr/>
        </p:nvSpPr>
        <p:spPr>
          <a:xfrm>
            <a:off x="500040" y="357120"/>
            <a:ext cx="7000920" cy="916920"/>
          </a:xfrm>
          <a:prstGeom prst="rect">
            <a:avLst/>
          </a:prstGeom>
          <a:gradFill rotWithShape="0">
            <a:gsLst>
              <a:gs pos="0">
                <a:srgbClr val="00b0f0"/>
              </a:gs>
              <a:gs pos="100000">
                <a:srgbClr val="4780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ndalus"/>
                <a:ea typeface="Andalus"/>
              </a:rPr>
              <a:t>Animal Taxonom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4643280" y="1785960"/>
            <a:ext cx="4400640" cy="3643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71280" y="1356840"/>
            <a:ext cx="4786560" cy="60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Thus, a species is a population or group of populations whose members have the </a:t>
            </a:r>
            <a:r>
              <a:rPr b="0" lang="en-GB" sz="2400" spc="-1" strike="noStrike">
                <a:solidFill>
                  <a:srgbClr val="ff0000"/>
                </a:solidFill>
                <a:latin typeface="Andalus"/>
                <a:ea typeface="Andalus"/>
              </a:rPr>
              <a:t>potential to interbreed with each other in nature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to produce fertile offspring, but cannot produce fertile offspring with members of other speci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In contrast, humans have considerable diversity, but we all belong to the same species because of our capacity to interbreed.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مربع نص 5"/>
          <p:cNvSpPr/>
          <p:nvPr/>
        </p:nvSpPr>
        <p:spPr>
          <a:xfrm>
            <a:off x="785880" y="142920"/>
            <a:ext cx="7000920" cy="916920"/>
          </a:xfrm>
          <a:prstGeom prst="rect">
            <a:avLst/>
          </a:prstGeom>
          <a:gradFill rotWithShape="0">
            <a:gsLst>
              <a:gs pos="0">
                <a:srgbClr val="00b0f0"/>
              </a:gs>
              <a:gs pos="100000">
                <a:srgbClr val="4780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ndalus"/>
                <a:ea typeface="Andalus"/>
              </a:rPr>
              <a:t>Animal Taxonom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285840" y="1609560"/>
            <a:ext cx="885816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15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ndalus"/>
                <a:ea typeface="Andalus"/>
              </a:rPr>
              <a:t>Traditional Classification: depends on both common ancestry and the amount of differences among group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15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ndalus"/>
                <a:ea typeface="Andalus"/>
              </a:rPr>
              <a:t>The traditional</a:t>
            </a:r>
            <a:r>
              <a:rPr b="0" lang="ar-SA" sz="26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ndalus"/>
                <a:ea typeface="Andalus"/>
              </a:rPr>
              <a:t>, dating to Linneaus view, is that </a:t>
            </a:r>
            <a:r>
              <a:rPr b="0" lang="en-US" sz="2600" spc="-1" strike="noStrike">
                <a:solidFill>
                  <a:srgbClr val="0000cc"/>
                </a:solidFill>
                <a:latin typeface="Andalus"/>
                <a:ea typeface="Andalus"/>
              </a:rPr>
              <a:t>birds have feathers</a:t>
            </a:r>
            <a:r>
              <a:rPr b="0" lang="ar-SA" sz="26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ndalus"/>
                <a:ea typeface="Andalus"/>
              </a:rPr>
              <a:t>, </a:t>
            </a:r>
            <a:r>
              <a:rPr b="0" lang="en-US" sz="2600" spc="-1" strike="noStrike">
                <a:solidFill>
                  <a:srgbClr val="ff0000"/>
                </a:solidFill>
                <a:latin typeface="Andalus"/>
                <a:ea typeface="Andalus"/>
              </a:rPr>
              <a:t>reptiles have scales</a:t>
            </a:r>
            <a:r>
              <a:rPr b="0" lang="ar-SA" sz="26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ndalus"/>
                <a:ea typeface="Andalus"/>
              </a:rPr>
              <a:t>, and </a:t>
            </a:r>
            <a:r>
              <a:rPr b="0" lang="en-US" sz="2600" spc="-1" strike="noStrike">
                <a:solidFill>
                  <a:srgbClr val="ff3399"/>
                </a:solidFill>
                <a:latin typeface="Andalus"/>
                <a:ea typeface="Andalus"/>
              </a:rPr>
              <a:t>mammals have hair</a:t>
            </a:r>
            <a:r>
              <a:rPr b="0" lang="ar-SA" sz="26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15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ndalus"/>
                <a:ea typeface="Andalus"/>
              </a:rPr>
              <a:t>Linneus placed each of these groups in a separate class within the Phylum Chordata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مربع نص 3"/>
          <p:cNvSpPr/>
          <p:nvPr/>
        </p:nvSpPr>
        <p:spPr>
          <a:xfrm>
            <a:off x="928800" y="357120"/>
            <a:ext cx="7000920" cy="1556280"/>
          </a:xfrm>
          <a:prstGeom prst="rect">
            <a:avLst/>
          </a:prstGeom>
          <a:gradFill rotWithShape="0">
            <a:gsLst>
              <a:gs pos="0">
                <a:srgbClr val="00b0f0"/>
              </a:gs>
              <a:gs pos="100000">
                <a:srgbClr val="4780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ndalus"/>
                <a:ea typeface="Andalus"/>
              </a:rPr>
              <a:t>Traditional Classific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71280" y="1305000"/>
            <a:ext cx="8893440" cy="64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Linneus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developed the concept of </a:t>
            </a:r>
            <a:r>
              <a:rPr b="0" lang="en-GB" sz="2400" spc="-1" strike="noStrike">
                <a:solidFill>
                  <a:srgbClr val="ff0000"/>
                </a:solidFill>
                <a:latin typeface="Andalus"/>
                <a:ea typeface="Andalus"/>
              </a:rPr>
              <a:t>binomial nomenclature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, whereby scientists could communicate clearl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Under the binomial system, each species is assigned a two-part latinized name, (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a binomial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ndalus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The first part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the </a:t>
            </a:r>
            <a:r>
              <a:rPr b="0" lang="en-US" sz="2400" spc="-1" strike="noStrike">
                <a:solidFill>
                  <a:srgbClr val="0000cc"/>
                </a:solidFill>
                <a:latin typeface="Andalus"/>
                <a:ea typeface="Andalus"/>
              </a:rPr>
              <a:t>genus</a:t>
            </a:r>
            <a:r>
              <a:rPr b="0" lang="ar-SA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is the group to which a species belong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ndalus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The second part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refers to the </a:t>
            </a:r>
            <a:r>
              <a:rPr b="0" lang="en-US" sz="2400" spc="-1" strike="noStrike">
                <a:solidFill>
                  <a:srgbClr val="990099"/>
                </a:solidFill>
                <a:latin typeface="Andalus"/>
                <a:ea typeface="Andalus"/>
              </a:rPr>
              <a:t>species</a:t>
            </a:r>
            <a:r>
              <a:rPr b="0" lang="ar-SA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within the genu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ndalus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first letter of the genus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capitalized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and both names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italicized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latinized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ndalus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For example, Linnaeus assigned to humans the scientific name </a:t>
            </a:r>
            <a:r>
              <a:rPr b="0" i="1" lang="en-US" sz="2400" spc="-1" strike="noStrike">
                <a:solidFill>
                  <a:srgbClr val="0000cc"/>
                </a:solidFill>
                <a:latin typeface="Andalus"/>
                <a:ea typeface="Andalus"/>
              </a:rPr>
              <a:t>Homo </a:t>
            </a:r>
            <a:r>
              <a:rPr b="0" i="1" lang="en-US" sz="2400" spc="-1" strike="noStrike">
                <a:solidFill>
                  <a:srgbClr val="990099"/>
                </a:solidFill>
                <a:latin typeface="Andalus"/>
                <a:ea typeface="Andalus"/>
              </a:rPr>
              <a:t>sapien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which means “wise man”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مربع نص 3"/>
          <p:cNvSpPr/>
          <p:nvPr/>
        </p:nvSpPr>
        <p:spPr>
          <a:xfrm>
            <a:off x="928800" y="357120"/>
            <a:ext cx="7000920" cy="1556280"/>
          </a:xfrm>
          <a:prstGeom prst="rect">
            <a:avLst/>
          </a:prstGeom>
          <a:gradFill rotWithShape="0">
            <a:gsLst>
              <a:gs pos="0">
                <a:srgbClr val="00b0f0"/>
              </a:gs>
              <a:gs pos="100000">
                <a:srgbClr val="4780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ndalus"/>
                <a:ea typeface="Andalus"/>
              </a:rPr>
              <a:t>Binomial nomencla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000160" y="6323040"/>
            <a:ext cx="6858000" cy="83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Scientific name: </a:t>
            </a:r>
            <a:r>
              <a:rPr b="1" i="1" lang="en-US" sz="2400" spc="-1" strike="noStrike">
                <a:solidFill>
                  <a:srgbClr val="0000cc"/>
                </a:solidFill>
                <a:latin typeface="Andalus"/>
                <a:ea typeface="Andalus"/>
              </a:rPr>
              <a:t>Homo</a:t>
            </a:r>
            <a:r>
              <a:rPr b="0" i="1" lang="en-US" sz="2400" spc="-1" strike="noStrike">
                <a:solidFill>
                  <a:srgbClr val="0000cc"/>
                </a:solidFill>
                <a:latin typeface="Andalus"/>
                <a:ea typeface="Andalus"/>
              </a:rPr>
              <a:t> </a:t>
            </a:r>
            <a:r>
              <a:rPr b="1" i="1" lang="en-US" sz="2400" spc="-1" strike="noStrike">
                <a:solidFill>
                  <a:srgbClr val="990099"/>
                </a:solidFill>
                <a:latin typeface="Andalus"/>
                <a:ea typeface="Andalus"/>
              </a:rPr>
              <a:t>sapiens</a:t>
            </a:r>
            <a:r>
              <a:rPr b="1" i="1" lang="en-US" sz="2000" spc="-1" strike="noStrike">
                <a:solidFill>
                  <a:srgbClr val="990099"/>
                </a:solidFill>
                <a:latin typeface="Andalus"/>
                <a:ea typeface="Andalus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(The Wise Man</a:t>
            </a: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مربع نص 4"/>
          <p:cNvSpPr/>
          <p:nvPr/>
        </p:nvSpPr>
        <p:spPr>
          <a:xfrm>
            <a:off x="642960" y="285840"/>
            <a:ext cx="7858080" cy="1556280"/>
          </a:xfrm>
          <a:prstGeom prst="rect">
            <a:avLst/>
          </a:prstGeom>
          <a:gradFill rotWithShape="0">
            <a:gsLst>
              <a:gs pos="0">
                <a:srgbClr val="00b0f0"/>
              </a:gs>
              <a:gs pos="100000">
                <a:srgbClr val="4780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ndalus"/>
                <a:ea typeface="Andalus"/>
              </a:rPr>
              <a:t>Systematic position of huma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http://landeslifescience7.wikispaces.com/file/view/human_taxonomy.jpg/253608144/422x550/human_taxonomy.jpg"/>
          <p:cNvPicPr/>
          <p:nvPr/>
        </p:nvPicPr>
        <p:blipFill>
          <a:blip r:embed="rId1"/>
          <a:stretch/>
        </p:blipFill>
        <p:spPr>
          <a:xfrm>
            <a:off x="1071720" y="1214280"/>
            <a:ext cx="714348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0070c0"/>
              </a:gs>
              <a:gs pos="100000">
                <a:srgbClr val="4780c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The Summary</a:t>
            </a:r>
            <a:r>
              <a:rPr b="0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" name="ArticulateFlashObject"/>
          <p:cNvGraphicFramePr/>
          <p:nvPr/>
        </p:nvGraphicFramePr>
        <p:xfrm>
          <a:off x="395280" y="1844640"/>
          <a:ext cx="812808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ArticulateFlashObjec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812808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4T07:35:09Z</dcterms:created>
  <dc:creator>DELL</dc:creator>
  <dc:description/>
  <dc:language>en-US</dc:language>
  <cp:lastModifiedBy>somer</cp:lastModifiedBy>
  <dcterms:modified xsi:type="dcterms:W3CDTF">2014-10-29T06:18:02Z</dcterms:modified>
  <cp:revision>4</cp:revision>
  <dc:subject/>
  <dc:title>الشريحة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F7CF6796-EF7F-45D5-903A-3C4AF556FB2D</vt:lpwstr>
  </property>
  <property fmtid="{D5CDD505-2E9C-101B-9397-08002B2CF9AE}" pid="3" name="ArticulatePath">
    <vt:lpwstr>lec---12</vt:lpwstr>
  </property>
</Properties>
</file>