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530A-F8EF-48F9-9CE6-83139B7D8B1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3808-FFC2-4A8F-961F-4F06105743B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AA47-A98C-40D2-AB22-8498B3B352D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BB74-53F0-4A2C-91FC-72B969E43D7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5AD1-FA2A-4E61-8374-06430AB208B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996F-3EA0-4A6C-A810-57884B769AB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EC08-9207-4B09-AA64-94C539FDC3A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40EB-D3C8-4BBE-A9BE-307B409C32B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0C8D-F728-4653-85FF-40E40CCA959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B72E-4466-4627-9B71-EC65CFA429B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A107-B9DE-495D-86EB-A48ADF645DE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DCDA-CC5A-4832-8F6B-7D3F3956D3B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B72C-01D7-4583-946B-6059E44AF3F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5543-F07F-4809-B01B-34345DFEC3E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624-4383-4936-929C-F754BACC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451-482C-4026-9C10-341C8C8F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BDE-C738-4802-AD70-CF3BC7C4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4EB-91A5-478F-AB41-D22E5257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F33-C9B3-454F-83F2-636D0B4D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BA6-4259-4320-BE04-853DAB1A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E3F-212F-4C0B-9B54-B1CFB09B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47E-B934-4114-BB0C-B2F536A8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DF0-4AB6-4BE7-9802-345B4CB4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26E8-CB27-48E6-ADE0-367DDA15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FE4-35F6-4510-B934-32D11A2F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3AE-13D4-4DDF-B094-7AC35156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CA5A-7BFF-49C9-AED7-0FC4CA9128A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MVschema.svg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en.wikipedia.org/wiki/Genetic_material" TargetMode="External"/><Relationship Id="rId4" Type="http://schemas.openxmlformats.org/officeDocument/2006/relationships/hyperlink" Target="http://en.wikipedia.org/wiki/DN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2"/>
          <p:cNvSpPr/>
          <p:nvPr/>
        </p:nvSpPr>
        <p:spPr>
          <a:xfrm>
            <a:off x="214200" y="1978200"/>
            <a:ext cx="407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 cocci :are spherical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 Bacilli: are rode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3- spiral : range from comma   –like shape to long c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ربع نص 7"/>
          <p:cNvSpPr/>
          <p:nvPr/>
        </p:nvSpPr>
        <p:spPr>
          <a:xfrm>
            <a:off x="142920" y="214200"/>
            <a:ext cx="89298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Most common shape of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desktopclass.com/wp-content/uploads/2011/11/c8.27x3.bact_.shapes.jpg"/>
          <p:cNvPicPr/>
          <p:nvPr/>
        </p:nvPicPr>
        <p:blipFill>
          <a:blip r:embed="rId1"/>
          <a:stretch/>
        </p:blipFill>
        <p:spPr>
          <a:xfrm>
            <a:off x="4071960" y="1571760"/>
            <a:ext cx="5076720" cy="47149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142920" y="485784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pherical, rod shape or spiral occur singly or in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13840" y="1459080"/>
            <a:ext cx="8858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Some pathogens produce disease by invading the tissues of the ho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ore commonly, pathogens cause illness by producing poisons, called exotoxins</a:t>
            </a: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nd endotox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Pathogenic prokaryotes cause about half of all human disea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actinomycete that causes tuberculosis is an example of this source of sympto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مربع نص 4"/>
          <p:cNvSpPr/>
          <p:nvPr/>
        </p:nvSpPr>
        <p:spPr>
          <a:xfrm>
            <a:off x="71280" y="241200"/>
            <a:ext cx="8929800" cy="1556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Harmful prokaryotes (</a:t>
            </a:r>
            <a:r>
              <a:rPr b="0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Pathogenes</a:t>
            </a:r>
            <a:r>
              <a:rPr b="0" lang="en-US" sz="48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6760" y="1571760"/>
            <a:ext cx="8675640" cy="56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Humans have learned to exploit the diverse metabolic capabilities of prokaryotes, for scientific research and for practical purpo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rokaryotes are used to solve environmental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Humans also use bacteria as metabolic “factories” for commercial produ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application of organisms to remove pollutants from air, water, and soil is bioreme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مربع نص 4"/>
          <p:cNvSpPr/>
          <p:nvPr/>
        </p:nvSpPr>
        <p:spPr>
          <a:xfrm>
            <a:off x="142920" y="301680"/>
            <a:ext cx="89298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Beneficial 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upload.wikimedia.org/wikipedia/commons/thumb/9/91/CMVschema.svg/220px-CMVschema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57960" y="2214720"/>
            <a:ext cx="2595600" cy="27954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214200" y="5372280"/>
            <a:ext cx="65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Andalus"/>
                <a:ea typeface="Andalus"/>
              </a:rPr>
              <a:t>Virus reproduce only in the host cell and cause disease by damage and kill the cell by producing tox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42920" y="1668600"/>
            <a:ext cx="6572160" cy="40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Consist of two par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1- the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  <a:hlinkClick r:id="rId3"/>
              </a:rPr>
              <a:t>genetic material</a:t>
            </a: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 made from either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  <a:hlinkClick r:id="rId4"/>
              </a:rPr>
              <a:t>DNA</a:t>
            </a: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 or RNA, long molecules that carry genetic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2- a protein coat that protects these genes; and in some cases an envelope of lipids that surrounds the protein coat when they are outside a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42920" y="1357200"/>
            <a:ext cx="731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SzPct val="13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2060"/>
                </a:solidFill>
                <a:latin typeface="Andalus"/>
                <a:ea typeface="Andalus"/>
              </a:rPr>
              <a:t>Virus :is a small infectious agent that can replicate only inside the living cells of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مربع نص 8"/>
          <p:cNvSpPr/>
          <p:nvPr/>
        </p:nvSpPr>
        <p:spPr>
          <a:xfrm>
            <a:off x="142920" y="301680"/>
            <a:ext cx="89298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Andalus"/>
                <a:ea typeface="Andalus"/>
              </a:rPr>
              <a:t>Viruses</a:t>
            </a:r>
            <a:r>
              <a:rPr b="0" lang="en-GB" sz="4400" spc="-1" strike="noStrike">
                <a:solidFill>
                  <a:srgbClr val="002060"/>
                </a:solidFill>
                <a:latin typeface="Andalus"/>
                <a:ea typeface="Andal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مجموعة 14"/>
          <p:cNvGrpSpPr/>
          <p:nvPr/>
        </p:nvGrpSpPr>
        <p:grpSpPr>
          <a:xfrm>
            <a:off x="-285840" y="2643120"/>
            <a:ext cx="9644040" cy="3061800"/>
            <a:chOff x="-285840" y="2643120"/>
            <a:chExt cx="9644040" cy="3061800"/>
          </a:xfrm>
        </p:grpSpPr>
        <p:pic>
          <p:nvPicPr>
            <p:cNvPr id="122" name="Picture 3" descr=""/>
            <p:cNvPicPr/>
            <p:nvPr/>
          </p:nvPicPr>
          <p:blipFill>
            <a:blip r:embed="rId1"/>
            <a:srcRect l="0" t="9120" r="0" b="43060"/>
            <a:stretch/>
          </p:blipFill>
          <p:spPr>
            <a:xfrm>
              <a:off x="0" y="2643120"/>
              <a:ext cx="8727840" cy="30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مربع نص 6"/>
            <p:cNvSpPr/>
            <p:nvPr/>
          </p:nvSpPr>
          <p:spPr>
            <a:xfrm>
              <a:off x="7500960" y="329112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Bradley Hand ITC"/>
                </a:rPr>
                <a:t>Eubacte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مربع نص 7"/>
            <p:cNvSpPr/>
            <p:nvPr/>
          </p:nvSpPr>
          <p:spPr>
            <a:xfrm>
              <a:off x="5214960" y="3291120"/>
              <a:ext cx="244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Bradley Hand ITC"/>
                </a:rPr>
                <a:t>Archae bacte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مربع نص 8"/>
            <p:cNvSpPr/>
            <p:nvPr/>
          </p:nvSpPr>
          <p:spPr>
            <a:xfrm>
              <a:off x="3357360" y="3291120"/>
              <a:ext cx="185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Bradley Hand ITC"/>
                </a:rPr>
                <a:t>Eukaryo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مربع نص 9"/>
            <p:cNvSpPr/>
            <p:nvPr/>
          </p:nvSpPr>
          <p:spPr>
            <a:xfrm>
              <a:off x="1428480" y="3214440"/>
              <a:ext cx="15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Bradley Hand ITC"/>
                </a:rPr>
                <a:t>Viru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مربع نص 10"/>
            <p:cNvSpPr/>
            <p:nvPr/>
          </p:nvSpPr>
          <p:spPr>
            <a:xfrm>
              <a:off x="2857320" y="4757760"/>
              <a:ext cx="157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274af"/>
                  </a:solidFill>
                  <a:latin typeface="Bradley Hand ITC"/>
                </a:rPr>
                <a:t>Anima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مربع نص 11"/>
            <p:cNvSpPr/>
            <p:nvPr/>
          </p:nvSpPr>
          <p:spPr>
            <a:xfrm>
              <a:off x="999720" y="4757760"/>
              <a:ext cx="20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274af"/>
                  </a:solidFill>
                  <a:latin typeface="Bradley Hand ITC"/>
                </a:rPr>
                <a:t>Pla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مربع نص 12"/>
            <p:cNvSpPr/>
            <p:nvPr/>
          </p:nvSpPr>
          <p:spPr>
            <a:xfrm>
              <a:off x="-285840" y="4757760"/>
              <a:ext cx="157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274af"/>
                  </a:solidFill>
                  <a:latin typeface="Bradley Hand ITC"/>
                </a:rPr>
                <a:t>Fung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مربع نص 13"/>
            <p:cNvSpPr/>
            <p:nvPr/>
          </p:nvSpPr>
          <p:spPr>
            <a:xfrm>
              <a:off x="4357440" y="4757760"/>
              <a:ext cx="157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274af"/>
                  </a:solidFill>
                  <a:latin typeface="Bradley Hand ITC"/>
                </a:rPr>
                <a:t>Proti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مربع نص 15"/>
          <p:cNvSpPr/>
          <p:nvPr/>
        </p:nvSpPr>
        <p:spPr>
          <a:xfrm>
            <a:off x="4214880" y="2071800"/>
            <a:ext cx="44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radley Hand ITC"/>
                <a:ea typeface="Akhbar MT"/>
              </a:rPr>
              <a:t>Three Kingdom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مربع نص 16"/>
          <p:cNvSpPr/>
          <p:nvPr/>
        </p:nvSpPr>
        <p:spPr>
          <a:xfrm>
            <a:off x="1928880" y="192888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rcRect l="32945" t="16604" r="14349" b="12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:\SAWSAN FILES DONT DELETE IMPORTANT\DESKTOP FILES IMPORTANT\Watsons visit\DSC_04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32394" t="16604" r="14349" b="13086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صورة 4" descr="taxonomy_top_levels.gif"/>
          <p:cNvPicPr/>
          <p:nvPr/>
        </p:nvPicPr>
        <p:blipFill>
          <a:blip r:embed="rId1"/>
          <a:stretch/>
        </p:blipFill>
        <p:spPr>
          <a:xfrm>
            <a:off x="214200" y="2357280"/>
            <a:ext cx="8929800" cy="4429440"/>
          </a:xfrm>
          <a:prstGeom prst="rect">
            <a:avLst/>
          </a:prstGeom>
          <a:ln w="0">
            <a:noFill/>
          </a:ln>
        </p:spPr>
      </p:pic>
      <p:sp>
        <p:nvSpPr>
          <p:cNvPr id="53" name="مربع نص 8"/>
          <p:cNvSpPr/>
          <p:nvPr/>
        </p:nvSpPr>
        <p:spPr>
          <a:xfrm>
            <a:off x="714240" y="428760"/>
            <a:ext cx="735804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Kingdoms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مجموعة 34"/>
          <p:cNvGrpSpPr/>
          <p:nvPr/>
        </p:nvGrpSpPr>
        <p:grpSpPr>
          <a:xfrm>
            <a:off x="-71280" y="3579840"/>
            <a:ext cx="4857480" cy="3225600"/>
            <a:chOff x="-71280" y="3579840"/>
            <a:chExt cx="4857480" cy="3225600"/>
          </a:xfrm>
        </p:grpSpPr>
        <p:sp>
          <p:nvSpPr>
            <p:cNvPr id="55" name="Text Box 6"/>
            <p:cNvSpPr/>
            <p:nvPr/>
          </p:nvSpPr>
          <p:spPr>
            <a:xfrm>
              <a:off x="-71280" y="3579840"/>
              <a:ext cx="4857480" cy="32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here are three Kingdoms of life"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Bacteria</a:t>
              </a: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(Eubacteria)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rchaea</a:t>
              </a: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ukaryota </a:t>
              </a: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(Fungi, Protesta,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            Plantae &amp; Animalia)</a:t>
              </a:r>
              <a:r>
                <a:rPr b="0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4"/>
            <p:cNvSpPr/>
            <p:nvPr/>
          </p:nvSpPr>
          <p:spPr>
            <a:xfrm>
              <a:off x="393840" y="4214880"/>
              <a:ext cx="53496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5"/>
            <p:cNvSpPr/>
            <p:nvPr/>
          </p:nvSpPr>
          <p:spPr>
            <a:xfrm>
              <a:off x="357120" y="4786200"/>
              <a:ext cx="53496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6"/>
            <p:cNvSpPr/>
            <p:nvPr/>
          </p:nvSpPr>
          <p:spPr>
            <a:xfrm>
              <a:off x="393840" y="5300640"/>
              <a:ext cx="534960" cy="29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مجموعة 37"/>
          <p:cNvGrpSpPr/>
          <p:nvPr/>
        </p:nvGrpSpPr>
        <p:grpSpPr>
          <a:xfrm>
            <a:off x="4181400" y="3171960"/>
            <a:ext cx="4819680" cy="3685680"/>
            <a:chOff x="4181400" y="3171960"/>
            <a:chExt cx="4819680" cy="3685680"/>
          </a:xfrm>
        </p:grpSpPr>
        <p:grpSp>
          <p:nvGrpSpPr>
            <p:cNvPr id="60" name="Group 17"/>
            <p:cNvGrpSpPr/>
            <p:nvPr/>
          </p:nvGrpSpPr>
          <p:grpSpPr>
            <a:xfrm>
              <a:off x="4181400" y="3171960"/>
              <a:ext cx="4819680" cy="3685680"/>
              <a:chOff x="4181400" y="3171960"/>
              <a:chExt cx="4819680" cy="3685680"/>
            </a:xfrm>
          </p:grpSpPr>
          <p:pic>
            <p:nvPicPr>
              <p:cNvPr id="61" name="Picture 5" descr="kingdoms"/>
              <p:cNvPicPr/>
              <p:nvPr/>
            </p:nvPicPr>
            <p:blipFill>
              <a:blip r:embed="rId1"/>
              <a:srcRect l="0" t="0" r="0" b="2252"/>
              <a:stretch/>
            </p:blipFill>
            <p:spPr>
              <a:xfrm>
                <a:off x="4181400" y="3747960"/>
                <a:ext cx="4819680" cy="310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 Box 8"/>
              <p:cNvSpPr/>
              <p:nvPr/>
            </p:nvSpPr>
            <p:spPr>
              <a:xfrm>
                <a:off x="5968080" y="3171960"/>
                <a:ext cx="167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Calibri"/>
                  </a:rPr>
                  <a:t>Eukaryot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0"/>
              <p:cNvSpPr/>
              <p:nvPr/>
            </p:nvSpPr>
            <p:spPr>
              <a:xfrm flipH="1">
                <a:off x="5213880" y="3601440"/>
                <a:ext cx="1500120" cy="4460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1"/>
              <p:cNvSpPr/>
              <p:nvPr/>
            </p:nvSpPr>
            <p:spPr>
              <a:xfrm flipH="1">
                <a:off x="6572520" y="3601440"/>
                <a:ext cx="143280" cy="2851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2"/>
              <p:cNvSpPr/>
              <p:nvPr/>
            </p:nvSpPr>
            <p:spPr>
              <a:xfrm>
                <a:off x="6742440" y="3601440"/>
                <a:ext cx="45720" cy="15850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3"/>
              <p:cNvSpPr/>
              <p:nvPr/>
            </p:nvSpPr>
            <p:spPr>
              <a:xfrm>
                <a:off x="6714360" y="3601440"/>
                <a:ext cx="1080360" cy="566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14"/>
              <p:cNvSpPr/>
              <p:nvPr/>
            </p:nvSpPr>
            <p:spPr>
              <a:xfrm>
                <a:off x="4443120" y="6264720"/>
                <a:ext cx="534600" cy="299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15"/>
              <p:cNvSpPr/>
              <p:nvPr/>
            </p:nvSpPr>
            <p:spPr>
              <a:xfrm>
                <a:off x="7929360" y="6325200"/>
                <a:ext cx="534600" cy="299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16"/>
              <p:cNvSpPr/>
              <p:nvPr/>
            </p:nvSpPr>
            <p:spPr>
              <a:xfrm>
                <a:off x="5501160" y="3314520"/>
                <a:ext cx="534600" cy="299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شكل بيضاوي 33"/>
            <p:cNvSpPr/>
            <p:nvPr/>
          </p:nvSpPr>
          <p:spPr>
            <a:xfrm>
              <a:off x="7715160" y="6072480"/>
              <a:ext cx="1285920" cy="285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شكل بيضاوي 36"/>
            <p:cNvSpPr/>
            <p:nvPr/>
          </p:nvSpPr>
          <p:spPr>
            <a:xfrm>
              <a:off x="4929120" y="6215400"/>
              <a:ext cx="1285920" cy="2854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مجموعة 41"/>
          <p:cNvGrpSpPr/>
          <p:nvPr/>
        </p:nvGrpSpPr>
        <p:grpSpPr>
          <a:xfrm>
            <a:off x="-34920" y="1000080"/>
            <a:ext cx="9178920" cy="1714680"/>
            <a:chOff x="-34920" y="1000080"/>
            <a:chExt cx="9178920" cy="1714680"/>
          </a:xfrm>
        </p:grpSpPr>
        <p:grpSp>
          <p:nvGrpSpPr>
            <p:cNvPr id="73" name="مجموعة 33"/>
            <p:cNvGrpSpPr/>
            <p:nvPr/>
          </p:nvGrpSpPr>
          <p:grpSpPr>
            <a:xfrm>
              <a:off x="-34920" y="1000080"/>
              <a:ext cx="9178920" cy="1714680"/>
              <a:chOff x="-34920" y="1000080"/>
              <a:chExt cx="9178920" cy="1714680"/>
            </a:xfrm>
          </p:grpSpPr>
          <p:grpSp>
            <p:nvGrpSpPr>
              <p:cNvPr id="74" name="مجموعة 13"/>
              <p:cNvGrpSpPr/>
              <p:nvPr/>
            </p:nvGrpSpPr>
            <p:grpSpPr>
              <a:xfrm>
                <a:off x="0" y="1000080"/>
                <a:ext cx="9144000" cy="1714680"/>
                <a:chOff x="0" y="1000080"/>
                <a:chExt cx="9144000" cy="1714680"/>
              </a:xfrm>
            </p:grpSpPr>
            <p:pic>
              <p:nvPicPr>
                <p:cNvPr id="75" name="صورة 4" descr="taxonomy_top_levels.gif"/>
                <p:cNvPicPr/>
                <p:nvPr/>
              </p:nvPicPr>
              <p:blipFill>
                <a:blip r:embed="rId2"/>
                <a:srcRect l="33604" t="45168" r="0" b="40328"/>
                <a:stretch/>
              </p:blipFill>
              <p:spPr>
                <a:xfrm>
                  <a:off x="3072240" y="2182680"/>
                  <a:ext cx="6071760" cy="53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صورة 4" descr="taxonomy_top_levels.gif"/>
                <p:cNvPicPr/>
                <p:nvPr/>
              </p:nvPicPr>
              <p:blipFill>
                <a:blip r:embed="rId3"/>
                <a:srcRect l="0" t="64532" r="0" b="8062"/>
                <a:stretch/>
              </p:blipFill>
              <p:spPr>
                <a:xfrm>
                  <a:off x="0" y="1000080"/>
                  <a:ext cx="914400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7" name="Group 16"/>
                <p:cNvGrpSpPr/>
                <p:nvPr/>
              </p:nvGrpSpPr>
              <p:grpSpPr>
                <a:xfrm>
                  <a:off x="3291840" y="1946160"/>
                  <a:ext cx="5413320" cy="236520"/>
                  <a:chOff x="3291840" y="1946160"/>
                  <a:chExt cx="5413320" cy="236520"/>
                </a:xfrm>
              </p:grpSpPr>
              <p:sp>
                <p:nvSpPr>
                  <p:cNvPr id="78" name="Line 17"/>
                  <p:cNvSpPr/>
                  <p:nvPr/>
                </p:nvSpPr>
                <p:spPr>
                  <a:xfrm>
                    <a:off x="4751640" y="1946160"/>
                    <a:ext cx="23720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Line 18"/>
                  <p:cNvSpPr/>
                  <p:nvPr/>
                </p:nvSpPr>
                <p:spPr>
                  <a:xfrm>
                    <a:off x="5907240" y="1946160"/>
                    <a:ext cx="0" cy="118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Line 19"/>
                  <p:cNvSpPr/>
                  <p:nvPr/>
                </p:nvSpPr>
                <p:spPr>
                  <a:xfrm>
                    <a:off x="3291840" y="2064240"/>
                    <a:ext cx="5413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Line 20"/>
                  <p:cNvSpPr/>
                  <p:nvPr/>
                </p:nvSpPr>
                <p:spPr>
                  <a:xfrm>
                    <a:off x="3291840" y="2064240"/>
                    <a:ext cx="0" cy="11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Line 21"/>
                  <p:cNvSpPr/>
                  <p:nvPr/>
                </p:nvSpPr>
                <p:spPr>
                  <a:xfrm>
                    <a:off x="5055480" y="2064240"/>
                    <a:ext cx="0" cy="11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Line 22"/>
                  <p:cNvSpPr/>
                  <p:nvPr/>
                </p:nvSpPr>
                <p:spPr>
                  <a:xfrm>
                    <a:off x="8705160" y="2064240"/>
                    <a:ext cx="0" cy="11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23"/>
                  <p:cNvSpPr/>
                  <p:nvPr/>
                </p:nvSpPr>
                <p:spPr>
                  <a:xfrm>
                    <a:off x="7002000" y="2064240"/>
                    <a:ext cx="0" cy="11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" name="Oval 16"/>
              <p:cNvSpPr/>
              <p:nvPr/>
            </p:nvSpPr>
            <p:spPr>
              <a:xfrm>
                <a:off x="514368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15"/>
              <p:cNvSpPr/>
              <p:nvPr/>
            </p:nvSpPr>
            <p:spPr>
              <a:xfrm>
                <a:off x="1428480" y="1495440"/>
                <a:ext cx="534960" cy="250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14"/>
              <p:cNvSpPr/>
              <p:nvPr/>
            </p:nvSpPr>
            <p:spPr>
              <a:xfrm>
                <a:off x="-34920" y="1498680"/>
                <a:ext cx="534960" cy="247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مستطيل 40"/>
            <p:cNvSpPr/>
            <p:nvPr/>
          </p:nvSpPr>
          <p:spPr>
            <a:xfrm>
              <a:off x="142560" y="1919520"/>
              <a:ext cx="292896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Calibri"/>
                </a:rPr>
                <a:t>prokaryoti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مربع نص 41"/>
          <p:cNvSpPr/>
          <p:nvPr/>
        </p:nvSpPr>
        <p:spPr>
          <a:xfrm>
            <a:off x="571680" y="142920"/>
            <a:ext cx="771516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Three Kingdoms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71640" y="1428480"/>
            <a:ext cx="450036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8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urrent taxonomy recognizes two prokaryotic domains (Kingdoms): domain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Bacteria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domain 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Archaea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8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acteria and archaea exist so early in life and are very  diffe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18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At the same time, the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oth are structural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organized at th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prokaryotic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rcRect l="0" t="0" r="0" b="3991"/>
          <a:stretch/>
        </p:blipFill>
        <p:spPr>
          <a:xfrm>
            <a:off x="4071960" y="1000080"/>
            <a:ext cx="5025960" cy="2071800"/>
          </a:xfrm>
          <a:prstGeom prst="rect">
            <a:avLst/>
          </a:prstGeom>
          <a:ln w="0">
            <a:noFill/>
          </a:ln>
        </p:spPr>
      </p:pic>
      <p:sp>
        <p:nvSpPr>
          <p:cNvPr id="92" name="مربع نص 7"/>
          <p:cNvSpPr/>
          <p:nvPr/>
        </p:nvSpPr>
        <p:spPr>
          <a:xfrm>
            <a:off x="142920" y="214200"/>
            <a:ext cx="8929800" cy="1434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1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-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Prokaryotes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bacteria &amp; archaea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4060800" y="3071880"/>
            <a:ext cx="508320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7840" y="1270080"/>
            <a:ext cx="468000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Prokarytes exist in habitats</a:t>
            </a:r>
            <a:r>
              <a:rPr b="0" lang="ar-SA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that are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too cold, too hot, too salty, too acidic, or too alkalin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for any eukaryo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4788000" y="1146240"/>
            <a:ext cx="4182840" cy="2854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250920" y="2643120"/>
            <a:ext cx="889308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22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Prokaryotes often interact wit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species of prokaryotes or  eukaryote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complementary metabolis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22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relationships called (symbiosis) in three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2000"/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Commensalism</a:t>
            </a:r>
            <a:r>
              <a:rPr b="0" lang="ar-SA" sz="24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: one partner receives benefits while the other is not harmed or helped by the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2000"/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Parasitism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: one partner, the parasite, benefits at the expense of the h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2000"/>
              <a:buFont typeface="Andalu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Mutualism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both partners benefit from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مربع نص 7"/>
          <p:cNvSpPr/>
          <p:nvPr/>
        </p:nvSpPr>
        <p:spPr>
          <a:xfrm>
            <a:off x="142920" y="214200"/>
            <a:ext cx="8929800" cy="1434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1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-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Prokaryotes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bacteria &amp; archaea</a:t>
            </a:r>
            <a:r>
              <a:rPr b="1" lang="en-US" sz="4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4920" y="1317600"/>
            <a:ext cx="5392800" cy="57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chaea ar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xtremophil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extreme environment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an be classified in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a)-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Extreme halophiles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live in such saline places as the Great Salt Lake and the Dead S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 species require an extremely salty environment to gr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b)-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Extreme thermophile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live in hot environ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12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optimum temperatures for most thermophiles are 60 - 80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°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00" name="مربع نص 5"/>
          <p:cNvSpPr/>
          <p:nvPr/>
        </p:nvSpPr>
        <p:spPr>
          <a:xfrm>
            <a:off x="714240" y="214200"/>
            <a:ext cx="75726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ndalus"/>
                <a:ea typeface="Andalus"/>
              </a:rPr>
              <a:t>A)- Archa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2560" y="1213920"/>
            <a:ext cx="8901000" cy="56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acteria is considered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s the most known prokaro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major bacterial taxa (species) are now accorded kingdom status by most prokaryotic systematis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Different types of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diseases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are caused by bacteria includ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g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cholera, many sexually transmissible diseases, and certain types of food poison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However, more bacteria are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beneficial</a:t>
            </a: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acteria in our intestines produce important vitami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acteria recycle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and other chemical elements between organic matter and the soil and atmosphe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Bacteria often live in close association among themselves and with eukaryotes in symbiotic relation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مربع نص 4"/>
          <p:cNvSpPr/>
          <p:nvPr/>
        </p:nvSpPr>
        <p:spPr>
          <a:xfrm>
            <a:off x="714240" y="214200"/>
            <a:ext cx="7572600" cy="76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B)-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rcRect l="2812" t="5014" r="68512" b="49184"/>
          <a:stretch/>
        </p:blipFill>
        <p:spPr>
          <a:xfrm>
            <a:off x="179280" y="0"/>
            <a:ext cx="2448000" cy="4670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rcRect l="54263" t="5014" r="22954" b="51206"/>
          <a:stretch/>
        </p:blipFill>
        <p:spPr>
          <a:xfrm>
            <a:off x="665964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rcRect l="0" t="51074" r="0" b="26337"/>
          <a:stretch/>
        </p:blipFill>
        <p:spPr>
          <a:xfrm>
            <a:off x="611280" y="4554360"/>
            <a:ext cx="7315200" cy="230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4"/>
          <a:srcRect l="0" t="74387" r="68715" b="4435"/>
          <a:stretch/>
        </p:blipFill>
        <p:spPr>
          <a:xfrm>
            <a:off x="2556000" y="476280"/>
            <a:ext cx="3671640" cy="346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8:10:59Z</dcterms:created>
  <dc:creator>DELL</dc:creator>
  <dc:description/>
  <dc:language>en-US</dc:language>
  <cp:lastModifiedBy>somer</cp:lastModifiedBy>
  <dcterms:modified xsi:type="dcterms:W3CDTF">2014-10-30T05:29:59Z</dcterms:modified>
  <cp:revision>4</cp:revision>
  <dc:subject/>
  <dc:title>الشريحة 1</dc:title>
</cp:coreProperties>
</file>