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C824-DB80-4562-87F9-D7544C2286A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1783-126B-4979-8995-8406F8267F0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D602-1326-406C-B791-268F3B63D10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9F20-1356-4CF0-AFF2-70D811D5781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D713-F268-45B1-A4BE-1FF08732B9B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1C3A-FBE7-4DB5-8382-7597213459D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06D9-CC06-444E-BFA8-A6F0ED89BE3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AA80-F579-4A7C-AF17-9D7A8AFD546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B504-CFFA-42FD-A51A-2C26FBA1AC3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B185-DA7D-4702-8D5A-7E001DECE46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9ADE-AED2-49CA-ACF3-848873979C6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832B-5FD0-4B07-9875-87F8C5FCD87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D36A-62B6-4498-8D1E-6E1474F77BA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DB54-00F8-46FD-9AB0-F54CA6E7B7B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8A4-352F-4A8B-AB1A-DB3EFB7F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579-5AC9-4895-B5E9-A5E1E3DA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6FC-57DE-48D5-8705-61DA7611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306-7C53-46AF-8A46-F900F57F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8D5-7D36-4580-B2CC-4FD9BBA6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6ECF-A1FE-41CE-AE74-32D592BF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51A7-4A8E-4904-B829-01EF16D0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9D7-7E48-4898-95B4-5EC516D7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F8B-E89A-491D-86DA-9E55C980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E03F-3B9E-468F-8DE1-7DA840B7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3FD4-387E-41B2-9D4A-6F34F005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3A0-C7CC-4058-A5CE-DB67F394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0935-674F-4CF9-95A9-DB7E70FA1E7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MVschema.sv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صورة 4" descr="slide-1-728.jpg"/>
          <p:cNvPicPr/>
          <p:nvPr/>
        </p:nvPicPr>
        <p:blipFill>
          <a:blip r:embed="rId1"/>
          <a:srcRect l="0" t="28022" r="0" b="0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rcRect l="2812" t="5014" r="68512" b="49184"/>
          <a:stretch/>
        </p:blipFill>
        <p:spPr>
          <a:xfrm>
            <a:off x="179280" y="0"/>
            <a:ext cx="2448000" cy="467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rcRect l="54263" t="5014" r="22954" b="51206"/>
          <a:stretch/>
        </p:blipFill>
        <p:spPr>
          <a:xfrm>
            <a:off x="6659640" y="189000"/>
            <a:ext cx="1944720" cy="4464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3"/>
          <a:srcRect l="0" t="51074" r="0" b="26337"/>
          <a:stretch/>
        </p:blipFill>
        <p:spPr>
          <a:xfrm>
            <a:off x="611280" y="4554360"/>
            <a:ext cx="7315200" cy="230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4"/>
          <a:srcRect l="0" t="74387" r="68715" b="4435"/>
          <a:stretch/>
        </p:blipFill>
        <p:spPr>
          <a:xfrm>
            <a:off x="2556000" y="476280"/>
            <a:ext cx="36716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214200" y="1978200"/>
            <a:ext cx="4071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cocci :are spherical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Bacilli: are rode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3- spiral : range from comma   –like shape to long c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ربع نص 7"/>
          <p:cNvSpPr/>
          <p:nvPr/>
        </p:nvSpPr>
        <p:spPr>
          <a:xfrm>
            <a:off x="142920" y="214200"/>
            <a:ext cx="89298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ost common shape of 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www.desktopclass.com/wp-content/uploads/2011/11/c8.27x3.bact_.shapes.jpg"/>
          <p:cNvPicPr/>
          <p:nvPr/>
        </p:nvPicPr>
        <p:blipFill>
          <a:blip r:embed="rId1"/>
          <a:stretch/>
        </p:blipFill>
        <p:spPr>
          <a:xfrm>
            <a:off x="4071960" y="1571760"/>
            <a:ext cx="5076720" cy="47149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142920" y="485784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pherical, rod shape or spiral occur singly or in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13840" y="1459080"/>
            <a:ext cx="8858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Some pathogens produce disease by invading the tissues of the ho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More commonly, pathogens cause illness by producing poisons, called exotoxins</a:t>
            </a: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nd endotox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Pathogenic prokaryotes cause about half of all human disea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actinomycete that causes tuberculosis is an example of this source of sympto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مربع نص 4"/>
          <p:cNvSpPr/>
          <p:nvPr/>
        </p:nvSpPr>
        <p:spPr>
          <a:xfrm>
            <a:off x="71280" y="241200"/>
            <a:ext cx="8929800" cy="1556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alus"/>
                <a:ea typeface="Andalus"/>
              </a:rPr>
              <a:t>Harmful prokaryotes (</a:t>
            </a:r>
            <a:r>
              <a:rPr b="0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Pathogenes</a:t>
            </a:r>
            <a:r>
              <a:rPr b="0" lang="en-US" sz="48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56760" y="1571760"/>
            <a:ext cx="8675640" cy="56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Humans have learned to exploit the diverse metabolic capabilities of prokaryotes, for scientific research and for practical purpo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rokaryotes are used to solve environmental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Humans also use bacteria as metabolic “factories” for commercial produ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application of organisms to remove pollutants from air, water, and soil is bioreme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مربع نص 4"/>
          <p:cNvSpPr/>
          <p:nvPr/>
        </p:nvSpPr>
        <p:spPr>
          <a:xfrm>
            <a:off x="142920" y="301680"/>
            <a:ext cx="89298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Beneficial 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upload.wikimedia.org/wikipedia/commons/thumb/9/91/CMVschema.svg/220px-CMVschema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57960" y="2214720"/>
            <a:ext cx="2595600" cy="27954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214200" y="5372280"/>
            <a:ext cx="65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2060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Andalus"/>
                <a:ea typeface="Andalus"/>
              </a:rPr>
              <a:t>Virus reproduce only in the host cell and cause disease by damage and kill the cell by producing tox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42920" y="1668600"/>
            <a:ext cx="6572160" cy="39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Consist of two par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1- the genetic material made from either DNA or RNA, long molecules that carry genetic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2- a protein coat that protects these genes; and in some cases an envelope of lipids that surrounds the protein coat when they are outside a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42920" y="1357200"/>
            <a:ext cx="731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Virus :is a small infectious agent that can replicate only inside the living cells of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مربع نص 8"/>
          <p:cNvSpPr/>
          <p:nvPr/>
        </p:nvSpPr>
        <p:spPr>
          <a:xfrm>
            <a:off x="142920" y="301680"/>
            <a:ext cx="89298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Andalus"/>
                <a:ea typeface="Andalus"/>
              </a:rPr>
              <a:t>Viruses</a:t>
            </a:r>
            <a:r>
              <a:rPr b="0" lang="en-GB" sz="4400" spc="-1" strike="noStrike">
                <a:solidFill>
                  <a:srgbClr val="00206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مجموعة 14"/>
          <p:cNvGrpSpPr/>
          <p:nvPr/>
        </p:nvGrpSpPr>
        <p:grpSpPr>
          <a:xfrm>
            <a:off x="-285840" y="2643120"/>
            <a:ext cx="9644040" cy="3061800"/>
            <a:chOff x="-285840" y="2643120"/>
            <a:chExt cx="9644040" cy="3061800"/>
          </a:xfrm>
        </p:grpSpPr>
        <p:pic>
          <p:nvPicPr>
            <p:cNvPr id="126" name="Picture 3" descr=""/>
            <p:cNvPicPr/>
            <p:nvPr/>
          </p:nvPicPr>
          <p:blipFill>
            <a:blip r:embed="rId1"/>
            <a:srcRect l="0" t="9120" r="0" b="43060"/>
            <a:stretch/>
          </p:blipFill>
          <p:spPr>
            <a:xfrm>
              <a:off x="0" y="2643120"/>
              <a:ext cx="8727840" cy="30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مربع نص 6"/>
            <p:cNvSpPr/>
            <p:nvPr/>
          </p:nvSpPr>
          <p:spPr>
            <a:xfrm>
              <a:off x="7500960" y="3291120"/>
              <a:ext cx="18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Bradley Hand ITC"/>
                </a:rPr>
                <a:t>Eubacte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مربع نص 7"/>
            <p:cNvSpPr/>
            <p:nvPr/>
          </p:nvSpPr>
          <p:spPr>
            <a:xfrm>
              <a:off x="5214960" y="3291120"/>
              <a:ext cx="244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Bradley Hand ITC"/>
                </a:rPr>
                <a:t>Archae bacte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مربع نص 8"/>
            <p:cNvSpPr/>
            <p:nvPr/>
          </p:nvSpPr>
          <p:spPr>
            <a:xfrm>
              <a:off x="3357360" y="3291120"/>
              <a:ext cx="185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Bradley Hand ITC"/>
                </a:rPr>
                <a:t>Eukaryo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مربع نص 9"/>
            <p:cNvSpPr/>
            <p:nvPr/>
          </p:nvSpPr>
          <p:spPr>
            <a:xfrm>
              <a:off x="1428480" y="3214440"/>
              <a:ext cx="15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radley Hand ITC"/>
                </a:rPr>
                <a:t>Viru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مربع نص 10"/>
            <p:cNvSpPr/>
            <p:nvPr/>
          </p:nvSpPr>
          <p:spPr>
            <a:xfrm>
              <a:off x="2857320" y="4757760"/>
              <a:ext cx="1571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274af"/>
                  </a:solidFill>
                  <a:latin typeface="Bradley Hand ITC"/>
                </a:rPr>
                <a:t>Anima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مربع نص 11"/>
            <p:cNvSpPr/>
            <p:nvPr/>
          </p:nvSpPr>
          <p:spPr>
            <a:xfrm>
              <a:off x="999720" y="4757760"/>
              <a:ext cx="20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274af"/>
                  </a:solidFill>
                  <a:latin typeface="Bradley Hand ITC"/>
                </a:rPr>
                <a:t>Pla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مربع نص 12"/>
            <p:cNvSpPr/>
            <p:nvPr/>
          </p:nvSpPr>
          <p:spPr>
            <a:xfrm>
              <a:off x="-285840" y="4757760"/>
              <a:ext cx="157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274af"/>
                  </a:solidFill>
                  <a:latin typeface="Bradley Hand ITC"/>
                </a:rPr>
                <a:t>Fung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مربع نص 13"/>
            <p:cNvSpPr/>
            <p:nvPr/>
          </p:nvSpPr>
          <p:spPr>
            <a:xfrm>
              <a:off x="4357440" y="4757760"/>
              <a:ext cx="1571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274af"/>
                  </a:solidFill>
                  <a:latin typeface="Bradley Hand ITC"/>
                </a:rPr>
                <a:t>Proti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مربع نص 15"/>
          <p:cNvSpPr/>
          <p:nvPr/>
        </p:nvSpPr>
        <p:spPr>
          <a:xfrm>
            <a:off x="4214880" y="2071800"/>
            <a:ext cx="44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radley Hand ITC"/>
                <a:ea typeface="Akhbar MT"/>
              </a:rPr>
              <a:t>Three Kingdom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مربع نص 16"/>
          <p:cNvSpPr/>
          <p:nvPr/>
        </p:nvSpPr>
        <p:spPr>
          <a:xfrm>
            <a:off x="1928880" y="192888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rcRect l="32945" t="16604" r="14349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D:\SAWSAN FILES DONT DELETE IMPORTANT\DESKTOP FILES IMPORTANT\Watsons visit\DSC_04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rcRect l="32394" t="16604" r="14349" b="13086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صورة 4" descr="taxonomy_top_levels.gif"/>
          <p:cNvPicPr/>
          <p:nvPr/>
        </p:nvPicPr>
        <p:blipFill>
          <a:blip r:embed="rId1"/>
          <a:stretch/>
        </p:blipFill>
        <p:spPr>
          <a:xfrm>
            <a:off x="214200" y="2357280"/>
            <a:ext cx="8929800" cy="4429440"/>
          </a:xfrm>
          <a:prstGeom prst="rect">
            <a:avLst/>
          </a:prstGeom>
          <a:ln w="0">
            <a:noFill/>
          </a:ln>
        </p:spPr>
      </p:pic>
      <p:sp>
        <p:nvSpPr>
          <p:cNvPr id="53" name="مربع نص 8"/>
          <p:cNvSpPr/>
          <p:nvPr/>
        </p:nvSpPr>
        <p:spPr>
          <a:xfrm>
            <a:off x="714240" y="42876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Kingdoms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مجموعة 34"/>
          <p:cNvGrpSpPr/>
          <p:nvPr/>
        </p:nvGrpSpPr>
        <p:grpSpPr>
          <a:xfrm>
            <a:off x="-71280" y="3579840"/>
            <a:ext cx="4857480" cy="3225600"/>
            <a:chOff x="-71280" y="3579840"/>
            <a:chExt cx="4857480" cy="3225600"/>
          </a:xfrm>
        </p:grpSpPr>
        <p:sp>
          <p:nvSpPr>
            <p:cNvPr id="55" name="Text Box 6"/>
            <p:cNvSpPr/>
            <p:nvPr/>
          </p:nvSpPr>
          <p:spPr>
            <a:xfrm>
              <a:off x="-71280" y="3579840"/>
              <a:ext cx="4857480" cy="32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here are three Kingdoms of life"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Bacteria</a:t>
              </a: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(Eubacteria)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Archaea</a:t>
              </a: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Eukaryota </a:t>
              </a: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(Fungi, Protesta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           Plantae &amp; Animalia)</a:t>
              </a: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4"/>
            <p:cNvSpPr/>
            <p:nvPr/>
          </p:nvSpPr>
          <p:spPr>
            <a:xfrm>
              <a:off x="393840" y="4214880"/>
              <a:ext cx="53496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5"/>
            <p:cNvSpPr/>
            <p:nvPr/>
          </p:nvSpPr>
          <p:spPr>
            <a:xfrm>
              <a:off x="357120" y="4786200"/>
              <a:ext cx="53496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6"/>
            <p:cNvSpPr/>
            <p:nvPr/>
          </p:nvSpPr>
          <p:spPr>
            <a:xfrm>
              <a:off x="393840" y="5300640"/>
              <a:ext cx="53496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مجموعة 37"/>
          <p:cNvGrpSpPr/>
          <p:nvPr/>
        </p:nvGrpSpPr>
        <p:grpSpPr>
          <a:xfrm>
            <a:off x="4181400" y="3171960"/>
            <a:ext cx="4819680" cy="3685680"/>
            <a:chOff x="4181400" y="3171960"/>
            <a:chExt cx="4819680" cy="3685680"/>
          </a:xfrm>
        </p:grpSpPr>
        <p:grpSp>
          <p:nvGrpSpPr>
            <p:cNvPr id="60" name="Group 17"/>
            <p:cNvGrpSpPr/>
            <p:nvPr/>
          </p:nvGrpSpPr>
          <p:grpSpPr>
            <a:xfrm>
              <a:off x="4181400" y="3171960"/>
              <a:ext cx="4819680" cy="3685680"/>
              <a:chOff x="4181400" y="3171960"/>
              <a:chExt cx="4819680" cy="3685680"/>
            </a:xfrm>
          </p:grpSpPr>
          <p:pic>
            <p:nvPicPr>
              <p:cNvPr id="61" name="Picture 5" descr="kingdoms"/>
              <p:cNvPicPr/>
              <p:nvPr/>
            </p:nvPicPr>
            <p:blipFill>
              <a:blip r:embed="rId1"/>
              <a:srcRect l="0" t="0" r="0" b="2252"/>
              <a:stretch/>
            </p:blipFill>
            <p:spPr>
              <a:xfrm>
                <a:off x="4181400" y="3747960"/>
                <a:ext cx="4819680" cy="310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Text Box 8"/>
              <p:cNvSpPr/>
              <p:nvPr/>
            </p:nvSpPr>
            <p:spPr>
              <a:xfrm>
                <a:off x="5968080" y="3171960"/>
                <a:ext cx="167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Calibri"/>
                  </a:rPr>
                  <a:t>Eukaryot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0"/>
              <p:cNvSpPr/>
              <p:nvPr/>
            </p:nvSpPr>
            <p:spPr>
              <a:xfrm flipH="1">
                <a:off x="5213880" y="3601440"/>
                <a:ext cx="1500120" cy="446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1"/>
              <p:cNvSpPr/>
              <p:nvPr/>
            </p:nvSpPr>
            <p:spPr>
              <a:xfrm flipH="1">
                <a:off x="6572520" y="3601440"/>
                <a:ext cx="143280" cy="285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2"/>
              <p:cNvSpPr/>
              <p:nvPr/>
            </p:nvSpPr>
            <p:spPr>
              <a:xfrm>
                <a:off x="6742440" y="3601440"/>
                <a:ext cx="45720" cy="1585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3"/>
              <p:cNvSpPr/>
              <p:nvPr/>
            </p:nvSpPr>
            <p:spPr>
              <a:xfrm>
                <a:off x="6714360" y="3601440"/>
                <a:ext cx="1080360" cy="566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14"/>
              <p:cNvSpPr/>
              <p:nvPr/>
            </p:nvSpPr>
            <p:spPr>
              <a:xfrm>
                <a:off x="4443120" y="6264720"/>
                <a:ext cx="534600" cy="299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15"/>
              <p:cNvSpPr/>
              <p:nvPr/>
            </p:nvSpPr>
            <p:spPr>
              <a:xfrm>
                <a:off x="7929360" y="6325200"/>
                <a:ext cx="534600" cy="299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16"/>
              <p:cNvSpPr/>
              <p:nvPr/>
            </p:nvSpPr>
            <p:spPr>
              <a:xfrm>
                <a:off x="5501160" y="3314520"/>
                <a:ext cx="534600" cy="299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شكل بيضاوي 33"/>
            <p:cNvSpPr/>
            <p:nvPr/>
          </p:nvSpPr>
          <p:spPr>
            <a:xfrm>
              <a:off x="7715160" y="6072480"/>
              <a:ext cx="1285920" cy="285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شكل بيضاوي 36"/>
            <p:cNvSpPr/>
            <p:nvPr/>
          </p:nvSpPr>
          <p:spPr>
            <a:xfrm>
              <a:off x="4929120" y="6215400"/>
              <a:ext cx="1285920" cy="285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مجموعة 41"/>
          <p:cNvGrpSpPr/>
          <p:nvPr/>
        </p:nvGrpSpPr>
        <p:grpSpPr>
          <a:xfrm>
            <a:off x="-34920" y="1000080"/>
            <a:ext cx="9178920" cy="1714680"/>
            <a:chOff x="-34920" y="1000080"/>
            <a:chExt cx="9178920" cy="1714680"/>
          </a:xfrm>
        </p:grpSpPr>
        <p:grpSp>
          <p:nvGrpSpPr>
            <p:cNvPr id="73" name="مجموعة 33"/>
            <p:cNvGrpSpPr/>
            <p:nvPr/>
          </p:nvGrpSpPr>
          <p:grpSpPr>
            <a:xfrm>
              <a:off x="-34920" y="1000080"/>
              <a:ext cx="9178920" cy="1714680"/>
              <a:chOff x="-34920" y="1000080"/>
              <a:chExt cx="9178920" cy="1714680"/>
            </a:xfrm>
          </p:grpSpPr>
          <p:grpSp>
            <p:nvGrpSpPr>
              <p:cNvPr id="74" name="مجموعة 13"/>
              <p:cNvGrpSpPr/>
              <p:nvPr/>
            </p:nvGrpSpPr>
            <p:grpSpPr>
              <a:xfrm>
                <a:off x="0" y="1000080"/>
                <a:ext cx="9144000" cy="1714680"/>
                <a:chOff x="0" y="1000080"/>
                <a:chExt cx="9144000" cy="1714680"/>
              </a:xfrm>
            </p:grpSpPr>
            <p:pic>
              <p:nvPicPr>
                <p:cNvPr id="75" name="صورة 4" descr="taxonomy_top_levels.gif"/>
                <p:cNvPicPr/>
                <p:nvPr/>
              </p:nvPicPr>
              <p:blipFill>
                <a:blip r:embed="rId2"/>
                <a:srcRect l="33604" t="45168" r="0" b="40328"/>
                <a:stretch/>
              </p:blipFill>
              <p:spPr>
                <a:xfrm>
                  <a:off x="3072240" y="2182680"/>
                  <a:ext cx="6071760" cy="53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صورة 4" descr="taxonomy_top_levels.gif"/>
                <p:cNvPicPr/>
                <p:nvPr/>
              </p:nvPicPr>
              <p:blipFill>
                <a:blip r:embed="rId3"/>
                <a:srcRect l="0" t="64532" r="0" b="8062"/>
                <a:stretch/>
              </p:blipFill>
              <p:spPr>
                <a:xfrm>
                  <a:off x="0" y="1000080"/>
                  <a:ext cx="9144000" cy="1005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7" name="Group 16"/>
                <p:cNvGrpSpPr/>
                <p:nvPr/>
              </p:nvGrpSpPr>
              <p:grpSpPr>
                <a:xfrm>
                  <a:off x="3291840" y="1946160"/>
                  <a:ext cx="5413320" cy="236520"/>
                  <a:chOff x="3291840" y="1946160"/>
                  <a:chExt cx="5413320" cy="236520"/>
                </a:xfrm>
              </p:grpSpPr>
              <p:sp>
                <p:nvSpPr>
                  <p:cNvPr id="78" name="Line 17"/>
                  <p:cNvSpPr/>
                  <p:nvPr/>
                </p:nvSpPr>
                <p:spPr>
                  <a:xfrm>
                    <a:off x="4751640" y="1946160"/>
                    <a:ext cx="2372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Line 18"/>
                  <p:cNvSpPr/>
                  <p:nvPr/>
                </p:nvSpPr>
                <p:spPr>
                  <a:xfrm>
                    <a:off x="5907240" y="1946160"/>
                    <a:ext cx="0" cy="118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Line 19"/>
                  <p:cNvSpPr/>
                  <p:nvPr/>
                </p:nvSpPr>
                <p:spPr>
                  <a:xfrm>
                    <a:off x="3291840" y="2064240"/>
                    <a:ext cx="54133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Line 20"/>
                  <p:cNvSpPr/>
                  <p:nvPr/>
                </p:nvSpPr>
                <p:spPr>
                  <a:xfrm>
                    <a:off x="3291840" y="2064240"/>
                    <a:ext cx="0" cy="118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Line 21"/>
                  <p:cNvSpPr/>
                  <p:nvPr/>
                </p:nvSpPr>
                <p:spPr>
                  <a:xfrm>
                    <a:off x="5055480" y="2064240"/>
                    <a:ext cx="0" cy="118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Line 22"/>
                  <p:cNvSpPr/>
                  <p:nvPr/>
                </p:nvSpPr>
                <p:spPr>
                  <a:xfrm>
                    <a:off x="8705160" y="2064240"/>
                    <a:ext cx="0" cy="118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23"/>
                  <p:cNvSpPr/>
                  <p:nvPr/>
                </p:nvSpPr>
                <p:spPr>
                  <a:xfrm>
                    <a:off x="7002000" y="2064240"/>
                    <a:ext cx="0" cy="118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" name="Oval 16"/>
              <p:cNvSpPr/>
              <p:nvPr/>
            </p:nvSpPr>
            <p:spPr>
              <a:xfrm>
                <a:off x="514368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15"/>
              <p:cNvSpPr/>
              <p:nvPr/>
            </p:nvSpPr>
            <p:spPr>
              <a:xfrm>
                <a:off x="1428480" y="1495440"/>
                <a:ext cx="534960" cy="250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14"/>
              <p:cNvSpPr/>
              <p:nvPr/>
            </p:nvSpPr>
            <p:spPr>
              <a:xfrm>
                <a:off x="-3492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مستطيل 40"/>
            <p:cNvSpPr/>
            <p:nvPr/>
          </p:nvSpPr>
          <p:spPr>
            <a:xfrm>
              <a:off x="142560" y="1919520"/>
              <a:ext cx="292896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Calibri"/>
                </a:rPr>
                <a:t>prokaryot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مربع نص 41"/>
          <p:cNvSpPr/>
          <p:nvPr/>
        </p:nvSpPr>
        <p:spPr>
          <a:xfrm>
            <a:off x="571680" y="142920"/>
            <a:ext cx="771516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ree Kingdoms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71640" y="1428480"/>
            <a:ext cx="450036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8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urrent taxonomy recognizes two prokaryotic domains (Kingdoms): domain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Bacteria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domain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Archaea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8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Bacteria and archaea exist so early in life and are very  diffe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8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At the same time, the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both are structurall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organized at th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rokaryotic lev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rcRect l="0" t="0" r="0" b="3991"/>
          <a:stretch/>
        </p:blipFill>
        <p:spPr>
          <a:xfrm>
            <a:off x="4071960" y="1000080"/>
            <a:ext cx="5025960" cy="2071800"/>
          </a:xfrm>
          <a:prstGeom prst="rect">
            <a:avLst/>
          </a:prstGeom>
          <a:ln w="0">
            <a:noFill/>
          </a:ln>
        </p:spPr>
      </p:pic>
      <p:sp>
        <p:nvSpPr>
          <p:cNvPr id="92" name="مربع نص 7"/>
          <p:cNvSpPr/>
          <p:nvPr/>
        </p:nvSpPr>
        <p:spPr>
          <a:xfrm>
            <a:off x="142920" y="214200"/>
            <a:ext cx="8929800" cy="1434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1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-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Prokaryotes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bacteria &amp; archaea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2"/>
          <a:stretch/>
        </p:blipFill>
        <p:spPr>
          <a:xfrm>
            <a:off x="4060800" y="3071880"/>
            <a:ext cx="508320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7840" y="1270080"/>
            <a:ext cx="468000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2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Prokarytes exist in habitats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that are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too cold, too hot, too salty, too acidic, or too alkalin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for any eukaryo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4788000" y="1146240"/>
            <a:ext cx="4182840" cy="2854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250920" y="2643120"/>
            <a:ext cx="889308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2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Prokaryotes often interact wit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species of prokaryotes or  eukaryote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complementary metabolis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2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se relationships called (symbiosis) in three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22000"/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ommensalism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: one partner receives benefits while the other is not harmed or helped by the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22000"/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arasitism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: one partner, the parasite, benefits at the expense of the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22000"/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Mutualism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both partners benefit from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مربع نص 7"/>
          <p:cNvSpPr/>
          <p:nvPr/>
        </p:nvSpPr>
        <p:spPr>
          <a:xfrm>
            <a:off x="142920" y="214200"/>
            <a:ext cx="8929800" cy="1434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1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-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Prokaryotes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bacteria &amp; archaea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08000" y="442800"/>
            <a:ext cx="4680000" cy="3095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4932360" y="568440"/>
            <a:ext cx="4084560" cy="2844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6580440" y="386064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71760" y="36133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s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4920" y="1317600"/>
            <a:ext cx="5392800" cy="57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chaea ar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xtremophil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extreme environment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an be classified in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a)-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Extreme halophil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live in such saline places as the Great Salt Lake and the Dead S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me species require an extremely salty environment to gr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b)-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Extreme thermophile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live in hot environ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optimum temperatures for most thermophiles are 60 - 80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°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104" name="مربع نص 5"/>
          <p:cNvSpPr/>
          <p:nvPr/>
        </p:nvSpPr>
        <p:spPr>
          <a:xfrm>
            <a:off x="714240" y="214200"/>
            <a:ext cx="75726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ndalus"/>
                <a:ea typeface="Andalus"/>
              </a:rPr>
              <a:t>A)- Archa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42560" y="1213920"/>
            <a:ext cx="8901000" cy="56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Bacteria is considered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s the most known prokaro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major bacterial taxa (species) are now accorded kingdom status by most prokaryotic systematis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Different types of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diseas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caused by bacteria includ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g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cholera, many sexually transmissible diseases, and certain types of food poison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However, more bacteria are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beneficial</a:t>
            </a:r>
            <a:r>
              <a:rPr b="0" lang="ar-SA" sz="20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Bacteria in our intestines produce important vitami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Bacteria recycle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other chemical elements between organic matter and the soil and atmosphe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Bacteria often live in close association among themselves and with eukaryotes in symbiotic relationshi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مربع نص 4"/>
          <p:cNvSpPr/>
          <p:nvPr/>
        </p:nvSpPr>
        <p:spPr>
          <a:xfrm>
            <a:off x="714240" y="214200"/>
            <a:ext cx="75726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B)- 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2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8:10:59Z</dcterms:created>
  <dc:creator>DELL</dc:creator>
  <dc:description/>
  <dc:language>en-US</dc:language>
  <cp:lastModifiedBy>somer</cp:lastModifiedBy>
  <dcterms:modified xsi:type="dcterms:W3CDTF">2016-11-02T06:49:58Z</dcterms:modified>
  <cp:revision>6</cp:revision>
  <dc:subject/>
  <dc:title>الشريحة 1</dc:title>
</cp:coreProperties>
</file>