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FBD0-31B1-4C82-85C9-716FE81405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B1B1-3D77-4175-92FA-F875FE05A86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CEA0-1C0C-4317-94D7-0F28FE9884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CB1C-EB7C-425C-90A1-4AD2F7174A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514-4AD9-4E84-8523-E3021DAD51A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3BB-00A8-44D4-A983-B8B206B407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F775-C2F7-4946-AA09-F9BC4564883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92B-B80B-4C99-9430-657080102B9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3C1A-269A-42C0-8649-02AE6DB588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E02-8AAB-4A19-9005-FC77B795DE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12FA-9BC8-467B-9C5D-75AEC1D995C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F013-4683-4F85-8595-DF996BDE2E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20D-C511-49E0-9D36-EBB9AC6D94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9525-EEEE-43D2-84F2-429CAED5E7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D1A-CB5D-4871-9DBB-D6111328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681-D38B-44D5-B480-526F9F6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D9A-6012-46B2-9EE3-0BBB8304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79B-81E3-44A1-A7D0-91DB6259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4BA-9CA8-46EE-BC3F-E37C1D2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E99-F5B7-4BDB-9EAE-A50003F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EFA-E0F1-482F-987A-8B36111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F29-5C65-4F92-A908-58E65F16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865-CF91-426A-B493-CCE6074E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E26-7EFD-40DC-A8AA-62CEF7B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F43-8234-49C7-8203-5C546F0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956-3F57-4DCE-95CB-5CA0DF9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043-FE09-4BF6-8AAA-D72C823A5F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MVschema.sv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214200" y="19782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cocci :are spherical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Bacilli: are rod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piral : range from comma   –like shape to long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7"/>
          <p:cNvSpPr/>
          <p:nvPr/>
        </p:nvSpPr>
        <p:spPr>
          <a:xfrm>
            <a:off x="142920" y="21420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ost common shape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desktopclass.com/wp-content/uploads/2011/11/c8.27x3.bact_.shapes.jpg"/>
          <p:cNvPicPr/>
          <p:nvPr/>
        </p:nvPicPr>
        <p:blipFill>
          <a:blip r:embed="rId1"/>
          <a:stretch/>
        </p:blipFill>
        <p:spPr>
          <a:xfrm>
            <a:off x="4071960" y="1571760"/>
            <a:ext cx="5076720" cy="4714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42920" y="4857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pherical, rod shape or spiral occur singly or i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3840" y="1459080"/>
            <a:ext cx="8858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re commonly, pathogens cause illness by producing poisons, called exotoxin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d endotox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athogenic prokaryotes cause about half of all human dis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مربع نص 4"/>
          <p:cNvSpPr/>
          <p:nvPr/>
        </p:nvSpPr>
        <p:spPr>
          <a:xfrm>
            <a:off x="71280" y="241200"/>
            <a:ext cx="89298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Harmful prokaryotes (</a:t>
            </a: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athogenes</a:t>
            </a: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760" y="1571760"/>
            <a:ext cx="8675640" cy="56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have learned to exploit the diverse metabolic capabilities of prokaryotes, for scientific research and for practical purpo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rokaryotes are used to solve environmental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also use bacteria as metabolic “factories” for commercial pro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pplication of organisms to remove pollutants from air, water, and soil is bio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مربع نص 4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eneficial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upload.wikimedia.org/wikipedia/commons/thumb/9/91/CMVschema.svg/220px-CMVschem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214720"/>
            <a:ext cx="2595600" cy="2795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214200" y="537228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reproduce only in the host cell and cause disease by damage and kill the cell by producing 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42920" y="1668600"/>
            <a:ext cx="657216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Consist of two pa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1- the genetic material made from either DNA or RNA, long molecules that carry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2- a protein coat that protects these genes; and in some cases an envelope of lipids that surrounds the protein coat when they are outside a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42920" y="1357200"/>
            <a:ext cx="73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:is a small infectious agent that can replicate only inside the living cells of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8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Viruses</a:t>
            </a: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مجموعة 14"/>
          <p:cNvGrpSpPr/>
          <p:nvPr/>
        </p:nvGrpSpPr>
        <p:grpSpPr>
          <a:xfrm>
            <a:off x="-285840" y="2643120"/>
            <a:ext cx="9644040" cy="3061800"/>
            <a:chOff x="-285840" y="2643120"/>
            <a:chExt cx="9644040" cy="30618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rcRect l="0" t="9120" r="0" b="43060"/>
            <a:stretch/>
          </p:blipFill>
          <p:spPr>
            <a:xfrm>
              <a:off x="0" y="2643120"/>
              <a:ext cx="872784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مربع نص 6"/>
            <p:cNvSpPr/>
            <p:nvPr/>
          </p:nvSpPr>
          <p:spPr>
            <a:xfrm>
              <a:off x="7500960" y="32911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مربع نص 7"/>
            <p:cNvSpPr/>
            <p:nvPr/>
          </p:nvSpPr>
          <p:spPr>
            <a:xfrm>
              <a:off x="5214960" y="3291120"/>
              <a:ext cx="24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Archae 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ربع نص 8"/>
            <p:cNvSpPr/>
            <p:nvPr/>
          </p:nvSpPr>
          <p:spPr>
            <a:xfrm>
              <a:off x="3357360" y="3291120"/>
              <a:ext cx="18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karyo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مربع نص 9"/>
            <p:cNvSpPr/>
            <p:nvPr/>
          </p:nvSpPr>
          <p:spPr>
            <a:xfrm>
              <a:off x="1428480" y="32144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radley Hand ITC"/>
                </a:rPr>
                <a:t>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مربع نص 10"/>
            <p:cNvSpPr/>
            <p:nvPr/>
          </p:nvSpPr>
          <p:spPr>
            <a:xfrm>
              <a:off x="285732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Anima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مربع نص 11"/>
            <p:cNvSpPr/>
            <p:nvPr/>
          </p:nvSpPr>
          <p:spPr>
            <a:xfrm>
              <a:off x="999720" y="475776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l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مربع نص 12"/>
            <p:cNvSpPr/>
            <p:nvPr/>
          </p:nvSpPr>
          <p:spPr>
            <a:xfrm>
              <a:off x="-285840" y="4757760"/>
              <a:ext cx="15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Fung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مربع نص 13"/>
            <p:cNvSpPr/>
            <p:nvPr/>
          </p:nvSpPr>
          <p:spPr>
            <a:xfrm>
              <a:off x="435744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rot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مربع نص 15"/>
          <p:cNvSpPr/>
          <p:nvPr/>
        </p:nvSpPr>
        <p:spPr>
          <a:xfrm>
            <a:off x="4214880" y="207180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  <a:ea typeface="Akhbar MT"/>
              </a:rPr>
              <a:t>Three Kingdom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مربع نص 16"/>
          <p:cNvSpPr/>
          <p:nvPr/>
        </p:nvSpPr>
        <p:spPr>
          <a:xfrm>
            <a:off x="1928880" y="19288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صورة 4" descr="taxonomy_top_levels.gif"/>
          <p:cNvPicPr/>
          <p:nvPr/>
        </p:nvPicPr>
        <p:blipFill>
          <a:blip r:embed="rId1"/>
          <a:stretch/>
        </p:blipFill>
        <p:spPr>
          <a:xfrm>
            <a:off x="214200" y="2357280"/>
            <a:ext cx="8929800" cy="4429440"/>
          </a:xfrm>
          <a:prstGeom prst="rect">
            <a:avLst/>
          </a:prstGeom>
          <a:ln w="0">
            <a:noFill/>
          </a:ln>
        </p:spPr>
      </p:pic>
      <p:sp>
        <p:nvSpPr>
          <p:cNvPr id="53" name="مربع نص 8"/>
          <p:cNvSpPr/>
          <p:nvPr/>
        </p:nvSpPr>
        <p:spPr>
          <a:xfrm>
            <a:off x="714240" y="42876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مجموعة 34"/>
          <p:cNvGrpSpPr/>
          <p:nvPr/>
        </p:nvGrpSpPr>
        <p:grpSpPr>
          <a:xfrm>
            <a:off x="-71280" y="3579840"/>
            <a:ext cx="4857480" cy="3225600"/>
            <a:chOff x="-71280" y="3579840"/>
            <a:chExt cx="4857480" cy="3225600"/>
          </a:xfrm>
        </p:grpSpPr>
        <p:sp>
          <p:nvSpPr>
            <p:cNvPr id="55" name="Text Box 6"/>
            <p:cNvSpPr/>
            <p:nvPr/>
          </p:nvSpPr>
          <p:spPr>
            <a:xfrm>
              <a:off x="-71280" y="3579840"/>
              <a:ext cx="4857480" cy="32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re are three Kingdoms of life"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Bacteri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(Eubacteria)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chae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karyota 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Fungi, Protesta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Plantae &amp; Animalia)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93840" y="421488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357120" y="478620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393840" y="530064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مجموعة 3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grpSp>
          <p:nvGrpSpPr>
            <p:cNvPr id="60" name="Group 17"/>
            <p:cNvGrpSpPr/>
            <p:nvPr/>
          </p:nvGrpSpPr>
          <p:grpSpPr>
            <a:xfrm>
              <a:off x="4181400" y="3171960"/>
              <a:ext cx="4819680" cy="3685680"/>
              <a:chOff x="4181400" y="3171960"/>
              <a:chExt cx="4819680" cy="3685680"/>
            </a:xfrm>
          </p:grpSpPr>
          <p:pic>
            <p:nvPicPr>
              <p:cNvPr id="61" name="Picture 5" descr="kingdoms"/>
              <p:cNvPicPr/>
              <p:nvPr/>
            </p:nvPicPr>
            <p:blipFill>
              <a:blip r:embed="rId1"/>
              <a:srcRect l="0" t="0" r="0" b="2252"/>
              <a:stretch/>
            </p:blipFill>
            <p:spPr>
              <a:xfrm>
                <a:off x="4181400" y="3747960"/>
                <a:ext cx="4819680" cy="31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8"/>
              <p:cNvSpPr/>
              <p:nvPr/>
            </p:nvSpPr>
            <p:spPr>
              <a:xfrm>
                <a:off x="5968080" y="3171960"/>
                <a:ext cx="167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Eukaryo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 flipH="1">
                <a:off x="5213880" y="3601440"/>
                <a:ext cx="1500120" cy="446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 flipH="1">
                <a:off x="6572520" y="3601440"/>
                <a:ext cx="143280" cy="285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742440" y="3601440"/>
                <a:ext cx="45720" cy="158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3"/>
              <p:cNvSpPr/>
              <p:nvPr/>
            </p:nvSpPr>
            <p:spPr>
              <a:xfrm>
                <a:off x="6714360" y="3601440"/>
                <a:ext cx="1080360" cy="56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4"/>
              <p:cNvSpPr/>
              <p:nvPr/>
            </p:nvSpPr>
            <p:spPr>
              <a:xfrm>
                <a:off x="4443120" y="62647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5"/>
              <p:cNvSpPr/>
              <p:nvPr/>
            </p:nvSpPr>
            <p:spPr>
              <a:xfrm>
                <a:off x="7929360" y="632520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6"/>
              <p:cNvSpPr/>
              <p:nvPr/>
            </p:nvSpPr>
            <p:spPr>
              <a:xfrm>
                <a:off x="5501160" y="33145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شكل بيضاوي 33"/>
            <p:cNvSpPr/>
            <p:nvPr/>
          </p:nvSpPr>
          <p:spPr>
            <a:xfrm>
              <a:off x="7715160" y="607248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شكل بيضاوي 36"/>
            <p:cNvSpPr/>
            <p:nvPr/>
          </p:nvSpPr>
          <p:spPr>
            <a:xfrm>
              <a:off x="4929120" y="621540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73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74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75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7" name="Group 16"/>
                <p:cNvGrpSpPr/>
                <p:nvPr/>
              </p:nvGrpSpPr>
              <p:grpSpPr>
                <a:xfrm>
                  <a:off x="3291840" y="1946160"/>
                  <a:ext cx="5413320" cy="236520"/>
                  <a:chOff x="3291840" y="1946160"/>
                  <a:chExt cx="5413320" cy="236520"/>
                </a:xfrm>
              </p:grpSpPr>
              <p:sp>
                <p:nvSpPr>
                  <p:cNvPr id="78" name="Line 17"/>
                  <p:cNvSpPr/>
                  <p:nvPr/>
                </p:nvSpPr>
                <p:spPr>
                  <a:xfrm>
                    <a:off x="4751640" y="1946160"/>
                    <a:ext cx="2372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18"/>
                  <p:cNvSpPr/>
                  <p:nvPr/>
                </p:nvSpPr>
                <p:spPr>
                  <a:xfrm>
                    <a:off x="5907240" y="1946160"/>
                    <a:ext cx="0" cy="11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9"/>
                  <p:cNvSpPr/>
                  <p:nvPr/>
                </p:nvSpPr>
                <p:spPr>
                  <a:xfrm>
                    <a:off x="3291840" y="2064240"/>
                    <a:ext cx="5413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20"/>
                  <p:cNvSpPr/>
                  <p:nvPr/>
                </p:nvSpPr>
                <p:spPr>
                  <a:xfrm>
                    <a:off x="329184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21"/>
                  <p:cNvSpPr/>
                  <p:nvPr/>
                </p:nvSpPr>
                <p:spPr>
                  <a:xfrm>
                    <a:off x="505548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2"/>
                  <p:cNvSpPr/>
                  <p:nvPr/>
                </p:nvSpPr>
                <p:spPr>
                  <a:xfrm>
                    <a:off x="870516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3"/>
                  <p:cNvSpPr/>
                  <p:nvPr/>
                </p:nvSpPr>
                <p:spPr>
                  <a:xfrm>
                    <a:off x="700200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مربع نص 41"/>
          <p:cNvSpPr/>
          <p:nvPr/>
        </p:nvSpPr>
        <p:spPr>
          <a:xfrm>
            <a:off x="571680" y="142920"/>
            <a:ext cx="771516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ree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71640" y="1428480"/>
            <a:ext cx="45003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urrent taxonomy recognizes two prokaryotic domains (Kingdoms):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acteri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rchae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acteria and archaea exist so early in life and are very 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t the same time, the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oth are structura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zed at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karyotic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4071960" y="1000080"/>
            <a:ext cx="5025960" cy="207180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4060800" y="3071880"/>
            <a:ext cx="50832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7840" y="127008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tes exist in habitats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too cold, too hot, too salty, too acidic, or too alka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788000" y="114624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50920" y="2643120"/>
            <a:ext cx="8893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otes often interact wit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pecies of prokaryotes or  eukaryot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lementary metabol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relationships called (symbiosis) in thre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ommensa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 receives benefits while the other is not harmed or helped by th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arasitism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, the parasite, benefits at the expense of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utual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oth partners benefit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8000" y="442800"/>
            <a:ext cx="4680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932360" y="568440"/>
            <a:ext cx="4084560" cy="2844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6580440" y="3860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71760" y="36133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s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4920" y="1317600"/>
            <a:ext cx="539280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chaea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emophi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extreme environmen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be classified 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halophil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ve in such saline places as the Great Salt Lake and the Dead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require an extremely salty environment to g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thermophil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live in hot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ptimum temperatures for most thermophiles are 60 - 80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°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مربع نص 5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ndalus"/>
                <a:ea typeface="Andalus"/>
              </a:rPr>
              <a:t>A)- 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2560" y="1213920"/>
            <a:ext cx="8901000" cy="56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s considere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jor bacterial taxa (species) are now accorded kingdom status by most prokaryotic systema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types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diseas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caused by bacteria inclu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g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holera, many sexually transmissible diseases, and certain types of food poiso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However, more bacteria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eneficial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n our intestines produce important vitam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recyc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often live in close association among themselves and with eukaryotes in symbiotic relation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4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B)-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10:59Z</dcterms:created>
  <dc:creator>DELL</dc:creator>
  <dc:description/>
  <dc:language>en-US</dc:language>
  <cp:lastModifiedBy>somer</cp:lastModifiedBy>
  <dcterms:modified xsi:type="dcterms:W3CDTF">2016-11-02T06:49:58Z</dcterms:modified>
  <cp:revision>6</cp:revision>
  <dc:subject/>
  <dc:title>الشريحة 1</dc:title>
</cp:coreProperties>
</file>