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4BE6-AC37-479A-8E1C-D8293CD289A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0AAB-33F5-45A1-8738-66F9EA0B8BD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C7E2-C6FF-407C-AD29-F5A27A08170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43BE-610E-490B-A7E4-1786C0BAAF7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6660-FED0-43C8-A588-4BBD4112174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3752-4360-4CFF-8B48-1006EBD5682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1895-C372-48EF-83A2-8A4A3CA66A4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856B-A92C-47C4-824D-AEC0436A690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4A12-1ECF-4F47-9C30-965EE70F21F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7DDC-A955-48EC-8F37-49A2A36E096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ACB4-737F-47DA-BAA0-2079957E06F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A1A1-46B8-4779-8191-4F64135522C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DB20-068A-427A-B320-C05D35E2DC1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C0C-D5C3-4A80-AE70-A2F73579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917-F31B-4CB4-92A0-CA843AF7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9E9-2FF9-4079-AB94-AAD62C3D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BBA-A237-4DDF-82D7-F93D9BC1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550-72ED-4C19-92BE-F5054AD4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A03-0479-40E6-9F90-78B522A9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96D-6B8D-432C-A48F-5E2F8243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730-1F6C-43ED-B216-B05CA86E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6BB-E9FA-445B-8FA4-4D7BCE9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22A-9BA2-4606-8DE9-5F131CA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F0F-FC77-46D0-B6AA-52364146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96A-4266-4C09-996B-840B1B49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D9A9-4805-4B68-8825-9EF5328BF0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591160" cy="5057640"/>
          </a:xfrm>
          <a:prstGeom prst="rect">
            <a:avLst/>
          </a:prstGeom>
          <a:ln w="0">
            <a:noFill/>
          </a:ln>
        </p:spPr>
      </p:pic>
      <p:sp>
        <p:nvSpPr>
          <p:cNvPr id="180" name="مربع نص 4"/>
          <p:cNvSpPr/>
          <p:nvPr/>
        </p:nvSpPr>
        <p:spPr>
          <a:xfrm>
            <a:off x="714240" y="1143000"/>
            <a:ext cx="2500560" cy="1022040"/>
          </a:xfrm>
          <a:prstGeom prst="wedgeRoundRectCallout">
            <a:avLst>
              <a:gd name="adj1" fmla="val 42888"/>
              <a:gd name="adj2" fmla="val 48939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Eyespot</a:t>
            </a:r>
            <a:r>
              <a:rPr b="0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 which is sensitive to light and helps the euglena find light</a:t>
            </a:r>
            <a:r>
              <a:rPr b="0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مربع نص 5"/>
          <p:cNvSpPr/>
          <p:nvPr/>
        </p:nvSpPr>
        <p:spPr>
          <a:xfrm>
            <a:off x="6643800" y="285840"/>
            <a:ext cx="2500200" cy="1251720"/>
          </a:xfrm>
          <a:prstGeom prst="wedgeRoundRectCallout">
            <a:avLst>
              <a:gd name="adj1" fmla="val -35476"/>
              <a:gd name="adj2" fmla="val 60578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Light detector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near the base of long flagellum function to detect light that  is not blocked by eyespot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مربع نص 7"/>
          <p:cNvSpPr/>
          <p:nvPr/>
        </p:nvSpPr>
        <p:spPr>
          <a:xfrm>
            <a:off x="71280" y="4857840"/>
            <a:ext cx="2500560" cy="791640"/>
          </a:xfrm>
          <a:prstGeom prst="wedgeRoundRectCallout">
            <a:avLst>
              <a:gd name="adj1" fmla="val 24087"/>
              <a:gd name="adj2" fmla="val -57226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protein bands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beneath the plasma that provide strength and flexi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ربع نص 9"/>
          <p:cNvSpPr/>
          <p:nvPr/>
        </p:nvSpPr>
        <p:spPr>
          <a:xfrm>
            <a:off x="6643800" y="3500280"/>
            <a:ext cx="2500200" cy="791640"/>
          </a:xfrm>
          <a:prstGeom prst="wedgeRoundRectCallout">
            <a:avLst>
              <a:gd name="adj1" fmla="val -29199"/>
              <a:gd name="adj2" fmla="val -60907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Contractile Vacuole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holds excess water and removes it from the cell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786200" y="1071720"/>
            <a:ext cx="4000680" cy="428616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5" name="مستطيل 4"/>
          <p:cNvSpPr/>
          <p:nvPr/>
        </p:nvSpPr>
        <p:spPr>
          <a:xfrm>
            <a:off x="271440" y="214200"/>
            <a:ext cx="19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Movement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مستطيل 5"/>
          <p:cNvSpPr/>
          <p:nvPr/>
        </p:nvSpPr>
        <p:spPr>
          <a:xfrm>
            <a:off x="214200" y="78588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uglena use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lagellates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214200" y="15987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euglena can glide and swim using their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Euglena"/>
          <p:cNvPicPr/>
          <p:nvPr/>
        </p:nvPicPr>
        <p:blipFill>
          <a:blip r:embed="rId2"/>
          <a:srcRect l="29506" t="19886" r="47347" b="66803"/>
          <a:stretch/>
        </p:blipFill>
        <p:spPr>
          <a:xfrm>
            <a:off x="0" y="2643120"/>
            <a:ext cx="2286000" cy="3500640"/>
          </a:xfrm>
          <a:prstGeom prst="rect">
            <a:avLst/>
          </a:prstGeom>
          <a:ln w="0">
            <a:noFill/>
          </a:ln>
        </p:spPr>
      </p:pic>
      <p:pic>
        <p:nvPicPr>
          <p:cNvPr id="189" name="PPTShape_0" descr="Euglena"/>
          <p:cNvPicPr/>
          <p:nvPr/>
        </p:nvPicPr>
        <p:blipFill>
          <a:blip r:embed="rId3"/>
          <a:srcRect l="54387" t="19886" r="23276" b="56740"/>
          <a:stretch/>
        </p:blipFill>
        <p:spPr>
          <a:xfrm>
            <a:off x="2428920" y="2857680"/>
            <a:ext cx="19382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www.biocyclopedia.com/index/general_zoology/images/images08/FIG001.jpg"/>
          <p:cNvPicPr/>
          <p:nvPr/>
        </p:nvPicPr>
        <p:blipFill>
          <a:blip r:embed="rId1"/>
          <a:srcRect l="32086" t="0" r="0" b="53345"/>
          <a:stretch/>
        </p:blipFill>
        <p:spPr>
          <a:xfrm>
            <a:off x="1071720" y="3786120"/>
            <a:ext cx="6929280" cy="3071880"/>
          </a:xfrm>
          <a:prstGeom prst="rect">
            <a:avLst/>
          </a:prstGeom>
          <a:ln w="0">
            <a:noFill/>
          </a:ln>
        </p:spPr>
      </p:pic>
      <p:sp>
        <p:nvSpPr>
          <p:cNvPr id="191" name="مستطيل 3"/>
          <p:cNvSpPr/>
          <p:nvPr/>
        </p:nvSpPr>
        <p:spPr>
          <a:xfrm>
            <a:off x="214200" y="785880"/>
            <a:ext cx="85726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 sing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ed mixotrophic proti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n use chloroplasts to undergo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hotosynthesi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f light is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 live as a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heterotroph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absorbing organic nutrients from the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can survive harsh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مستطيل 4"/>
          <p:cNvSpPr/>
          <p:nvPr/>
        </p:nvSpPr>
        <p:spPr>
          <a:xfrm>
            <a:off x="434880" y="214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utri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مستطيل 6"/>
          <p:cNvSpPr/>
          <p:nvPr/>
        </p:nvSpPr>
        <p:spPr>
          <a:xfrm>
            <a:off x="-58320" y="3357720"/>
            <a:ext cx="248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eproduc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28760" y="38577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Euglena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produce </a:t>
            </a:r>
            <a:r>
              <a:rPr b="0" lang="en-US" sz="2000" spc="-1" strike="noStrike">
                <a:solidFill>
                  <a:srgbClr val="c0504d"/>
                </a:solidFill>
                <a:latin typeface="Andalus"/>
                <a:ea typeface="Andalus"/>
              </a:rPr>
              <a:t>asexuall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by </a:t>
            </a:r>
            <a:r>
              <a:rPr b="0" lang="en-US" sz="2000" spc="-1" strike="noStrike">
                <a:solidFill>
                  <a:srgbClr val="c0504d"/>
                </a:solidFill>
                <a:latin typeface="Andalus"/>
                <a:ea typeface="Andalus"/>
              </a:rPr>
              <a:t>binary f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500800" y="1428840"/>
            <a:ext cx="371304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Most protist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aerobic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, with mitochondria for cellular respira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Some protist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photoaut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 with chloropla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Still other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heter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 that absorb organic molecules or ingest larger food partic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A few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mix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, combining photosynthesis and heterotrophic nutri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Protists may include photosynthetic species, heterotrophic species, and mixotrophic speci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مربع نص 4"/>
          <p:cNvSpPr/>
          <p:nvPr/>
        </p:nvSpPr>
        <p:spPr>
          <a:xfrm>
            <a:off x="6145200" y="1214280"/>
            <a:ext cx="1411200" cy="2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utr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PTShape_0"/>
          <p:cNvSpPr/>
          <p:nvPr/>
        </p:nvSpPr>
        <p:spPr>
          <a:xfrm>
            <a:off x="2428920" y="1890720"/>
            <a:ext cx="357192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ost protists move with flagella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or cilia during some time in their life cyc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 eukaryotic flagella are not homologous to those of prokaryo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 eukaryotic flagella are extensions of the cytoplasm with a support of the 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</a:rPr>
              <a:t>9 + 2 microtubule system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Cilia are shorter and more numerous than flagell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Cilia and flagella move the cell with rhythmic power strokes, analogous to the oars of a boa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4286160" y="5313240"/>
            <a:ext cx="4575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Reproduction and life cycles are highly varied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among prot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itosis occurs in almost all protis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Some protists are asexual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Others are primarily asexual but can also reproduce sexually occasionall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مربع نص 7"/>
          <p:cNvSpPr/>
          <p:nvPr/>
        </p:nvSpPr>
        <p:spPr>
          <a:xfrm>
            <a:off x="2617920" y="1643040"/>
            <a:ext cx="1596960" cy="227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Movement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مربع نص 8"/>
          <p:cNvSpPr/>
          <p:nvPr/>
        </p:nvSpPr>
        <p:spPr>
          <a:xfrm>
            <a:off x="4475160" y="5000760"/>
            <a:ext cx="1596960" cy="23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Reproduction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PTShape_1"/>
          <p:cNvSpPr/>
          <p:nvPr/>
        </p:nvSpPr>
        <p:spPr>
          <a:xfrm>
            <a:off x="285840" y="4957920"/>
            <a:ext cx="389088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any protists are symbionts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that inhabit the body fluids, tissues, or cells of hosts.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se symbiotic relationships span the continuum from mutualism to parasitis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Some parasitic protists are important pathogens of animals, including those that cause potentially fatal diseases in huma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مربع نص 10"/>
          <p:cNvSpPr/>
          <p:nvPr/>
        </p:nvSpPr>
        <p:spPr>
          <a:xfrm>
            <a:off x="357120" y="4714920"/>
            <a:ext cx="1515960" cy="23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Importance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انفجار 1 12"/>
          <p:cNvSpPr/>
          <p:nvPr/>
        </p:nvSpPr>
        <p:spPr>
          <a:xfrm>
            <a:off x="0" y="1500120"/>
            <a:ext cx="2214720" cy="2143080"/>
          </a:xfrm>
          <a:prstGeom prst="irregularSeal1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0" lang="en-US" sz="14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5" name="رابط منحني 59"/>
          <p:cNvCxnSpPr/>
          <p:nvPr/>
        </p:nvCxnSpPr>
        <p:spPr>
          <a:xfrm flipH="1" rot="16200000">
            <a:off x="542160" y="3970800"/>
            <a:ext cx="1000800" cy="344880"/>
          </a:xfrm>
          <a:prstGeom prst="curvedConnector5">
            <a:avLst>
              <a:gd name="adj1" fmla="val 49982"/>
              <a:gd name="adj2" fmla="val 49947"/>
              <a:gd name="adj3" fmla="val 49982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6" name="رابط منحني 61"/>
          <p:cNvCxnSpPr/>
          <p:nvPr/>
        </p:nvCxnSpPr>
        <p:spPr>
          <a:xfrm>
            <a:off x="1356840" y="3429000"/>
            <a:ext cx="3072600" cy="1572480"/>
          </a:xfrm>
          <a:prstGeom prst="curvedConnector5">
            <a:avLst>
              <a:gd name="adj1" fmla="val 32985"/>
              <a:gd name="adj2" fmla="val 49988"/>
              <a:gd name="adj3" fmla="val 32985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7" name="رابط منحني 70"/>
          <p:cNvCxnSpPr/>
          <p:nvPr/>
        </p:nvCxnSpPr>
        <p:spPr>
          <a:xfrm flipV="1">
            <a:off x="2214720" y="1760040"/>
            <a:ext cx="403920" cy="1059840"/>
          </a:xfrm>
          <a:prstGeom prst="curvedConnector5">
            <a:avLst>
              <a:gd name="adj1" fmla="val 49955"/>
              <a:gd name="adj2" fmla="val 49983"/>
              <a:gd name="adj3" fmla="val 49955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8" name="شكل 72"/>
          <p:cNvCxnSpPr/>
          <p:nvPr/>
        </p:nvCxnSpPr>
        <p:spPr>
          <a:xfrm flipH="1" rot="16200000">
            <a:off x="3708000" y="-720360"/>
            <a:ext cx="72360" cy="4512600"/>
          </a:xfrm>
          <a:prstGeom prst="curvedConnector5">
            <a:avLst>
              <a:gd name="adj1" fmla="val -320000"/>
              <a:gd name="adj2" fmla="val 29017"/>
              <a:gd name="adj3" fmla="val -320000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rcRect l="32945" t="16604" r="14897" b="12111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1847" t="16604" r="14349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571560"/>
            <a:ext cx="4500720" cy="23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the five-kingdom system of classification, the eukaryotes were distributed among four kingdoms: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rotis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lant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Fungi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imali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مربع نص 18"/>
          <p:cNvSpPr/>
          <p:nvPr/>
        </p:nvSpPr>
        <p:spPr>
          <a:xfrm>
            <a:off x="642960" y="71280"/>
            <a:ext cx="7358040" cy="899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pic>
          <p:nvPicPr>
            <p:cNvPr id="93" name="Picture 5" descr="kingdoms"/>
            <p:cNvPicPr/>
            <p:nvPr/>
          </p:nvPicPr>
          <p:blipFill>
            <a:blip r:embed="rId1"/>
            <a:srcRect l="0" t="0" r="0" b="2252"/>
            <a:stretch/>
          </p:blipFill>
          <p:spPr>
            <a:xfrm>
              <a:off x="4181400" y="3747960"/>
              <a:ext cx="48196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5968080" y="3171960"/>
              <a:ext cx="16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ukaryo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 flipH="1">
              <a:off x="5213880" y="3601440"/>
              <a:ext cx="1500120" cy="44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 flipH="1">
              <a:off x="6572520" y="3601440"/>
              <a:ext cx="143280" cy="28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6742440" y="3601440"/>
              <a:ext cx="45720" cy="158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6714360" y="3601440"/>
              <a:ext cx="1080360" cy="56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4443120" y="62647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7929360" y="632520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5501160" y="33145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شكل بيضاوي 36"/>
          <p:cNvSpPr/>
          <p:nvPr/>
        </p:nvSpPr>
        <p:spPr>
          <a:xfrm>
            <a:off x="5857920" y="5143680"/>
            <a:ext cx="1285920" cy="2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104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105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106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" name="Group 16"/>
                <p:cNvGrpSpPr/>
                <p:nvPr/>
              </p:nvGrpSpPr>
              <p:grpSpPr>
                <a:xfrm>
                  <a:off x="3291840" y="1548000"/>
                  <a:ext cx="5413320" cy="360"/>
                  <a:chOff x="3291840" y="1548000"/>
                  <a:chExt cx="5413320" cy="360"/>
                </a:xfrm>
              </p:grpSpPr>
              <p:sp>
                <p:nvSpPr>
                  <p:cNvPr id="109" name="Line 18"/>
                  <p:cNvSpPr/>
                  <p:nvPr/>
                </p:nvSpPr>
                <p:spPr>
                  <a:xfrm>
                    <a:off x="5907240" y="154800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20"/>
                  <p:cNvSpPr/>
                  <p:nvPr/>
                </p:nvSpPr>
                <p:spPr>
                  <a:xfrm>
                    <a:off x="329184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21"/>
                  <p:cNvSpPr/>
                  <p:nvPr/>
                </p:nvSpPr>
                <p:spPr>
                  <a:xfrm>
                    <a:off x="505548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22"/>
                  <p:cNvSpPr/>
                  <p:nvPr/>
                </p:nvSpPr>
                <p:spPr>
                  <a:xfrm>
                    <a:off x="870516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" name="Line 23"/>
                  <p:cNvSpPr/>
                  <p:nvPr/>
                </p:nvSpPr>
                <p:spPr>
                  <a:xfrm>
                    <a:off x="700200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4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Line 19"/>
          <p:cNvSpPr/>
          <p:nvPr/>
        </p:nvSpPr>
        <p:spPr>
          <a:xfrm>
            <a:off x="3292560" y="2063880"/>
            <a:ext cx="5413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32925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05620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870588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70023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2560" y="3142800"/>
            <a:ext cx="4500360" cy="32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ists are eukaryotes and thus are much more complex than the prokary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first eukaryotes were unicel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ukaryotic and multi-cellular animals originated from prot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18"/>
          <p:cNvSpPr/>
          <p:nvPr/>
        </p:nvSpPr>
        <p:spPr>
          <a:xfrm>
            <a:off x="642960" y="200160"/>
            <a:ext cx="7358040" cy="717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pic>
          <p:nvPicPr>
            <p:cNvPr id="126" name="Picture 5" descr="kingdoms"/>
            <p:cNvPicPr/>
            <p:nvPr/>
          </p:nvPicPr>
          <p:blipFill>
            <a:blip r:embed="rId1"/>
            <a:srcRect l="0" t="0" r="0" b="2252"/>
            <a:stretch/>
          </p:blipFill>
          <p:spPr>
            <a:xfrm>
              <a:off x="4181400" y="3747960"/>
              <a:ext cx="48196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5968080" y="3171960"/>
              <a:ext cx="16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ukaryo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H="1">
              <a:off x="5213880" y="3601440"/>
              <a:ext cx="1500120" cy="44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>
              <a:off x="6572520" y="3601440"/>
              <a:ext cx="143280" cy="28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6742440" y="3601440"/>
              <a:ext cx="45720" cy="158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6714360" y="3601440"/>
              <a:ext cx="1080360" cy="56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14"/>
            <p:cNvSpPr/>
            <p:nvPr/>
          </p:nvSpPr>
          <p:spPr>
            <a:xfrm>
              <a:off x="4443120" y="62647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7929360" y="632520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5501160" y="33145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شكل بيضاوي 36"/>
          <p:cNvSpPr/>
          <p:nvPr/>
        </p:nvSpPr>
        <p:spPr>
          <a:xfrm>
            <a:off x="5857920" y="5143680"/>
            <a:ext cx="1285920" cy="2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137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138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139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1" name="Group 16"/>
                <p:cNvGrpSpPr/>
                <p:nvPr/>
              </p:nvGrpSpPr>
              <p:grpSpPr>
                <a:xfrm>
                  <a:off x="3291840" y="1548000"/>
                  <a:ext cx="5413320" cy="360"/>
                  <a:chOff x="3291840" y="1548000"/>
                  <a:chExt cx="5413320" cy="360"/>
                </a:xfrm>
              </p:grpSpPr>
              <p:sp>
                <p:nvSpPr>
                  <p:cNvPr id="142" name="Line 18"/>
                  <p:cNvSpPr/>
                  <p:nvPr/>
                </p:nvSpPr>
                <p:spPr>
                  <a:xfrm>
                    <a:off x="5907240" y="154800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Line 20"/>
                  <p:cNvSpPr/>
                  <p:nvPr/>
                </p:nvSpPr>
                <p:spPr>
                  <a:xfrm>
                    <a:off x="329184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4" name="Line 21"/>
                  <p:cNvSpPr/>
                  <p:nvPr/>
                </p:nvSpPr>
                <p:spPr>
                  <a:xfrm>
                    <a:off x="505548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5" name="Line 22"/>
                  <p:cNvSpPr/>
                  <p:nvPr/>
                </p:nvSpPr>
                <p:spPr>
                  <a:xfrm>
                    <a:off x="870516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6" name="Line 23"/>
                  <p:cNvSpPr/>
                  <p:nvPr/>
                </p:nvSpPr>
                <p:spPr>
                  <a:xfrm>
                    <a:off x="700200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47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Line 19"/>
          <p:cNvSpPr/>
          <p:nvPr/>
        </p:nvSpPr>
        <p:spPr>
          <a:xfrm>
            <a:off x="3292560" y="2063880"/>
            <a:ext cx="5413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32925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505620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870588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70023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8000" y="1085760"/>
            <a:ext cx="864216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ista (mostly unicellular eukaryotes) ranging from uni-celled microscopic members, simple multi-cellular forms, and complex giants like seaw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4071960" y="2249640"/>
            <a:ext cx="4947840" cy="4107960"/>
            <a:chOff x="4071960" y="2249640"/>
            <a:chExt cx="4947840" cy="4107960"/>
          </a:xfrm>
        </p:grpSpPr>
        <p:pic>
          <p:nvPicPr>
            <p:cNvPr id="158" name="Picture 7" descr=""/>
            <p:cNvPicPr/>
            <p:nvPr/>
          </p:nvPicPr>
          <p:blipFill>
            <a:blip r:embed="rId1"/>
            <a:stretch/>
          </p:blipFill>
          <p:spPr>
            <a:xfrm>
              <a:off x="4071960" y="2249640"/>
              <a:ext cx="2511720" cy="2057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5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60000" y="2273400"/>
              <a:ext cx="2359800" cy="2017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60" name="Picture 9" descr=""/>
            <p:cNvPicPr/>
            <p:nvPr/>
          </p:nvPicPr>
          <p:blipFill>
            <a:blip r:embed="rId3"/>
            <a:stretch/>
          </p:blipFill>
          <p:spPr>
            <a:xfrm>
              <a:off x="4087440" y="4333320"/>
              <a:ext cx="2483280" cy="20242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61" name="Picture 10" descr=""/>
            <p:cNvPicPr/>
            <p:nvPr/>
          </p:nvPicPr>
          <p:blipFill>
            <a:blip r:embed="rId4"/>
            <a:stretch/>
          </p:blipFill>
          <p:spPr>
            <a:xfrm>
              <a:off x="6660000" y="4333320"/>
              <a:ext cx="2359800" cy="200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62" name="Rectangle 17"/>
          <p:cNvSpPr/>
          <p:nvPr/>
        </p:nvSpPr>
        <p:spPr>
          <a:xfrm>
            <a:off x="108000" y="2355840"/>
            <a:ext cx="41050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ill,“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is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” is used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term for a great diversity of eukaryotic kingd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e 60,000 known protists are unicellular, but some are colonial and others multi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u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protists 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can survive harsh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ربع نص 10"/>
          <p:cNvSpPr/>
          <p:nvPr/>
        </p:nvSpPr>
        <p:spPr>
          <a:xfrm>
            <a:off x="642960" y="7128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6920" y="2285640"/>
            <a:ext cx="864252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protist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with mitochondria for cellular respi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rotist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photoaut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with chloropla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till other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at absorb organic molecules or ingest larger food parti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 few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mix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combining photosynthesis and heterotrophic nutr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Protists may include photosynthetic species, heterotrophic species, and mixotrophic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4"/>
          <p:cNvSpPr/>
          <p:nvPr/>
        </p:nvSpPr>
        <p:spPr>
          <a:xfrm>
            <a:off x="92880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Characters of Prot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5"/>
          <p:cNvSpPr/>
          <p:nvPr/>
        </p:nvSpPr>
        <p:spPr>
          <a:xfrm>
            <a:off x="1000080" y="1500120"/>
            <a:ext cx="3286080" cy="435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- Nutri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366560"/>
            <a:ext cx="8893080" cy="270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protists move with flagella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r cilia 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eukaryotic flagella are extensions of the cytoplasm with a support of the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9 + 2 microtubule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9280" y="4869000"/>
            <a:ext cx="94172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production and life cycles are highly varied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mong proti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protists are asexual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مربع نص 5"/>
          <p:cNvSpPr/>
          <p:nvPr/>
        </p:nvSpPr>
        <p:spPr>
          <a:xfrm>
            <a:off x="785880" y="428760"/>
            <a:ext cx="3286080" cy="435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B)- Movement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مربع نص 6"/>
          <p:cNvSpPr/>
          <p:nvPr/>
        </p:nvSpPr>
        <p:spPr>
          <a:xfrm>
            <a:off x="714240" y="4143240"/>
            <a:ext cx="3286440" cy="456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C)- Reprodu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549440"/>
            <a:ext cx="8431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any protists are symbionts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at inhabit the body fluids, tissues, or cells of hosts.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arasitic protists are important pathogens of animals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مربع نص 4"/>
          <p:cNvSpPr/>
          <p:nvPr/>
        </p:nvSpPr>
        <p:spPr>
          <a:xfrm>
            <a:off x="785880" y="612720"/>
            <a:ext cx="3286080" cy="456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F)- Import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643200" y="1571760"/>
            <a:ext cx="5500800" cy="5072040"/>
          </a:xfrm>
          <a:prstGeom prst="rect">
            <a:avLst/>
          </a:prstGeom>
          <a:ln w="0">
            <a:noFill/>
          </a:ln>
        </p:spPr>
      </p:pic>
      <p:sp>
        <p:nvSpPr>
          <p:cNvPr id="174" name="مربع نص 4"/>
          <p:cNvSpPr/>
          <p:nvPr/>
        </p:nvSpPr>
        <p:spPr>
          <a:xfrm>
            <a:off x="78588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Protists (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-</a:t>
            </a:r>
            <a:r>
              <a:rPr b="1" i="1" lang="en-GB" sz="3600" spc="-1" strike="noStrike">
                <a:solidFill>
                  <a:srgbClr val="0000ff"/>
                </a:solidFill>
                <a:latin typeface="Andalus"/>
                <a:ea typeface="Andalus"/>
              </a:rPr>
              <a:t>Euglen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مستطيل 5"/>
          <p:cNvGrpSpPr/>
          <p:nvPr/>
        </p:nvGrpSpPr>
        <p:grpSpPr>
          <a:xfrm>
            <a:off x="549360" y="1689120"/>
            <a:ext cx="4041720" cy="2401920"/>
            <a:chOff x="549360" y="1689120"/>
            <a:chExt cx="4041720" cy="2401920"/>
          </a:xfrm>
        </p:grpSpPr>
        <p:pic>
          <p:nvPicPr>
            <p:cNvPr id="17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549360" y="1689120"/>
              <a:ext cx="40417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71680" y="1714680"/>
              <a:ext cx="400032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 :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rotista     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arco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hyto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 : 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ugle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92000" y="4406760"/>
            <a:ext cx="23353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8:41:58Z</dcterms:created>
  <dc:creator>DELL</dc:creator>
  <dc:description/>
  <dc:language>en-US</dc:language>
  <cp:lastModifiedBy>DELL</cp:lastModifiedBy>
  <dcterms:modified xsi:type="dcterms:W3CDTF">2013-09-24T08:49:23Z</dcterms:modified>
  <cp:revision>4</cp:revision>
  <dc:subject/>
  <dc:title>الشريحة 1</dc:title>
</cp:coreProperties>
</file>