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5F02-832C-486B-A0ED-72193AB5CC2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8AE2-F174-4412-AAD4-F0F17F7E50C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EEE2-5D86-491F-89BA-DD261F938D9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C17F-A261-4B60-8E90-4A87074B917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9CCC-357A-4385-9F42-4304E76FA17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511C-DA38-4B6A-8E10-1E1F24C5071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B7EE-9DAD-4831-B429-EBD77723405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55C0-0E8E-4A40-8A23-A89B09DABF8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283A-2F78-4CB6-8764-2CD764CEC23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34E9-46F8-4A29-A38D-E3AD223D427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AE4A-A86D-4AF9-8230-AADC07F9FCF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30E5-FD8F-4692-B0EE-4F4A4DE6A94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B7F8-3788-44C7-834F-BBD01341240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D544-15F9-4D7B-907E-57725C0C1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FD79-8EF6-4E45-914E-8FBDCC54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45D0-8A5D-40D8-9C70-765A4A3D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CC1C-D236-49E2-B1B5-6B15D5D28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A893-9A3B-4A8D-9F0E-80EA9F6E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D428-9F01-4C6F-AF34-C9D84D53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FEFC-EF6E-48DC-87AD-06CC8390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D1EB-9017-4757-90AE-69E43903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FBBC-E91E-4233-9D9C-1EE47C5E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431C-40A9-453E-BED3-7032DC73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D826-1AC3-4A44-B7D5-B3A114AB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2878-B5AA-44A9-AABA-A8E90E77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D24C-AE3F-4516-8960-4A3864AC5AF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radley Hand ITC"/>
                <a:ea typeface="Andalus"/>
              </a:rPr>
              <a:t>Animal Taxonom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صورة 4" descr="slide-1-728.jpg"/>
          <p:cNvPicPr/>
          <p:nvPr/>
        </p:nvPicPr>
        <p:blipFill>
          <a:blip r:embed="rId1"/>
          <a:srcRect l="0" t="28022" r="0" b="0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1714680" y="571680"/>
            <a:ext cx="5591160" cy="5057640"/>
          </a:xfrm>
          <a:prstGeom prst="rect">
            <a:avLst/>
          </a:prstGeom>
          <a:ln w="0">
            <a:noFill/>
          </a:ln>
        </p:spPr>
      </p:pic>
      <p:sp>
        <p:nvSpPr>
          <p:cNvPr id="180" name="مربع نص 4"/>
          <p:cNvSpPr/>
          <p:nvPr/>
        </p:nvSpPr>
        <p:spPr>
          <a:xfrm>
            <a:off x="714240" y="1143000"/>
            <a:ext cx="2500560" cy="1022040"/>
          </a:xfrm>
          <a:prstGeom prst="wedgeRoundRectCallout">
            <a:avLst>
              <a:gd name="adj1" fmla="val 42888"/>
              <a:gd name="adj2" fmla="val 48939"/>
              <a:gd name="adj3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ndalus"/>
                <a:ea typeface="Andalus"/>
              </a:rPr>
              <a:t>Eyespot</a:t>
            </a:r>
            <a:r>
              <a:rPr b="0" lang="en-GB" sz="1400" spc="-1" strike="noStrike">
                <a:solidFill>
                  <a:srgbClr val="000000"/>
                </a:solidFill>
                <a:latin typeface="Andalus"/>
                <a:ea typeface="Andalus"/>
              </a:rPr>
              <a:t> which is sensitive to light and helps the euglena find light</a:t>
            </a:r>
            <a:r>
              <a:rPr b="0" lang="en-GB" sz="1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مربع نص 5"/>
          <p:cNvSpPr/>
          <p:nvPr/>
        </p:nvSpPr>
        <p:spPr>
          <a:xfrm>
            <a:off x="6643800" y="285840"/>
            <a:ext cx="2500200" cy="1251720"/>
          </a:xfrm>
          <a:prstGeom prst="wedgeRoundRectCallout">
            <a:avLst>
              <a:gd name="adj1" fmla="val -35476"/>
              <a:gd name="adj2" fmla="val 60578"/>
              <a:gd name="adj3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Light detector 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near the base of long flagellum function to detect light that  is not blocked by eyespot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مربع نص 7"/>
          <p:cNvSpPr/>
          <p:nvPr/>
        </p:nvSpPr>
        <p:spPr>
          <a:xfrm>
            <a:off x="71280" y="4857840"/>
            <a:ext cx="2500560" cy="791640"/>
          </a:xfrm>
          <a:prstGeom prst="wedgeRoundRectCallout">
            <a:avLst>
              <a:gd name="adj1" fmla="val 24087"/>
              <a:gd name="adj2" fmla="val -57226"/>
              <a:gd name="adj3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protein bands 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beneath the plasma that provide strength and flexibili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مربع نص 9"/>
          <p:cNvSpPr/>
          <p:nvPr/>
        </p:nvSpPr>
        <p:spPr>
          <a:xfrm>
            <a:off x="6643800" y="3500280"/>
            <a:ext cx="2500200" cy="791640"/>
          </a:xfrm>
          <a:prstGeom prst="wedgeRoundRectCallout">
            <a:avLst>
              <a:gd name="adj1" fmla="val -29199"/>
              <a:gd name="adj2" fmla="val -60907"/>
              <a:gd name="adj3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Contractile Vacuole 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holds excess water and removes it from the cell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4786200" y="1071720"/>
            <a:ext cx="4000680" cy="4286160"/>
          </a:xfrm>
          <a:prstGeom prst="rect">
            <a:avLst/>
          </a:prstGeom>
          <a:ln cap="sq" w="38160">
            <a:solidFill>
              <a:srgbClr val="0000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85" name="مستطيل 4"/>
          <p:cNvSpPr/>
          <p:nvPr/>
        </p:nvSpPr>
        <p:spPr>
          <a:xfrm>
            <a:off x="271440" y="214200"/>
            <a:ext cx="19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Movement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مستطيل 5"/>
          <p:cNvSpPr/>
          <p:nvPr/>
        </p:nvSpPr>
        <p:spPr>
          <a:xfrm>
            <a:off x="214200" y="785880"/>
            <a:ext cx="46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Euglena use 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flagella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flagellates)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for mo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214200" y="1598760"/>
            <a:ext cx="41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euglena can glide and swim using their flagel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2" descr="Euglena"/>
          <p:cNvPicPr/>
          <p:nvPr/>
        </p:nvPicPr>
        <p:blipFill>
          <a:blip r:embed="rId2"/>
          <a:srcRect l="29506" t="19886" r="47347" b="66803"/>
          <a:stretch/>
        </p:blipFill>
        <p:spPr>
          <a:xfrm>
            <a:off x="0" y="2643120"/>
            <a:ext cx="2286000" cy="3500640"/>
          </a:xfrm>
          <a:prstGeom prst="rect">
            <a:avLst/>
          </a:prstGeom>
          <a:ln w="0">
            <a:noFill/>
          </a:ln>
        </p:spPr>
      </p:pic>
      <p:pic>
        <p:nvPicPr>
          <p:cNvPr id="189" name="PPTShape_0" descr="Euglena"/>
          <p:cNvPicPr/>
          <p:nvPr/>
        </p:nvPicPr>
        <p:blipFill>
          <a:blip r:embed="rId3"/>
          <a:srcRect l="54387" t="19886" r="23276" b="56740"/>
          <a:stretch/>
        </p:blipFill>
        <p:spPr>
          <a:xfrm>
            <a:off x="2428920" y="2857680"/>
            <a:ext cx="193824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http://www.biocyclopedia.com/index/general_zoology/images/images08/FIG001.jpg"/>
          <p:cNvPicPr/>
          <p:nvPr/>
        </p:nvPicPr>
        <p:blipFill>
          <a:blip r:embed="rId1"/>
          <a:srcRect l="32086" t="0" r="0" b="53345"/>
          <a:stretch/>
        </p:blipFill>
        <p:spPr>
          <a:xfrm>
            <a:off x="1071720" y="3786120"/>
            <a:ext cx="6929280" cy="3071880"/>
          </a:xfrm>
          <a:prstGeom prst="rect">
            <a:avLst/>
          </a:prstGeom>
          <a:ln w="0">
            <a:noFill/>
          </a:ln>
        </p:spPr>
      </p:pic>
      <p:sp>
        <p:nvSpPr>
          <p:cNvPr id="191" name="مستطيل 3"/>
          <p:cNvSpPr/>
          <p:nvPr/>
        </p:nvSpPr>
        <p:spPr>
          <a:xfrm>
            <a:off x="214200" y="785880"/>
            <a:ext cx="8572680" cy="23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A singl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celled mixotrophic protist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Can use chloroplasts to undergo 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photosynthesi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if light is availab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or live as a 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heterotroph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by absorbing organic nutrients from the environ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ometimes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form resistant cells (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cyst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) that can survive harsh condition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مستطيل 4"/>
          <p:cNvSpPr/>
          <p:nvPr/>
        </p:nvSpPr>
        <p:spPr>
          <a:xfrm>
            <a:off x="434880" y="2142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Nutriti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مستطيل 6"/>
          <p:cNvSpPr/>
          <p:nvPr/>
        </p:nvSpPr>
        <p:spPr>
          <a:xfrm>
            <a:off x="-58320" y="3357720"/>
            <a:ext cx="2484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Reproducti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428760" y="38577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Euglena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Reproduce </a:t>
            </a:r>
            <a:r>
              <a:rPr b="0" lang="en-US" sz="2000" spc="-1" strike="noStrike">
                <a:solidFill>
                  <a:srgbClr val="c0504d"/>
                </a:solidFill>
                <a:latin typeface="Andalus"/>
                <a:ea typeface="Andalus"/>
              </a:rPr>
              <a:t>asexually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by </a:t>
            </a:r>
            <a:r>
              <a:rPr b="0" lang="en-US" sz="2000" spc="-1" strike="noStrike">
                <a:solidFill>
                  <a:srgbClr val="c0504d"/>
                </a:solidFill>
                <a:latin typeface="Andalus"/>
                <a:ea typeface="Andalus"/>
              </a:rPr>
              <a:t>binary fi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alus"/>
                <a:ea typeface="Andalus"/>
              </a:rPr>
              <a:t>The Summa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5500800" y="1428840"/>
            <a:ext cx="3713040" cy="43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1701"/>
              </a:spcBef>
              <a:buClr>
                <a:srgbClr val="000000"/>
              </a:buClr>
              <a:buSzPct val="140000"/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rial"/>
              </a:rPr>
              <a:t>Most protists are </a:t>
            </a:r>
            <a:r>
              <a:rPr b="0" lang="en-US" sz="1400" spc="-1" strike="noStrike">
                <a:solidFill>
                  <a:srgbClr val="ff0000"/>
                </a:solidFill>
                <a:latin typeface="Andalus"/>
                <a:ea typeface="Arial"/>
              </a:rPr>
              <a:t>aerobic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rial"/>
              </a:rPr>
              <a:t>, with mitochondria for cellular respiratio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701"/>
              </a:spcBef>
              <a:buClr>
                <a:srgbClr val="000000"/>
              </a:buClr>
              <a:buSzPct val="140000"/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rial"/>
              </a:rPr>
              <a:t>Some protists are </a:t>
            </a:r>
            <a:r>
              <a:rPr b="0" lang="en-US" sz="1400" spc="-1" strike="noStrike">
                <a:solidFill>
                  <a:srgbClr val="ff0000"/>
                </a:solidFill>
                <a:latin typeface="Andalus"/>
                <a:ea typeface="Arial"/>
              </a:rPr>
              <a:t>photoautotrophs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rial"/>
              </a:rPr>
              <a:t> with chloroplas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701"/>
              </a:spcBef>
              <a:buClr>
                <a:srgbClr val="000000"/>
              </a:buClr>
              <a:buSzPct val="140000"/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rial"/>
              </a:rPr>
              <a:t>Still others are </a:t>
            </a:r>
            <a:r>
              <a:rPr b="0" lang="en-US" sz="1400" spc="-1" strike="noStrike">
                <a:solidFill>
                  <a:srgbClr val="ff0000"/>
                </a:solidFill>
                <a:latin typeface="Andalus"/>
                <a:ea typeface="Arial"/>
              </a:rPr>
              <a:t>heterotrophs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rial"/>
              </a:rPr>
              <a:t> that absorb organic molecules or ingest larger food particl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701"/>
              </a:spcBef>
              <a:buClr>
                <a:srgbClr val="000000"/>
              </a:buClr>
              <a:buSzPct val="140000"/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rial"/>
              </a:rPr>
              <a:t>A few are </a:t>
            </a:r>
            <a:r>
              <a:rPr b="0" lang="en-US" sz="1400" spc="-1" strike="noStrike">
                <a:solidFill>
                  <a:srgbClr val="ff0000"/>
                </a:solidFill>
                <a:latin typeface="Andalus"/>
                <a:ea typeface="Arial"/>
              </a:rPr>
              <a:t>mixotrophs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rial"/>
              </a:rPr>
              <a:t>, combining photosynthesis and heterotrophic nutritio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701"/>
              </a:spcBef>
              <a:buClr>
                <a:srgbClr val="000000"/>
              </a:buClr>
              <a:buSzPct val="140000"/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rial"/>
              </a:rPr>
              <a:t>Protists may include photosynthetic species, heterotrophic species, and mixotrophic speci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مربع نص 4"/>
          <p:cNvSpPr/>
          <p:nvPr/>
        </p:nvSpPr>
        <p:spPr>
          <a:xfrm>
            <a:off x="6145200" y="1214280"/>
            <a:ext cx="1411200" cy="239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 rtl="1">
              <a:lnSpc>
                <a:spcPct val="8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utritio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PTShape_0"/>
          <p:cNvSpPr/>
          <p:nvPr/>
        </p:nvSpPr>
        <p:spPr>
          <a:xfrm>
            <a:off x="2428920" y="1890720"/>
            <a:ext cx="3571920" cy="33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Most protists move with flagella</a:t>
            </a:r>
            <a:r>
              <a:rPr b="0" lang="ar-SA" sz="1400" spc="-1" strike="noStrike">
                <a:solidFill>
                  <a:srgbClr val="000000"/>
                </a:solidFill>
                <a:latin typeface="Andalu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 or cilia during some time in their life cycl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The eukaryotic flagella are not homologous to those of prokaryot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The eukaryotic flagella are extensions of the cytoplasm with a support of the  </a:t>
            </a:r>
            <a:r>
              <a:rPr b="0" lang="en-US" sz="1400" spc="-1" strike="noStrike">
                <a:solidFill>
                  <a:srgbClr val="ff0000"/>
                </a:solidFill>
                <a:latin typeface="Andalus"/>
              </a:rPr>
              <a:t>9 + 2 microtubule system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Cilia are shorter and more numerous than flagell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Cilia and flagella move the cell with rhythmic power strokes, analogous to the oars of a boa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4286160" y="5313240"/>
            <a:ext cx="457524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Reproduction and life cycles are highly varied</a:t>
            </a:r>
            <a:r>
              <a:rPr b="0" lang="ar-SA" sz="1400" spc="-1" strike="noStrike">
                <a:solidFill>
                  <a:srgbClr val="000000"/>
                </a:solidFill>
                <a:latin typeface="Andalu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 among protis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Mitosis occurs in almost all protist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Some protists are asexual</a:t>
            </a:r>
            <a:r>
              <a:rPr b="0" lang="ar-SA" sz="1400" spc="-1" strike="noStrike">
                <a:solidFill>
                  <a:srgbClr val="000000"/>
                </a:solidFill>
                <a:latin typeface="Andalu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Others are primarily asexual but can also reproduce sexually occasionally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مربع نص 7"/>
          <p:cNvSpPr/>
          <p:nvPr/>
        </p:nvSpPr>
        <p:spPr>
          <a:xfrm>
            <a:off x="2617920" y="1643040"/>
            <a:ext cx="1596960" cy="227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ndalus"/>
              </a:rPr>
              <a:t>Movement</a:t>
            </a:r>
            <a:r>
              <a:rPr b="1" lang="en-US" sz="1100" spc="-1" strike="noStrike">
                <a:solidFill>
                  <a:srgbClr val="000000"/>
                </a:solidFill>
                <a:latin typeface="Andalus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مربع نص 8"/>
          <p:cNvSpPr/>
          <p:nvPr/>
        </p:nvSpPr>
        <p:spPr>
          <a:xfrm>
            <a:off x="4475160" y="5000760"/>
            <a:ext cx="1596960" cy="2361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ndalus"/>
              </a:rPr>
              <a:t>Reproduction</a:t>
            </a:r>
            <a:r>
              <a:rPr b="1" lang="en-US" sz="1100" spc="-1" strike="noStrike">
                <a:solidFill>
                  <a:srgbClr val="000000"/>
                </a:solidFill>
                <a:latin typeface="Andalus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PTShape_1"/>
          <p:cNvSpPr/>
          <p:nvPr/>
        </p:nvSpPr>
        <p:spPr>
          <a:xfrm>
            <a:off x="285840" y="4957920"/>
            <a:ext cx="3890880" cy="24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Many protists are symbionts</a:t>
            </a:r>
            <a:r>
              <a:rPr b="0" lang="ar-SA" sz="1400" spc="-1" strike="noStrike">
                <a:solidFill>
                  <a:srgbClr val="000000"/>
                </a:solidFill>
                <a:latin typeface="Andalu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 that inhabit the body fluids, tissues, or cells of hosts.</a:t>
            </a:r>
            <a:r>
              <a:rPr b="0" lang="ar-SA" sz="1400" spc="-1" strike="noStrike">
                <a:solidFill>
                  <a:srgbClr val="000000"/>
                </a:solidFill>
                <a:latin typeface="Andalu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These symbiotic relationships span the continuum from mutualism to parasitism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</a:rPr>
              <a:t>Some parasitic protists are important pathogens of animals, including those that cause potentially fatal diseases in human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مربع نص 10"/>
          <p:cNvSpPr/>
          <p:nvPr/>
        </p:nvSpPr>
        <p:spPr>
          <a:xfrm>
            <a:off x="357120" y="4714920"/>
            <a:ext cx="1515960" cy="2361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ndalus"/>
              </a:rPr>
              <a:t>Importance</a:t>
            </a:r>
            <a:r>
              <a:rPr b="1" lang="en-US" sz="1100" spc="-1" strike="noStrike">
                <a:solidFill>
                  <a:srgbClr val="000000"/>
                </a:solidFill>
                <a:latin typeface="Andalus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انفجار 1 12"/>
          <p:cNvSpPr/>
          <p:nvPr/>
        </p:nvSpPr>
        <p:spPr>
          <a:xfrm>
            <a:off x="0" y="1500120"/>
            <a:ext cx="2214720" cy="2143080"/>
          </a:xfrm>
          <a:prstGeom prst="irregularSeal1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Kingdom Protist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80000"/>
              </a:lnSpc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ndalus"/>
                <a:ea typeface="Andalus"/>
              </a:rPr>
              <a:t>(</a:t>
            </a:r>
            <a:r>
              <a:rPr b="0" lang="en-US" sz="1400" spc="-1" strike="noStrike">
                <a:solidFill>
                  <a:srgbClr val="ff0000"/>
                </a:solidFill>
                <a:latin typeface="Andalus"/>
                <a:ea typeface="Andalus"/>
              </a:rPr>
              <a:t>Eukaryotic uni-/multi-cellular</a:t>
            </a:r>
            <a:r>
              <a:rPr b="0" lang="en-US" sz="1400" spc="-1" strike="noStrike">
                <a:solidFill>
                  <a:srgbClr val="0000ff"/>
                </a:solidFill>
                <a:latin typeface="Andalus"/>
                <a:ea typeface="Andalu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5" name="رابط منحني 59"/>
          <p:cNvCxnSpPr/>
          <p:nvPr/>
        </p:nvCxnSpPr>
        <p:spPr>
          <a:xfrm flipH="1" rot="16200000">
            <a:off x="542160" y="3970800"/>
            <a:ext cx="1000800" cy="344880"/>
          </a:xfrm>
          <a:prstGeom prst="curvedConnector5">
            <a:avLst>
              <a:gd name="adj1" fmla="val 49982"/>
              <a:gd name="adj2" fmla="val 49947"/>
              <a:gd name="adj3" fmla="val 49982"/>
            </a:avLst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06" name="رابط منحني 61"/>
          <p:cNvCxnSpPr/>
          <p:nvPr/>
        </p:nvCxnSpPr>
        <p:spPr>
          <a:xfrm>
            <a:off x="1356840" y="3429000"/>
            <a:ext cx="3072600" cy="1572480"/>
          </a:xfrm>
          <a:prstGeom prst="curvedConnector5">
            <a:avLst>
              <a:gd name="adj1" fmla="val 32985"/>
              <a:gd name="adj2" fmla="val 49988"/>
              <a:gd name="adj3" fmla="val 32985"/>
            </a:avLst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07" name="رابط منحني 70"/>
          <p:cNvCxnSpPr/>
          <p:nvPr/>
        </p:nvCxnSpPr>
        <p:spPr>
          <a:xfrm flipV="1">
            <a:off x="2214720" y="1760040"/>
            <a:ext cx="403920" cy="1059840"/>
          </a:xfrm>
          <a:prstGeom prst="curvedConnector5">
            <a:avLst>
              <a:gd name="adj1" fmla="val 49955"/>
              <a:gd name="adj2" fmla="val 49983"/>
              <a:gd name="adj3" fmla="val 49955"/>
            </a:avLst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08" name="شكل 72"/>
          <p:cNvCxnSpPr/>
          <p:nvPr/>
        </p:nvCxnSpPr>
        <p:spPr>
          <a:xfrm flipH="1" rot="16200000">
            <a:off x="3708000" y="-720360"/>
            <a:ext cx="72360" cy="4512600"/>
          </a:xfrm>
          <a:prstGeom prst="curvedConnector5">
            <a:avLst>
              <a:gd name="adj1" fmla="val -320000"/>
              <a:gd name="adj2" fmla="val 29017"/>
              <a:gd name="adj3" fmla="val -320000"/>
            </a:avLst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"/>
          <p:cNvPicPr/>
          <p:nvPr/>
        </p:nvPicPr>
        <p:blipFill>
          <a:blip r:embed="rId2"/>
          <a:srcRect l="32945" t="16604" r="14897" b="12111"/>
          <a:stretch/>
        </p:blipFill>
        <p:spPr>
          <a:xfrm>
            <a:off x="0" y="0"/>
            <a:ext cx="9144000" cy="70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rcRect l="31847" t="16604" r="14349" b="130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3571560"/>
            <a:ext cx="4500720" cy="23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n the five-kingdom system of classification, the eukaryotes were distributed among four kingdoms: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Protista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Planta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Fungi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and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Animalia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مربع نص 18"/>
          <p:cNvSpPr/>
          <p:nvPr/>
        </p:nvSpPr>
        <p:spPr>
          <a:xfrm>
            <a:off x="642960" y="71280"/>
            <a:ext cx="7358040" cy="899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Kingdom Protis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ndalus"/>
                <a:ea typeface="Andalus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Andalus"/>
                <a:ea typeface="Andalus"/>
              </a:rPr>
              <a:t>Eukaryotic uni-/multi-cellular</a:t>
            </a:r>
            <a:r>
              <a:rPr b="1" lang="en-US" sz="3200" spc="-1" strike="noStrike">
                <a:solidFill>
                  <a:srgbClr val="0000ff"/>
                </a:solidFill>
                <a:latin typeface="Andalus"/>
                <a:ea typeface="Andalu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17"/>
          <p:cNvGrpSpPr/>
          <p:nvPr/>
        </p:nvGrpSpPr>
        <p:grpSpPr>
          <a:xfrm>
            <a:off x="4181400" y="3171960"/>
            <a:ext cx="4819680" cy="3685680"/>
            <a:chOff x="4181400" y="3171960"/>
            <a:chExt cx="4819680" cy="3685680"/>
          </a:xfrm>
        </p:grpSpPr>
        <p:pic>
          <p:nvPicPr>
            <p:cNvPr id="93" name="Picture 5" descr="kingdoms"/>
            <p:cNvPicPr/>
            <p:nvPr/>
          </p:nvPicPr>
          <p:blipFill>
            <a:blip r:embed="rId1"/>
            <a:srcRect l="0" t="0" r="0" b="2252"/>
            <a:stretch/>
          </p:blipFill>
          <p:spPr>
            <a:xfrm>
              <a:off x="4181400" y="3747960"/>
              <a:ext cx="4819680" cy="31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8"/>
            <p:cNvSpPr/>
            <p:nvPr/>
          </p:nvSpPr>
          <p:spPr>
            <a:xfrm>
              <a:off x="5968080" y="3171960"/>
              <a:ext cx="167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Eukaryot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 flipH="1">
              <a:off x="5213880" y="3601440"/>
              <a:ext cx="1500120" cy="446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 flipH="1">
              <a:off x="6572520" y="3601440"/>
              <a:ext cx="143280" cy="285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6742440" y="3601440"/>
              <a:ext cx="45720" cy="1585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Line 13"/>
            <p:cNvSpPr/>
            <p:nvPr/>
          </p:nvSpPr>
          <p:spPr>
            <a:xfrm>
              <a:off x="6714360" y="3601440"/>
              <a:ext cx="1080360" cy="566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Oval 14"/>
            <p:cNvSpPr/>
            <p:nvPr/>
          </p:nvSpPr>
          <p:spPr>
            <a:xfrm>
              <a:off x="4443120" y="6264720"/>
              <a:ext cx="534600" cy="29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Oval 15"/>
            <p:cNvSpPr/>
            <p:nvPr/>
          </p:nvSpPr>
          <p:spPr>
            <a:xfrm>
              <a:off x="7929360" y="6325200"/>
              <a:ext cx="534600" cy="29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Oval 16"/>
            <p:cNvSpPr/>
            <p:nvPr/>
          </p:nvSpPr>
          <p:spPr>
            <a:xfrm>
              <a:off x="5501160" y="3314520"/>
              <a:ext cx="534600" cy="29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" name="شكل بيضاوي 36"/>
          <p:cNvSpPr/>
          <p:nvPr/>
        </p:nvSpPr>
        <p:spPr>
          <a:xfrm>
            <a:off x="5857920" y="5143680"/>
            <a:ext cx="1285920" cy="214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مجموعة 41"/>
          <p:cNvGrpSpPr/>
          <p:nvPr/>
        </p:nvGrpSpPr>
        <p:grpSpPr>
          <a:xfrm>
            <a:off x="-34920" y="1000080"/>
            <a:ext cx="9178920" cy="1714680"/>
            <a:chOff x="-34920" y="1000080"/>
            <a:chExt cx="9178920" cy="1714680"/>
          </a:xfrm>
        </p:grpSpPr>
        <p:grpSp>
          <p:nvGrpSpPr>
            <p:cNvPr id="104" name="مجموعة 33"/>
            <p:cNvGrpSpPr/>
            <p:nvPr/>
          </p:nvGrpSpPr>
          <p:grpSpPr>
            <a:xfrm>
              <a:off x="-34920" y="1000080"/>
              <a:ext cx="9178920" cy="1714680"/>
              <a:chOff x="-34920" y="1000080"/>
              <a:chExt cx="9178920" cy="1714680"/>
            </a:xfrm>
          </p:grpSpPr>
          <p:grpSp>
            <p:nvGrpSpPr>
              <p:cNvPr id="105" name="مجموعة 13"/>
              <p:cNvGrpSpPr/>
              <p:nvPr/>
            </p:nvGrpSpPr>
            <p:grpSpPr>
              <a:xfrm>
                <a:off x="0" y="1000080"/>
                <a:ext cx="9144000" cy="1714680"/>
                <a:chOff x="0" y="1000080"/>
                <a:chExt cx="9144000" cy="1714680"/>
              </a:xfrm>
            </p:grpSpPr>
            <p:pic>
              <p:nvPicPr>
                <p:cNvPr id="106" name="صورة 4" descr="taxonomy_top_levels.gif"/>
                <p:cNvPicPr/>
                <p:nvPr/>
              </p:nvPicPr>
              <p:blipFill>
                <a:blip r:embed="rId2"/>
                <a:srcRect l="33604" t="45168" r="0" b="40328"/>
                <a:stretch/>
              </p:blipFill>
              <p:spPr>
                <a:xfrm>
                  <a:off x="3072240" y="2182680"/>
                  <a:ext cx="6071760" cy="532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" name="صورة 4" descr="taxonomy_top_levels.gif"/>
                <p:cNvPicPr/>
                <p:nvPr/>
              </p:nvPicPr>
              <p:blipFill>
                <a:blip r:embed="rId3"/>
                <a:srcRect l="0" t="64532" r="0" b="8062"/>
                <a:stretch/>
              </p:blipFill>
              <p:spPr>
                <a:xfrm>
                  <a:off x="0" y="1000080"/>
                  <a:ext cx="9144000" cy="10051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8" name="Group 16"/>
                <p:cNvGrpSpPr/>
                <p:nvPr/>
              </p:nvGrpSpPr>
              <p:grpSpPr>
                <a:xfrm>
                  <a:off x="3291840" y="1548000"/>
                  <a:ext cx="5413320" cy="360"/>
                  <a:chOff x="3291840" y="1548000"/>
                  <a:chExt cx="5413320" cy="360"/>
                </a:xfrm>
              </p:grpSpPr>
              <p:sp>
                <p:nvSpPr>
                  <p:cNvPr id="109" name="Line 18"/>
                  <p:cNvSpPr/>
                  <p:nvPr/>
                </p:nvSpPr>
                <p:spPr>
                  <a:xfrm>
                    <a:off x="5907240" y="1548000"/>
                    <a:ext cx="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0" name="Line 20"/>
                  <p:cNvSpPr/>
                  <p:nvPr/>
                </p:nvSpPr>
                <p:spPr>
                  <a:xfrm>
                    <a:off x="3291840" y="1548000"/>
                    <a:ext cx="0" cy="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1" name="Line 21"/>
                  <p:cNvSpPr/>
                  <p:nvPr/>
                </p:nvSpPr>
                <p:spPr>
                  <a:xfrm>
                    <a:off x="5055480" y="1548000"/>
                    <a:ext cx="0" cy="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2" name="Line 22"/>
                  <p:cNvSpPr/>
                  <p:nvPr/>
                </p:nvSpPr>
                <p:spPr>
                  <a:xfrm>
                    <a:off x="8705160" y="1548000"/>
                    <a:ext cx="0" cy="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3" name="Line 23"/>
                  <p:cNvSpPr/>
                  <p:nvPr/>
                </p:nvSpPr>
                <p:spPr>
                  <a:xfrm>
                    <a:off x="7002000" y="1548000"/>
                    <a:ext cx="0" cy="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114" name="Oval 16"/>
              <p:cNvSpPr/>
              <p:nvPr/>
            </p:nvSpPr>
            <p:spPr>
              <a:xfrm>
                <a:off x="5143680" y="1498680"/>
                <a:ext cx="534960" cy="247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Oval 15"/>
              <p:cNvSpPr/>
              <p:nvPr/>
            </p:nvSpPr>
            <p:spPr>
              <a:xfrm>
                <a:off x="1428480" y="1495440"/>
                <a:ext cx="534960" cy="250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Oval 14"/>
              <p:cNvSpPr/>
              <p:nvPr/>
            </p:nvSpPr>
            <p:spPr>
              <a:xfrm>
                <a:off x="-34920" y="1498680"/>
                <a:ext cx="534960" cy="247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7" name="مستطيل 40"/>
            <p:cNvSpPr/>
            <p:nvPr/>
          </p:nvSpPr>
          <p:spPr>
            <a:xfrm>
              <a:off x="142560" y="1919520"/>
              <a:ext cx="2928960" cy="22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Calibri"/>
                </a:rPr>
                <a:t>prokaryotic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" name="Line 19"/>
          <p:cNvSpPr/>
          <p:nvPr/>
        </p:nvSpPr>
        <p:spPr>
          <a:xfrm>
            <a:off x="3292560" y="2063880"/>
            <a:ext cx="5413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20"/>
          <p:cNvSpPr/>
          <p:nvPr/>
        </p:nvSpPr>
        <p:spPr>
          <a:xfrm>
            <a:off x="3292560" y="2063880"/>
            <a:ext cx="0" cy="11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21"/>
          <p:cNvSpPr/>
          <p:nvPr/>
        </p:nvSpPr>
        <p:spPr>
          <a:xfrm>
            <a:off x="5056200" y="2063880"/>
            <a:ext cx="0" cy="11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22"/>
          <p:cNvSpPr/>
          <p:nvPr/>
        </p:nvSpPr>
        <p:spPr>
          <a:xfrm>
            <a:off x="8705880" y="2063880"/>
            <a:ext cx="0" cy="11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23"/>
          <p:cNvSpPr/>
          <p:nvPr/>
        </p:nvSpPr>
        <p:spPr>
          <a:xfrm>
            <a:off x="7002360" y="2063880"/>
            <a:ext cx="0" cy="11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42560" y="3142800"/>
            <a:ext cx="4500360" cy="320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Protists are eukaryotes and thus are much more complex than the prokaryo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first eukaryotes were unicellul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eukaryotic and multi-cellular animals originated from proti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مربع نص 18"/>
          <p:cNvSpPr/>
          <p:nvPr/>
        </p:nvSpPr>
        <p:spPr>
          <a:xfrm>
            <a:off x="642960" y="200160"/>
            <a:ext cx="7358040" cy="7174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Kingdom Protis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8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ndalus"/>
                <a:ea typeface="Andalus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Eukaryotic uni-/multi-cellular</a:t>
            </a:r>
            <a:r>
              <a:rPr b="1" lang="en-US" sz="1800" spc="-1" strike="noStrike">
                <a:solidFill>
                  <a:srgbClr val="0000ff"/>
                </a:solidFill>
                <a:latin typeface="Andalus"/>
                <a:ea typeface="Andalu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Group 17"/>
          <p:cNvGrpSpPr/>
          <p:nvPr/>
        </p:nvGrpSpPr>
        <p:grpSpPr>
          <a:xfrm>
            <a:off x="4181400" y="3171960"/>
            <a:ext cx="4819680" cy="3685680"/>
            <a:chOff x="4181400" y="3171960"/>
            <a:chExt cx="4819680" cy="3685680"/>
          </a:xfrm>
        </p:grpSpPr>
        <p:pic>
          <p:nvPicPr>
            <p:cNvPr id="126" name="Picture 5" descr="kingdoms"/>
            <p:cNvPicPr/>
            <p:nvPr/>
          </p:nvPicPr>
          <p:blipFill>
            <a:blip r:embed="rId1"/>
            <a:srcRect l="0" t="0" r="0" b="2252"/>
            <a:stretch/>
          </p:blipFill>
          <p:spPr>
            <a:xfrm>
              <a:off x="4181400" y="3747960"/>
              <a:ext cx="4819680" cy="31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8"/>
            <p:cNvSpPr/>
            <p:nvPr/>
          </p:nvSpPr>
          <p:spPr>
            <a:xfrm>
              <a:off x="5968080" y="3171960"/>
              <a:ext cx="167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Eukaryot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 flipH="1">
              <a:off x="5213880" y="3601440"/>
              <a:ext cx="1500120" cy="446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11"/>
            <p:cNvSpPr/>
            <p:nvPr/>
          </p:nvSpPr>
          <p:spPr>
            <a:xfrm flipH="1">
              <a:off x="6572520" y="3601440"/>
              <a:ext cx="143280" cy="285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12"/>
            <p:cNvSpPr/>
            <p:nvPr/>
          </p:nvSpPr>
          <p:spPr>
            <a:xfrm>
              <a:off x="6742440" y="3601440"/>
              <a:ext cx="45720" cy="1585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13"/>
            <p:cNvSpPr/>
            <p:nvPr/>
          </p:nvSpPr>
          <p:spPr>
            <a:xfrm>
              <a:off x="6714360" y="3601440"/>
              <a:ext cx="1080360" cy="566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Oval 14"/>
            <p:cNvSpPr/>
            <p:nvPr/>
          </p:nvSpPr>
          <p:spPr>
            <a:xfrm>
              <a:off x="4443120" y="6264720"/>
              <a:ext cx="534600" cy="29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Oval 15"/>
            <p:cNvSpPr/>
            <p:nvPr/>
          </p:nvSpPr>
          <p:spPr>
            <a:xfrm>
              <a:off x="7929360" y="6325200"/>
              <a:ext cx="534600" cy="29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Oval 16"/>
            <p:cNvSpPr/>
            <p:nvPr/>
          </p:nvSpPr>
          <p:spPr>
            <a:xfrm>
              <a:off x="5501160" y="3314520"/>
              <a:ext cx="534600" cy="29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شكل بيضاوي 36"/>
          <p:cNvSpPr/>
          <p:nvPr/>
        </p:nvSpPr>
        <p:spPr>
          <a:xfrm>
            <a:off x="5857920" y="5143680"/>
            <a:ext cx="1285920" cy="214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" name="مجموعة 41"/>
          <p:cNvGrpSpPr/>
          <p:nvPr/>
        </p:nvGrpSpPr>
        <p:grpSpPr>
          <a:xfrm>
            <a:off x="-34920" y="1000080"/>
            <a:ext cx="9178920" cy="1714680"/>
            <a:chOff x="-34920" y="1000080"/>
            <a:chExt cx="9178920" cy="1714680"/>
          </a:xfrm>
        </p:grpSpPr>
        <p:grpSp>
          <p:nvGrpSpPr>
            <p:cNvPr id="137" name="مجموعة 33"/>
            <p:cNvGrpSpPr/>
            <p:nvPr/>
          </p:nvGrpSpPr>
          <p:grpSpPr>
            <a:xfrm>
              <a:off x="-34920" y="1000080"/>
              <a:ext cx="9178920" cy="1714680"/>
              <a:chOff x="-34920" y="1000080"/>
              <a:chExt cx="9178920" cy="1714680"/>
            </a:xfrm>
          </p:grpSpPr>
          <p:grpSp>
            <p:nvGrpSpPr>
              <p:cNvPr id="138" name="مجموعة 13"/>
              <p:cNvGrpSpPr/>
              <p:nvPr/>
            </p:nvGrpSpPr>
            <p:grpSpPr>
              <a:xfrm>
                <a:off x="0" y="1000080"/>
                <a:ext cx="9144000" cy="1714680"/>
                <a:chOff x="0" y="1000080"/>
                <a:chExt cx="9144000" cy="1714680"/>
              </a:xfrm>
            </p:grpSpPr>
            <p:pic>
              <p:nvPicPr>
                <p:cNvPr id="139" name="صورة 4" descr="taxonomy_top_levels.gif"/>
                <p:cNvPicPr/>
                <p:nvPr/>
              </p:nvPicPr>
              <p:blipFill>
                <a:blip r:embed="rId2"/>
                <a:srcRect l="33604" t="45168" r="0" b="40328"/>
                <a:stretch/>
              </p:blipFill>
              <p:spPr>
                <a:xfrm>
                  <a:off x="3072240" y="2182680"/>
                  <a:ext cx="6071760" cy="532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" name="صورة 4" descr="taxonomy_top_levels.gif"/>
                <p:cNvPicPr/>
                <p:nvPr/>
              </p:nvPicPr>
              <p:blipFill>
                <a:blip r:embed="rId3"/>
                <a:srcRect l="0" t="64532" r="0" b="8062"/>
                <a:stretch/>
              </p:blipFill>
              <p:spPr>
                <a:xfrm>
                  <a:off x="0" y="1000080"/>
                  <a:ext cx="9144000" cy="10051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41" name="Group 16"/>
                <p:cNvGrpSpPr/>
                <p:nvPr/>
              </p:nvGrpSpPr>
              <p:grpSpPr>
                <a:xfrm>
                  <a:off x="3291840" y="1548000"/>
                  <a:ext cx="5413320" cy="360"/>
                  <a:chOff x="3291840" y="1548000"/>
                  <a:chExt cx="5413320" cy="360"/>
                </a:xfrm>
              </p:grpSpPr>
              <p:sp>
                <p:nvSpPr>
                  <p:cNvPr id="142" name="Line 18"/>
                  <p:cNvSpPr/>
                  <p:nvPr/>
                </p:nvSpPr>
                <p:spPr>
                  <a:xfrm>
                    <a:off x="5907240" y="1548000"/>
                    <a:ext cx="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3" name="Line 20"/>
                  <p:cNvSpPr/>
                  <p:nvPr/>
                </p:nvSpPr>
                <p:spPr>
                  <a:xfrm>
                    <a:off x="3291840" y="1548000"/>
                    <a:ext cx="0" cy="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4" name="Line 21"/>
                  <p:cNvSpPr/>
                  <p:nvPr/>
                </p:nvSpPr>
                <p:spPr>
                  <a:xfrm>
                    <a:off x="5055480" y="1548000"/>
                    <a:ext cx="0" cy="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5" name="Line 22"/>
                  <p:cNvSpPr/>
                  <p:nvPr/>
                </p:nvSpPr>
                <p:spPr>
                  <a:xfrm>
                    <a:off x="8705160" y="1548000"/>
                    <a:ext cx="0" cy="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6" name="Line 23"/>
                  <p:cNvSpPr/>
                  <p:nvPr/>
                </p:nvSpPr>
                <p:spPr>
                  <a:xfrm>
                    <a:off x="7002000" y="1548000"/>
                    <a:ext cx="0" cy="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147" name="Oval 16"/>
              <p:cNvSpPr/>
              <p:nvPr/>
            </p:nvSpPr>
            <p:spPr>
              <a:xfrm>
                <a:off x="5143680" y="1498680"/>
                <a:ext cx="534960" cy="247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Oval 15"/>
              <p:cNvSpPr/>
              <p:nvPr/>
            </p:nvSpPr>
            <p:spPr>
              <a:xfrm>
                <a:off x="1428480" y="1495440"/>
                <a:ext cx="534960" cy="250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Oval 14"/>
              <p:cNvSpPr/>
              <p:nvPr/>
            </p:nvSpPr>
            <p:spPr>
              <a:xfrm>
                <a:off x="-34920" y="1498680"/>
                <a:ext cx="534960" cy="247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0" name="مستطيل 40"/>
            <p:cNvSpPr/>
            <p:nvPr/>
          </p:nvSpPr>
          <p:spPr>
            <a:xfrm>
              <a:off x="142560" y="1919520"/>
              <a:ext cx="2928960" cy="22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Calibri"/>
                </a:rPr>
                <a:t>prokaryotic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" name="Line 19"/>
          <p:cNvSpPr/>
          <p:nvPr/>
        </p:nvSpPr>
        <p:spPr>
          <a:xfrm>
            <a:off x="3292560" y="2063880"/>
            <a:ext cx="5413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Line 20"/>
          <p:cNvSpPr/>
          <p:nvPr/>
        </p:nvSpPr>
        <p:spPr>
          <a:xfrm>
            <a:off x="3292560" y="2063880"/>
            <a:ext cx="0" cy="11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Line 21"/>
          <p:cNvSpPr/>
          <p:nvPr/>
        </p:nvSpPr>
        <p:spPr>
          <a:xfrm>
            <a:off x="5056200" y="2063880"/>
            <a:ext cx="0" cy="11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Line 22"/>
          <p:cNvSpPr/>
          <p:nvPr/>
        </p:nvSpPr>
        <p:spPr>
          <a:xfrm>
            <a:off x="8705880" y="2063880"/>
            <a:ext cx="0" cy="11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Line 23"/>
          <p:cNvSpPr/>
          <p:nvPr/>
        </p:nvSpPr>
        <p:spPr>
          <a:xfrm>
            <a:off x="7002360" y="2063880"/>
            <a:ext cx="0" cy="11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08000" y="1085760"/>
            <a:ext cx="864216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Protista (mostly unicellular eukaryotes) ranging from uni-celled microscopic members, simple multi-cellular forms, and complex giants like seawee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Group 13"/>
          <p:cNvGrpSpPr/>
          <p:nvPr/>
        </p:nvGrpSpPr>
        <p:grpSpPr>
          <a:xfrm>
            <a:off x="4071960" y="2249640"/>
            <a:ext cx="4947840" cy="4107960"/>
            <a:chOff x="4071960" y="2249640"/>
            <a:chExt cx="4947840" cy="4107960"/>
          </a:xfrm>
        </p:grpSpPr>
        <p:pic>
          <p:nvPicPr>
            <p:cNvPr id="158" name="Picture 7" descr=""/>
            <p:cNvPicPr/>
            <p:nvPr/>
          </p:nvPicPr>
          <p:blipFill>
            <a:blip r:embed="rId1"/>
            <a:stretch/>
          </p:blipFill>
          <p:spPr>
            <a:xfrm>
              <a:off x="4071960" y="2249640"/>
              <a:ext cx="2511720" cy="20577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159" name="Picture 8" descr=""/>
            <p:cNvPicPr/>
            <p:nvPr/>
          </p:nvPicPr>
          <p:blipFill>
            <a:blip r:embed="rId2"/>
            <a:srcRect l="0" t="4362" r="6061" b="0"/>
            <a:stretch/>
          </p:blipFill>
          <p:spPr>
            <a:xfrm>
              <a:off x="6660000" y="2273400"/>
              <a:ext cx="2359800" cy="20178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160" name="Picture 9" descr=""/>
            <p:cNvPicPr/>
            <p:nvPr/>
          </p:nvPicPr>
          <p:blipFill>
            <a:blip r:embed="rId3"/>
            <a:stretch/>
          </p:blipFill>
          <p:spPr>
            <a:xfrm>
              <a:off x="4087440" y="4333320"/>
              <a:ext cx="2483280" cy="20242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161" name="Picture 10" descr=""/>
            <p:cNvPicPr/>
            <p:nvPr/>
          </p:nvPicPr>
          <p:blipFill>
            <a:blip r:embed="rId4"/>
            <a:stretch/>
          </p:blipFill>
          <p:spPr>
            <a:xfrm>
              <a:off x="6660000" y="4333320"/>
              <a:ext cx="2359800" cy="20037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162" name="Rectangle 17"/>
          <p:cNvSpPr/>
          <p:nvPr/>
        </p:nvSpPr>
        <p:spPr>
          <a:xfrm>
            <a:off x="108000" y="2355840"/>
            <a:ext cx="410508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till,“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protist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” is used 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 term for a great diversity of eukaryotic kingdo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Most of the 60,000 known protists are unicellular, but some are colonial and others multi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cellula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Many protists form resistant cells (</a:t>
            </a: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cyst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) that can survive harsh condition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مربع نص 10"/>
          <p:cNvSpPr/>
          <p:nvPr/>
        </p:nvSpPr>
        <p:spPr>
          <a:xfrm>
            <a:off x="642960" y="7128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Proti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86920" y="2285640"/>
            <a:ext cx="8642520" cy="50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Most protists are </a:t>
            </a: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aerobic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, with mitochondria for cellular respi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Some protists are </a:t>
            </a: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photoautotrophs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 with chloroplas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Still others are </a:t>
            </a: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heterotrophs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 that absorb organic molecules or ingest larger food partic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A few are </a:t>
            </a: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mixotrophs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, combining photosynthesis and heterotrophic nutri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Protists may include photosynthetic species, heterotrophic species, and mixotrophic spec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مربع نص 4"/>
          <p:cNvSpPr/>
          <p:nvPr/>
        </p:nvSpPr>
        <p:spPr>
          <a:xfrm>
            <a:off x="928800" y="28584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Characters of Proti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مربع نص 5"/>
          <p:cNvSpPr/>
          <p:nvPr/>
        </p:nvSpPr>
        <p:spPr>
          <a:xfrm>
            <a:off x="1000080" y="1500120"/>
            <a:ext cx="3286080" cy="435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 rtl="1">
              <a:lnSpc>
                <a:spcPct val="8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- Nutri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50560" y="1366560"/>
            <a:ext cx="8893080" cy="270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Most protists move with flagella</a:t>
            </a:r>
            <a:r>
              <a:rPr b="0" lang="ar-SA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or cilia during some time in their life cyc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eukaryotic flagella are not homologous to those of prokaryot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eukaryotic flagella are extensions of the cytoplasm with a support of the       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9 + 2 microtubule system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Cilia are shorter and more numerous than flagell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Cilia and flagella move the cell with rhythmic power strokes, analogous to the oars of a bo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179280" y="4869000"/>
            <a:ext cx="9417240" cy="13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Reproduction and life cycles are highly varied</a:t>
            </a:r>
            <a:r>
              <a:rPr b="0" lang="ar-SA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among protis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Mitosis occurs in almost all protist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Some protists are asexual</a:t>
            </a:r>
            <a:r>
              <a:rPr b="0" lang="ar-SA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Others are primarily asexual but can also reproduce sexually occasionall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مربع نص 5"/>
          <p:cNvSpPr/>
          <p:nvPr/>
        </p:nvSpPr>
        <p:spPr>
          <a:xfrm>
            <a:off x="785880" y="428760"/>
            <a:ext cx="3286080" cy="435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B)- Movement</a:t>
            </a:r>
            <a:r>
              <a:rPr b="1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مربع نص 6"/>
          <p:cNvSpPr/>
          <p:nvPr/>
        </p:nvSpPr>
        <p:spPr>
          <a:xfrm>
            <a:off x="714240" y="4143240"/>
            <a:ext cx="3286440" cy="4564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C)- Reproduc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24000" y="1549440"/>
            <a:ext cx="843120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Many protists are symbionts</a:t>
            </a:r>
            <a:r>
              <a:rPr b="0" lang="ar-SA" sz="2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 that inhabit the body fluids, tissues, or cells of hosts.</a:t>
            </a:r>
            <a:r>
              <a:rPr b="0" lang="ar-SA" sz="2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These symbiotic relationships span the continuum from mutualism to parasitis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Some parasitic protists are important pathogens of animals, including those that cause potentially fatal diseases in huma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مربع نص 4"/>
          <p:cNvSpPr/>
          <p:nvPr/>
        </p:nvSpPr>
        <p:spPr>
          <a:xfrm>
            <a:off x="785880" y="612720"/>
            <a:ext cx="3286080" cy="4564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F)- Importan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3643200" y="1571760"/>
            <a:ext cx="5500800" cy="5072040"/>
          </a:xfrm>
          <a:prstGeom prst="rect">
            <a:avLst/>
          </a:prstGeom>
          <a:ln w="0">
            <a:noFill/>
          </a:ln>
        </p:spPr>
      </p:pic>
      <p:sp>
        <p:nvSpPr>
          <p:cNvPr id="174" name="مربع نص 4"/>
          <p:cNvSpPr/>
          <p:nvPr/>
        </p:nvSpPr>
        <p:spPr>
          <a:xfrm>
            <a:off x="785880" y="21420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Protists (</a:t>
            </a: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1-</a:t>
            </a:r>
            <a:r>
              <a:rPr b="1" i="1" lang="en-GB" sz="3600" spc="-1" strike="noStrike">
                <a:solidFill>
                  <a:srgbClr val="0000ff"/>
                </a:solidFill>
                <a:latin typeface="Andalus"/>
                <a:ea typeface="Andalus"/>
              </a:rPr>
              <a:t>Euglena</a:t>
            </a: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مستطيل 5"/>
          <p:cNvGrpSpPr/>
          <p:nvPr/>
        </p:nvGrpSpPr>
        <p:grpSpPr>
          <a:xfrm>
            <a:off x="549360" y="1689120"/>
            <a:ext cx="4041720" cy="2401920"/>
            <a:chOff x="549360" y="1689120"/>
            <a:chExt cx="4041720" cy="2401920"/>
          </a:xfrm>
        </p:grpSpPr>
        <p:pic>
          <p:nvPicPr>
            <p:cNvPr id="176" name="مستطيل 5" descr=""/>
            <p:cNvPicPr/>
            <p:nvPr/>
          </p:nvPicPr>
          <p:blipFill>
            <a:blip r:embed="rId2"/>
            <a:stretch/>
          </p:blipFill>
          <p:spPr>
            <a:xfrm>
              <a:off x="549360" y="1689120"/>
              <a:ext cx="404172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571680" y="1714680"/>
              <a:ext cx="4000320" cy="23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Andalus"/>
                  <a:ea typeface="Andalus"/>
                </a:rPr>
                <a:t>Systematic Positi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Kingdom :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Protista               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Phylum : 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Sarcomastigophor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ubphylum : 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Mastigophor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Class : 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Phytomastigophor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Genus : </a:t>
              </a:r>
              <a:r>
                <a:rPr b="1" lang="en-GB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Euglen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8" name="Picture 5" descr=""/>
          <p:cNvPicPr/>
          <p:nvPr/>
        </p:nvPicPr>
        <p:blipFill>
          <a:blip r:embed="rId3"/>
          <a:stretch/>
        </p:blipFill>
        <p:spPr>
          <a:xfrm>
            <a:off x="792000" y="4406760"/>
            <a:ext cx="233532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4T08:41:58Z</dcterms:created>
  <dc:creator>DELL</dc:creator>
  <dc:description/>
  <dc:language>en-US</dc:language>
  <cp:lastModifiedBy>DELL</cp:lastModifiedBy>
  <dcterms:modified xsi:type="dcterms:W3CDTF">2013-09-24T08:49:23Z</dcterms:modified>
  <cp:revision>4</cp:revision>
  <dc:subject/>
  <dc:title>الشريحة 1</dc:title>
</cp:coreProperties>
</file>