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ADE1-68D0-460A-8A30-C342F11219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7C3D-C79D-46F2-9FE9-E3CA674DCBA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8814-2570-4C5D-815C-8EF4159C710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2AC7-45B4-4303-B9FE-51CF90D125B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D32B-D996-47AC-8533-E7E55CF275C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84F1-A46E-434D-A17A-C01F7F94435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96D4-FB0C-4AF7-8A8B-9B982F997A9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6B44-971F-4F51-B4D3-F76EBB4D9B7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6144-4579-4D55-9744-8E987A77D0B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9461-1963-42E8-8F21-091B3D93388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B9A8-AE61-4158-9CAE-786D4AF0D55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9E9D-F83B-4C03-9655-A808AC5A219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4F94-36A6-4A64-8B03-DE1D73453B5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9D80-630E-42BB-A12F-A24251D690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7AF1-621B-4C8F-B0EE-A93EB3606BA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FA4-6ACB-4172-B4A8-56B34207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C85-B035-4D00-9F60-CB2073A7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485-D450-4495-B4F6-56EBF07C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B32-D5E7-4C2C-9F97-FD337010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146-F5C3-4A00-974E-6121210A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7ED-E6D0-4611-9B30-273F6D1F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165-3855-45FE-878B-E7B92727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45C-FF5F-41FE-8E98-72C93D75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2B7-3DBC-43E0-8123-FC277303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B02-DDE0-4F6D-824E-9AB4E69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8DD-12D4-41D0-ACF1-C51BCA06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D72-3AE3-4752-8721-4A4FEFE4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05BE-220B-4EEF-9AB6-B019E58609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  <a:ea typeface="Andalus"/>
              </a:rPr>
              <a:t>Animal Taxon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صورة 4" descr="slide-1-728.jpg"/>
          <p:cNvPicPr/>
          <p:nvPr/>
        </p:nvPicPr>
        <p:blipFill>
          <a:blip r:embed="rId1"/>
          <a:srcRect l="0" t="28022" r="0" b="0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5560" y="928440"/>
            <a:ext cx="82580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ll annelids (“little rings”) have segmented bod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Annelids live in the sea, most freshwater habitats, and damp so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coelom of the earthworm, a typical annelid, is partitioned by septa, but the digestive tract, longitudinal blood vessels, and nerve cords penetr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septa and run the animal’s leng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4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annelids, including earthworms, burrow in sand and si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571320"/>
            <a:ext cx="3000240" cy="67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digestive system consists of a pharynx</a:t>
            </a:r>
            <a:r>
              <a:rPr b="0" lang="ar-SA" sz="1800" spc="-1" strike="noStrike">
                <a:solidFill>
                  <a:srgbClr val="000000"/>
                </a:solidFill>
                <a:latin typeface="Andalus"/>
                <a:cs typeface="Andalus"/>
              </a:rPr>
              <a:t>ء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an esophagus, crop, gizzard and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closed circulatory system carries blood with oxygen-carrying hemoglobin through dorsal and ventral vessels connected by segmental vess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3057480" y="9360"/>
            <a:ext cx="60865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مستطيل 3"/>
          <p:cNvSpPr/>
          <p:nvPr/>
        </p:nvSpPr>
        <p:spPr>
          <a:xfrm>
            <a:off x="142920" y="641520"/>
            <a:ext cx="3143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In each segment is a pair of excretory tubes,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metanephridia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at remove wastes from the blood and coelomic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Earthworms ar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cross-fertilizing hermaphrodi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earthworms can also reproduce </a:t>
            </a:r>
            <a:r>
              <a:rPr b="0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asexually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by fragmentation followed by re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rcRect l="0" t="0" r="2348" b="0"/>
          <a:stretch/>
        </p:blipFill>
        <p:spPr>
          <a:xfrm>
            <a:off x="3200400" y="9360"/>
            <a:ext cx="59436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مستطيل 3"/>
          <p:cNvGrpSpPr/>
          <p:nvPr/>
        </p:nvGrpSpPr>
        <p:grpSpPr>
          <a:xfrm>
            <a:off x="401760" y="1262160"/>
            <a:ext cx="3975120" cy="4973400"/>
            <a:chOff x="401760" y="1262160"/>
            <a:chExt cx="3975120" cy="4973400"/>
          </a:xfrm>
        </p:grpSpPr>
        <p:pic>
          <p:nvPicPr>
            <p:cNvPr id="124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01760" y="1262160"/>
              <a:ext cx="3975120" cy="49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28760" y="1285920"/>
              <a:ext cx="3929040" cy="49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pseudo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Nematoda (Roundworm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Rhaldit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Order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Family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ida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sca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pecies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lumbrico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Ascaris  </a:t>
              </a:r>
              <a:r>
                <a:rPr b="1" i="1" lang="en-GB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l</a:t>
              </a:r>
              <a:r>
                <a:rPr b="1" i="1" lang="en-GB" sz="2400" spc="-1" strike="noStrike" u="sng">
                  <a:solidFill>
                    <a:srgbClr val="0000ff"/>
                  </a:solidFill>
                  <a:uFillTx/>
                  <a:latin typeface="Andalus"/>
                  <a:ea typeface="Andalus"/>
                </a:rPr>
                <a:t>umbrico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مربع نص 4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اسكارس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572080" y="1143000"/>
            <a:ext cx="3306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1599840"/>
            <a:ext cx="53928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oundworms are found in most aquatic habitats, wet soil, moist tissues of plants, and the body fluids and tissues of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parasitize anim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range in length from less than 1 mm to more than a me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 body of Nematode is covered with a tough exoskeleton, the cut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have a complete digestive tra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Nematodes usually engage in sexual rep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اسكارس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572080" y="1357200"/>
            <a:ext cx="3306960" cy="5429520"/>
          </a:xfrm>
          <a:prstGeom prst="rect">
            <a:avLst/>
          </a:prstGeom>
          <a:ln w="0">
            <a:noFill/>
          </a:ln>
        </p:spPr>
      </p:pic>
      <p:sp>
        <p:nvSpPr>
          <p:cNvPr id="130" name="مستطيل 7"/>
          <p:cNvSpPr/>
          <p:nvPr/>
        </p:nvSpPr>
        <p:spPr>
          <a:xfrm>
            <a:off x="142920" y="89532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Roundworms are pseudocoelomates covered by tough cut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ستطيل 8"/>
          <p:cNvSpPr/>
          <p:nvPr/>
        </p:nvSpPr>
        <p:spPr>
          <a:xfrm>
            <a:off x="3577680" y="252360"/>
            <a:ext cx="12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ff"/>
                </a:solidFill>
                <a:latin typeface="Andalus"/>
                <a:ea typeface="Andalus"/>
              </a:rPr>
              <a:t>Asc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dalus"/>
                <a:ea typeface="Andalus"/>
              </a:rPr>
              <a:t>The 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99880" y="1028880"/>
            <a:ext cx="854424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32394" t="16604" r="14349" b="1211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5286240" y="135720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32394" t="16604" r="14349" b="13086"/>
          <a:stretch/>
        </p:blipFill>
        <p:spPr>
          <a:xfrm>
            <a:off x="0" y="0"/>
            <a:ext cx="923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3286080" y="4429080"/>
            <a:ext cx="4857840" cy="2428920"/>
          </a:xfrm>
          <a:prstGeom prst="rect">
            <a:avLst/>
          </a:prstGeom>
          <a:ln w="0">
            <a:noFill/>
          </a:ln>
        </p:spPr>
      </p:pic>
      <p:sp>
        <p:nvSpPr>
          <p:cNvPr id="91" name="مربع نص 3"/>
          <p:cNvSpPr/>
          <p:nvPr/>
        </p:nvSpPr>
        <p:spPr>
          <a:xfrm>
            <a:off x="785880" y="21420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PTShape_0" descr=""/>
          <p:cNvPicPr/>
          <p:nvPr/>
        </p:nvPicPr>
        <p:blipFill>
          <a:blip r:embed="rId2"/>
          <a:stretch/>
        </p:blipFill>
        <p:spPr>
          <a:xfrm>
            <a:off x="4786200" y="1500120"/>
            <a:ext cx="4179960" cy="2805120"/>
          </a:xfrm>
          <a:prstGeom prst="rect">
            <a:avLst/>
          </a:prstGeom>
          <a:ln w="0">
            <a:noFill/>
          </a:ln>
        </p:spPr>
      </p:pic>
      <p:grpSp>
        <p:nvGrpSpPr>
          <p:cNvPr id="93" name="مستطيل 4"/>
          <p:cNvGrpSpPr/>
          <p:nvPr/>
        </p:nvGrpSpPr>
        <p:grpSpPr>
          <a:xfrm>
            <a:off x="189000" y="1401840"/>
            <a:ext cx="3975120" cy="3402000"/>
            <a:chOff x="189000" y="1401840"/>
            <a:chExt cx="3975120" cy="3402000"/>
          </a:xfrm>
        </p:grpSpPr>
        <p:pic>
          <p:nvPicPr>
            <p:cNvPr id="94" name="مستطيل 4" descr=""/>
            <p:cNvPicPr/>
            <p:nvPr/>
          </p:nvPicPr>
          <p:blipFill>
            <a:blip r:embed="rId3"/>
            <a:stretch/>
          </p:blipFill>
          <p:spPr>
            <a:xfrm>
              <a:off x="189000" y="1401840"/>
              <a:ext cx="397512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4200" y="1428840"/>
              <a:ext cx="3929040" cy="33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Mollus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1-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Gastrop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snai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250920" y="1735200"/>
            <a:ext cx="868680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llusca includes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nails</a:t>
            </a:r>
            <a:r>
              <a:rPr b="1" lang="ar-SA" sz="2400" spc="-1" strike="noStrike">
                <a:solidFill>
                  <a:srgbClr val="f63f1b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lug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octopuses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nd </a:t>
            </a:r>
            <a:r>
              <a:rPr b="1" lang="en-US" sz="2400" spc="-1" strike="noStrike">
                <a:solidFill>
                  <a:srgbClr val="f63f1b"/>
                </a:solidFill>
                <a:latin typeface="Andalus"/>
                <a:ea typeface="Andalus"/>
              </a:rPr>
              <a:t>squid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mollusks ar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rin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though some inhabit fresh water, and some snails and slugs live on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llusks are soft-bodied animals, but most are protected by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ard shell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of calcium carbon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All mollusks have a muscular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foot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for locomotion,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visceral mas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with most of the internal organs, and a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mantle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46000"/>
              <a:buFont typeface="Andalu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mollusks hav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separate sex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, with gonads located in the visceral mass, and some are </a:t>
            </a:r>
            <a:r>
              <a:rPr b="1" lang="en-US" sz="2400" spc="-1" strike="noStrike">
                <a:solidFill>
                  <a:srgbClr val="0000ff"/>
                </a:solidFill>
                <a:latin typeface="Andalus"/>
                <a:ea typeface="Andalus"/>
              </a:rPr>
              <a:t>hermaphrodites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00200" y="571680"/>
            <a:ext cx="35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3f1b"/>
                </a:solidFill>
                <a:latin typeface="Andalus"/>
                <a:ea typeface="Andalus"/>
              </a:rPr>
              <a:t>Phylum: </a:t>
            </a:r>
            <a:r>
              <a:rPr b="1" lang="en-US" sz="3200" spc="-1" strike="noStrike">
                <a:solidFill>
                  <a:srgbClr val="00b050"/>
                </a:solidFill>
                <a:latin typeface="Andalus"/>
                <a:ea typeface="Andalus"/>
              </a:rPr>
              <a:t>Mollus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rcRect l="0" t="0" r="0" b="5069"/>
          <a:stretch/>
        </p:blipFill>
        <p:spPr>
          <a:xfrm>
            <a:off x="2286000" y="2286000"/>
            <a:ext cx="6751800" cy="4527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920" y="1693800"/>
            <a:ext cx="8610840" cy="21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Most Gastropoda are </a:t>
            </a: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marine</a:t>
            </a: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, but there are also many freshwater spe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anus and mant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cavity are abov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the head in adult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مستطيل 5"/>
          <p:cNvSpPr/>
          <p:nvPr/>
        </p:nvSpPr>
        <p:spPr>
          <a:xfrm>
            <a:off x="2214720" y="2142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ndalus"/>
                <a:ea typeface="Andalus"/>
              </a:rPr>
              <a:t>Class: </a:t>
            </a:r>
            <a:r>
              <a:rPr b="1" lang="en-US" sz="2800" spc="-1" strike="noStrike">
                <a:solidFill>
                  <a:srgbClr val="000000"/>
                </a:solidFill>
                <a:latin typeface="Andalus"/>
                <a:ea typeface="Andalus"/>
              </a:rPr>
              <a:t>Gastrop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Example: </a:t>
            </a:r>
            <a:r>
              <a:rPr b="1" i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sn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4178160" y="620640"/>
            <a:ext cx="4894560" cy="516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920" y="423360"/>
            <a:ext cx="4357800" cy="90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ost gastropods are protected by a spiraled sh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Other species have lost                                                                                 their shells entirely and                                                                                 may have chemical                                                                                     defenses against pred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79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Many gastropods have distinct                                                                            heads with eyes at the tips of                                                                           tenta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They move by their fo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us"/>
                <a:ea typeface="Andalus"/>
              </a:rPr>
              <a:t>Some species are preda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مستطيل 3"/>
          <p:cNvGrpSpPr/>
          <p:nvPr/>
        </p:nvGrpSpPr>
        <p:grpSpPr>
          <a:xfrm>
            <a:off x="189000" y="1689120"/>
            <a:ext cx="3975120" cy="3114720"/>
            <a:chOff x="189000" y="1689120"/>
            <a:chExt cx="3975120" cy="3114720"/>
          </a:xfrm>
        </p:grpSpPr>
        <p:pic>
          <p:nvPicPr>
            <p:cNvPr id="104" name="مستطيل 3" descr=""/>
            <p:cNvPicPr/>
            <p:nvPr/>
          </p:nvPicPr>
          <p:blipFill>
            <a:blip r:embed="rId1"/>
            <a:stretch/>
          </p:blipFill>
          <p:spPr>
            <a:xfrm>
              <a:off x="189000" y="1689120"/>
              <a:ext cx="397512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200" y="1714680"/>
              <a:ext cx="3929040" cy="30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b050"/>
                  </a:solidFill>
                  <a:latin typeface="Andalus"/>
                  <a:ea typeface="Andalus"/>
                </a:rPr>
                <a:t>Mollus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63f1b"/>
                  </a:solidFill>
                  <a:latin typeface="Calibri"/>
                </a:rPr>
                <a:t>2- 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ephalopo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Example: Octopu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مربع نص 2"/>
          <p:cNvSpPr/>
          <p:nvPr/>
        </p:nvSpPr>
        <p:spPr>
          <a:xfrm>
            <a:off x="785880" y="21420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4286160" y="1571760"/>
            <a:ext cx="4572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214800" y="2496960"/>
            <a:ext cx="5859360" cy="3932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7640" y="2491920"/>
            <a:ext cx="309564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The foot of a cephalopod (“head foot”) has been modified into the                                                                                         muscular siphon and parts of the tenta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ost octopuses live on the seafl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ephalopods have an active,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predaceou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lifesty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4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They have a well-developed </a:t>
            </a:r>
            <a:r>
              <a:rPr b="0" lang="en-US" sz="2000" spc="-1" strike="noStrike">
                <a:solidFill>
                  <a:srgbClr val="f63f1b"/>
                </a:solidFill>
                <a:latin typeface="Andalus"/>
                <a:ea typeface="Andalus"/>
              </a:rPr>
              <a:t>nervous syste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with a complex brain and well-developed sense org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44360" y="1123920"/>
            <a:ext cx="87138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Cephalopods use rapid movements toward their prey which they capture with several long tenta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141000"/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A mantle covers the visceral mass, but the shell is reduced and internal in squid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ndalus"/>
                <a:ea typeface="Andalus"/>
              </a:rPr>
              <a:t>missing in many octopu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6"/>
          <p:cNvSpPr/>
          <p:nvPr/>
        </p:nvSpPr>
        <p:spPr>
          <a:xfrm>
            <a:off x="2143080" y="142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f63f1b"/>
                </a:solidFill>
                <a:latin typeface="Calibri"/>
              </a:rPr>
              <a:t>Class: </a:t>
            </a: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Cephalo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Example: Octopus</a:t>
            </a:r>
            <a:r>
              <a:rPr b="1" i="1" lang="en-US" sz="1800" spc="-1" strike="noStrike">
                <a:solidFill>
                  <a:srgbClr val="0000ff"/>
                </a:solidFill>
                <a:latin typeface="Andalus"/>
                <a:ea typeface="Andal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مستطيل 3"/>
          <p:cNvGrpSpPr/>
          <p:nvPr/>
        </p:nvGrpSpPr>
        <p:grpSpPr>
          <a:xfrm>
            <a:off x="401760" y="1047600"/>
            <a:ext cx="3975120" cy="4256280"/>
            <a:chOff x="401760" y="1047600"/>
            <a:chExt cx="3975120" cy="4256280"/>
          </a:xfrm>
        </p:grpSpPr>
        <p:pic>
          <p:nvPicPr>
            <p:cNvPr id="113" name="مستطيل 3" descr=""/>
            <p:cNvPicPr/>
            <p:nvPr/>
          </p:nvPicPr>
          <p:blipFill>
            <a:blip r:embed="rId1"/>
            <a:stretch/>
          </p:blipFill>
          <p:spPr>
            <a:xfrm>
              <a:off x="401760" y="1047600"/>
              <a:ext cx="3975120" cy="42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28760" y="1071720"/>
              <a:ext cx="3929040" cy="42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 u="sng">
                  <a:solidFill>
                    <a:srgbClr val="ff0000"/>
                  </a:solidFill>
                  <a:uFillTx/>
                  <a:latin typeface="Andalus"/>
                  <a:ea typeface="Andalus"/>
                </a:rPr>
                <a:t>Systematic Pos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imal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ubkingdo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Eumetaz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Division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Triploblas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Sbdivision: </a:t>
              </a:r>
              <a:r>
                <a:rPr b="1" lang="en-GB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coelo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Phylum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nnel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Clas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Oligochae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ndalus"/>
                  <a:ea typeface="Andalus"/>
                </a:rPr>
                <a:t>Genus: </a:t>
              </a: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Allolobophora (Earthworm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dalus"/>
                  <a:ea typeface="Andalus"/>
                </a:rPr>
                <a:t>Species: caligin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ndalus"/>
                  <a:ea typeface="Andalus"/>
                </a:rPr>
                <a:t>Allolobophora caligino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442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دودة الارض"/>
          <p:cNvPicPr/>
          <p:nvPr/>
        </p:nvPicPr>
        <p:blipFill>
          <a:blip r:embed="rId3"/>
          <a:srcRect l="5751" t="15228" r="11150" b="17555"/>
          <a:stretch/>
        </p:blipFill>
        <p:spPr>
          <a:xfrm>
            <a:off x="2357280" y="5429160"/>
            <a:ext cx="5214960" cy="1428840"/>
          </a:xfrm>
          <a:prstGeom prst="rect">
            <a:avLst/>
          </a:prstGeom>
          <a:ln w="0">
            <a:noFill/>
          </a:ln>
        </p:spPr>
      </p:pic>
      <p:sp>
        <p:nvSpPr>
          <p:cNvPr id="117" name="مربع نص 6"/>
          <p:cNvSpPr/>
          <p:nvPr/>
        </p:nvSpPr>
        <p:spPr>
          <a:xfrm>
            <a:off x="785880" y="71280"/>
            <a:ext cx="7358040" cy="931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ndalus"/>
                <a:ea typeface="Andalus"/>
              </a:rPr>
              <a:t>Kingdom</a:t>
            </a:r>
            <a:r>
              <a:rPr b="1" lang="en-US" sz="4400" spc="-1" strike="noStrike">
                <a:solidFill>
                  <a:srgbClr val="ff0000"/>
                </a:solidFill>
                <a:latin typeface="Andalus"/>
                <a:ea typeface="Andalus"/>
              </a:rPr>
              <a:t>: </a:t>
            </a:r>
            <a:r>
              <a:rPr b="1" lang="en-US" sz="4400" spc="-1" strike="noStrike">
                <a:solidFill>
                  <a:srgbClr val="0000ff"/>
                </a:solidFill>
                <a:latin typeface="Andalus"/>
                <a:ea typeface="Andalus"/>
              </a:rPr>
              <a:t>Anim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18:40:43Z</dcterms:created>
  <dc:creator>DELL</dc:creator>
  <dc:description/>
  <dc:language>en-US</dc:language>
  <cp:lastModifiedBy>somer</cp:lastModifiedBy>
  <dcterms:modified xsi:type="dcterms:W3CDTF">2014-11-17T04:49:31Z</dcterms:modified>
  <cp:revision>7</cp:revision>
  <dc:subject/>
  <dc:title>الشريحة 1</dc:title>
</cp:coreProperties>
</file>