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9252-C2AB-41E0-BBF8-18CCCE56515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B108-C917-47FB-B301-9FC7EACD9DC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BD43-8A0E-404D-80A9-A08A36B51AF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288B-9655-4BB9-AA7D-895D1F73939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40FA-5631-4893-A240-2472E910134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062C-E7E4-42C7-91D6-39B5FB0E01D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567C-BCF5-4311-B5F7-90F08F14F95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6994-EA3C-4D3B-B7CE-81E0333E2D7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D8AC-4C33-4C44-B7B0-CD28B6C84B2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5378-D067-4984-8340-BFF325E379B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6F8C-891A-4ACB-9A44-619D1D5722F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C1DC-185C-4C34-BD89-69290BD72EB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4A73-4BFD-417A-B318-69E01099914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5298-E742-448C-86D7-F06E6F6A9C7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9376-AD66-4DA1-9264-84040AAD565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58E-7D25-42F9-BF4A-0BBF4661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BF0-8D9B-4580-A09A-C60E8242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8A0-D35F-47DE-AA99-79FB5D1A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7D6-F261-47E9-945D-AABF478C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E47-BD09-4FBC-BD05-B0C7E223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D53-C3AF-4193-A9A0-6F812B26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A70-C0EC-4CE6-9858-BEE727FC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292-3675-45A0-952D-526BC941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3D4-F87D-4E81-B5FA-A05F6D3F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C6D-D798-4E41-A763-54809E4C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5D2-C885-4AEB-90E4-E5729956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03B-74A7-41B6-83A1-8FF6D766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8D13-A0C3-45B5-BA2A-79B157BD28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5560" y="928440"/>
            <a:ext cx="82580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coelom of the earthworm, a typical annelid, is partitioned by septa, but the digestive tract, longitudinal blood vessels, and nerve cords penetr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571320"/>
            <a:ext cx="3000240" cy="67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digestive system consists of a pharynx</a:t>
            </a:r>
            <a:r>
              <a:rPr b="0" lang="ar-SA" sz="1800" spc="-1" strike="noStrike">
                <a:solidFill>
                  <a:srgbClr val="000000"/>
                </a:solidFill>
                <a:latin typeface="Andalus"/>
                <a:cs typeface="Andalus"/>
              </a:rPr>
              <a:t>ء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 esophagus, crop, gizzard and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3057480" y="9360"/>
            <a:ext cx="60865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مستطيل 3"/>
          <p:cNvSpPr/>
          <p:nvPr/>
        </p:nvSpPr>
        <p:spPr>
          <a:xfrm>
            <a:off x="142920" y="641520"/>
            <a:ext cx="3143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each segment is a pair of excretory tubes,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metanephridi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arthworms ar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cross-fertilizing hermaphrodit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earthworms can also reproduc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by fragmentation followed by re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rcRect l="0" t="0" r="2348" b="0"/>
          <a:stretch/>
        </p:blipFill>
        <p:spPr>
          <a:xfrm>
            <a:off x="3200400" y="9360"/>
            <a:ext cx="59436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مستطيل 3"/>
          <p:cNvGrpSpPr/>
          <p:nvPr/>
        </p:nvGrpSpPr>
        <p:grpSpPr>
          <a:xfrm>
            <a:off x="401760" y="1262160"/>
            <a:ext cx="3975120" cy="4973400"/>
            <a:chOff x="401760" y="1262160"/>
            <a:chExt cx="3975120" cy="4973400"/>
          </a:xfrm>
        </p:grpSpPr>
        <p:pic>
          <p:nvPicPr>
            <p:cNvPr id="124" name="مستطيل 3" descr=""/>
            <p:cNvPicPr/>
            <p:nvPr/>
          </p:nvPicPr>
          <p:blipFill>
            <a:blip r:embed="rId1"/>
            <a:stretch/>
          </p:blipFill>
          <p:spPr>
            <a:xfrm>
              <a:off x="401760" y="1262160"/>
              <a:ext cx="3975120" cy="49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28760" y="1285920"/>
              <a:ext cx="3929040" cy="49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seudo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Nematoda (Roundworm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Rhaldi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Order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scari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Family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scariid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Genus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sca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pecies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lumbrico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Ascaris  </a:t>
              </a:r>
              <a:r>
                <a:rPr b="1" i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l</a:t>
              </a:r>
              <a:r>
                <a:rPr b="1" i="1" lang="en-GB" sz="24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umbrico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مربع نص 4"/>
          <p:cNvSpPr/>
          <p:nvPr/>
        </p:nvSpPr>
        <p:spPr>
          <a:xfrm>
            <a:off x="785880" y="7128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اسكارس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572080" y="1143000"/>
            <a:ext cx="3306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1599840"/>
            <a:ext cx="5392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oundworms are found in most aquatic habitats, wet soil, moist tissues of plants, and the body fluids and tissues of anim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species parasitize anim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range in length from less than 1 mm to more than a me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body of Nematode is covered with a tough exoskeleton, the cuti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have a complete digestive tra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ematodes usually engage in sexual repro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اسكارس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572080" y="1357200"/>
            <a:ext cx="3306960" cy="5429520"/>
          </a:xfrm>
          <a:prstGeom prst="rect">
            <a:avLst/>
          </a:prstGeom>
          <a:ln w="0">
            <a:noFill/>
          </a:ln>
        </p:spPr>
      </p:pic>
      <p:sp>
        <p:nvSpPr>
          <p:cNvPr id="130" name="مستطيل 7"/>
          <p:cNvSpPr/>
          <p:nvPr/>
        </p:nvSpPr>
        <p:spPr>
          <a:xfrm>
            <a:off x="142920" y="89532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oundworms are pseudocoelomates covered by tough cu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ستطيل 8"/>
          <p:cNvSpPr/>
          <p:nvPr/>
        </p:nvSpPr>
        <p:spPr>
          <a:xfrm>
            <a:off x="3577680" y="25236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sc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99880" y="1028880"/>
            <a:ext cx="854424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32394" t="16604" r="14349" b="1211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5286240" y="135720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3286080" y="4429080"/>
            <a:ext cx="4857840" cy="2428920"/>
          </a:xfrm>
          <a:prstGeom prst="rect">
            <a:avLst/>
          </a:prstGeom>
          <a:ln w="0">
            <a:noFill/>
          </a:ln>
        </p:spPr>
      </p:pic>
      <p:sp>
        <p:nvSpPr>
          <p:cNvPr id="91" name="مربع نص 3"/>
          <p:cNvSpPr/>
          <p:nvPr/>
        </p:nvSpPr>
        <p:spPr>
          <a:xfrm>
            <a:off x="785880" y="21420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PTShape_0" descr=""/>
          <p:cNvPicPr/>
          <p:nvPr/>
        </p:nvPicPr>
        <p:blipFill>
          <a:blip r:embed="rId2"/>
          <a:stretch/>
        </p:blipFill>
        <p:spPr>
          <a:xfrm>
            <a:off x="4786200" y="1500120"/>
            <a:ext cx="41799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93" name="مستطيل 4"/>
          <p:cNvGrpSpPr/>
          <p:nvPr/>
        </p:nvGrpSpPr>
        <p:grpSpPr>
          <a:xfrm>
            <a:off x="189000" y="1401840"/>
            <a:ext cx="3975120" cy="3402000"/>
            <a:chOff x="189000" y="1401840"/>
            <a:chExt cx="3975120" cy="3402000"/>
          </a:xfrm>
        </p:grpSpPr>
        <p:pic>
          <p:nvPicPr>
            <p:cNvPr id="94" name="مستطيل 4" descr=""/>
            <p:cNvPicPr/>
            <p:nvPr/>
          </p:nvPicPr>
          <p:blipFill>
            <a:blip r:embed="rId3"/>
            <a:stretch/>
          </p:blipFill>
          <p:spPr>
            <a:xfrm>
              <a:off x="189000" y="1401840"/>
              <a:ext cx="3975120" cy="34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4200" y="1428840"/>
              <a:ext cx="392904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b050"/>
                  </a:solidFill>
                  <a:latin typeface="Andalus"/>
                  <a:ea typeface="Andalus"/>
                </a:rPr>
                <a:t>Mollus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-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Gastrop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xample: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snai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250920" y="1735200"/>
            <a:ext cx="868680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llusca includes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nails</a:t>
            </a:r>
            <a:r>
              <a:rPr b="1" lang="ar-SA" sz="2400" spc="-1" strike="noStrike">
                <a:solidFill>
                  <a:srgbClr val="f63f1b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lug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octopuses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qu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mollusks ar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marin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ough some inhabit fresh water, and some snails and slugs live on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llusks are soft-bodied animals, but most are protected by a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ard shell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of calcium carbo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l mollusks have a muscular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oo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locomotion, a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visceral mas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 most of the internal organs, and a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mantl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mollusks hav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separate sex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with gonads located in the visceral mass, and some ar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ermaphrodit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00200" y="571680"/>
            <a:ext cx="350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Andalus"/>
                <a:ea typeface="Andalus"/>
              </a:rPr>
              <a:t>Phylum: </a:t>
            </a:r>
            <a:r>
              <a:rPr b="1" lang="en-US" sz="3200" spc="-1" strike="noStrike">
                <a:solidFill>
                  <a:srgbClr val="00b050"/>
                </a:solidFill>
                <a:latin typeface="Andalus"/>
                <a:ea typeface="Andalus"/>
              </a:rPr>
              <a:t>Mollus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2286000" y="2286000"/>
            <a:ext cx="6751800" cy="4527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920" y="1693800"/>
            <a:ext cx="861084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Gastropoda are </a:t>
            </a: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marine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but there are also many freshwater spe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anus and mant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cavity are abo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head in adult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مستطيل 5"/>
          <p:cNvSpPr/>
          <p:nvPr/>
        </p:nvSpPr>
        <p:spPr>
          <a:xfrm>
            <a:off x="2214720" y="214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Class: </a:t>
            </a: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Gastrop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Example: </a:t>
            </a:r>
            <a:r>
              <a:rPr b="1" i="1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sn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178160" y="620640"/>
            <a:ext cx="4894560" cy="516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920" y="423360"/>
            <a:ext cx="4357800" cy="90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gastropods are protected by a spiraled sh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gastropods have distinct                                                                            heads with eyes at the tips of                                                                           tentac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move by their fo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species are pred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مستطيل 3"/>
          <p:cNvGrpSpPr/>
          <p:nvPr/>
        </p:nvGrpSpPr>
        <p:grpSpPr>
          <a:xfrm>
            <a:off x="189000" y="1689120"/>
            <a:ext cx="3975120" cy="3114720"/>
            <a:chOff x="189000" y="1689120"/>
            <a:chExt cx="3975120" cy="3114720"/>
          </a:xfrm>
        </p:grpSpPr>
        <p:pic>
          <p:nvPicPr>
            <p:cNvPr id="104" name="مستطيل 3" descr=""/>
            <p:cNvPicPr/>
            <p:nvPr/>
          </p:nvPicPr>
          <p:blipFill>
            <a:blip r:embed="rId1"/>
            <a:stretch/>
          </p:blipFill>
          <p:spPr>
            <a:xfrm>
              <a:off x="189000" y="1689120"/>
              <a:ext cx="397512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4200" y="1714680"/>
              <a:ext cx="3929040" cy="30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b050"/>
                  </a:solidFill>
                  <a:latin typeface="Andalus"/>
                  <a:ea typeface="Andalus"/>
                </a:rPr>
                <a:t>Mollus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63f1b"/>
                  </a:solidFill>
                  <a:latin typeface="Calibri"/>
                </a:rPr>
                <a:t>2- 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ephalop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xample: Octopu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مربع نص 2"/>
          <p:cNvSpPr/>
          <p:nvPr/>
        </p:nvSpPr>
        <p:spPr>
          <a:xfrm>
            <a:off x="785880" y="21420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4286160" y="1571760"/>
            <a:ext cx="4572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3214800" y="249696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7640" y="2491920"/>
            <a:ext cx="309564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ost octopuses live on the seafl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ephalopods have an active,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predaceous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lifesty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have a well-developed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nervous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ith a complex brain and well-developed sense org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44360" y="1123920"/>
            <a:ext cx="87138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ephalopods use rapid movements toward their prey which they capture with several long tenta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mantle covers the visceral mass, but the shell is reduced and internal in squid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issing in many octopu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6"/>
          <p:cNvSpPr/>
          <p:nvPr/>
        </p:nvSpPr>
        <p:spPr>
          <a:xfrm>
            <a:off x="2143080" y="142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3f1b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63f1b"/>
                </a:solidFill>
                <a:latin typeface="Calibri"/>
              </a:rPr>
              <a:t>- </a:t>
            </a:r>
            <a:r>
              <a:rPr b="1" lang="en-US" sz="1800" spc="-1" strike="noStrike">
                <a:solidFill>
                  <a:srgbClr val="f63f1b"/>
                </a:solidFill>
                <a:latin typeface="Calibri"/>
              </a:rPr>
              <a:t>Class: </a:t>
            </a: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Cephalo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Example: Octopus</a:t>
            </a:r>
            <a:r>
              <a:rPr b="1" i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مستطيل 3"/>
          <p:cNvGrpSpPr/>
          <p:nvPr/>
        </p:nvGrpSpPr>
        <p:grpSpPr>
          <a:xfrm>
            <a:off x="401760" y="1047600"/>
            <a:ext cx="3975120" cy="4256280"/>
            <a:chOff x="401760" y="1047600"/>
            <a:chExt cx="3975120" cy="4256280"/>
          </a:xfrm>
        </p:grpSpPr>
        <p:pic>
          <p:nvPicPr>
            <p:cNvPr id="113" name="مستطيل 3" descr=""/>
            <p:cNvPicPr/>
            <p:nvPr/>
          </p:nvPicPr>
          <p:blipFill>
            <a:blip r:embed="rId1"/>
            <a:stretch/>
          </p:blipFill>
          <p:spPr>
            <a:xfrm>
              <a:off x="401760" y="1047600"/>
              <a:ext cx="3975120" cy="42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28760" y="1071720"/>
              <a:ext cx="3929040" cy="42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nel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Oligochae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Genu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llolobophora (Earthwor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pecies: caligin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llolobophora caligin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4429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دودة الارض"/>
          <p:cNvPicPr/>
          <p:nvPr/>
        </p:nvPicPr>
        <p:blipFill>
          <a:blip r:embed="rId3"/>
          <a:srcRect l="5751" t="15228" r="11150" b="17555"/>
          <a:stretch/>
        </p:blipFill>
        <p:spPr>
          <a:xfrm>
            <a:off x="2357280" y="5429160"/>
            <a:ext cx="5214960" cy="1428840"/>
          </a:xfrm>
          <a:prstGeom prst="rect">
            <a:avLst/>
          </a:prstGeom>
          <a:ln w="0">
            <a:noFill/>
          </a:ln>
        </p:spPr>
      </p:pic>
      <p:sp>
        <p:nvSpPr>
          <p:cNvPr id="117" name="مربع نص 6"/>
          <p:cNvSpPr/>
          <p:nvPr/>
        </p:nvSpPr>
        <p:spPr>
          <a:xfrm>
            <a:off x="785880" y="7128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18:40:43Z</dcterms:created>
  <dc:creator>DELL</dc:creator>
  <dc:description/>
  <dc:language>en-US</dc:language>
  <cp:lastModifiedBy>somer</cp:lastModifiedBy>
  <dcterms:modified xsi:type="dcterms:W3CDTF">2014-11-17T04:49:31Z</dcterms:modified>
  <cp:revision>7</cp:revision>
  <dc:subject/>
  <dc:title>الشريحة 1</dc:title>
</cp:coreProperties>
</file>