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B20E-33BF-4CB2-901B-D40624F7ACF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5850-702E-4AB3-BB56-50108396F44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D2E9-6903-4D5D-BD5E-B67A83DF62E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B7AF-7D73-4775-878E-F433A0380C4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76BF-4D0A-480E-9815-A75CCCD67E7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1F5D-9CA7-42AD-BC14-87821E72977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290E-99F3-4B12-902B-33F5F977763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2863-88D1-4FF6-8F58-5C76635D6AC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7654-0479-4658-9BDE-9E64246860B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5BF6-9261-4B03-A1EE-473DCF7A8A2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9199-70DF-408F-AF6B-1B929EC1E7C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E4A1-7194-4B6E-8FAE-D81874E9DD9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E820-6DB4-460D-94EF-37F4C967B81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B7AB-8ADD-4BE9-863D-25B4A4BABD4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0CC5-AFC7-4439-B12A-BA731FBD119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D96C-A036-4D83-AEFB-0B8427341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22B2-B42E-4057-857C-36924A74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2366-5804-4269-BEE4-1FDDB1D67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1FB2-5504-44B1-9C7B-FBCA71BE9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B9DA-C736-4C01-AE73-EE7E1F12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C9E4-B8CF-4665-8430-645576D9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C4DB-395F-4AB3-BDF5-E40B5B16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D1C8-1E8A-42C9-8F93-CCAFC6A9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920E-A1F2-4A83-B0EC-BECB270F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ECAF-9AD5-4C30-9776-B7174D88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42A0-684A-42FD-9F6B-AC8E994B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9D2E-9DC7-4706-A861-6B462EC6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B27D-46DD-4339-B7F3-66601EB4A96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radley Hand ITC"/>
                <a:ea typeface="Andalus"/>
              </a:rPr>
              <a:t>Animal Taxonom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صورة 4" descr="slide-1-728.jpg"/>
          <p:cNvPicPr/>
          <p:nvPr/>
        </p:nvPicPr>
        <p:blipFill>
          <a:blip r:embed="rId1"/>
          <a:srcRect l="0" t="28022" r="0" b="0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85560" y="928440"/>
            <a:ext cx="8258040" cy="50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4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All annelids (“little rings”) have segmented bod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4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Annelids live in the sea, most freshwater habitats, and damp soi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4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The coelom of the earthworm, a typical annelid, is partitioned by septa, but the digestive tract, longitudinal blood vessels, and nerve cords penetr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the septa and run the animal’s leng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4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alus"/>
                <a:ea typeface="Andalus"/>
              </a:rPr>
              <a:t>Most annelids, including earthworms, burrow in sand and sil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571320"/>
            <a:ext cx="3000240" cy="67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digestive system consists of a pharynx</a:t>
            </a:r>
            <a:r>
              <a:rPr b="0" lang="ar-SA" sz="1800" spc="-1" strike="noStrike">
                <a:solidFill>
                  <a:srgbClr val="000000"/>
                </a:solidFill>
                <a:latin typeface="Andalus"/>
                <a:cs typeface="Andalus"/>
              </a:rPr>
              <a:t>ء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an esophagus, crop, gizzard and intest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closed circulatory system carries blood with oxygen-carrying hemoglobin through dorsal and ventral vessels connected by segmental vesse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3057480" y="9360"/>
            <a:ext cx="608652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مستطيل 3"/>
          <p:cNvSpPr/>
          <p:nvPr/>
        </p:nvSpPr>
        <p:spPr>
          <a:xfrm>
            <a:off x="142920" y="641520"/>
            <a:ext cx="3143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n each segment is a pair of excretory tubes, </a:t>
            </a: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metanephridia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that remove wastes from the blood and coelomic flu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Earthworms are </a:t>
            </a: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cross-fertilizing hermaphrodit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ome earthworms can also reproduce </a:t>
            </a: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asexually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by fragmentation followed by regen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rcRect l="0" t="0" r="2348" b="0"/>
          <a:stretch/>
        </p:blipFill>
        <p:spPr>
          <a:xfrm>
            <a:off x="3200400" y="9360"/>
            <a:ext cx="59436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مستطيل 3"/>
          <p:cNvGrpSpPr/>
          <p:nvPr/>
        </p:nvGrpSpPr>
        <p:grpSpPr>
          <a:xfrm>
            <a:off x="401760" y="1262160"/>
            <a:ext cx="3975120" cy="4973400"/>
            <a:chOff x="401760" y="1262160"/>
            <a:chExt cx="3975120" cy="4973400"/>
          </a:xfrm>
        </p:grpSpPr>
        <p:pic>
          <p:nvPicPr>
            <p:cNvPr id="124" name="مستطيل 3" descr=""/>
            <p:cNvPicPr/>
            <p:nvPr/>
          </p:nvPicPr>
          <p:blipFill>
            <a:blip r:embed="rId1"/>
            <a:stretch/>
          </p:blipFill>
          <p:spPr>
            <a:xfrm>
              <a:off x="401760" y="1262160"/>
              <a:ext cx="3975120" cy="49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428760" y="1285920"/>
              <a:ext cx="3929040" cy="49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Andalus"/>
                  <a:ea typeface="Andalus"/>
                </a:rPr>
                <a:t>Systematic Posi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nimal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ub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Eumetaz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Division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Triploblast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bdivision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pseudocoelom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Phylu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Nematoda (Roundworm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Class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Rhaldite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Order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scarii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Family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scariida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Genus: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sca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pecies: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lumbricoi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 u="sng">
                  <a:solidFill>
                    <a:srgbClr val="0000ff"/>
                  </a:solidFill>
                  <a:uFillTx/>
                  <a:latin typeface="Andalus"/>
                  <a:ea typeface="Andalus"/>
                </a:rPr>
                <a:t>Ascaris  </a:t>
              </a:r>
              <a:r>
                <a:rPr b="1" i="1" lang="en-GB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l</a:t>
              </a:r>
              <a:r>
                <a:rPr b="1" i="1" lang="en-GB" sz="2400" spc="-1" strike="noStrike" u="sng">
                  <a:solidFill>
                    <a:srgbClr val="0000ff"/>
                  </a:solidFill>
                  <a:uFillTx/>
                  <a:latin typeface="Andalus"/>
                  <a:ea typeface="Andalus"/>
                </a:rPr>
                <a:t>umbricoi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مربع نص 4"/>
          <p:cNvSpPr/>
          <p:nvPr/>
        </p:nvSpPr>
        <p:spPr>
          <a:xfrm>
            <a:off x="785880" y="71280"/>
            <a:ext cx="7358040" cy="931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ndalus"/>
                <a:ea typeface="Andalus"/>
              </a:rPr>
              <a:t>Kingdom</a:t>
            </a:r>
            <a:r>
              <a:rPr b="1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: </a:t>
            </a: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Anim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اسكارس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5572080" y="1143000"/>
            <a:ext cx="33069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8000" y="1599840"/>
            <a:ext cx="53928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Roundworms are found in most aquatic habitats, wet soil, moist tissues of plants, and the body fluids and tissues of anim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ome species parasitize anim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y range in length from less than 1 mm to more than a me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body of Nematode is covered with a tough exoskeleton, the cutic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y have a complete digestive tra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Nematodes usually engage in sexual reprodu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5" descr="اسكارس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572080" y="1357200"/>
            <a:ext cx="3306960" cy="5429520"/>
          </a:xfrm>
          <a:prstGeom prst="rect">
            <a:avLst/>
          </a:prstGeom>
          <a:ln w="0">
            <a:noFill/>
          </a:ln>
        </p:spPr>
      </p:pic>
      <p:sp>
        <p:nvSpPr>
          <p:cNvPr id="130" name="مستطيل 7"/>
          <p:cNvSpPr/>
          <p:nvPr/>
        </p:nvSpPr>
        <p:spPr>
          <a:xfrm>
            <a:off x="142920" y="895320"/>
            <a:ext cx="84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Roundworms are pseudocoelomates covered by tough cuti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مستطيل 8"/>
          <p:cNvSpPr/>
          <p:nvPr/>
        </p:nvSpPr>
        <p:spPr>
          <a:xfrm>
            <a:off x="3577680" y="252360"/>
            <a:ext cx="128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Ascar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0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dalus"/>
                <a:ea typeface="Andalus"/>
              </a:rPr>
              <a:t>The Summa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299880" y="1028880"/>
            <a:ext cx="854424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rcRect l="32394" t="16604" r="14349" b="1211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5286240" y="1357200"/>
            <a:ext cx="37148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rcRect l="32394" t="16604" r="14349" b="13086"/>
          <a:stretch/>
        </p:blipFill>
        <p:spPr>
          <a:xfrm>
            <a:off x="0" y="0"/>
            <a:ext cx="923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"/>
          <p:cNvPicPr/>
          <p:nvPr/>
        </p:nvPicPr>
        <p:blipFill>
          <a:blip r:embed="rId1"/>
          <a:srcRect l="0" t="0" r="0" b="5069"/>
          <a:stretch/>
        </p:blipFill>
        <p:spPr>
          <a:xfrm>
            <a:off x="3286080" y="4429080"/>
            <a:ext cx="4857840" cy="2428920"/>
          </a:xfrm>
          <a:prstGeom prst="rect">
            <a:avLst/>
          </a:prstGeom>
          <a:ln w="0">
            <a:noFill/>
          </a:ln>
        </p:spPr>
      </p:pic>
      <p:sp>
        <p:nvSpPr>
          <p:cNvPr id="91" name="مربع نص 3"/>
          <p:cNvSpPr/>
          <p:nvPr/>
        </p:nvSpPr>
        <p:spPr>
          <a:xfrm>
            <a:off x="785880" y="214200"/>
            <a:ext cx="7358040" cy="931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ndalus"/>
                <a:ea typeface="Andalus"/>
              </a:rPr>
              <a:t>Kingdom</a:t>
            </a:r>
            <a:r>
              <a:rPr b="1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: </a:t>
            </a: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Anim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PTShape_0" descr=""/>
          <p:cNvPicPr/>
          <p:nvPr/>
        </p:nvPicPr>
        <p:blipFill>
          <a:blip r:embed="rId2"/>
          <a:stretch/>
        </p:blipFill>
        <p:spPr>
          <a:xfrm>
            <a:off x="4786200" y="1500120"/>
            <a:ext cx="4179960" cy="2805120"/>
          </a:xfrm>
          <a:prstGeom prst="rect">
            <a:avLst/>
          </a:prstGeom>
          <a:ln w="0">
            <a:noFill/>
          </a:ln>
        </p:spPr>
      </p:pic>
      <p:grpSp>
        <p:nvGrpSpPr>
          <p:cNvPr id="93" name="مستطيل 4"/>
          <p:cNvGrpSpPr/>
          <p:nvPr/>
        </p:nvGrpSpPr>
        <p:grpSpPr>
          <a:xfrm>
            <a:off x="189000" y="1401840"/>
            <a:ext cx="3975120" cy="3402000"/>
            <a:chOff x="189000" y="1401840"/>
            <a:chExt cx="3975120" cy="3402000"/>
          </a:xfrm>
        </p:grpSpPr>
        <p:pic>
          <p:nvPicPr>
            <p:cNvPr id="94" name="مستطيل 4" descr=""/>
            <p:cNvPicPr/>
            <p:nvPr/>
          </p:nvPicPr>
          <p:blipFill>
            <a:blip r:embed="rId3"/>
            <a:stretch/>
          </p:blipFill>
          <p:spPr>
            <a:xfrm>
              <a:off x="189000" y="1401840"/>
              <a:ext cx="3975120" cy="340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14200" y="1428840"/>
              <a:ext cx="3929040" cy="33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Andalus"/>
                  <a:ea typeface="Andalus"/>
                </a:rPr>
                <a:t>Systematic Posi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nimal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ub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Eumetaz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Division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Triploblast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bdivision: 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coelom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Phylum: </a:t>
              </a:r>
              <a:r>
                <a:rPr b="1" lang="en-US" sz="2400" spc="-1" strike="noStrike">
                  <a:solidFill>
                    <a:srgbClr val="00b050"/>
                  </a:solidFill>
                  <a:latin typeface="Andalus"/>
                  <a:ea typeface="Andalus"/>
                </a:rPr>
                <a:t>Mollus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1-Class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Gastropo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Example: 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snai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250920" y="1735200"/>
            <a:ext cx="868680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46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ollusca includes </a:t>
            </a:r>
            <a:r>
              <a:rPr b="1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snails</a:t>
            </a:r>
            <a:r>
              <a:rPr b="1" lang="ar-SA" sz="2400" spc="-1" strike="noStrike">
                <a:solidFill>
                  <a:srgbClr val="f63f1b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nd </a:t>
            </a:r>
            <a:r>
              <a:rPr b="1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slug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</a:t>
            </a:r>
            <a:r>
              <a:rPr b="1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octopuses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nd </a:t>
            </a:r>
            <a:r>
              <a:rPr b="1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squid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46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ost mollusks are 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marin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though some inhabit fresh water, and some snails and slugs live on 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46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ollusks are soft-bodied animals, but most are protected by a 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hard shell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of calcium carbon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46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ll mollusks have a muscular 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foot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for locomotion, a 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visceral mas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with most of the internal organs, and a 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mantl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46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ost mollusks have 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separate sex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with gonads located in the visceral mass, and some are 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hermaphrodit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2500200" y="571680"/>
            <a:ext cx="350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3f1b"/>
                </a:solidFill>
                <a:latin typeface="Andalus"/>
                <a:ea typeface="Andalus"/>
              </a:rPr>
              <a:t>Phylum: </a:t>
            </a:r>
            <a:r>
              <a:rPr b="1" lang="en-US" sz="3200" spc="-1" strike="noStrike">
                <a:solidFill>
                  <a:srgbClr val="00b050"/>
                </a:solidFill>
                <a:latin typeface="Andalus"/>
                <a:ea typeface="Andalus"/>
              </a:rPr>
              <a:t>Mollus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"/>
          <p:cNvPicPr/>
          <p:nvPr/>
        </p:nvPicPr>
        <p:blipFill>
          <a:blip r:embed="rId1"/>
          <a:srcRect l="0" t="0" r="0" b="5069"/>
          <a:stretch/>
        </p:blipFill>
        <p:spPr>
          <a:xfrm>
            <a:off x="2286000" y="2286000"/>
            <a:ext cx="6751800" cy="4527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0920" y="1693800"/>
            <a:ext cx="861084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Most Gastropoda are </a:t>
            </a:r>
            <a:r>
              <a:rPr b="0" lang="en-US" sz="2800" spc="-1" strike="noStrike">
                <a:solidFill>
                  <a:srgbClr val="0000ff"/>
                </a:solidFill>
                <a:latin typeface="Andalus"/>
                <a:ea typeface="Andalus"/>
              </a:rPr>
              <a:t>marine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, but there are also many freshwater spec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The anus and mantl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cavity are abov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the head in adult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مستطيل 5"/>
          <p:cNvSpPr/>
          <p:nvPr/>
        </p:nvSpPr>
        <p:spPr>
          <a:xfrm>
            <a:off x="2214720" y="2142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Class: </a:t>
            </a:r>
            <a:r>
              <a:rPr b="1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Gastrop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ndalus"/>
                <a:ea typeface="Andalus"/>
              </a:rPr>
              <a:t>Example: </a:t>
            </a:r>
            <a:r>
              <a:rPr b="1" i="1" lang="en-US" sz="2800" spc="-1" strike="noStrike">
                <a:solidFill>
                  <a:srgbClr val="0000ff"/>
                </a:solidFill>
                <a:latin typeface="Andalus"/>
                <a:ea typeface="Andalus"/>
              </a:rPr>
              <a:t>sn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4178160" y="620640"/>
            <a:ext cx="4894560" cy="51656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0920" y="423360"/>
            <a:ext cx="4357800" cy="90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18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ost gastropods are protected by a spiraled she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5760" indent="-18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Other species have lost                                                                                 their shells entirely and                                                                                 may have chemical                                                                                     defenses against predato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79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any gastropods have distinct                                                                            heads with eyes at the tips of                                                                           tentac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y move by their foo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ome species are predato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مستطيل 3"/>
          <p:cNvGrpSpPr/>
          <p:nvPr/>
        </p:nvGrpSpPr>
        <p:grpSpPr>
          <a:xfrm>
            <a:off x="189000" y="1689120"/>
            <a:ext cx="3975120" cy="3114720"/>
            <a:chOff x="189000" y="1689120"/>
            <a:chExt cx="3975120" cy="3114720"/>
          </a:xfrm>
        </p:grpSpPr>
        <p:pic>
          <p:nvPicPr>
            <p:cNvPr id="104" name="مستطيل 3" descr=""/>
            <p:cNvPicPr/>
            <p:nvPr/>
          </p:nvPicPr>
          <p:blipFill>
            <a:blip r:embed="rId1"/>
            <a:stretch/>
          </p:blipFill>
          <p:spPr>
            <a:xfrm>
              <a:off x="189000" y="1689120"/>
              <a:ext cx="3975120" cy="31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214200" y="1714680"/>
              <a:ext cx="3929040" cy="30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Andalus"/>
                  <a:ea typeface="Andalus"/>
                </a:rPr>
                <a:t>Systematic Posi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nimal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ub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Eumetaz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Division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Triploblast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bdivision: 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coelom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Phylum: </a:t>
              </a:r>
              <a:r>
                <a:rPr b="1" lang="en-US" sz="2400" spc="-1" strike="noStrike">
                  <a:solidFill>
                    <a:srgbClr val="00b050"/>
                  </a:solidFill>
                  <a:latin typeface="Andalus"/>
                  <a:ea typeface="Andalus"/>
                </a:rPr>
                <a:t>Mollus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63f1b"/>
                  </a:solidFill>
                  <a:latin typeface="Calibri"/>
                </a:rPr>
                <a:t>2- Class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Cephalopo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Example: Octopu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مربع نص 2"/>
          <p:cNvSpPr/>
          <p:nvPr/>
        </p:nvSpPr>
        <p:spPr>
          <a:xfrm>
            <a:off x="785880" y="214200"/>
            <a:ext cx="7358040" cy="931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ndalus"/>
                <a:ea typeface="Andalus"/>
              </a:rPr>
              <a:t>Kingdom</a:t>
            </a:r>
            <a:r>
              <a:rPr b="1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: </a:t>
            </a: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Anim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4286160" y="1571760"/>
            <a:ext cx="45720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3214800" y="2496960"/>
            <a:ext cx="5859360" cy="39322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7640" y="2491920"/>
            <a:ext cx="309564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foot of a cephalopod (“head foot”) has been modified into the                                                                                         muscular siphon and parts of the tentac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Most octopuses live on the seaflo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Cephalopods have an active,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predaceous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lifesty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ey have a well-developed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nervous system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with a complex brain and well-developed sense orga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144360" y="1123920"/>
            <a:ext cx="871380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41000"/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Cephalopods use rapid movements toward their prey which they capture with several long tentac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41000"/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A mantle covers the visceral mass, but the shell is reduced and internal in squid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missing in many octopus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مستطيل 6"/>
          <p:cNvSpPr/>
          <p:nvPr/>
        </p:nvSpPr>
        <p:spPr>
          <a:xfrm>
            <a:off x="2143080" y="142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3f1b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63f1b"/>
                </a:solidFill>
                <a:latin typeface="Calibri"/>
              </a:rPr>
              <a:t>- </a:t>
            </a:r>
            <a:r>
              <a:rPr b="1" lang="en-US" sz="1800" spc="-1" strike="noStrike">
                <a:solidFill>
                  <a:srgbClr val="f63f1b"/>
                </a:solidFill>
                <a:latin typeface="Calibri"/>
              </a:rPr>
              <a:t>Class: </a:t>
            </a:r>
            <a:r>
              <a:rPr b="1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Cephalop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ndalus"/>
                <a:ea typeface="Andalus"/>
              </a:rPr>
              <a:t>Example: Octopus</a:t>
            </a:r>
            <a:r>
              <a:rPr b="1" i="1" lang="en-US" sz="18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مستطيل 3"/>
          <p:cNvGrpSpPr/>
          <p:nvPr/>
        </p:nvGrpSpPr>
        <p:grpSpPr>
          <a:xfrm>
            <a:off x="401760" y="1047600"/>
            <a:ext cx="3975120" cy="4256280"/>
            <a:chOff x="401760" y="1047600"/>
            <a:chExt cx="3975120" cy="4256280"/>
          </a:xfrm>
        </p:grpSpPr>
        <p:pic>
          <p:nvPicPr>
            <p:cNvPr id="113" name="مستطيل 3" descr=""/>
            <p:cNvPicPr/>
            <p:nvPr/>
          </p:nvPicPr>
          <p:blipFill>
            <a:blip r:embed="rId1"/>
            <a:stretch/>
          </p:blipFill>
          <p:spPr>
            <a:xfrm>
              <a:off x="401760" y="1047600"/>
              <a:ext cx="3975120" cy="425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428760" y="1071720"/>
              <a:ext cx="3929040" cy="42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Andalus"/>
                  <a:ea typeface="Andalus"/>
                </a:rPr>
                <a:t>Systematic Posi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nimal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ub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Eumetaz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Division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Triploblast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bdivision: 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coelom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Phylu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nneli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Class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Oligochae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Genus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llolobophora (Earthworm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Species: caligino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Allolobophora caligino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500720" y="1143000"/>
            <a:ext cx="4643280" cy="4429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دودة الارض"/>
          <p:cNvPicPr/>
          <p:nvPr/>
        </p:nvPicPr>
        <p:blipFill>
          <a:blip r:embed="rId3"/>
          <a:srcRect l="5751" t="15228" r="11150" b="17555"/>
          <a:stretch/>
        </p:blipFill>
        <p:spPr>
          <a:xfrm>
            <a:off x="2357280" y="5429160"/>
            <a:ext cx="5214960" cy="1428840"/>
          </a:xfrm>
          <a:prstGeom prst="rect">
            <a:avLst/>
          </a:prstGeom>
          <a:ln w="0">
            <a:noFill/>
          </a:ln>
        </p:spPr>
      </p:pic>
      <p:sp>
        <p:nvSpPr>
          <p:cNvPr id="117" name="مربع نص 6"/>
          <p:cNvSpPr/>
          <p:nvPr/>
        </p:nvSpPr>
        <p:spPr>
          <a:xfrm>
            <a:off x="785880" y="71280"/>
            <a:ext cx="7358040" cy="931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ndalus"/>
                <a:ea typeface="Andalus"/>
              </a:rPr>
              <a:t>Kingdom</a:t>
            </a:r>
            <a:r>
              <a:rPr b="1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: </a:t>
            </a: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Anim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4T18:40:43Z</dcterms:created>
  <dc:creator>DELL</dc:creator>
  <dc:description/>
  <dc:language>en-US</dc:language>
  <cp:lastModifiedBy>somer</cp:lastModifiedBy>
  <dcterms:modified xsi:type="dcterms:W3CDTF">2014-11-17T04:49:31Z</dcterms:modified>
  <cp:revision>7</cp:revision>
  <dc:subject/>
  <dc:title>الشريحة 1</dc:title>
</cp:coreProperties>
</file>