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C319-D3CD-441F-B7B5-C6182BDA1A9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1A4B-6757-4066-A505-F32C2543E43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9B36-2553-4BD3-8EF4-071CF2A3AFD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398D-04DA-4B11-9269-946A12A57C5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E643-0AD3-4B09-BD59-92DB14624FA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C336-C802-4467-B556-0F94A816670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8F5D-94C8-4BE4-BFCB-44CF12D7F41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DD2F-7FA3-4BDA-AF39-DBB1E9F0134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E701-B543-45B7-BDB0-CC47EBD5F6F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48DF-AFD1-4EC4-87B0-AA36CC1F35D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C64C-5B57-47CE-986E-10C0AE41436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D395-77E5-4FA8-ADB5-3CA8DB14EE3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02F1-B329-4910-8DED-1124E6C7656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6C75-CD56-4B3E-B61E-E7AE5D4DB77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22E6-096A-4F92-BBC7-D7AA151C825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66C-B104-43EA-87FE-7B484B50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887D-C6DE-49CA-8E94-1237E64A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C17-3DE5-495E-BB83-4DE3CEE6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CE6-B8FE-4D4D-B17B-E8E1A7ED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4D5-58DD-441E-B08C-C43AF48E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92AA-0D72-43A8-A846-6BF9DF04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3AEB-9161-48BD-B8A0-080DAD97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17BB-D28F-4AE1-AFC2-14032191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5AE-7350-486B-B300-21982777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D2ED-A3DA-496E-AA83-517932FD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129-1531-4C6D-9CA1-A583A87B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A288-EF86-4868-83DF-2DAE4CB3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E3F7-2A95-4948-AF48-341F89936FF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صورة 4" descr="slide-1-728.jpg"/>
          <p:cNvPicPr/>
          <p:nvPr/>
        </p:nvPicPr>
        <p:blipFill>
          <a:blip r:embed="rId1"/>
          <a:srcRect l="0" t="28022" r="0" b="0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5560" y="928440"/>
            <a:ext cx="825804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4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ll annelids (“little rings”) have segmented bod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4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nnelids live in the sea, most freshwater habitats, and damp so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4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coelom of the earthworm, a typical annelid, is partitioned by septa, but the digestive tract, longitudinal blood vessels, and nerve cords penetr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septa and run the animal’s leng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4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Most annelids, including earthworms, burrow in sand and sil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571320"/>
            <a:ext cx="3000240" cy="67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digestive system consists of a pharynx</a:t>
            </a:r>
            <a:r>
              <a:rPr b="0" lang="ar-SA" sz="1800" spc="-1" strike="noStrike">
                <a:solidFill>
                  <a:srgbClr val="000000"/>
                </a:solidFill>
                <a:latin typeface="Andalus"/>
                <a:cs typeface="Andalus"/>
              </a:rPr>
              <a:t>ء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 esophagus, crop, gizzard and intes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closed circulatory system carries blood with oxygen-carrying hemoglobin through dorsal and ventral vessels connected by segmental vesse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3057480" y="9360"/>
            <a:ext cx="60865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مستطيل 3"/>
          <p:cNvSpPr/>
          <p:nvPr/>
        </p:nvSpPr>
        <p:spPr>
          <a:xfrm>
            <a:off x="142920" y="641520"/>
            <a:ext cx="3143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each segment is a pair of excretory tubes,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metanephridi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at remove wastes from the blood and coelomic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arthworms ar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cross-fertilizing hermaphrodit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me earthworms can also reproduc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asexuall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by fragmentation followed by re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rcRect l="0" t="0" r="2348" b="0"/>
          <a:stretch/>
        </p:blipFill>
        <p:spPr>
          <a:xfrm>
            <a:off x="3200400" y="9360"/>
            <a:ext cx="59436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مستطيل 3"/>
          <p:cNvGrpSpPr/>
          <p:nvPr/>
        </p:nvGrpSpPr>
        <p:grpSpPr>
          <a:xfrm>
            <a:off x="401760" y="1262160"/>
            <a:ext cx="3975120" cy="4973400"/>
            <a:chOff x="401760" y="1262160"/>
            <a:chExt cx="3975120" cy="4973400"/>
          </a:xfrm>
        </p:grpSpPr>
        <p:pic>
          <p:nvPicPr>
            <p:cNvPr id="124" name="مستطيل 3" descr=""/>
            <p:cNvPicPr/>
            <p:nvPr/>
          </p:nvPicPr>
          <p:blipFill>
            <a:blip r:embed="rId1"/>
            <a:stretch/>
          </p:blipFill>
          <p:spPr>
            <a:xfrm>
              <a:off x="401760" y="1262160"/>
              <a:ext cx="3975120" cy="49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28760" y="1285920"/>
              <a:ext cx="3929040" cy="49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seudocoelom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Nematoda (Roundworm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Clas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Rhaldit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Order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scari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Family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scariida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Genus: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sca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pecies: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lumbricoi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 u="sng">
                  <a:solidFill>
                    <a:srgbClr val="0000ff"/>
                  </a:solidFill>
                  <a:uFillTx/>
                  <a:latin typeface="Andalus"/>
                  <a:ea typeface="Andalus"/>
                </a:rPr>
                <a:t>Ascaris  </a:t>
              </a:r>
              <a:r>
                <a:rPr b="1" i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l</a:t>
              </a:r>
              <a:r>
                <a:rPr b="1" i="1" lang="en-GB" sz="2400" spc="-1" strike="noStrike" u="sng">
                  <a:solidFill>
                    <a:srgbClr val="0000ff"/>
                  </a:solidFill>
                  <a:uFillTx/>
                  <a:latin typeface="Andalus"/>
                  <a:ea typeface="Andalus"/>
                </a:rPr>
                <a:t>umbricoi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مربع نص 4"/>
          <p:cNvSpPr/>
          <p:nvPr/>
        </p:nvSpPr>
        <p:spPr>
          <a:xfrm>
            <a:off x="785880" y="71280"/>
            <a:ext cx="7358040" cy="93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Kingdom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: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اسكارس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572080" y="1143000"/>
            <a:ext cx="33069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8000" y="1599840"/>
            <a:ext cx="53928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Roundworms are found in most aquatic habitats, wet soil, moist tissues of plants, and the body fluids and tissues of anim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me species parasitize anim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range in length from less than 1 mm to more than a me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body of Nematode is covered with a tough exoskeleton, the cuti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have a complete digestive tra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Nematodes usually engage in sexual reprodu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اسكارس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572080" y="1357200"/>
            <a:ext cx="3306960" cy="5429520"/>
          </a:xfrm>
          <a:prstGeom prst="rect">
            <a:avLst/>
          </a:prstGeom>
          <a:ln w="0">
            <a:noFill/>
          </a:ln>
        </p:spPr>
      </p:pic>
      <p:sp>
        <p:nvSpPr>
          <p:cNvPr id="130" name="مستطيل 7"/>
          <p:cNvSpPr/>
          <p:nvPr/>
        </p:nvSpPr>
        <p:spPr>
          <a:xfrm>
            <a:off x="142920" y="89532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Roundworms are pseudocoelomates covered by tough cut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مستطيل 8"/>
          <p:cNvSpPr/>
          <p:nvPr/>
        </p:nvSpPr>
        <p:spPr>
          <a:xfrm>
            <a:off x="3577680" y="25236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Asc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99880" y="1028880"/>
            <a:ext cx="854424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rcRect l="32394" t="16604" r="14349" b="1211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5286240" y="1357200"/>
            <a:ext cx="3714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rcRect l="32394" t="16604" r="14349" b="13086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3286080" y="4429080"/>
            <a:ext cx="4857840" cy="2428920"/>
          </a:xfrm>
          <a:prstGeom prst="rect">
            <a:avLst/>
          </a:prstGeom>
          <a:ln w="0">
            <a:noFill/>
          </a:ln>
        </p:spPr>
      </p:pic>
      <p:sp>
        <p:nvSpPr>
          <p:cNvPr id="91" name="مربع نص 3"/>
          <p:cNvSpPr/>
          <p:nvPr/>
        </p:nvSpPr>
        <p:spPr>
          <a:xfrm>
            <a:off x="785880" y="214200"/>
            <a:ext cx="7358040" cy="93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Kingdom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: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PTShape_0" descr=""/>
          <p:cNvPicPr/>
          <p:nvPr/>
        </p:nvPicPr>
        <p:blipFill>
          <a:blip r:embed="rId2"/>
          <a:stretch/>
        </p:blipFill>
        <p:spPr>
          <a:xfrm>
            <a:off x="4786200" y="1500120"/>
            <a:ext cx="4179960" cy="2805120"/>
          </a:xfrm>
          <a:prstGeom prst="rect">
            <a:avLst/>
          </a:prstGeom>
          <a:ln w="0">
            <a:noFill/>
          </a:ln>
        </p:spPr>
      </p:pic>
      <p:grpSp>
        <p:nvGrpSpPr>
          <p:cNvPr id="93" name="مستطيل 4"/>
          <p:cNvGrpSpPr/>
          <p:nvPr/>
        </p:nvGrpSpPr>
        <p:grpSpPr>
          <a:xfrm>
            <a:off x="189000" y="1401840"/>
            <a:ext cx="3975120" cy="3402000"/>
            <a:chOff x="189000" y="1401840"/>
            <a:chExt cx="3975120" cy="3402000"/>
          </a:xfrm>
        </p:grpSpPr>
        <p:pic>
          <p:nvPicPr>
            <p:cNvPr id="94" name="مستطيل 4" descr=""/>
            <p:cNvPicPr/>
            <p:nvPr/>
          </p:nvPicPr>
          <p:blipFill>
            <a:blip r:embed="rId3"/>
            <a:stretch/>
          </p:blipFill>
          <p:spPr>
            <a:xfrm>
              <a:off x="189000" y="1401840"/>
              <a:ext cx="3975120" cy="34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14200" y="1428840"/>
              <a:ext cx="392904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b050"/>
                  </a:solidFill>
                  <a:latin typeface="Andalus"/>
                  <a:ea typeface="Andalus"/>
                </a:rPr>
                <a:t>Mollus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1-Clas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Gastropo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Example: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snai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250920" y="1735200"/>
            <a:ext cx="868680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6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llusca includes </a:t>
            </a:r>
            <a:r>
              <a:rPr b="1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snails</a:t>
            </a:r>
            <a:r>
              <a:rPr b="1" lang="ar-SA" sz="2400" spc="-1" strike="noStrike">
                <a:solidFill>
                  <a:srgbClr val="f63f1b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</a:t>
            </a:r>
            <a:r>
              <a:rPr b="1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slug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1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octopuses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</a:t>
            </a:r>
            <a:r>
              <a:rPr b="1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squi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6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mollusks are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marin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ough some inhabit fresh water, and some snails and slugs live on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6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llusks are soft-bodied animals, but most are protected by a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hard shell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of calcium carbon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6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ll mollusks have a muscular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foo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or locomotion, a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visceral mas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with most of the internal organs, and a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mantl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6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mollusks have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separate sex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with gonads located in the visceral mass, and some are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hermaphrodit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2500200" y="571680"/>
            <a:ext cx="350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Andalus"/>
                <a:ea typeface="Andalus"/>
              </a:rPr>
              <a:t>Phylum: </a:t>
            </a:r>
            <a:r>
              <a:rPr b="1" lang="en-US" sz="3200" spc="-1" strike="noStrike">
                <a:solidFill>
                  <a:srgbClr val="00b050"/>
                </a:solidFill>
                <a:latin typeface="Andalus"/>
                <a:ea typeface="Andalus"/>
              </a:rPr>
              <a:t>Mollus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2286000" y="2286000"/>
            <a:ext cx="6751800" cy="4527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920" y="1693800"/>
            <a:ext cx="861084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Most Gastropoda are </a:t>
            </a:r>
            <a:r>
              <a:rPr b="0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marine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, but there are also many freshwater spe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anus and mant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cavity are abov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head in adult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مستطيل 5"/>
          <p:cNvSpPr/>
          <p:nvPr/>
        </p:nvSpPr>
        <p:spPr>
          <a:xfrm>
            <a:off x="2214720" y="2142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Class: </a:t>
            </a:r>
            <a:r>
              <a:rPr b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Gastrop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Example: </a:t>
            </a:r>
            <a:r>
              <a:rPr b="1" i="1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sn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4178160" y="620640"/>
            <a:ext cx="4894560" cy="5165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0920" y="423360"/>
            <a:ext cx="4357800" cy="90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gastropods are protected by a spiraled sh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ther species have lost                                                                                 their shells entirely and                                                                                 may have chemical                                                                                     defenses against preda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any gastropods have distinct                                                                            heads with eyes at the tips of                                                                           tentac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move by their foo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me species are preda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مستطيل 3"/>
          <p:cNvGrpSpPr/>
          <p:nvPr/>
        </p:nvGrpSpPr>
        <p:grpSpPr>
          <a:xfrm>
            <a:off x="189000" y="1689120"/>
            <a:ext cx="3975120" cy="3114720"/>
            <a:chOff x="189000" y="1689120"/>
            <a:chExt cx="3975120" cy="3114720"/>
          </a:xfrm>
        </p:grpSpPr>
        <p:pic>
          <p:nvPicPr>
            <p:cNvPr id="104" name="مستطيل 3" descr=""/>
            <p:cNvPicPr/>
            <p:nvPr/>
          </p:nvPicPr>
          <p:blipFill>
            <a:blip r:embed="rId1"/>
            <a:stretch/>
          </p:blipFill>
          <p:spPr>
            <a:xfrm>
              <a:off x="189000" y="1689120"/>
              <a:ext cx="3975120" cy="31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14200" y="1714680"/>
              <a:ext cx="3929040" cy="30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b050"/>
                  </a:solidFill>
                  <a:latin typeface="Andalus"/>
                  <a:ea typeface="Andalus"/>
                </a:rPr>
                <a:t>Mollus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63f1b"/>
                  </a:solidFill>
                  <a:latin typeface="Calibri"/>
                </a:rPr>
                <a:t>2- Clas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ephalopo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Example: Octopu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مربع نص 2"/>
          <p:cNvSpPr/>
          <p:nvPr/>
        </p:nvSpPr>
        <p:spPr>
          <a:xfrm>
            <a:off x="785880" y="214200"/>
            <a:ext cx="7358040" cy="93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Kingdom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: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4286160" y="1571760"/>
            <a:ext cx="45720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3214800" y="2496960"/>
            <a:ext cx="5859360" cy="3932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7640" y="2491920"/>
            <a:ext cx="309564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foot of a cephalopod (“head foot”) has been modified into the                                                                                         muscular siphon and parts of the tentac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ost octopuses live on the seaflo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Cephalopods have an active,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predaceous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lifesty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y have a well-developed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nervous syste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with a complex brain and well-developed sense orga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44360" y="1123920"/>
            <a:ext cx="87138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41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Cephalopods use rapid movements toward their prey which they capture with several long tenta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41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 mantle covers the visceral mass, but the shell is reduced and internal in squid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issing in many octopu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6"/>
          <p:cNvSpPr/>
          <p:nvPr/>
        </p:nvSpPr>
        <p:spPr>
          <a:xfrm>
            <a:off x="2143080" y="142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3f1b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63f1b"/>
                </a:solidFill>
                <a:latin typeface="Calibri"/>
              </a:rPr>
              <a:t>- </a:t>
            </a:r>
            <a:r>
              <a:rPr b="1" lang="en-US" sz="1800" spc="-1" strike="noStrike">
                <a:solidFill>
                  <a:srgbClr val="f63f1b"/>
                </a:solidFill>
                <a:latin typeface="Calibri"/>
              </a:rPr>
              <a:t>Class: </a:t>
            </a: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Cephalo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Example: Octopus</a:t>
            </a:r>
            <a:r>
              <a:rPr b="1" i="1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مستطيل 3"/>
          <p:cNvGrpSpPr/>
          <p:nvPr/>
        </p:nvGrpSpPr>
        <p:grpSpPr>
          <a:xfrm>
            <a:off x="401760" y="1047600"/>
            <a:ext cx="3975120" cy="4256280"/>
            <a:chOff x="401760" y="1047600"/>
            <a:chExt cx="3975120" cy="4256280"/>
          </a:xfrm>
        </p:grpSpPr>
        <p:pic>
          <p:nvPicPr>
            <p:cNvPr id="113" name="مستطيل 3" descr=""/>
            <p:cNvPicPr/>
            <p:nvPr/>
          </p:nvPicPr>
          <p:blipFill>
            <a:blip r:embed="rId1"/>
            <a:stretch/>
          </p:blipFill>
          <p:spPr>
            <a:xfrm>
              <a:off x="401760" y="1047600"/>
              <a:ext cx="3975120" cy="42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28760" y="1071720"/>
              <a:ext cx="3929040" cy="42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nel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Clas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Oligochae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Genu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llolobophora (Earthwor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Species: caligino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Allolobophora caligino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500720" y="1143000"/>
            <a:ext cx="4643280" cy="4429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دودة الارض"/>
          <p:cNvPicPr/>
          <p:nvPr/>
        </p:nvPicPr>
        <p:blipFill>
          <a:blip r:embed="rId3"/>
          <a:srcRect l="5751" t="15228" r="11150" b="17555"/>
          <a:stretch/>
        </p:blipFill>
        <p:spPr>
          <a:xfrm>
            <a:off x="2357280" y="5429160"/>
            <a:ext cx="5214960" cy="1428840"/>
          </a:xfrm>
          <a:prstGeom prst="rect">
            <a:avLst/>
          </a:prstGeom>
          <a:ln w="0">
            <a:noFill/>
          </a:ln>
        </p:spPr>
      </p:pic>
      <p:sp>
        <p:nvSpPr>
          <p:cNvPr id="117" name="مربع نص 6"/>
          <p:cNvSpPr/>
          <p:nvPr/>
        </p:nvSpPr>
        <p:spPr>
          <a:xfrm>
            <a:off x="785880" y="71280"/>
            <a:ext cx="7358040" cy="93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Kingdom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: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18:40:43Z</dcterms:created>
  <dc:creator>DELL</dc:creator>
  <dc:description/>
  <dc:language>en-US</dc:language>
  <cp:lastModifiedBy>somer</cp:lastModifiedBy>
  <dcterms:modified xsi:type="dcterms:W3CDTF">2014-11-17T04:49:31Z</dcterms:modified>
  <cp:revision>7</cp:revision>
  <dc:subject/>
  <dc:title>الشريحة 1</dc:title>
</cp:coreProperties>
</file>