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8F25-FB84-4C4D-BBA6-556653342D5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D7DA-66FD-4187-8252-FBCEC86A7DE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5D75-02CB-4A9B-81D7-3E86DAB8B7E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88AC-1C46-421E-8BC1-61E35324103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7A1A-FA37-4FFF-BC10-E7784657F66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065A-A598-4FB8-86CC-58E9F691DEE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D407-7435-4D9A-95F7-98C5FAC34B5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83C3-2A35-457B-801F-B1A847F387D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2CC9-DF3A-4BEA-AB5E-C2D3C3534E5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8A0E-F943-4BDB-B9E5-166C29FF02A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0AA0-2F75-463C-8C75-138775934A0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477D-16FF-433F-9527-51DC537A54C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7B38-B6C3-4B1A-83A7-7AF427DA623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BF5A-CA9D-4B00-A6F2-63CFEB36115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03B0-7309-4AB4-83C0-0EB6FA28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E790-A664-4AA4-A1E7-A09E5E12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249-BE0F-4466-A8B2-479A1E07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4975-A814-40BB-B959-05AB5D9F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D1F-6753-4BC9-9301-6C4E52BF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F01-3896-464A-8D80-659EC74F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1B9-03BF-4341-AA43-961C06A2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E033-12D7-4F32-B889-ED4E3E2B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FA8-36F9-4EB0-8C2F-F75A32AD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7A16-6F71-4C83-ACB4-687FFCBF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683B-DF97-49B4-AA5E-FC6E50BA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17EB-9CF6-4E15-B3CC-EA63D54B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FABE-7C50-48F8-AC6E-24A98EDA5B3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صورة 4" descr="slide-1-728.jpg"/>
          <p:cNvPicPr/>
          <p:nvPr/>
        </p:nvPicPr>
        <p:blipFill>
          <a:blip r:embed="rId1"/>
          <a:srcRect l="0" t="28022" r="0" b="0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29280" y="5943600"/>
            <a:ext cx="93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g. 33.3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Group 10"/>
          <p:cNvGrpSpPr/>
          <p:nvPr/>
        </p:nvGrpSpPr>
        <p:grpSpPr>
          <a:xfrm>
            <a:off x="428760" y="189000"/>
            <a:ext cx="8564400" cy="6097680"/>
            <a:chOff x="428760" y="189000"/>
            <a:chExt cx="8564400" cy="6097680"/>
          </a:xfrm>
        </p:grpSpPr>
        <p:pic>
          <p:nvPicPr>
            <p:cNvPr id="112" name="Picture 3" descr=""/>
            <p:cNvPicPr/>
            <p:nvPr/>
          </p:nvPicPr>
          <p:blipFill>
            <a:blip r:embed="rId1"/>
            <a:srcRect l="0" t="0" r="0" b="4318"/>
            <a:stretch/>
          </p:blipFill>
          <p:spPr>
            <a:xfrm>
              <a:off x="428760" y="457200"/>
              <a:ext cx="8564400" cy="582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"/>
            <p:cNvSpPr/>
            <p:nvPr/>
          </p:nvSpPr>
          <p:spPr>
            <a:xfrm>
              <a:off x="3635280" y="19368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رأس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255600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صد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 Box 7"/>
            <p:cNvSpPr/>
            <p:nvPr/>
          </p:nvSpPr>
          <p:spPr>
            <a:xfrm>
              <a:off x="971640" y="18900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بط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6372360" y="1628640"/>
              <a:ext cx="136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قرون استشعا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 Box 9"/>
            <p:cNvSpPr/>
            <p:nvPr/>
          </p:nvSpPr>
          <p:spPr>
            <a:xfrm>
              <a:off x="5148360" y="23493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عين مركب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مستطيل 3"/>
          <p:cNvGrpSpPr/>
          <p:nvPr/>
        </p:nvGrpSpPr>
        <p:grpSpPr>
          <a:xfrm>
            <a:off x="476280" y="1616040"/>
            <a:ext cx="3541680" cy="4187880"/>
            <a:chOff x="476280" y="1616040"/>
            <a:chExt cx="3541680" cy="4187880"/>
          </a:xfrm>
        </p:grpSpPr>
        <p:pic>
          <p:nvPicPr>
            <p:cNvPr id="119" name="مستطيل 3" descr=""/>
            <p:cNvPicPr/>
            <p:nvPr/>
          </p:nvPicPr>
          <p:blipFill>
            <a:blip r:embed="rId1"/>
            <a:stretch/>
          </p:blipFill>
          <p:spPr>
            <a:xfrm>
              <a:off x="476280" y="1616040"/>
              <a:ext cx="35416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00040" y="1643040"/>
              <a:ext cx="350064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horda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phylum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1-</a:t>
              </a: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 Vertebrat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2- Urochordata</a:t>
              </a:r>
              <a:r>
                <a:rPr b="0" lang="ar-SA" sz="2400" spc="-1" strike="noStrike">
                  <a:solidFill>
                    <a:srgbClr val="0000ff"/>
                  </a:solidFill>
                  <a:latin typeface="Andalus"/>
                  <a:cs typeface="Andalus"/>
                </a:rPr>
                <a:t>ا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3- Cephalochorda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4- Hemichordata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4572000" y="1428840"/>
            <a:ext cx="4246560" cy="2851200"/>
          </a:xfrm>
          <a:prstGeom prst="rect">
            <a:avLst/>
          </a:prstGeom>
          <a:ln w="0">
            <a:noFill/>
          </a:ln>
        </p:spPr>
      </p:pic>
      <p:sp>
        <p:nvSpPr>
          <p:cNvPr id="122" name="مستطيل 5"/>
          <p:cNvSpPr/>
          <p:nvPr/>
        </p:nvSpPr>
        <p:spPr>
          <a:xfrm>
            <a:off x="4857840" y="4491000"/>
            <a:ext cx="47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hylum: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hor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ubphylum: </a:t>
            </a:r>
            <a:r>
              <a:rPr b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Vertebrat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Class: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mphibia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Example: </a:t>
            </a:r>
            <a:r>
              <a:rPr b="0" i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frogs(amphibi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2920" y="956880"/>
            <a:ext cx="885816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phylum to which we belong consists of 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ubphylum Vertebrat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 animals with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backbon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umans and their closest relatives ar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vertebrat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is group includes other mammals, birds, lizards, snakes, turtles, amphibians, and the various classes of fish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share several unique features including a backbone, a series of vertebra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phylum Chordata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includes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four </a:t>
            </a: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subphyl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ndalus"/>
                <a:ea typeface="Andalu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Subphylum :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1-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Vertebrat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a</a:t>
            </a:r>
            <a:r>
              <a:rPr b="0" lang="ar-SA" sz="2000" spc="-1" strike="noStrike">
                <a:solidFill>
                  <a:srgbClr val="ff0000"/>
                </a:solidFill>
                <a:latin typeface="Andalus"/>
                <a:ea typeface="Andalu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Subphylum :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2- Urochor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Andalus"/>
                <a:ea typeface="Andalus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Subphylum :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3- Cephalochordata</a:t>
            </a:r>
            <a:r>
              <a:rPr b="0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Subphylum</a:t>
            </a:r>
            <a:r>
              <a:rPr b="0" lang="en-GB" sz="2000" spc="-1" strike="noStrike">
                <a:solidFill>
                  <a:srgbClr val="ff0000"/>
                </a:solidFill>
                <a:latin typeface="Andalus"/>
                <a:ea typeface="Andalus"/>
              </a:rPr>
              <a:t> : </a:t>
            </a:r>
            <a:r>
              <a:rPr b="0" lang="en-GB" sz="2000" spc="-1" strike="noStrike">
                <a:solidFill>
                  <a:srgbClr val="0000ff"/>
                </a:solidFill>
                <a:latin typeface="Andalus"/>
                <a:ea typeface="Andalus"/>
              </a:rPr>
              <a:t>4- Hemichor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ll vertebrates belong to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ubp</a:t>
            </a:r>
            <a:r>
              <a:rPr b="0" lang="en-GB" sz="2400" spc="-1" strike="noStrike">
                <a:solidFill>
                  <a:srgbClr val="ff0000"/>
                </a:solidFill>
                <a:latin typeface="Andalus"/>
                <a:ea typeface="Andalus"/>
              </a:rPr>
              <a:t>hylum Vertebrat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within the chord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مستطيل 5"/>
          <p:cNvSpPr/>
          <p:nvPr/>
        </p:nvSpPr>
        <p:spPr>
          <a:xfrm>
            <a:off x="2507400" y="7128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Phylum: </a:t>
            </a:r>
            <a:r>
              <a:rPr b="1" i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Chor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29040" y="357120"/>
            <a:ext cx="5214960" cy="345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mphibia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means “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two liv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” a reference to the metamorphosis of many frogs from an aquatic stage, the tadpole, to the terrestrial adul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adpoles are usually aquatic herbivores with gills, a lateral line system, and swim by undulating its tai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429080" y="3786120"/>
            <a:ext cx="4246560" cy="2851200"/>
          </a:xfrm>
          <a:prstGeom prst="rect">
            <a:avLst/>
          </a:prstGeom>
          <a:ln w="0">
            <a:noFill/>
          </a:ln>
        </p:spPr>
      </p:pic>
      <p:grpSp>
        <p:nvGrpSpPr>
          <p:cNvPr id="127" name="مستطيل 6"/>
          <p:cNvGrpSpPr/>
          <p:nvPr/>
        </p:nvGrpSpPr>
        <p:grpSpPr>
          <a:xfrm>
            <a:off x="334800" y="-23760"/>
            <a:ext cx="3542040" cy="3827520"/>
            <a:chOff x="334800" y="-23760"/>
            <a:chExt cx="3542040" cy="3827520"/>
          </a:xfrm>
        </p:grpSpPr>
        <p:pic>
          <p:nvPicPr>
            <p:cNvPr id="128" name="مستطيل 6" descr=""/>
            <p:cNvPicPr/>
            <p:nvPr/>
          </p:nvPicPr>
          <p:blipFill>
            <a:blip r:embed="rId2"/>
            <a:stretch/>
          </p:blipFill>
          <p:spPr>
            <a:xfrm>
              <a:off x="334800" y="-23760"/>
              <a:ext cx="3542040" cy="38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357120" y="0"/>
              <a:ext cx="3500640" cy="37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horda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phylum: </a:t>
              </a:r>
              <a:r>
                <a:rPr b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Vertebrat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Clas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mphibia</a:t>
              </a:r>
              <a:r>
                <a:rPr b="0" lang="ar-SA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Example: </a:t>
              </a:r>
              <a:r>
                <a:rPr b="0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frogs(amphibian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مستطيل 7"/>
          <p:cNvSpPr/>
          <p:nvPr/>
        </p:nvSpPr>
        <p:spPr>
          <a:xfrm>
            <a:off x="-285840" y="3786120"/>
            <a:ext cx="500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SzPct val="15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During metamorphosis, the tadpole develops leg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gills are replaced by lu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15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dult frogs 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arnivorous hunter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15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amphibians retain close                                                                ties with water and are most                                                              abundant in damp habita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The Summ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مجموعة 145"/>
          <p:cNvGrpSpPr/>
          <p:nvPr/>
        </p:nvGrpSpPr>
        <p:grpSpPr>
          <a:xfrm>
            <a:off x="-86400" y="1143000"/>
            <a:ext cx="9301320" cy="5714280"/>
            <a:chOff x="-86400" y="1143000"/>
            <a:chExt cx="9301320" cy="5714280"/>
          </a:xfrm>
        </p:grpSpPr>
        <p:grpSp>
          <p:nvGrpSpPr>
            <p:cNvPr id="133" name="مجموعة 136"/>
            <p:cNvGrpSpPr/>
            <p:nvPr/>
          </p:nvGrpSpPr>
          <p:grpSpPr>
            <a:xfrm>
              <a:off x="-86400" y="1576080"/>
              <a:ext cx="9301320" cy="5281200"/>
              <a:chOff x="-86400" y="1576080"/>
              <a:chExt cx="9301320" cy="5281200"/>
            </a:xfrm>
          </p:grpSpPr>
          <p:grpSp>
            <p:nvGrpSpPr>
              <p:cNvPr id="134" name="مجموعة 134"/>
              <p:cNvGrpSpPr/>
              <p:nvPr/>
            </p:nvGrpSpPr>
            <p:grpSpPr>
              <a:xfrm>
                <a:off x="-86400" y="1576080"/>
                <a:ext cx="9301320" cy="5281200"/>
                <a:chOff x="-86400" y="1576080"/>
                <a:chExt cx="9301320" cy="5281200"/>
              </a:xfrm>
            </p:grpSpPr>
            <p:sp>
              <p:nvSpPr>
                <p:cNvPr id="135" name="رابط مستقيم 133"/>
                <p:cNvSpPr/>
                <p:nvPr/>
              </p:nvSpPr>
              <p:spPr>
                <a:xfrm>
                  <a:off x="1778040" y="3450960"/>
                  <a:ext cx="7920" cy="19188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6" name="مجموعة 132"/>
                <p:cNvGrpSpPr/>
                <p:nvPr/>
              </p:nvGrpSpPr>
              <p:grpSpPr>
                <a:xfrm>
                  <a:off x="-86400" y="1576080"/>
                  <a:ext cx="9301320" cy="5281200"/>
                  <a:chOff x="-86400" y="1576080"/>
                  <a:chExt cx="9301320" cy="5281200"/>
                </a:xfrm>
              </p:grpSpPr>
              <p:sp>
                <p:nvSpPr>
                  <p:cNvPr id="137" name="رابط مستقيم 131"/>
                  <p:cNvSpPr/>
                  <p:nvPr/>
                </p:nvSpPr>
                <p:spPr>
                  <a:xfrm>
                    <a:off x="5421240" y="2142720"/>
                    <a:ext cx="7920" cy="191880"/>
                  </a:xfrm>
                  <a:prstGeom prst="line">
                    <a:avLst/>
                  </a:prstGeom>
                  <a:ln w="2556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38" name="مجموعة 93"/>
                  <p:cNvGrpSpPr/>
                  <p:nvPr/>
                </p:nvGrpSpPr>
                <p:grpSpPr>
                  <a:xfrm>
                    <a:off x="-86400" y="1576080"/>
                    <a:ext cx="9301320" cy="5281200"/>
                    <a:chOff x="-86400" y="1576080"/>
                    <a:chExt cx="9301320" cy="5281200"/>
                  </a:xfrm>
                </p:grpSpPr>
                <p:grpSp>
                  <p:nvGrpSpPr>
                    <p:cNvPr id="139" name="مجموعة 12"/>
                    <p:cNvGrpSpPr/>
                    <p:nvPr/>
                  </p:nvGrpSpPr>
                  <p:grpSpPr>
                    <a:xfrm>
                      <a:off x="1713960" y="1576080"/>
                      <a:ext cx="7500960" cy="1933920"/>
                      <a:chOff x="1713960" y="1576080"/>
                      <a:chExt cx="7500960" cy="1933920"/>
                    </a:xfrm>
                  </p:grpSpPr>
                  <p:sp>
                    <p:nvSpPr>
                      <p:cNvPr id="140" name="مستطيل 123"/>
                      <p:cNvSpPr/>
                      <p:nvPr/>
                    </p:nvSpPr>
                    <p:spPr>
                      <a:xfrm>
                        <a:off x="4728960" y="1576080"/>
                        <a:ext cx="1401480" cy="58068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ab5e4"/>
                          </a:gs>
                          <a:gs pos="100000">
                            <a:srgbClr val="e1e8f5"/>
                          </a:gs>
                        </a:gsLst>
                        <a:lin ang="5400000"/>
                      </a:gradFill>
                      <a:ln w="25560">
                        <a:solidFill>
                          <a:srgbClr val="00b0f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Subdivision</a:t>
                        </a: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: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GB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 </a:t>
                        </a:r>
                        <a:r>
                          <a:rPr b="1" lang="en-GB" sz="1600" spc="-1" strike="noStrike">
                            <a:solidFill>
                              <a:srgbClr val="000000"/>
                            </a:solidFill>
                            <a:latin typeface="Andalus"/>
                            <a:ea typeface="Andalus"/>
                          </a:rPr>
                          <a:t>coelomates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cxnSp>
                    <p:nvCxnSpPr>
                      <p:cNvPr id="141" name="رابط كسهم مستقيم 13"/>
                      <p:cNvCxnSpPr/>
                      <p:nvPr/>
                    </p:nvCxnSpPr>
                    <p:spPr>
                      <a:xfrm flipH="1">
                        <a:off x="8787960" y="2286000"/>
                        <a:ext cx="5400" cy="64224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42" name="رابط كسهم مستقيم 125"/>
                      <p:cNvCxnSpPr/>
                      <p:nvPr/>
                    </p:nvCxnSpPr>
                    <p:spPr>
                      <a:xfrm flipH="1">
                        <a:off x="1713960" y="2285640"/>
                        <a:ext cx="3600" cy="60732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43" name="رابط كسهم مستقيم 126"/>
                      <p:cNvCxnSpPr/>
                      <p:nvPr/>
                    </p:nvCxnSpPr>
                    <p:spPr>
                      <a:xfrm flipH="1">
                        <a:off x="7295400" y="2286000"/>
                        <a:ext cx="5400" cy="64224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44" name="رابط كسهم مستقيم 127"/>
                      <p:cNvCxnSpPr/>
                      <p:nvPr/>
                    </p:nvCxnSpPr>
                    <p:spPr>
                      <a:xfrm flipH="1">
                        <a:off x="6054120" y="2286000"/>
                        <a:ext cx="5400" cy="64224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sp>
                    <p:nvSpPr>
                      <p:cNvPr id="145" name="رابط مستقيم 128"/>
                      <p:cNvSpPr/>
                      <p:nvPr/>
                    </p:nvSpPr>
                    <p:spPr>
                      <a:xfrm flipH="1" flipV="1">
                        <a:off x="1714320" y="2286000"/>
                        <a:ext cx="7079040" cy="1440"/>
                      </a:xfrm>
                      <a:prstGeom prst="line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46" name="مستطيل 10"/>
                      <p:cNvSpPr/>
                      <p:nvPr/>
                    </p:nvSpPr>
                    <p:spPr>
                      <a:xfrm>
                        <a:off x="8134920" y="2929320"/>
                        <a:ext cx="1080000" cy="58068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ab5e4"/>
                          </a:gs>
                          <a:gs pos="100000">
                            <a:srgbClr val="e1e8f5"/>
                          </a:gs>
                        </a:gsLst>
                        <a:lin ang="5400000"/>
                      </a:gradFill>
                      <a:ln w="25560">
                        <a:solidFill>
                          <a:srgbClr val="00b0f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Phylum</a:t>
                        </a: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: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ndalus"/>
                            <a:ea typeface="Andalus"/>
                          </a:rPr>
                          <a:t>Mollusca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47" name="مستطيل 11"/>
                      <p:cNvSpPr/>
                      <p:nvPr/>
                    </p:nvSpPr>
                    <p:spPr>
                      <a:xfrm>
                        <a:off x="6809400" y="2929320"/>
                        <a:ext cx="1081440" cy="58068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9ab5e4"/>
                          </a:gs>
                          <a:gs pos="100000">
                            <a:srgbClr val="e1e8f5"/>
                          </a:gs>
                        </a:gsLst>
                        <a:lin ang="5400000"/>
                      </a:gradFill>
                      <a:ln w="25560">
                        <a:solidFill>
                          <a:srgbClr val="00b0f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Phylum</a:t>
                        </a:r>
                        <a:r>
                          <a:rPr b="1" lang="en-US" sz="1600" spc="-1" strike="noStrike">
                            <a:solidFill>
                              <a:srgbClr val="ff0000"/>
                            </a:solidFill>
                            <a:latin typeface="Andalus"/>
                            <a:ea typeface="Andalus"/>
                          </a:rPr>
                          <a:t>: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 algn="ctr" rtl="1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600" spc="-1" strike="noStrike">
                            <a:solidFill>
                              <a:srgbClr val="000000"/>
                            </a:solidFill>
                            <a:latin typeface="Andalus"/>
                            <a:ea typeface="Andalus"/>
                          </a:rPr>
                          <a:t>Annelida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48" name="مستطيل 95"/>
                    <p:cNvSpPr/>
                    <p:nvPr/>
                  </p:nvSpPr>
                  <p:spPr>
                    <a:xfrm>
                      <a:off x="1209600" y="2928600"/>
                      <a:ext cx="1119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9ab5e4"/>
                        </a:gs>
                        <a:gs pos="100000">
                          <a:srgbClr val="e1e8f5"/>
                        </a:gs>
                      </a:gsLst>
                      <a:lin ang="5400000"/>
                    </a:gradFill>
                    <a:ln w="25560">
                      <a:solidFill>
                        <a:srgbClr val="00b0f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Phylum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Chor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49" name="مستطيل 96"/>
                    <p:cNvSpPr/>
                    <p:nvPr/>
                  </p:nvSpPr>
                  <p:spPr>
                    <a:xfrm>
                      <a:off x="6818400" y="5202360"/>
                      <a:ext cx="1157760" cy="58068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Class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Arachn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0" name="مستطيل 97"/>
                    <p:cNvSpPr/>
                    <p:nvPr/>
                  </p:nvSpPr>
                  <p:spPr>
                    <a:xfrm>
                      <a:off x="5032080" y="5189400"/>
                      <a:ext cx="891000" cy="58068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Class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Insec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1" name="مستطيل 98"/>
                    <p:cNvSpPr/>
                    <p:nvPr/>
                  </p:nvSpPr>
                  <p:spPr>
                    <a:xfrm>
                      <a:off x="1080360" y="4012920"/>
                      <a:ext cx="1244520" cy="52020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Subphylum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Urochor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2" name="مستطيل 99"/>
                    <p:cNvSpPr/>
                    <p:nvPr/>
                  </p:nvSpPr>
                  <p:spPr>
                    <a:xfrm>
                      <a:off x="-86400" y="4000320"/>
                      <a:ext cx="1238400" cy="52020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Subphylum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Vertebrat</a:t>
                      </a: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3" name="مستطيل 100"/>
                    <p:cNvSpPr/>
                    <p:nvPr/>
                  </p:nvSpPr>
                  <p:spPr>
                    <a:xfrm>
                      <a:off x="3855960" y="4012920"/>
                      <a:ext cx="1422720" cy="52020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Subphylum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Hemichor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4" name="مستطيل 101"/>
                    <p:cNvSpPr/>
                    <p:nvPr/>
                  </p:nvSpPr>
                  <p:spPr>
                    <a:xfrm>
                      <a:off x="2270160" y="4000320"/>
                      <a:ext cx="1619280" cy="52020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Subphylum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Cephalochor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55" name="مجموعة 46"/>
                    <p:cNvGrpSpPr/>
                    <p:nvPr/>
                  </p:nvGrpSpPr>
                  <p:grpSpPr>
                    <a:xfrm>
                      <a:off x="285120" y="3643200"/>
                      <a:ext cx="4500360" cy="357480"/>
                      <a:chOff x="285120" y="3643200"/>
                      <a:chExt cx="4500360" cy="357480"/>
                    </a:xfrm>
                  </p:grpSpPr>
                  <p:cxnSp>
                    <p:nvCxnSpPr>
                      <p:cNvPr id="156" name="رابط كسهم مستقيم 13"/>
                      <p:cNvCxnSpPr/>
                      <p:nvPr/>
                    </p:nvCxnSpPr>
                    <p:spPr>
                      <a:xfrm flipH="1">
                        <a:off x="4782240" y="3644640"/>
                        <a:ext cx="3600" cy="35640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57" name="رابط كسهم مستقيم 119"/>
                      <p:cNvCxnSpPr/>
                      <p:nvPr/>
                    </p:nvCxnSpPr>
                    <p:spPr>
                      <a:xfrm flipH="1">
                        <a:off x="285120" y="3644280"/>
                        <a:ext cx="2160" cy="33732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58" name="رابط كسهم مستقيم 120"/>
                      <p:cNvCxnSpPr/>
                      <p:nvPr/>
                    </p:nvCxnSpPr>
                    <p:spPr>
                      <a:xfrm flipH="1">
                        <a:off x="3094560" y="3644640"/>
                        <a:ext cx="3600" cy="35640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59" name="رابط كسهم مستقيم 121"/>
                      <p:cNvCxnSpPr/>
                      <p:nvPr/>
                    </p:nvCxnSpPr>
                    <p:spPr>
                      <a:xfrm flipH="1">
                        <a:off x="1758240" y="3644640"/>
                        <a:ext cx="3600" cy="35640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sp>
                    <p:nvSpPr>
                      <p:cNvPr id="160" name="رابط مستقيم 122"/>
                      <p:cNvSpPr/>
                      <p:nvPr/>
                    </p:nvSpPr>
                    <p:spPr>
                      <a:xfrm flipH="1">
                        <a:off x="285480" y="3643200"/>
                        <a:ext cx="4500000" cy="1440"/>
                      </a:xfrm>
                      <a:prstGeom prst="line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161" name="مجموعة 49"/>
                    <p:cNvGrpSpPr/>
                    <p:nvPr/>
                  </p:nvGrpSpPr>
                  <p:grpSpPr>
                    <a:xfrm>
                      <a:off x="5428800" y="4714920"/>
                      <a:ext cx="1929240" cy="357480"/>
                      <a:chOff x="5428800" y="4714920"/>
                      <a:chExt cx="1929240" cy="357480"/>
                    </a:xfrm>
                  </p:grpSpPr>
                  <p:cxnSp>
                    <p:nvCxnSpPr>
                      <p:cNvPr id="162" name="رابط كسهم مستقيم 13"/>
                      <p:cNvCxnSpPr/>
                      <p:nvPr/>
                    </p:nvCxnSpPr>
                    <p:spPr>
                      <a:xfrm flipH="1">
                        <a:off x="7356240" y="4716360"/>
                        <a:ext cx="2160" cy="35640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cxnSp>
                    <p:nvCxnSpPr>
                      <p:cNvPr id="163" name="رابط كسهم مستقيم 116"/>
                      <p:cNvCxnSpPr/>
                      <p:nvPr/>
                    </p:nvCxnSpPr>
                    <p:spPr>
                      <a:xfrm flipH="1">
                        <a:off x="5428800" y="4716000"/>
                        <a:ext cx="2160" cy="337320"/>
                      </a:xfrm>
                      <a:prstGeom prst="straightConnector1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  <a:tailEnd len="med" type="arrow" w="med"/>
                      </a:ln>
                    </p:spPr>
                  </p:cxnSp>
                  <p:sp>
                    <p:nvSpPr>
                      <p:cNvPr id="164" name="رابط مستقيم 117"/>
                      <p:cNvSpPr/>
                      <p:nvPr/>
                    </p:nvSpPr>
                    <p:spPr>
                      <a:xfrm flipH="1">
                        <a:off x="5429160" y="4714920"/>
                        <a:ext cx="1928880" cy="1440"/>
                      </a:xfrm>
                      <a:prstGeom prst="line">
                        <a:avLst/>
                      </a:prstGeom>
                      <a:ln w="38160">
                        <a:solidFill>
                          <a:srgbClr val="4f81bd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165" name="رابط مستقيم 104"/>
                    <p:cNvSpPr/>
                    <p:nvPr/>
                  </p:nvSpPr>
                  <p:spPr>
                    <a:xfrm>
                      <a:off x="6135840" y="3512880"/>
                      <a:ext cx="7920" cy="12016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6" name="مستطيل 105"/>
                    <p:cNvSpPr/>
                    <p:nvPr/>
                  </p:nvSpPr>
                  <p:spPr>
                    <a:xfrm>
                      <a:off x="-73800" y="5214960"/>
                      <a:ext cx="1155960" cy="580680"/>
                    </a:xfrm>
                    <a:prstGeom prst="rect">
                      <a:avLst/>
                    </a:prstGeom>
                    <a:solidFill>
                      <a:srgbClr val="4bacc6"/>
                    </a:solidFill>
                    <a:ln w="38160">
                      <a:solidFill>
                        <a:srgbClr val="ffffff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Class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ndalus"/>
                          <a:ea typeface="Andalus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Amphib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cxnSp>
                  <p:nvCxnSpPr>
                    <p:cNvPr id="167" name="رابط كسهم مستقيم 106"/>
                    <p:cNvCxnSpPr/>
                    <p:nvPr/>
                  </p:nvCxnSpPr>
                  <p:spPr>
                    <a:xfrm flipH="1">
                      <a:off x="356400" y="4571640"/>
                      <a:ext cx="5400" cy="641880"/>
                    </a:xfrm>
                    <a:prstGeom prst="straightConnector1">
                      <a:avLst/>
                    </a:prstGeom>
                    <a:ln w="38160">
                      <a:solidFill>
                        <a:srgbClr val="4f81bd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68" name="مستطيل 107"/>
                    <p:cNvSpPr/>
                    <p:nvPr/>
                  </p:nvSpPr>
                  <p:spPr>
                    <a:xfrm>
                      <a:off x="85320" y="6519960"/>
                      <a:ext cx="581400" cy="337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9eeaff"/>
                        </a:gs>
                        <a:gs pos="100000">
                          <a:srgbClr val="e4f9ff"/>
                        </a:gs>
                      </a:gsLst>
                      <a:lin ang="16200000"/>
                    </a:gradFill>
                    <a:ln w="9360">
                      <a:solidFill>
                        <a:srgbClr val="46aac5"/>
                      </a:solidFill>
                      <a:miter/>
                    </a:ln>
                    <a:effectLst>
                      <a:outerShdw dist="20160" dir="54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Andalus"/>
                          <a:ea typeface="Andalus"/>
                        </a:rPr>
                        <a:t>fr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cxnSp>
                  <p:nvCxnSpPr>
                    <p:cNvPr id="169" name="رابط كسهم مستقيم 108"/>
                    <p:cNvCxnSpPr/>
                    <p:nvPr/>
                  </p:nvCxnSpPr>
                  <p:spPr>
                    <a:xfrm flipH="1">
                      <a:off x="356400" y="5859000"/>
                      <a:ext cx="5400" cy="641880"/>
                    </a:xfrm>
                    <a:prstGeom prst="straightConnector1">
                      <a:avLst/>
                    </a:prstGeom>
                    <a:ln w="38160">
                      <a:solidFill>
                        <a:srgbClr val="4f81bd"/>
                      </a:solidFill>
                      <a:miter/>
                      <a:tailEnd len="med" type="arrow" w="med"/>
                    </a:ln>
                  </p:spPr>
                </p:cxnSp>
                <p:sp>
                  <p:nvSpPr>
                    <p:cNvPr id="170" name="رابط مستقيم 109"/>
                    <p:cNvSpPr/>
                    <p:nvPr/>
                  </p:nvSpPr>
                  <p:spPr>
                    <a:xfrm>
                      <a:off x="7413840" y="366516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1" name="رابط مستقيم 110"/>
                    <p:cNvSpPr/>
                    <p:nvPr/>
                  </p:nvSpPr>
                  <p:spPr>
                    <a:xfrm>
                      <a:off x="7421760" y="395100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2" name="رابط مستقيم 111"/>
                    <p:cNvSpPr/>
                    <p:nvPr/>
                  </p:nvSpPr>
                  <p:spPr>
                    <a:xfrm>
                      <a:off x="7421760" y="423684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3" name="رابط مستقيم 112"/>
                    <p:cNvSpPr/>
                    <p:nvPr/>
                  </p:nvSpPr>
                  <p:spPr>
                    <a:xfrm>
                      <a:off x="8842680" y="371448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4" name="رابط مستقيم 113"/>
                    <p:cNvSpPr/>
                    <p:nvPr/>
                  </p:nvSpPr>
                  <p:spPr>
                    <a:xfrm>
                      <a:off x="8850600" y="400032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5" name="رابط مستقيم 114"/>
                    <p:cNvSpPr/>
                    <p:nvPr/>
                  </p:nvSpPr>
                  <p:spPr>
                    <a:xfrm>
                      <a:off x="8850600" y="4286160"/>
                      <a:ext cx="7920" cy="191880"/>
                    </a:xfrm>
                    <a:prstGeom prst="line">
                      <a:avLst/>
                    </a:prstGeom>
                    <a:ln w="25560">
                      <a:solidFill>
                        <a:srgbClr val="4f81b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sp>
            <p:nvSpPr>
              <p:cNvPr id="176" name="مستطيل 135"/>
              <p:cNvSpPr/>
              <p:nvPr/>
            </p:nvSpPr>
            <p:spPr>
              <a:xfrm>
                <a:off x="5459400" y="2928600"/>
                <a:ext cx="1352520" cy="580680"/>
              </a:xfrm>
              <a:prstGeom prst="rect">
                <a:avLst/>
              </a:prstGeom>
              <a:gradFill rotWithShape="0">
                <a:gsLst>
                  <a:gs pos="0">
                    <a:srgbClr val="9ab5e4"/>
                  </a:gs>
                  <a:gs pos="100000">
                    <a:srgbClr val="e1e8f5"/>
                  </a:gs>
                </a:gsLst>
                <a:lin ang="5400000"/>
              </a:gradFill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ndalus"/>
                    <a:ea typeface="Andalus"/>
                  </a:rPr>
                  <a:t>Phylum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Andalus"/>
                    <a:ea typeface="Andalus"/>
                  </a:rPr>
                  <a:t>: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ndalus"/>
                    <a:ea typeface="Andalus"/>
                  </a:rPr>
                  <a:t>Arthropoda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7" name="رابط مستقيم 143"/>
            <p:cNvSpPr/>
            <p:nvPr/>
          </p:nvSpPr>
          <p:spPr>
            <a:xfrm>
              <a:off x="5429160" y="1143000"/>
              <a:ext cx="7920" cy="1918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رابط مستقيم 144"/>
            <p:cNvSpPr/>
            <p:nvPr/>
          </p:nvSpPr>
          <p:spPr>
            <a:xfrm>
              <a:off x="5437080" y="1428480"/>
              <a:ext cx="7920" cy="1918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rcRect l="31847" t="16604" r="14897" b="1211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32394" t="16604" r="14349" b="13086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مستطيل 3"/>
          <p:cNvGrpSpPr/>
          <p:nvPr/>
        </p:nvGrpSpPr>
        <p:grpSpPr>
          <a:xfrm>
            <a:off x="549360" y="1401840"/>
            <a:ext cx="3967200" cy="3189240"/>
            <a:chOff x="549360" y="1401840"/>
            <a:chExt cx="3967200" cy="3189240"/>
          </a:xfrm>
        </p:grpSpPr>
        <p:pic>
          <p:nvPicPr>
            <p:cNvPr id="90" name="مستطيل 3" descr=""/>
            <p:cNvPicPr/>
            <p:nvPr/>
          </p:nvPicPr>
          <p:blipFill>
            <a:blip r:embed="rId1"/>
            <a:stretch/>
          </p:blipFill>
          <p:spPr>
            <a:xfrm>
              <a:off x="549360" y="1401840"/>
              <a:ext cx="3967200" cy="31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71680" y="1428840"/>
              <a:ext cx="392904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b050"/>
                  </a:solidFill>
                  <a:latin typeface="Andalus"/>
                  <a:ea typeface="Andalus"/>
                </a:rPr>
                <a:t>Arthropod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1-Class: 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Arachnid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2-Class:</a:t>
              </a:r>
              <a:r>
                <a:rPr b="1" lang="en-US" sz="24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Insec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" name="Picture 4" descr=""/>
          <p:cNvPicPr/>
          <p:nvPr/>
        </p:nvPicPr>
        <p:blipFill>
          <a:blip r:embed="rId2"/>
          <a:srcRect l="20036" t="0" r="13176" b="0"/>
          <a:stretch/>
        </p:blipFill>
        <p:spPr>
          <a:xfrm>
            <a:off x="4791240" y="4000680"/>
            <a:ext cx="4066920" cy="2786040"/>
          </a:xfrm>
          <a:prstGeom prst="rect">
            <a:avLst/>
          </a:prstGeom>
          <a:ln w="0">
            <a:noFill/>
          </a:ln>
        </p:spPr>
      </p:pic>
      <p:pic>
        <p:nvPicPr>
          <p:cNvPr id="93" name="PPTShape_0" descr=""/>
          <p:cNvPicPr/>
          <p:nvPr/>
        </p:nvPicPr>
        <p:blipFill>
          <a:blip r:embed="rId3"/>
          <a:stretch/>
        </p:blipFill>
        <p:spPr>
          <a:xfrm>
            <a:off x="4776840" y="1285920"/>
            <a:ext cx="4081320" cy="2643120"/>
          </a:xfrm>
          <a:prstGeom prst="rect">
            <a:avLst/>
          </a:prstGeom>
          <a:ln w="0">
            <a:noFill/>
          </a:ln>
        </p:spPr>
      </p:pic>
      <p:sp>
        <p:nvSpPr>
          <p:cNvPr id="94" name="مربع نص 6"/>
          <p:cNvSpPr/>
          <p:nvPr/>
        </p:nvSpPr>
        <p:spPr>
          <a:xfrm>
            <a:off x="785880" y="71280"/>
            <a:ext cx="7358040" cy="93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Kingdom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: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Animal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77920" y="1417320"/>
            <a:ext cx="86868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rthropods are segmented coelomates with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exoskeletons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jointed append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is phylum is represented in nearly all habitats in the biosp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rthropods are regarded as the most successful animal phyl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diversity and success</a:t>
            </a:r>
            <a:r>
              <a:rPr b="0" lang="ar-SA" sz="2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of arthropods is largely due to three featu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 body seg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 a hard exoske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         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 and jointed append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80880" y="638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Phy</a:t>
            </a:r>
            <a:r>
              <a:rPr b="0" i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lum: </a:t>
            </a:r>
            <a:r>
              <a:rPr b="0" i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Arthrop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75920" y="1321920"/>
            <a:ext cx="8381880" cy="52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body of an arthropod is completely covered by 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cuticl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xoskelet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constructed from layers of protein and chit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xoskeleto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of arthropods is strong and relatively impermeable to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thropods have well-developed sense organs, including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y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or vision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olfactor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receptors for smell, an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ntenna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or touch and sm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thropods have an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open circulatory system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which hemolymph fluid is propelled by a heart through short arteries into sinuses (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hemocoel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 surrounding tissues and org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thropods have evolved a variety of specialized organs for gas ex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80880" y="638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Phy</a:t>
            </a:r>
            <a:r>
              <a:rPr b="0" i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lum: </a:t>
            </a:r>
            <a:r>
              <a:rPr b="0" i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Arthrop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27320" y="0"/>
            <a:ext cx="51166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42920" y="1649520"/>
            <a:ext cx="392904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have clawlike feeding appendages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chelicera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crustaceans have jawlik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mandibl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Have sensory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ntenna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usually a pair of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compoun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y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in addition to simple ey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0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thropods have been grouped into the phylum Arthropo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80880" y="638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8640" indent="-458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Phy</a:t>
            </a:r>
            <a:r>
              <a:rPr b="0" i="1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lum: </a:t>
            </a:r>
            <a:r>
              <a:rPr b="0" i="1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Arthrop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rcRect l="0" t="0" r="50328" b="0"/>
          <a:stretch/>
        </p:blipFill>
        <p:spPr>
          <a:xfrm>
            <a:off x="5643720" y="38160"/>
            <a:ext cx="3381120" cy="4209840"/>
          </a:xfrm>
          <a:prstGeom prst="rect">
            <a:avLst/>
          </a:prstGeom>
          <a:ln w="0">
            <a:noFill/>
          </a:ln>
        </p:spPr>
      </p:pic>
      <p:pic>
        <p:nvPicPr>
          <p:cNvPr id="103" name="PPTShape_0" descr=""/>
          <p:cNvPicPr/>
          <p:nvPr/>
        </p:nvPicPr>
        <p:blipFill>
          <a:blip r:embed="rId2"/>
          <a:stretch/>
        </p:blipFill>
        <p:spPr>
          <a:xfrm>
            <a:off x="5643720" y="4300560"/>
            <a:ext cx="3376440" cy="2313000"/>
          </a:xfrm>
          <a:prstGeom prst="rect">
            <a:avLst/>
          </a:prstGeom>
          <a:ln w="0">
            <a:noFill/>
          </a:ln>
        </p:spPr>
      </p:pic>
      <p:pic>
        <p:nvPicPr>
          <p:cNvPr id="104" name="PPTShape_1" descr=""/>
          <p:cNvPicPr/>
          <p:nvPr/>
        </p:nvPicPr>
        <p:blipFill>
          <a:blip r:embed="rId3"/>
          <a:srcRect l="0" t="0" r="0" b="3780"/>
          <a:stretch/>
        </p:blipFill>
        <p:spPr>
          <a:xfrm>
            <a:off x="539640" y="3763800"/>
            <a:ext cx="4579920" cy="3022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14200" y="233280"/>
            <a:ext cx="542952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1-Class </a:t>
            </a:r>
            <a:r>
              <a:rPr b="1" i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Arachn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se includ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corpions</a:t>
            </a:r>
            <a:r>
              <a:rPr b="0" lang="ar-SA" sz="2400" spc="-1" strike="noStrike">
                <a:solidFill>
                  <a:srgbClr val="ff0000"/>
                </a:solidFill>
                <a:latin typeface="Andalus"/>
                <a:cs typeface="Andalus"/>
              </a:rPr>
              <a:t>العقارب</a:t>
            </a:r>
            <a:r>
              <a:rPr b="0" lang="ar-SA" sz="24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spider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tick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mite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Nearly all ticks are blood-sucking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arasites on the body surfaces of most anim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most spiders, respiration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carried out by book lungs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703440"/>
            <a:ext cx="8624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2-class</a:t>
            </a:r>
            <a:r>
              <a:rPr b="0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: </a:t>
            </a:r>
            <a:r>
              <a:rPr b="1" i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Insec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live in almost every terrestrial habitat and in fresh water, and flying insects fill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study of insect, (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ntomolog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a vast field with many subspecialties, including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hysiolog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ecolog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taxonom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….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Andalus"/>
                <a:ea typeface="Andalus"/>
              </a:rPr>
              <a:t>Class Insect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is divided in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bout 26 orders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17367" t="0" r="10507" b="0"/>
          <a:stretch/>
        </p:blipFill>
        <p:spPr>
          <a:xfrm>
            <a:off x="5072040" y="3286080"/>
            <a:ext cx="3857760" cy="35179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357120" y="4788000"/>
            <a:ext cx="44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any insects have one or two            pairs of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wing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that emerge from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dorsal side of the thorax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360" y="258840"/>
            <a:ext cx="8929800" cy="684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internal anatomy of an insect includes several complex organ sys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complete digestive system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ere are regionally specialized organs with discrete fun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etabolic wastes are removed from the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hemolymph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by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Malpighian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tubul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outpockets of the digestive tra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Respiration is accomplished by a branched, chitin-lined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tracheal system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at carries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rom the spiracles directly to the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insect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nervous system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consists of a pair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ventral nerve cords</a:t>
            </a:r>
            <a:r>
              <a:rPr b="0" lang="ar-SA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with several segmental gangl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Insect are carriers to many diseases like tsetse flies spread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African sleeping sickness and malaria that spread by Mosquito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Some of them pollinate our crops like b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05:55:03Z</dcterms:created>
  <dc:creator>DELL</dc:creator>
  <dc:description/>
  <dc:language>en-US</dc:language>
  <cp:lastModifiedBy>DELL</cp:lastModifiedBy>
  <dcterms:modified xsi:type="dcterms:W3CDTF">2013-09-27T06:01:38Z</dcterms:modified>
  <cp:revision>3</cp:revision>
  <dc:subject/>
  <dc:title>الشريحة 1</dc:title>
</cp:coreProperties>
</file>