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13C-5E4D-4217-891E-323056C73A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DA1-23EF-407A-99B7-B55FE55C7B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E4C-D074-4A5C-ACF5-0486063EF3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0A4-76E4-485E-B351-81580855BF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FB5-9D1D-41AE-BC3D-66BC7575245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782-69D2-46DD-8EA5-77AC7F4D4D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EF7-67CB-4EE3-AD86-63B28481B20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C9F-EAF9-4203-99C8-B8ABBB98F7F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ADF-0D49-4C3D-B759-4EB4B8E24CC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BF74-9A66-45A2-B9B9-E998E27963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79FA-3515-4FAC-B2AE-99A5D9BB3F6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C6A-4532-488D-9121-993538ADDBE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A12-4F08-47A5-BB87-DC9A95D784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00DB-96EE-4BD7-8790-438DDCE5CE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824-2AE9-400B-9200-4A4B662F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4DE-FB76-4CFA-A427-079970D2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B94-C6CF-4215-B7FA-E55508A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B0B-85D5-4EBA-ABFC-B36465B4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84E-AFD1-43F0-8889-26DF2B6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F64-B170-46F0-97DA-3ABAE725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752-3CA6-4E43-9F5E-F84D894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7E5-5405-415E-AF25-DB11897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EC7-13B3-44D9-B1D2-B77C9E0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881-01D0-4A77-823A-ACADD80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96D-2873-48D2-99A9-4C72F0A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8EC-ECD9-4899-A224-C03E953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144-B3A2-47F7-A4F9-FBB474526B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29280" y="5943600"/>
            <a:ext cx="93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مستطيل 3"/>
          <p:cNvGrpSpPr/>
          <p:nvPr/>
        </p:nvGrpSpPr>
        <p:grpSpPr>
          <a:xfrm>
            <a:off x="476280" y="1616040"/>
            <a:ext cx="3541680" cy="4187880"/>
            <a:chOff x="476280" y="1616040"/>
            <a:chExt cx="3541680" cy="4187880"/>
          </a:xfrm>
        </p:grpSpPr>
        <p:pic>
          <p:nvPicPr>
            <p:cNvPr id="119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76280" y="1616040"/>
              <a:ext cx="35416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0040" y="1643040"/>
              <a:ext cx="35006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1-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2- Urochordata</a:t>
              </a:r>
              <a:r>
                <a:rPr b="0" lang="ar-SA" sz="2400" spc="-1" strike="noStrike">
                  <a:solidFill>
                    <a:srgbClr val="0000ff"/>
                  </a:solidFill>
                  <a:latin typeface="Andalus"/>
                  <a:cs typeface="Andalus"/>
                </a:rPr>
                <a:t>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3- Cephalo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4- Hemichordat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4246560" cy="285120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5"/>
          <p:cNvSpPr/>
          <p:nvPr/>
        </p:nvSpPr>
        <p:spPr>
          <a:xfrm>
            <a:off x="4857840" y="449100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hor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: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0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gs(amphib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920" y="956880"/>
            <a:ext cx="885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lum to which we belong consists of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 Vertebra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animals with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ackbo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umans and their closest relatives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vertebra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group includes other mammals, birds, lizards, snakes, turtles, amphibians, and the various classes of fis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share several unique features including a backbone, a series of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phylum Chordata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ur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ubphy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1-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2- Uro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3- Cephalochordata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4- Hemi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vertebrates belong t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hylum Vertebr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chor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2507400" y="7128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29040" y="357120"/>
            <a:ext cx="5214960" cy="34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eans “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wo liv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” a reference to the metamorphosis of many frogs from an aquatic stage, the tadpole, to the terrestrial ad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adpoles are usually aquatic herbivores with gills, a lateral line system, and swim by undulating its t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29080" y="3786120"/>
            <a:ext cx="4246560" cy="28512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ستطيل 6"/>
          <p:cNvGrpSpPr/>
          <p:nvPr/>
        </p:nvGrpSpPr>
        <p:grpSpPr>
          <a:xfrm>
            <a:off x="334800" y="-23760"/>
            <a:ext cx="3542040" cy="3827520"/>
            <a:chOff x="334800" y="-23760"/>
            <a:chExt cx="3542040" cy="3827520"/>
          </a:xfrm>
        </p:grpSpPr>
        <p:pic>
          <p:nvPicPr>
            <p:cNvPr id="128" name="مستطيل 6" descr=""/>
            <p:cNvPicPr/>
            <p:nvPr/>
          </p:nvPicPr>
          <p:blipFill>
            <a:blip r:embed="rId2"/>
            <a:stretch/>
          </p:blipFill>
          <p:spPr>
            <a:xfrm>
              <a:off x="334800" y="-23760"/>
              <a:ext cx="35420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0"/>
              <a:ext cx="350064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phibia</a:t>
              </a: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frogs(amphibian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مستطيل 7"/>
          <p:cNvSpPr/>
          <p:nvPr/>
        </p:nvSpPr>
        <p:spPr>
          <a:xfrm>
            <a:off x="-285840" y="378612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uring metamorphosis, the tadpole develops leg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gills are replaced by lu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dult frog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rnivorous hunt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amphibians retain close                                                                ties with water and are most                                                              abundant in damp habit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مجموعة 145"/>
          <p:cNvGrpSpPr/>
          <p:nvPr/>
        </p:nvGrpSpPr>
        <p:grpSpPr>
          <a:xfrm>
            <a:off x="-86400" y="1143000"/>
            <a:ext cx="9301320" cy="5714280"/>
            <a:chOff x="-86400" y="1143000"/>
            <a:chExt cx="9301320" cy="5714280"/>
          </a:xfrm>
        </p:grpSpPr>
        <p:grpSp>
          <p:nvGrpSpPr>
            <p:cNvPr id="133" name="مجموعة 136"/>
            <p:cNvGrpSpPr/>
            <p:nvPr/>
          </p:nvGrpSpPr>
          <p:grpSpPr>
            <a:xfrm>
              <a:off x="-86400" y="1576080"/>
              <a:ext cx="9301320" cy="5281200"/>
              <a:chOff x="-86400" y="1576080"/>
              <a:chExt cx="9301320" cy="5281200"/>
            </a:xfrm>
          </p:grpSpPr>
          <p:grpSp>
            <p:nvGrpSpPr>
              <p:cNvPr id="134" name="مجموعة 134"/>
              <p:cNvGrpSpPr/>
              <p:nvPr/>
            </p:nvGrpSpPr>
            <p:grpSpPr>
              <a:xfrm>
                <a:off x="-86400" y="1576080"/>
                <a:ext cx="9301320" cy="5281200"/>
                <a:chOff x="-86400" y="1576080"/>
                <a:chExt cx="9301320" cy="5281200"/>
              </a:xfrm>
            </p:grpSpPr>
            <p:sp>
              <p:nvSpPr>
                <p:cNvPr id="135" name="رابط مستقيم 133"/>
                <p:cNvSpPr/>
                <p:nvPr/>
              </p:nvSpPr>
              <p:spPr>
                <a:xfrm>
                  <a:off x="1778040" y="3450960"/>
                  <a:ext cx="7920" cy="19188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6" name="مجموعة 132"/>
                <p:cNvGrpSpPr/>
                <p:nvPr/>
              </p:nvGrpSpPr>
              <p:grpSpPr>
                <a:xfrm>
                  <a:off x="-86400" y="1576080"/>
                  <a:ext cx="9301320" cy="5281200"/>
                  <a:chOff x="-86400" y="1576080"/>
                  <a:chExt cx="9301320" cy="5281200"/>
                </a:xfrm>
              </p:grpSpPr>
              <p:sp>
                <p:nvSpPr>
                  <p:cNvPr id="137" name="رابط مستقيم 131"/>
                  <p:cNvSpPr/>
                  <p:nvPr/>
                </p:nvSpPr>
                <p:spPr>
                  <a:xfrm>
                    <a:off x="5421240" y="2142720"/>
                    <a:ext cx="7920" cy="19188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8" name="مجموعة 93"/>
                  <p:cNvGrpSpPr/>
                  <p:nvPr/>
                </p:nvGrpSpPr>
                <p:grpSpPr>
                  <a:xfrm>
                    <a:off x="-86400" y="1576080"/>
                    <a:ext cx="9301320" cy="5281200"/>
                    <a:chOff x="-86400" y="1576080"/>
                    <a:chExt cx="9301320" cy="5281200"/>
                  </a:xfrm>
                </p:grpSpPr>
                <p:grpSp>
                  <p:nvGrpSpPr>
                    <p:cNvPr id="139" name="مجموعة 12"/>
                    <p:cNvGrpSpPr/>
                    <p:nvPr/>
                  </p:nvGrpSpPr>
                  <p:grpSpPr>
                    <a:xfrm>
                      <a:off x="1713960" y="1576080"/>
                      <a:ext cx="7500960" cy="1933920"/>
                      <a:chOff x="1713960" y="1576080"/>
                      <a:chExt cx="7500960" cy="1933920"/>
                    </a:xfrm>
                  </p:grpSpPr>
                  <p:sp>
                    <p:nvSpPr>
                      <p:cNvPr id="140" name="مستطيل 123"/>
                      <p:cNvSpPr/>
                      <p:nvPr/>
                    </p:nvSpPr>
                    <p:spPr>
                      <a:xfrm>
                        <a:off x="4728960" y="1576080"/>
                        <a:ext cx="140148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Subdivision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 </a:t>
                        </a:r>
                        <a:r>
                          <a:rPr b="1" lang="en-GB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coelomate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141" name="رابط كسهم مستقيم 13"/>
                      <p:cNvCxnSpPr/>
                      <p:nvPr/>
                    </p:nvCxnSpPr>
                    <p:spPr>
                      <a:xfrm flipH="1">
                        <a:off x="878796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2" name="رابط كسهم مستقيم 125"/>
                      <p:cNvCxnSpPr/>
                      <p:nvPr/>
                    </p:nvCxnSpPr>
                    <p:spPr>
                      <a:xfrm flipH="1">
                        <a:off x="1713960" y="2285640"/>
                        <a:ext cx="3600" cy="60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3" name="رابط كسهم مستقيم 126"/>
                      <p:cNvCxnSpPr/>
                      <p:nvPr/>
                    </p:nvCxnSpPr>
                    <p:spPr>
                      <a:xfrm flipH="1">
                        <a:off x="729540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4" name="رابط كسهم مستقيم 127"/>
                      <p:cNvCxnSpPr/>
                      <p:nvPr/>
                    </p:nvCxnSpPr>
                    <p:spPr>
                      <a:xfrm flipH="1">
                        <a:off x="605412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45" name="رابط مستقيم 128"/>
                      <p:cNvSpPr/>
                      <p:nvPr/>
                    </p:nvSpPr>
                    <p:spPr>
                      <a:xfrm flipH="1" flipV="1">
                        <a:off x="1714320" y="2286000"/>
                        <a:ext cx="70790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6" name="مستطيل 10"/>
                      <p:cNvSpPr/>
                      <p:nvPr/>
                    </p:nvSpPr>
                    <p:spPr>
                      <a:xfrm>
                        <a:off x="8134920" y="2929320"/>
                        <a:ext cx="108000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Mollusc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" name="مستطيل 11"/>
                      <p:cNvSpPr/>
                      <p:nvPr/>
                    </p:nvSpPr>
                    <p:spPr>
                      <a:xfrm>
                        <a:off x="6809400" y="2929320"/>
                        <a:ext cx="108144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Annelid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" name="مستطيل 95"/>
                    <p:cNvSpPr/>
                    <p:nvPr/>
                  </p:nvSpPr>
                  <p:spPr>
                    <a:xfrm>
                      <a:off x="1209600" y="2928600"/>
                      <a:ext cx="1119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  <a:ln w="255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Phyl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" name="مستطيل 96"/>
                    <p:cNvSpPr/>
                    <p:nvPr/>
                  </p:nvSpPr>
                  <p:spPr>
                    <a:xfrm>
                      <a:off x="6818400" y="5202360"/>
                      <a:ext cx="11577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rachn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0" name="مستطيل 97"/>
                    <p:cNvSpPr/>
                    <p:nvPr/>
                  </p:nvSpPr>
                  <p:spPr>
                    <a:xfrm>
                      <a:off x="5032080" y="5189400"/>
                      <a:ext cx="89100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Ins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1" name="مستطيل 98"/>
                    <p:cNvSpPr/>
                    <p:nvPr/>
                  </p:nvSpPr>
                  <p:spPr>
                    <a:xfrm>
                      <a:off x="1080360" y="4012920"/>
                      <a:ext cx="12445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Ur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2" name="مستطيل 99"/>
                    <p:cNvSpPr/>
                    <p:nvPr/>
                  </p:nvSpPr>
                  <p:spPr>
                    <a:xfrm>
                      <a:off x="-86400" y="4000320"/>
                      <a:ext cx="123840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Vertebrat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3" name="مستطيل 100"/>
                    <p:cNvSpPr/>
                    <p:nvPr/>
                  </p:nvSpPr>
                  <p:spPr>
                    <a:xfrm>
                      <a:off x="3855960" y="4012920"/>
                      <a:ext cx="14227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Hemi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4" name="مستطيل 101"/>
                    <p:cNvSpPr/>
                    <p:nvPr/>
                  </p:nvSpPr>
                  <p:spPr>
                    <a:xfrm>
                      <a:off x="2270160" y="4000320"/>
                      <a:ext cx="161928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Cephal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55" name="مجموعة 46"/>
                    <p:cNvGrpSpPr/>
                    <p:nvPr/>
                  </p:nvGrpSpPr>
                  <p:grpSpPr>
                    <a:xfrm>
                      <a:off x="285120" y="3643200"/>
                      <a:ext cx="4500360" cy="357480"/>
                      <a:chOff x="285120" y="3643200"/>
                      <a:chExt cx="4500360" cy="357480"/>
                    </a:xfrm>
                  </p:grpSpPr>
                  <p:cxnSp>
                    <p:nvCxnSpPr>
                      <p:cNvPr id="156" name="رابط كسهم مستقيم 13"/>
                      <p:cNvCxnSpPr/>
                      <p:nvPr/>
                    </p:nvCxnSpPr>
                    <p:spPr>
                      <a:xfrm flipH="1">
                        <a:off x="4782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7" name="رابط كسهم مستقيم 119"/>
                      <p:cNvCxnSpPr/>
                      <p:nvPr/>
                    </p:nvCxnSpPr>
                    <p:spPr>
                      <a:xfrm flipH="1">
                        <a:off x="285120" y="364428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8" name="رابط كسهم مستقيم 120"/>
                      <p:cNvCxnSpPr/>
                      <p:nvPr/>
                    </p:nvCxnSpPr>
                    <p:spPr>
                      <a:xfrm flipH="1">
                        <a:off x="309456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9" name="رابط كسهم مستقيم 121"/>
                      <p:cNvCxnSpPr/>
                      <p:nvPr/>
                    </p:nvCxnSpPr>
                    <p:spPr>
                      <a:xfrm flipH="1">
                        <a:off x="1758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0" name="رابط مستقيم 122"/>
                      <p:cNvSpPr/>
                      <p:nvPr/>
                    </p:nvSpPr>
                    <p:spPr>
                      <a:xfrm flipH="1">
                        <a:off x="285480" y="3643200"/>
                        <a:ext cx="450000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161" name="مجموعة 49"/>
                    <p:cNvGrpSpPr/>
                    <p:nvPr/>
                  </p:nvGrpSpPr>
                  <p:grpSpPr>
                    <a:xfrm>
                      <a:off x="5428800" y="4714920"/>
                      <a:ext cx="1929240" cy="357480"/>
                      <a:chOff x="5428800" y="4714920"/>
                      <a:chExt cx="1929240" cy="357480"/>
                    </a:xfrm>
                  </p:grpSpPr>
                  <p:cxnSp>
                    <p:nvCxnSpPr>
                      <p:cNvPr id="162" name="رابط كسهم مستقيم 13"/>
                      <p:cNvCxnSpPr/>
                      <p:nvPr/>
                    </p:nvCxnSpPr>
                    <p:spPr>
                      <a:xfrm flipH="1">
                        <a:off x="7356240" y="4716360"/>
                        <a:ext cx="216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63" name="رابط كسهم مستقيم 116"/>
                      <p:cNvCxnSpPr/>
                      <p:nvPr/>
                    </p:nvCxnSpPr>
                    <p:spPr>
                      <a:xfrm flipH="1">
                        <a:off x="5428800" y="471600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4" name="رابط مستقيم 117"/>
                      <p:cNvSpPr/>
                      <p:nvPr/>
                    </p:nvSpPr>
                    <p:spPr>
                      <a:xfrm flipH="1">
                        <a:off x="5429160" y="4714920"/>
                        <a:ext cx="192888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65" name="رابط مستقيم 104"/>
                    <p:cNvSpPr/>
                    <p:nvPr/>
                  </p:nvSpPr>
                  <p:spPr>
                    <a:xfrm>
                      <a:off x="6135840" y="3512880"/>
                      <a:ext cx="7920" cy="12016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" name="مستطيل 105"/>
                    <p:cNvSpPr/>
                    <p:nvPr/>
                  </p:nvSpPr>
                  <p:spPr>
                    <a:xfrm>
                      <a:off x="-73800" y="5214960"/>
                      <a:ext cx="11559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mphi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7" name="رابط كسهم مستقيم 106"/>
                    <p:cNvCxnSpPr/>
                    <p:nvPr/>
                  </p:nvCxnSpPr>
                  <p:spPr>
                    <a:xfrm flipH="1">
                      <a:off x="356400" y="457164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68" name="مستطيل 107"/>
                    <p:cNvSpPr/>
                    <p:nvPr/>
                  </p:nvSpPr>
                  <p:spPr>
                    <a:xfrm>
                      <a:off x="85320" y="6519960"/>
                      <a:ext cx="581400" cy="337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eeaff"/>
                        </a:gs>
                        <a:gs pos="100000">
                          <a:srgbClr val="e4f9ff"/>
                        </a:gs>
                      </a:gsLst>
                      <a:lin ang="16200000"/>
                    </a:gradFill>
                    <a:ln w="9360">
                      <a:solidFill>
                        <a:srgbClr val="46aac5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fr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9" name="رابط كسهم مستقيم 108"/>
                    <p:cNvCxnSpPr/>
                    <p:nvPr/>
                  </p:nvCxnSpPr>
                  <p:spPr>
                    <a:xfrm flipH="1">
                      <a:off x="356400" y="585900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70" name="رابط مستقيم 109"/>
                    <p:cNvSpPr/>
                    <p:nvPr/>
                  </p:nvSpPr>
                  <p:spPr>
                    <a:xfrm>
                      <a:off x="7413840" y="3665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رابط مستقيم 110"/>
                    <p:cNvSpPr/>
                    <p:nvPr/>
                  </p:nvSpPr>
                  <p:spPr>
                    <a:xfrm>
                      <a:off x="7421760" y="395100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" name="رابط مستقيم 111"/>
                    <p:cNvSpPr/>
                    <p:nvPr/>
                  </p:nvSpPr>
                  <p:spPr>
                    <a:xfrm>
                      <a:off x="7421760" y="423684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" name="رابط مستقيم 112"/>
                    <p:cNvSpPr/>
                    <p:nvPr/>
                  </p:nvSpPr>
                  <p:spPr>
                    <a:xfrm>
                      <a:off x="8842680" y="371448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رابط مستقيم 113"/>
                    <p:cNvSpPr/>
                    <p:nvPr/>
                  </p:nvSpPr>
                  <p:spPr>
                    <a:xfrm>
                      <a:off x="8850600" y="400032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" name="رابط مستقيم 114"/>
                    <p:cNvSpPr/>
                    <p:nvPr/>
                  </p:nvSpPr>
                  <p:spPr>
                    <a:xfrm>
                      <a:off x="8850600" y="4286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176" name="مستطيل 135"/>
              <p:cNvSpPr/>
              <p:nvPr/>
            </p:nvSpPr>
            <p:spPr>
              <a:xfrm>
                <a:off x="5459400" y="2928600"/>
                <a:ext cx="1352520" cy="580680"/>
              </a:xfrm>
              <a:prstGeom prst="rect">
                <a:avLst/>
              </a:prstGeom>
              <a:gradFill rotWithShape="0">
                <a:gsLst>
                  <a:gs pos="0">
                    <a:srgbClr val="9ab5e4"/>
                  </a:gs>
                  <a:gs pos="100000">
                    <a:srgbClr val="e1e8f5"/>
                  </a:gs>
                </a:gsLst>
                <a:lin ang="5400000"/>
              </a:gra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Phylum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Arthropod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رابط مستقيم 143"/>
            <p:cNvSpPr/>
            <p:nvPr/>
          </p:nvSpPr>
          <p:spPr>
            <a:xfrm>
              <a:off x="5429160" y="114300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رابط مستقيم 144"/>
            <p:cNvSpPr/>
            <p:nvPr/>
          </p:nvSpPr>
          <p:spPr>
            <a:xfrm>
              <a:off x="5437080" y="142848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rcRect l="31847" t="16604" r="14897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3"/>
          <p:cNvGrpSpPr/>
          <p:nvPr/>
        </p:nvGrpSpPr>
        <p:grpSpPr>
          <a:xfrm>
            <a:off x="549360" y="1401840"/>
            <a:ext cx="3967200" cy="3189240"/>
            <a:chOff x="549360" y="1401840"/>
            <a:chExt cx="3967200" cy="3189240"/>
          </a:xfrm>
        </p:grpSpPr>
        <p:pic>
          <p:nvPicPr>
            <p:cNvPr id="90" name="مستطيل 3" descr=""/>
            <p:cNvPicPr/>
            <p:nvPr/>
          </p:nvPicPr>
          <p:blipFill>
            <a:blip r:embed="rId1"/>
            <a:stretch/>
          </p:blipFill>
          <p:spPr>
            <a:xfrm>
              <a:off x="549360" y="1401840"/>
              <a:ext cx="3967200" cy="31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71680" y="1428840"/>
              <a:ext cx="3929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Arthropod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achni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-Class: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Insec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2"/>
          <a:srcRect l="20036" t="0" r="13176" b="0"/>
          <a:stretch/>
        </p:blipFill>
        <p:spPr>
          <a:xfrm>
            <a:off x="4791240" y="4000680"/>
            <a:ext cx="406692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PTShape_0" descr=""/>
          <p:cNvPicPr/>
          <p:nvPr/>
        </p:nvPicPr>
        <p:blipFill>
          <a:blip r:embed="rId3"/>
          <a:stretch/>
        </p:blipFill>
        <p:spPr>
          <a:xfrm>
            <a:off x="4776840" y="1285920"/>
            <a:ext cx="4081320" cy="264312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7920" y="141732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segmented coelomates with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exoskeleton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is phylum is represented in nearly all habitats in the bio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regarded as the most successful animal phy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diversity and succes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largely due to three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body seg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 hard exoske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nd 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5920" y="1321920"/>
            <a:ext cx="838188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which hemolymph fluid is propelled by a heart through short arteries into sinuses (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42920" y="1649520"/>
            <a:ext cx="392904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clawlike feeding appendages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helicer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crustaceans have jawlik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ndib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in addition to simple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been grouped into the phylum Arthro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103" name="PPTShape_0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104" name="PPTShape_1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4200" y="233280"/>
            <a:ext cx="5429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1-Class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rachn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cs typeface="Andalus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pid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ick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it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spiders, respiration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carried out by book lung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703440"/>
            <a:ext cx="8624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2-class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se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ndalus"/>
                <a:ea typeface="Andalus"/>
              </a:rPr>
              <a:t>Class Insec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divided 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bout 26 order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7367" t="0" r="10507" b="0"/>
          <a:stretch/>
        </p:blipFill>
        <p:spPr>
          <a:xfrm>
            <a:off x="5072040" y="3286080"/>
            <a:ext cx="3857760" cy="351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57120" y="4788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insects have one or two            pairs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258840"/>
            <a:ext cx="8929800" cy="68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re are regionally specialized organs with discrete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lpigh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ubu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outpockets of th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racheal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ists of a pai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ventral nerve cord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sect are carriers to many diseases like tsetse flies sprea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frican sleeping sickness and malaria that spread by Mosquito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m pollinate our crops like b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5:55:03Z</dcterms:created>
  <dc:creator>DELL</dc:creator>
  <dc:description/>
  <dc:language>en-US</dc:language>
  <cp:lastModifiedBy>DELL</cp:lastModifiedBy>
  <dcterms:modified xsi:type="dcterms:W3CDTF">2013-09-27T06:01:38Z</dcterms:modified>
  <cp:revision>3</cp:revision>
  <dc:subject/>
  <dc:title>الشريحة 1</dc:title>
</cp:coreProperties>
</file>