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DF56-3C2C-4CAD-BDA2-D29CD304D15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A1FC-2B8F-4CAC-A636-CB8A85C0991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DFED-D1E3-43C4-91F8-F152946A057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D62A-EB28-4A86-ABBC-85EBE2B2749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1E24-27A3-4128-9FE2-985F2A77B7E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EFD6-1C6B-44DA-B654-628DA130DB9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4E87-FE27-44C2-ABD8-88100090004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091F-2DF3-4D3C-B3E2-299795DDEF6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B66B-DF1D-40B6-8C2A-2204D94B305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7E35-6041-48E2-9C1A-5DC1888183D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E6C2-C2D5-417D-A671-B06707532B5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C30B-166B-49E0-BE0B-170F2632011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8345-16AC-4CB7-A9DE-9A43375391A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D219-1EA5-4D7A-91FC-3A1B1DE9CDD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A70C-FE78-461A-BC82-5DC772B1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D9E-6FC4-4D0B-AB16-E29A8FD0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B3F-921B-4434-AC85-12A0A9A4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AF7-52CA-4285-BE3C-6FC9EF67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87A-72B0-49BB-B90D-5D7FAA4B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F44-0E38-40CD-BCD2-86AA3830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77E-2482-46DB-8FF9-554D8EE1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634-DF5E-46C5-839B-67324355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B0E-99EC-4B5C-BD13-149E04EA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382-87FB-4D62-946F-D6685C2D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20A-966F-46DA-9188-9AAC7CBC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59E-B1C2-4507-B1C4-2E63DA3F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5EBE-E8C6-42B3-A509-A457FCF6115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29280" y="5943600"/>
            <a:ext cx="93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Group 10"/>
          <p:cNvGrpSpPr/>
          <p:nvPr/>
        </p:nvGrpSpPr>
        <p:grpSpPr>
          <a:xfrm>
            <a:off x="428760" y="189000"/>
            <a:ext cx="8564400" cy="6097680"/>
            <a:chOff x="428760" y="189000"/>
            <a:chExt cx="8564400" cy="6097680"/>
          </a:xfrm>
        </p:grpSpPr>
        <p:pic>
          <p:nvPicPr>
            <p:cNvPr id="112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428760" y="457200"/>
              <a:ext cx="856440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3635280" y="1936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255600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97164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6372360" y="1628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5148360" y="2349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مستطيل 3"/>
          <p:cNvGrpSpPr/>
          <p:nvPr/>
        </p:nvGrpSpPr>
        <p:grpSpPr>
          <a:xfrm>
            <a:off x="476280" y="1616040"/>
            <a:ext cx="3541680" cy="4187880"/>
            <a:chOff x="476280" y="1616040"/>
            <a:chExt cx="3541680" cy="4187880"/>
          </a:xfrm>
        </p:grpSpPr>
        <p:pic>
          <p:nvPicPr>
            <p:cNvPr id="119" name="مستطيل 3" descr=""/>
            <p:cNvPicPr/>
            <p:nvPr/>
          </p:nvPicPr>
          <p:blipFill>
            <a:blip r:embed="rId1"/>
            <a:stretch/>
          </p:blipFill>
          <p:spPr>
            <a:xfrm>
              <a:off x="476280" y="1616040"/>
              <a:ext cx="35416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00040" y="1643040"/>
              <a:ext cx="350064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horda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phylum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1-</a:t>
              </a: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 Vertebrat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2- Urochordata</a:t>
              </a:r>
              <a:r>
                <a:rPr b="0" lang="ar-SA" sz="2400" spc="-1" strike="noStrike">
                  <a:solidFill>
                    <a:srgbClr val="0000ff"/>
                  </a:solidFill>
                  <a:latin typeface="Andalus"/>
                  <a:cs typeface="Andalus"/>
                </a:rPr>
                <a:t>ا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3- Cephalochorda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4- Hemichordata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4572000" y="1428840"/>
            <a:ext cx="4246560" cy="2851200"/>
          </a:xfrm>
          <a:prstGeom prst="rect">
            <a:avLst/>
          </a:prstGeom>
          <a:ln w="0">
            <a:noFill/>
          </a:ln>
        </p:spPr>
      </p:pic>
      <p:sp>
        <p:nvSpPr>
          <p:cNvPr id="122" name="مستطيل 5"/>
          <p:cNvSpPr/>
          <p:nvPr/>
        </p:nvSpPr>
        <p:spPr>
          <a:xfrm>
            <a:off x="4857840" y="4491000"/>
            <a:ext cx="47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hylum: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hor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ubphylum: </a:t>
            </a: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Vertebrat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lass: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mphibia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Example: </a:t>
            </a:r>
            <a:r>
              <a:rPr b="0" i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frogs(amphibi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2920" y="956880"/>
            <a:ext cx="885816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phylum to which we belong consists of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ubphylum Vertebrat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 animals with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backbon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umans and their closest relatives ar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vertebrat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is group includes other mammals, birds, lizards, snakes, turtles, amphibians, and the various classes of fish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share several unique features including a backbone, a series of vertebra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phylum Chordata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ncludes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our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subphyl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ubphylum :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1-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Vertebrat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a</a:t>
            </a: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ubphylum :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2- Urochor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ubphylum :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3- Cephalochordata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Subphylum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 :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4- Hemichor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ll vertebrates belong to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ubp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hylum Vertebrat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within the chord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مستطيل 5"/>
          <p:cNvSpPr/>
          <p:nvPr/>
        </p:nvSpPr>
        <p:spPr>
          <a:xfrm>
            <a:off x="2507400" y="7128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Phylum: </a:t>
            </a:r>
            <a:r>
              <a:rPr b="1" i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Chor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29040" y="357120"/>
            <a:ext cx="5214960" cy="345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mphibia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means “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wo liv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” a reference to the metamorphosis of many frogs from an aquatic stage, the tadpole, to the terrestrial adul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adpoles are usually aquatic herbivores with gills, a lateral line system, and swim by undulating its tai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429080" y="3786120"/>
            <a:ext cx="4246560" cy="2851200"/>
          </a:xfrm>
          <a:prstGeom prst="rect">
            <a:avLst/>
          </a:prstGeom>
          <a:ln w="0">
            <a:noFill/>
          </a:ln>
        </p:spPr>
      </p:pic>
      <p:grpSp>
        <p:nvGrpSpPr>
          <p:cNvPr id="127" name="مستطيل 6"/>
          <p:cNvGrpSpPr/>
          <p:nvPr/>
        </p:nvGrpSpPr>
        <p:grpSpPr>
          <a:xfrm>
            <a:off x="334800" y="-23760"/>
            <a:ext cx="3542040" cy="3827520"/>
            <a:chOff x="334800" y="-23760"/>
            <a:chExt cx="3542040" cy="3827520"/>
          </a:xfrm>
        </p:grpSpPr>
        <p:pic>
          <p:nvPicPr>
            <p:cNvPr id="128" name="مستطيل 6" descr=""/>
            <p:cNvPicPr/>
            <p:nvPr/>
          </p:nvPicPr>
          <p:blipFill>
            <a:blip r:embed="rId2"/>
            <a:stretch/>
          </p:blipFill>
          <p:spPr>
            <a:xfrm>
              <a:off x="334800" y="-23760"/>
              <a:ext cx="354204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57120" y="0"/>
              <a:ext cx="3500640" cy="37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horda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phylum: </a:t>
              </a: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Vertebrat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mphibia</a:t>
              </a:r>
              <a:r>
                <a:rPr b="0" lang="ar-SA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xample: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frogs(amphibian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مستطيل 7"/>
          <p:cNvSpPr/>
          <p:nvPr/>
        </p:nvSpPr>
        <p:spPr>
          <a:xfrm>
            <a:off x="-285840" y="3786120"/>
            <a:ext cx="500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uring metamorphosis, the tadpole develops leg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gills are replaced by lu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dult frogs 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arnivorous hunter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amphibians retain close                                                                ties with water and are most                                                              abundant in damp habita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Summ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مجموعة 145"/>
          <p:cNvGrpSpPr/>
          <p:nvPr/>
        </p:nvGrpSpPr>
        <p:grpSpPr>
          <a:xfrm>
            <a:off x="-86400" y="1143000"/>
            <a:ext cx="9301320" cy="5714280"/>
            <a:chOff x="-86400" y="1143000"/>
            <a:chExt cx="9301320" cy="5714280"/>
          </a:xfrm>
        </p:grpSpPr>
        <p:grpSp>
          <p:nvGrpSpPr>
            <p:cNvPr id="133" name="مجموعة 136"/>
            <p:cNvGrpSpPr/>
            <p:nvPr/>
          </p:nvGrpSpPr>
          <p:grpSpPr>
            <a:xfrm>
              <a:off x="-86400" y="1576080"/>
              <a:ext cx="9301320" cy="5281200"/>
              <a:chOff x="-86400" y="1576080"/>
              <a:chExt cx="9301320" cy="5281200"/>
            </a:xfrm>
          </p:grpSpPr>
          <p:grpSp>
            <p:nvGrpSpPr>
              <p:cNvPr id="134" name="مجموعة 134"/>
              <p:cNvGrpSpPr/>
              <p:nvPr/>
            </p:nvGrpSpPr>
            <p:grpSpPr>
              <a:xfrm>
                <a:off x="-86400" y="1576080"/>
                <a:ext cx="9301320" cy="5281200"/>
                <a:chOff x="-86400" y="1576080"/>
                <a:chExt cx="9301320" cy="5281200"/>
              </a:xfrm>
            </p:grpSpPr>
            <p:sp>
              <p:nvSpPr>
                <p:cNvPr id="135" name="رابط مستقيم 133"/>
                <p:cNvSpPr/>
                <p:nvPr/>
              </p:nvSpPr>
              <p:spPr>
                <a:xfrm>
                  <a:off x="1778040" y="3450960"/>
                  <a:ext cx="7920" cy="19188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6" name="مجموعة 132"/>
                <p:cNvGrpSpPr/>
                <p:nvPr/>
              </p:nvGrpSpPr>
              <p:grpSpPr>
                <a:xfrm>
                  <a:off x="-86400" y="1576080"/>
                  <a:ext cx="9301320" cy="5281200"/>
                  <a:chOff x="-86400" y="1576080"/>
                  <a:chExt cx="9301320" cy="5281200"/>
                </a:xfrm>
              </p:grpSpPr>
              <p:sp>
                <p:nvSpPr>
                  <p:cNvPr id="137" name="رابط مستقيم 131"/>
                  <p:cNvSpPr/>
                  <p:nvPr/>
                </p:nvSpPr>
                <p:spPr>
                  <a:xfrm>
                    <a:off x="5421240" y="2142720"/>
                    <a:ext cx="7920" cy="191880"/>
                  </a:xfrm>
                  <a:prstGeom prst="line">
                    <a:avLst/>
                  </a:prstGeom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38" name="مجموعة 93"/>
                  <p:cNvGrpSpPr/>
                  <p:nvPr/>
                </p:nvGrpSpPr>
                <p:grpSpPr>
                  <a:xfrm>
                    <a:off x="-86400" y="1576080"/>
                    <a:ext cx="9301320" cy="5281200"/>
                    <a:chOff x="-86400" y="1576080"/>
                    <a:chExt cx="9301320" cy="5281200"/>
                  </a:xfrm>
                </p:grpSpPr>
                <p:grpSp>
                  <p:nvGrpSpPr>
                    <p:cNvPr id="139" name="مجموعة 12"/>
                    <p:cNvGrpSpPr/>
                    <p:nvPr/>
                  </p:nvGrpSpPr>
                  <p:grpSpPr>
                    <a:xfrm>
                      <a:off x="1713960" y="1576080"/>
                      <a:ext cx="7500960" cy="1933920"/>
                      <a:chOff x="1713960" y="1576080"/>
                      <a:chExt cx="7500960" cy="1933920"/>
                    </a:xfrm>
                  </p:grpSpPr>
                  <p:sp>
                    <p:nvSpPr>
                      <p:cNvPr id="140" name="مستطيل 123"/>
                      <p:cNvSpPr/>
                      <p:nvPr/>
                    </p:nvSpPr>
                    <p:spPr>
                      <a:xfrm>
                        <a:off x="4728960" y="1576080"/>
                        <a:ext cx="1401480" cy="58068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ab5e4"/>
                          </a:gs>
                          <a:gs pos="100000">
                            <a:srgbClr val="e1e8f5"/>
                          </a:gs>
                        </a:gsLst>
                        <a:lin ang="5400000"/>
                      </a:gradFill>
                      <a:ln w="25560">
                        <a:solidFill>
                          <a:srgbClr val="00b0f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Subdivision</a:t>
                        </a: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: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GB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 </a:t>
                        </a:r>
                        <a:r>
                          <a:rPr b="1" lang="en-GB" sz="1600" spc="-1" strike="noStrike">
                            <a:solidFill>
                              <a:srgbClr val="000000"/>
                            </a:solidFill>
                            <a:latin typeface="Andalus"/>
                            <a:ea typeface="Andalus"/>
                          </a:rPr>
                          <a:t>coelomates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cxnSp>
                    <p:nvCxnSpPr>
                      <p:cNvPr id="141" name="رابط كسهم مستقيم 13"/>
                      <p:cNvCxnSpPr/>
                      <p:nvPr/>
                    </p:nvCxnSpPr>
                    <p:spPr>
                      <a:xfrm flipH="1">
                        <a:off x="8787960" y="2286000"/>
                        <a:ext cx="5400" cy="64224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42" name="رابط كسهم مستقيم 125"/>
                      <p:cNvCxnSpPr/>
                      <p:nvPr/>
                    </p:nvCxnSpPr>
                    <p:spPr>
                      <a:xfrm flipH="1">
                        <a:off x="1713960" y="2285640"/>
                        <a:ext cx="3600" cy="60732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43" name="رابط كسهم مستقيم 126"/>
                      <p:cNvCxnSpPr/>
                      <p:nvPr/>
                    </p:nvCxnSpPr>
                    <p:spPr>
                      <a:xfrm flipH="1">
                        <a:off x="7295400" y="2286000"/>
                        <a:ext cx="5400" cy="64224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44" name="رابط كسهم مستقيم 127"/>
                      <p:cNvCxnSpPr/>
                      <p:nvPr/>
                    </p:nvCxnSpPr>
                    <p:spPr>
                      <a:xfrm flipH="1">
                        <a:off x="6054120" y="2286000"/>
                        <a:ext cx="5400" cy="64224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sp>
                    <p:nvSpPr>
                      <p:cNvPr id="145" name="رابط مستقيم 128"/>
                      <p:cNvSpPr/>
                      <p:nvPr/>
                    </p:nvSpPr>
                    <p:spPr>
                      <a:xfrm flipH="1" flipV="1">
                        <a:off x="1714320" y="2286000"/>
                        <a:ext cx="707904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6" name="مستطيل 10"/>
                      <p:cNvSpPr/>
                      <p:nvPr/>
                    </p:nvSpPr>
                    <p:spPr>
                      <a:xfrm>
                        <a:off x="8134920" y="2929320"/>
                        <a:ext cx="1080000" cy="58068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ab5e4"/>
                          </a:gs>
                          <a:gs pos="100000">
                            <a:srgbClr val="e1e8f5"/>
                          </a:gs>
                        </a:gsLst>
                        <a:lin ang="5400000"/>
                      </a:gradFill>
                      <a:ln w="25560">
                        <a:solidFill>
                          <a:srgbClr val="00b0f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Phylum</a:t>
                        </a: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: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ndalus"/>
                            <a:ea typeface="Andalus"/>
                          </a:rPr>
                          <a:t>Mollusca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7" name="مستطيل 11"/>
                      <p:cNvSpPr/>
                      <p:nvPr/>
                    </p:nvSpPr>
                    <p:spPr>
                      <a:xfrm>
                        <a:off x="6809400" y="2929320"/>
                        <a:ext cx="1081440" cy="58068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ab5e4"/>
                          </a:gs>
                          <a:gs pos="100000">
                            <a:srgbClr val="e1e8f5"/>
                          </a:gs>
                        </a:gsLst>
                        <a:lin ang="5400000"/>
                      </a:gradFill>
                      <a:ln w="25560">
                        <a:solidFill>
                          <a:srgbClr val="00b0f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Phylum</a:t>
                        </a: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: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ndalus"/>
                            <a:ea typeface="Andalus"/>
                          </a:rPr>
                          <a:t>Annelida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48" name="مستطيل 95"/>
                    <p:cNvSpPr/>
                    <p:nvPr/>
                  </p:nvSpPr>
                  <p:spPr>
                    <a:xfrm>
                      <a:off x="1209600" y="2928600"/>
                      <a:ext cx="1119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  <a:ln w="2556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Phylum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Chor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9" name="مستطيل 96"/>
                    <p:cNvSpPr/>
                    <p:nvPr/>
                  </p:nvSpPr>
                  <p:spPr>
                    <a:xfrm>
                      <a:off x="6818400" y="5202360"/>
                      <a:ext cx="1157760" cy="58068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Class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Arachn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0" name="مستطيل 97"/>
                    <p:cNvSpPr/>
                    <p:nvPr/>
                  </p:nvSpPr>
                  <p:spPr>
                    <a:xfrm>
                      <a:off x="5032080" y="5189400"/>
                      <a:ext cx="891000" cy="58068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Class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Insec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1" name="مستطيل 98"/>
                    <p:cNvSpPr/>
                    <p:nvPr/>
                  </p:nvSpPr>
                  <p:spPr>
                    <a:xfrm>
                      <a:off x="1080360" y="4012920"/>
                      <a:ext cx="1244520" cy="52020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Subphylu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Urochor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2" name="مستطيل 99"/>
                    <p:cNvSpPr/>
                    <p:nvPr/>
                  </p:nvSpPr>
                  <p:spPr>
                    <a:xfrm>
                      <a:off x="-86400" y="4000320"/>
                      <a:ext cx="1238400" cy="52020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Subphylu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Vertebrat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3" name="مستطيل 100"/>
                    <p:cNvSpPr/>
                    <p:nvPr/>
                  </p:nvSpPr>
                  <p:spPr>
                    <a:xfrm>
                      <a:off x="3855960" y="4012920"/>
                      <a:ext cx="1422720" cy="52020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Subphylu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Hemichor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4" name="مستطيل 101"/>
                    <p:cNvSpPr/>
                    <p:nvPr/>
                  </p:nvSpPr>
                  <p:spPr>
                    <a:xfrm>
                      <a:off x="2270160" y="4000320"/>
                      <a:ext cx="1619280" cy="52020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Subphylu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Cephalochor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55" name="مجموعة 46"/>
                    <p:cNvGrpSpPr/>
                    <p:nvPr/>
                  </p:nvGrpSpPr>
                  <p:grpSpPr>
                    <a:xfrm>
                      <a:off x="285120" y="3643200"/>
                      <a:ext cx="4500360" cy="357480"/>
                      <a:chOff x="285120" y="3643200"/>
                      <a:chExt cx="4500360" cy="357480"/>
                    </a:xfrm>
                  </p:grpSpPr>
                  <p:cxnSp>
                    <p:nvCxnSpPr>
                      <p:cNvPr id="156" name="رابط كسهم مستقيم 13"/>
                      <p:cNvCxnSpPr/>
                      <p:nvPr/>
                    </p:nvCxnSpPr>
                    <p:spPr>
                      <a:xfrm flipH="1">
                        <a:off x="4782240" y="3644640"/>
                        <a:ext cx="3600" cy="35640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57" name="رابط كسهم مستقيم 119"/>
                      <p:cNvCxnSpPr/>
                      <p:nvPr/>
                    </p:nvCxnSpPr>
                    <p:spPr>
                      <a:xfrm flipH="1">
                        <a:off x="285120" y="3644280"/>
                        <a:ext cx="2160" cy="33732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58" name="رابط كسهم مستقيم 120"/>
                      <p:cNvCxnSpPr/>
                      <p:nvPr/>
                    </p:nvCxnSpPr>
                    <p:spPr>
                      <a:xfrm flipH="1">
                        <a:off x="3094560" y="3644640"/>
                        <a:ext cx="3600" cy="35640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59" name="رابط كسهم مستقيم 121"/>
                      <p:cNvCxnSpPr/>
                      <p:nvPr/>
                    </p:nvCxnSpPr>
                    <p:spPr>
                      <a:xfrm flipH="1">
                        <a:off x="1758240" y="3644640"/>
                        <a:ext cx="3600" cy="35640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sp>
                    <p:nvSpPr>
                      <p:cNvPr id="160" name="رابط مستقيم 122"/>
                      <p:cNvSpPr/>
                      <p:nvPr/>
                    </p:nvSpPr>
                    <p:spPr>
                      <a:xfrm flipH="1">
                        <a:off x="285480" y="3643200"/>
                        <a:ext cx="450000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161" name="مجموعة 49"/>
                    <p:cNvGrpSpPr/>
                    <p:nvPr/>
                  </p:nvGrpSpPr>
                  <p:grpSpPr>
                    <a:xfrm>
                      <a:off x="5428800" y="4714920"/>
                      <a:ext cx="1929240" cy="357480"/>
                      <a:chOff x="5428800" y="4714920"/>
                      <a:chExt cx="1929240" cy="357480"/>
                    </a:xfrm>
                  </p:grpSpPr>
                  <p:cxnSp>
                    <p:nvCxnSpPr>
                      <p:cNvPr id="162" name="رابط كسهم مستقيم 13"/>
                      <p:cNvCxnSpPr/>
                      <p:nvPr/>
                    </p:nvCxnSpPr>
                    <p:spPr>
                      <a:xfrm flipH="1">
                        <a:off x="7356240" y="4716360"/>
                        <a:ext cx="2160" cy="35640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63" name="رابط كسهم مستقيم 116"/>
                      <p:cNvCxnSpPr/>
                      <p:nvPr/>
                    </p:nvCxnSpPr>
                    <p:spPr>
                      <a:xfrm flipH="1">
                        <a:off x="5428800" y="4716000"/>
                        <a:ext cx="2160" cy="33732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sp>
                    <p:nvSpPr>
                      <p:cNvPr id="164" name="رابط مستقيم 117"/>
                      <p:cNvSpPr/>
                      <p:nvPr/>
                    </p:nvSpPr>
                    <p:spPr>
                      <a:xfrm flipH="1">
                        <a:off x="5429160" y="4714920"/>
                        <a:ext cx="192888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65" name="رابط مستقيم 104"/>
                    <p:cNvSpPr/>
                    <p:nvPr/>
                  </p:nvSpPr>
                  <p:spPr>
                    <a:xfrm>
                      <a:off x="6135840" y="3512880"/>
                      <a:ext cx="7920" cy="12016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6" name="مستطيل 105"/>
                    <p:cNvSpPr/>
                    <p:nvPr/>
                  </p:nvSpPr>
                  <p:spPr>
                    <a:xfrm>
                      <a:off x="-73800" y="5214960"/>
                      <a:ext cx="1155960" cy="58068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Class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Amphi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cxnSp>
                  <p:nvCxnSpPr>
                    <p:cNvPr id="167" name="رابط كسهم مستقيم 106"/>
                    <p:cNvCxnSpPr/>
                    <p:nvPr/>
                  </p:nvCxnSpPr>
                  <p:spPr>
                    <a:xfrm flipH="1">
                      <a:off x="356400" y="4571640"/>
                      <a:ext cx="5400" cy="641880"/>
                    </a:xfrm>
                    <a:prstGeom prst="straightConnector1">
                      <a:avLst/>
                    </a:prstGeom>
                    <a:ln w="38160">
                      <a:solidFill>
                        <a:srgbClr val="4f81bd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68" name="مستطيل 107"/>
                    <p:cNvSpPr/>
                    <p:nvPr/>
                  </p:nvSpPr>
                  <p:spPr>
                    <a:xfrm>
                      <a:off x="85320" y="6519960"/>
                      <a:ext cx="581400" cy="337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eeaff"/>
                        </a:gs>
                        <a:gs pos="100000">
                          <a:srgbClr val="e4f9ff"/>
                        </a:gs>
                      </a:gsLst>
                      <a:lin ang="16200000"/>
                    </a:gradFill>
                    <a:ln w="9360">
                      <a:solidFill>
                        <a:srgbClr val="46aac5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fr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cxnSp>
                  <p:nvCxnSpPr>
                    <p:cNvPr id="169" name="رابط كسهم مستقيم 108"/>
                    <p:cNvCxnSpPr/>
                    <p:nvPr/>
                  </p:nvCxnSpPr>
                  <p:spPr>
                    <a:xfrm flipH="1">
                      <a:off x="356400" y="5859000"/>
                      <a:ext cx="5400" cy="641880"/>
                    </a:xfrm>
                    <a:prstGeom prst="straightConnector1">
                      <a:avLst/>
                    </a:prstGeom>
                    <a:ln w="38160">
                      <a:solidFill>
                        <a:srgbClr val="4f81bd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70" name="رابط مستقيم 109"/>
                    <p:cNvSpPr/>
                    <p:nvPr/>
                  </p:nvSpPr>
                  <p:spPr>
                    <a:xfrm>
                      <a:off x="7413840" y="366516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رابط مستقيم 110"/>
                    <p:cNvSpPr/>
                    <p:nvPr/>
                  </p:nvSpPr>
                  <p:spPr>
                    <a:xfrm>
                      <a:off x="7421760" y="395100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2" name="رابط مستقيم 111"/>
                    <p:cNvSpPr/>
                    <p:nvPr/>
                  </p:nvSpPr>
                  <p:spPr>
                    <a:xfrm>
                      <a:off x="7421760" y="423684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3" name="رابط مستقيم 112"/>
                    <p:cNvSpPr/>
                    <p:nvPr/>
                  </p:nvSpPr>
                  <p:spPr>
                    <a:xfrm>
                      <a:off x="8842680" y="371448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4" name="رابط مستقيم 113"/>
                    <p:cNvSpPr/>
                    <p:nvPr/>
                  </p:nvSpPr>
                  <p:spPr>
                    <a:xfrm>
                      <a:off x="8850600" y="400032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5" name="رابط مستقيم 114"/>
                    <p:cNvSpPr/>
                    <p:nvPr/>
                  </p:nvSpPr>
                  <p:spPr>
                    <a:xfrm>
                      <a:off x="8850600" y="428616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sp>
            <p:nvSpPr>
              <p:cNvPr id="176" name="مستطيل 135"/>
              <p:cNvSpPr/>
              <p:nvPr/>
            </p:nvSpPr>
            <p:spPr>
              <a:xfrm>
                <a:off x="5459400" y="2928600"/>
                <a:ext cx="1352520" cy="580680"/>
              </a:xfrm>
              <a:prstGeom prst="rect">
                <a:avLst/>
              </a:prstGeom>
              <a:gradFill rotWithShape="0">
                <a:gsLst>
                  <a:gs pos="0">
                    <a:srgbClr val="9ab5e4"/>
                  </a:gs>
                  <a:gs pos="100000">
                    <a:srgbClr val="e1e8f5"/>
                  </a:gs>
                </a:gsLst>
                <a:lin ang="5400000"/>
              </a:gradFill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ndalus"/>
                    <a:ea typeface="Andalus"/>
                  </a:rPr>
                  <a:t>Phylum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ndalus"/>
                    <a:ea typeface="Andalus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Arthropod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7" name="رابط مستقيم 143"/>
            <p:cNvSpPr/>
            <p:nvPr/>
          </p:nvSpPr>
          <p:spPr>
            <a:xfrm>
              <a:off x="5429160" y="1143000"/>
              <a:ext cx="7920" cy="191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رابط مستقيم 144"/>
            <p:cNvSpPr/>
            <p:nvPr/>
          </p:nvSpPr>
          <p:spPr>
            <a:xfrm>
              <a:off x="5437080" y="1428480"/>
              <a:ext cx="7920" cy="191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rcRect l="31847" t="16604" r="14897" b="1211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32394" t="16604" r="14349" b="13086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مستطيل 3"/>
          <p:cNvGrpSpPr/>
          <p:nvPr/>
        </p:nvGrpSpPr>
        <p:grpSpPr>
          <a:xfrm>
            <a:off x="549360" y="1401840"/>
            <a:ext cx="3967200" cy="3189240"/>
            <a:chOff x="549360" y="1401840"/>
            <a:chExt cx="3967200" cy="3189240"/>
          </a:xfrm>
        </p:grpSpPr>
        <p:pic>
          <p:nvPicPr>
            <p:cNvPr id="90" name="مستطيل 3" descr=""/>
            <p:cNvPicPr/>
            <p:nvPr/>
          </p:nvPicPr>
          <p:blipFill>
            <a:blip r:embed="rId1"/>
            <a:stretch/>
          </p:blipFill>
          <p:spPr>
            <a:xfrm>
              <a:off x="549360" y="1401840"/>
              <a:ext cx="3967200" cy="31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71680" y="1428840"/>
              <a:ext cx="3929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b050"/>
                  </a:solidFill>
                  <a:latin typeface="Andalus"/>
                  <a:ea typeface="Andalus"/>
                </a:rPr>
                <a:t>Arthropod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1-Class: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rachnid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2-Class: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Insec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" name="Picture 4" descr=""/>
          <p:cNvPicPr/>
          <p:nvPr/>
        </p:nvPicPr>
        <p:blipFill>
          <a:blip r:embed="rId2"/>
          <a:srcRect l="20036" t="0" r="13176" b="0"/>
          <a:stretch/>
        </p:blipFill>
        <p:spPr>
          <a:xfrm>
            <a:off x="4791240" y="4000680"/>
            <a:ext cx="4066920" cy="2786040"/>
          </a:xfrm>
          <a:prstGeom prst="rect">
            <a:avLst/>
          </a:prstGeom>
          <a:ln w="0">
            <a:noFill/>
          </a:ln>
        </p:spPr>
      </p:pic>
      <p:pic>
        <p:nvPicPr>
          <p:cNvPr id="93" name="PPTShape_0" descr=""/>
          <p:cNvPicPr/>
          <p:nvPr/>
        </p:nvPicPr>
        <p:blipFill>
          <a:blip r:embed="rId3"/>
          <a:stretch/>
        </p:blipFill>
        <p:spPr>
          <a:xfrm>
            <a:off x="4776840" y="1285920"/>
            <a:ext cx="4081320" cy="2643120"/>
          </a:xfrm>
          <a:prstGeom prst="rect">
            <a:avLst/>
          </a:prstGeom>
          <a:ln w="0">
            <a:noFill/>
          </a:ln>
        </p:spPr>
      </p:pic>
      <p:sp>
        <p:nvSpPr>
          <p:cNvPr id="94" name="مربع نص 6"/>
          <p:cNvSpPr/>
          <p:nvPr/>
        </p:nvSpPr>
        <p:spPr>
          <a:xfrm>
            <a:off x="785880" y="7128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77920" y="1417320"/>
            <a:ext cx="86868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rthropods are segmented coelomates with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exoskeleton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jointed append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is phylum is represented in nearly all habitats in the biosp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rthropods are regarded as the most successful animal phyl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diversity and success</a:t>
            </a:r>
            <a:r>
              <a:rPr b="0" lang="ar-SA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of arthropods is largely due to three feat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 body seg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 a hard exoske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 and jointed append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80880" y="638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Phy</a:t>
            </a:r>
            <a:r>
              <a:rPr b="0" i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lum: </a:t>
            </a:r>
            <a:r>
              <a:rPr b="0" i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Arthrop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75920" y="1321920"/>
            <a:ext cx="8381880" cy="52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body of an arthropod is completely covered by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uticl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xoskelet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xoskelet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thropods have well-developed sense organs, including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y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 vision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olfactor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receptors for smell,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ntenna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thropods have an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open circulatory system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which hemolymph fluid is propelled by a heart through short arteries into sinuses (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emocoel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 surrounding tissues and org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80880" y="638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Phy</a:t>
            </a:r>
            <a:r>
              <a:rPr b="0" i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lum: </a:t>
            </a:r>
            <a:r>
              <a:rPr b="0" i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Arthrop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2732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42920" y="1649520"/>
            <a:ext cx="392904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have clawlike feeding appendages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helicera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crustaceans have jawlik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mandibl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ave sensory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ntenna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usually a pair of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y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in addition to simple ey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thropods have been grouped into the phylum Arthropo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638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Phy</a:t>
            </a:r>
            <a:r>
              <a:rPr b="0" i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lum: </a:t>
            </a:r>
            <a:r>
              <a:rPr b="0" i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Arthrop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643720" y="38160"/>
            <a:ext cx="3381120" cy="4209840"/>
          </a:xfrm>
          <a:prstGeom prst="rect">
            <a:avLst/>
          </a:prstGeom>
          <a:ln w="0">
            <a:noFill/>
          </a:ln>
        </p:spPr>
      </p:pic>
      <p:pic>
        <p:nvPicPr>
          <p:cNvPr id="103" name="PPTShape_0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pic>
        <p:nvPicPr>
          <p:cNvPr id="104" name="PPTShape_1" descr=""/>
          <p:cNvPicPr/>
          <p:nvPr/>
        </p:nvPicPr>
        <p:blipFill>
          <a:blip r:embed="rId3"/>
          <a:srcRect l="0" t="0" r="0" b="3780"/>
          <a:stretch/>
        </p:blipFill>
        <p:spPr>
          <a:xfrm>
            <a:off x="539640" y="3763800"/>
            <a:ext cx="4579920" cy="3022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4200" y="233280"/>
            <a:ext cx="542952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1-Class </a:t>
            </a:r>
            <a:r>
              <a:rPr b="1" i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Arachn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includ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corpions</a:t>
            </a:r>
            <a:r>
              <a:rPr b="0" lang="ar-SA" sz="2400" spc="-1" strike="noStrike">
                <a:solidFill>
                  <a:srgbClr val="ff0000"/>
                </a:solidFill>
                <a:latin typeface="Andalus"/>
                <a:cs typeface="Andalus"/>
              </a:rPr>
              <a:t>العقارب</a:t>
            </a:r>
            <a:r>
              <a:rPr b="0" lang="ar-SA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pider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ick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mite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Nearly all ticks are blood-sucking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arasites on the body surfaces of most anim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most spiders, respiration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carried out by book lungs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703440"/>
            <a:ext cx="8624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2-class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: </a:t>
            </a:r>
            <a:r>
              <a:rPr b="1" i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Insec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live in almost every terrestrial habitat and in fresh water, and flying insects fill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tudy of insect, (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ntomolog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a vast field with many subspecialties, including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hysiolog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colog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axonom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….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ndalus"/>
                <a:ea typeface="Andalus"/>
              </a:rPr>
              <a:t>Class Insect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divided in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bout 26 orders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17367" t="0" r="10507" b="0"/>
          <a:stretch/>
        </p:blipFill>
        <p:spPr>
          <a:xfrm>
            <a:off x="5072040" y="3286080"/>
            <a:ext cx="3857760" cy="3517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357120" y="4788000"/>
            <a:ext cx="44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insects have one or two            pairs of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wing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that emerge fro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dorsal side of the thorax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258840"/>
            <a:ext cx="8929800" cy="68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internal anatomy of an insect includes several complex organ sys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omplete digestive system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re are regionally specialized organs with discrete fu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etabolic wastes are removed from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emolymph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by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Malpighia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ubul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outpockets of the digestive tra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espiration is accomplished by a branched, chitin-line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racheal system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at carri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rom the spiracles directly to the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insect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nervous system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consists of a pair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ventral nerve cord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ith several segmental gangl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sect are carriers to many diseases like tsetse flies sprea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frican sleeping sickness and malaria that spread by Mosquito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ome of them pollinate our crops like b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5:55:03Z</dcterms:created>
  <dc:creator>DELL</dc:creator>
  <dc:description/>
  <dc:language>en-US</dc:language>
  <cp:lastModifiedBy>DELL</cp:lastModifiedBy>
  <dcterms:modified xsi:type="dcterms:W3CDTF">2013-09-27T06:01:38Z</dcterms:modified>
  <cp:revision>3</cp:revision>
  <dc:subject/>
  <dc:title>الشريحة 1</dc:title>
</cp:coreProperties>
</file>