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2C00-CA64-4537-8403-2939A1EB9E6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F79-5C2F-496E-8309-C6319B2EBD6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6EE4-267F-4531-82D9-0B06D52B648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B5BB-6387-4177-A942-39CB9D248E0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F3AE-0C7E-40E6-97AC-2DCF9D048E2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D127-CE78-43B7-AD0C-A846EF1E05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97D4-F230-486D-9DD1-1760DFB1894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C02A-1E57-483D-9EF3-E0DA25B7481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CE5-9C2C-47EC-9059-DA00884E373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3842-84A0-49A9-99B5-AFAF9F39C52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5D69-1D38-4B70-B7BF-1EEBF1BF652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4D6F-23D2-431D-93C1-AC83950DA91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8230-203A-48DC-BADC-96A8EC01EA2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6EFA-AB17-4AA3-9452-4DEE680C56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92C-D415-4C1D-9826-CF18DCC0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A8F-EE88-4EC0-91E3-63AE1EF8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36E-49A6-4EAF-B1FA-78BFEFD4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5BD-2DE3-44D2-9449-75D0C686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A36-F70E-421F-A59F-A8AAD495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31A-6A14-4A99-8145-D6962265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35C-516E-4530-9774-D456B646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043-3D2E-4241-AB47-0B21987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190-9A06-4E8A-90DF-FE3B6823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662-C7B4-4C02-927C-EB758CC4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275-16CD-41F6-9FE2-3AF0943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932-0F9C-476C-B078-C5F87C6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AD17-0345-47DA-B1BF-96890B99EA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29280" y="5943600"/>
            <a:ext cx="93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مستطيل 3"/>
          <p:cNvGrpSpPr/>
          <p:nvPr/>
        </p:nvGrpSpPr>
        <p:grpSpPr>
          <a:xfrm>
            <a:off x="476280" y="1616040"/>
            <a:ext cx="3541680" cy="4187880"/>
            <a:chOff x="476280" y="1616040"/>
            <a:chExt cx="3541680" cy="4187880"/>
          </a:xfrm>
        </p:grpSpPr>
        <p:pic>
          <p:nvPicPr>
            <p:cNvPr id="119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76280" y="1616040"/>
              <a:ext cx="35416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00040" y="1643040"/>
              <a:ext cx="350064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1-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Vertebrat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2- Urochordata</a:t>
              </a:r>
              <a:r>
                <a:rPr b="0" lang="ar-SA" sz="2400" spc="-1" strike="noStrike">
                  <a:solidFill>
                    <a:srgbClr val="0000ff"/>
                  </a:solidFill>
                  <a:latin typeface="Andalus"/>
                  <a:cs typeface="Andalus"/>
                </a:rPr>
                <a:t>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3- Cephalo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4- Hemichordat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4246560" cy="2851200"/>
          </a:xfrm>
          <a:prstGeom prst="rect">
            <a:avLst/>
          </a:prstGeom>
          <a:ln w="0">
            <a:noFill/>
          </a:ln>
        </p:spPr>
      </p:pic>
      <p:sp>
        <p:nvSpPr>
          <p:cNvPr id="122" name="مستطيل 5"/>
          <p:cNvSpPr/>
          <p:nvPr/>
        </p:nvSpPr>
        <p:spPr>
          <a:xfrm>
            <a:off x="4857840" y="449100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hylum: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hor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hylum: 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Vertebrat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lass: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phibia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xample: </a:t>
            </a:r>
            <a:r>
              <a:rPr b="0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rogs(amphibi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2920" y="956880"/>
            <a:ext cx="88581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hylum to which we belong consists of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hylum Vertebra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animals with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backbo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umans and their closest relatives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vertebra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is group includes other mammals, birds, lizards, snakes, turtles, amphibians, and the various classes of fis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share several unique features including a backbone, a series of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phylum Chordata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nclude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our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ubphyl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1-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ertebrat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</a:t>
            </a: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2- Urochor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3- Cephalochordata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4- Hemichor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vertebrates belong to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hylum Vertebrat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in the chord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ستطيل 5"/>
          <p:cNvSpPr/>
          <p:nvPr/>
        </p:nvSpPr>
        <p:spPr>
          <a:xfrm>
            <a:off x="2507400" y="7128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Phylum: </a:t>
            </a:r>
            <a:r>
              <a:rPr b="1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Chor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29040" y="357120"/>
            <a:ext cx="5214960" cy="345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phibia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means “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wo liv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” a reference to the metamorphosis of many frogs from an aquatic stage, the tadpole, to the terrestrial ad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adpoles are usually aquatic herbivores with gills, a lateral line system, and swim by undulating its ta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429080" y="3786120"/>
            <a:ext cx="4246560" cy="2851200"/>
          </a:xfrm>
          <a:prstGeom prst="rect">
            <a:avLst/>
          </a:prstGeom>
          <a:ln w="0">
            <a:noFill/>
          </a:ln>
        </p:spPr>
      </p:pic>
      <p:grpSp>
        <p:nvGrpSpPr>
          <p:cNvPr id="127" name="مستطيل 6"/>
          <p:cNvGrpSpPr/>
          <p:nvPr/>
        </p:nvGrpSpPr>
        <p:grpSpPr>
          <a:xfrm>
            <a:off x="334800" y="-23760"/>
            <a:ext cx="3542040" cy="3827520"/>
            <a:chOff x="334800" y="-23760"/>
            <a:chExt cx="3542040" cy="3827520"/>
          </a:xfrm>
        </p:grpSpPr>
        <p:pic>
          <p:nvPicPr>
            <p:cNvPr id="128" name="مستطيل 6" descr=""/>
            <p:cNvPicPr/>
            <p:nvPr/>
          </p:nvPicPr>
          <p:blipFill>
            <a:blip r:embed="rId2"/>
            <a:stretch/>
          </p:blipFill>
          <p:spPr>
            <a:xfrm>
              <a:off x="334800" y="-23760"/>
              <a:ext cx="35420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0"/>
              <a:ext cx="350064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: 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Vertebrat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mphibia</a:t>
              </a: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frogs(amphibian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مستطيل 7"/>
          <p:cNvSpPr/>
          <p:nvPr/>
        </p:nvSpPr>
        <p:spPr>
          <a:xfrm>
            <a:off x="-285840" y="378612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uring metamorphosis, the tadpole develops leg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gills are replaced by lu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dult frogs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arnivorous hunter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amphibians retain close                                                                ties with water and are most                                                              abundant in damp habita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مجموعة 145"/>
          <p:cNvGrpSpPr/>
          <p:nvPr/>
        </p:nvGrpSpPr>
        <p:grpSpPr>
          <a:xfrm>
            <a:off x="-86400" y="1143000"/>
            <a:ext cx="9301320" cy="5714280"/>
            <a:chOff x="-86400" y="1143000"/>
            <a:chExt cx="9301320" cy="5714280"/>
          </a:xfrm>
        </p:grpSpPr>
        <p:grpSp>
          <p:nvGrpSpPr>
            <p:cNvPr id="133" name="مجموعة 136"/>
            <p:cNvGrpSpPr/>
            <p:nvPr/>
          </p:nvGrpSpPr>
          <p:grpSpPr>
            <a:xfrm>
              <a:off x="-86400" y="1576080"/>
              <a:ext cx="9301320" cy="5281200"/>
              <a:chOff x="-86400" y="1576080"/>
              <a:chExt cx="9301320" cy="5281200"/>
            </a:xfrm>
          </p:grpSpPr>
          <p:grpSp>
            <p:nvGrpSpPr>
              <p:cNvPr id="134" name="مجموعة 134"/>
              <p:cNvGrpSpPr/>
              <p:nvPr/>
            </p:nvGrpSpPr>
            <p:grpSpPr>
              <a:xfrm>
                <a:off x="-86400" y="1576080"/>
                <a:ext cx="9301320" cy="5281200"/>
                <a:chOff x="-86400" y="1576080"/>
                <a:chExt cx="9301320" cy="5281200"/>
              </a:xfrm>
            </p:grpSpPr>
            <p:sp>
              <p:nvSpPr>
                <p:cNvPr id="135" name="رابط مستقيم 133"/>
                <p:cNvSpPr/>
                <p:nvPr/>
              </p:nvSpPr>
              <p:spPr>
                <a:xfrm>
                  <a:off x="1778040" y="3450960"/>
                  <a:ext cx="7920" cy="19188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6" name="مجموعة 132"/>
                <p:cNvGrpSpPr/>
                <p:nvPr/>
              </p:nvGrpSpPr>
              <p:grpSpPr>
                <a:xfrm>
                  <a:off x="-86400" y="1576080"/>
                  <a:ext cx="9301320" cy="5281200"/>
                  <a:chOff x="-86400" y="1576080"/>
                  <a:chExt cx="9301320" cy="5281200"/>
                </a:xfrm>
              </p:grpSpPr>
              <p:sp>
                <p:nvSpPr>
                  <p:cNvPr id="137" name="رابط مستقيم 131"/>
                  <p:cNvSpPr/>
                  <p:nvPr/>
                </p:nvSpPr>
                <p:spPr>
                  <a:xfrm>
                    <a:off x="5421240" y="2142720"/>
                    <a:ext cx="7920" cy="191880"/>
                  </a:xfrm>
                  <a:prstGeom prst="line">
                    <a:avLst/>
                  </a:prstGeom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38" name="مجموعة 93"/>
                  <p:cNvGrpSpPr/>
                  <p:nvPr/>
                </p:nvGrpSpPr>
                <p:grpSpPr>
                  <a:xfrm>
                    <a:off x="-86400" y="1576080"/>
                    <a:ext cx="9301320" cy="5281200"/>
                    <a:chOff x="-86400" y="1576080"/>
                    <a:chExt cx="9301320" cy="5281200"/>
                  </a:xfrm>
                </p:grpSpPr>
                <p:grpSp>
                  <p:nvGrpSpPr>
                    <p:cNvPr id="139" name="مجموعة 12"/>
                    <p:cNvGrpSpPr/>
                    <p:nvPr/>
                  </p:nvGrpSpPr>
                  <p:grpSpPr>
                    <a:xfrm>
                      <a:off x="1713960" y="1576080"/>
                      <a:ext cx="7500960" cy="1933920"/>
                      <a:chOff x="1713960" y="1576080"/>
                      <a:chExt cx="7500960" cy="1933920"/>
                    </a:xfrm>
                  </p:grpSpPr>
                  <p:sp>
                    <p:nvSpPr>
                      <p:cNvPr id="140" name="مستطيل 123"/>
                      <p:cNvSpPr/>
                      <p:nvPr/>
                    </p:nvSpPr>
                    <p:spPr>
                      <a:xfrm>
                        <a:off x="4728960" y="1576080"/>
                        <a:ext cx="140148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Subdivision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 </a:t>
                        </a:r>
                        <a:r>
                          <a:rPr b="1" lang="en-GB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coelomates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cxnSp>
                    <p:nvCxnSpPr>
                      <p:cNvPr id="141" name="رابط كسهم مستقيم 13"/>
                      <p:cNvCxnSpPr/>
                      <p:nvPr/>
                    </p:nvCxnSpPr>
                    <p:spPr>
                      <a:xfrm flipH="1">
                        <a:off x="878796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2" name="رابط كسهم مستقيم 125"/>
                      <p:cNvCxnSpPr/>
                      <p:nvPr/>
                    </p:nvCxnSpPr>
                    <p:spPr>
                      <a:xfrm flipH="1">
                        <a:off x="1713960" y="2285640"/>
                        <a:ext cx="3600" cy="60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3" name="رابط كسهم مستقيم 126"/>
                      <p:cNvCxnSpPr/>
                      <p:nvPr/>
                    </p:nvCxnSpPr>
                    <p:spPr>
                      <a:xfrm flipH="1">
                        <a:off x="729540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4" name="رابط كسهم مستقيم 127"/>
                      <p:cNvCxnSpPr/>
                      <p:nvPr/>
                    </p:nvCxnSpPr>
                    <p:spPr>
                      <a:xfrm flipH="1">
                        <a:off x="605412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45" name="رابط مستقيم 128"/>
                      <p:cNvSpPr/>
                      <p:nvPr/>
                    </p:nvSpPr>
                    <p:spPr>
                      <a:xfrm flipH="1" flipV="1">
                        <a:off x="1714320" y="2286000"/>
                        <a:ext cx="707904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6" name="مستطيل 10"/>
                      <p:cNvSpPr/>
                      <p:nvPr/>
                    </p:nvSpPr>
                    <p:spPr>
                      <a:xfrm>
                        <a:off x="8134920" y="2929320"/>
                        <a:ext cx="108000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Phylum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Mollusca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7" name="مستطيل 11"/>
                      <p:cNvSpPr/>
                      <p:nvPr/>
                    </p:nvSpPr>
                    <p:spPr>
                      <a:xfrm>
                        <a:off x="6809400" y="2929320"/>
                        <a:ext cx="108144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Phylum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Annelida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8" name="مستطيل 95"/>
                    <p:cNvSpPr/>
                    <p:nvPr/>
                  </p:nvSpPr>
                  <p:spPr>
                    <a:xfrm>
                      <a:off x="1209600" y="2928600"/>
                      <a:ext cx="1119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  <a:ln w="255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Phylu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Chor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9" name="مستطيل 96"/>
                    <p:cNvSpPr/>
                    <p:nvPr/>
                  </p:nvSpPr>
                  <p:spPr>
                    <a:xfrm>
                      <a:off x="6818400" y="5202360"/>
                      <a:ext cx="115776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rachn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0" name="مستطيل 97"/>
                    <p:cNvSpPr/>
                    <p:nvPr/>
                  </p:nvSpPr>
                  <p:spPr>
                    <a:xfrm>
                      <a:off x="5032080" y="5189400"/>
                      <a:ext cx="89100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Insec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1" name="مستطيل 98"/>
                    <p:cNvSpPr/>
                    <p:nvPr/>
                  </p:nvSpPr>
                  <p:spPr>
                    <a:xfrm>
                      <a:off x="1080360" y="4012920"/>
                      <a:ext cx="124452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Uro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2" name="مستطيل 99"/>
                    <p:cNvSpPr/>
                    <p:nvPr/>
                  </p:nvSpPr>
                  <p:spPr>
                    <a:xfrm>
                      <a:off x="-86400" y="4000320"/>
                      <a:ext cx="123840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Vertebrat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3" name="مستطيل 100"/>
                    <p:cNvSpPr/>
                    <p:nvPr/>
                  </p:nvSpPr>
                  <p:spPr>
                    <a:xfrm>
                      <a:off x="3855960" y="4012920"/>
                      <a:ext cx="142272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Hemi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4" name="مستطيل 101"/>
                    <p:cNvSpPr/>
                    <p:nvPr/>
                  </p:nvSpPr>
                  <p:spPr>
                    <a:xfrm>
                      <a:off x="2270160" y="4000320"/>
                      <a:ext cx="161928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Cephalo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55" name="مجموعة 46"/>
                    <p:cNvGrpSpPr/>
                    <p:nvPr/>
                  </p:nvGrpSpPr>
                  <p:grpSpPr>
                    <a:xfrm>
                      <a:off x="285120" y="3643200"/>
                      <a:ext cx="4500360" cy="357480"/>
                      <a:chOff x="285120" y="3643200"/>
                      <a:chExt cx="4500360" cy="357480"/>
                    </a:xfrm>
                  </p:grpSpPr>
                  <p:cxnSp>
                    <p:nvCxnSpPr>
                      <p:cNvPr id="156" name="رابط كسهم مستقيم 13"/>
                      <p:cNvCxnSpPr/>
                      <p:nvPr/>
                    </p:nvCxnSpPr>
                    <p:spPr>
                      <a:xfrm flipH="1">
                        <a:off x="478224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7" name="رابط كسهم مستقيم 119"/>
                      <p:cNvCxnSpPr/>
                      <p:nvPr/>
                    </p:nvCxnSpPr>
                    <p:spPr>
                      <a:xfrm flipH="1">
                        <a:off x="285120" y="3644280"/>
                        <a:ext cx="2160" cy="33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8" name="رابط كسهم مستقيم 120"/>
                      <p:cNvCxnSpPr/>
                      <p:nvPr/>
                    </p:nvCxnSpPr>
                    <p:spPr>
                      <a:xfrm flipH="1">
                        <a:off x="309456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9" name="رابط كسهم مستقيم 121"/>
                      <p:cNvCxnSpPr/>
                      <p:nvPr/>
                    </p:nvCxnSpPr>
                    <p:spPr>
                      <a:xfrm flipH="1">
                        <a:off x="175824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60" name="رابط مستقيم 122"/>
                      <p:cNvSpPr/>
                      <p:nvPr/>
                    </p:nvSpPr>
                    <p:spPr>
                      <a:xfrm flipH="1">
                        <a:off x="285480" y="3643200"/>
                        <a:ext cx="450000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161" name="مجموعة 49"/>
                    <p:cNvGrpSpPr/>
                    <p:nvPr/>
                  </p:nvGrpSpPr>
                  <p:grpSpPr>
                    <a:xfrm>
                      <a:off x="5428800" y="4714920"/>
                      <a:ext cx="1929240" cy="357480"/>
                      <a:chOff x="5428800" y="4714920"/>
                      <a:chExt cx="1929240" cy="357480"/>
                    </a:xfrm>
                  </p:grpSpPr>
                  <p:cxnSp>
                    <p:nvCxnSpPr>
                      <p:cNvPr id="162" name="رابط كسهم مستقيم 13"/>
                      <p:cNvCxnSpPr/>
                      <p:nvPr/>
                    </p:nvCxnSpPr>
                    <p:spPr>
                      <a:xfrm flipH="1">
                        <a:off x="7356240" y="4716360"/>
                        <a:ext cx="216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63" name="رابط كسهم مستقيم 116"/>
                      <p:cNvCxnSpPr/>
                      <p:nvPr/>
                    </p:nvCxnSpPr>
                    <p:spPr>
                      <a:xfrm flipH="1">
                        <a:off x="5428800" y="4716000"/>
                        <a:ext cx="2160" cy="33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64" name="رابط مستقيم 117"/>
                      <p:cNvSpPr/>
                      <p:nvPr/>
                    </p:nvSpPr>
                    <p:spPr>
                      <a:xfrm flipH="1">
                        <a:off x="5429160" y="4714920"/>
                        <a:ext cx="192888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65" name="رابط مستقيم 104"/>
                    <p:cNvSpPr/>
                    <p:nvPr/>
                  </p:nvSpPr>
                  <p:spPr>
                    <a:xfrm>
                      <a:off x="6135840" y="3512880"/>
                      <a:ext cx="7920" cy="12016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6" name="مستطيل 105"/>
                    <p:cNvSpPr/>
                    <p:nvPr/>
                  </p:nvSpPr>
                  <p:spPr>
                    <a:xfrm>
                      <a:off x="-73800" y="5214960"/>
                      <a:ext cx="115596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mphi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167" name="رابط كسهم مستقيم 106"/>
                    <p:cNvCxnSpPr/>
                    <p:nvPr/>
                  </p:nvCxnSpPr>
                  <p:spPr>
                    <a:xfrm flipH="1">
                      <a:off x="356400" y="4571640"/>
                      <a:ext cx="5400" cy="641880"/>
                    </a:xfrm>
                    <a:prstGeom prst="straightConnector1">
                      <a:avLst/>
                    </a:prstGeom>
                    <a:ln w="38160">
                      <a:solidFill>
                        <a:srgbClr val="4f81bd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68" name="مستطيل 107"/>
                    <p:cNvSpPr/>
                    <p:nvPr/>
                  </p:nvSpPr>
                  <p:spPr>
                    <a:xfrm>
                      <a:off x="85320" y="6519960"/>
                      <a:ext cx="581400" cy="337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eeaff"/>
                        </a:gs>
                        <a:gs pos="100000">
                          <a:srgbClr val="e4f9ff"/>
                        </a:gs>
                      </a:gsLst>
                      <a:lin ang="16200000"/>
                    </a:gradFill>
                    <a:ln w="9360">
                      <a:solidFill>
                        <a:srgbClr val="46aac5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fr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169" name="رابط كسهم مستقيم 108"/>
                    <p:cNvCxnSpPr/>
                    <p:nvPr/>
                  </p:nvCxnSpPr>
                  <p:spPr>
                    <a:xfrm flipH="1">
                      <a:off x="356400" y="5859000"/>
                      <a:ext cx="5400" cy="641880"/>
                    </a:xfrm>
                    <a:prstGeom prst="straightConnector1">
                      <a:avLst/>
                    </a:prstGeom>
                    <a:ln w="38160">
                      <a:solidFill>
                        <a:srgbClr val="4f81bd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70" name="رابط مستقيم 109"/>
                    <p:cNvSpPr/>
                    <p:nvPr/>
                  </p:nvSpPr>
                  <p:spPr>
                    <a:xfrm>
                      <a:off x="7413840" y="366516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رابط مستقيم 110"/>
                    <p:cNvSpPr/>
                    <p:nvPr/>
                  </p:nvSpPr>
                  <p:spPr>
                    <a:xfrm>
                      <a:off x="7421760" y="395100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2" name="رابط مستقيم 111"/>
                    <p:cNvSpPr/>
                    <p:nvPr/>
                  </p:nvSpPr>
                  <p:spPr>
                    <a:xfrm>
                      <a:off x="7421760" y="423684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" name="رابط مستقيم 112"/>
                    <p:cNvSpPr/>
                    <p:nvPr/>
                  </p:nvSpPr>
                  <p:spPr>
                    <a:xfrm>
                      <a:off x="8842680" y="371448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رابط مستقيم 113"/>
                    <p:cNvSpPr/>
                    <p:nvPr/>
                  </p:nvSpPr>
                  <p:spPr>
                    <a:xfrm>
                      <a:off x="8850600" y="400032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5" name="رابط مستقيم 114"/>
                    <p:cNvSpPr/>
                    <p:nvPr/>
                  </p:nvSpPr>
                  <p:spPr>
                    <a:xfrm>
                      <a:off x="8850600" y="428616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176" name="مستطيل 135"/>
              <p:cNvSpPr/>
              <p:nvPr/>
            </p:nvSpPr>
            <p:spPr>
              <a:xfrm>
                <a:off x="5459400" y="2928600"/>
                <a:ext cx="1352520" cy="580680"/>
              </a:xfrm>
              <a:prstGeom prst="rect">
                <a:avLst/>
              </a:prstGeom>
              <a:gradFill rotWithShape="0">
                <a:gsLst>
                  <a:gs pos="0">
                    <a:srgbClr val="9ab5e4"/>
                  </a:gs>
                  <a:gs pos="100000">
                    <a:srgbClr val="e1e8f5"/>
                  </a:gs>
                </a:gsLst>
                <a:lin ang="5400000"/>
              </a:gradFill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Phylum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Arthropod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7" name="رابط مستقيم 143"/>
            <p:cNvSpPr/>
            <p:nvPr/>
          </p:nvSpPr>
          <p:spPr>
            <a:xfrm>
              <a:off x="5429160" y="1143000"/>
              <a:ext cx="7920" cy="191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رابط مستقيم 144"/>
            <p:cNvSpPr/>
            <p:nvPr/>
          </p:nvSpPr>
          <p:spPr>
            <a:xfrm>
              <a:off x="5437080" y="1428480"/>
              <a:ext cx="7920" cy="191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rcRect l="31847" t="16604" r="14897" b="1211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3"/>
          <p:cNvGrpSpPr/>
          <p:nvPr/>
        </p:nvGrpSpPr>
        <p:grpSpPr>
          <a:xfrm>
            <a:off x="549360" y="1401840"/>
            <a:ext cx="3967200" cy="3189240"/>
            <a:chOff x="549360" y="1401840"/>
            <a:chExt cx="3967200" cy="3189240"/>
          </a:xfrm>
        </p:grpSpPr>
        <p:pic>
          <p:nvPicPr>
            <p:cNvPr id="90" name="مستطيل 3" descr=""/>
            <p:cNvPicPr/>
            <p:nvPr/>
          </p:nvPicPr>
          <p:blipFill>
            <a:blip r:embed="rId1"/>
            <a:stretch/>
          </p:blipFill>
          <p:spPr>
            <a:xfrm>
              <a:off x="549360" y="1401840"/>
              <a:ext cx="3967200" cy="31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71680" y="1428840"/>
              <a:ext cx="3929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Arthropod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-Class: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rachnid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2-Class: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Insec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Picture 4" descr=""/>
          <p:cNvPicPr/>
          <p:nvPr/>
        </p:nvPicPr>
        <p:blipFill>
          <a:blip r:embed="rId2"/>
          <a:srcRect l="20036" t="0" r="13176" b="0"/>
          <a:stretch/>
        </p:blipFill>
        <p:spPr>
          <a:xfrm>
            <a:off x="4791240" y="4000680"/>
            <a:ext cx="406692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PPTShape_0" descr=""/>
          <p:cNvPicPr/>
          <p:nvPr/>
        </p:nvPicPr>
        <p:blipFill>
          <a:blip r:embed="rId3"/>
          <a:stretch/>
        </p:blipFill>
        <p:spPr>
          <a:xfrm>
            <a:off x="4776840" y="1285920"/>
            <a:ext cx="4081320" cy="2643120"/>
          </a:xfrm>
          <a:prstGeom prst="rect">
            <a:avLst/>
          </a:prstGeom>
          <a:ln w="0">
            <a:noFill/>
          </a:ln>
        </p:spPr>
      </p:pic>
      <p:sp>
        <p:nvSpPr>
          <p:cNvPr id="94" name="مربع نص 6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77920" y="1417320"/>
            <a:ext cx="8686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rthropods are segmented coelomates with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exoskeleton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jointed append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is phylum is represented in nearly all habitats in the bio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rthropods are regarded as the most successful animal phy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diversity and success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of arthropods is largely due to three 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body seg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a hard exoske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and jointed append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75920" y="1321920"/>
            <a:ext cx="8381880" cy="52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ody of an arthropod is completely covered by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utic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well-developed sense organs, including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vision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lfactor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receptors for smell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tenn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an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pen circulatory system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which hemolymph fluid is propelled by a heart through short arteries into sinuses (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emocoe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42920" y="1649520"/>
            <a:ext cx="392904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have clawlike feeding appendages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helicer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crustaceans have jawlik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andib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ave sensory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tenna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usually a pair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in addition to simple ey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been grouped into the phylum Arthropo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103" name="PPTShape_0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104" name="PPTShape_1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4200" y="233280"/>
            <a:ext cx="5429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1-Class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rachn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includ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corpions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cs typeface="Andalus"/>
              </a:rPr>
              <a:t>العقارب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pider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ick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it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early all ticks are blood-sucking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arasites on the body surfaces of most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most spiders, respiration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carried out by book lung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703440"/>
            <a:ext cx="8624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2-class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: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se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live in almost every terrestrial habitat and in fresh water, and flying insects fill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tudy of insect,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ntom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a vast field with many subspecialties, including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hysi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c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axonom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….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ndalus"/>
                <a:ea typeface="Andalus"/>
              </a:rPr>
              <a:t>Class Insec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divided i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bout 26 order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17367" t="0" r="10507" b="0"/>
          <a:stretch/>
        </p:blipFill>
        <p:spPr>
          <a:xfrm>
            <a:off x="5072040" y="3286080"/>
            <a:ext cx="3857760" cy="3517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57120" y="478800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insects have one or two            pairs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wing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emerg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dorsal side of the thora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258840"/>
            <a:ext cx="8929800" cy="68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omplete digestive syste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re are regionally specialized organs with discrete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etabolic wastes are removed from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emolymph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alpighia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ubu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outpockets of the digestive tr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espiration is accomplished by a branched, chitin-line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racheal system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carri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rom the spiracles directly to the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insect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sists of a pai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ventral nerve cord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ith several segmental gangl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sect are carriers to many diseases like tsetse flies sprea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frican sleeping sickness and malaria that spread by Mosquito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of them pollinate our crops like b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5:55:03Z</dcterms:created>
  <dc:creator>DELL</dc:creator>
  <dc:description/>
  <dc:language>en-US</dc:language>
  <cp:lastModifiedBy>DELL</cp:lastModifiedBy>
  <dcterms:modified xsi:type="dcterms:W3CDTF">2013-09-27T06:01:38Z</dcterms:modified>
  <cp:revision>3</cp:revision>
  <dc:subject/>
  <dc:title>الشريحة 1</dc:title>
</cp:coreProperties>
</file>