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3D36-509C-4590-8794-4372A9E72D4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77D5-7327-4532-9C0F-F104B1629B5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6310-1964-46FF-98B9-CE0D2FB0373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4D6-ADD0-45AB-8F2E-8FF2D277B27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D3DE-E2BF-4831-94BD-8E0DA2FB9F6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2EE-C269-4236-97ED-6BF7409BC80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9655-4016-4E87-B754-470FCABBD4C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806-71F2-459D-B23B-440C433612F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0FEC-3DB7-47E3-A916-3AFA120C5D6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696F-BD88-4EA6-8EDC-25FC91CAD24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8FEE-4F7C-49B1-B68D-92DC96A535F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9EF3-2FB4-444C-9E12-9B19D57E986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589A-D3DF-433F-BA1F-62B507CF37C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C23-44E1-49D4-A6DA-AA8B0611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E49-6049-48EC-A616-B88F39F1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4EF-D69B-456B-8942-DE7CE973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4DD-D682-4CF5-A68B-A669288F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1F6-9C0D-44BF-A0EC-0E39117E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08C-837D-4DA4-A9D5-E277C979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F33-6F63-47CE-BF20-60216E11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553-019E-4AFF-AF88-C154DB3D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04EB-5D48-434B-A76C-D9E0B721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111-5029-4AA6-A28F-1C4A606A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032-24BB-40AD-91C2-E73967A0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4B3-E3A9-40F7-9751-D510209C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0688-6351-4482-ACB0-85A76503454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2" descr="13870300-anatomy-of-the-human-body.jpg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42920" y="1143000"/>
            <a:ext cx="8763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Bradley Hand ITC"/>
                <a:ea typeface="DaunPenh"/>
              </a:rPr>
              <a:t>Anatom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686800" cy="59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Asexual reproductio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involves the formation of individuals whose genes all come from one pa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re is no fusion of sperm and eg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Sexual reproductio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is the formation of offspring by the fusion of haploid game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63f1b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Ovum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female gamete - usually large and nonmot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63f1b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Sperm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: male gamete - usually small and mot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insects have separate sexes with complex reproductive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In many species the female reproductive system includes a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spermatheca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for storing spe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مربع نص 5"/>
          <p:cNvSpPr/>
          <p:nvPr/>
        </p:nvSpPr>
        <p:spPr>
          <a:xfrm>
            <a:off x="1214280" y="28584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Reproductive system</a:t>
            </a:r>
            <a:r>
              <a:rPr b="1" lang="en-US" sz="32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3"/>
          <p:cNvGrpSpPr/>
          <p:nvPr/>
        </p:nvGrpSpPr>
        <p:grpSpPr>
          <a:xfrm>
            <a:off x="2068200" y="701640"/>
            <a:ext cx="5181840" cy="990360"/>
            <a:chOff x="2068200" y="701640"/>
            <a:chExt cx="5181840" cy="990360"/>
          </a:xfrm>
        </p:grpSpPr>
        <p:sp>
          <p:nvSpPr>
            <p:cNvPr id="75" name="Line 4"/>
            <p:cNvSpPr/>
            <p:nvPr/>
          </p:nvSpPr>
          <p:spPr>
            <a:xfrm>
              <a:off x="4582800" y="701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H="1">
              <a:off x="2068200" y="146340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725004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7"/>
            <p:cNvSpPr/>
            <p:nvPr/>
          </p:nvSpPr>
          <p:spPr>
            <a:xfrm>
              <a:off x="206856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Text Box 8"/>
          <p:cNvSpPr/>
          <p:nvPr/>
        </p:nvSpPr>
        <p:spPr>
          <a:xfrm>
            <a:off x="6107040" y="1768320"/>
            <a:ext cx="274320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entral N.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468360" y="1768320"/>
            <a:ext cx="274320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eripheral N.S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coard"/>
          <p:cNvPicPr/>
          <p:nvPr/>
        </p:nvPicPr>
        <p:blipFill>
          <a:blip r:embed="rId1"/>
          <a:stretch/>
        </p:blipFill>
        <p:spPr>
          <a:xfrm>
            <a:off x="6869160" y="3019320"/>
            <a:ext cx="1295280" cy="38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2" name="Picture 11" descr="braiin"/>
          <p:cNvPicPr/>
          <p:nvPr/>
        </p:nvPicPr>
        <p:blipFill>
          <a:blip r:embed="rId2"/>
          <a:stretch/>
        </p:blipFill>
        <p:spPr>
          <a:xfrm>
            <a:off x="3355920" y="1523880"/>
            <a:ext cx="2716200" cy="5029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83" name="Group 12"/>
          <p:cNvGrpSpPr/>
          <p:nvPr/>
        </p:nvGrpSpPr>
        <p:grpSpPr>
          <a:xfrm>
            <a:off x="620640" y="2819520"/>
            <a:ext cx="2217600" cy="3886200"/>
            <a:chOff x="620640" y="2819520"/>
            <a:chExt cx="2217600" cy="3886200"/>
          </a:xfrm>
        </p:grpSpPr>
        <p:pic>
          <p:nvPicPr>
            <p:cNvPr id="84" name="Picture 13" descr="nerv"/>
            <p:cNvPicPr/>
            <p:nvPr/>
          </p:nvPicPr>
          <p:blipFill>
            <a:blip r:embed="rId3"/>
            <a:stretch/>
          </p:blipFill>
          <p:spPr>
            <a:xfrm>
              <a:off x="620640" y="2819520"/>
              <a:ext cx="2217600" cy="38862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85" name="Oval 14"/>
            <p:cNvSpPr/>
            <p:nvPr/>
          </p:nvSpPr>
          <p:spPr>
            <a:xfrm>
              <a:off x="2076480" y="4789440"/>
              <a:ext cx="22860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Rectangle 15"/>
          <p:cNvSpPr/>
          <p:nvPr/>
        </p:nvSpPr>
        <p:spPr>
          <a:xfrm>
            <a:off x="6218280" y="2286000"/>
            <a:ext cx="25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a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pinal co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sponsible for inte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468360" y="230184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osed of peripheral ner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مربع نص 16"/>
          <p:cNvSpPr/>
          <p:nvPr/>
        </p:nvSpPr>
        <p:spPr>
          <a:xfrm>
            <a:off x="1357200" y="28584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Nervous system</a:t>
            </a:r>
            <a:r>
              <a:rPr b="1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ربع نص 19"/>
          <p:cNvSpPr/>
          <p:nvPr/>
        </p:nvSpPr>
        <p:spPr>
          <a:xfrm>
            <a:off x="1357200" y="214200"/>
            <a:ext cx="642960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Structure of Br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صورة 20" descr="صورة1.png"/>
          <p:cNvPicPr/>
          <p:nvPr/>
        </p:nvPicPr>
        <p:blipFill>
          <a:blip r:embed="rId1"/>
          <a:stretch/>
        </p:blipFill>
        <p:spPr>
          <a:xfrm>
            <a:off x="142920" y="1200240"/>
            <a:ext cx="8478720" cy="54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مجموعة 48"/>
          <p:cNvGrpSpPr/>
          <p:nvPr/>
        </p:nvGrpSpPr>
        <p:grpSpPr>
          <a:xfrm>
            <a:off x="214200" y="1285920"/>
            <a:ext cx="8929800" cy="5572080"/>
            <a:chOff x="214200" y="1285920"/>
            <a:chExt cx="8929800" cy="5572080"/>
          </a:xfrm>
        </p:grpSpPr>
        <p:grpSp>
          <p:nvGrpSpPr>
            <p:cNvPr id="93" name="مجموعة 47"/>
            <p:cNvGrpSpPr/>
            <p:nvPr/>
          </p:nvGrpSpPr>
          <p:grpSpPr>
            <a:xfrm>
              <a:off x="7251480" y="2702160"/>
              <a:ext cx="336960" cy="1545120"/>
              <a:chOff x="7251480" y="2702160"/>
              <a:chExt cx="336960" cy="1545120"/>
            </a:xfrm>
          </p:grpSpPr>
          <p:sp>
            <p:nvSpPr>
              <p:cNvPr id="94" name="رابط مستقيم 21"/>
              <p:cNvSpPr/>
              <p:nvPr/>
            </p:nvSpPr>
            <p:spPr>
              <a:xfrm flipV="1">
                <a:off x="7251480" y="2702160"/>
                <a:ext cx="336960" cy="286200"/>
              </a:xfrm>
              <a:prstGeom prst="line">
                <a:avLst/>
              </a:prstGeom>
              <a:ln w="9360">
                <a:solidFill>
                  <a:srgbClr val="be4b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رابط مستقيم 22"/>
              <p:cNvSpPr/>
              <p:nvPr/>
            </p:nvSpPr>
            <p:spPr>
              <a:xfrm>
                <a:off x="7251480" y="4031640"/>
                <a:ext cx="336960" cy="215640"/>
              </a:xfrm>
              <a:prstGeom prst="line">
                <a:avLst/>
              </a:prstGeom>
              <a:ln w="9360">
                <a:solidFill>
                  <a:srgbClr val="be4b4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6" name="مجموعة 46" descr=""/>
            <p:cNvPicPr/>
            <p:nvPr/>
          </p:nvPicPr>
          <p:blipFill>
            <a:blip r:embed="rId1"/>
            <a:stretch/>
          </p:blipFill>
          <p:spPr>
            <a:xfrm>
              <a:off x="214200" y="1285920"/>
              <a:ext cx="8929800" cy="5572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32394" t="16604" r="14897" b="12111"/>
          <a:stretch/>
        </p:blipFill>
        <p:spPr>
          <a:xfrm>
            <a:off x="0" y="0"/>
            <a:ext cx="91440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8480" y="1285920"/>
            <a:ext cx="86868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tudy of animal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form and func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integrated by the common set of problems that all animals must sol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se include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extract oxygen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from the environment,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nourish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emselves, how to excrete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waste product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and how to </a:t>
            </a:r>
            <a:r>
              <a:rPr b="0" lang="en-US" sz="2800" spc="-1" strike="noStrike">
                <a:solidFill>
                  <a:srgbClr val="f63f1b"/>
                </a:solidFill>
                <a:latin typeface="Andalus"/>
                <a:ea typeface="Andalus"/>
              </a:rPr>
              <a:t>move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Knowledge of a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provides insight into what it does and how it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nversely, knowing the function of a structure provides insight about its constr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natomy is the study of the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structure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 of an organism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hysiology is the study of the functions an organism per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ربع نص 5"/>
          <p:cNvSpPr/>
          <p:nvPr/>
        </p:nvSpPr>
        <p:spPr>
          <a:xfrm>
            <a:off x="78588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4280" y="1590840"/>
            <a:ext cx="8686800" cy="52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imals are multicellular organisms with their specialized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grouped into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63f1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re groups of cell with a common structure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issues are classified into four main categories: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pithelial tissue, connective tissue, nervous tissue, and muscle tissu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most animals,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ombinations of various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 tissu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make up functional units called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organ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groups of organs that work together form organ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For example, the human digestive system consists of a stomach, small intestine, large intestine, and several other organs, each a composite of different tissu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مربع نص 5"/>
          <p:cNvSpPr/>
          <p:nvPr/>
        </p:nvSpPr>
        <p:spPr>
          <a:xfrm>
            <a:off x="78588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356760"/>
            <a:ext cx="3979800" cy="705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ll systems must be coordinated for the animal to surv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or instance,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nutrien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bsorbed from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digestive trac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distributed throughout the body by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irculatory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hear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pumps blood through the circulatory system depends on nutrients absorbed by the digestive tract and also on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oxyge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btained from the air or water by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respirator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re are two types of circulatory systems :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open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irculatory systems and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closed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irculatory 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Both have blood, a set of blood vessels and a he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4332240" y="260280"/>
            <a:ext cx="4811760" cy="61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961920"/>
            <a:ext cx="5616720" cy="26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)- Open circulatory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insects, other arthropods blood bathes organs directly in a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open circulatory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blood is called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hemolymp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heart pumps the hemolymph int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sinus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surrounding the organs, hemolymph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does not transport O2 and CO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1016" t="0" r="52218" b="4404"/>
          <a:stretch/>
        </p:blipFill>
        <p:spPr>
          <a:xfrm>
            <a:off x="5940360" y="0"/>
            <a:ext cx="3095640" cy="3213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79280" y="3657600"/>
            <a:ext cx="54007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B)- Closed circula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 humans and other vertebrates and often called the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ardiovascular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heart consists of tw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atria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tw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ventricl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63f1b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Arteri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vein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GB" sz="2000" spc="-1" strike="noStrike">
                <a:solidFill>
                  <a:srgbClr val="f63f1b"/>
                </a:solidFill>
                <a:latin typeface="Andalus"/>
                <a:ea typeface="Andalus"/>
              </a:rPr>
              <a:t>capillari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the three main kinds of blood vess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lood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ransports oxygen and carbon diox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2"/>
          <a:srcRect l="0" t="0" r="0" b="3244"/>
          <a:stretch/>
        </p:blipFill>
        <p:spPr>
          <a:xfrm>
            <a:off x="5796000" y="3333600"/>
            <a:ext cx="3116160" cy="3408480"/>
          </a:xfrm>
          <a:prstGeom prst="rect">
            <a:avLst/>
          </a:prstGeom>
          <a:ln w="0">
            <a:noFill/>
          </a:ln>
        </p:spPr>
      </p:pic>
      <p:sp>
        <p:nvSpPr>
          <p:cNvPr id="61" name="مربع نص 6"/>
          <p:cNvSpPr/>
          <p:nvPr/>
        </p:nvSpPr>
        <p:spPr>
          <a:xfrm>
            <a:off x="428760" y="142920"/>
            <a:ext cx="5000400" cy="1312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The circulatory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85480" y="1133640"/>
            <a:ext cx="8381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63f1b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lung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restricted to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ches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circulatory system transports gases between the lungs and the rest of the bo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Lungs of mammals have a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spongy textur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system of branching ducts conveys air to the lu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19040" y="2890440"/>
            <a:ext cx="8305920" cy="3923280"/>
            <a:chOff x="419040" y="2890440"/>
            <a:chExt cx="8305920" cy="3923280"/>
          </a:xfrm>
        </p:grpSpPr>
        <p:pic>
          <p:nvPicPr>
            <p:cNvPr id="64" name="Picture 3" descr=""/>
            <p:cNvPicPr/>
            <p:nvPr/>
          </p:nvPicPr>
          <p:blipFill>
            <a:blip r:embed="rId1"/>
            <a:srcRect l="0" t="21458" r="0" b="4322"/>
            <a:stretch/>
          </p:blipFill>
          <p:spPr>
            <a:xfrm>
              <a:off x="419040" y="3068640"/>
              <a:ext cx="8305920" cy="37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6"/>
            <p:cNvSpPr/>
            <p:nvPr/>
          </p:nvSpPr>
          <p:spPr>
            <a:xfrm rot="802200">
              <a:off x="2098800" y="2976120"/>
              <a:ext cx="863640" cy="102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1979640" y="3860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مربع نص 6"/>
          <p:cNvSpPr/>
          <p:nvPr/>
        </p:nvSpPr>
        <p:spPr>
          <a:xfrm>
            <a:off x="571680" y="357120"/>
            <a:ext cx="64292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Respiratory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686800" cy="20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The mammal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digestive system consists of the alimentary canal and various accessory glands that secrete digestive juices into the canal through 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accessory glands include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alivary glan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pancrea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liv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th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gallbladd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0" t="0" r="0" b="4579"/>
          <a:stretch/>
        </p:blipFill>
        <p:spPr>
          <a:xfrm>
            <a:off x="1333440" y="3201840"/>
            <a:ext cx="6551640" cy="365616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5"/>
          <p:cNvSpPr/>
          <p:nvPr/>
        </p:nvSpPr>
        <p:spPr>
          <a:xfrm>
            <a:off x="1071720" y="142920"/>
            <a:ext cx="6429240" cy="703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Digestive system</a:t>
            </a:r>
            <a:r>
              <a:rPr b="1" lang="en-US" sz="40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533520" y="228600"/>
            <a:ext cx="8076960" cy="608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6:06:26Z</dcterms:created>
  <dc:creator>DELL</dc:creator>
  <dc:description/>
  <dc:language>en-US</dc:language>
  <cp:lastModifiedBy>DELL</cp:lastModifiedBy>
  <dcterms:modified xsi:type="dcterms:W3CDTF">2013-09-27T06:12:25Z</dcterms:modified>
  <cp:revision>3</cp:revision>
  <dc:subject/>
  <dc:title>الشريحة 1</dc:title>
</cp:coreProperties>
</file>