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B03-5C5A-4C77-B832-4D9983B5A2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DEA-7FD5-4304-A05C-BC955A6292B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FB9E-0FBB-412F-9CC6-6B8D90B78B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309-2E2A-4965-B52B-A813F6E8E1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061-0AF4-4D9B-B97B-A7923CEDC8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08A1-4D37-43DA-BB76-4CFE3EE88D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294-677C-40D3-8704-53E1707377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A8A4-B151-4558-B88E-3C097584DE8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341-B3DC-4095-860E-5B3B9124C2B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347-4711-49A2-B8BD-2E540D607B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0AE-0905-479D-803F-42B0968D7A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6DC0-4A74-4D8E-B29D-107716A3E3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2D2-4415-472A-B2A4-0872C1A10F9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95E-EC40-4256-8E99-355CD1A7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E59-0EB1-4C9A-98B6-35167231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646-6344-4100-83F7-1D5E6132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B6A-D11C-458E-B19A-C4664C54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D12-E5C7-46F9-96C3-FB6D25F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CE9-3EAB-4A9B-9895-0CD1527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CE4-0DF9-4AD5-B562-4AC1543B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B95-5AB4-4535-BFC6-F4C24660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207-A055-44FC-86AD-E923EE3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19E-A44A-4BFE-ACC5-498A173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637-AB8F-4968-9E26-D3491F6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253-E49F-45FF-9ECD-9868CA4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B3E-6FA1-42E7-8A68-52DC68DB7C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2" descr="13870300-anatomy-of-the-human-body.jpg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42920" y="1143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Bradley Hand ITC"/>
                <a:ea typeface="DaunPenh"/>
              </a:rPr>
              <a:t>Anatom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A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nvolves the formation of individuals whose genes all come from one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re is no fusion of sperm and eg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s the formation of offspring by the fusion of haploid gam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Ovu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female gamete - usually large and non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male gamete - usually small and 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insects have separate sexes with complex reproductive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n many species the female reproductive system includes a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atheca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for storing sp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5"/>
          <p:cNvSpPr/>
          <p:nvPr/>
        </p:nvSpPr>
        <p:spPr>
          <a:xfrm>
            <a:off x="121428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Reproductive system</a:t>
            </a: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2068200" y="701640"/>
            <a:ext cx="5181840" cy="990360"/>
            <a:chOff x="2068200" y="701640"/>
            <a:chExt cx="5181840" cy="990360"/>
          </a:xfrm>
        </p:grpSpPr>
        <p:sp>
          <p:nvSpPr>
            <p:cNvPr id="75" name="Line 4"/>
            <p:cNvSpPr/>
            <p:nvPr/>
          </p:nvSpPr>
          <p:spPr>
            <a:xfrm>
              <a:off x="458280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06820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725004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206856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610704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ent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6836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eriphe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coard"/>
          <p:cNvPicPr/>
          <p:nvPr/>
        </p:nvPicPr>
        <p:blipFill>
          <a:blip r:embed="rId1"/>
          <a:stretch/>
        </p:blipFill>
        <p:spPr>
          <a:xfrm>
            <a:off x="686916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Picture 11" descr="braiin"/>
          <p:cNvPicPr/>
          <p:nvPr/>
        </p:nvPicPr>
        <p:blipFill>
          <a:blip r:embed="rId2"/>
          <a:stretch/>
        </p:blipFill>
        <p:spPr>
          <a:xfrm>
            <a:off x="335592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83" name="Group 12"/>
          <p:cNvGrpSpPr/>
          <p:nvPr/>
        </p:nvGrpSpPr>
        <p:grpSpPr>
          <a:xfrm>
            <a:off x="620640" y="2819520"/>
            <a:ext cx="2217600" cy="3886200"/>
            <a:chOff x="620640" y="2819520"/>
            <a:chExt cx="2217600" cy="3886200"/>
          </a:xfrm>
        </p:grpSpPr>
        <p:pic>
          <p:nvPicPr>
            <p:cNvPr id="84" name="Picture 13" descr="nerv"/>
            <p:cNvPicPr/>
            <p:nvPr/>
          </p:nvPicPr>
          <p:blipFill>
            <a:blip r:embed="rId3"/>
            <a:stretch/>
          </p:blipFill>
          <p:spPr>
            <a:xfrm>
              <a:off x="62064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85" name="Oval 14"/>
            <p:cNvSpPr/>
            <p:nvPr/>
          </p:nvSpPr>
          <p:spPr>
            <a:xfrm>
              <a:off x="207648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5"/>
          <p:cNvSpPr/>
          <p:nvPr/>
        </p:nvSpPr>
        <p:spPr>
          <a:xfrm>
            <a:off x="621828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6836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peripheral ner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مربع نص 16"/>
          <p:cNvSpPr/>
          <p:nvPr/>
        </p:nvSpPr>
        <p:spPr>
          <a:xfrm>
            <a:off x="135720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9"/>
          <p:cNvSpPr/>
          <p:nvPr/>
        </p:nvSpPr>
        <p:spPr>
          <a:xfrm>
            <a:off x="1357200" y="21420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Structure of B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صورة 20" descr="صورة1.png"/>
          <p:cNvPicPr/>
          <p:nvPr/>
        </p:nvPicPr>
        <p:blipFill>
          <a:blip r:embed="rId1"/>
          <a:stretch/>
        </p:blipFill>
        <p:spPr>
          <a:xfrm>
            <a:off x="142920" y="1200240"/>
            <a:ext cx="8478720" cy="54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مجموعة 48"/>
          <p:cNvGrpSpPr/>
          <p:nvPr/>
        </p:nvGrpSpPr>
        <p:grpSpPr>
          <a:xfrm>
            <a:off x="214200" y="1285920"/>
            <a:ext cx="8929800" cy="5572080"/>
            <a:chOff x="214200" y="1285920"/>
            <a:chExt cx="8929800" cy="5572080"/>
          </a:xfrm>
        </p:grpSpPr>
        <p:grpSp>
          <p:nvGrpSpPr>
            <p:cNvPr id="93" name="مجموعة 47"/>
            <p:cNvGrpSpPr/>
            <p:nvPr/>
          </p:nvGrpSpPr>
          <p:grpSpPr>
            <a:xfrm>
              <a:off x="7251480" y="2702160"/>
              <a:ext cx="336960" cy="1545120"/>
              <a:chOff x="7251480" y="2702160"/>
              <a:chExt cx="336960" cy="1545120"/>
            </a:xfrm>
          </p:grpSpPr>
          <p:sp>
            <p:nvSpPr>
              <p:cNvPr id="94" name="رابط مستقيم 21"/>
              <p:cNvSpPr/>
              <p:nvPr/>
            </p:nvSpPr>
            <p:spPr>
              <a:xfrm flipV="1">
                <a:off x="7251480" y="2702160"/>
                <a:ext cx="336960" cy="28620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رابط مستقيم 22"/>
              <p:cNvSpPr/>
              <p:nvPr/>
            </p:nvSpPr>
            <p:spPr>
              <a:xfrm>
                <a:off x="7251480" y="4031640"/>
                <a:ext cx="336960" cy="21564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6" name="مجموعة 46" descr=""/>
            <p:cNvPicPr/>
            <p:nvPr/>
          </p:nvPicPr>
          <p:blipFill>
            <a:blip r:embed="rId1"/>
            <a:stretch/>
          </p:blipFill>
          <p:spPr>
            <a:xfrm>
              <a:off x="214200" y="1285920"/>
              <a:ext cx="8929800" cy="557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32394" t="16604" r="14897" b="1211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12859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animal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form and fun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integrated by the common set of problems that all animals must sol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extract oxyge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from the environment,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nourish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emselves, how to excrete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waste product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and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Knowledge of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provides insight into what it does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nversely, knowing the function of a structure provides insight about its co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atomy is the study of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of an organ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hysiology is the study of the functions an organism per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1590840"/>
            <a:ext cx="8686800" cy="52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imals are multicellular organisms with their specializ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ed into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groups of cell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issues are classified into four main categories: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pithelial tissue, connective tissue, nervous tissue, and muscle tissu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animals,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binations of various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 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ake up functional units call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groups of organs that work together form organ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the human digestive system consists of a stomach, small intestine, large intestine, and several other organs, each a composite of different tiss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56760"/>
            <a:ext cx="3979800" cy="70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ll systems must be coordinated for the animal to surv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r instanc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bsorbed from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digestive trac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distributed throughout the body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pumps blood through the circulatory system depends on nutrients absorbed by the digestive tract and also on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btained from the air or water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respirator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circulatory systems :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los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oth have blood, a set of blood vessels and a he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332240" y="260280"/>
            <a:ext cx="4811760" cy="61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61920"/>
            <a:ext cx="5616720" cy="26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)- Open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insects, other arthropods blood bathes organs directly in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open 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blood is call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molymp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pumps the hemolymph in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inus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urrounding the organs, hemolymph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oes not transport O2 and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1016" t="0" r="52218" b="4404"/>
          <a:stretch/>
        </p:blipFill>
        <p:spPr>
          <a:xfrm>
            <a:off x="5940360" y="0"/>
            <a:ext cx="3095640" cy="3213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9280" y="3657600"/>
            <a:ext cx="54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)- Closed circ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s and other vertebrates and often called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ardiovascular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consists of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atr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ventric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63f1b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Arte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vein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apilla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he three main kinds of blood vess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loo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ransports oxygen and carbon diox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796000" y="3333600"/>
            <a:ext cx="311616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مربع نص 6"/>
          <p:cNvSpPr/>
          <p:nvPr/>
        </p:nvSpPr>
        <p:spPr>
          <a:xfrm>
            <a:off x="428760" y="142920"/>
            <a:ext cx="500040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The circulatory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133640"/>
            <a:ext cx="8381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restricted 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he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circulatory system transports gases between the lungs and the rest of the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ungs of mammals have a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pongy textur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ystem of branching ducts conveys air to the lu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19040" y="2890440"/>
            <a:ext cx="8305920" cy="3923280"/>
            <a:chOff x="419040" y="2890440"/>
            <a:chExt cx="8305920" cy="392328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0" t="21458" r="0" b="4322"/>
            <a:stretch/>
          </p:blipFill>
          <p:spPr>
            <a:xfrm>
              <a:off x="419040" y="3068640"/>
              <a:ext cx="830592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"/>
            <p:cNvSpPr/>
            <p:nvPr/>
          </p:nvSpPr>
          <p:spPr>
            <a:xfrm rot="802200">
              <a:off x="2098800" y="2976120"/>
              <a:ext cx="863640" cy="102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979640" y="3860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مربع نص 6"/>
          <p:cNvSpPr/>
          <p:nvPr/>
        </p:nvSpPr>
        <p:spPr>
          <a:xfrm>
            <a:off x="571680" y="357120"/>
            <a:ext cx="64292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Respiratory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mamma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digestive system consists of the alimentary canal and various accessory glands that secrete digestive juices into the canal through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accessory glands include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alivary gla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pancrea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gallbladd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4579"/>
          <a:stretch/>
        </p:blipFill>
        <p:spPr>
          <a:xfrm>
            <a:off x="1333440" y="3201840"/>
            <a:ext cx="655164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5"/>
          <p:cNvSpPr/>
          <p:nvPr/>
        </p:nvSpPr>
        <p:spPr>
          <a:xfrm>
            <a:off x="1071720" y="142920"/>
            <a:ext cx="64292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Digestive system</a:t>
            </a: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3520" y="228600"/>
            <a:ext cx="807696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06:26Z</dcterms:created>
  <dc:creator>DELL</dc:creator>
  <dc:description/>
  <dc:language>en-US</dc:language>
  <cp:lastModifiedBy>DELL</cp:lastModifiedBy>
  <dcterms:modified xsi:type="dcterms:W3CDTF">2013-09-27T06:12:25Z</dcterms:modified>
  <cp:revision>3</cp:revision>
  <dc:subject/>
  <dc:title>الشريحة 1</dc:title>
</cp:coreProperties>
</file>