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065-07E8-473F-A81F-5867DF5019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4BCA-690F-44DE-B984-CFE33EC25D3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5C1-AB80-464C-B585-B58C33F17D0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A8BD-D3D0-4ECD-9E38-4EAC6FDB941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6496-73AB-4816-A34A-5A9721686D1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BB09-67F7-4FA2-9227-92E4CD09B7A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5916-84C2-48B0-9261-0A4A74E88A6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527-1FBE-4E74-80B8-403275E5A5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89BF-7566-4718-BDC7-20D3BDAAFA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6733-1049-4A5B-AD6C-677D204C56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1D4E-3A75-4A21-92AD-FDD209D4FE9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EC68-5FE9-4008-ABA4-7DAA7FB4CB0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3B0-AAD3-46E7-8B00-D067A08F4D4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958-1D69-496D-A5FC-6BF4E329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A66-DE18-442B-AB10-C66B1A84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587-DC2B-4BA2-AEBB-118E6524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6D2-E065-4555-B2A3-AB68E339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A2C-4562-47AD-B0BA-1385F5D7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F1A-660D-4BE7-8B04-43EFD3F9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B11-87BD-4173-B784-39A9B4C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2FE-AD2D-4C35-A379-1CCA008D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51C-B28B-4929-A9A9-7C3EC0C3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969-A8DE-40C4-B776-0D167BD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24C-52F0-4CFE-B3B3-CC7D7C7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858-4EFA-47E2-96B8-D3E49EA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6C0-989D-4ADE-983A-AAB99765C96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2" descr="13870300-anatomy-of-the-human-body.jpg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42920" y="1143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Bradley Hand ITC"/>
                <a:ea typeface="DaunPenh"/>
              </a:rPr>
              <a:t>Anatom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686800" cy="59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A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nvolves the formation of individuals whose genes all come from one pa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re is no fusion of sperm and eg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s the formation of offspring by the fusion of haploid game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Ovu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female gamete - usually large and non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male gamete - usually small and 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insects have separate sexes with complex reproductive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In many species the female reproductive system includes a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atheca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for storing spe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ربع نص 5"/>
          <p:cNvSpPr/>
          <p:nvPr/>
        </p:nvSpPr>
        <p:spPr>
          <a:xfrm>
            <a:off x="121428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Reproductive system</a:t>
            </a: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2068200" y="701640"/>
            <a:ext cx="5181840" cy="990360"/>
            <a:chOff x="2068200" y="701640"/>
            <a:chExt cx="5181840" cy="990360"/>
          </a:xfrm>
        </p:grpSpPr>
        <p:sp>
          <p:nvSpPr>
            <p:cNvPr id="75" name="Line 4"/>
            <p:cNvSpPr/>
            <p:nvPr/>
          </p:nvSpPr>
          <p:spPr>
            <a:xfrm>
              <a:off x="4582800" y="701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068200" y="14634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725004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206856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 Box 8"/>
          <p:cNvSpPr/>
          <p:nvPr/>
        </p:nvSpPr>
        <p:spPr>
          <a:xfrm>
            <a:off x="610704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ent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6836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eriphe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coard"/>
          <p:cNvPicPr/>
          <p:nvPr/>
        </p:nvPicPr>
        <p:blipFill>
          <a:blip r:embed="rId1"/>
          <a:stretch/>
        </p:blipFill>
        <p:spPr>
          <a:xfrm>
            <a:off x="6869160" y="3019320"/>
            <a:ext cx="1295280" cy="38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2" name="Picture 11" descr="braiin"/>
          <p:cNvPicPr/>
          <p:nvPr/>
        </p:nvPicPr>
        <p:blipFill>
          <a:blip r:embed="rId2"/>
          <a:stretch/>
        </p:blipFill>
        <p:spPr>
          <a:xfrm>
            <a:off x="3355920" y="1523880"/>
            <a:ext cx="2716200" cy="5029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83" name="Group 12"/>
          <p:cNvGrpSpPr/>
          <p:nvPr/>
        </p:nvGrpSpPr>
        <p:grpSpPr>
          <a:xfrm>
            <a:off x="620640" y="2819520"/>
            <a:ext cx="2217600" cy="3886200"/>
            <a:chOff x="620640" y="2819520"/>
            <a:chExt cx="2217600" cy="3886200"/>
          </a:xfrm>
        </p:grpSpPr>
        <p:pic>
          <p:nvPicPr>
            <p:cNvPr id="84" name="Picture 13" descr="nerv"/>
            <p:cNvPicPr/>
            <p:nvPr/>
          </p:nvPicPr>
          <p:blipFill>
            <a:blip r:embed="rId3"/>
            <a:stretch/>
          </p:blipFill>
          <p:spPr>
            <a:xfrm>
              <a:off x="620640" y="2819520"/>
              <a:ext cx="2217600" cy="3886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85" name="Oval 14"/>
            <p:cNvSpPr/>
            <p:nvPr/>
          </p:nvSpPr>
          <p:spPr>
            <a:xfrm>
              <a:off x="2076480" y="4789440"/>
              <a:ext cx="22860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Rectangle 15"/>
          <p:cNvSpPr/>
          <p:nvPr/>
        </p:nvSpPr>
        <p:spPr>
          <a:xfrm>
            <a:off x="6218280" y="228600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sponsible for inte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68360" y="230184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peripheral ner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مربع نص 16"/>
          <p:cNvSpPr/>
          <p:nvPr/>
        </p:nvSpPr>
        <p:spPr>
          <a:xfrm>
            <a:off x="135720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ربع نص 19"/>
          <p:cNvSpPr/>
          <p:nvPr/>
        </p:nvSpPr>
        <p:spPr>
          <a:xfrm>
            <a:off x="1357200" y="21420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Structure of B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صورة 20" descr="صورة1.png"/>
          <p:cNvPicPr/>
          <p:nvPr/>
        </p:nvPicPr>
        <p:blipFill>
          <a:blip r:embed="rId1"/>
          <a:stretch/>
        </p:blipFill>
        <p:spPr>
          <a:xfrm>
            <a:off x="142920" y="1200240"/>
            <a:ext cx="8478720" cy="54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مجموعة 48"/>
          <p:cNvGrpSpPr/>
          <p:nvPr/>
        </p:nvGrpSpPr>
        <p:grpSpPr>
          <a:xfrm>
            <a:off x="214200" y="1285920"/>
            <a:ext cx="8929800" cy="5572080"/>
            <a:chOff x="214200" y="1285920"/>
            <a:chExt cx="8929800" cy="5572080"/>
          </a:xfrm>
        </p:grpSpPr>
        <p:grpSp>
          <p:nvGrpSpPr>
            <p:cNvPr id="93" name="مجموعة 47"/>
            <p:cNvGrpSpPr/>
            <p:nvPr/>
          </p:nvGrpSpPr>
          <p:grpSpPr>
            <a:xfrm>
              <a:off x="7251480" y="2702160"/>
              <a:ext cx="336960" cy="1545120"/>
              <a:chOff x="7251480" y="2702160"/>
              <a:chExt cx="336960" cy="1545120"/>
            </a:xfrm>
          </p:grpSpPr>
          <p:sp>
            <p:nvSpPr>
              <p:cNvPr id="94" name="رابط مستقيم 21"/>
              <p:cNvSpPr/>
              <p:nvPr/>
            </p:nvSpPr>
            <p:spPr>
              <a:xfrm flipV="1">
                <a:off x="7251480" y="2702160"/>
                <a:ext cx="336960" cy="28620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رابط مستقيم 22"/>
              <p:cNvSpPr/>
              <p:nvPr/>
            </p:nvSpPr>
            <p:spPr>
              <a:xfrm>
                <a:off x="7251480" y="4031640"/>
                <a:ext cx="336960" cy="21564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6" name="مجموعة 46" descr=""/>
            <p:cNvPicPr/>
            <p:nvPr/>
          </p:nvPicPr>
          <p:blipFill>
            <a:blip r:embed="rId1"/>
            <a:stretch/>
          </p:blipFill>
          <p:spPr>
            <a:xfrm>
              <a:off x="214200" y="1285920"/>
              <a:ext cx="8929800" cy="557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32394" t="16604" r="14897" b="1211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8480" y="12859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animal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form and func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integrated by the common set of problems that all animals must sol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extract oxyge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from the environment,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nourish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emselves, how to excrete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waste product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and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Knowledge of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provides insight into what it does and how it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nversely, knowing the function of a structure provides insight about its co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atomy is the study of th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of an organ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hysiology is the study of the functions an organism per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4280" y="1590840"/>
            <a:ext cx="8686800" cy="52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imals are multicellular organisms with their specializ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ed into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groups of cell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issues are classified into four main categories: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pithelial tissue, connective tissue, nervous tissue, and muscle tissu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animals,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mbinations of various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 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ake up functional units call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groups of organs that work together form organ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the human digestive system consists of a stomach, small intestine, large intestine, and several other organs, each a composite of different tiss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356760"/>
            <a:ext cx="3979800" cy="705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ll systems must be coordinated for the animal to surv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r instanc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bsorbed from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digestive trac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distributed throughout the body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ar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pumps blood through the circulatory system depends on nutrients absorbed by the digestive tract and also on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btained from the air or water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respirator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circulatory systems :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ope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los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oth have blood, a set of blood vessels and a he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332240" y="260280"/>
            <a:ext cx="4811760" cy="61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961920"/>
            <a:ext cx="5616720" cy="26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)- Open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insects, other arthropods blood bathes organs directly in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open 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blood is call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molymp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pumps the hemolymph in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inus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urrounding the organs, hemolymph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oes not transport O2 and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1016" t="0" r="52218" b="4404"/>
          <a:stretch/>
        </p:blipFill>
        <p:spPr>
          <a:xfrm>
            <a:off x="5940360" y="0"/>
            <a:ext cx="3095640" cy="3213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79280" y="3657600"/>
            <a:ext cx="540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)- Closed circula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s and other vertebrates and often called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ardiovascular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consists of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atr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ventric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63f1b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Arte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vein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apilla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he three main kinds of blood vess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loo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ransports oxygen and carbon diox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rcRect l="0" t="0" r="0" b="3244"/>
          <a:stretch/>
        </p:blipFill>
        <p:spPr>
          <a:xfrm>
            <a:off x="5796000" y="3333600"/>
            <a:ext cx="3116160" cy="3408480"/>
          </a:xfrm>
          <a:prstGeom prst="rect">
            <a:avLst/>
          </a:prstGeom>
          <a:ln w="0">
            <a:noFill/>
          </a:ln>
        </p:spPr>
      </p:pic>
      <p:sp>
        <p:nvSpPr>
          <p:cNvPr id="61" name="مربع نص 6"/>
          <p:cNvSpPr/>
          <p:nvPr/>
        </p:nvSpPr>
        <p:spPr>
          <a:xfrm>
            <a:off x="428760" y="142920"/>
            <a:ext cx="5000400" cy="131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The circulatory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480" y="1133640"/>
            <a:ext cx="8381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restricted 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he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circulatory system transports gases between the lungs and the rest of the 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ungs of mammals have a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pongy textur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ystem of branching ducts conveys air to the lu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19040" y="2890440"/>
            <a:ext cx="8305920" cy="3923280"/>
            <a:chOff x="419040" y="2890440"/>
            <a:chExt cx="8305920" cy="392328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0" t="21458" r="0" b="4322"/>
            <a:stretch/>
          </p:blipFill>
          <p:spPr>
            <a:xfrm>
              <a:off x="419040" y="3068640"/>
              <a:ext cx="830592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"/>
            <p:cNvSpPr/>
            <p:nvPr/>
          </p:nvSpPr>
          <p:spPr>
            <a:xfrm rot="802200">
              <a:off x="2098800" y="2976120"/>
              <a:ext cx="863640" cy="102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1979640" y="3860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مربع نص 6"/>
          <p:cNvSpPr/>
          <p:nvPr/>
        </p:nvSpPr>
        <p:spPr>
          <a:xfrm>
            <a:off x="571680" y="357120"/>
            <a:ext cx="64292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Respiratory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mamma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digestive system consists of the alimentary canal and various accessory glands that secrete digestive juices into the canal through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accessory glands include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alivary gla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pancrea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gallbladd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0" t="0" r="0" b="4579"/>
          <a:stretch/>
        </p:blipFill>
        <p:spPr>
          <a:xfrm>
            <a:off x="1333440" y="3201840"/>
            <a:ext cx="655164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5"/>
          <p:cNvSpPr/>
          <p:nvPr/>
        </p:nvSpPr>
        <p:spPr>
          <a:xfrm>
            <a:off x="1071720" y="142920"/>
            <a:ext cx="642924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Digestive system</a:t>
            </a: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3520" y="228600"/>
            <a:ext cx="8076960" cy="608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6:06:26Z</dcterms:created>
  <dc:creator>DELL</dc:creator>
  <dc:description/>
  <dc:language>en-US</dc:language>
  <cp:lastModifiedBy>DELL</cp:lastModifiedBy>
  <dcterms:modified xsi:type="dcterms:W3CDTF">2013-09-27T06:12:25Z</dcterms:modified>
  <cp:revision>3</cp:revision>
  <dc:subject/>
  <dc:title>الشريحة 1</dc:title>
</cp:coreProperties>
</file>