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09A0-8BEF-44B9-BDEC-3CAE492D551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57C-6E63-4E5D-8A70-7A464725DC1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B73-86C5-4890-8D5E-0655848A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727-AAC1-4C7D-BF25-EB1581D0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1BD-260D-42A6-9A4B-1717FC46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10B-EBC3-457B-B24F-ED7E873C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6F7-281C-4345-A852-A58A4CD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E598-828B-4064-B598-CD75018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769-2257-4B42-A8EA-445FB9C4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016-2C88-4C7D-BDA3-9C58DBC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B98-5C33-4E56-B10E-EF6067D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1B-B027-4E6E-A38F-A724990E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3D3-590D-4C84-8AAC-DB450940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F00-D106-49D8-AA68-EAA56F61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D6B-D9A4-45F8-A30D-52062B401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31847" t="13671" r="13798" b="12111"/>
          <a:stretch/>
        </p:blipFill>
        <p:spPr>
          <a:xfrm>
            <a:off x="0" y="5076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Sherifa\Desktop\543 cytology\cytology\autophagy.JPG"/>
          <p:cNvPicPr/>
          <p:nvPr/>
        </p:nvPicPr>
        <p:blipFill>
          <a:blip r:embed="rId1"/>
          <a:stretch/>
        </p:blipFill>
        <p:spPr>
          <a:xfrm>
            <a:off x="5257800" y="76320"/>
            <a:ext cx="3505320" cy="2311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Sherifa\Desktop\543 cytology\cytology\1ry lysosome.jpg"/>
          <p:cNvPicPr/>
          <p:nvPr/>
        </p:nvPicPr>
        <p:blipFill>
          <a:blip r:embed="rId2"/>
          <a:stretch/>
        </p:blipFill>
        <p:spPr>
          <a:xfrm>
            <a:off x="1219320" y="152280"/>
            <a:ext cx="267948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Users\Sherifa\Desktop\543 cytology\cytology\autophagosome.jpg"/>
          <p:cNvPicPr/>
          <p:nvPr/>
        </p:nvPicPr>
        <p:blipFill>
          <a:blip r:embed="rId3"/>
          <a:stretch/>
        </p:blipFill>
        <p:spPr>
          <a:xfrm>
            <a:off x="0" y="3181320"/>
            <a:ext cx="91440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320" y="3200400"/>
            <a:ext cx="8991360" cy="3654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5-The mitochondrion</a:t>
            </a:r>
            <a:r>
              <a:rPr b="0" lang="en-GB" sz="2800" spc="-1" strike="noStrike">
                <a:solidFill>
                  <a:srgbClr val="ff0000"/>
                </a:solidFill>
                <a:latin typeface="Andalus"/>
                <a:ea typeface="Andalus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sit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cellular respiration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produces AT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 The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ner and outer membran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the mitochondrion are evident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rista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re infoldings of the inner membrane, which increase its surface are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respiratory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nzymes are found in the inner membrane and the matrix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Free ribosomes are also present in 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matrix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NA in the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on is a circular molecule,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Has own ge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late 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39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6- Peroxisomes</a:t>
            </a: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ydrogen peroxid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(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 is a pois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b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peroxisome has enzy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that converts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ndalus"/>
                <a:ea typeface="Andalus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 peroxisomes       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 O + 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ndalus"/>
                <a:ea typeface="Andalu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Some peroxisomes break fatty acids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o smaller molecules that are transpor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itochondria for 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Users\Sherifa\Desktop\543 cytology\cytology\peroxisome.jpg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7"/>
          <p:cNvCxnSpPr/>
          <p:nvPr/>
        </p:nvCxnSpPr>
        <p:spPr>
          <a:xfrm>
            <a:off x="1294920" y="2895120"/>
            <a:ext cx="129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Relationship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mong organelles of the endomembrane  system. The red arrows show some of the migration pathways for membranes and the materials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enclo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31296" t="17579" r="14897" b="23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32287" t="31905" r="14421" b="18100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مجموعة 45"/>
          <p:cNvGrpSpPr/>
          <p:nvPr/>
        </p:nvGrpSpPr>
        <p:grpSpPr>
          <a:xfrm>
            <a:off x="304920" y="1339920"/>
            <a:ext cx="8381880" cy="4985640"/>
            <a:chOff x="304920" y="1339920"/>
            <a:chExt cx="8381880" cy="4985640"/>
          </a:xfrm>
        </p:grpSpPr>
        <p:grpSp>
          <p:nvGrpSpPr>
            <p:cNvPr id="59" name="Group 8"/>
            <p:cNvGrpSpPr/>
            <p:nvPr/>
          </p:nvGrpSpPr>
          <p:grpSpPr>
            <a:xfrm>
              <a:off x="1523880" y="2711520"/>
              <a:ext cx="5943600" cy="2133360"/>
              <a:chOff x="1523880" y="2711520"/>
              <a:chExt cx="5943600" cy="2133360"/>
            </a:xfrm>
          </p:grpSpPr>
          <p:sp>
            <p:nvSpPr>
              <p:cNvPr id="60" name="AutoShape 7"/>
              <p:cNvSpPr/>
              <p:nvPr/>
            </p:nvSpPr>
            <p:spPr>
              <a:xfrm>
                <a:off x="1600200" y="2711520"/>
                <a:ext cx="5867280" cy="2057400"/>
              </a:xfrm>
              <a:prstGeom prst="flowChartTerminator">
                <a:avLst/>
              </a:prstGeom>
              <a:solidFill>
                <a:srgbClr val="cc00cc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AutoShape 5"/>
              <p:cNvSpPr/>
              <p:nvPr/>
            </p:nvSpPr>
            <p:spPr>
              <a:xfrm>
                <a:off x="1523880" y="2940120"/>
                <a:ext cx="5791320" cy="190476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AutoShape 6"/>
            <p:cNvSpPr/>
            <p:nvPr/>
          </p:nvSpPr>
          <p:spPr>
            <a:xfrm>
              <a:off x="1638360" y="3041640"/>
              <a:ext cx="5562720" cy="1676160"/>
            </a:xfrm>
            <a:prstGeom prst="flowChartTerminator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9"/>
            <p:cNvSpPr/>
            <p:nvPr/>
          </p:nvSpPr>
          <p:spPr>
            <a:xfrm>
              <a:off x="1739880" y="3130560"/>
              <a:ext cx="5359320" cy="149832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1"/>
            <p:cNvSpPr/>
            <p:nvPr/>
          </p:nvSpPr>
          <p:spPr>
            <a:xfrm>
              <a:off x="2806560" y="3444840"/>
              <a:ext cx="3517920" cy="776160"/>
            </a:xfrm>
            <a:prstGeom prst="cloudCallout">
              <a:avLst>
                <a:gd name="adj1" fmla="val -34564"/>
                <a:gd name="adj2" fmla="val -868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7"/>
            <p:cNvGrpSpPr/>
            <p:nvPr/>
          </p:nvGrpSpPr>
          <p:grpSpPr>
            <a:xfrm>
              <a:off x="6934320" y="1339920"/>
              <a:ext cx="1752480" cy="1523880"/>
              <a:chOff x="6934320" y="1339920"/>
              <a:chExt cx="1752480" cy="1523880"/>
            </a:xfrm>
          </p:grpSpPr>
          <p:sp>
            <p:nvSpPr>
              <p:cNvPr id="66" name="Line 15"/>
              <p:cNvSpPr/>
              <p:nvPr/>
            </p:nvSpPr>
            <p:spPr>
              <a:xfrm flipV="1">
                <a:off x="6934320" y="1949400"/>
                <a:ext cx="761760" cy="914400"/>
              </a:xfrm>
              <a:prstGeom prst="line">
                <a:avLst/>
              </a:prstGeom>
              <a:ln w="3816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7010280" y="133992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cc00cc"/>
                    </a:solidFill>
                    <a:latin typeface="Arial"/>
                  </a:rPr>
                  <a:t>Capsu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22"/>
            <p:cNvGrpSpPr/>
            <p:nvPr/>
          </p:nvGrpSpPr>
          <p:grpSpPr>
            <a:xfrm>
              <a:off x="4953240" y="1339920"/>
              <a:ext cx="1676160" cy="1675800"/>
              <a:chOff x="4953240" y="1339920"/>
              <a:chExt cx="1676160" cy="1675800"/>
            </a:xfrm>
          </p:grpSpPr>
          <p:sp>
            <p:nvSpPr>
              <p:cNvPr id="69" name="Line 20"/>
              <p:cNvSpPr/>
              <p:nvPr/>
            </p:nvSpPr>
            <p:spPr>
              <a:xfrm flipV="1">
                <a:off x="4953240" y="1949040"/>
                <a:ext cx="68544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Text Box 21"/>
              <p:cNvSpPr/>
              <p:nvPr/>
            </p:nvSpPr>
            <p:spPr>
              <a:xfrm>
                <a:off x="4953240" y="133992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3300"/>
                    </a:solidFill>
                    <a:latin typeface="Arial"/>
                  </a:rPr>
                  <a:t>Cell Wal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5"/>
            <p:cNvGrpSpPr/>
            <p:nvPr/>
          </p:nvGrpSpPr>
          <p:grpSpPr>
            <a:xfrm>
              <a:off x="2438280" y="1339920"/>
              <a:ext cx="2057400" cy="1790280"/>
              <a:chOff x="2438280" y="1339920"/>
              <a:chExt cx="2057400" cy="1790280"/>
            </a:xfrm>
          </p:grpSpPr>
          <p:sp>
            <p:nvSpPr>
              <p:cNvPr id="72" name="Line 23"/>
              <p:cNvSpPr/>
              <p:nvPr/>
            </p:nvSpPr>
            <p:spPr>
              <a:xfrm flipV="1">
                <a:off x="2819520" y="1987200"/>
                <a:ext cx="457200" cy="11430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24"/>
              <p:cNvSpPr/>
              <p:nvPr/>
            </p:nvSpPr>
            <p:spPr>
              <a:xfrm>
                <a:off x="2438280" y="1339920"/>
                <a:ext cx="205740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ff"/>
                    </a:solidFill>
                    <a:latin typeface="Arial"/>
                  </a:rPr>
                  <a:t>Plasma membran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8"/>
            <p:cNvGrpSpPr/>
            <p:nvPr/>
          </p:nvGrpSpPr>
          <p:grpSpPr>
            <a:xfrm>
              <a:off x="4876920" y="4311720"/>
              <a:ext cx="2057400" cy="2013840"/>
              <a:chOff x="4876920" y="4311720"/>
              <a:chExt cx="2057400" cy="2013840"/>
            </a:xfrm>
          </p:grpSpPr>
          <p:sp>
            <p:nvSpPr>
              <p:cNvPr id="75" name="Line 26"/>
              <p:cNvSpPr/>
              <p:nvPr/>
            </p:nvSpPr>
            <p:spPr>
              <a:xfrm flipH="1">
                <a:off x="5791320" y="4311720"/>
                <a:ext cx="304560" cy="11430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27"/>
              <p:cNvSpPr/>
              <p:nvPr/>
            </p:nvSpPr>
            <p:spPr>
              <a:xfrm>
                <a:off x="4876920" y="53784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Cytoplasm (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</a:rPr>
                  <a:t>Cytosol</a:t>
                </a:r>
                <a:r>
                  <a:rPr b="1" lang="en-GB" sz="2800" spc="-1" strike="noStrike">
                    <a:solidFill>
                      <a:srgbClr val="009900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32"/>
            <p:cNvGrpSpPr/>
            <p:nvPr/>
          </p:nvGrpSpPr>
          <p:grpSpPr>
            <a:xfrm>
              <a:off x="2895480" y="3854520"/>
              <a:ext cx="2057400" cy="2044440"/>
              <a:chOff x="2895480" y="3854520"/>
              <a:chExt cx="2057400" cy="2044440"/>
            </a:xfrm>
          </p:grpSpPr>
          <p:sp>
            <p:nvSpPr>
              <p:cNvPr id="78" name="Line 30"/>
              <p:cNvSpPr/>
              <p:nvPr/>
            </p:nvSpPr>
            <p:spPr>
              <a:xfrm flipH="1">
                <a:off x="3809520" y="3854520"/>
                <a:ext cx="68580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31"/>
              <p:cNvSpPr/>
              <p:nvPr/>
            </p:nvSpPr>
            <p:spPr>
              <a:xfrm>
                <a:off x="2895480" y="537840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Nucleoi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53"/>
            <p:cNvGrpSpPr/>
            <p:nvPr/>
          </p:nvGrpSpPr>
          <p:grpSpPr>
            <a:xfrm>
              <a:off x="2133720" y="3306600"/>
              <a:ext cx="4495320" cy="1218600"/>
              <a:chOff x="2133720" y="3306600"/>
              <a:chExt cx="4495320" cy="1218600"/>
            </a:xfrm>
          </p:grpSpPr>
          <p:sp>
            <p:nvSpPr>
              <p:cNvPr id="81" name="Oval 39"/>
              <p:cNvSpPr/>
              <p:nvPr/>
            </p:nvSpPr>
            <p:spPr>
              <a:xfrm>
                <a:off x="2133720" y="34585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40"/>
              <p:cNvSpPr/>
              <p:nvPr/>
            </p:nvSpPr>
            <p:spPr>
              <a:xfrm>
                <a:off x="2438280" y="414432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41"/>
              <p:cNvSpPr/>
              <p:nvPr/>
            </p:nvSpPr>
            <p:spPr>
              <a:xfrm>
                <a:off x="2209680" y="38397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42"/>
              <p:cNvSpPr/>
              <p:nvPr/>
            </p:nvSpPr>
            <p:spPr>
              <a:xfrm>
                <a:off x="4952880" y="444924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43"/>
              <p:cNvSpPr/>
              <p:nvPr/>
            </p:nvSpPr>
            <p:spPr>
              <a:xfrm>
                <a:off x="3657600" y="4296960"/>
                <a:ext cx="15192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4"/>
              <p:cNvSpPr/>
              <p:nvPr/>
            </p:nvSpPr>
            <p:spPr>
              <a:xfrm>
                <a:off x="3047760" y="437292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5"/>
              <p:cNvSpPr/>
              <p:nvPr/>
            </p:nvSpPr>
            <p:spPr>
              <a:xfrm>
                <a:off x="274320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6"/>
              <p:cNvSpPr/>
              <p:nvPr/>
            </p:nvSpPr>
            <p:spPr>
              <a:xfrm>
                <a:off x="51814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47"/>
              <p:cNvSpPr/>
              <p:nvPr/>
            </p:nvSpPr>
            <p:spPr>
              <a:xfrm>
                <a:off x="44193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48"/>
              <p:cNvSpPr/>
              <p:nvPr/>
            </p:nvSpPr>
            <p:spPr>
              <a:xfrm>
                <a:off x="3581280" y="3306600"/>
                <a:ext cx="15192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49"/>
              <p:cNvSpPr/>
              <p:nvPr/>
            </p:nvSpPr>
            <p:spPr>
              <a:xfrm>
                <a:off x="6476760" y="399204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50"/>
              <p:cNvSpPr/>
              <p:nvPr/>
            </p:nvSpPr>
            <p:spPr>
              <a:xfrm>
                <a:off x="6476760" y="36111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51"/>
              <p:cNvSpPr/>
              <p:nvPr/>
            </p:nvSpPr>
            <p:spPr>
              <a:xfrm>
                <a:off x="5562360" y="4296960"/>
                <a:ext cx="152280" cy="7560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52"/>
              <p:cNvSpPr/>
              <p:nvPr/>
            </p:nvSpPr>
            <p:spPr>
              <a:xfrm>
                <a:off x="6019560" y="3306600"/>
                <a:ext cx="152280" cy="759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58"/>
            <p:cNvGrpSpPr/>
            <p:nvPr/>
          </p:nvGrpSpPr>
          <p:grpSpPr>
            <a:xfrm>
              <a:off x="304920" y="3916080"/>
              <a:ext cx="2146320" cy="1816200"/>
              <a:chOff x="304920" y="3916080"/>
              <a:chExt cx="2146320" cy="1816200"/>
            </a:xfrm>
          </p:grpSpPr>
          <p:sp>
            <p:nvSpPr>
              <p:cNvPr id="96" name="Text Box 54"/>
              <p:cNvSpPr/>
              <p:nvPr/>
            </p:nvSpPr>
            <p:spPr>
              <a:xfrm>
                <a:off x="304920" y="521172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Ribosome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5"/>
              <p:cNvSpPr/>
              <p:nvPr/>
            </p:nvSpPr>
            <p:spPr>
              <a:xfrm flipV="1">
                <a:off x="1384560" y="4208400"/>
                <a:ext cx="1066680" cy="114264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 flipV="1">
                <a:off x="1371960" y="3916080"/>
                <a:ext cx="838080" cy="1447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G02_01.JPG                                                    07BA800ASHARE1 on ACADSERV6            B64D79C1: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0" y="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u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6204-3744-41C3-9302-5AD7332FA89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us is separated from the cytoplasm by a double membrane</a:t>
            </a:r>
            <a:r>
              <a:rPr b="0" lang="en-GB" sz="1800" spc="-1" strike="noStrike">
                <a:solidFill>
                  <a:srgbClr val="000000"/>
                </a:solidFill>
                <a:latin typeface="Andalus"/>
                <a:ea typeface="Andalu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calle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nuclear membran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ndalus"/>
                <a:ea typeface="Andalus"/>
              </a:rPr>
              <a:t>nuclear membra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por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nuclear membrane 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1. The nucleus</a:t>
            </a:r>
            <a:r>
              <a:rPr b="1" lang="en-US" sz="4000" spc="-1" strike="noStrike">
                <a:solidFill>
                  <a:srgbClr val="ff0000"/>
                </a:solidFill>
                <a:latin typeface="Andalus"/>
                <a:ea typeface="Andalus"/>
              </a:rPr>
              <a:t>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ndalus"/>
                <a:ea typeface="Andalus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ndalus"/>
                <a:ea typeface="Andalus"/>
              </a:rPr>
              <a:t>Contains the cell’s genetic libr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380880" y="0"/>
            <a:ext cx="967716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Miller_Harley\jpgs\Ch02\2-22.jpg"/>
          <p:cNvPicPr/>
          <p:nvPr/>
        </p:nvPicPr>
        <p:blipFill>
          <a:blip r:embed="rId2"/>
          <a:stretch/>
        </p:blipFill>
        <p:spPr>
          <a:xfrm>
            <a:off x="6095880" y="4191120"/>
            <a:ext cx="281952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Miller_Harley\jpgs\Ch02\2-15.jpg"/>
          <p:cNvPicPr/>
          <p:nvPr/>
        </p:nvPicPr>
        <p:blipFill>
          <a:blip r:embed="rId1"/>
          <a:stretch/>
        </p:blipFill>
        <p:spPr>
          <a:xfrm>
            <a:off x="4800600" y="228600"/>
            <a:ext cx="4332240" cy="6629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304920" y="1219320"/>
            <a:ext cx="5257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2-Endoplasmic Reticulum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set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terconnected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1-Rough ER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studded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ibosomes) - involved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production and mod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7933c"/>
                </a:solidFill>
                <a:uFillTx/>
                <a:latin typeface="Andalus"/>
                <a:ea typeface="Andalus"/>
              </a:rPr>
              <a:t>2-Smooth ER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(no ribosomes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volved in produ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lipids, detoxification of molec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calcium storage in musc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-*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ndalus"/>
                <a:ea typeface="Andalus"/>
              </a:rPr>
              <a:t>Ribosom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med in nucleolu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D:\Miller_Harley\jpgs\Ch02\2-16.jpg"/>
          <p:cNvPicPr/>
          <p:nvPr/>
        </p:nvPicPr>
        <p:blipFill>
          <a:blip r:embed="rId1"/>
          <a:stretch/>
        </p:blipFill>
        <p:spPr>
          <a:xfrm>
            <a:off x="4572000" y="228600"/>
            <a:ext cx="457200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85760" y="685800"/>
            <a:ext cx="4749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3-Golgi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After protei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lipids are made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they may be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further and/or 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by the Golgi Apparatu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Miller_Harley\jpgs\Ch02\2-17.jpg"/>
          <p:cNvPicPr/>
          <p:nvPr/>
        </p:nvPicPr>
        <p:blipFill>
          <a:blip r:embed="rId1"/>
          <a:stretch/>
        </p:blipFill>
        <p:spPr>
          <a:xfrm>
            <a:off x="2286000" y="1112760"/>
            <a:ext cx="6858000" cy="5745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0" y="2160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ndalus"/>
                <a:ea typeface="Andalus"/>
              </a:rPr>
              <a:t>4- Lysosome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formed by GA, contain enzymes that break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cellular debris and foreign substances brought into the cell .(</a:t>
            </a:r>
            <a:r>
              <a:rPr b="0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cidic  medium  PH=5.2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herifa</dc:creator>
  <dc:description/>
  <dc:language>en-US</dc:language>
  <cp:lastModifiedBy>DELL</cp:lastModifiedBy>
  <dcterms:modified xsi:type="dcterms:W3CDTF">2013-09-10T15:22:42Z</dcterms:modified>
  <cp:revision>43</cp:revision>
  <dc:subject/>
  <dc:title>Animal Cell</dc:title>
</cp:coreProperties>
</file>