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CD4B-788C-4640-8907-9BB23024C53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C437-CF07-4C26-A7DF-681B00F5A86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642D-C547-40DD-8A8E-2FB2B9BEF3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5E4-68F8-480B-9421-7A7241AFBFB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E609-79ED-4C55-ACA7-E0AF2C83EEC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F95A-8913-49A4-82AA-DA23866D625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8E8D-BBA5-4E2F-B754-4E3802D6AC3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D45-5A4A-4027-9E9E-6E4BFF64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45F-00EB-4109-B931-0A77A2F0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D57-C928-44AC-BA43-F38321A1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CD3-F248-42A5-ABF0-C4FA5ADB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98A-B689-442C-B83F-865F4F7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BC5-C111-433E-A6FD-448E1973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82C-A52F-4060-9726-8EC64A23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2BC-BDED-4BDC-A6D6-FFF32A53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BA5-1A64-4BF0-9431-09200720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E05-F07D-4DC9-8F17-3A85275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F78-1D21-4811-B989-FAABC10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E78-896C-4DC5-B9E3-4DDC23F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8692-276D-4EED-9730-C0C92F8E3C7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4"/>
          <p:cNvSpPr/>
          <p:nvPr/>
        </p:nvSpPr>
        <p:spPr>
          <a:xfrm>
            <a:off x="571680" y="0"/>
            <a:ext cx="52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2394" t="16604" r="14897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ربع نص 3"/>
          <p:cNvSpPr/>
          <p:nvPr/>
        </p:nvSpPr>
        <p:spPr>
          <a:xfrm>
            <a:off x="78588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2-Nutrition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10" descr="صورة1.png"/>
          <p:cNvPicPr/>
          <p:nvPr/>
        </p:nvPicPr>
        <p:blipFill>
          <a:blip r:embed="rId1"/>
          <a:stretch/>
        </p:blipFill>
        <p:spPr>
          <a:xfrm>
            <a:off x="182520" y="1049400"/>
            <a:ext cx="87789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مربع نص 4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صورة 10" descr="صورة2.png"/>
          <p:cNvPicPr/>
          <p:nvPr/>
        </p:nvPicPr>
        <p:blipFill>
          <a:blip r:embed="rId1"/>
          <a:stretch/>
        </p:blipFill>
        <p:spPr>
          <a:xfrm>
            <a:off x="334800" y="1395360"/>
            <a:ext cx="84744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60" y="1530360"/>
            <a:ext cx="84646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acronutrients (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but no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ibers and water) provide structural material  for example (amino acids from which proteins are built) and (lipids from which cell membrane is buil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of the structural material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an be used to generate energy internally, and measured in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kilocalori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(often called "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alori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"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- Carbohydrates and proteins provid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4 kca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energy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per gra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I- while fats provid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9 kcal per gra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Vitamins, minerals, and water do not provide energy, but are required for other rea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ibers (i.e., non-digestible materials such as cellulose), seems to be required, for both mechanical and biochemical rea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56760" y="1356840"/>
            <a:ext cx="8472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Fa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triglycerides, made of fatty acid monomers bound to glycerol backbone. Some fatty acids, but not all, are essential in the diet: the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nnot be synthesized in the bod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rotei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molecules contain amino acids, some of which are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essentia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the body can not make them internally). Some of the amino acids are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convertible to glucos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can be us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energy produc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just as ordinary glucose during prolonged starv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Most foo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ontain a mix of some or all of the nutrient classes, together with other substances such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oxi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r various so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Some nutrien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an be stored internally (eg, some vitamins), while others are required more or less continuous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oor healt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sults from a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lack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required nutrients or,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too muc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a required nutrient. For example, both salt and water (both are required) but cause illness (or even death) in too large amou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صورة 44" descr="صورة3.png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7:19:34Z</dcterms:created>
  <dc:creator>DELL</dc:creator>
  <dc:description/>
  <dc:language>en-US</dc:language>
  <cp:lastModifiedBy>DELL</cp:lastModifiedBy>
  <dcterms:modified xsi:type="dcterms:W3CDTF">2013-09-27T07:23:38Z</dcterms:modified>
  <cp:revision>2</cp:revision>
  <dc:subject/>
  <dc:title>الشريحة 1</dc:title>
</cp:coreProperties>
</file>