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4894-28F9-400C-B275-372BEFACCAD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C296-B25C-4F16-96E3-75EF60F48C7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7072-7D0E-466F-9093-7DFE678E094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F4FB-FFC5-45BF-A36E-FD7DE5AF5AC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40BF-C743-49DF-AA3A-B86A25AC4C9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F780-D34B-4E6A-A4FC-791A1F2896E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EA07-077C-47A7-B9E4-11D68B8C553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520D-5B44-4A1D-B393-899B60D3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82E-D75C-4D83-BFCF-E42C0422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D346-2ED3-43A3-A887-0EE5E0D1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CF69-E380-4733-9599-72E80AF3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3E15-7472-4CCF-BE13-68BD6364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BC39-9FAF-4F5F-9ECE-E3B0ED5F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155-8DC2-41F3-BA1C-B211E887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009-CACC-4C64-85B3-A126134D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1639-18D8-4138-9A62-DC7DEA3F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E0B-4E98-4081-A8D7-E62C1F43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B3C-DCE8-48DD-AB91-02075025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5F0-6980-44EA-9414-3083C47D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98B8-BB3A-4E17-9DE2-D4BFC5F128B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4"/>
          <p:cNvSpPr/>
          <p:nvPr/>
        </p:nvSpPr>
        <p:spPr>
          <a:xfrm>
            <a:off x="571680" y="0"/>
            <a:ext cx="52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Bradley Hand ITC"/>
              </a:rPr>
              <a:t>Physiolog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32394" t="16604" r="14897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ربع نص 3"/>
          <p:cNvSpPr/>
          <p:nvPr/>
        </p:nvSpPr>
        <p:spPr>
          <a:xfrm>
            <a:off x="78588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2-Nutrition 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صورة 10" descr="صورة1.png"/>
          <p:cNvPicPr/>
          <p:nvPr/>
        </p:nvPicPr>
        <p:blipFill>
          <a:blip r:embed="rId1"/>
          <a:stretch/>
        </p:blipFill>
        <p:spPr>
          <a:xfrm>
            <a:off x="182520" y="1049400"/>
            <a:ext cx="877896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مربع نص 4"/>
          <p:cNvSpPr/>
          <p:nvPr/>
        </p:nvSpPr>
        <p:spPr>
          <a:xfrm>
            <a:off x="85716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Nutrients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صورة 10" descr="صورة2.png"/>
          <p:cNvPicPr/>
          <p:nvPr/>
        </p:nvPicPr>
        <p:blipFill>
          <a:blip r:embed="rId1"/>
          <a:stretch/>
        </p:blipFill>
        <p:spPr>
          <a:xfrm>
            <a:off x="334800" y="1395360"/>
            <a:ext cx="847440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4760" y="1530360"/>
            <a:ext cx="84646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macronutrients (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but not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fibers and water) provide structural material  for example (amino acids from which proteins are built) and (lipids from which cell membrane is buil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Some of the structural material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can be used to generate energy internally, and measured in 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kilocalorie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(often called "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alorie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"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- Carbohydrates and proteins provid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4 kcal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energy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per gra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I- while fats provid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9 kcal per gra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Vitamins, minerals, and water do not provide energy, but are required for other reas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Fibers (i.e., non-digestible materials such as cellulose), seems to be required, for both mechanical and biochemical reas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مربع نص 3"/>
          <p:cNvSpPr/>
          <p:nvPr/>
        </p:nvSpPr>
        <p:spPr>
          <a:xfrm>
            <a:off x="85716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Nutrients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56760" y="1356840"/>
            <a:ext cx="8472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Fat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triglycerides, made of fatty acid monomers bound to glycerol backbone. Some fatty acids, but not all, are essential in the diet: the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annot be synthesized in the body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Protei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molecules contain amino acids, some of which are </a:t>
            </a:r>
            <a:r>
              <a:rPr b="0" lang="en-US" sz="2000" spc="-1" strike="noStrike">
                <a:solidFill>
                  <a:srgbClr val="ff3300"/>
                </a:solidFill>
                <a:latin typeface="Andalus"/>
                <a:ea typeface="Andalus"/>
              </a:rPr>
              <a:t>essential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(the body can not make them internally). Some of the amino acids are </a:t>
            </a:r>
            <a:r>
              <a:rPr b="0" lang="en-US" sz="2000" spc="-1" strike="noStrike">
                <a:solidFill>
                  <a:srgbClr val="ff3300"/>
                </a:solidFill>
                <a:latin typeface="Andalus"/>
                <a:ea typeface="Andalus"/>
              </a:rPr>
              <a:t>convertible to glucos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can be used f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energy productio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just as ordinary glucose during prolonged starv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Most food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contain a mix of some or all of the nutrient classes, together with other substances such a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oxin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r various sor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Some nutrient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can be stored internally (eg, some vitamins), while others are required more or less continuousl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Poor health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results from a </a:t>
            </a:r>
            <a:r>
              <a:rPr b="0" lang="en-US" sz="2000" spc="-1" strike="noStrike">
                <a:solidFill>
                  <a:srgbClr val="ff3300"/>
                </a:solidFill>
                <a:latin typeface="Andalus"/>
                <a:ea typeface="Andalus"/>
              </a:rPr>
              <a:t>lack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required nutrients or, </a:t>
            </a:r>
            <a:r>
              <a:rPr b="0" lang="en-US" sz="2000" spc="-1" strike="noStrike">
                <a:solidFill>
                  <a:srgbClr val="ff3300"/>
                </a:solidFill>
                <a:latin typeface="Andalus"/>
                <a:ea typeface="Andalus"/>
              </a:rPr>
              <a:t>too much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a required nutrient. For example, both salt and water (both are required) but cause illness (or even death) in too large amou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مربع نص 3"/>
          <p:cNvSpPr/>
          <p:nvPr/>
        </p:nvSpPr>
        <p:spPr>
          <a:xfrm>
            <a:off x="85716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Nutrients</a:t>
            </a:r>
            <a:r>
              <a:rPr b="1" lang="ar-SA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صورة 44" descr="صورة3.png"/>
          <p:cNvPicPr/>
          <p:nvPr/>
        </p:nvPicPr>
        <p:blipFill>
          <a:blip r:embed="rId1"/>
          <a:stretch/>
        </p:blipFill>
        <p:spPr>
          <a:xfrm>
            <a:off x="324000" y="1590840"/>
            <a:ext cx="849600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rcRect l="32945" t="16604" r="14349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7:19:34Z</dcterms:created>
  <dc:creator>DELL</dc:creator>
  <dc:description/>
  <dc:language>en-US</dc:language>
  <cp:lastModifiedBy>DELL</cp:lastModifiedBy>
  <dcterms:modified xsi:type="dcterms:W3CDTF">2013-09-27T07:23:38Z</dcterms:modified>
  <cp:revision>2</cp:revision>
  <dc:subject/>
  <dc:title>الشريحة 1</dc:title>
</cp:coreProperties>
</file>