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194A-6CFD-42BF-8EE3-178DA92E9E6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1BDD-FADE-45C7-A74C-EA90C153679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9395-01DC-460E-AE92-A7277F4421B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405B-EA52-4874-9664-1A72D9CEED1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8709-9183-45AC-8016-895BAC8330C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74ED-96F9-484D-A42B-EE3E5D733A3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6FF8-7C68-427E-AAA9-D1E41C3C6DF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4BF9-D796-4E67-8B72-C3CFA6492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813C-F1EE-478E-9B1E-F0EE238D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FE77-D829-405B-9CBA-E52F2F479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9592-F269-4ADB-BAD6-D66E3DB5B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E77D-E33E-47A8-A39C-2AA52E78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705E-FABC-4721-9AAE-836C8E7B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9CFD-1B6A-49AB-819B-E774DB2E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C967-D3DB-40C0-9350-E5F4E77F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FF72-B61D-4824-BE98-FA806CE4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5B64-082D-488E-9F54-B7B64E45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1715-0059-466B-BED3-AA5CBDA7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1727-DF2D-4C82-B7E2-E03FF6FE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B6BF-E2A0-42F6-AC23-77957419CBD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مربع نص 4"/>
          <p:cNvSpPr/>
          <p:nvPr/>
        </p:nvSpPr>
        <p:spPr>
          <a:xfrm>
            <a:off x="571680" y="0"/>
            <a:ext cx="52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Bradley Hand ITC"/>
              </a:rPr>
              <a:t>Physiology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rcRect l="32394" t="16604" r="14897" b="121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مربع نص 3"/>
          <p:cNvSpPr/>
          <p:nvPr/>
        </p:nvSpPr>
        <p:spPr>
          <a:xfrm>
            <a:off x="785880" y="21420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2-Nutrition </a:t>
            </a:r>
            <a:r>
              <a:rPr b="1" lang="ar-SA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صورة 10" descr="صورة1.png"/>
          <p:cNvPicPr/>
          <p:nvPr/>
        </p:nvPicPr>
        <p:blipFill>
          <a:blip r:embed="rId1"/>
          <a:stretch/>
        </p:blipFill>
        <p:spPr>
          <a:xfrm>
            <a:off x="182520" y="1049400"/>
            <a:ext cx="8778960" cy="58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مربع نص 4"/>
          <p:cNvSpPr/>
          <p:nvPr/>
        </p:nvSpPr>
        <p:spPr>
          <a:xfrm>
            <a:off x="857160" y="21420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Nutrients</a:t>
            </a:r>
            <a:r>
              <a:rPr b="1" lang="ar-SA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صورة 10" descr="صورة2.png"/>
          <p:cNvPicPr/>
          <p:nvPr/>
        </p:nvPicPr>
        <p:blipFill>
          <a:blip r:embed="rId1"/>
          <a:stretch/>
        </p:blipFill>
        <p:spPr>
          <a:xfrm>
            <a:off x="334800" y="1395360"/>
            <a:ext cx="8474400" cy="47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4760" y="1530360"/>
            <a:ext cx="846468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macronutrients (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but not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fibers and water) provide structural material  for example (amino acids from which proteins are built) and (lipids from which cell membrane is built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Some of the structural material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can be used to generate energy internally, and measured in </a:t>
            </a: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kilocalorie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 (often called "</a:t>
            </a: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Calorie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"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I- Carbohydrates and proteins provide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4 kcal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of energy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per gram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II- while fats provide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9 kcal per gram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Vitamins, minerals, and water do not provide energy, but are required for other reas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Fibers (i.e., non-digestible materials such as cellulose), seems to be required, for both mechanical and biochemical reas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مربع نص 3"/>
          <p:cNvSpPr/>
          <p:nvPr/>
        </p:nvSpPr>
        <p:spPr>
          <a:xfrm>
            <a:off x="857160" y="21420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Nutrients</a:t>
            </a:r>
            <a:r>
              <a:rPr b="1" lang="ar-SA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1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1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56760" y="1356840"/>
            <a:ext cx="8472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Fat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are triglycerides, made of fatty acid monomers bound to glycerol backbone. Some fatty acids, but not all, are essential in the diet: the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cannot be synthesized in the body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Protein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molecules contain amino acids, some of which are </a:t>
            </a:r>
            <a:r>
              <a:rPr b="0" lang="en-US" sz="2000" spc="-1" strike="noStrike">
                <a:solidFill>
                  <a:srgbClr val="ff3300"/>
                </a:solidFill>
                <a:latin typeface="Andalus"/>
                <a:ea typeface="Andalus"/>
              </a:rPr>
              <a:t>essential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(the body can not make them internally). Some of the amino acids are </a:t>
            </a:r>
            <a:r>
              <a:rPr b="0" lang="en-US" sz="2000" spc="-1" strike="noStrike">
                <a:solidFill>
                  <a:srgbClr val="ff3300"/>
                </a:solidFill>
                <a:latin typeface="Andalus"/>
                <a:ea typeface="Andalus"/>
              </a:rPr>
              <a:t>convertible to glucose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and can be used f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energy production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just as ordinary glucose during prolonged starv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Most food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contain a mix of some or all of the nutrient classes, together with other substances such a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toxin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or various sor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Some nutrient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can be stored internally (eg, some vitamins), while others are required more or less continuousl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Poor health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results from a </a:t>
            </a:r>
            <a:r>
              <a:rPr b="0" lang="en-US" sz="2000" spc="-1" strike="noStrike">
                <a:solidFill>
                  <a:srgbClr val="ff3300"/>
                </a:solidFill>
                <a:latin typeface="Andalus"/>
                <a:ea typeface="Andalus"/>
              </a:rPr>
              <a:t>lack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of required nutrients or, </a:t>
            </a:r>
            <a:r>
              <a:rPr b="0" lang="en-US" sz="2000" spc="-1" strike="noStrike">
                <a:solidFill>
                  <a:srgbClr val="ff3300"/>
                </a:solidFill>
                <a:latin typeface="Andalus"/>
                <a:ea typeface="Andalus"/>
              </a:rPr>
              <a:t>too much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of a required nutrient. For example, both salt and water (both are required) but cause illness (or even death) in too large amou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مربع نص 3"/>
          <p:cNvSpPr/>
          <p:nvPr/>
        </p:nvSpPr>
        <p:spPr>
          <a:xfrm>
            <a:off x="857160" y="21420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Nutrients</a:t>
            </a:r>
            <a:r>
              <a:rPr b="1" lang="ar-SA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The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صورة 44" descr="صورة3.png"/>
          <p:cNvPicPr/>
          <p:nvPr/>
        </p:nvPicPr>
        <p:blipFill>
          <a:blip r:embed="rId1"/>
          <a:stretch/>
        </p:blipFill>
        <p:spPr>
          <a:xfrm>
            <a:off x="324000" y="1590840"/>
            <a:ext cx="849600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rcRect l="32945" t="16604" r="14349" b="121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7T07:19:34Z</dcterms:created>
  <dc:creator>DELL</dc:creator>
  <dc:description/>
  <dc:language>en-US</dc:language>
  <cp:lastModifiedBy>DELL</cp:lastModifiedBy>
  <dcterms:modified xsi:type="dcterms:W3CDTF">2013-09-27T07:23:38Z</dcterms:modified>
  <cp:revision>2</cp:revision>
  <dc:subject/>
  <dc:title>الشريحة 1</dc:title>
</cp:coreProperties>
</file>