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91F-13B6-4A96-B9F9-3A6818AEC80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C9D-5915-4BA0-B589-FB419DB313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E42-9D85-4F2B-88F7-5CDA6DB1D8E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F6C-786E-4E90-A480-C48BA57087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327-79B3-476F-8B33-39843B3778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EE7-7B3E-4349-BADC-5AA6A20C636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A0B1-CEE0-4A85-B926-C9681D6C7AE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124-EEC2-409F-A278-8259A648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176-369F-4568-8AD2-0239A354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C48-43A1-4C21-841F-E4DE5072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45A-B656-49D6-82EB-E685894C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64C-FAD2-4D2C-860E-4974A836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B42-2C9A-4981-80DA-2DD5A4B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F6A-274E-46A7-92B3-1683FE5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33D-3A14-4B3D-A7A0-CAFD916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A8F-1443-45C0-8BB7-C3BE8A7F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D9F-7A41-446A-8DB4-3AAC308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5A3-91CA-447F-8169-A63907F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524-6617-40DD-9668-80537F9E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0539-2438-4BA5-B3FA-62069E2AF5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ربع نص 3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2-Nutrition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10" descr="صورة1.png"/>
          <p:cNvPicPr/>
          <p:nvPr/>
        </p:nvPicPr>
        <p:blipFill>
          <a:blip r:embed="rId1"/>
          <a:stretch/>
        </p:blipFill>
        <p:spPr>
          <a:xfrm>
            <a:off x="182520" y="1049400"/>
            <a:ext cx="87789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ربع نص 4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صورة 10" descr="صورة2.png"/>
          <p:cNvPicPr/>
          <p:nvPr/>
        </p:nvPicPr>
        <p:blipFill>
          <a:blip r:embed="rId1"/>
          <a:stretch/>
        </p:blipFill>
        <p:spPr>
          <a:xfrm>
            <a:off x="334800" y="1395360"/>
            <a:ext cx="84744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60" y="1530360"/>
            <a:ext cx="84646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cronutrients (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ut no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ibers and water) provide structural material  for example (amino acids from which proteins are built) and (lipids from which cell membrane is buil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 structural materia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used to generate energy internally, and measured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kilo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(often called "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"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- Carbohydrates and protein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4 kc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energ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I- while fat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9 kcal 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itamins, minerals, and water do not provide energy, but are required for other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ibers (i.e., non-digestible materials such as cellulose), seems to be required, for both mechanical and biochemical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6760" y="1356840"/>
            <a:ext cx="8472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Fa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riglycerides, made of fatty acid monomers bound to glycerol backbone. Some fatty acids, but not all, are essential in the diet: the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nnot be synthesized in the bod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rote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s contain amino acids, some of which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essenti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the body can not make them internally). Some of the amino acids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convertible to glucos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can be us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energy produ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just as ordinary glucose during prolonged star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foo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ntain a mix of some or all of the nutrient classes, together with other substance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oxi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various so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me 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stored internally (eg, some vitamins), while others are required more or less continuous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oor healt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sults from a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lack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required nutrients or,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too muc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a required nutrient. For example, both salt and water (both are required) but cause illness (or even death) in too large amou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صورة 44" descr="صورة3.png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19:34Z</dcterms:created>
  <dc:creator>DELL</dc:creator>
  <dc:description/>
  <dc:language>en-US</dc:language>
  <cp:lastModifiedBy>DELL</cp:lastModifiedBy>
  <dcterms:modified xsi:type="dcterms:W3CDTF">2013-09-27T07:23:38Z</dcterms:modified>
  <cp:revision>2</cp:revision>
  <dc:subject/>
  <dc:title>الشريحة 1</dc:title>
</cp:coreProperties>
</file>