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8698-F243-4EAA-A12E-7FAE669E771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EF89-D170-4BFA-A377-D004E671658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10E9-8F9F-43BB-8015-2D271798E37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ED2C-3347-495C-ACFA-EBE36B77430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10BD-4F85-4ECA-8A51-E7D3034D35E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441C-3AC5-4715-997B-8BF2E0FFF05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7487-CA06-41FD-A137-86B886F9A3E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50A3-CC7D-4D3F-979B-C8F7719BEC3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37E2-6F62-4EEC-84E5-ABB4A24F3B8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B87A-88CF-4C44-A5F9-0E6B819665B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2EBD-C359-4365-92C8-72279447FC1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626B-17A5-40E2-9243-F8180FA1510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BE96-FE22-4FAE-873E-672A3EEE64D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0BAE-CD9E-402A-A79B-BD919AA7FEB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531-4E80-4373-9F22-23EBA663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58E-703A-402D-9096-E74D3663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FED-0D54-4413-A462-91852092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0F6-BD71-445B-8277-BACECD77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EAB-A5F5-4ED7-81D9-C1809D26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656-B878-4764-9732-C2CB2727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07E-2629-4CD0-90D6-36985087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D7B-D3C9-4525-B082-8655DFB5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D99-1E32-4A22-B256-717389F6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EBB-8CF2-4784-B29F-9244724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9E8-6556-4918-BBFD-5AE13FBC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E8D-8D6D-4622-A966-6A1D937C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F7A7-AD3E-436A-A477-E7D470A52BA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ec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2"/>
          <p:cNvSpPr/>
          <p:nvPr/>
        </p:nvSpPr>
        <p:spPr>
          <a:xfrm>
            <a:off x="1214280" y="982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357120" y="1500120"/>
            <a:ext cx="8143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trient must cross lining   of alimentary canal to reach blood str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is absorption occurs in small intestine which has huge surface are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Transport across epithelial cell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Sugar like fructose move b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facilitate diffus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Amino acid, vitamins and most glucose molecules are pumped against concentration gradien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Triglycerides are incorporated into water-soluabl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hylomicrons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hich  are too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large to pass through  capillaries. They are transported into lacteals  which  are part of lymphatic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مربع نص 3"/>
          <p:cNvSpPr/>
          <p:nvPr/>
        </p:nvSpPr>
        <p:spPr>
          <a:xfrm>
            <a:off x="857160" y="64296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Absorption in small intest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الخملة بالتفصيل"/>
          <p:cNvPicPr/>
          <p:nvPr/>
        </p:nvPicPr>
        <p:blipFill>
          <a:blip r:embed="rId1"/>
          <a:stretch/>
        </p:blipFill>
        <p:spPr>
          <a:xfrm>
            <a:off x="507204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PTShape_0" descr="امتصاص البروتين"/>
          <p:cNvPicPr/>
          <p:nvPr/>
        </p:nvPicPr>
        <p:blipFill>
          <a:blip r:embed="rId2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acsbiology.info/images/liver1.jpg"/>
          <p:cNvPicPr/>
          <p:nvPr/>
        </p:nvPicPr>
        <p:blipFill>
          <a:blip r:embed="rId1"/>
          <a:stretch/>
        </p:blipFill>
        <p:spPr>
          <a:xfrm>
            <a:off x="4643280" y="2071800"/>
            <a:ext cx="4456440" cy="3781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14200" y="1071720"/>
            <a:ext cx="5143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Production of bile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Detox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plays an important role in the destruction of red blood cells whi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esults in formation of bile pig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pigment eliminated from the body with fe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Bile production by the liv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gestion of fat and lipids begin in small intestine due to production of bile By the liver. Bile contain salts which aid indigestion and absorption of lip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store and concentrated in gallbladde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مربع نص 4"/>
          <p:cNvSpPr/>
          <p:nvPr/>
        </p:nvSpPr>
        <p:spPr>
          <a:xfrm>
            <a:off x="857160" y="21420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Functions of  l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000080" y="981000"/>
          <a:ext cx="7215120" cy="5746680"/>
        </p:xfrm>
        <a:graphic>
          <a:graphicData uri="http://schemas.openxmlformats.org/drawingml/2006/table">
            <a:tbl>
              <a:tblPr/>
              <a:tblGrid>
                <a:gridCol w="1928880"/>
                <a:gridCol w="3929040"/>
                <a:gridCol w="13572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y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va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starch to soluble sugars (disaccharides -malto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3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s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aks protein into  pept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2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ric amy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adation of st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3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ion of liquid milk to solid p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46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ric lip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adation of butter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5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r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sucrose to disaccharides and monosacchar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maltose to gluc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02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lactose to glucose and galact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5" name="مربع نص 4"/>
          <p:cNvSpPr/>
          <p:nvPr/>
        </p:nvSpPr>
        <p:spPr>
          <a:xfrm>
            <a:off x="928800" y="21420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Enzymes and their fun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مجموعة 8"/>
          <p:cNvGrpSpPr/>
          <p:nvPr/>
        </p:nvGrpSpPr>
        <p:grpSpPr>
          <a:xfrm>
            <a:off x="0" y="1214280"/>
            <a:ext cx="9001080" cy="5643720"/>
            <a:chOff x="0" y="1214280"/>
            <a:chExt cx="9001080" cy="5643720"/>
          </a:xfrm>
        </p:grpSpPr>
        <p:pic>
          <p:nvPicPr>
            <p:cNvPr id="77" name="صورة 3" descr="صورة1.png"/>
            <p:cNvPicPr/>
            <p:nvPr/>
          </p:nvPicPr>
          <p:blipFill>
            <a:blip r:embed="rId1"/>
            <a:stretch/>
          </p:blipFill>
          <p:spPr>
            <a:xfrm>
              <a:off x="0" y="1214280"/>
              <a:ext cx="9001080" cy="564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8" name="Straight Arrow Connector 33"/>
            <p:cNvCxnSpPr/>
            <p:nvPr/>
          </p:nvCxnSpPr>
          <p:spPr>
            <a:xfrm>
              <a:off x="3516120" y="1575360"/>
              <a:ext cx="1488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9" name="Straight Arrow Connector 33"/>
            <p:cNvCxnSpPr/>
            <p:nvPr/>
          </p:nvCxnSpPr>
          <p:spPr>
            <a:xfrm>
              <a:off x="2109240" y="3282840"/>
              <a:ext cx="2040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339920"/>
            <a:ext cx="8229600" cy="53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igestio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the mechanical and chemical breaking down of food into smaller components, to a form that can be absorbed. Digestion is a form of catabolism  that means break down of macro-food molecules to smaller 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)-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tracellular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digestion : In mammals, food enters the mouth, being chewed by teeth, and broken down by the saliva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cs typeface="Andalus"/>
              </a:rPr>
              <a:t>ا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rom the salivary glands. Then it travels down the esophagus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to the stomach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, where acid begins physical break down of some food. The food go through the small intestine, through the large intestine, and are excreted outs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b)-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Intracellular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igestion : Some other unicellular organisms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use different mechanisms to digest food inside the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3-Di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nlm.nih.gov/medlineplus/ency/images/ency/fullsize/8710.jpg"/>
          <p:cNvPicPr/>
          <p:nvPr/>
        </p:nvPicPr>
        <p:blipFill>
          <a:blip r:embed="rId1"/>
          <a:stretch/>
        </p:blipFill>
        <p:spPr>
          <a:xfrm>
            <a:off x="539640" y="1052640"/>
            <a:ext cx="7993080" cy="5472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33240" y="333360"/>
            <a:ext cx="35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82880" y="1928880"/>
            <a:ext cx="827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Ingestion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is the act of e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Diges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is break down of food into small molecu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nough for  the body to absor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Absorp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 the animal cell take up small molecu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uch as amino  acid and simple sug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4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Elimina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 when undigested material passes 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the digestiv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مربع نص 3"/>
          <p:cNvSpPr/>
          <p:nvPr/>
        </p:nvSpPr>
        <p:spPr>
          <a:xfrm>
            <a:off x="714240" y="714240"/>
            <a:ext cx="735804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The main stages of food process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500040" y="1523880"/>
            <a:ext cx="861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Organ specialized for food processing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Mouth</a:t>
            </a:r>
            <a:r>
              <a:rPr b="0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gestion and first stages of digestion occur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outh as teeth cut and grind food Salivary gland released saliva which contain amylase enzyme That hydrolyzes starch into small disaccharide Saliva has protective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Pharyn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</a:t>
            </a:r>
            <a:r>
              <a:rPr b="1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Esophagus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aves of muscular contraction move bolus to the stom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مربع نص 4"/>
          <p:cNvSpPr/>
          <p:nvPr/>
        </p:nvSpPr>
        <p:spPr>
          <a:xfrm>
            <a:off x="857160" y="28584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Mammalian digestive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857160" y="571680"/>
            <a:ext cx="48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4- stom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785880" y="12142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omach secretes </a:t>
            </a:r>
            <a:r>
              <a:rPr b="0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gastric juic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mixed  with digestiv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o form chy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Components of gastric ju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ydrochloric acid converts pepsinogen to pepsin which begin chemical digestion of protei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cl also kill most 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http://www.thethinkingblue.com/pics/Stomachabc.jpg"/>
          <p:cNvPicPr/>
          <p:nvPr/>
        </p:nvPicPr>
        <p:blipFill>
          <a:blip r:embed="rId1"/>
          <a:stretch/>
        </p:blipFill>
        <p:spPr>
          <a:xfrm>
            <a:off x="684360" y="3786120"/>
            <a:ext cx="82803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57120" y="42876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5-Small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english-lss.com/E4MS/Digestive/Media/small_intestine.jpg"/>
          <p:cNvPicPr/>
          <p:nvPr/>
        </p:nvPicPr>
        <p:blipFill>
          <a:blip r:embed="rId1"/>
          <a:stretch/>
        </p:blipFill>
        <p:spPr>
          <a:xfrm>
            <a:off x="3214800" y="1143000"/>
            <a:ext cx="5929200" cy="4857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85840" y="1285920"/>
            <a:ext cx="4286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enzymatic hydrolysis of macromolecules from food occurs in the small intesti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ormonal control di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gastrin stimulate production of gastric ju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secretin :stimulates the pancreas to release sodium carbonate which neutralize chyme. Pancreatic enzyme are trysine and chymotryps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03400" y="3571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6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Large intestine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4200" y="1071720"/>
            <a:ext cx="8358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ts function i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bsorb water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rom the remaining indigestible food matter, and then to pass useles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  <a:hlinkClick r:id="rId1"/>
              </a:rPr>
              <a:t>waste material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rom the body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www.healthcentral.com/common/images/1/19220_7406_5.jpg"/>
          <p:cNvPicPr/>
          <p:nvPr/>
        </p:nvPicPr>
        <p:blipFill>
          <a:blip r:embed="rId2"/>
          <a:stretch/>
        </p:blipFill>
        <p:spPr>
          <a:xfrm>
            <a:off x="611280" y="2357280"/>
            <a:ext cx="79135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7:25:43Z</dcterms:created>
  <dc:creator>DELL</dc:creator>
  <dc:description/>
  <dc:language>en-US</dc:language>
  <cp:lastModifiedBy>DELL</cp:lastModifiedBy>
  <dcterms:modified xsi:type="dcterms:W3CDTF">2013-09-27T07:30:34Z</dcterms:modified>
  <cp:revision>2</cp:revision>
  <dc:subject/>
  <dc:title>الشريحة 1</dc:title>
</cp:coreProperties>
</file>