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B794D-7EA2-4F58-924E-E8902DD9CCA6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581A8-31C7-4875-9BFD-DDB3DD695382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88D8F-5B17-46D6-AC18-A46CC03A6C55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BD4EA-E5C3-4A53-9B73-C931F4188F5F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4303C-DE21-4455-995C-57D1847556EF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EF1BD-A6EA-4AE1-A66B-FDCB85EF93DB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1250C-6AAA-42F7-BE3F-71AFC3FBACFE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26E7D-E84E-4A2B-978B-0AEB1924541C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DA474-0E94-4C9C-9FE4-C476EFC8ED81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E8F31-E1A6-4E38-A61E-71E6204AF484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2103C-9675-4690-8E5C-89E2EEBDDE48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E9AE9-58F0-467E-B935-5FC1214E6E66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AB1B5-67C1-4744-9C8B-725BCEE915B1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85A8C-EFDB-467A-B52D-8423BB27F9EB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2610-B19A-449A-AB62-2E6949E4C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0327-B9B1-4BD6-BF7F-FCC683531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FC09-AB4C-4261-A0B4-944B8C51B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F5DC-03C6-4A6B-BBB3-69C697FE1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D4F6-EAEB-4986-A457-CCAAAAD19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FE3C-EB53-4793-849B-0283EFB59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00A5-B517-4E91-BA51-AA703C13F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6045-8BC6-4374-AACF-D4D7F660B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CF93-00A2-47BA-8E6D-18EAF5DD4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555B-7802-4241-9926-A6571EAC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39AE-8C47-43FF-98CD-F914F548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066D-5EDF-4D54-B1EC-A8476E8F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C49CF-8FB8-464C-B7A2-1B0A4F6904C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eces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مربع نص 2"/>
          <p:cNvSpPr/>
          <p:nvPr/>
        </p:nvSpPr>
        <p:spPr>
          <a:xfrm>
            <a:off x="1214280" y="98280"/>
            <a:ext cx="407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Bradley Hand ITC"/>
              </a:rPr>
              <a:t>Physiolog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2"/>
          <p:cNvSpPr/>
          <p:nvPr/>
        </p:nvSpPr>
        <p:spPr>
          <a:xfrm>
            <a:off x="357120" y="1500120"/>
            <a:ext cx="8143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nutrient must cross lining   of alimentary canal to reach blood stre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Most of this absorption occurs in small intestine which has huge surface area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Transport across epithelial cell</a:t>
            </a: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1-Sugar like fructose move by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facilitate diffusion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2- Amino acid, vitamins and most glucose molecules are pumped against concentration gradient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3- Triglycerides are incorporated into water-soluable calle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chylomicrons </a:t>
            </a: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which  are too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large to pass through  capillaries. They are transported into lacteals  which  are part of lymphatic syst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مربع نص 3"/>
          <p:cNvSpPr/>
          <p:nvPr/>
        </p:nvSpPr>
        <p:spPr>
          <a:xfrm>
            <a:off x="857160" y="642960"/>
            <a:ext cx="7358040" cy="642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alus"/>
                <a:ea typeface="Andalus"/>
              </a:rPr>
              <a:t>Absorption in small intesti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الخملة بالتفصيل"/>
          <p:cNvPicPr/>
          <p:nvPr/>
        </p:nvPicPr>
        <p:blipFill>
          <a:blip r:embed="rId1"/>
          <a:stretch/>
        </p:blipFill>
        <p:spPr>
          <a:xfrm>
            <a:off x="5072040" y="0"/>
            <a:ext cx="386712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PTShape_0" descr="امتصاص البروتين"/>
          <p:cNvPicPr/>
          <p:nvPr/>
        </p:nvPicPr>
        <p:blipFill>
          <a:blip r:embed="rId2"/>
          <a:stretch/>
        </p:blipFill>
        <p:spPr>
          <a:xfrm>
            <a:off x="0" y="0"/>
            <a:ext cx="536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ttp://acsbiology.info/images/liver1.jpg"/>
          <p:cNvPicPr/>
          <p:nvPr/>
        </p:nvPicPr>
        <p:blipFill>
          <a:blip r:embed="rId1"/>
          <a:stretch/>
        </p:blipFill>
        <p:spPr>
          <a:xfrm>
            <a:off x="4643280" y="2071800"/>
            <a:ext cx="4456440" cy="3781440"/>
          </a:xfrm>
          <a:prstGeom prst="rect">
            <a:avLst/>
          </a:prstGeom>
          <a:ln w="0">
            <a:noFill/>
          </a:ln>
        </p:spPr>
      </p:pic>
      <p:sp>
        <p:nvSpPr>
          <p:cNvPr id="72" name="TextBox 2"/>
          <p:cNvSpPr/>
          <p:nvPr/>
        </p:nvSpPr>
        <p:spPr>
          <a:xfrm>
            <a:off x="214200" y="1071720"/>
            <a:ext cx="51436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1- Production of bile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2- Detoxific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Bile plays an important role in the destruction of red blood cells whic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results in formation of bile pig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Bile pigment eliminated from the body with fec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Bile production by the live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Digestion of fat and lipids begin in small intestine due to production of bile By the liver. Bile contain salts which aid indigestion and absorption of lipi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Bile store and concentrated in gallbladder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مربع نص 4"/>
          <p:cNvSpPr/>
          <p:nvPr/>
        </p:nvSpPr>
        <p:spPr>
          <a:xfrm>
            <a:off x="857160" y="214200"/>
            <a:ext cx="7358040" cy="642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alus"/>
                <a:ea typeface="Andalus"/>
              </a:rPr>
              <a:t>Functions of  liv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1000080" y="981000"/>
          <a:ext cx="7215120" cy="5746680"/>
        </p:xfrm>
        <a:graphic>
          <a:graphicData uri="http://schemas.openxmlformats.org/drawingml/2006/table">
            <a:tbl>
              <a:tblPr/>
              <a:tblGrid>
                <a:gridCol w="1928880"/>
                <a:gridCol w="3929040"/>
                <a:gridCol w="135720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nzy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un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rg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yl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liva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verts starch to soluble sugars (disaccharides -maltos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u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320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ps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eaks protein into  pepto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omach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7284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ric amyl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gradation of star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400"/>
                      </a:b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ncr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320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nn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version of liquid milk to solid partic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omach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7464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ric lip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gradation of butter f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ncreas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3520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cr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verts sucrose to disaccharides and monosacchari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 Intest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672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lt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verts maltose to gluco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 Intest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028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ct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verts lactose to glucose and galacto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 Intest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75" name="مربع نص 4"/>
          <p:cNvSpPr/>
          <p:nvPr/>
        </p:nvSpPr>
        <p:spPr>
          <a:xfrm>
            <a:off x="928800" y="214200"/>
            <a:ext cx="7358040" cy="642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dalus"/>
                <a:ea typeface="Andalus"/>
              </a:rPr>
              <a:t>Enzymes and their func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مجموعة 8"/>
          <p:cNvGrpSpPr/>
          <p:nvPr/>
        </p:nvGrpSpPr>
        <p:grpSpPr>
          <a:xfrm>
            <a:off x="0" y="1214280"/>
            <a:ext cx="9001080" cy="5643720"/>
            <a:chOff x="0" y="1214280"/>
            <a:chExt cx="9001080" cy="5643720"/>
          </a:xfrm>
        </p:grpSpPr>
        <p:pic>
          <p:nvPicPr>
            <p:cNvPr id="77" name="صورة 3" descr="صورة1.png"/>
            <p:cNvPicPr/>
            <p:nvPr/>
          </p:nvPicPr>
          <p:blipFill>
            <a:blip r:embed="rId1"/>
            <a:stretch/>
          </p:blipFill>
          <p:spPr>
            <a:xfrm>
              <a:off x="0" y="1214280"/>
              <a:ext cx="9001080" cy="56437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78" name="Straight Arrow Connector 33"/>
            <p:cNvCxnSpPr/>
            <p:nvPr/>
          </p:nvCxnSpPr>
          <p:spPr>
            <a:xfrm>
              <a:off x="3516120" y="1575360"/>
              <a:ext cx="14882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9" name="Straight Arrow Connector 33"/>
            <p:cNvCxnSpPr/>
            <p:nvPr/>
          </p:nvCxnSpPr>
          <p:spPr>
            <a:xfrm>
              <a:off x="2109240" y="3282840"/>
              <a:ext cx="20401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The 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rcRect l="32945" t="16604" r="14349" b="121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rcRect l="32394" t="16604" r="14897" b="1308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339920"/>
            <a:ext cx="8229600" cy="536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13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Digestion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is the mechanical and chemical breaking down of food into smaller components, to a form that can be absorbed. Digestion is a form of catabolism  that means break down of macro-food molecules to smaller o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a)-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Extracellular</a:t>
            </a: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 digestion : In mammals, food enters the mouth, being chewed by teeth, and broken down by the saliva </a:t>
            </a:r>
            <a:r>
              <a:rPr b="0" lang="ar-SA" sz="2400" spc="-1" strike="noStrike">
                <a:solidFill>
                  <a:srgbClr val="0000ff"/>
                </a:solidFill>
                <a:latin typeface="Andalus"/>
                <a:ea typeface="Andalus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ndalus"/>
                <a:cs typeface="Andalus"/>
              </a:rPr>
              <a:t>ا</a:t>
            </a: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from the salivary glands. Then it travels down the esophagus </a:t>
            </a:r>
            <a:r>
              <a:rPr b="0" lang="ar-SA" sz="2400" spc="-1" strike="noStrike">
                <a:solidFill>
                  <a:srgbClr val="0000ff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into the stomach</a:t>
            </a:r>
            <a:r>
              <a:rPr b="0" lang="ar-SA" sz="2400" spc="-1" strike="noStrike">
                <a:solidFill>
                  <a:srgbClr val="0000ff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, where acid begins physical break down of some food. The food go through the small intestine, through the large intestine, and are excreted outsid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b)-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Intracellular </a:t>
            </a: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digestion : Some other unicellular organisms </a:t>
            </a:r>
            <a:r>
              <a:rPr b="0" lang="ar-SA" sz="2400" spc="-1" strike="noStrike">
                <a:solidFill>
                  <a:srgbClr val="0000ff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use different mechanisms to digest food inside the cel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مربع نص 3"/>
          <p:cNvSpPr/>
          <p:nvPr/>
        </p:nvSpPr>
        <p:spPr>
          <a:xfrm>
            <a:off x="857160" y="214200"/>
            <a:ext cx="735804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3-Diges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www.nlm.nih.gov/medlineplus/ency/images/ency/fullsize/8710.jpg"/>
          <p:cNvPicPr/>
          <p:nvPr/>
        </p:nvPicPr>
        <p:blipFill>
          <a:blip r:embed="rId1"/>
          <a:stretch/>
        </p:blipFill>
        <p:spPr>
          <a:xfrm>
            <a:off x="539640" y="1052640"/>
            <a:ext cx="7993080" cy="547200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633240" y="333360"/>
            <a:ext cx="357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gestive 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2"/>
          <p:cNvSpPr/>
          <p:nvPr/>
        </p:nvSpPr>
        <p:spPr>
          <a:xfrm>
            <a:off x="182880" y="1928880"/>
            <a:ext cx="8270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1- </a:t>
            </a:r>
            <a:r>
              <a:rPr b="0" lang="en-US" sz="2400" spc="-1" strike="noStrike" u="sng">
                <a:solidFill>
                  <a:srgbClr val="c00000"/>
                </a:solidFill>
                <a:uFillTx/>
                <a:latin typeface="Andalus"/>
                <a:ea typeface="Andalus"/>
              </a:rPr>
              <a:t>Ingestion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: is the act of ea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2- </a:t>
            </a:r>
            <a:r>
              <a:rPr b="0" lang="en-US" sz="2400" spc="-1" strike="noStrike" u="sng">
                <a:solidFill>
                  <a:srgbClr val="c00000"/>
                </a:solidFill>
                <a:uFillTx/>
                <a:latin typeface="Andalus"/>
                <a:ea typeface="Andalus"/>
              </a:rPr>
              <a:t>Digestion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:is break down of food into small molecul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enough for  the body to absorb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3- </a:t>
            </a:r>
            <a:r>
              <a:rPr b="0" lang="en-US" sz="2400" spc="-1" strike="noStrike" u="sng">
                <a:solidFill>
                  <a:srgbClr val="c00000"/>
                </a:solidFill>
                <a:uFillTx/>
                <a:latin typeface="Andalus"/>
                <a:ea typeface="Andalus"/>
              </a:rPr>
              <a:t>Absorption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: the animal cell take up small molecul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such as amino  acid and simple suga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4- </a:t>
            </a:r>
            <a:r>
              <a:rPr b="0" lang="en-US" sz="2400" spc="-1" strike="noStrike" u="sng">
                <a:solidFill>
                  <a:srgbClr val="c00000"/>
                </a:solidFill>
                <a:uFillTx/>
                <a:latin typeface="Andalus"/>
                <a:ea typeface="Andalus"/>
              </a:rPr>
              <a:t>Elimination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: when undigested material passes ou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of the digestive syst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مربع نص 3"/>
          <p:cNvSpPr/>
          <p:nvPr/>
        </p:nvSpPr>
        <p:spPr>
          <a:xfrm>
            <a:off x="714240" y="714240"/>
            <a:ext cx="7358040" cy="1191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alus"/>
                <a:ea typeface="Andalus"/>
              </a:rPr>
              <a:t>The main stages of food processing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2"/>
          <p:cNvSpPr/>
          <p:nvPr/>
        </p:nvSpPr>
        <p:spPr>
          <a:xfrm>
            <a:off x="500040" y="1523880"/>
            <a:ext cx="8612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Organ specialized for food processing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1- 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Andalus"/>
                <a:ea typeface="Andalus"/>
              </a:rPr>
              <a:t>Mouth</a:t>
            </a:r>
            <a:r>
              <a:rPr b="0" lang="en-US" sz="2400" spc="-1" strike="noStrike">
                <a:solidFill>
                  <a:srgbClr val="c00000"/>
                </a:solidFill>
                <a:latin typeface="Andalus"/>
                <a:ea typeface="Andalus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ingestion and first stages of digestion occur i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mouth as teeth cut and grind food Salivary gland released saliva which contain amylase enzyme That hydrolyzes starch into small disaccharide Saliva has protective fun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2- 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Andalus"/>
                <a:ea typeface="Andalus"/>
              </a:rPr>
              <a:t>Pharyn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3- </a:t>
            </a:r>
            <a:r>
              <a:rPr b="1" lang="en-US" sz="2400" spc="-1" strike="noStrike">
                <a:solidFill>
                  <a:srgbClr val="c00000"/>
                </a:solidFill>
                <a:latin typeface="Andalus"/>
                <a:ea typeface="Andalus"/>
              </a:rPr>
              <a:t>Esophagus </a:t>
            </a: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waves of muscular contraction move bolus to the stom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مربع نص 4"/>
          <p:cNvSpPr/>
          <p:nvPr/>
        </p:nvSpPr>
        <p:spPr>
          <a:xfrm>
            <a:off x="857160" y="285840"/>
            <a:ext cx="7358040" cy="642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ndalus"/>
                <a:ea typeface="Andalus"/>
              </a:rPr>
              <a:t>Mammalian digestive syste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857160" y="571680"/>
            <a:ext cx="48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00000"/>
                </a:solidFill>
                <a:uFillTx/>
                <a:latin typeface="Andalus"/>
                <a:ea typeface="Andalus"/>
              </a:rPr>
              <a:t>4- stom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785880" y="121428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Stomach secretes </a:t>
            </a:r>
            <a:r>
              <a:rPr b="0" lang="en-US" sz="2400" spc="-1" strike="noStrike">
                <a:solidFill>
                  <a:srgbClr val="c00000"/>
                </a:solidFill>
                <a:latin typeface="Andalus"/>
                <a:ea typeface="Andalus"/>
              </a:rPr>
              <a:t>gastric juice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at mixed  with digestive fo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o form chy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Components of gastric ju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Hydrochloric acid converts pepsinogen to pepsin which begin chemical digestion of protein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Hcl also kill most bacter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7" descr="http://www.thethinkingblue.com/pics/Stomachabc.jpg"/>
          <p:cNvPicPr/>
          <p:nvPr/>
        </p:nvPicPr>
        <p:blipFill>
          <a:blip r:embed="rId1"/>
          <a:stretch/>
        </p:blipFill>
        <p:spPr>
          <a:xfrm>
            <a:off x="684360" y="3786120"/>
            <a:ext cx="828036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357120" y="428760"/>
            <a:ext cx="264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Andalus"/>
                <a:ea typeface="Andalus"/>
              </a:rPr>
              <a:t>5-Small intest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://www.english-lss.com/E4MS/Digestive/Media/small_intestine.jpg"/>
          <p:cNvPicPr/>
          <p:nvPr/>
        </p:nvPicPr>
        <p:blipFill>
          <a:blip r:embed="rId1"/>
          <a:stretch/>
        </p:blipFill>
        <p:spPr>
          <a:xfrm>
            <a:off x="3214800" y="1143000"/>
            <a:ext cx="5929200" cy="485784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285840" y="1285920"/>
            <a:ext cx="42861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Most enzymatic hydrolysis of macromolecules from food occurs in the small intestine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Hormonal control diges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1- gastrin stimulate production of gastric ju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2- secretin :stimulates the pancreas to release sodium carbonate which neutralize chyme. Pancreatic enzyme are trysine and chymotrypsi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203400" y="357120"/>
            <a:ext cx="29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Andalus"/>
                <a:ea typeface="Andalus"/>
              </a:rPr>
              <a:t>6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Andalus"/>
                <a:ea typeface="Andalus"/>
              </a:rPr>
              <a:t>- 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Andalus"/>
                <a:ea typeface="Andalus"/>
              </a:rPr>
              <a:t>Large intestine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Andalus"/>
                <a:ea typeface="Andalu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214200" y="1071720"/>
            <a:ext cx="83584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Its function is to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absorb water 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from the remaining indigestible food matter, and then to pass useless 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Andalus"/>
                <a:ea typeface="Andalus"/>
                <a:hlinkClick r:id="rId1"/>
              </a:rPr>
              <a:t>waste material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from the body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http://www.healthcentral.com/common/images/1/19220_7406_5.jpg"/>
          <p:cNvPicPr/>
          <p:nvPr/>
        </p:nvPicPr>
        <p:blipFill>
          <a:blip r:embed="rId2"/>
          <a:stretch/>
        </p:blipFill>
        <p:spPr>
          <a:xfrm>
            <a:off x="611280" y="2357280"/>
            <a:ext cx="791352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7T07:25:43Z</dcterms:created>
  <dc:creator>DELL</dc:creator>
  <dc:description/>
  <dc:language>en-US</dc:language>
  <cp:lastModifiedBy>DELL</cp:lastModifiedBy>
  <dcterms:modified xsi:type="dcterms:W3CDTF">2013-09-27T07:30:34Z</dcterms:modified>
  <cp:revision>2</cp:revision>
  <dc:subject/>
  <dc:title>الشريحة 1</dc:title>
</cp:coreProperties>
</file>