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34E-A3E4-4B67-A900-29C8EF2ADF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DDA5-FB74-4989-B49A-4036057E64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68E-DD72-4FE5-B81A-1697AB533C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2FD8-6BDE-493B-B1A9-890ACD2C03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47C-CDA2-440C-B5C2-6368E5450BD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0E9-1E9F-4D0F-AEBD-1FB835399B3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A5C4-991B-413B-B4A4-25105F131F0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DB5-684C-478A-B65C-8EB071C4C36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00AA-18B8-41A7-8662-62FD296E1AF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EE09-EC22-449B-BB5F-D0823D0D60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16B-321A-478C-943F-E975D83DC3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1044-3DE6-4A16-BC0C-2E6C00C213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D720-305F-4DE9-AD3F-3071326173D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FBF-0D49-4689-A632-8CCEB651122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2A7-DC16-490D-AC8F-8F21B370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F50-7269-4220-86E9-E29B9568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2BA-6CEB-4603-B8CB-277BDD28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E6E-D900-4A39-BF7A-70F3494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2C8-B6ED-4D2F-8E46-808D99D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3F0-0A39-4968-BED7-CBA9BC9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0A7-8952-4AA0-8442-B100B44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15F-FC65-4C04-8601-43153D0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B85-65D4-4F91-BE7C-D8E581B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E84-0421-4AEC-8BE2-A2C8DB9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932-D704-42E2-8ECB-4D70C6D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D3E-6C8F-4AD2-BB28-563B026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427-3008-498E-97BD-FFADBA7FB3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ec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2"/>
          <p:cNvSpPr/>
          <p:nvPr/>
        </p:nvSpPr>
        <p:spPr>
          <a:xfrm>
            <a:off x="1214280" y="98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357120" y="150012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trient must cross lining   of alimentary canal to reach blood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is absorption occurs in small intestine which has huge surface are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ransport across epithelial cell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Sugar like fructose move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facilitate diffus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Amino acid, vitamins and most glucose molecules are pumped against concentration gradien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Triglycerides are incorporated into water-soluabl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ylomicron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hich  are too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arge to pass through  capillaries. They are transported into lacteals  which  are part of lymphatic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857160" y="64296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bsorption in small inte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الخملة بالتفصيل"/>
          <p:cNvPicPr/>
          <p:nvPr/>
        </p:nvPicPr>
        <p:blipFill>
          <a:blip r:embed="rId1"/>
          <a:stretch/>
        </p:blipFill>
        <p:spPr>
          <a:xfrm>
            <a:off x="507204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PTShape_0" descr="امتصاص البروتين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acsbiology.info/images/liver1.jpg"/>
          <p:cNvPicPr/>
          <p:nvPr/>
        </p:nvPicPr>
        <p:blipFill>
          <a:blip r:embed="rId1"/>
          <a:stretch/>
        </p:blipFill>
        <p:spPr>
          <a:xfrm>
            <a:off x="4643280" y="2071800"/>
            <a:ext cx="4456440" cy="3781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1071720"/>
            <a:ext cx="5143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Production of bi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etox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lays an important role in the destruction of red blood cells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ults in formation of bile pi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igment eliminated from the body with f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ile production by the l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gestion of fat and lipids begin in small intestine due to production of bile By the liver. Bile contain salts which aid indigestion and absorption of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store and concentrated in gallbladd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4"/>
          <p:cNvSpPr/>
          <p:nvPr/>
        </p:nvSpPr>
        <p:spPr>
          <a:xfrm>
            <a:off x="85716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Functions of 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00080" y="981000"/>
          <a:ext cx="7215120" cy="574668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  <a:gridCol w="1357200"/>
              </a:tblGrid>
              <a:tr h="5572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tarch to soluble sugars (disaccharides -malt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s protein into  pep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2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st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of liquid milk to solid p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lip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butter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5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ucrose to disaccharides and monosaccha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maltose to 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lactose to glucose and galact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مربع نص 4"/>
          <p:cNvSpPr/>
          <p:nvPr/>
        </p:nvSpPr>
        <p:spPr>
          <a:xfrm>
            <a:off x="92880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Enzymes and their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8"/>
          <p:cNvGrpSpPr/>
          <p:nvPr/>
        </p:nvGrpSpPr>
        <p:grpSpPr>
          <a:xfrm>
            <a:off x="0" y="1214280"/>
            <a:ext cx="9001080" cy="5643720"/>
            <a:chOff x="0" y="1214280"/>
            <a:chExt cx="9001080" cy="5643720"/>
          </a:xfrm>
        </p:grpSpPr>
        <p:pic>
          <p:nvPicPr>
            <p:cNvPr id="77" name="صورة 3" descr="صورة1.png"/>
            <p:cNvPicPr/>
            <p:nvPr/>
          </p:nvPicPr>
          <p:blipFill>
            <a:blip r:embed="rId1"/>
            <a:stretch/>
          </p:blipFill>
          <p:spPr>
            <a:xfrm>
              <a:off x="0" y="1214280"/>
              <a:ext cx="9001080" cy="564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" name="Straight Arrow Connector 33"/>
            <p:cNvCxnSpPr/>
            <p:nvPr/>
          </p:nvCxnSpPr>
          <p:spPr>
            <a:xfrm>
              <a:off x="3516120" y="1575360"/>
              <a:ext cx="148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33"/>
            <p:cNvCxnSpPr/>
            <p:nvPr/>
          </p:nvCxnSpPr>
          <p:spPr>
            <a:xfrm>
              <a:off x="2109240" y="3282840"/>
              <a:ext cx="2040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53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mechanical and chemical breaking down of food into smaller components, to a form that can be absorbed. Digestion is a form of catabolism  that means break down of macro-food molecules to smaller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acellula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digestion : In mammals, food enters the mouth, being chewed by teeth, and broken down by the saliva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cs typeface="Andalus"/>
              </a:rPr>
              <a:t>ا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m the salivary glands. Then it travels down the esophagu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to the stomach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where acid begins physical break down of some food. The food go through the small intestine, through the large intestine, and are excreted out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Intracellular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 : Some other unicellular organism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use different mechanisms to digest food inside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3-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lm.nih.gov/medlineplus/ency/images/ency/fullsize/8710.jpg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4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33240" y="3333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82880" y="1928880"/>
            <a:ext cx="827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Ingestion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s the act of 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is break down of food into small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ough for  the body to abso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the animal cell take up small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uch as amino  acid and simple s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Elimin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when undigested material passes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digestiv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main stages of food proces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500040" y="1523880"/>
            <a:ext cx="861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Organ specialized for food process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Mouth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gestion and first stages of digestion occu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outh as teeth cut and grind food Salivary gland released saliva which contain amylase enzyme That hydrolyzes starch into small disaccharide Saliva has protectiv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1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Esophagu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ves of muscular contraction move bolus to the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4"/>
          <p:cNvSpPr/>
          <p:nvPr/>
        </p:nvSpPr>
        <p:spPr>
          <a:xfrm>
            <a:off x="857160" y="28584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ammalian digestiv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57160" y="571680"/>
            <a:ext cx="48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4-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12142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omach secretes 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gastric juic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mixed  with digestiv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form ch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omponents of gastric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ydrochloric acid converts pepsinogen to pepsin which begin chemical digestion of prote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cl also kill most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www.thethinkingblue.com/pics/Stomachabc.jpg"/>
          <p:cNvPicPr/>
          <p:nvPr/>
        </p:nvPicPr>
        <p:blipFill>
          <a:blip r:embed="rId1"/>
          <a:stretch/>
        </p:blipFill>
        <p:spPr>
          <a:xfrm>
            <a:off x="684360" y="3786120"/>
            <a:ext cx="8280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42876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5-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english-lss.com/E4MS/Digestive/Media/small_intestine.jpg"/>
          <p:cNvPicPr/>
          <p:nvPr/>
        </p:nvPicPr>
        <p:blipFill>
          <a:blip r:embed="rId1"/>
          <a:stretch/>
        </p:blipFill>
        <p:spPr>
          <a:xfrm>
            <a:off x="3214800" y="1143000"/>
            <a:ext cx="592920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1285920"/>
            <a:ext cx="428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enzymatic hydrolysis of macromolecules from food occurs in the small intest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ormonal control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gastrin stimulate production of gastric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secretin :stimulates the pancreas to release sodium carbonate which neutralize chyme. Pancreatic enzyme are trypsine and chymotryp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03400" y="3571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6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Large intestin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4200" y="1071720"/>
            <a:ext cx="835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ts function i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bsorb water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remaining indigestible food matter, and then to pass useles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1"/>
              </a:rPr>
              <a:t>waste materia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bod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healthcentral.com/common/images/1/19220_7406_5.jpg"/>
          <p:cNvPicPr/>
          <p:nvPr/>
        </p:nvPicPr>
        <p:blipFill>
          <a:blip r:embed="rId2"/>
          <a:stretch/>
        </p:blipFill>
        <p:spPr>
          <a:xfrm>
            <a:off x="611280" y="2357280"/>
            <a:ext cx="7913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25:43Z</dcterms:created>
  <dc:creator>DELL</dc:creator>
  <dc:description/>
  <dc:language>en-US</dc:language>
  <cp:lastModifiedBy>somer</cp:lastModifiedBy>
  <dcterms:modified xsi:type="dcterms:W3CDTF">2016-12-14T06:15:21Z</dcterms:modified>
  <cp:revision>3</cp:revision>
  <dc:subject/>
  <dc:title>الشريحة 1</dc:title>
</cp:coreProperties>
</file>