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37D4-C016-4B81-B144-B95BE59BB1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4855-0BF5-4954-86E7-409CBAD6456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E4FB-00B5-4D1A-B75E-97D43817F3F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50B4-5FD8-46D7-8ACF-739B66B93B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6FF1-6CD4-4F95-AFC9-A1E7265E4F0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159-6E7B-479B-B6E9-9FD39F39BF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83C2-8510-4619-A8BA-907F19C36A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C546-76A5-48BD-9D16-93D7AFAD85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A2CC-B496-466A-8AC4-85EBD6F726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855-182B-43BE-8C38-9493518828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CBE6-920D-4C28-A109-54DBEB75244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63F-7D73-4EFB-B44F-43824A3DAB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FDC4-7835-4D54-8D7E-C965C83153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637A-8FBC-48DC-957D-ED127D0D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80D-32FF-414F-A2E9-8CC6F948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95A-A84D-4164-88F5-9221EFAC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5F2-EFD4-47AD-961C-8713D20B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5F9-CFA6-4408-BA24-8728AFEA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91B-386B-41CB-A4E7-F91DFDA4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CB8-D541-4928-A0E9-BF9707B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485-D757-4F1A-B064-C8876AF2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C3E-24AF-445C-83CF-A49DB362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58A-57C2-4CEB-8272-5F925DD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4CC-5AFF-452D-9C26-443B2E3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4F3B-AE5A-47C9-9808-00330AF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D73-5B08-4493-8945-1FFB889AD8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531800"/>
            <a:ext cx="822960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5- Vitam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an organic compound needed in small quantities that cannot be made in the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 nutrition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vitamins function a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fter modif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Nicotinamide adenine dinucleotid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a derivative of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itamin B3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niacin), is an important coenzyme that acts as a hydrogen accep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exists in two related forms in the cell,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</a:t>
            </a:r>
            <a:r>
              <a:rPr b="0" lang="en-GB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/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is more important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, whil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ADP+/NADP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used i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مربع نص 4"/>
          <p:cNvSpPr/>
          <p:nvPr/>
        </p:nvSpPr>
        <p:spPr>
          <a:xfrm>
            <a:off x="928800" y="3016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30000"/>
            <a:ext cx="8229600" cy="572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6- Minerals &amp; Co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)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inorganic elements play important roles in metabolism; (e.g. sodium and potassiu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bout 99%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mammals' mass are the elements carbon, nitrogen, calcium, sodium, chlorine, potassium, hydrogen, phosphorus, oxygen and sulf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organic compounds (proteins, lipids and carbohydrates) contain the majority of the carbon and nitrogen and most of the oxygen and hydrogen is present as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b)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ost important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inorgan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ons are sodium, potassium, calcium, magnesium, chloride, phosphate, and the organic ion bicarbon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Ions are also critical for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nerv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muscl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3"/>
          <p:cNvSpPr/>
          <p:nvPr/>
        </p:nvSpPr>
        <p:spPr>
          <a:xfrm>
            <a:off x="928800" y="285840"/>
            <a:ext cx="735804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Catabolism </a:t>
            </a:r>
            <a:r>
              <a:rPr b="1" lang="en-GB" sz="4400" spc="-1" strike="noStrike">
                <a:solidFill>
                  <a:srgbClr val="000000"/>
                </a:solidFill>
                <a:latin typeface="Andalus"/>
                <a:ea typeface="Andalus"/>
              </a:rPr>
              <a:t>&amp; Anabolism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صورة 29" descr="صورة1.png"/>
          <p:cNvPicPr/>
          <p:nvPr/>
        </p:nvPicPr>
        <p:blipFill>
          <a:blip r:embed="rId1"/>
          <a:stretch/>
        </p:blipFill>
        <p:spPr>
          <a:xfrm>
            <a:off x="277920" y="1487520"/>
            <a:ext cx="858816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مجموعة 10"/>
          <p:cNvGrpSpPr/>
          <p:nvPr/>
        </p:nvGrpSpPr>
        <p:grpSpPr>
          <a:xfrm>
            <a:off x="71280" y="907920"/>
            <a:ext cx="9072720" cy="5735880"/>
            <a:chOff x="71280" y="907920"/>
            <a:chExt cx="9072720" cy="5735880"/>
          </a:xfrm>
        </p:grpSpPr>
        <p:pic>
          <p:nvPicPr>
            <p:cNvPr id="74" name="صورة 3" descr="03_03_catabolic_anabolic.jpg"/>
            <p:cNvPicPr/>
            <p:nvPr/>
          </p:nvPicPr>
          <p:blipFill>
            <a:blip r:embed="rId1"/>
            <a:srcRect l="0" t="0" r="0" b="3877"/>
            <a:stretch/>
          </p:blipFill>
          <p:spPr>
            <a:xfrm>
              <a:off x="785520" y="1333080"/>
              <a:ext cx="7429680" cy="53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19"/>
            <p:cNvSpPr/>
            <p:nvPr/>
          </p:nvSpPr>
          <p:spPr>
            <a:xfrm>
              <a:off x="71280" y="4714920"/>
              <a:ext cx="3357720" cy="1067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6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break down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f </a:t>
              </a:r>
              <a:r>
                <a:rPr b="0" lang="ar-SA" sz="16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arge molecules to provide energy and components needed for anabolic reactions.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5572080" y="4686480"/>
              <a:ext cx="3571920" cy="946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s the </a:t>
              </a:r>
              <a:r>
                <a:rPr b="0" lang="ar-SA" sz="1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constructive processes</a:t>
              </a:r>
              <a:r>
                <a:rPr b="0" lang="ar-SA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that uses energy formed by catabolism to synthesize complex molecules for make up cellular structures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1499760" y="907920"/>
              <a:ext cx="6000840" cy="490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Metabolis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8" name="رابط كسهم مستقيم 8"/>
            <p:cNvCxnSpPr/>
            <p:nvPr/>
          </p:nvCxnSpPr>
          <p:spPr>
            <a:xfrm flipH="1">
              <a:off x="14979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9" name="رابط كسهم مستقيم 9"/>
            <p:cNvCxnSpPr/>
            <p:nvPr/>
          </p:nvCxnSpPr>
          <p:spPr>
            <a:xfrm flipH="1">
              <a:off x="7499160" y="1356840"/>
              <a:ext cx="2160" cy="3287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31847" t="16604" r="13798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1847" t="17579" r="14897" b="14065"/>
          <a:stretch/>
        </p:blipFill>
        <p:spPr>
          <a:xfrm>
            <a:off x="0" y="0"/>
            <a:ext cx="910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3840" y="1670040"/>
            <a:ext cx="3429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etabo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set of chemical reactions that occur in living organisms to maintain lif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processes allow organisms to grow and reproduce, maintain their structures, and respond to their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928800" y="4446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4-Metbo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stepbystep.com/wp-content/uploads/2013/05/Difference-between-Metabolism-and-Anabolism.gif"/>
          <p:cNvPicPr/>
          <p:nvPr/>
        </p:nvPicPr>
        <p:blipFill>
          <a:blip r:embed="rId1"/>
          <a:stretch/>
        </p:blipFill>
        <p:spPr>
          <a:xfrm>
            <a:off x="3571920" y="1428840"/>
            <a:ext cx="55008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ستطيل 3"/>
          <p:cNvSpPr/>
          <p:nvPr/>
        </p:nvSpPr>
        <p:spPr>
          <a:xfrm>
            <a:off x="285840" y="214200"/>
            <a:ext cx="864396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2d050"/>
                </a:solidFill>
                <a:latin typeface="Andalus"/>
                <a:ea typeface="Andalus"/>
              </a:rPr>
              <a:t>Metabolism is usually divided into two categor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at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breaks down organic matter, for example to  produce energy in cellular respir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buClr>
                <a:srgbClr val="ff0000"/>
              </a:buClr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nabolism</a:t>
            </a:r>
            <a:r>
              <a:rPr b="0" lang="ar-SA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nstructing components of cells such as proteins and nucleic aci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important to metabolism because they act as catalysts to allow chemical reactions to proceed quickly and efficient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صورة 4" descr="U1CP5-5_CatabolicAnabolic_ksm.jpg"/>
          <p:cNvPicPr/>
          <p:nvPr/>
        </p:nvPicPr>
        <p:blipFill>
          <a:blip r:embed="rId1"/>
          <a:stretch/>
        </p:blipFill>
        <p:spPr>
          <a:xfrm>
            <a:off x="214200" y="2714760"/>
            <a:ext cx="80726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23920"/>
            <a:ext cx="8229600" cy="72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Key Biomolecules In Metabolis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structures that make up animals, plants and microbes are made from three basic types of molecu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d lipids (often called fa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s these molecules are important for life, metabolism focuses on utilizing these molecules in two way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construction of cells and tissu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09000"/>
              <a:buFont typeface="Andalu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or breaking them down and using them as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macromolecules are essential parts of all living organis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0040" y="1214280"/>
            <a:ext cx="822960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Important biochemic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- Proteins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made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mino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ranged in a linear chain and joined together b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eptide bon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eins are the enzymes that catalyze the chemical reactions in metabol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proteins have structural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mechanical functions, such as the proteins that form the cyto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s are also important in cell signalling, immune responses, active transport across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17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p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omposed of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three fatty acid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ycerol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construc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art of the cel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are a source of ener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teroids such as cholesterol are another major class of lipids that are made in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85716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2430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3- Carbohydra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straight-chain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ldehydes or keton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any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ydroxyl group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can exist as straight chains or r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most abundant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iological molecules, and found as storage for producing energy (e.g. glycogen) and structural components (cellulose in plants, chitin in animal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asic carbohydrate units are called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include galactose, fructose, and gluc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can be linked together to form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olysaccharid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50920" y="1314360"/>
            <a:ext cx="8748720" cy="522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4- Coenzy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Metabolism involves chemical reactions, most involve metabolic intermediates calle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oenzym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enzymes are therefore continuously being made, consumed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nd then recycl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ne central coenzyme is adenosine triphosphate (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, the energy source of cells. and used to transfer chemical energy between different chemical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T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cts as a bridge between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cat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anabolism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with catabolic reactions generating ATP and anabolic reactions consuming 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It also serves as a carrier of phosphate groups in phosphorylation  re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928800" y="14292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etabolism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5:03:58Z</dcterms:created>
  <dc:creator>DELL</dc:creator>
  <dc:description/>
  <dc:language>en-US</dc:language>
  <cp:lastModifiedBy>DELL</cp:lastModifiedBy>
  <dcterms:modified xsi:type="dcterms:W3CDTF">2013-09-27T15:08:25Z</dcterms:modified>
  <cp:revision>2</cp:revision>
  <dc:subject/>
  <dc:title>الشريحة 1</dc:title>
</cp:coreProperties>
</file>