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D45-E730-4BC0-90C2-0DB14AE80D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CAC5-DFA5-4149-AE55-A2E2AD9608B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455D-753B-40EC-98F0-835BBC88FC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6A31-917F-4F40-A555-33481A4B477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992-23C5-4247-9ACC-7FB5A756BF4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264D-01B4-4534-A495-BC557724171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AF06-A384-4218-AA54-AFBDC70F2E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9AC3-FAE2-43F9-A290-453AE5D3CEE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F7C-BBDD-4B0F-B340-F51B30C76B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C71-0A2C-4A85-A0C0-4BC53D51986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C477-ED4D-41EB-9AF7-AF884A20821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6025-DBE3-462F-86CC-57C273C656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E70-1153-4E4D-A2DE-68342702475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B31-F49B-42B2-8E80-06DE4D69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02C-B610-45DD-8C86-41F9EF03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987-1E64-49B3-8687-A21BD78F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074-3E80-4249-BB9C-091747EB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6EA-C809-4A66-97C4-51C8064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A81-DC79-4CF3-A4FD-8EA998E8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EF0-BB53-4008-81B5-BB5F2DD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471-E8EE-4FC0-9C58-7ACDE237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6F6-892A-4C1D-9929-706C17B6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2DC-A3B9-463E-A23B-B9EE67D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8EA-555D-42D4-A123-D2B0B1B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FCA-FB0A-4C07-8BF2-B1A1E9F6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70F-4A3A-4A47-AFCF-BEB664E483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53180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5- Vitam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 nutrition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vitamins function a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Nicotinamide adenine dinucleotid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a derivative of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 B3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niacin), is an important coenzyme that acts as a hydrogen accep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exists in two related forms in the cell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/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is more important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, whil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+/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used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مربع نص 4"/>
          <p:cNvSpPr/>
          <p:nvPr/>
        </p:nvSpPr>
        <p:spPr>
          <a:xfrm>
            <a:off x="928800" y="3016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30000"/>
            <a:ext cx="8229600" cy="57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)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inorganic elements play important roles in metabolism; (e.g. sodium and potassiu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bout 99%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mammals' mass are the elements carbon, nitrogen, calcium, sodium, chlorine, potassium, hydrogen, phosphorus, oxygen and sulf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b)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ost important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inorgan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ons are sodium, potassium, calcium, magnesium, chloride, phosphate, and the organic ion bicarbon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Ions are also critical for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erv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uscl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3"/>
          <p:cNvSpPr/>
          <p:nvPr/>
        </p:nvSpPr>
        <p:spPr>
          <a:xfrm>
            <a:off x="928800" y="285840"/>
            <a:ext cx="735804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Catabolism </a:t>
            </a:r>
            <a:r>
              <a:rPr b="1" lang="en-GB" sz="4400" spc="-1" strike="noStrike">
                <a:solidFill>
                  <a:srgbClr val="000000"/>
                </a:solidFill>
                <a:latin typeface="Andalus"/>
                <a:ea typeface="Andalus"/>
              </a:rPr>
              <a:t>&amp; Anabolism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صورة 29" descr="صورة1.png"/>
          <p:cNvPicPr/>
          <p:nvPr/>
        </p:nvPicPr>
        <p:blipFill>
          <a:blip r:embed="rId1"/>
          <a:stretch/>
        </p:blipFill>
        <p:spPr>
          <a:xfrm>
            <a:off x="277920" y="1487520"/>
            <a:ext cx="85881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مجموعة 10"/>
          <p:cNvGrpSpPr/>
          <p:nvPr/>
        </p:nvGrpSpPr>
        <p:grpSpPr>
          <a:xfrm>
            <a:off x="71280" y="907920"/>
            <a:ext cx="9072720" cy="5735880"/>
            <a:chOff x="71280" y="907920"/>
            <a:chExt cx="9072720" cy="5735880"/>
          </a:xfrm>
        </p:grpSpPr>
        <p:pic>
          <p:nvPicPr>
            <p:cNvPr id="74" name="صورة 3" descr="03_03_catabolic_anabolic.jpg"/>
            <p:cNvPicPr/>
            <p:nvPr/>
          </p:nvPicPr>
          <p:blipFill>
            <a:blip r:embed="rId1"/>
            <a:srcRect l="0" t="0" r="0" b="3877"/>
            <a:stretch/>
          </p:blipFill>
          <p:spPr>
            <a:xfrm>
              <a:off x="785520" y="1333080"/>
              <a:ext cx="7429680" cy="53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9"/>
            <p:cNvSpPr/>
            <p:nvPr/>
          </p:nvSpPr>
          <p:spPr>
            <a:xfrm>
              <a:off x="71280" y="4714920"/>
              <a:ext cx="3357720" cy="106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6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break down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f 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arge molecules to provide energy and components needed for anabolic reactions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5572080" y="4686480"/>
              <a:ext cx="3571920" cy="94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constructive processes</a:t>
              </a: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that uses energy formed by catabolism to synthesize complex molecules for make up cellular structures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499760" y="907920"/>
              <a:ext cx="6000840" cy="490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Metabolis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8" name="رابط كسهم مستقيم 8"/>
            <p:cNvCxnSpPr/>
            <p:nvPr/>
          </p:nvCxnSpPr>
          <p:spPr>
            <a:xfrm flipH="1">
              <a:off x="14979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9" name="رابط كسهم مستقيم 9"/>
            <p:cNvCxnSpPr/>
            <p:nvPr/>
          </p:nvCxnSpPr>
          <p:spPr>
            <a:xfrm flipH="1">
              <a:off x="74991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31847" t="16604" r="13798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1847" t="17579" r="14897" b="14065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1670040"/>
            <a:ext cx="3429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set of chemical reactions that occur in living organisms to maintain lif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processes allow organisms to grow and reproduce, maintain their structures, and respond to their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928800" y="4446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4-Metbo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stepbystep.com/wp-content/uploads/2013/05/Difference-between-Metabolism-and-Anabolism.gif"/>
          <p:cNvPicPr/>
          <p:nvPr/>
        </p:nvPicPr>
        <p:blipFill>
          <a:blip r:embed="rId1"/>
          <a:stretch/>
        </p:blipFill>
        <p:spPr>
          <a:xfrm>
            <a:off x="3571920" y="1428840"/>
            <a:ext cx="55008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ستطيل 3"/>
          <p:cNvSpPr/>
          <p:nvPr/>
        </p:nvSpPr>
        <p:spPr>
          <a:xfrm>
            <a:off x="285840" y="214200"/>
            <a:ext cx="864396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2d050"/>
                </a:solidFill>
                <a:latin typeface="Andalus"/>
                <a:ea typeface="Andalus"/>
              </a:rPr>
              <a:t>Metabolism is usually divided into two categor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at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breaks down organic matter, for example to  produce energy in cellular respir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n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nstructing components of cells such as proteins and nucleic aci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important to metabolism because they act as catalysts to allow chemical reactions to proceed quickly and efficient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4" descr="U1CP5-5_CatabolicAnabolic_ksm.jpg"/>
          <p:cNvPicPr/>
          <p:nvPr/>
        </p:nvPicPr>
        <p:blipFill>
          <a:blip r:embed="rId1"/>
          <a:stretch/>
        </p:blipFill>
        <p:spPr>
          <a:xfrm>
            <a:off x="214200" y="2714760"/>
            <a:ext cx="8072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23920"/>
            <a:ext cx="8229600" cy="72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Key Biomolecules In Metabolis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structures that make up animals, plants and microbes are made from three basic types of molecu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d lipids (often called fa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s these molecules are important for life, metabolism focuses on utilizing these molecules in two way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construction of cells and tissu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or breaking them down and using them as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macromolecules are essential parts of all living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0040" y="1214280"/>
            <a:ext cx="822960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- Proteins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made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mino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eins are the enzymes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mechanical functions, such as the proteins that form the cyto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s are also important in cell signalling, immune responses, active transport across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 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85716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430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3- Carbohyd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straight-chain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ldehydes or keton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an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1314360"/>
            <a:ext cx="8748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4- Co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Metabolism involves chemical reactions, most involve metabolic intermediates calle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enzymes are therefore continuously being made, consumed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nd then recyc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ne central coenzyme is adenosine triphosphat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cts as a bridge betwee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t also serves as a carrier of phosphate groups in phosphorylation 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5:03:58Z</dcterms:created>
  <dc:creator>DELL</dc:creator>
  <dc:description/>
  <dc:language>en-US</dc:language>
  <cp:lastModifiedBy>DELL</cp:lastModifiedBy>
  <dcterms:modified xsi:type="dcterms:W3CDTF">2013-09-27T15:08:25Z</dcterms:modified>
  <cp:revision>2</cp:revision>
  <dc:subject/>
  <dc:title>الشريحة 1</dc:title>
</cp:coreProperties>
</file>