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0BED-970B-474A-B0BF-56A4731E82D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23B6-4C4D-4A25-8567-6BE25BD6324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E429-902F-46C0-9E33-6730ADB8ED2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5EEE-5390-4C50-93A3-71C5B996FA3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D2BF-9481-4593-93AD-7FE35474495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9421-ACD7-4599-ABF1-8D9A50F5292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3130-904D-4EA9-81EC-8A1F33E6E0E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170E-205A-421B-A45A-1BC3BDC0050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6F41-AEA8-4A3F-995F-1A4BC088585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5B6E-A478-4F90-B702-D121709B4A9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8119-1CFD-4F3C-A652-E76BC62C084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4C20-9C0F-40D4-B99C-942D658634D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5C1D-82A8-4FCE-8D25-6DB709FA526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3913-4EEB-4E93-BB26-90FA1335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C73D-B765-45FF-8641-D39645E6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4EE0-5694-405A-A7EC-E14EDD91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D279-A92E-490F-B9DF-998C61A4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F0A6-F69D-405A-8012-9E0437F7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4A10-F0D0-4011-91EC-BD6063F2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B1F4-1786-4C5C-8723-63E452BB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1FF3-DCF1-435F-9631-80410226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B0A7-CBC9-47FE-9022-8D33464A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C1AF-E81E-4D98-A1C3-05EE7E10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7FA7-CD8F-4222-A83A-CC9D339C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98BF-3535-4C3B-A0C0-D1EBC3CD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A767-6E1E-4898-A04D-92A2D746B47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ربع نص 4"/>
          <p:cNvSpPr/>
          <p:nvPr/>
        </p:nvSpPr>
        <p:spPr>
          <a:xfrm>
            <a:off x="571680" y="0"/>
            <a:ext cx="52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Bradley Hand ITC"/>
              </a:rPr>
              <a:t>Physiolog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5280" y="153180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5- Vitam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Vitamin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is an organic compound needed in small quantities that cannot be made in the cel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In human nutrition,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most vitamins function a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coenzyme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fter modific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Nicotinamide adenine dinucleotide (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NADH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), a derivative of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vitamin B3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(niacin), is an important coenzyme that acts as a hydrogen accep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NAD</a:t>
            </a:r>
            <a:r>
              <a:rPr b="0" lang="en-GB" sz="2000" spc="-1" strike="noStrike" baseline="30000">
                <a:solidFill>
                  <a:srgbClr val="0000ff"/>
                </a:solidFill>
                <a:latin typeface="Andalus"/>
                <a:ea typeface="Andalu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exists in two related forms in the cell,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NADH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NADPH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NAD</a:t>
            </a:r>
            <a:r>
              <a:rPr b="0" lang="en-GB" sz="2000" spc="-1" strike="noStrike" baseline="30000">
                <a:solidFill>
                  <a:srgbClr val="0000ff"/>
                </a:solidFill>
                <a:latin typeface="Andalus"/>
                <a:ea typeface="Andalu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/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NADH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form is more important in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catabolic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reactions, while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NADP+/NADPH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is used in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anabolic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reac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مربع نص 4"/>
          <p:cNvSpPr/>
          <p:nvPr/>
        </p:nvSpPr>
        <p:spPr>
          <a:xfrm>
            <a:off x="928800" y="30168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Metabolism 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1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000"/>
                            </p:stCondLst>
                            <p:childTnLst>
                              <p:par>
                                <p:cTn id="2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1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00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1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1530000"/>
            <a:ext cx="8229600" cy="572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6- Minerals &amp; Co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a) El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y are inorganic elements play important roles in metabolism; (e.g. sodium and potassium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About 99%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of mammals' mass are the elements carbon, nitrogen, calcium, sodium, chlorine, potassium, hydrogen, phosphorus, oxygen and sulf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organic compounds (proteins, lipids and carbohydrates) contain the majority of the carbon and nitrogen and most of the oxygen and hydrogen is present as wa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b) 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most important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inorganic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ions are sodium, potassium, calcium, magnesium, chloride, phosphate, and the organic ion bicarbon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se Ions are also critical for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nerve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muscle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مربع نص 4"/>
          <p:cNvSpPr/>
          <p:nvPr/>
        </p:nvSpPr>
        <p:spPr>
          <a:xfrm>
            <a:off x="928800" y="14292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Metabolism 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0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1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80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1000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مربع نص 3"/>
          <p:cNvSpPr/>
          <p:nvPr/>
        </p:nvSpPr>
        <p:spPr>
          <a:xfrm>
            <a:off x="928800" y="285840"/>
            <a:ext cx="7358040" cy="1434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Catabolism </a:t>
            </a:r>
            <a:r>
              <a:rPr b="1" lang="en-GB" sz="4400" spc="-1" strike="noStrike">
                <a:solidFill>
                  <a:srgbClr val="000000"/>
                </a:solidFill>
                <a:latin typeface="Andalus"/>
                <a:ea typeface="Andalus"/>
              </a:rPr>
              <a:t>&amp; Anabolism</a:t>
            </a: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صورة 29" descr="صورة1.png"/>
          <p:cNvPicPr/>
          <p:nvPr/>
        </p:nvPicPr>
        <p:blipFill>
          <a:blip r:embed="rId1"/>
          <a:stretch/>
        </p:blipFill>
        <p:spPr>
          <a:xfrm>
            <a:off x="277920" y="1487520"/>
            <a:ext cx="858816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71280"/>
            <a:ext cx="822960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مجموعة 10"/>
          <p:cNvGrpSpPr/>
          <p:nvPr/>
        </p:nvGrpSpPr>
        <p:grpSpPr>
          <a:xfrm>
            <a:off x="71280" y="907920"/>
            <a:ext cx="9072720" cy="5735880"/>
            <a:chOff x="71280" y="907920"/>
            <a:chExt cx="9072720" cy="5735880"/>
          </a:xfrm>
        </p:grpSpPr>
        <p:pic>
          <p:nvPicPr>
            <p:cNvPr id="74" name="صورة 3" descr="03_03_catabolic_anabolic.jpg"/>
            <p:cNvPicPr/>
            <p:nvPr/>
          </p:nvPicPr>
          <p:blipFill>
            <a:blip r:embed="rId1"/>
            <a:srcRect l="0" t="0" r="0" b="3877"/>
            <a:stretch/>
          </p:blipFill>
          <p:spPr>
            <a:xfrm>
              <a:off x="785520" y="1333080"/>
              <a:ext cx="7429680" cy="531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19"/>
            <p:cNvSpPr/>
            <p:nvPr/>
          </p:nvSpPr>
          <p:spPr>
            <a:xfrm>
              <a:off x="71280" y="4714920"/>
              <a:ext cx="3357720" cy="1067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s the </a:t>
              </a:r>
              <a:r>
                <a:rPr b="0" lang="ar-SA" sz="16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break down</a:t>
              </a:r>
              <a:r>
                <a:rPr b="0" lang="ar-SA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of </a:t>
              </a:r>
              <a:r>
                <a:rPr b="0" lang="ar-SA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large molecules to provide energy and components needed for anabolic reactions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 Box 20"/>
            <p:cNvSpPr/>
            <p:nvPr/>
          </p:nvSpPr>
          <p:spPr>
            <a:xfrm>
              <a:off x="5572080" y="4686480"/>
              <a:ext cx="3571920" cy="946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s the </a:t>
              </a:r>
              <a:r>
                <a:rPr b="0" lang="ar-SA" sz="1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constructive processes</a:t>
              </a:r>
              <a:r>
                <a:rPr b="0" lang="ar-SA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that uses energy formed by catabolism to synthesize complex molecules for make up cellular structures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11"/>
            <p:cNvSpPr/>
            <p:nvPr/>
          </p:nvSpPr>
          <p:spPr>
            <a:xfrm>
              <a:off x="1499760" y="907920"/>
              <a:ext cx="6000840" cy="490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Metabolis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8" name="رابط كسهم مستقيم 8"/>
            <p:cNvCxnSpPr/>
            <p:nvPr/>
          </p:nvCxnSpPr>
          <p:spPr>
            <a:xfrm flipH="1">
              <a:off x="1497960" y="1356840"/>
              <a:ext cx="2160" cy="3287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9" name="رابط كسهم مستقيم 9"/>
            <p:cNvCxnSpPr/>
            <p:nvPr/>
          </p:nvCxnSpPr>
          <p:spPr>
            <a:xfrm flipH="1">
              <a:off x="7499160" y="1356840"/>
              <a:ext cx="2160" cy="3287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31847" t="16604" r="13798" b="12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31847" t="17579" r="14897" b="14065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13840" y="1670040"/>
            <a:ext cx="3429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Metabolism</a:t>
            </a:r>
            <a:r>
              <a:rPr b="0" lang="ar-SA" sz="2400" spc="-1" strike="noStrike">
                <a:solidFill>
                  <a:srgbClr val="0000ff"/>
                </a:solidFill>
                <a:latin typeface="Andalus"/>
                <a:ea typeface="Andalus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is the set of chemical reactions that occur in living organisms to maintain lif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se processes allow organisms to grow and reproduce, maintain their structures, and respond to their environ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مربع نص 3"/>
          <p:cNvSpPr/>
          <p:nvPr/>
        </p:nvSpPr>
        <p:spPr>
          <a:xfrm>
            <a:off x="928800" y="44460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4-Metbo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www.stepbystep.com/wp-content/uploads/2013/05/Difference-between-Metabolism-and-Anabolism.gif"/>
          <p:cNvPicPr/>
          <p:nvPr/>
        </p:nvPicPr>
        <p:blipFill>
          <a:blip r:embed="rId1"/>
          <a:stretch/>
        </p:blipFill>
        <p:spPr>
          <a:xfrm>
            <a:off x="3571920" y="1428840"/>
            <a:ext cx="55008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مستطيل 3"/>
          <p:cNvSpPr/>
          <p:nvPr/>
        </p:nvSpPr>
        <p:spPr>
          <a:xfrm>
            <a:off x="285840" y="214200"/>
            <a:ext cx="864396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2d050"/>
                </a:solidFill>
                <a:latin typeface="Andalus"/>
                <a:ea typeface="Andalus"/>
              </a:rPr>
              <a:t>Metabolism is usually divided into two categori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buClr>
                <a:srgbClr val="ff0000"/>
              </a:buClr>
              <a:buFont typeface="Andalu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Catabolism</a:t>
            </a:r>
            <a:r>
              <a:rPr b="0" lang="ar-SA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breaks down organic matter, for example to  produce energy in cellular respiration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buClr>
                <a:srgbClr val="ff0000"/>
              </a:buClr>
              <a:buFont typeface="Andalu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buClr>
                <a:srgbClr val="ff0000"/>
              </a:buClr>
              <a:buFont typeface="Andalu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Anabolism</a:t>
            </a:r>
            <a:r>
              <a:rPr b="0" lang="ar-SA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constructing components of cells such as proteins and nucleic aci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Enzymes are important to metabolism because they act as catalysts to allow chemical reactions to proceed quickly and efficientl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صورة 4" descr="U1CP5-5_CatabolicAnabolic_ksm.jpg"/>
          <p:cNvPicPr/>
          <p:nvPr/>
        </p:nvPicPr>
        <p:blipFill>
          <a:blip r:embed="rId1"/>
          <a:stretch/>
        </p:blipFill>
        <p:spPr>
          <a:xfrm>
            <a:off x="214200" y="2714760"/>
            <a:ext cx="80726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123920"/>
            <a:ext cx="8229600" cy="72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Key Biomolecules In Metabolis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of the structures that make up animals, plants and microbes are made from three basic types of molecu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09000"/>
              <a:buFont typeface="Andalu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protein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09000"/>
              <a:buFont typeface="Andalu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carbohydra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09000"/>
              <a:buFont typeface="Andalu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and lipids (often called fat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As these molecules are important for life, metabolism focuses on utilizing these molecules in two way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09000"/>
              <a:buFont typeface="Andalu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in the construction of cells and tissue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09000"/>
              <a:buFont typeface="Andalu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or breaking them down and using them as a source of ener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se macromolecules are essential parts of all living organism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ربع نص 3"/>
          <p:cNvSpPr/>
          <p:nvPr/>
        </p:nvSpPr>
        <p:spPr>
          <a:xfrm>
            <a:off x="928800" y="14292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Metabolism 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00040" y="1214280"/>
            <a:ext cx="8229600" cy="59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Important biochemica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1- Proteins: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Protein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are made of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amino acid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arranged in a linear chain and joined together by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peptide bond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Many proteins are the enzymes that catalyze the chemical reactions in metabolis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Other proteins have structural 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or mechanical functions, such as the proteins that form the cytoskelet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Proteins are also important in cell signalling, immune responses, active transport across membra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17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مربع نص 5"/>
          <p:cNvSpPr/>
          <p:nvPr/>
        </p:nvSpPr>
        <p:spPr>
          <a:xfrm>
            <a:off x="928800" y="14292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Metabolism 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48572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2- Lip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Lipid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composed of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three fatty acid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glycerol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molecu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construct 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part of the cell membra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are a source of ener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Steroids such as cholesterol are another major class of lipids that are made in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مربع نص 3"/>
          <p:cNvSpPr/>
          <p:nvPr/>
        </p:nvSpPr>
        <p:spPr>
          <a:xfrm>
            <a:off x="857160" y="28584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Metabolism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1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2430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3- Carbohyd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Carbohydrate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are straight-chain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aldehydes or ketone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with many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hydroxyl group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that can exist as straight chains or r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Carbohydrate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are the most abundant 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biological molecules, and found as storage for producing energy (e.g. glycogen) and structural components (cellulose in plants, chitin in animal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basic carbohydrate units are called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monosaccharide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and include galactose, fructose, and gluco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Monosaccharide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can be linked together to form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polysaccharide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مربع نص 3"/>
          <p:cNvSpPr/>
          <p:nvPr/>
        </p:nvSpPr>
        <p:spPr>
          <a:xfrm>
            <a:off x="928800" y="14292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Metabolism 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1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50920" y="1314360"/>
            <a:ext cx="8748720" cy="522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4- Coenzy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Metabolism involves chemical reactions, most involve metabolic intermediates called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coenzyme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Coenzymes are therefore continuously being made, consumed </a:t>
            </a:r>
            <a:r>
              <a:rPr b="0" lang="ar-SA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and then recycl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One central coenzyme is adenosine triphosphate (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ATP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), the energy source of cells. and used to transfer chemical energy between different chemical reac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ATP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cts as a bridge between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catabolism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anabolism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, with catabolic reactions generating ATP and anabolic reactions consuming 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It also serves as a carrier of phosphate groups in phosphorylation  reac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مربع نص 4"/>
          <p:cNvSpPr/>
          <p:nvPr/>
        </p:nvSpPr>
        <p:spPr>
          <a:xfrm>
            <a:off x="928800" y="14292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Metabolism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10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15:03:58Z</dcterms:created>
  <dc:creator>DELL</dc:creator>
  <dc:description/>
  <dc:language>en-US</dc:language>
  <cp:lastModifiedBy>DELL</cp:lastModifiedBy>
  <dcterms:modified xsi:type="dcterms:W3CDTF">2013-09-27T15:08:25Z</dcterms:modified>
  <cp:revision>2</cp:revision>
  <dc:subject/>
  <dc:title>الشريحة 1</dc:title>
</cp:coreProperties>
</file>