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98F9-C892-40CC-B8BA-DEA2346FF3B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1F73-DBF6-45F0-931F-566BD1DA18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E7C5-DCF1-4974-BCC1-FDCC7CFFA75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AD1-BC94-4E0A-890C-7E229E60C6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6CF-7F64-4990-AF9F-1F196025F5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C94-05E9-4A41-B78B-12C4F35DF70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C39-640F-4EA6-95DD-D18E857C8C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BB7-9A10-46DE-900F-8FCB4B77B3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3899-5CE3-4D15-BECE-4000C78AB6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A869-FD24-458F-8BB8-67BE8AAD2C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E86-A138-4BC0-94ED-41AE3A18505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E21-BB44-463D-B25E-61ABC78F32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A77-AE13-493C-9DFF-C2C502C678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3AB-2DE0-4128-875C-B0086CC6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FD3-F985-481A-B063-A50B7FF3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6AB-36FD-4E18-9D8D-1FB11026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A2A-F91F-49F4-9309-1D4D13FE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D42-5D50-4F9C-BDE6-D30DEAE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42B-8E6B-4656-9A86-E13C082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999-4190-4C8E-BDF0-8B26577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3E7-7860-466B-93D2-32C8CB44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777-106B-4728-A0A9-581036B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2C0-3DF9-44E1-825B-BE2937A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357-E781-4BEB-A2BD-6EF99C2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C5C-FC76-469A-BC3B-394E82C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D852-B17A-4D00-BC0C-BFC7537014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53180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5- Vitam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 nutrition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vitamins function a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Nicotinamide adenine dinucleotid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a derivative of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 B3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niacin), is an important coenzyme that acts as a hydrogen accep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exists in two related forms in the cell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/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is more important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, whil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+/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used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مربع نص 4"/>
          <p:cNvSpPr/>
          <p:nvPr/>
        </p:nvSpPr>
        <p:spPr>
          <a:xfrm>
            <a:off x="928800" y="3016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30000"/>
            <a:ext cx="8229600" cy="57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)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inorganic elements play important roles in metabolism; (e.g. sodium and potassiu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bout 99%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mammals' mass are the elements carbon, nitrogen, calcium, sodium, chlorine, potassium, hydrogen, phosphorus, oxygen and sulf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b)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ost important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inorgan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ons are sodium, potassium, calcium, magnesium, chloride, phosphate, and the organic ion bicarbon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Ions are also critical for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erv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uscl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3"/>
          <p:cNvSpPr/>
          <p:nvPr/>
        </p:nvSpPr>
        <p:spPr>
          <a:xfrm>
            <a:off x="928800" y="285840"/>
            <a:ext cx="735804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Catabolism </a:t>
            </a:r>
            <a:r>
              <a:rPr b="1" lang="en-GB" sz="4400" spc="-1" strike="noStrike">
                <a:solidFill>
                  <a:srgbClr val="000000"/>
                </a:solidFill>
                <a:latin typeface="Andalus"/>
                <a:ea typeface="Andalus"/>
              </a:rPr>
              <a:t>&amp; Anabolism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صورة 29" descr="صورة1.png"/>
          <p:cNvPicPr/>
          <p:nvPr/>
        </p:nvPicPr>
        <p:blipFill>
          <a:blip r:embed="rId1"/>
          <a:stretch/>
        </p:blipFill>
        <p:spPr>
          <a:xfrm>
            <a:off x="277920" y="1487520"/>
            <a:ext cx="85881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مجموعة 10"/>
          <p:cNvGrpSpPr/>
          <p:nvPr/>
        </p:nvGrpSpPr>
        <p:grpSpPr>
          <a:xfrm>
            <a:off x="71280" y="907920"/>
            <a:ext cx="9072720" cy="5735880"/>
            <a:chOff x="71280" y="907920"/>
            <a:chExt cx="9072720" cy="5735880"/>
          </a:xfrm>
        </p:grpSpPr>
        <p:pic>
          <p:nvPicPr>
            <p:cNvPr id="74" name="صورة 3" descr="03_03_catabolic_anabolic.jpg"/>
            <p:cNvPicPr/>
            <p:nvPr/>
          </p:nvPicPr>
          <p:blipFill>
            <a:blip r:embed="rId1"/>
            <a:srcRect l="0" t="0" r="0" b="3877"/>
            <a:stretch/>
          </p:blipFill>
          <p:spPr>
            <a:xfrm>
              <a:off x="785520" y="1333080"/>
              <a:ext cx="7429680" cy="53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/>
            <p:cNvSpPr/>
            <p:nvPr/>
          </p:nvSpPr>
          <p:spPr>
            <a:xfrm>
              <a:off x="71280" y="4714920"/>
              <a:ext cx="3357720" cy="106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6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break down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f 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arge molecules to provide energy and components needed for anabolic reactions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5572080" y="4686480"/>
              <a:ext cx="3571920" cy="94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constructive processes</a:t>
              </a: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that uses energy formed by catabolism to synthesize complex molecules for make up cellular structures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499760" y="907920"/>
              <a:ext cx="6000840" cy="490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Metabolis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8" name="رابط كسهم مستقيم 8"/>
            <p:cNvCxnSpPr/>
            <p:nvPr/>
          </p:nvCxnSpPr>
          <p:spPr>
            <a:xfrm flipH="1">
              <a:off x="14979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9" name="رابط كسهم مستقيم 9"/>
            <p:cNvCxnSpPr/>
            <p:nvPr/>
          </p:nvCxnSpPr>
          <p:spPr>
            <a:xfrm flipH="1">
              <a:off x="74991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1847" t="16604" r="13798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1847" t="17579" r="14897" b="14065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1670040"/>
            <a:ext cx="3429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set of chemical reactions that occur in living organisms to maintain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processes allow organisms to grow and reproduce, maintain their structures, and respond to their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928800" y="4446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4-Metbo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stepbystep.com/wp-content/uploads/2013/05/Difference-between-Metabolism-and-Anabolism.gif"/>
          <p:cNvPicPr/>
          <p:nvPr/>
        </p:nvPicPr>
        <p:blipFill>
          <a:blip r:embed="rId1"/>
          <a:stretch/>
        </p:blipFill>
        <p:spPr>
          <a:xfrm>
            <a:off x="3571920" y="1428840"/>
            <a:ext cx="55008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ستطيل 3"/>
          <p:cNvSpPr/>
          <p:nvPr/>
        </p:nvSpPr>
        <p:spPr>
          <a:xfrm>
            <a:off x="285840" y="214200"/>
            <a:ext cx="864396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2d050"/>
                </a:solidFill>
                <a:latin typeface="Andalus"/>
                <a:ea typeface="Andalus"/>
              </a:rPr>
              <a:t>Metabolism is usually divided into two categor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at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breaks down organic matter, for example to  produce energy in cellular respir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n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nstructing components of cells such as proteins and nucleic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important to metabolism because they act as catalysts to allow chemical reactions to proceed quickly and efficient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4" descr="U1CP5-5_CatabolicAnabolic_ksm.jpg"/>
          <p:cNvPicPr/>
          <p:nvPr/>
        </p:nvPicPr>
        <p:blipFill>
          <a:blip r:embed="rId1"/>
          <a:stretch/>
        </p:blipFill>
        <p:spPr>
          <a:xfrm>
            <a:off x="214200" y="2714760"/>
            <a:ext cx="8072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23920"/>
            <a:ext cx="8229600" cy="72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Key Biomolecules In Metabolis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structures that make up animals, plants and microbes are made from three basic types of molecu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d lipids (often called fa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s these molecules are important for life, metabolism focuses on utilizing these molecules in two way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construction of cells and tissu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or breaking them down and using them as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macromolecules are essential parts of all liv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822960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- Proteins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made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mino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eins are the enzymes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mechanical functions, such as the proteins that form the cyto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s are also important in cell signalling, immune responses, active transport across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85716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3- 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straight-chain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ldehydes or keton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an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314360"/>
            <a:ext cx="8748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4- Co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Metabolism involves chemical reactions, most involve metabolic intermediates calle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enzymes are therefore continuously being made, consumed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nd then recyc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ne central coenzyme is adenosine triphosphat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cts as a bridge betwee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t also serves as a carrier of phosphate groups in phosphorylation 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5:03:58Z</dcterms:created>
  <dc:creator>DELL</dc:creator>
  <dc:description/>
  <dc:language>en-US</dc:language>
  <cp:lastModifiedBy>DELL</cp:lastModifiedBy>
  <dcterms:modified xsi:type="dcterms:W3CDTF">2013-09-27T15:08:25Z</dcterms:modified>
  <cp:revision>2</cp:revision>
  <dc:subject/>
  <dc:title>الشريحة 1</dc:title>
</cp:coreProperties>
</file>