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6179-356F-4A96-9CF3-BD17D6EC87F6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1CCD-1C41-49DB-9390-CBC6376C9E46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49F4-6C84-4DD7-AC95-D7E88026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347-180A-48B0-B9E5-2D3091EB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968A-4362-493E-B8E9-418D1E3B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058-E441-4817-B207-5AFB47B9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35B7-6213-4B46-B1E3-75F745DD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BA4-771F-4CAE-8540-97A0B7DE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BCE7-9B0D-4454-ACB8-D2088B03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EF4-5F82-4AF6-B2A2-4913C333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241-C793-401F-A0B8-D5822CE5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9BA3-3F80-42FC-8315-964CD1AE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EFB9-7DE1-4495-A96A-6978957C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F64-20B6-4A9E-9395-B451BD11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B166-8920-471D-B955-EBB40544D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1847" t="13671" r="13798" b="12111"/>
          <a:stretch/>
        </p:blipFill>
        <p:spPr>
          <a:xfrm>
            <a:off x="0" y="5076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Sherifa\Desktop\543 cytology\cytology\autophagy.JPG"/>
          <p:cNvPicPr/>
          <p:nvPr/>
        </p:nvPicPr>
        <p:blipFill>
          <a:blip r:embed="rId1"/>
          <a:stretch/>
        </p:blipFill>
        <p:spPr>
          <a:xfrm>
            <a:off x="5257800" y="76320"/>
            <a:ext cx="3505320" cy="2311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Sherifa\Desktop\543 cytology\cytology\1ry lysosome.jpg"/>
          <p:cNvPicPr/>
          <p:nvPr/>
        </p:nvPicPr>
        <p:blipFill>
          <a:blip r:embed="rId2"/>
          <a:stretch/>
        </p:blipFill>
        <p:spPr>
          <a:xfrm>
            <a:off x="1219320" y="152280"/>
            <a:ext cx="2679480" cy="2756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Sherifa\Desktop\543 cytology\cytology\autophagosome.jpg"/>
          <p:cNvPicPr/>
          <p:nvPr/>
        </p:nvPicPr>
        <p:blipFill>
          <a:blip r:embed="rId3"/>
          <a:stretch/>
        </p:blipFill>
        <p:spPr>
          <a:xfrm>
            <a:off x="0" y="3181320"/>
            <a:ext cx="91440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76320" y="3200400"/>
            <a:ext cx="8991360" cy="3654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5-The mitochondrion</a:t>
            </a:r>
            <a:r>
              <a:rPr b="0" lang="en-GB" sz="2800" spc="-1" strike="noStrike">
                <a:solidFill>
                  <a:srgbClr val="ff0000"/>
                </a:solidFill>
                <a:latin typeface="Andalus"/>
                <a:ea typeface="Andalus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sit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cellular respiration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produces ATP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 The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ner and outer membranes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the mitochondrion are evident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crista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e infoldings of the inner membrane, which increase its surface area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any respiratory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nzymes are found in the inner membrane and the matrix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Free ribosomes are also present in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matrix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DNA in th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itochondrion is a circular molecule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Has own gen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Plate 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39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6- Peroxisomes</a:t>
            </a:r>
            <a:r>
              <a:rPr b="0" lang="en-US" sz="36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Functions of peroxis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Hydrogen peroxide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(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 is a pois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bu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peroxisome has enzy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hat converts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 t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wate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peroxisomes       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O +  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Some peroxisomes break fatty acids dow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o smaller molecules that are transported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itochondria for fu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Users\Sherifa\Desktop\543 cytology\cytology\peroxisome.jpg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21" name="Straight Arrow Connector 7"/>
          <p:cNvCxnSpPr/>
          <p:nvPr/>
        </p:nvCxnSpPr>
        <p:spPr>
          <a:xfrm>
            <a:off x="1294920" y="2895120"/>
            <a:ext cx="129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Relationship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mong organelles of the endomembrane  system. The red arrows show some of the migration pathways for membranes and the materials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enclo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31296" t="17579" r="14897" b="2382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rcRect l="32287" t="31905" r="14421" b="18100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76320" y="76320"/>
            <a:ext cx="38098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مجموعة 45"/>
          <p:cNvGrpSpPr/>
          <p:nvPr/>
        </p:nvGrpSpPr>
        <p:grpSpPr>
          <a:xfrm>
            <a:off x="304920" y="1339920"/>
            <a:ext cx="8381880" cy="4985640"/>
            <a:chOff x="304920" y="1339920"/>
            <a:chExt cx="8381880" cy="4985640"/>
          </a:xfrm>
        </p:grpSpPr>
        <p:grpSp>
          <p:nvGrpSpPr>
            <p:cNvPr id="59" name="Group 8"/>
            <p:cNvGrpSpPr/>
            <p:nvPr/>
          </p:nvGrpSpPr>
          <p:grpSpPr>
            <a:xfrm>
              <a:off x="1523880" y="2711520"/>
              <a:ext cx="5943600" cy="2133360"/>
              <a:chOff x="1523880" y="2711520"/>
              <a:chExt cx="5943600" cy="2133360"/>
            </a:xfrm>
          </p:grpSpPr>
          <p:sp>
            <p:nvSpPr>
              <p:cNvPr id="60" name="AutoShape 7"/>
              <p:cNvSpPr/>
              <p:nvPr/>
            </p:nvSpPr>
            <p:spPr>
              <a:xfrm>
                <a:off x="1600200" y="2711520"/>
                <a:ext cx="5867280" cy="2057400"/>
              </a:xfrm>
              <a:prstGeom prst="flowChartTerminator">
                <a:avLst/>
              </a:prstGeom>
              <a:solidFill>
                <a:srgbClr val="cc00cc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AutoShape 5"/>
              <p:cNvSpPr/>
              <p:nvPr/>
            </p:nvSpPr>
            <p:spPr>
              <a:xfrm>
                <a:off x="1523880" y="2940120"/>
                <a:ext cx="5791320" cy="1904760"/>
              </a:xfrm>
              <a:prstGeom prst="flowChartTerminator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AutoShape 6"/>
            <p:cNvSpPr/>
            <p:nvPr/>
          </p:nvSpPr>
          <p:spPr>
            <a:xfrm>
              <a:off x="1638360" y="3041640"/>
              <a:ext cx="5562720" cy="1676160"/>
            </a:xfrm>
            <a:prstGeom prst="flowChartTerminator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9"/>
            <p:cNvSpPr/>
            <p:nvPr/>
          </p:nvSpPr>
          <p:spPr>
            <a:xfrm>
              <a:off x="1739880" y="3130560"/>
              <a:ext cx="5359320" cy="149832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1"/>
            <p:cNvSpPr/>
            <p:nvPr/>
          </p:nvSpPr>
          <p:spPr>
            <a:xfrm>
              <a:off x="2806560" y="3444840"/>
              <a:ext cx="3517920" cy="776160"/>
            </a:xfrm>
            <a:prstGeom prst="cloudCallout">
              <a:avLst>
                <a:gd name="adj1" fmla="val -34564"/>
                <a:gd name="adj2" fmla="val -8689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7"/>
            <p:cNvGrpSpPr/>
            <p:nvPr/>
          </p:nvGrpSpPr>
          <p:grpSpPr>
            <a:xfrm>
              <a:off x="6934320" y="1339920"/>
              <a:ext cx="1752480" cy="1523880"/>
              <a:chOff x="6934320" y="1339920"/>
              <a:chExt cx="1752480" cy="1523880"/>
            </a:xfrm>
          </p:grpSpPr>
          <p:sp>
            <p:nvSpPr>
              <p:cNvPr id="66" name="Line 15"/>
              <p:cNvSpPr/>
              <p:nvPr/>
            </p:nvSpPr>
            <p:spPr>
              <a:xfrm flipV="1">
                <a:off x="6934320" y="1949400"/>
                <a:ext cx="761760" cy="914400"/>
              </a:xfrm>
              <a:prstGeom prst="line">
                <a:avLst/>
              </a:prstGeom>
              <a:ln w="3816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16"/>
              <p:cNvSpPr/>
              <p:nvPr/>
            </p:nvSpPr>
            <p:spPr>
              <a:xfrm>
                <a:off x="7010280" y="1339920"/>
                <a:ext cx="1676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cc00cc"/>
                    </a:solidFill>
                    <a:latin typeface="Arial"/>
                  </a:rPr>
                  <a:t>Capsu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22"/>
            <p:cNvGrpSpPr/>
            <p:nvPr/>
          </p:nvGrpSpPr>
          <p:grpSpPr>
            <a:xfrm>
              <a:off x="4953240" y="1339920"/>
              <a:ext cx="1676160" cy="1675800"/>
              <a:chOff x="4953240" y="1339920"/>
              <a:chExt cx="1676160" cy="1675800"/>
            </a:xfrm>
          </p:grpSpPr>
          <p:sp>
            <p:nvSpPr>
              <p:cNvPr id="69" name="Line 20"/>
              <p:cNvSpPr/>
              <p:nvPr/>
            </p:nvSpPr>
            <p:spPr>
              <a:xfrm flipV="1">
                <a:off x="4953240" y="1949040"/>
                <a:ext cx="685440" cy="10666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21"/>
              <p:cNvSpPr/>
              <p:nvPr/>
            </p:nvSpPr>
            <p:spPr>
              <a:xfrm>
                <a:off x="4953240" y="133992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3300"/>
                    </a:solidFill>
                    <a:latin typeface="Arial"/>
                  </a:rPr>
                  <a:t>Cell Wal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5"/>
            <p:cNvGrpSpPr/>
            <p:nvPr/>
          </p:nvGrpSpPr>
          <p:grpSpPr>
            <a:xfrm>
              <a:off x="2438280" y="1339920"/>
              <a:ext cx="2057400" cy="1790280"/>
              <a:chOff x="2438280" y="1339920"/>
              <a:chExt cx="2057400" cy="1790280"/>
            </a:xfrm>
          </p:grpSpPr>
          <p:sp>
            <p:nvSpPr>
              <p:cNvPr id="72" name="Line 23"/>
              <p:cNvSpPr/>
              <p:nvPr/>
            </p:nvSpPr>
            <p:spPr>
              <a:xfrm flipV="1">
                <a:off x="2819520" y="1987200"/>
                <a:ext cx="457200" cy="1143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24"/>
              <p:cNvSpPr/>
              <p:nvPr/>
            </p:nvSpPr>
            <p:spPr>
              <a:xfrm>
                <a:off x="2438280" y="1339920"/>
                <a:ext cx="205740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Arial"/>
                  </a:rPr>
                  <a:t>Plasma membran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28"/>
            <p:cNvGrpSpPr/>
            <p:nvPr/>
          </p:nvGrpSpPr>
          <p:grpSpPr>
            <a:xfrm>
              <a:off x="4876920" y="4311720"/>
              <a:ext cx="2057400" cy="2013840"/>
              <a:chOff x="4876920" y="4311720"/>
              <a:chExt cx="2057400" cy="2013840"/>
            </a:xfrm>
          </p:grpSpPr>
          <p:sp>
            <p:nvSpPr>
              <p:cNvPr id="75" name="Line 26"/>
              <p:cNvSpPr/>
              <p:nvPr/>
            </p:nvSpPr>
            <p:spPr>
              <a:xfrm flipH="1">
                <a:off x="5791320" y="4311720"/>
                <a:ext cx="304560" cy="11430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27"/>
              <p:cNvSpPr/>
              <p:nvPr/>
            </p:nvSpPr>
            <p:spPr>
              <a:xfrm>
                <a:off x="4876920" y="5378400"/>
                <a:ext cx="2057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9900"/>
                    </a:solidFill>
                    <a:latin typeface="Arial"/>
                  </a:rPr>
                  <a:t>Cytoplasm (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Arial"/>
                  </a:rPr>
                  <a:t>Cytosol</a:t>
                </a:r>
                <a:r>
                  <a:rPr b="1" lang="en-GB" sz="2800" spc="-1" strike="noStrike">
                    <a:solidFill>
                      <a:srgbClr val="009900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32"/>
            <p:cNvGrpSpPr/>
            <p:nvPr/>
          </p:nvGrpSpPr>
          <p:grpSpPr>
            <a:xfrm>
              <a:off x="2895480" y="3854520"/>
              <a:ext cx="2057400" cy="2044440"/>
              <a:chOff x="2895480" y="3854520"/>
              <a:chExt cx="2057400" cy="2044440"/>
            </a:xfrm>
          </p:grpSpPr>
          <p:sp>
            <p:nvSpPr>
              <p:cNvPr id="78" name="Line 30"/>
              <p:cNvSpPr/>
              <p:nvPr/>
            </p:nvSpPr>
            <p:spPr>
              <a:xfrm flipH="1">
                <a:off x="3809520" y="3854520"/>
                <a:ext cx="6858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31"/>
              <p:cNvSpPr/>
              <p:nvPr/>
            </p:nvSpPr>
            <p:spPr>
              <a:xfrm>
                <a:off x="2895480" y="5378400"/>
                <a:ext cx="205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Nucleoi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53"/>
            <p:cNvGrpSpPr/>
            <p:nvPr/>
          </p:nvGrpSpPr>
          <p:grpSpPr>
            <a:xfrm>
              <a:off x="2133720" y="3306600"/>
              <a:ext cx="4495320" cy="1218600"/>
              <a:chOff x="2133720" y="3306600"/>
              <a:chExt cx="4495320" cy="1218600"/>
            </a:xfrm>
          </p:grpSpPr>
          <p:sp>
            <p:nvSpPr>
              <p:cNvPr id="81" name="Oval 39"/>
              <p:cNvSpPr/>
              <p:nvPr/>
            </p:nvSpPr>
            <p:spPr>
              <a:xfrm>
                <a:off x="2133720" y="3458520"/>
                <a:ext cx="15228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40"/>
              <p:cNvSpPr/>
              <p:nvPr/>
            </p:nvSpPr>
            <p:spPr>
              <a:xfrm>
                <a:off x="2438280" y="4144320"/>
                <a:ext cx="1519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41"/>
              <p:cNvSpPr/>
              <p:nvPr/>
            </p:nvSpPr>
            <p:spPr>
              <a:xfrm>
                <a:off x="2209680" y="3839760"/>
                <a:ext cx="151920" cy="756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42"/>
              <p:cNvSpPr/>
              <p:nvPr/>
            </p:nvSpPr>
            <p:spPr>
              <a:xfrm>
                <a:off x="4952880" y="4449240"/>
                <a:ext cx="1519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43"/>
              <p:cNvSpPr/>
              <p:nvPr/>
            </p:nvSpPr>
            <p:spPr>
              <a:xfrm>
                <a:off x="3657600" y="4296960"/>
                <a:ext cx="151920" cy="756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4"/>
              <p:cNvSpPr/>
              <p:nvPr/>
            </p:nvSpPr>
            <p:spPr>
              <a:xfrm>
                <a:off x="3047760" y="4372920"/>
                <a:ext cx="15228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5"/>
              <p:cNvSpPr/>
              <p:nvPr/>
            </p:nvSpPr>
            <p:spPr>
              <a:xfrm>
                <a:off x="2743200" y="3306600"/>
                <a:ext cx="1519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6"/>
              <p:cNvSpPr/>
              <p:nvPr/>
            </p:nvSpPr>
            <p:spPr>
              <a:xfrm>
                <a:off x="5181480" y="3306600"/>
                <a:ext cx="1519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47"/>
              <p:cNvSpPr/>
              <p:nvPr/>
            </p:nvSpPr>
            <p:spPr>
              <a:xfrm>
                <a:off x="4419360" y="3306600"/>
                <a:ext cx="15228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48"/>
              <p:cNvSpPr/>
              <p:nvPr/>
            </p:nvSpPr>
            <p:spPr>
              <a:xfrm>
                <a:off x="3581280" y="3306600"/>
                <a:ext cx="1519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49"/>
              <p:cNvSpPr/>
              <p:nvPr/>
            </p:nvSpPr>
            <p:spPr>
              <a:xfrm>
                <a:off x="6476760" y="3992040"/>
                <a:ext cx="15228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0"/>
              <p:cNvSpPr/>
              <p:nvPr/>
            </p:nvSpPr>
            <p:spPr>
              <a:xfrm>
                <a:off x="6476760" y="3611160"/>
                <a:ext cx="152280" cy="756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51"/>
              <p:cNvSpPr/>
              <p:nvPr/>
            </p:nvSpPr>
            <p:spPr>
              <a:xfrm>
                <a:off x="5562360" y="4296960"/>
                <a:ext cx="152280" cy="756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52"/>
              <p:cNvSpPr/>
              <p:nvPr/>
            </p:nvSpPr>
            <p:spPr>
              <a:xfrm>
                <a:off x="6019560" y="3306600"/>
                <a:ext cx="15228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58"/>
            <p:cNvGrpSpPr/>
            <p:nvPr/>
          </p:nvGrpSpPr>
          <p:grpSpPr>
            <a:xfrm>
              <a:off x="304920" y="3916080"/>
              <a:ext cx="2146320" cy="1816200"/>
              <a:chOff x="304920" y="3916080"/>
              <a:chExt cx="2146320" cy="1816200"/>
            </a:xfrm>
          </p:grpSpPr>
          <p:sp>
            <p:nvSpPr>
              <p:cNvPr id="96" name="Text Box 54"/>
              <p:cNvSpPr/>
              <p:nvPr/>
            </p:nvSpPr>
            <p:spPr>
              <a:xfrm>
                <a:off x="304920" y="5211720"/>
                <a:ext cx="213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</a:rPr>
                  <a:t>Ribosom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5"/>
              <p:cNvSpPr/>
              <p:nvPr/>
            </p:nvSpPr>
            <p:spPr>
              <a:xfrm flipV="1">
                <a:off x="1384560" y="4208400"/>
                <a:ext cx="1066680" cy="1142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57"/>
              <p:cNvSpPr/>
              <p:nvPr/>
            </p:nvSpPr>
            <p:spPr>
              <a:xfrm flipV="1">
                <a:off x="1371960" y="3916080"/>
                <a:ext cx="838080" cy="1447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G02_01.JPG                                                    07BA800ASHARE1 on ACADSERV6            B64D79C1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0" y="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F912-2C4A-4193-8DC0-79AF27B8524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1752120"/>
            <a:ext cx="8686800" cy="36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ucleus contains most of the genes in an eukaryotic c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ucleus is separated from the cytoplasm by a double membrane</a:t>
            </a:r>
            <a:r>
              <a:rPr b="0" lang="en-GB" sz="1800" spc="-1" strike="noStrike">
                <a:solidFill>
                  <a:srgbClr val="000000"/>
                </a:solidFill>
                <a:latin typeface="Andalus"/>
                <a:ea typeface="Andalu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alle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nuclear membran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nuclear membran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contains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or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that allow large macromolecules and particles to pass throug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uclear membrane is maintaining the shape of the nucle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1. The nucleus</a:t>
            </a:r>
            <a:r>
              <a:rPr b="1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ndalus"/>
                <a:ea typeface="Andalus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ontains the cell’s genetic libr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380880" y="0"/>
            <a:ext cx="967716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0" y="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D:\Miller_Harley\jpgs\Ch02\2-22.jpg"/>
          <p:cNvPicPr/>
          <p:nvPr/>
        </p:nvPicPr>
        <p:blipFill>
          <a:blip r:embed="rId2"/>
          <a:stretch/>
        </p:blipFill>
        <p:spPr>
          <a:xfrm>
            <a:off x="6095880" y="4191120"/>
            <a:ext cx="281952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D:\Miller_Harley\jpgs\Ch02\2-15.jpg"/>
          <p:cNvPicPr/>
          <p:nvPr/>
        </p:nvPicPr>
        <p:blipFill>
          <a:blip r:embed="rId1"/>
          <a:stretch/>
        </p:blipFill>
        <p:spPr>
          <a:xfrm>
            <a:off x="4800600" y="228600"/>
            <a:ext cx="4332240" cy="6629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304920" y="1219320"/>
            <a:ext cx="52578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2-Endoplasmic Reticulum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set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terconnected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7933c"/>
                </a:solidFill>
                <a:uFillTx/>
                <a:latin typeface="Andalus"/>
                <a:ea typeface="Andalus"/>
              </a:rPr>
              <a:t>1-Rough ER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(studded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Ribosomes) - involv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roduction and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7933c"/>
                </a:solidFill>
                <a:uFillTx/>
                <a:latin typeface="Andalus"/>
                <a:ea typeface="Andalus"/>
              </a:rPr>
              <a:t>2-Smooth ER-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(no ribosomes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volved in produc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lipids, detoxification of molecu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calcium storage in muscle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*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Ribosom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ormed in nucleolu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D:\Miller_Harley\jpgs\Ch02\2-16.jpg"/>
          <p:cNvPicPr/>
          <p:nvPr/>
        </p:nvPicPr>
        <p:blipFill>
          <a:blip r:embed="rId1"/>
          <a:stretch/>
        </p:blipFill>
        <p:spPr>
          <a:xfrm>
            <a:off x="4572000" y="228600"/>
            <a:ext cx="4572000" cy="6629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185760" y="685800"/>
            <a:ext cx="4749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3-Golgi Appar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After protein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lipids are made by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Endoplasmic Ret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they may be mod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further and/or st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by the Golgi Apparatu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Miller_Harley\jpgs\Ch02\2-17.jpg"/>
          <p:cNvPicPr/>
          <p:nvPr/>
        </p:nvPicPr>
        <p:blipFill>
          <a:blip r:embed="rId1"/>
          <a:stretch/>
        </p:blipFill>
        <p:spPr>
          <a:xfrm>
            <a:off x="2286000" y="1112760"/>
            <a:ext cx="6858000" cy="57452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0" y="216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4- Lysosome</a:t>
            </a:r>
            <a:r>
              <a:rPr b="1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formed by GA, contain enzymes that break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ellular debris and foreign substances brought into the cell .(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cidic  medium  PH=5.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herifa</dc:creator>
  <dc:description/>
  <dc:language>en-US</dc:language>
  <cp:lastModifiedBy>somer</cp:lastModifiedBy>
  <dcterms:modified xsi:type="dcterms:W3CDTF">2017-02-15T06:25:50Z</dcterms:modified>
  <cp:revision>44</cp:revision>
  <dc:subject/>
  <dc:title>Animal Cell</dc:title>
</cp:coreProperties>
</file>