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A44-3BC3-4972-B6F3-30342D2743B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D52-4744-4C40-AB0C-4506A65373E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894-D71F-4C41-AF6A-8913999B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C6A-C18F-473B-A3D2-2C773E4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6B2-F58E-42E4-BC68-89566C43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4F4-C72A-4F50-82AE-F45BB848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ABA-212B-42B1-9E8A-F501DEB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3C9-ACA3-4878-A823-BF14D40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629-785F-4D83-99D6-EA63AA4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50C-3F0D-4EB6-835F-857D9E24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75C-1C4A-4A11-B9B5-4284104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6F1-FEE5-48B7-8B77-972E3D3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F44-D0FE-457C-BCBE-93F9BD5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2AB-BC81-488D-98F2-90923BF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317-2D8B-49DE-8EDB-48DF09FED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3671" r="13798" b="12111"/>
          <a:stretch/>
        </p:blipFill>
        <p:spPr>
          <a:xfrm>
            <a:off x="0" y="5076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Sherifa\Desktop\543 cytology\cytology\autophagy.JPG"/>
          <p:cNvPicPr/>
          <p:nvPr/>
        </p:nvPicPr>
        <p:blipFill>
          <a:blip r:embed="rId1"/>
          <a:stretch/>
        </p:blipFill>
        <p:spPr>
          <a:xfrm>
            <a:off x="5257800" y="76320"/>
            <a:ext cx="3505320" cy="231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Sherifa\Desktop\543 cytology\cytology\1ry lysosome.jpg"/>
          <p:cNvPicPr/>
          <p:nvPr/>
        </p:nvPicPr>
        <p:blipFill>
          <a:blip r:embed="rId2"/>
          <a:stretch/>
        </p:blipFill>
        <p:spPr>
          <a:xfrm>
            <a:off x="1219320" y="152280"/>
            <a:ext cx="267948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Sherifa\Desktop\543 cytology\cytology\autophagosome.jpg"/>
          <p:cNvPicPr/>
          <p:nvPr/>
        </p:nvPicPr>
        <p:blipFill>
          <a:blip r:embed="rId3"/>
          <a:stretch/>
        </p:blipFill>
        <p:spPr>
          <a:xfrm>
            <a:off x="0" y="3181320"/>
            <a:ext cx="9144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8991360" cy="365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5-The mitochondrion</a:t>
            </a:r>
            <a:r>
              <a:rPr b="0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it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ellular respiration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produces AT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 The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ner and outer membran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mitochondrion are evident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rist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infoldings of the inner membrane, which increase its surface are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respiratory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found in the inner membrane and th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Free ribosomes are also present in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atr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NA in th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on is a circular molecule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as own ge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late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3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6- Peroxisomes</a:t>
            </a: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ydrogen peroxid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(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is a pois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eroxisome has enzy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at convert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peroxisomes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O + 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Some peroxisomes break fatty acids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smaller molecules that are transpor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a for 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Sherifa\Desktop\543 cytology\cytology\peroxisome.jpg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7"/>
          <p:cNvCxnSpPr/>
          <p:nvPr/>
        </p:nvCxnSpPr>
        <p:spPr>
          <a:xfrm>
            <a:off x="1294920" y="289512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lationship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ong organelles of the endomembrane  system. The red arrows show some of the migration pathways for membranes and the material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encl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31296" t="17579" r="14897" b="23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32287" t="31905" r="14421" b="18100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مجموعة 45"/>
          <p:cNvGrpSpPr/>
          <p:nvPr/>
        </p:nvGrpSpPr>
        <p:grpSpPr>
          <a:xfrm>
            <a:off x="304920" y="1339920"/>
            <a:ext cx="8381880" cy="4985640"/>
            <a:chOff x="304920" y="1339920"/>
            <a:chExt cx="8381880" cy="4985640"/>
          </a:xfrm>
        </p:grpSpPr>
        <p:grpSp>
          <p:nvGrpSpPr>
            <p:cNvPr id="59" name="Group 8"/>
            <p:cNvGrpSpPr/>
            <p:nvPr/>
          </p:nvGrpSpPr>
          <p:grpSpPr>
            <a:xfrm>
              <a:off x="1523880" y="2711520"/>
              <a:ext cx="5943600" cy="2133360"/>
              <a:chOff x="1523880" y="2711520"/>
              <a:chExt cx="5943600" cy="2133360"/>
            </a:xfrm>
          </p:grpSpPr>
          <p:sp>
            <p:nvSpPr>
              <p:cNvPr id="60" name="AutoShape 7"/>
              <p:cNvSpPr/>
              <p:nvPr/>
            </p:nvSpPr>
            <p:spPr>
              <a:xfrm>
                <a:off x="1600200" y="2711520"/>
                <a:ext cx="5867280" cy="2057400"/>
              </a:xfrm>
              <a:prstGeom prst="flowChartTerminator">
                <a:avLst/>
              </a:prstGeom>
              <a:solidFill>
                <a:srgbClr val="cc00cc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"/>
              <p:cNvSpPr/>
              <p:nvPr/>
            </p:nvSpPr>
            <p:spPr>
              <a:xfrm>
                <a:off x="1523880" y="2940120"/>
                <a:ext cx="5791320" cy="190476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AutoShape 6"/>
            <p:cNvSpPr/>
            <p:nvPr/>
          </p:nvSpPr>
          <p:spPr>
            <a:xfrm>
              <a:off x="1638360" y="3041640"/>
              <a:ext cx="5562720" cy="1676160"/>
            </a:xfrm>
            <a:prstGeom prst="flowChartTerminator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1739880" y="3130560"/>
              <a:ext cx="5359320" cy="149832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2806560" y="3444840"/>
              <a:ext cx="3517920" cy="776160"/>
            </a:xfrm>
            <a:prstGeom prst="cloudCallout">
              <a:avLst>
                <a:gd name="adj1" fmla="val -34564"/>
                <a:gd name="adj2" fmla="val -868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7"/>
            <p:cNvGrpSpPr/>
            <p:nvPr/>
          </p:nvGrpSpPr>
          <p:grpSpPr>
            <a:xfrm>
              <a:off x="6934320" y="1339920"/>
              <a:ext cx="1752480" cy="1523880"/>
              <a:chOff x="6934320" y="1339920"/>
              <a:chExt cx="1752480" cy="1523880"/>
            </a:xfrm>
          </p:grpSpPr>
          <p:sp>
            <p:nvSpPr>
              <p:cNvPr id="66" name="Line 15"/>
              <p:cNvSpPr/>
              <p:nvPr/>
            </p:nvSpPr>
            <p:spPr>
              <a:xfrm flipV="1">
                <a:off x="6934320" y="1949400"/>
                <a:ext cx="761760" cy="91440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7010280" y="133992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c00cc"/>
                    </a:solidFill>
                    <a:latin typeface="Arial"/>
                  </a:rPr>
                  <a:t>Capsu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2"/>
            <p:cNvGrpSpPr/>
            <p:nvPr/>
          </p:nvGrpSpPr>
          <p:grpSpPr>
            <a:xfrm>
              <a:off x="4953240" y="1339920"/>
              <a:ext cx="1676160" cy="1675800"/>
              <a:chOff x="4953240" y="1339920"/>
              <a:chExt cx="1676160" cy="1675800"/>
            </a:xfrm>
          </p:grpSpPr>
          <p:sp>
            <p:nvSpPr>
              <p:cNvPr id="69" name="Line 20"/>
              <p:cNvSpPr/>
              <p:nvPr/>
            </p:nvSpPr>
            <p:spPr>
              <a:xfrm flipV="1">
                <a:off x="4953240" y="1949040"/>
                <a:ext cx="68544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1"/>
              <p:cNvSpPr/>
              <p:nvPr/>
            </p:nvSpPr>
            <p:spPr>
              <a:xfrm>
                <a:off x="4953240" y="133992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3300"/>
                    </a:solidFill>
                    <a:latin typeface="Arial"/>
                  </a:rPr>
                  <a:t>Cell Wal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"/>
            <p:cNvGrpSpPr/>
            <p:nvPr/>
          </p:nvGrpSpPr>
          <p:grpSpPr>
            <a:xfrm>
              <a:off x="2438280" y="1339920"/>
              <a:ext cx="2057400" cy="1790280"/>
              <a:chOff x="2438280" y="1339920"/>
              <a:chExt cx="2057400" cy="1790280"/>
            </a:xfrm>
          </p:grpSpPr>
          <p:sp>
            <p:nvSpPr>
              <p:cNvPr id="72" name="Line 23"/>
              <p:cNvSpPr/>
              <p:nvPr/>
            </p:nvSpPr>
            <p:spPr>
              <a:xfrm flipV="1">
                <a:off x="2819520" y="1987200"/>
                <a:ext cx="457200" cy="1143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4"/>
              <p:cNvSpPr/>
              <p:nvPr/>
            </p:nvSpPr>
            <p:spPr>
              <a:xfrm>
                <a:off x="2438280" y="1339920"/>
                <a:ext cx="20574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Arial"/>
                  </a:rPr>
                  <a:t>Plasma membran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8"/>
            <p:cNvGrpSpPr/>
            <p:nvPr/>
          </p:nvGrpSpPr>
          <p:grpSpPr>
            <a:xfrm>
              <a:off x="4876920" y="4311720"/>
              <a:ext cx="2057400" cy="2013840"/>
              <a:chOff x="4876920" y="4311720"/>
              <a:chExt cx="2057400" cy="2013840"/>
            </a:xfrm>
          </p:grpSpPr>
          <p:sp>
            <p:nvSpPr>
              <p:cNvPr id="75" name="Line 26"/>
              <p:cNvSpPr/>
              <p:nvPr/>
            </p:nvSpPr>
            <p:spPr>
              <a:xfrm flipH="1">
                <a:off x="5791320" y="4311720"/>
                <a:ext cx="304560" cy="1143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7"/>
              <p:cNvSpPr/>
              <p:nvPr/>
            </p:nvSpPr>
            <p:spPr>
              <a:xfrm>
                <a:off x="4876920" y="53784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Cytoplasm (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32"/>
            <p:cNvGrpSpPr/>
            <p:nvPr/>
          </p:nvGrpSpPr>
          <p:grpSpPr>
            <a:xfrm>
              <a:off x="2895480" y="3854520"/>
              <a:ext cx="2057400" cy="2044440"/>
              <a:chOff x="2895480" y="3854520"/>
              <a:chExt cx="2057400" cy="2044440"/>
            </a:xfrm>
          </p:grpSpPr>
          <p:sp>
            <p:nvSpPr>
              <p:cNvPr id="78" name="Line 30"/>
              <p:cNvSpPr/>
              <p:nvPr/>
            </p:nvSpPr>
            <p:spPr>
              <a:xfrm flipH="1">
                <a:off x="3809520" y="3854520"/>
                <a:ext cx="6858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2895480" y="537840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Nucleo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53"/>
            <p:cNvGrpSpPr/>
            <p:nvPr/>
          </p:nvGrpSpPr>
          <p:grpSpPr>
            <a:xfrm>
              <a:off x="2133720" y="3306600"/>
              <a:ext cx="4495320" cy="1218600"/>
              <a:chOff x="2133720" y="3306600"/>
              <a:chExt cx="4495320" cy="1218600"/>
            </a:xfrm>
          </p:grpSpPr>
          <p:sp>
            <p:nvSpPr>
              <p:cNvPr id="81" name="Oval 39"/>
              <p:cNvSpPr/>
              <p:nvPr/>
            </p:nvSpPr>
            <p:spPr>
              <a:xfrm>
                <a:off x="2133720" y="34585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0"/>
              <p:cNvSpPr/>
              <p:nvPr/>
            </p:nvSpPr>
            <p:spPr>
              <a:xfrm>
                <a:off x="2438280" y="414432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1"/>
              <p:cNvSpPr/>
              <p:nvPr/>
            </p:nvSpPr>
            <p:spPr>
              <a:xfrm>
                <a:off x="2209680" y="38397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2"/>
              <p:cNvSpPr/>
              <p:nvPr/>
            </p:nvSpPr>
            <p:spPr>
              <a:xfrm>
                <a:off x="4952880" y="444924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3"/>
              <p:cNvSpPr/>
              <p:nvPr/>
            </p:nvSpPr>
            <p:spPr>
              <a:xfrm>
                <a:off x="3657600" y="42969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4"/>
              <p:cNvSpPr/>
              <p:nvPr/>
            </p:nvSpPr>
            <p:spPr>
              <a:xfrm>
                <a:off x="3047760" y="43729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274320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51814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44193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35812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6476760" y="399204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6476760" y="36111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5562360" y="42969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60195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304920" y="3916080"/>
              <a:ext cx="2146320" cy="1816200"/>
              <a:chOff x="304920" y="3916080"/>
              <a:chExt cx="2146320" cy="1816200"/>
            </a:xfrm>
          </p:grpSpPr>
          <p:sp>
            <p:nvSpPr>
              <p:cNvPr id="96" name="Text Box 54"/>
              <p:cNvSpPr/>
              <p:nvPr/>
            </p:nvSpPr>
            <p:spPr>
              <a:xfrm>
                <a:off x="304920" y="521172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Ribosom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 flipV="1">
                <a:off x="1384560" y="4208400"/>
                <a:ext cx="1066680" cy="1142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 flipV="1">
                <a:off x="1371960" y="3916080"/>
                <a:ext cx="838080" cy="144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G02_01.JPG                                                    07BA800ASHARE1 on ACADSERV6            B64D79C1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B29-38D6-46FE-87AA-2230BB0AE9B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is separated from the cytoplasm by a double membrane</a:t>
            </a:r>
            <a:r>
              <a:rPr b="0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nuclear membran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r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ar membrane 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. The nucleu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ontains the cell’s genetic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6771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Miller_Harley\jpgs\Ch02\2-22.jpg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Miller_Harley\jpgs\Ch02\2-15.jpg"/>
          <p:cNvPicPr/>
          <p:nvPr/>
        </p:nvPicPr>
        <p:blipFill>
          <a:blip r:embed="rId1"/>
          <a:stretch/>
        </p:blipFill>
        <p:spPr>
          <a:xfrm>
            <a:off x="4800600" y="228600"/>
            <a:ext cx="433224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1219320"/>
            <a:ext cx="525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set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terconnected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1-Rough ER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studd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ibosomes) - involv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 an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2-Smooth ER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no ribosomes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volved in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pids, detoxification of molec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calcium storage in musc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Ribosom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med in nucleolu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Miller_Harley\jpgs\Ch02\2-16.jpg"/>
          <p:cNvPicPr/>
          <p:nvPr/>
        </p:nvPicPr>
        <p:blipFill>
          <a:blip r:embed="rId1"/>
          <a:stretch/>
        </p:blipFill>
        <p:spPr>
          <a:xfrm>
            <a:off x="4572000" y="228600"/>
            <a:ext cx="457200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85760" y="685800"/>
            <a:ext cx="47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3-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After protei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lipids are mad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they may be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further and/or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by the Golgi Apparat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Miller_Harley\jpgs\Ch02\2-17.jpg"/>
          <p:cNvPicPr/>
          <p:nvPr/>
        </p:nvPicPr>
        <p:blipFill>
          <a:blip r:embed="rId1"/>
          <a:stretch/>
        </p:blipFill>
        <p:spPr>
          <a:xfrm>
            <a:off x="2286000" y="1112760"/>
            <a:ext cx="6858000" cy="5745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216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4- Lysosome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ed by GA, contain enzymes that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 debris and foreign substances brought into the cell .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cidic  medium  PH=5.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rifa</dc:creator>
  <dc:description/>
  <dc:language>en-US</dc:language>
  <cp:lastModifiedBy>somer</cp:lastModifiedBy>
  <dcterms:modified xsi:type="dcterms:W3CDTF">2017-02-15T06:25:50Z</dcterms:modified>
  <cp:revision>44</cp:revision>
  <dc:subject/>
  <dc:title>Animal Cell</dc:title>
</cp:coreProperties>
</file>