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8A22-6ECC-48F3-A28D-2299F069439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8B29-4F1E-4C37-82AE-7F9F29192EA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968-7A6B-4A65-9323-E81487274D0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DFE-B39A-41B2-9908-DBC321B95D1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96A2-34FF-4B5A-AA37-9FAB4579275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F3E9-C018-4A56-B149-579602E90F5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239-EC71-461C-89B3-EAB90C274E8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0A0-034A-4B28-8263-54475A12A39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B541-4CCC-434A-B23A-6BA5A1D7F25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1C4-97CA-478F-A845-858DFE7482B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A39-BC45-4A4E-8D8C-4601022CCC1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B49-8208-4EF7-A34D-35224FB7E75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B64-813F-43F7-995A-25B0BA04C9C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F4D-8FB4-431C-91DF-0007CC6C89D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411D-549F-4FF4-AA06-9C13274593F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A53-C81F-4121-AE07-AF8544A91A5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345-6F61-4651-889C-1721B260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27A-2516-4994-84D7-66020D4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A7B-1AE9-4561-8734-D746D892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C19-6DFC-4C70-AF46-A7A065B0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73F-0664-4ABA-A758-F3EBBE9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025-BCDC-44FE-9B31-E467ABF2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0CF-1170-4378-8854-11F3D97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D1A-FDB1-4961-ACCB-868FD916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15F-D907-41EC-9F00-DCC72525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44A-44EE-478F-AC3A-C156A63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AF7-32CC-4353-9477-2810637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3AF-07C5-4CE0-8E5B-B3CF790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FA9-54B2-4002-96AB-5E86DE3ED34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9156600" cy="602928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مجموعة 16"/>
          <p:cNvGrpSpPr/>
          <p:nvPr/>
        </p:nvGrpSpPr>
        <p:grpSpPr>
          <a:xfrm>
            <a:off x="988920" y="1598760"/>
            <a:ext cx="5792760" cy="3659040"/>
            <a:chOff x="988920" y="1598760"/>
            <a:chExt cx="5792760" cy="3659040"/>
          </a:xfrm>
        </p:grpSpPr>
        <p:sp>
          <p:nvSpPr>
            <p:cNvPr id="114" name="رابط مستقيم 12"/>
            <p:cNvSpPr/>
            <p:nvPr/>
          </p:nvSpPr>
          <p:spPr>
            <a:xfrm>
              <a:off x="990360" y="289260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رابط مستقيم 11"/>
            <p:cNvSpPr/>
            <p:nvPr/>
          </p:nvSpPr>
          <p:spPr>
            <a:xfrm>
              <a:off x="990360" y="38847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رابط مستقيم 8"/>
            <p:cNvSpPr/>
            <p:nvPr/>
          </p:nvSpPr>
          <p:spPr>
            <a:xfrm>
              <a:off x="990360" y="52563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مستطيل 5"/>
            <p:cNvSpPr/>
            <p:nvPr/>
          </p:nvSpPr>
          <p:spPr>
            <a:xfrm>
              <a:off x="990360" y="1598760"/>
              <a:ext cx="5791320" cy="52056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Glands can be classified according to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رابط مستقيم 7"/>
            <p:cNvSpPr/>
            <p:nvPr/>
          </p:nvSpPr>
          <p:spPr>
            <a:xfrm flipH="1">
              <a:off x="988920" y="2133720"/>
              <a:ext cx="1440" cy="3122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مجموعة 1"/>
          <p:cNvGrpSpPr/>
          <p:nvPr/>
        </p:nvGrpSpPr>
        <p:grpSpPr>
          <a:xfrm>
            <a:off x="453960" y="2438280"/>
            <a:ext cx="8690040" cy="3005280"/>
            <a:chOff x="453960" y="2438280"/>
            <a:chExt cx="8690040" cy="3005280"/>
          </a:xfrm>
        </p:grpSpPr>
        <p:sp>
          <p:nvSpPr>
            <p:cNvPr id="120" name="مستطيل ذو زاويتين مستديرتين في نفس الجانب 5"/>
            <p:cNvSpPr/>
            <p:nvPr/>
          </p:nvSpPr>
          <p:spPr>
            <a:xfrm rot="5400000">
              <a:off x="3205800" y="-40680"/>
              <a:ext cx="3005280" cy="79632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مستطيل 6"/>
            <p:cNvSpPr/>
            <p:nvPr/>
          </p:nvSpPr>
          <p:spPr>
            <a:xfrm>
              <a:off x="453960" y="2666880"/>
              <a:ext cx="8690040" cy="27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unicellular glands consists of one cell (goblet cell of small intestine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multicellular glands composed of cluster  of ce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مجموعة 2"/>
          <p:cNvGrpSpPr/>
          <p:nvPr/>
        </p:nvGrpSpPr>
        <p:grpSpPr>
          <a:xfrm>
            <a:off x="609480" y="1143000"/>
            <a:ext cx="3353040" cy="990720"/>
            <a:chOff x="609480" y="1143000"/>
            <a:chExt cx="3353040" cy="990720"/>
          </a:xfrm>
        </p:grpSpPr>
        <p:sp>
          <p:nvSpPr>
            <p:cNvPr id="123" name="مستطيل مستدير الزوايا 3"/>
            <p:cNvSpPr/>
            <p:nvPr/>
          </p:nvSpPr>
          <p:spPr>
            <a:xfrm>
              <a:off x="609480" y="1143000"/>
              <a:ext cx="335304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مستطيل 4"/>
            <p:cNvSpPr/>
            <p:nvPr/>
          </p:nvSpPr>
          <p:spPr>
            <a:xfrm>
              <a:off x="733320" y="1190520"/>
              <a:ext cx="310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number of cel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مجموعة 1"/>
          <p:cNvGrpSpPr/>
          <p:nvPr/>
        </p:nvGrpSpPr>
        <p:grpSpPr>
          <a:xfrm>
            <a:off x="685800" y="2382840"/>
            <a:ext cx="8229600" cy="3484440"/>
            <a:chOff x="685800" y="2382840"/>
            <a:chExt cx="8229600" cy="3484440"/>
          </a:xfrm>
        </p:grpSpPr>
        <p:sp>
          <p:nvSpPr>
            <p:cNvPr id="126" name="مستطيل ذو زاويتين مستديرتين في نفس الجانب 5"/>
            <p:cNvSpPr/>
            <p:nvPr/>
          </p:nvSpPr>
          <p:spPr>
            <a:xfrm rot="5400000">
              <a:off x="3058200" y="10080"/>
              <a:ext cx="3484440" cy="82296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مستطيل 6"/>
            <p:cNvSpPr/>
            <p:nvPr/>
          </p:nvSpPr>
          <p:spPr>
            <a:xfrm>
              <a:off x="685800" y="2552400"/>
              <a:ext cx="8087040" cy="31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 Exocrine(in which secretion is released  through ducts (salivary glands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Endocrine glands (secretion released directly to the blood) thyroid  gland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Mixed glands (endocine and exocrine)----pancreas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مجموعة 2"/>
          <p:cNvGrpSpPr/>
          <p:nvPr/>
        </p:nvGrpSpPr>
        <p:grpSpPr>
          <a:xfrm>
            <a:off x="76320" y="914400"/>
            <a:ext cx="7848360" cy="1219320"/>
            <a:chOff x="76320" y="914400"/>
            <a:chExt cx="7848360" cy="1219320"/>
          </a:xfrm>
        </p:grpSpPr>
        <p:sp>
          <p:nvSpPr>
            <p:cNvPr id="129" name="مستطيل مستدير الزوايا 3"/>
            <p:cNvSpPr/>
            <p:nvPr/>
          </p:nvSpPr>
          <p:spPr>
            <a:xfrm>
              <a:off x="76320" y="914400"/>
              <a:ext cx="7848360" cy="12193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مستطيل 4"/>
            <p:cNvSpPr/>
            <p:nvPr/>
          </p:nvSpPr>
          <p:spPr>
            <a:xfrm>
              <a:off x="458640" y="960120"/>
              <a:ext cx="708336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The presence or absence of a duct system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1"/>
          <p:cNvGrpSpPr/>
          <p:nvPr/>
        </p:nvGrpSpPr>
        <p:grpSpPr>
          <a:xfrm>
            <a:off x="1082520" y="2154240"/>
            <a:ext cx="7375680" cy="3408480"/>
            <a:chOff x="1082520" y="2154240"/>
            <a:chExt cx="7375680" cy="3408480"/>
          </a:xfrm>
        </p:grpSpPr>
        <p:sp>
          <p:nvSpPr>
            <p:cNvPr id="132" name="مستطيل ذو زاويتين مستديرتين في نفس الجانب 5"/>
            <p:cNvSpPr/>
            <p:nvPr/>
          </p:nvSpPr>
          <p:spPr>
            <a:xfrm rot="5400000">
              <a:off x="3066120" y="170280"/>
              <a:ext cx="3408480" cy="737568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مستطيل 6"/>
            <p:cNvSpPr/>
            <p:nvPr/>
          </p:nvSpPr>
          <p:spPr>
            <a:xfrm>
              <a:off x="1082520" y="2320920"/>
              <a:ext cx="7247160" cy="30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r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o  loss  of its cellular  material) pancreas (exocytosi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l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(complete destruction of the cell)---sebaceous  gl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pocrine 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   secretory  product is discharged  with apical parts of the  cytoplasm) ----mammary gland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مجموعة 2"/>
          <p:cNvGrpSpPr/>
          <p:nvPr/>
        </p:nvGrpSpPr>
        <p:grpSpPr>
          <a:xfrm>
            <a:off x="152280" y="990720"/>
            <a:ext cx="7467840" cy="811080"/>
            <a:chOff x="152280" y="990720"/>
            <a:chExt cx="7467840" cy="811080"/>
          </a:xfrm>
        </p:grpSpPr>
        <p:sp>
          <p:nvSpPr>
            <p:cNvPr id="135" name="مستطيل مستدير الزوايا 3"/>
            <p:cNvSpPr/>
            <p:nvPr/>
          </p:nvSpPr>
          <p:spPr>
            <a:xfrm>
              <a:off x="152280" y="990720"/>
              <a:ext cx="7467840" cy="811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مستطيل 4"/>
            <p:cNvSpPr/>
            <p:nvPr/>
          </p:nvSpPr>
          <p:spPr>
            <a:xfrm>
              <a:off x="517320" y="1023840"/>
              <a:ext cx="6737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ccording to the mode of secretion (mechanis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مجموعة 5"/>
          <p:cNvGrpSpPr/>
          <p:nvPr/>
        </p:nvGrpSpPr>
        <p:grpSpPr>
          <a:xfrm>
            <a:off x="176040" y="1176480"/>
            <a:ext cx="8791920" cy="4843440"/>
            <a:chOff x="176040" y="1176480"/>
            <a:chExt cx="8791920" cy="48434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1176480"/>
              <a:ext cx="8791920" cy="45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838080" y="5639040"/>
              <a:ext cx="16477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"/>
            <p:cNvPicPr/>
            <p:nvPr/>
          </p:nvPicPr>
          <p:blipFill>
            <a:blip r:embed="rId3"/>
            <a:stretch/>
          </p:blipFill>
          <p:spPr>
            <a:xfrm>
              <a:off x="4038480" y="5639040"/>
              <a:ext cx="14763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6934320" y="5658120"/>
              <a:ext cx="161928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رابط مستقيم 12"/>
          <p:cNvSpPr/>
          <p:nvPr/>
        </p:nvSpPr>
        <p:spPr>
          <a:xfrm>
            <a:off x="380880" y="19051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رابط مستقيم 11"/>
          <p:cNvSpPr/>
          <p:nvPr/>
        </p:nvSpPr>
        <p:spPr>
          <a:xfrm>
            <a:off x="380880" y="3732120"/>
            <a:ext cx="457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رابط مستقيم 8"/>
          <p:cNvSpPr/>
          <p:nvPr/>
        </p:nvSpPr>
        <p:spPr>
          <a:xfrm>
            <a:off x="380880" y="57913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رسم تخطيطي 3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9156960" cy="60483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مستطيل 5"/>
          <p:cNvSpPr/>
          <p:nvPr/>
        </p:nvSpPr>
        <p:spPr>
          <a:xfrm>
            <a:off x="736560" y="457200"/>
            <a:ext cx="37242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lands can be classified according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رابط مستقيم 7"/>
          <p:cNvSpPr/>
          <p:nvPr/>
        </p:nvSpPr>
        <p:spPr>
          <a:xfrm flipH="1">
            <a:off x="379440" y="457200"/>
            <a:ext cx="1440" cy="5335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85B-6B44-4B74-81CD-38660FE058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ular  tissue is composed of long cells calle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capable of contracting when stimulated by nerve impul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has large numbers of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fibr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de of the contractile proteins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sliding  fila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pted  as the mechanism  that accounts  for muscular contr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762120" y="4191120"/>
            <a:ext cx="7772400" cy="2666880"/>
            <a:chOff x="762120" y="4191120"/>
            <a:chExt cx="7772400" cy="2666880"/>
          </a:xfrm>
        </p:grpSpPr>
        <p:pic>
          <p:nvPicPr>
            <p:cNvPr id="152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41911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762120" y="41911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  <p:grpSp>
        <p:nvGrpSpPr>
          <p:cNvPr id="154" name="مستطيل 6"/>
          <p:cNvGrpSpPr/>
          <p:nvPr/>
        </p:nvGrpSpPr>
        <p:grpSpPr>
          <a:xfrm>
            <a:off x="1500120" y="-49320"/>
            <a:ext cx="5729400" cy="1274760"/>
            <a:chOff x="1500120" y="-49320"/>
            <a:chExt cx="5729400" cy="1274760"/>
          </a:xfrm>
        </p:grpSpPr>
        <p:pic>
          <p:nvPicPr>
            <p:cNvPr id="155" name="مستطيل 6" descr=""/>
            <p:cNvPicPr/>
            <p:nvPr/>
          </p:nvPicPr>
          <p:blipFill>
            <a:blip r:embed="rId3"/>
            <a:stretch/>
          </p:blipFill>
          <p:spPr>
            <a:xfrm>
              <a:off x="1500120" y="-49320"/>
              <a:ext cx="57294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40880" y="76320"/>
              <a:ext cx="54414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2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Muscular tissu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( 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skeletal, smooth, cardiac muscles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1920" y="1798560"/>
            <a:ext cx="3048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 Skeletal  muscl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to the skeleton and is concerned with body mov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Cardiac 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the contractile portion of the heart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Smooth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xhibit striations. It is found as part of the walls of the visce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مستطيل 5"/>
          <p:cNvSpPr/>
          <p:nvPr/>
        </p:nvSpPr>
        <p:spPr>
          <a:xfrm>
            <a:off x="30492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There are three types of muscle tissue in the vertebrate body</a:t>
            </a: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276720" y="129528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31847" t="17579" r="14897" b="15039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rcRect l="34627" t="17776" r="16510" b="16796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2394" t="16604" r="14897" b="14065"/>
          <a:stretch/>
        </p:blipFill>
        <p:spPr>
          <a:xfrm>
            <a:off x="0" y="0"/>
            <a:ext cx="9272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عنصر نائب للمحتوى 4" descr="tissues.png"/>
          <p:cNvPicPr/>
          <p:nvPr/>
        </p:nvPicPr>
        <p:blipFill>
          <a:blip r:embed="rId2"/>
          <a:stretch/>
        </p:blipFill>
        <p:spPr>
          <a:xfrm>
            <a:off x="428760" y="121428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533520" y="4572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stolog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science which deals  with the microstructur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ic tissue type is a group of similar cell and able to perform a commo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body is composed of only four basic tissue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رسم تخطيطي 13" descr=""/>
          <p:cNvPicPr/>
          <p:nvPr/>
        </p:nvPicPr>
        <p:blipFill>
          <a:blip r:embed="rId1"/>
          <a:stretch/>
        </p:blipFill>
        <p:spPr>
          <a:xfrm>
            <a:off x="231840" y="2664000"/>
            <a:ext cx="8766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32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animals, combinations of various tissues make up functional units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ups of organs that work together fo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human digestiv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consists of a stomach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mall intestine, large intestine, and several other organs, each a composite of different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nnective-muscles-nervous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مجموعة 23"/>
          <p:cNvGrpSpPr/>
          <p:nvPr/>
        </p:nvGrpSpPr>
        <p:grpSpPr>
          <a:xfrm>
            <a:off x="533520" y="3048120"/>
            <a:ext cx="8153280" cy="3733560"/>
            <a:chOff x="533520" y="3048120"/>
            <a:chExt cx="8153280" cy="3733560"/>
          </a:xfrm>
        </p:grpSpPr>
        <p:pic>
          <p:nvPicPr>
            <p:cNvPr id="58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048120"/>
              <a:ext cx="3870360" cy="373356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59" name="Picture 2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4038480" cy="372420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520" y="1066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ns covering body surface  and lining body cavity. </a:t>
            </a:r>
            <a:br>
              <a:rPr sz="1900"/>
            </a:b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eneral  characters of epithelial tissu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closely aggregated with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very little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ellular substance (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matrix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acid mucopolysaccharides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regular in shape .They are held tightly together by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  junctional compl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al cells are firmly bound to the underlying CT by a thin membrane called 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basement membran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od vessels do not penetrate the epithelium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(avascular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can be derived from all three embryonic germ layer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ct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------------ epidermis of the sk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nd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epithelium of alimentary ca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mes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kidne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is in a continuous process of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degener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regeneration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has a high mitotic activity .It has a high renewal ra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مستطيل 3"/>
          <p:cNvGrpSpPr/>
          <p:nvPr/>
        </p:nvGrpSpPr>
        <p:grpSpPr>
          <a:xfrm>
            <a:off x="2627280" y="60480"/>
            <a:ext cx="4170240" cy="834840"/>
            <a:chOff x="2627280" y="60480"/>
            <a:chExt cx="4170240" cy="834840"/>
          </a:xfrm>
        </p:grpSpPr>
        <p:pic>
          <p:nvPicPr>
            <p:cNvPr id="62" name="مستطيل 3" descr=""/>
            <p:cNvPicPr/>
            <p:nvPr/>
          </p:nvPicPr>
          <p:blipFill>
            <a:blip r:embed="rId1"/>
            <a:stretch/>
          </p:blipFill>
          <p:spPr>
            <a:xfrm>
              <a:off x="2627280" y="60480"/>
              <a:ext cx="4170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08720" y="177840"/>
              <a:ext cx="376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1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Epithelial Tissue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1216080"/>
          <a:ext cx="8610480" cy="4727520"/>
        </p:xfrm>
        <a:graphic>
          <a:graphicData uri="http://schemas.openxmlformats.org/drawingml/2006/table">
            <a:tbl>
              <a:tblPr/>
              <a:tblGrid>
                <a:gridCol w="2684520"/>
                <a:gridCol w="59259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Protection  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he underlying CT----against injuries, bacteria and chemicals (skin –stomach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Secretory   :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pithelium is specialized for producing secretion (glandular epithel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- 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Absorption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mall intestine-kidn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Reprodu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inal epithelium of testis and 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Contra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oepithelial cells are contractile in  func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-Neuroepithelium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pecialized in perception of external stimuli   ex. (taste buds  of tongue)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Title 1"/>
          <p:cNvSpPr/>
          <p:nvPr/>
        </p:nvSpPr>
        <p:spPr>
          <a:xfrm>
            <a:off x="990720" y="457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 Functions  of epithel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مجموعة 39"/>
          <p:cNvGrpSpPr/>
          <p:nvPr/>
        </p:nvGrpSpPr>
        <p:grpSpPr>
          <a:xfrm>
            <a:off x="380880" y="1447920"/>
            <a:ext cx="8458200" cy="4254480"/>
            <a:chOff x="380880" y="1447920"/>
            <a:chExt cx="8458200" cy="4254480"/>
          </a:xfrm>
        </p:grpSpPr>
        <p:grpSp>
          <p:nvGrpSpPr>
            <p:cNvPr id="67" name="مجموعة 35"/>
            <p:cNvGrpSpPr/>
            <p:nvPr/>
          </p:nvGrpSpPr>
          <p:grpSpPr>
            <a:xfrm>
              <a:off x="380880" y="1447920"/>
              <a:ext cx="8458200" cy="4254480"/>
              <a:chOff x="380880" y="1447920"/>
              <a:chExt cx="8458200" cy="4254480"/>
            </a:xfrm>
          </p:grpSpPr>
          <p:grpSp>
            <p:nvGrpSpPr>
              <p:cNvPr id="68" name="مجموعة 32"/>
              <p:cNvGrpSpPr/>
              <p:nvPr/>
            </p:nvGrpSpPr>
            <p:grpSpPr>
              <a:xfrm>
                <a:off x="380880" y="1447920"/>
                <a:ext cx="8458200" cy="4254480"/>
                <a:chOff x="380880" y="1447920"/>
                <a:chExt cx="8458200" cy="4254480"/>
              </a:xfrm>
            </p:grpSpPr>
            <p:grpSp>
              <p:nvGrpSpPr>
                <p:cNvPr id="69" name="مجموعة 4"/>
                <p:cNvGrpSpPr/>
                <p:nvPr/>
              </p:nvGrpSpPr>
              <p:grpSpPr>
                <a:xfrm>
                  <a:off x="380880" y="2350440"/>
                  <a:ext cx="3759120" cy="705600"/>
                  <a:chOff x="380880" y="2350440"/>
                  <a:chExt cx="3759120" cy="705600"/>
                </a:xfrm>
              </p:grpSpPr>
              <p:sp>
                <p:nvSpPr>
                  <p:cNvPr id="70" name="مستطيل مستدير الزوايا 30"/>
                  <p:cNvSpPr/>
                  <p:nvPr/>
                </p:nvSpPr>
                <p:spPr>
                  <a:xfrm>
                    <a:off x="38088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مستطيل 31"/>
                  <p:cNvSpPr/>
                  <p:nvPr/>
                </p:nvSpPr>
                <p:spPr>
                  <a:xfrm>
                    <a:off x="43632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A-number of layer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2" name="رابط مستقيم 5"/>
                <p:cNvSpPr/>
                <p:nvPr/>
              </p:nvSpPr>
              <p:spPr>
                <a:xfrm>
                  <a:off x="75708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" name="مجموعة 6"/>
                <p:cNvGrpSpPr/>
                <p:nvPr/>
              </p:nvGrpSpPr>
              <p:grpSpPr>
                <a:xfrm>
                  <a:off x="1132560" y="3232440"/>
                  <a:ext cx="3007440" cy="705600"/>
                  <a:chOff x="1132560" y="3232440"/>
                  <a:chExt cx="3007440" cy="705600"/>
                </a:xfrm>
              </p:grpSpPr>
              <p:sp>
                <p:nvSpPr>
                  <p:cNvPr id="74" name="مستطيل مستدير الزوايا 28"/>
                  <p:cNvSpPr/>
                  <p:nvPr/>
                </p:nvSpPr>
                <p:spPr>
                  <a:xfrm>
                    <a:off x="113256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مستطيل 29"/>
                  <p:cNvSpPr/>
                  <p:nvPr/>
                </p:nvSpPr>
                <p:spPr>
                  <a:xfrm>
                    <a:off x="118800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imple epithelium (one layer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6" name="رابط مستقيم 8"/>
                <p:cNvSpPr/>
                <p:nvPr/>
              </p:nvSpPr>
              <p:spPr>
                <a:xfrm>
                  <a:off x="757080" y="3056040"/>
                  <a:ext cx="376200" cy="141120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مجموعة 8"/>
                <p:cNvGrpSpPr/>
                <p:nvPr/>
              </p:nvGrpSpPr>
              <p:grpSpPr>
                <a:xfrm>
                  <a:off x="1132560" y="4114800"/>
                  <a:ext cx="3007440" cy="705600"/>
                  <a:chOff x="1132560" y="4114800"/>
                  <a:chExt cx="3007440" cy="705600"/>
                </a:xfrm>
              </p:grpSpPr>
              <p:sp>
                <p:nvSpPr>
                  <p:cNvPr id="78" name="مستطيل مستدير الزوايا 26"/>
                  <p:cNvSpPr/>
                  <p:nvPr/>
                </p:nvSpPr>
                <p:spPr>
                  <a:xfrm>
                    <a:off x="1132560" y="4114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مستطيل 27"/>
                  <p:cNvSpPr/>
                  <p:nvPr/>
                </p:nvSpPr>
                <p:spPr>
                  <a:xfrm>
                    <a:off x="1188000" y="4135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tratified epithelium </a:t>
                    </a: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more than  one lay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" name="مجموعة 9"/>
                <p:cNvGrpSpPr/>
                <p:nvPr/>
              </p:nvGrpSpPr>
              <p:grpSpPr>
                <a:xfrm>
                  <a:off x="5079960" y="2350440"/>
                  <a:ext cx="3759120" cy="705600"/>
                  <a:chOff x="5079960" y="2350440"/>
                  <a:chExt cx="3759120" cy="705600"/>
                </a:xfrm>
              </p:grpSpPr>
              <p:sp>
                <p:nvSpPr>
                  <p:cNvPr id="81" name="مستطيل مستدير الزوايا 24"/>
                  <p:cNvSpPr/>
                  <p:nvPr/>
                </p:nvSpPr>
                <p:spPr>
                  <a:xfrm>
                    <a:off x="507996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مستطيل 25"/>
                  <p:cNvSpPr/>
                  <p:nvPr/>
                </p:nvSpPr>
                <p:spPr>
                  <a:xfrm>
                    <a:off x="513540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B-Shape of cell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3" name="رابط مستقيم 13"/>
                <p:cNvSpPr/>
                <p:nvPr/>
              </p:nvSpPr>
              <p:spPr>
                <a:xfrm>
                  <a:off x="545616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4" name="مجموعة 11"/>
                <p:cNvGrpSpPr/>
                <p:nvPr/>
              </p:nvGrpSpPr>
              <p:grpSpPr>
                <a:xfrm>
                  <a:off x="5831640" y="3232440"/>
                  <a:ext cx="3007440" cy="705600"/>
                  <a:chOff x="5831640" y="3232440"/>
                  <a:chExt cx="3007440" cy="705600"/>
                </a:xfrm>
              </p:grpSpPr>
              <p:sp>
                <p:nvSpPr>
                  <p:cNvPr id="85" name="مستطيل مستدير الزوايا 22"/>
                  <p:cNvSpPr/>
                  <p:nvPr/>
                </p:nvSpPr>
                <p:spPr>
                  <a:xfrm>
                    <a:off x="583164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" name="مستطيل 23"/>
                  <p:cNvSpPr/>
                  <p:nvPr/>
                </p:nvSpPr>
                <p:spPr>
                  <a:xfrm>
                    <a:off x="588708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quamous(flat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7" name="مجموعة 12"/>
                <p:cNvGrpSpPr/>
                <p:nvPr/>
              </p:nvGrpSpPr>
              <p:grpSpPr>
                <a:xfrm>
                  <a:off x="5715000" y="4114800"/>
                  <a:ext cx="3124080" cy="704880"/>
                  <a:chOff x="5715000" y="4114800"/>
                  <a:chExt cx="3124080" cy="704880"/>
                </a:xfrm>
              </p:grpSpPr>
              <p:sp>
                <p:nvSpPr>
                  <p:cNvPr id="88" name="مستطيل مستدير الزوايا 20"/>
                  <p:cNvSpPr/>
                  <p:nvPr/>
                </p:nvSpPr>
                <p:spPr>
                  <a:xfrm>
                    <a:off x="5832360" y="4114800"/>
                    <a:ext cx="3006720" cy="704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" name="مستطيل 21"/>
                  <p:cNvSpPr/>
                  <p:nvPr/>
                </p:nvSpPr>
                <p:spPr>
                  <a:xfrm>
                    <a:off x="5715000" y="4135320"/>
                    <a:ext cx="306864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uboidal  (Height =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0" name="رابط مستقيم 18"/>
                <p:cNvSpPr/>
                <p:nvPr/>
              </p:nvSpPr>
              <p:spPr>
                <a:xfrm>
                  <a:off x="5456160" y="3056040"/>
                  <a:ext cx="376200" cy="229392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1" name="مجموعة 14"/>
                <p:cNvGrpSpPr/>
                <p:nvPr/>
              </p:nvGrpSpPr>
              <p:grpSpPr>
                <a:xfrm>
                  <a:off x="5831640" y="4996800"/>
                  <a:ext cx="3007440" cy="705600"/>
                  <a:chOff x="5831640" y="4996800"/>
                  <a:chExt cx="3007440" cy="705600"/>
                </a:xfrm>
              </p:grpSpPr>
              <p:sp>
                <p:nvSpPr>
                  <p:cNvPr id="92" name="مستطيل مستدير الزوايا 18"/>
                  <p:cNvSpPr/>
                  <p:nvPr/>
                </p:nvSpPr>
                <p:spPr>
                  <a:xfrm>
                    <a:off x="5831640" y="4996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مستطيل 19"/>
                  <p:cNvSpPr/>
                  <p:nvPr/>
                </p:nvSpPr>
                <p:spPr>
                  <a:xfrm>
                    <a:off x="5887080" y="5017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3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olumnar (Hight is 2-5 greater than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" name="مجموعة 15"/>
                <p:cNvGrpSpPr/>
                <p:nvPr/>
              </p:nvGrpSpPr>
              <p:grpSpPr>
                <a:xfrm>
                  <a:off x="492120" y="1447920"/>
                  <a:ext cx="7696440" cy="705600"/>
                  <a:chOff x="492120" y="1447920"/>
                  <a:chExt cx="7696440" cy="705600"/>
                </a:xfrm>
              </p:grpSpPr>
              <p:sp>
                <p:nvSpPr>
                  <p:cNvPr id="95" name="مستطيل مستدير الزوايا 16"/>
                  <p:cNvSpPr/>
                  <p:nvPr/>
                </p:nvSpPr>
                <p:spPr>
                  <a:xfrm>
                    <a:off x="492120" y="1447920"/>
                    <a:ext cx="7696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مستطيل 17"/>
                  <p:cNvSpPr/>
                  <p:nvPr/>
                </p:nvSpPr>
                <p:spPr>
                  <a:xfrm>
                    <a:off x="547560" y="1468440"/>
                    <a:ext cx="7585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400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Classification of epithelia according to</a:t>
                    </a: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97" name="رابط مستقيم 13"/>
              <p:cNvSpPr/>
              <p:nvPr/>
            </p:nvSpPr>
            <p:spPr>
              <a:xfrm>
                <a:off x="5486400" y="4043520"/>
                <a:ext cx="457200" cy="528480"/>
              </a:xfrm>
              <a:prstGeom prst="pie">
                <a:avLst/>
              </a:prstGeom>
              <a:noFill/>
              <a:ln w="25560">
                <a:solidFill>
                  <a:srgbClr val="3d6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" name="رابط مستقيم 37"/>
            <p:cNvSpPr/>
            <p:nvPr/>
          </p:nvSpPr>
          <p:spPr>
            <a:xfrm flipH="1">
              <a:off x="2131920" y="2057400"/>
              <a:ext cx="288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رابط مستقيم 38"/>
            <p:cNvSpPr/>
            <p:nvPr/>
          </p:nvSpPr>
          <p:spPr>
            <a:xfrm flipH="1">
              <a:off x="7085160" y="2057400"/>
              <a:ext cx="144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6"/>
          <p:cNvSpPr/>
          <p:nvPr/>
        </p:nvSpPr>
        <p:spPr>
          <a:xfrm>
            <a:off x="2079000" y="53352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ssification of the epith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290600"/>
          <a:ext cx="8686800" cy="5367240"/>
        </p:xfrm>
        <a:graphic>
          <a:graphicData uri="http://schemas.openxmlformats.org/drawingml/2006/table">
            <a:tbl>
              <a:tblPr/>
              <a:tblGrid>
                <a:gridCol w="5446440"/>
                <a:gridCol w="3240360"/>
              </a:tblGrid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imple squamous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hedral in shape and oval nuclei ,(thin to allow material transport-filteration (kidney, lung, blood vesse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Endothelium ------in blood vessels and lymph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esothelium------in perito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imple cuboidal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 where ion exchange is required (kidney proximal tubul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imple columnar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 non –ciliated  columnar(Digestive tr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ciliated   columnar  (ovidu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1"/>
          <a:srcRect l="4998" t="36460" r="67503" b="34098"/>
          <a:stretch/>
        </p:blipFill>
        <p:spPr>
          <a:xfrm>
            <a:off x="6019920" y="3657600"/>
            <a:ext cx="289548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924520" y="1600200"/>
            <a:ext cx="2990880" cy="92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rcRect l="0" t="0" r="0" b="2279"/>
          <a:stretch/>
        </p:blipFill>
        <p:spPr>
          <a:xfrm>
            <a:off x="5848200" y="5029200"/>
            <a:ext cx="2990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مستطيل 9"/>
          <p:cNvSpPr/>
          <p:nvPr/>
        </p:nvSpPr>
        <p:spPr>
          <a:xfrm>
            <a:off x="152280" y="528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 on the last two criteria  we classify the epithe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62120"/>
          <a:ext cx="8686800" cy="5295960"/>
        </p:xfrm>
        <a:graphic>
          <a:graphicData uri="http://schemas.openxmlformats.org/drawingml/2006/table">
            <a:tbl>
              <a:tblPr/>
              <a:tblGrid>
                <a:gridCol w="5154480"/>
                <a:gridCol w="3532320"/>
              </a:tblGrid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ratified squamo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non-keratinized (esophagu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keratinized (sk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Pseudostratified ciliated  columnar epitheliun (trache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Transitional  epithelium (urinary bladde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 full                     b-emp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4" descr=""/>
          <p:cNvPicPr/>
          <p:nvPr/>
        </p:nvPicPr>
        <p:blipFill>
          <a:blip r:embed="rId1"/>
          <a:srcRect l="68340" t="2803" r="0" b="62142"/>
          <a:stretch/>
        </p:blipFill>
        <p:spPr>
          <a:xfrm>
            <a:off x="5715000" y="838080"/>
            <a:ext cx="289548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572080" y="2438280"/>
            <a:ext cx="296244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3.gstatic.com/images?q=tbn:ANd9GcSOkaeVA8no62ZVYWkNxKnlXxFudYvBev0h-_Rm3V5PHlPKMvv6"/>
          <p:cNvPicPr/>
          <p:nvPr/>
        </p:nvPicPr>
        <p:blipFill>
          <a:blip r:embed="rId3"/>
          <a:stretch/>
        </p:blipFill>
        <p:spPr>
          <a:xfrm>
            <a:off x="5257800" y="3809880"/>
            <a:ext cx="17002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PTShape_0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770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5:51:13Z</dcterms:created>
  <dc:creator>DELL</dc:creator>
  <dc:description/>
  <dc:language>en-US</dc:language>
  <cp:lastModifiedBy>DELL</cp:lastModifiedBy>
  <dcterms:modified xsi:type="dcterms:W3CDTF">2013-09-23T06:18:23Z</dcterms:modified>
  <cp:revision>5</cp:revision>
  <dc:subject/>
  <dc:title>الشريحة 1</dc:title>
</cp:coreProperties>
</file>