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A7FB-D7A1-482C-B9B9-A60F50D796F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0E6A-9E0F-4D4E-82F4-30DF2205669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B92B-9841-4FEE-8A47-CACA7C50ABA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CEE6-2DB7-4CCF-A2F9-6A5294081E5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2F6D-AA30-4CB5-8093-77CBE81CB75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85CB-F260-4CFD-A571-BCB2DB707D8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17EA-9AAE-4548-8D35-F60BA016C3F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5FA2-4123-4EDF-B38D-E89EB0BCC0D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AE63-3913-422E-87C7-53857C854EE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5A4F-4C96-40B8-A8AB-284A41C92C7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27D4-6A9A-4856-B42A-707DAF7D5F6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F618-C2CB-4E5A-B29D-DFFE3205E89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D592-E3CD-4885-B134-7B20B799D6E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5B8F-4114-4B3F-8435-E58787FF940A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45C7-A30C-4645-86DE-5A13621F9FA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4566-0C8B-4A2F-9E13-F65E9D25DF6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13F-1B38-4D38-8907-9BE12D1B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56A-2A3D-4F79-A678-371EAC91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0D6-DD6E-4858-B0DD-5DFD7F77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D7E0-02B9-4578-A8BC-A9CFA8EB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2B8-66C8-45AA-A308-A3668670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873-777E-419A-B853-E1DF2743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504-60A2-405E-B1CE-24EC3980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F1A-430D-453F-91D0-730CC72F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8B95-9047-4E32-89A6-B1BE08F3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234-64F1-4FBC-ADD3-D501AC9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AF9-EBE8-4298-82D9-CE9109D7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BE8-224F-4ECD-9ECC-5E55A35F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6161-6716-4250-88FE-7A743A960BC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349" b="12697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رسم تخطيطي 3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9156600" cy="6029280"/>
          </a:xfrm>
          <a:prstGeom prst="rect">
            <a:avLst/>
          </a:prstGeom>
          <a:ln w="0">
            <a:noFill/>
          </a:ln>
        </p:spPr>
      </p:pic>
      <p:sp>
        <p:nvSpPr>
          <p:cNvPr id="112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I-glandular epitheli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مجموعة 16"/>
          <p:cNvGrpSpPr/>
          <p:nvPr/>
        </p:nvGrpSpPr>
        <p:grpSpPr>
          <a:xfrm>
            <a:off x="988920" y="1598760"/>
            <a:ext cx="5792760" cy="3659040"/>
            <a:chOff x="988920" y="1598760"/>
            <a:chExt cx="5792760" cy="3659040"/>
          </a:xfrm>
        </p:grpSpPr>
        <p:sp>
          <p:nvSpPr>
            <p:cNvPr id="114" name="رابط مستقيم 12"/>
            <p:cNvSpPr/>
            <p:nvPr/>
          </p:nvSpPr>
          <p:spPr>
            <a:xfrm>
              <a:off x="990360" y="289260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رابط مستقيم 11"/>
            <p:cNvSpPr/>
            <p:nvPr/>
          </p:nvSpPr>
          <p:spPr>
            <a:xfrm>
              <a:off x="990360" y="388476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رابط مستقيم 8"/>
            <p:cNvSpPr/>
            <p:nvPr/>
          </p:nvSpPr>
          <p:spPr>
            <a:xfrm>
              <a:off x="990360" y="5256360"/>
              <a:ext cx="457200" cy="14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مستطيل 5"/>
            <p:cNvSpPr/>
            <p:nvPr/>
          </p:nvSpPr>
          <p:spPr>
            <a:xfrm>
              <a:off x="990360" y="1598760"/>
              <a:ext cx="5791320" cy="520560"/>
            </a:xfrm>
            <a:prstGeom prst="rect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Glands can be classified according to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رابط مستقيم 7"/>
            <p:cNvSpPr/>
            <p:nvPr/>
          </p:nvSpPr>
          <p:spPr>
            <a:xfrm flipH="1">
              <a:off x="988920" y="2133720"/>
              <a:ext cx="1440" cy="3122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مجموعة 1"/>
          <p:cNvGrpSpPr/>
          <p:nvPr/>
        </p:nvGrpSpPr>
        <p:grpSpPr>
          <a:xfrm>
            <a:off x="453960" y="2438280"/>
            <a:ext cx="8690040" cy="3005280"/>
            <a:chOff x="453960" y="2438280"/>
            <a:chExt cx="8690040" cy="3005280"/>
          </a:xfrm>
        </p:grpSpPr>
        <p:sp>
          <p:nvSpPr>
            <p:cNvPr id="120" name="مستطيل ذو زاويتين مستديرتين في نفس الجانب 5"/>
            <p:cNvSpPr/>
            <p:nvPr/>
          </p:nvSpPr>
          <p:spPr>
            <a:xfrm rot="5400000">
              <a:off x="3205800" y="-40680"/>
              <a:ext cx="3005280" cy="796320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مستطيل 6"/>
            <p:cNvSpPr/>
            <p:nvPr/>
          </p:nvSpPr>
          <p:spPr>
            <a:xfrm>
              <a:off x="453960" y="2666880"/>
              <a:ext cx="8690040" cy="27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unicellular glands consists of one cell (goblet cell of small intestine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multicellular glands composed of cluster  of cell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مجموعة 2"/>
          <p:cNvGrpSpPr/>
          <p:nvPr/>
        </p:nvGrpSpPr>
        <p:grpSpPr>
          <a:xfrm>
            <a:off x="609480" y="1143000"/>
            <a:ext cx="3353040" cy="990720"/>
            <a:chOff x="609480" y="1143000"/>
            <a:chExt cx="3353040" cy="990720"/>
          </a:xfrm>
        </p:grpSpPr>
        <p:sp>
          <p:nvSpPr>
            <p:cNvPr id="123" name="مستطيل مستدير الزوايا 3"/>
            <p:cNvSpPr/>
            <p:nvPr/>
          </p:nvSpPr>
          <p:spPr>
            <a:xfrm>
              <a:off x="609480" y="1143000"/>
              <a:ext cx="3353040" cy="990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مستطيل 4"/>
            <p:cNvSpPr/>
            <p:nvPr/>
          </p:nvSpPr>
          <p:spPr>
            <a:xfrm>
              <a:off x="733320" y="1190520"/>
              <a:ext cx="3105360" cy="8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-</a:t>
              </a: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number of cell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مجموعة 1"/>
          <p:cNvGrpSpPr/>
          <p:nvPr/>
        </p:nvGrpSpPr>
        <p:grpSpPr>
          <a:xfrm>
            <a:off x="685800" y="2382840"/>
            <a:ext cx="8229600" cy="3484440"/>
            <a:chOff x="685800" y="2382840"/>
            <a:chExt cx="8229600" cy="3484440"/>
          </a:xfrm>
        </p:grpSpPr>
        <p:sp>
          <p:nvSpPr>
            <p:cNvPr id="126" name="مستطيل ذو زاويتين مستديرتين في نفس الجانب 5"/>
            <p:cNvSpPr/>
            <p:nvPr/>
          </p:nvSpPr>
          <p:spPr>
            <a:xfrm rot="5400000">
              <a:off x="3058200" y="10080"/>
              <a:ext cx="3484440" cy="822960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مستطيل 6"/>
            <p:cNvSpPr/>
            <p:nvPr/>
          </p:nvSpPr>
          <p:spPr>
            <a:xfrm>
              <a:off x="685800" y="2552400"/>
              <a:ext cx="8087040" cy="314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 Exocrine(in which secretion is released  through ducts (salivary glands)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Endocrine glands (secretion released directly to the blood) thyroid  gland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- Mixed glands (endocine and exocrine)----pancreas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مجموعة 2"/>
          <p:cNvGrpSpPr/>
          <p:nvPr/>
        </p:nvGrpSpPr>
        <p:grpSpPr>
          <a:xfrm>
            <a:off x="76320" y="914400"/>
            <a:ext cx="7848360" cy="1219320"/>
            <a:chOff x="76320" y="914400"/>
            <a:chExt cx="7848360" cy="1219320"/>
          </a:xfrm>
        </p:grpSpPr>
        <p:sp>
          <p:nvSpPr>
            <p:cNvPr id="129" name="مستطيل مستدير الزوايا 3"/>
            <p:cNvSpPr/>
            <p:nvPr/>
          </p:nvSpPr>
          <p:spPr>
            <a:xfrm>
              <a:off x="76320" y="914400"/>
              <a:ext cx="7848360" cy="12193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مستطيل 4"/>
            <p:cNvSpPr/>
            <p:nvPr/>
          </p:nvSpPr>
          <p:spPr>
            <a:xfrm>
              <a:off x="458640" y="960120"/>
              <a:ext cx="7083360" cy="11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-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The presence or absence of a duct system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Calibri"/>
                </a:rPr>
                <a:t> 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مجموعة 1"/>
          <p:cNvGrpSpPr/>
          <p:nvPr/>
        </p:nvGrpSpPr>
        <p:grpSpPr>
          <a:xfrm>
            <a:off x="1082520" y="2154240"/>
            <a:ext cx="7375680" cy="3408480"/>
            <a:chOff x="1082520" y="2154240"/>
            <a:chExt cx="7375680" cy="3408480"/>
          </a:xfrm>
        </p:grpSpPr>
        <p:sp>
          <p:nvSpPr>
            <p:cNvPr id="132" name="مستطيل ذو زاويتين مستديرتين في نفس الجانب 5"/>
            <p:cNvSpPr/>
            <p:nvPr/>
          </p:nvSpPr>
          <p:spPr>
            <a:xfrm rot="5400000">
              <a:off x="3066120" y="170280"/>
              <a:ext cx="3408480" cy="737568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مستطيل 6"/>
            <p:cNvSpPr/>
            <p:nvPr/>
          </p:nvSpPr>
          <p:spPr>
            <a:xfrm>
              <a:off x="1082520" y="2320920"/>
              <a:ext cx="7247160" cy="30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-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Merocrin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glands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no  loss  of its cellular  material) pancreas (exocytosis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-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Holocrine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glands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 (complete destruction of the cell)---sebaceous  glan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-  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Apocrine glands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   secretory  product is discharged  with apical parts of the  cytoplasm) ----mammary gland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مجموعة 2"/>
          <p:cNvGrpSpPr/>
          <p:nvPr/>
        </p:nvGrpSpPr>
        <p:grpSpPr>
          <a:xfrm>
            <a:off x="152280" y="990720"/>
            <a:ext cx="7467840" cy="811080"/>
            <a:chOff x="152280" y="990720"/>
            <a:chExt cx="7467840" cy="811080"/>
          </a:xfrm>
        </p:grpSpPr>
        <p:sp>
          <p:nvSpPr>
            <p:cNvPr id="135" name="مستطيل مستدير الزوايا 3"/>
            <p:cNvSpPr/>
            <p:nvPr/>
          </p:nvSpPr>
          <p:spPr>
            <a:xfrm>
              <a:off x="152280" y="990720"/>
              <a:ext cx="7467840" cy="811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مستطيل 4"/>
            <p:cNvSpPr/>
            <p:nvPr/>
          </p:nvSpPr>
          <p:spPr>
            <a:xfrm>
              <a:off x="517320" y="1023840"/>
              <a:ext cx="6737760" cy="7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ccording to the mode of secretion (mechanism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مجموعة 5"/>
          <p:cNvGrpSpPr/>
          <p:nvPr/>
        </p:nvGrpSpPr>
        <p:grpSpPr>
          <a:xfrm>
            <a:off x="176040" y="1176480"/>
            <a:ext cx="8791920" cy="4843440"/>
            <a:chOff x="176040" y="1176480"/>
            <a:chExt cx="8791920" cy="4843440"/>
          </a:xfrm>
        </p:grpSpPr>
        <p:pic>
          <p:nvPicPr>
            <p:cNvPr id="138" name="Picture 2" descr=""/>
            <p:cNvPicPr/>
            <p:nvPr/>
          </p:nvPicPr>
          <p:blipFill>
            <a:blip r:embed="rId1"/>
            <a:stretch/>
          </p:blipFill>
          <p:spPr>
            <a:xfrm>
              <a:off x="176040" y="1176480"/>
              <a:ext cx="8791920" cy="450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" descr=""/>
            <p:cNvPicPr/>
            <p:nvPr/>
          </p:nvPicPr>
          <p:blipFill>
            <a:blip r:embed="rId2"/>
            <a:stretch/>
          </p:blipFill>
          <p:spPr>
            <a:xfrm>
              <a:off x="838080" y="5639040"/>
              <a:ext cx="16477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"/>
            <p:cNvPicPr/>
            <p:nvPr/>
          </p:nvPicPr>
          <p:blipFill>
            <a:blip r:embed="rId3"/>
            <a:stretch/>
          </p:blipFill>
          <p:spPr>
            <a:xfrm>
              <a:off x="4038480" y="5639040"/>
              <a:ext cx="147636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"/>
            <p:cNvPicPr/>
            <p:nvPr/>
          </p:nvPicPr>
          <p:blipFill>
            <a:blip r:embed="rId4"/>
            <a:stretch/>
          </p:blipFill>
          <p:spPr>
            <a:xfrm>
              <a:off x="6934320" y="5658120"/>
              <a:ext cx="1619280" cy="285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رابط مستقيم 12"/>
          <p:cNvSpPr/>
          <p:nvPr/>
        </p:nvSpPr>
        <p:spPr>
          <a:xfrm>
            <a:off x="380880" y="1905120"/>
            <a:ext cx="45720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رابط مستقيم 11"/>
          <p:cNvSpPr/>
          <p:nvPr/>
        </p:nvSpPr>
        <p:spPr>
          <a:xfrm>
            <a:off x="380880" y="3732120"/>
            <a:ext cx="45720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رابط مستقيم 8"/>
          <p:cNvSpPr/>
          <p:nvPr/>
        </p:nvSpPr>
        <p:spPr>
          <a:xfrm>
            <a:off x="380880" y="5791320"/>
            <a:ext cx="45720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رسم تخطيطي 3" descr=""/>
          <p:cNvPicPr/>
          <p:nvPr/>
        </p:nvPicPr>
        <p:blipFill>
          <a:blip r:embed="rId1"/>
          <a:stretch/>
        </p:blipFill>
        <p:spPr>
          <a:xfrm>
            <a:off x="-6480" y="822240"/>
            <a:ext cx="9156960" cy="6048360"/>
          </a:xfrm>
          <a:prstGeom prst="rect">
            <a:avLst/>
          </a:prstGeom>
          <a:ln w="0">
            <a:noFill/>
          </a:ln>
        </p:spPr>
      </p:pic>
      <p:sp>
        <p:nvSpPr>
          <p:cNvPr id="146" name="Title 1"/>
          <p:cNvSpPr/>
          <p:nvPr/>
        </p:nvSpPr>
        <p:spPr>
          <a:xfrm>
            <a:off x="45720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I-glandular epitheli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مستطيل 5"/>
          <p:cNvSpPr/>
          <p:nvPr/>
        </p:nvSpPr>
        <p:spPr>
          <a:xfrm>
            <a:off x="736560" y="457200"/>
            <a:ext cx="3724200" cy="36828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lands can be classified according to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رابط مستقيم 7"/>
          <p:cNvSpPr/>
          <p:nvPr/>
        </p:nvSpPr>
        <p:spPr>
          <a:xfrm flipH="1">
            <a:off x="379440" y="457200"/>
            <a:ext cx="1440" cy="53355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77D6-8B18-449E-840B-8C617C52349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381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uscular  tissue is composed of long cells called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uscl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re capable of contracting when stimulated by nerve impul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t has large numbers of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yofibri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de of the contractile proteins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ac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myo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 </a:t>
            </a: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sliding  fila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cepted  as the mechanism  that accounts  for muscular contr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762120" y="4191120"/>
            <a:ext cx="7772400" cy="2666880"/>
            <a:chOff x="762120" y="4191120"/>
            <a:chExt cx="7772400" cy="2666880"/>
          </a:xfrm>
        </p:grpSpPr>
        <p:pic>
          <p:nvPicPr>
            <p:cNvPr id="152" name="Picture 6" descr=""/>
            <p:cNvPicPr/>
            <p:nvPr/>
          </p:nvPicPr>
          <p:blipFill>
            <a:blip r:embed="rId1"/>
            <a:stretch/>
          </p:blipFill>
          <p:spPr>
            <a:xfrm>
              <a:off x="4267080" y="4191120"/>
              <a:ext cx="4267440" cy="266688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53" name="Picture 7" descr=""/>
            <p:cNvPicPr/>
            <p:nvPr/>
          </p:nvPicPr>
          <p:blipFill>
            <a:blip r:embed="rId2"/>
            <a:srcRect l="15842" t="0" r="0" b="0"/>
            <a:stretch/>
          </p:blipFill>
          <p:spPr>
            <a:xfrm>
              <a:off x="762120" y="4191120"/>
              <a:ext cx="3238560" cy="264780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</p:grpSp>
      <p:grpSp>
        <p:nvGrpSpPr>
          <p:cNvPr id="154" name="مستطيل 6"/>
          <p:cNvGrpSpPr/>
          <p:nvPr/>
        </p:nvGrpSpPr>
        <p:grpSpPr>
          <a:xfrm>
            <a:off x="1500120" y="-49320"/>
            <a:ext cx="5729400" cy="1274760"/>
            <a:chOff x="1500120" y="-49320"/>
            <a:chExt cx="5729400" cy="1274760"/>
          </a:xfrm>
        </p:grpSpPr>
        <p:pic>
          <p:nvPicPr>
            <p:cNvPr id="155" name="مستطيل 6" descr=""/>
            <p:cNvPicPr/>
            <p:nvPr/>
          </p:nvPicPr>
          <p:blipFill>
            <a:blip r:embed="rId3"/>
            <a:stretch/>
          </p:blipFill>
          <p:spPr>
            <a:xfrm>
              <a:off x="1500120" y="-49320"/>
              <a:ext cx="57294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40880" y="76320"/>
              <a:ext cx="54414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2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-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Muscular tissue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( </a:t>
              </a: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skeletal, smooth, cardiac muscles</a:t>
              </a: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51920" y="1798560"/>
            <a:ext cx="3048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- Skeletal  muscl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 to the skeleton and is concerned with body move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- Cardiac  musc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 the contractile portion of the heart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-Smooth musc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xhibit striations. It is found as part of the walls of the visce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مستطيل 5"/>
          <p:cNvSpPr/>
          <p:nvPr/>
        </p:nvSpPr>
        <p:spPr>
          <a:xfrm>
            <a:off x="304920" y="380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53735"/>
                </a:solidFill>
                <a:uFillTx/>
                <a:latin typeface="Calibri"/>
              </a:rPr>
              <a:t>There are three types of muscle tissue in the vertebrate body</a:t>
            </a:r>
            <a:r>
              <a:rPr b="0" lang="en-US" sz="2400" spc="-1" strike="noStrike" u="sng">
                <a:solidFill>
                  <a:srgbClr val="953735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0" t="0" r="0" b="3120"/>
          <a:stretch/>
        </p:blipFill>
        <p:spPr>
          <a:xfrm>
            <a:off x="3276720" y="1295280"/>
            <a:ext cx="5867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31847" t="17579" r="14897" b="15039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rcRect l="34627" t="17776" r="16510" b="16796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32394" t="16604" r="14897" b="14065"/>
          <a:stretch/>
        </p:blipFill>
        <p:spPr>
          <a:xfrm>
            <a:off x="0" y="0"/>
            <a:ext cx="927252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عنصر نائب للمحتوى 4" descr="tissues.png"/>
          <p:cNvPicPr/>
          <p:nvPr/>
        </p:nvPicPr>
        <p:blipFill>
          <a:blip r:embed="rId2"/>
          <a:stretch/>
        </p:blipFill>
        <p:spPr>
          <a:xfrm>
            <a:off x="428760" y="1214280"/>
            <a:ext cx="8643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1"/>
          <p:cNvSpPr/>
          <p:nvPr/>
        </p:nvSpPr>
        <p:spPr>
          <a:xfrm>
            <a:off x="533520" y="45720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Histology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the science which deals  with the microstructures of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org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The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asic tissue type is a group of similar cell and able to perform a common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r body is composed of only four basic tissue ty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رسم تخطيطي 13" descr=""/>
          <p:cNvPicPr/>
          <p:nvPr/>
        </p:nvPicPr>
        <p:blipFill>
          <a:blip r:embed="rId1"/>
          <a:stretch/>
        </p:blipFill>
        <p:spPr>
          <a:xfrm>
            <a:off x="231840" y="2664000"/>
            <a:ext cx="87660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32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animals, combinations of various tissues make up functional units calle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g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ups of organs that work together for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the human digestive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consists of a stomach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g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mall intestine, large intestine, and several other organs, each a composite of different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epithel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connective-muscles-nervous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مجموعة 23"/>
          <p:cNvGrpSpPr/>
          <p:nvPr/>
        </p:nvGrpSpPr>
        <p:grpSpPr>
          <a:xfrm>
            <a:off x="533520" y="3048120"/>
            <a:ext cx="8153280" cy="3733560"/>
            <a:chOff x="533520" y="3048120"/>
            <a:chExt cx="8153280" cy="3733560"/>
          </a:xfrm>
        </p:grpSpPr>
        <p:pic>
          <p:nvPicPr>
            <p:cNvPr id="58" name="Picture 4" descr=""/>
            <p:cNvPicPr/>
            <p:nvPr/>
          </p:nvPicPr>
          <p:blipFill>
            <a:blip r:embed="rId1"/>
            <a:stretch/>
          </p:blipFill>
          <p:spPr>
            <a:xfrm>
              <a:off x="533520" y="3048120"/>
              <a:ext cx="3870360" cy="3733560"/>
            </a:xfrm>
            <a:prstGeom prst="rect">
              <a:avLst/>
            </a:prstGeom>
            <a:ln cap="sq" w="3816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pic>
          <p:nvPicPr>
            <p:cNvPr id="59" name="Picture 2" descr=""/>
            <p:cNvPicPr/>
            <p:nvPr/>
          </p:nvPicPr>
          <p:blipFill>
            <a:blip r:embed="rId2"/>
            <a:stretch/>
          </p:blipFill>
          <p:spPr>
            <a:xfrm>
              <a:off x="4648320" y="3048120"/>
              <a:ext cx="4038480" cy="3724200"/>
            </a:xfrm>
            <a:prstGeom prst="rect">
              <a:avLst/>
            </a:prstGeom>
            <a:ln cap="sq" w="38160">
              <a:solidFill>
                <a:srgbClr val="ff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520" y="10663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ans covering body surface  and lining body cavity. </a:t>
            </a:r>
            <a:br>
              <a:rPr sz="1900"/>
            </a:b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General  characters of epithelial tissu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ells are closely aggregated with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very little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cellular substance (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matrix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f acid mucopolysaccharides 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ells are regular in shape .They are held tightly together by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  junctional compl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al cells are firmly bound to the underlying CT by a thin membrane called 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basement membran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lood vessels do not penetrate the epithelium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(avascular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um can be derived from all three embryonic germ layer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ect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------------ epidermis of the ski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end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------------epithelium of alimentary cana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953735"/>
                </a:solidFill>
                <a:latin typeface="Arial"/>
              </a:rPr>
              <a:t>mesoder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------------kidney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pithelium is in a continuous process of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degener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900" spc="-1" strike="noStrike" u="sng">
                <a:solidFill>
                  <a:srgbClr val="c0504d"/>
                </a:solidFill>
                <a:uFillTx/>
                <a:latin typeface="Calibri"/>
              </a:rPr>
              <a:t>regeneration.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has a high mitotic activity .It has a high renewal rat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مستطيل 3"/>
          <p:cNvGrpSpPr/>
          <p:nvPr/>
        </p:nvGrpSpPr>
        <p:grpSpPr>
          <a:xfrm>
            <a:off x="2627280" y="60480"/>
            <a:ext cx="4170240" cy="834840"/>
            <a:chOff x="2627280" y="60480"/>
            <a:chExt cx="4170240" cy="834840"/>
          </a:xfrm>
        </p:grpSpPr>
        <p:pic>
          <p:nvPicPr>
            <p:cNvPr id="62" name="مستطيل 3" descr=""/>
            <p:cNvPicPr/>
            <p:nvPr/>
          </p:nvPicPr>
          <p:blipFill>
            <a:blip r:embed="rId1"/>
            <a:stretch/>
          </p:blipFill>
          <p:spPr>
            <a:xfrm>
              <a:off x="2627280" y="60480"/>
              <a:ext cx="41702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808720" y="177840"/>
              <a:ext cx="376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1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-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Epithelial Tissue</a:t>
              </a:r>
              <a:r>
                <a:rPr b="1" i="1" lang="en-US" sz="3600" spc="-1" strike="noStrike" u="sng">
                  <a:solidFill>
                    <a:srgbClr val="ffffff"/>
                  </a:solidFill>
                  <a:uFillTx/>
                  <a:latin typeface="Calibri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04920" y="1216080"/>
          <a:ext cx="8610480" cy="4727520"/>
        </p:xfrm>
        <a:graphic>
          <a:graphicData uri="http://schemas.openxmlformats.org/drawingml/2006/table">
            <a:tbl>
              <a:tblPr/>
              <a:tblGrid>
                <a:gridCol w="2684520"/>
                <a:gridCol w="5925960"/>
              </a:tblGrid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1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Protection  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the underlying CT----against injuries, bacteria and chemicals (skin –stomach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2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Secretory   :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pithelium is specialized for producing secretion (glandular epitheliu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3- 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Absorption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small intestine-kidne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4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Reproduction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minal epithelium of testis and 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5-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Contraction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oepithelial cells are contractile in  func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6</a:t>
                      </a:r>
                      <a:r>
                        <a:rPr b="1" lang="en-US" sz="2400" spc="-1" strike="noStrike" u="sng">
                          <a:solidFill>
                            <a:srgbClr val="10253f"/>
                          </a:solidFill>
                          <a:uFillTx/>
                          <a:latin typeface="Calibri"/>
                        </a:rPr>
                        <a:t>-Neuroepithelium</a:t>
                      </a:r>
                      <a:r>
                        <a:rPr b="1" lang="en-US" sz="2400" spc="-1" strike="noStrike">
                          <a:solidFill>
                            <a:srgbClr val="10253f"/>
                          </a:solidFill>
                          <a:latin typeface="Calibri"/>
                        </a:rPr>
                        <a:t>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specialized in perception of external stimuli   ex. (taste buds  of tongue)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5" name="Title 1"/>
          <p:cNvSpPr/>
          <p:nvPr/>
        </p:nvSpPr>
        <p:spPr>
          <a:xfrm>
            <a:off x="990720" y="457200"/>
            <a:ext cx="693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General  Functions  of epithel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مجموعة 39"/>
          <p:cNvGrpSpPr/>
          <p:nvPr/>
        </p:nvGrpSpPr>
        <p:grpSpPr>
          <a:xfrm>
            <a:off x="380880" y="1447920"/>
            <a:ext cx="8458200" cy="4254480"/>
            <a:chOff x="380880" y="1447920"/>
            <a:chExt cx="8458200" cy="4254480"/>
          </a:xfrm>
        </p:grpSpPr>
        <p:grpSp>
          <p:nvGrpSpPr>
            <p:cNvPr id="67" name="مجموعة 35"/>
            <p:cNvGrpSpPr/>
            <p:nvPr/>
          </p:nvGrpSpPr>
          <p:grpSpPr>
            <a:xfrm>
              <a:off x="380880" y="1447920"/>
              <a:ext cx="8458200" cy="4254480"/>
              <a:chOff x="380880" y="1447920"/>
              <a:chExt cx="8458200" cy="4254480"/>
            </a:xfrm>
          </p:grpSpPr>
          <p:grpSp>
            <p:nvGrpSpPr>
              <p:cNvPr id="68" name="مجموعة 32"/>
              <p:cNvGrpSpPr/>
              <p:nvPr/>
            </p:nvGrpSpPr>
            <p:grpSpPr>
              <a:xfrm>
                <a:off x="380880" y="1447920"/>
                <a:ext cx="8458200" cy="4254480"/>
                <a:chOff x="380880" y="1447920"/>
                <a:chExt cx="8458200" cy="4254480"/>
              </a:xfrm>
            </p:grpSpPr>
            <p:grpSp>
              <p:nvGrpSpPr>
                <p:cNvPr id="69" name="مجموعة 4"/>
                <p:cNvGrpSpPr/>
                <p:nvPr/>
              </p:nvGrpSpPr>
              <p:grpSpPr>
                <a:xfrm>
                  <a:off x="380880" y="2350440"/>
                  <a:ext cx="3759120" cy="705600"/>
                  <a:chOff x="380880" y="2350440"/>
                  <a:chExt cx="3759120" cy="705600"/>
                </a:xfrm>
              </p:grpSpPr>
              <p:sp>
                <p:nvSpPr>
                  <p:cNvPr id="70" name="مستطيل مستدير الزوايا 30"/>
                  <p:cNvSpPr/>
                  <p:nvPr/>
                </p:nvSpPr>
                <p:spPr>
                  <a:xfrm>
                    <a:off x="380880" y="2350440"/>
                    <a:ext cx="375912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مستطيل 31"/>
                  <p:cNvSpPr/>
                  <p:nvPr/>
                </p:nvSpPr>
                <p:spPr>
                  <a:xfrm>
                    <a:off x="436320" y="2370960"/>
                    <a:ext cx="364824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049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24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A-number of layer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2" name="رابط مستقيم 5"/>
                <p:cNvSpPr/>
                <p:nvPr/>
              </p:nvSpPr>
              <p:spPr>
                <a:xfrm>
                  <a:off x="757080" y="3056040"/>
                  <a:ext cx="376200" cy="52848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3" name="مجموعة 6"/>
                <p:cNvGrpSpPr/>
                <p:nvPr/>
              </p:nvGrpSpPr>
              <p:grpSpPr>
                <a:xfrm>
                  <a:off x="1132560" y="3232440"/>
                  <a:ext cx="3007440" cy="705600"/>
                  <a:chOff x="1132560" y="3232440"/>
                  <a:chExt cx="3007440" cy="705600"/>
                </a:xfrm>
              </p:grpSpPr>
              <p:sp>
                <p:nvSpPr>
                  <p:cNvPr id="74" name="مستطيل مستدير الزوايا 28"/>
                  <p:cNvSpPr/>
                  <p:nvPr/>
                </p:nvSpPr>
                <p:spPr>
                  <a:xfrm>
                    <a:off x="1132560" y="323244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" name="مستطيل 29"/>
                  <p:cNvSpPr/>
                  <p:nvPr/>
                </p:nvSpPr>
                <p:spPr>
                  <a:xfrm>
                    <a:off x="1188000" y="325296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imple epithelium (one layer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6" name="رابط مستقيم 8"/>
                <p:cNvSpPr/>
                <p:nvPr/>
              </p:nvSpPr>
              <p:spPr>
                <a:xfrm>
                  <a:off x="757080" y="3056040"/>
                  <a:ext cx="376200" cy="141120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7" name="مجموعة 8"/>
                <p:cNvGrpSpPr/>
                <p:nvPr/>
              </p:nvGrpSpPr>
              <p:grpSpPr>
                <a:xfrm>
                  <a:off x="1132560" y="4114800"/>
                  <a:ext cx="3007440" cy="705600"/>
                  <a:chOff x="1132560" y="4114800"/>
                  <a:chExt cx="3007440" cy="705600"/>
                </a:xfrm>
              </p:grpSpPr>
              <p:sp>
                <p:nvSpPr>
                  <p:cNvPr id="78" name="مستطيل مستدير الزوايا 26"/>
                  <p:cNvSpPr/>
                  <p:nvPr/>
                </p:nvSpPr>
                <p:spPr>
                  <a:xfrm>
                    <a:off x="1132560" y="411480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" name="مستطيل 27"/>
                  <p:cNvSpPr/>
                  <p:nvPr/>
                </p:nvSpPr>
                <p:spPr>
                  <a:xfrm>
                    <a:off x="1188000" y="413532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tratified epithelium </a:t>
                    </a:r>
                    <a:r>
                      <a:rPr b="1" lang="ar-SA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(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(more than  one lay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0" name="مجموعة 9"/>
                <p:cNvGrpSpPr/>
                <p:nvPr/>
              </p:nvGrpSpPr>
              <p:grpSpPr>
                <a:xfrm>
                  <a:off x="5079960" y="2350440"/>
                  <a:ext cx="3759120" cy="705600"/>
                  <a:chOff x="5079960" y="2350440"/>
                  <a:chExt cx="3759120" cy="705600"/>
                </a:xfrm>
              </p:grpSpPr>
              <p:sp>
                <p:nvSpPr>
                  <p:cNvPr id="81" name="مستطيل مستدير الزوايا 24"/>
                  <p:cNvSpPr/>
                  <p:nvPr/>
                </p:nvSpPr>
                <p:spPr>
                  <a:xfrm>
                    <a:off x="5079960" y="2350440"/>
                    <a:ext cx="375912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" name="مستطيل 25"/>
                  <p:cNvSpPr/>
                  <p:nvPr/>
                </p:nvSpPr>
                <p:spPr>
                  <a:xfrm>
                    <a:off x="5135400" y="2370960"/>
                    <a:ext cx="364824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049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24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B-Shape of cell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3" name="رابط مستقيم 13"/>
                <p:cNvSpPr/>
                <p:nvPr/>
              </p:nvSpPr>
              <p:spPr>
                <a:xfrm>
                  <a:off x="5456160" y="3056040"/>
                  <a:ext cx="376200" cy="52848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4" name="مجموعة 11"/>
                <p:cNvGrpSpPr/>
                <p:nvPr/>
              </p:nvGrpSpPr>
              <p:grpSpPr>
                <a:xfrm>
                  <a:off x="5831640" y="3232440"/>
                  <a:ext cx="3007440" cy="705600"/>
                  <a:chOff x="5831640" y="3232440"/>
                  <a:chExt cx="3007440" cy="705600"/>
                </a:xfrm>
              </p:grpSpPr>
              <p:sp>
                <p:nvSpPr>
                  <p:cNvPr id="85" name="مستطيل مستدير الزوايا 22"/>
                  <p:cNvSpPr/>
                  <p:nvPr/>
                </p:nvSpPr>
                <p:spPr>
                  <a:xfrm>
                    <a:off x="5831640" y="323244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" name="مستطيل 23"/>
                  <p:cNvSpPr/>
                  <p:nvPr/>
                </p:nvSpPr>
                <p:spPr>
                  <a:xfrm>
                    <a:off x="5887080" y="325296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1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Squamous(flat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7" name="مجموعة 12"/>
                <p:cNvGrpSpPr/>
                <p:nvPr/>
              </p:nvGrpSpPr>
              <p:grpSpPr>
                <a:xfrm>
                  <a:off x="5715000" y="4114800"/>
                  <a:ext cx="3124080" cy="704880"/>
                  <a:chOff x="5715000" y="4114800"/>
                  <a:chExt cx="3124080" cy="704880"/>
                </a:xfrm>
              </p:grpSpPr>
              <p:sp>
                <p:nvSpPr>
                  <p:cNvPr id="88" name="مستطيل مستدير الزوايا 20"/>
                  <p:cNvSpPr/>
                  <p:nvPr/>
                </p:nvSpPr>
                <p:spPr>
                  <a:xfrm>
                    <a:off x="5832360" y="4114800"/>
                    <a:ext cx="3006720" cy="704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" name="مستطيل 21"/>
                  <p:cNvSpPr/>
                  <p:nvPr/>
                </p:nvSpPr>
                <p:spPr>
                  <a:xfrm>
                    <a:off x="5715000" y="4135320"/>
                    <a:ext cx="306864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2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Cuboidal  (Height = width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0" name="رابط مستقيم 18"/>
                <p:cNvSpPr/>
                <p:nvPr/>
              </p:nvSpPr>
              <p:spPr>
                <a:xfrm>
                  <a:off x="5456160" y="3056040"/>
                  <a:ext cx="376200" cy="2293920"/>
                </a:xfrm>
                <a:prstGeom prst="pie">
                  <a:avLst/>
                </a:prstGeom>
                <a:noFill/>
                <a:ln w="25560">
                  <a:solidFill>
                    <a:srgbClr val="3d6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91" name="مجموعة 14"/>
                <p:cNvGrpSpPr/>
                <p:nvPr/>
              </p:nvGrpSpPr>
              <p:grpSpPr>
                <a:xfrm>
                  <a:off x="5831640" y="4996800"/>
                  <a:ext cx="3007440" cy="705600"/>
                  <a:chOff x="5831640" y="4996800"/>
                  <a:chExt cx="3007440" cy="705600"/>
                </a:xfrm>
              </p:grpSpPr>
              <p:sp>
                <p:nvSpPr>
                  <p:cNvPr id="92" name="مستطيل مستدير الزوايا 18"/>
                  <p:cNvSpPr/>
                  <p:nvPr/>
                </p:nvSpPr>
                <p:spPr>
                  <a:xfrm>
                    <a:off x="5831640" y="4996800"/>
                    <a:ext cx="3007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" name="مستطيل 19"/>
                  <p:cNvSpPr/>
                  <p:nvPr/>
                </p:nvSpPr>
                <p:spPr>
                  <a:xfrm>
                    <a:off x="5887080" y="5017320"/>
                    <a:ext cx="2896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12600" bIns="1260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876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3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-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Calibri"/>
                      </a:rPr>
                      <a:t>Columnar (Hight is 2-5 greater than width)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4" name="مجموعة 15"/>
                <p:cNvGrpSpPr/>
                <p:nvPr/>
              </p:nvGrpSpPr>
              <p:grpSpPr>
                <a:xfrm>
                  <a:off x="492120" y="1447920"/>
                  <a:ext cx="7696440" cy="705600"/>
                  <a:chOff x="492120" y="1447920"/>
                  <a:chExt cx="7696440" cy="705600"/>
                </a:xfrm>
              </p:grpSpPr>
              <p:sp>
                <p:nvSpPr>
                  <p:cNvPr id="95" name="مستطيل مستدير الزوايا 16"/>
                  <p:cNvSpPr/>
                  <p:nvPr/>
                </p:nvSpPr>
                <p:spPr>
                  <a:xfrm>
                    <a:off x="492120" y="1447920"/>
                    <a:ext cx="7696440" cy="70560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f81bd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" name="مستطيل 17"/>
                  <p:cNvSpPr/>
                  <p:nvPr/>
                </p:nvSpPr>
                <p:spPr>
                  <a:xfrm>
                    <a:off x="547560" y="1468440"/>
                    <a:ext cx="7585560" cy="66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8160" rIns="38160" tIns="25560" bIns="25560" anchor="ctr">
                    <a:noAutofit/>
                  </a:bodyPr>
                  <a:p>
                    <a:pPr algn="ctr" rtl="1">
                      <a:lnSpc>
                        <a:spcPct val="90000"/>
                      </a:lnSpc>
                      <a:spcAft>
                        <a:spcPts val="1400"/>
                      </a:spcAft>
                      <a:tabLst>
                        <a:tab algn="l" pos="0"/>
                        <a:tab algn="l" pos="888840"/>
                        <a:tab algn="l" pos="1778040"/>
                        <a:tab algn="l" pos="2666880"/>
                        <a:tab algn="l" pos="3556080"/>
                        <a:tab algn="l" pos="4444920"/>
                        <a:tab algn="l" pos="5334120"/>
                        <a:tab algn="l" pos="6222960"/>
                        <a:tab algn="l" pos="7112160"/>
                        <a:tab algn="l" pos="8001000"/>
                        <a:tab algn="l" pos="8889840"/>
                        <a:tab algn="l" pos="9779040"/>
                        <a:tab algn="l" pos="10667880"/>
                      </a:tabLst>
                    </a:pPr>
                    <a:r>
                      <a:rPr b="1" lang="en-US" sz="32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Classification of epithelia according to</a:t>
                    </a:r>
                    <a:r>
                      <a:rPr b="1" lang="en-US" sz="3200" spc="-1" strike="noStrike" u="sng">
                        <a:solidFill>
                          <a:srgbClr val="ffffff"/>
                        </a:solidFill>
                        <a:uFillTx/>
                        <a:latin typeface="Calibri"/>
                      </a:rPr>
                      <a:t> 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97" name="رابط مستقيم 13"/>
              <p:cNvSpPr/>
              <p:nvPr/>
            </p:nvSpPr>
            <p:spPr>
              <a:xfrm>
                <a:off x="5486400" y="4043520"/>
                <a:ext cx="457200" cy="528480"/>
              </a:xfrm>
              <a:prstGeom prst="pie">
                <a:avLst/>
              </a:prstGeom>
              <a:noFill/>
              <a:ln w="25560">
                <a:solidFill>
                  <a:srgbClr val="3d6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8" name="رابط مستقيم 37"/>
            <p:cNvSpPr/>
            <p:nvPr/>
          </p:nvSpPr>
          <p:spPr>
            <a:xfrm flipH="1">
              <a:off x="2131920" y="2057400"/>
              <a:ext cx="2880" cy="304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رابط مستقيم 38"/>
            <p:cNvSpPr/>
            <p:nvPr/>
          </p:nvSpPr>
          <p:spPr>
            <a:xfrm flipH="1">
              <a:off x="7085160" y="2057400"/>
              <a:ext cx="1440" cy="30456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TextBox 6"/>
          <p:cNvSpPr/>
          <p:nvPr/>
        </p:nvSpPr>
        <p:spPr>
          <a:xfrm>
            <a:off x="2079000" y="53352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lassification of the epithe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1290600"/>
          <a:ext cx="8686800" cy="5367240"/>
        </p:xfrm>
        <a:graphic>
          <a:graphicData uri="http://schemas.openxmlformats.org/drawingml/2006/table">
            <a:tbl>
              <a:tblPr/>
              <a:tblGrid>
                <a:gridCol w="5446440"/>
                <a:gridCol w="3240360"/>
              </a:tblGrid>
              <a:tr h="22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Simple squamous epithelium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yhedral in shape and oval nuclei ,(thin to allow material transport-filteration (kidney, lung, blood vessel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Endothelium ------in blood vessels and lymph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mesothelium------in periton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Simple cuboidal epithelium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 where ion exchange is required (kidney proximal tubul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16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Simple columnar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 non –ciliated  columnar(Digestive tra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ciliated   columnar  (oviduct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4" descr=""/>
          <p:cNvPicPr/>
          <p:nvPr/>
        </p:nvPicPr>
        <p:blipFill>
          <a:blip r:embed="rId1"/>
          <a:srcRect l="4998" t="36460" r="67503" b="34098"/>
          <a:stretch/>
        </p:blipFill>
        <p:spPr>
          <a:xfrm>
            <a:off x="6019920" y="3657600"/>
            <a:ext cx="289548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5924520" y="1600200"/>
            <a:ext cx="2990880" cy="923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3"/>
          <a:srcRect l="0" t="0" r="0" b="2279"/>
          <a:stretch/>
        </p:blipFill>
        <p:spPr>
          <a:xfrm>
            <a:off x="5848200" y="5029200"/>
            <a:ext cx="299088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مستطيل 9"/>
          <p:cNvSpPr/>
          <p:nvPr/>
        </p:nvSpPr>
        <p:spPr>
          <a:xfrm>
            <a:off x="152280" y="528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ased  on the last two criteria  we classify the epitheli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28600" y="762120"/>
          <a:ext cx="8686800" cy="5295960"/>
        </p:xfrm>
        <a:graphic>
          <a:graphicData uri="http://schemas.openxmlformats.org/drawingml/2006/table">
            <a:tbl>
              <a:tblPr/>
              <a:tblGrid>
                <a:gridCol w="5154480"/>
                <a:gridCol w="3532320"/>
              </a:tblGrid>
              <a:tr h="16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-Sratified squamous epi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-non-keratinized (esophagu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-keratinized (ski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Pseudostratified ciliated  columnar epitheliun (trache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-Transitional  epithelium (urinary bladder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 full                     b-emp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7" name="Picture 4" descr=""/>
          <p:cNvPicPr/>
          <p:nvPr/>
        </p:nvPicPr>
        <p:blipFill>
          <a:blip r:embed="rId1"/>
          <a:srcRect l="68340" t="2803" r="0" b="62142"/>
          <a:stretch/>
        </p:blipFill>
        <p:spPr>
          <a:xfrm>
            <a:off x="5715000" y="838080"/>
            <a:ext cx="2895480" cy="1447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572080" y="2438280"/>
            <a:ext cx="2962440" cy="129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t3.gstatic.com/images?q=tbn:ANd9GcSOkaeVA8no62ZVYWkNxKnlXxFudYvBev0h-_Rm3V5PHlPKMvv6"/>
          <p:cNvPicPr/>
          <p:nvPr/>
        </p:nvPicPr>
        <p:blipFill>
          <a:blip r:embed="rId3"/>
          <a:stretch/>
        </p:blipFill>
        <p:spPr>
          <a:xfrm>
            <a:off x="5257800" y="3809880"/>
            <a:ext cx="1700280" cy="2133720"/>
          </a:xfrm>
          <a:prstGeom prst="rect">
            <a:avLst/>
          </a:prstGeom>
          <a:ln w="0">
            <a:noFill/>
          </a:ln>
        </p:spPr>
      </p:pic>
      <p:pic>
        <p:nvPicPr>
          <p:cNvPr id="110" name="PPTShape_0" descr=""/>
          <p:cNvPicPr/>
          <p:nvPr/>
        </p:nvPicPr>
        <p:blipFill>
          <a:blip r:embed="rId4"/>
          <a:stretch/>
        </p:blipFill>
        <p:spPr>
          <a:xfrm>
            <a:off x="7086600" y="3809880"/>
            <a:ext cx="177012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5:51:13Z</dcterms:created>
  <dc:creator>DELL</dc:creator>
  <dc:description/>
  <dc:language>en-US</dc:language>
  <cp:lastModifiedBy>DELL</cp:lastModifiedBy>
  <dcterms:modified xsi:type="dcterms:W3CDTF">2013-09-23T06:18:23Z</dcterms:modified>
  <cp:revision>5</cp:revision>
  <dc:subject/>
  <dc:title>الشريحة 1</dc:title>
</cp:coreProperties>
</file>