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30B-A83D-4C18-A3DE-CF9A72FFB52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DB43-F677-4D0C-BAAB-10666C8A150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5743-3FB4-486C-AE8A-5A0A4454D22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E1D2-93B6-4204-802F-44F9F1B5437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7144-EF43-41F6-A984-AF8FA1F5B8B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FE1-B33D-4D72-AD25-58F1D6C79C7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5564-E982-4E0E-AD04-299FD5FEE4F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8CE3-2101-4637-ABCD-0D4CCA29041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53FB-B1C0-45E2-ABFE-CFFB7FA1C32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1455-834E-45C4-A921-389F64292CE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EC9C-CE79-4358-B7A7-86F204394BD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E4C3-91B6-4C52-95B4-28482D141B2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8BCD-60D0-4832-AFC8-1C928D54FE2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6080-3EB4-44A9-BCB0-CA051921ABE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5776-2909-4AFC-BE18-DA7A5120584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2C4-9D29-4465-A778-B7D2E510187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2DB-9C15-48CE-83A0-62CFA986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FFD-F8E6-492C-87A2-CFF8ED5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E6B-E9C8-4396-BD69-76220274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B0D-3B97-47E1-B3C3-D379E4AD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46E-C5A7-4882-A834-80DD796F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EBC-468B-4712-8178-71525E91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C25-D4B2-42AA-8FFA-FE19D5F9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D78-1650-44BE-86B8-5D068E65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A4C-9E4C-4144-B26A-70C8401D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3C1-EF69-4DF3-B099-FD6E01C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75E-0147-4BCA-B9B6-7CBE3396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91C-1080-4FAA-B22E-E945622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478E-D8C7-4955-9E9C-BE7C252491D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349" b="12697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رسم تخطيطي 3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9156600" cy="602928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I-glandular epithel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مجموعة 16"/>
          <p:cNvGrpSpPr/>
          <p:nvPr/>
        </p:nvGrpSpPr>
        <p:grpSpPr>
          <a:xfrm>
            <a:off x="988920" y="1598760"/>
            <a:ext cx="5792760" cy="3659040"/>
            <a:chOff x="988920" y="1598760"/>
            <a:chExt cx="5792760" cy="3659040"/>
          </a:xfrm>
        </p:grpSpPr>
        <p:sp>
          <p:nvSpPr>
            <p:cNvPr id="114" name="رابط مستقيم 12"/>
            <p:cNvSpPr/>
            <p:nvPr/>
          </p:nvSpPr>
          <p:spPr>
            <a:xfrm>
              <a:off x="990360" y="289260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رابط مستقيم 11"/>
            <p:cNvSpPr/>
            <p:nvPr/>
          </p:nvSpPr>
          <p:spPr>
            <a:xfrm>
              <a:off x="990360" y="388476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رابط مستقيم 8"/>
            <p:cNvSpPr/>
            <p:nvPr/>
          </p:nvSpPr>
          <p:spPr>
            <a:xfrm>
              <a:off x="990360" y="525636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مستطيل 5"/>
            <p:cNvSpPr/>
            <p:nvPr/>
          </p:nvSpPr>
          <p:spPr>
            <a:xfrm>
              <a:off x="990360" y="1598760"/>
              <a:ext cx="5791320" cy="52056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Glands can be classified according to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رابط مستقيم 7"/>
            <p:cNvSpPr/>
            <p:nvPr/>
          </p:nvSpPr>
          <p:spPr>
            <a:xfrm flipH="1">
              <a:off x="988920" y="2133720"/>
              <a:ext cx="1440" cy="3122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مجموعة 1"/>
          <p:cNvGrpSpPr/>
          <p:nvPr/>
        </p:nvGrpSpPr>
        <p:grpSpPr>
          <a:xfrm>
            <a:off x="453960" y="2438280"/>
            <a:ext cx="8690040" cy="3005280"/>
            <a:chOff x="453960" y="2438280"/>
            <a:chExt cx="8690040" cy="3005280"/>
          </a:xfrm>
        </p:grpSpPr>
        <p:sp>
          <p:nvSpPr>
            <p:cNvPr id="120" name="مستطيل ذو زاويتين مستديرتين في نفس الجانب 5"/>
            <p:cNvSpPr/>
            <p:nvPr/>
          </p:nvSpPr>
          <p:spPr>
            <a:xfrm rot="5400000">
              <a:off x="3205800" y="-40680"/>
              <a:ext cx="3005280" cy="796320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مستطيل 6"/>
            <p:cNvSpPr/>
            <p:nvPr/>
          </p:nvSpPr>
          <p:spPr>
            <a:xfrm>
              <a:off x="453960" y="2666880"/>
              <a:ext cx="8690040" cy="27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unicellular glands consists of one cell (goblet cell of small intestine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multicellular glands composed of cluster  of ce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مجموعة 2"/>
          <p:cNvGrpSpPr/>
          <p:nvPr/>
        </p:nvGrpSpPr>
        <p:grpSpPr>
          <a:xfrm>
            <a:off x="609480" y="1143000"/>
            <a:ext cx="3353040" cy="990720"/>
            <a:chOff x="609480" y="1143000"/>
            <a:chExt cx="3353040" cy="990720"/>
          </a:xfrm>
        </p:grpSpPr>
        <p:sp>
          <p:nvSpPr>
            <p:cNvPr id="123" name="مستطيل مستدير الزوايا 3"/>
            <p:cNvSpPr/>
            <p:nvPr/>
          </p:nvSpPr>
          <p:spPr>
            <a:xfrm>
              <a:off x="609480" y="1143000"/>
              <a:ext cx="3353040" cy="990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مستطيل 4"/>
            <p:cNvSpPr/>
            <p:nvPr/>
          </p:nvSpPr>
          <p:spPr>
            <a:xfrm>
              <a:off x="733320" y="1190520"/>
              <a:ext cx="310536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-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number of cel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مجموعة 1"/>
          <p:cNvGrpSpPr/>
          <p:nvPr/>
        </p:nvGrpSpPr>
        <p:grpSpPr>
          <a:xfrm>
            <a:off x="685800" y="2382840"/>
            <a:ext cx="8229600" cy="3484440"/>
            <a:chOff x="685800" y="2382840"/>
            <a:chExt cx="8229600" cy="3484440"/>
          </a:xfrm>
        </p:grpSpPr>
        <p:sp>
          <p:nvSpPr>
            <p:cNvPr id="126" name="مستطيل ذو زاويتين مستديرتين في نفس الجانب 5"/>
            <p:cNvSpPr/>
            <p:nvPr/>
          </p:nvSpPr>
          <p:spPr>
            <a:xfrm rot="5400000">
              <a:off x="3058200" y="10080"/>
              <a:ext cx="3484440" cy="822960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مستطيل 6"/>
            <p:cNvSpPr/>
            <p:nvPr/>
          </p:nvSpPr>
          <p:spPr>
            <a:xfrm>
              <a:off x="685800" y="2552400"/>
              <a:ext cx="8087040" cy="31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 Exocrine(in which secretion is released  through ducts (salivary glands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Endocrine glands (secretion released directly to the blood) thyroid  gland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- Mixed glands (endocine and exocrine)----pancreas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مجموعة 2"/>
          <p:cNvGrpSpPr/>
          <p:nvPr/>
        </p:nvGrpSpPr>
        <p:grpSpPr>
          <a:xfrm>
            <a:off x="76320" y="914400"/>
            <a:ext cx="7848360" cy="1219320"/>
            <a:chOff x="76320" y="914400"/>
            <a:chExt cx="7848360" cy="1219320"/>
          </a:xfrm>
        </p:grpSpPr>
        <p:sp>
          <p:nvSpPr>
            <p:cNvPr id="129" name="مستطيل مستدير الزوايا 3"/>
            <p:cNvSpPr/>
            <p:nvPr/>
          </p:nvSpPr>
          <p:spPr>
            <a:xfrm>
              <a:off x="76320" y="914400"/>
              <a:ext cx="7848360" cy="12193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مستطيل 4"/>
            <p:cNvSpPr/>
            <p:nvPr/>
          </p:nvSpPr>
          <p:spPr>
            <a:xfrm>
              <a:off x="458640" y="960120"/>
              <a:ext cx="708336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-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The presence or absence of a duct system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 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مجموعة 1"/>
          <p:cNvGrpSpPr/>
          <p:nvPr/>
        </p:nvGrpSpPr>
        <p:grpSpPr>
          <a:xfrm>
            <a:off x="1082520" y="2154240"/>
            <a:ext cx="7375680" cy="3408480"/>
            <a:chOff x="1082520" y="2154240"/>
            <a:chExt cx="7375680" cy="3408480"/>
          </a:xfrm>
        </p:grpSpPr>
        <p:sp>
          <p:nvSpPr>
            <p:cNvPr id="132" name="مستطيل ذو زاويتين مستديرتين في نفس الجانب 5"/>
            <p:cNvSpPr/>
            <p:nvPr/>
          </p:nvSpPr>
          <p:spPr>
            <a:xfrm rot="5400000">
              <a:off x="3066120" y="170280"/>
              <a:ext cx="3408480" cy="737568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مستطيل 6"/>
            <p:cNvSpPr/>
            <p:nvPr/>
          </p:nvSpPr>
          <p:spPr>
            <a:xfrm>
              <a:off x="1082520" y="2320920"/>
              <a:ext cx="7247160" cy="30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Merocrin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glands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no  loss  of its cellular  material) pancreas (exocytosis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olocrin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glands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(complete destruction of the cell)---sebaceous  glan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-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pocrine glands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   secretory  product is discharged  with apical parts of the  cytoplasm) ----mammary gland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مجموعة 2"/>
          <p:cNvGrpSpPr/>
          <p:nvPr/>
        </p:nvGrpSpPr>
        <p:grpSpPr>
          <a:xfrm>
            <a:off x="152280" y="990720"/>
            <a:ext cx="7467840" cy="811080"/>
            <a:chOff x="152280" y="990720"/>
            <a:chExt cx="7467840" cy="811080"/>
          </a:xfrm>
        </p:grpSpPr>
        <p:sp>
          <p:nvSpPr>
            <p:cNvPr id="135" name="مستطيل مستدير الزوايا 3"/>
            <p:cNvSpPr/>
            <p:nvPr/>
          </p:nvSpPr>
          <p:spPr>
            <a:xfrm>
              <a:off x="152280" y="990720"/>
              <a:ext cx="7467840" cy="811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مستطيل 4"/>
            <p:cNvSpPr/>
            <p:nvPr/>
          </p:nvSpPr>
          <p:spPr>
            <a:xfrm>
              <a:off x="517320" y="1023840"/>
              <a:ext cx="6737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ccording to the mode of secretion (mechanism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مجموعة 5"/>
          <p:cNvGrpSpPr/>
          <p:nvPr/>
        </p:nvGrpSpPr>
        <p:grpSpPr>
          <a:xfrm>
            <a:off x="176040" y="1176480"/>
            <a:ext cx="8791920" cy="4843440"/>
            <a:chOff x="176040" y="1176480"/>
            <a:chExt cx="8791920" cy="484344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1176480"/>
              <a:ext cx="8791920" cy="45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" descr=""/>
            <p:cNvPicPr/>
            <p:nvPr/>
          </p:nvPicPr>
          <p:blipFill>
            <a:blip r:embed="rId2"/>
            <a:stretch/>
          </p:blipFill>
          <p:spPr>
            <a:xfrm>
              <a:off x="838080" y="5639040"/>
              <a:ext cx="16477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"/>
            <p:cNvPicPr/>
            <p:nvPr/>
          </p:nvPicPr>
          <p:blipFill>
            <a:blip r:embed="rId3"/>
            <a:stretch/>
          </p:blipFill>
          <p:spPr>
            <a:xfrm>
              <a:off x="4038480" y="5639040"/>
              <a:ext cx="14763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6934320" y="5658120"/>
              <a:ext cx="1619280" cy="28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رابط مستقيم 12"/>
          <p:cNvSpPr/>
          <p:nvPr/>
        </p:nvSpPr>
        <p:spPr>
          <a:xfrm>
            <a:off x="380880" y="1905120"/>
            <a:ext cx="4572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رابط مستقيم 11"/>
          <p:cNvSpPr/>
          <p:nvPr/>
        </p:nvSpPr>
        <p:spPr>
          <a:xfrm>
            <a:off x="380880" y="3732120"/>
            <a:ext cx="457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رابط مستقيم 8"/>
          <p:cNvSpPr/>
          <p:nvPr/>
        </p:nvSpPr>
        <p:spPr>
          <a:xfrm>
            <a:off x="380880" y="5791320"/>
            <a:ext cx="4572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رسم تخطيطي 3" descr=""/>
          <p:cNvPicPr/>
          <p:nvPr/>
        </p:nvPicPr>
        <p:blipFill>
          <a:blip r:embed="rId1"/>
          <a:stretch/>
        </p:blipFill>
        <p:spPr>
          <a:xfrm>
            <a:off x="-6480" y="822240"/>
            <a:ext cx="9156960" cy="6048360"/>
          </a:xfrm>
          <a:prstGeom prst="rect">
            <a:avLst/>
          </a:prstGeom>
          <a:ln w="0">
            <a:noFill/>
          </a:ln>
        </p:spPr>
      </p:pic>
      <p:sp>
        <p:nvSpPr>
          <p:cNvPr id="146" name="Title 1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I-glandular epithel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مستطيل 5"/>
          <p:cNvSpPr/>
          <p:nvPr/>
        </p:nvSpPr>
        <p:spPr>
          <a:xfrm>
            <a:off x="736560" y="457200"/>
            <a:ext cx="372420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lands can be classified according to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رابط مستقيم 7"/>
          <p:cNvSpPr/>
          <p:nvPr/>
        </p:nvSpPr>
        <p:spPr>
          <a:xfrm flipH="1">
            <a:off x="379440" y="457200"/>
            <a:ext cx="1440" cy="5335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9357-AFF5-497D-8DC4-1287E9FE20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381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scular  tissue is composed of long cells called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uscl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capable of contracting when stimulated by nerve impul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t has large numbers of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yofibr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de of the contractile proteins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ac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yo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sliding  fila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pted  as the mechanism  that accounts  for muscular contr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762120" y="4191120"/>
            <a:ext cx="7772400" cy="2666880"/>
            <a:chOff x="762120" y="4191120"/>
            <a:chExt cx="7772400" cy="2666880"/>
          </a:xfrm>
        </p:grpSpPr>
        <p:pic>
          <p:nvPicPr>
            <p:cNvPr id="152" name="Picture 6" descr=""/>
            <p:cNvPicPr/>
            <p:nvPr/>
          </p:nvPicPr>
          <p:blipFill>
            <a:blip r:embed="rId1"/>
            <a:stretch/>
          </p:blipFill>
          <p:spPr>
            <a:xfrm>
              <a:off x="4267080" y="41911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53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762120" y="41911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  <p:grpSp>
        <p:nvGrpSpPr>
          <p:cNvPr id="154" name="مستطيل 6"/>
          <p:cNvGrpSpPr/>
          <p:nvPr/>
        </p:nvGrpSpPr>
        <p:grpSpPr>
          <a:xfrm>
            <a:off x="1500120" y="-49320"/>
            <a:ext cx="5729400" cy="1274760"/>
            <a:chOff x="1500120" y="-49320"/>
            <a:chExt cx="5729400" cy="1274760"/>
          </a:xfrm>
        </p:grpSpPr>
        <p:pic>
          <p:nvPicPr>
            <p:cNvPr id="155" name="مستطيل 6" descr=""/>
            <p:cNvPicPr/>
            <p:nvPr/>
          </p:nvPicPr>
          <p:blipFill>
            <a:blip r:embed="rId3"/>
            <a:stretch/>
          </p:blipFill>
          <p:spPr>
            <a:xfrm>
              <a:off x="1500120" y="-49320"/>
              <a:ext cx="57294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40880" y="76320"/>
              <a:ext cx="54414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2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-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Muscular tissu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( </a:t>
              </a: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skeletal, smooth, cardiac muscles</a:t>
              </a: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1920" y="1798560"/>
            <a:ext cx="3048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- Skeletal  muscl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to the skeleton and is concerned with body mov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- Cardiac  musc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the contractile portion of the heart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-Smooth musc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xhibit striations. It is found as part of the walls of the visce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مستطيل 5"/>
          <p:cNvSpPr/>
          <p:nvPr/>
        </p:nvSpPr>
        <p:spPr>
          <a:xfrm>
            <a:off x="304920" y="380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53735"/>
                </a:solidFill>
                <a:uFillTx/>
                <a:latin typeface="Calibri"/>
              </a:rPr>
              <a:t>There are three types of muscle tissue in the vertebrate body</a:t>
            </a:r>
            <a:r>
              <a:rPr b="0" lang="en-US" sz="2400" spc="-1" strike="noStrike" u="sng">
                <a:solidFill>
                  <a:srgbClr val="953735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276720" y="129528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31847" t="17579" r="14897" b="15039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rcRect l="34627" t="17776" r="16510" b="16796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32394" t="16604" r="14897" b="14065"/>
          <a:stretch/>
        </p:blipFill>
        <p:spPr>
          <a:xfrm>
            <a:off x="0" y="0"/>
            <a:ext cx="92725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عنصر نائب للمحتوى 4" descr="tissues.png"/>
          <p:cNvPicPr/>
          <p:nvPr/>
        </p:nvPicPr>
        <p:blipFill>
          <a:blip r:embed="rId2"/>
          <a:stretch/>
        </p:blipFill>
        <p:spPr>
          <a:xfrm>
            <a:off x="428760" y="121428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"/>
          <p:cNvSpPr/>
          <p:nvPr/>
        </p:nvSpPr>
        <p:spPr>
          <a:xfrm>
            <a:off x="533520" y="4572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Histology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the science which deals  with the microstructures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The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asic tissue type is a group of similar cell and able to perform a common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body is composed of only four basic tissue 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رسم تخطيطي 13" descr=""/>
          <p:cNvPicPr/>
          <p:nvPr/>
        </p:nvPicPr>
        <p:blipFill>
          <a:blip r:embed="rId1"/>
          <a:stretch/>
        </p:blipFill>
        <p:spPr>
          <a:xfrm>
            <a:off x="231840" y="2664000"/>
            <a:ext cx="8766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32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animals, combinations of various tissues make up functional units 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g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ups of organs that work together fo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human digestiv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consists of a stomach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g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mall intestine, large intestine, and several other organs, each a composite of different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epithel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onnective-muscles-nervous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مجموعة 23"/>
          <p:cNvGrpSpPr/>
          <p:nvPr/>
        </p:nvGrpSpPr>
        <p:grpSpPr>
          <a:xfrm>
            <a:off x="533520" y="3048120"/>
            <a:ext cx="8153280" cy="3733560"/>
            <a:chOff x="533520" y="3048120"/>
            <a:chExt cx="8153280" cy="3733560"/>
          </a:xfrm>
        </p:grpSpPr>
        <p:pic>
          <p:nvPicPr>
            <p:cNvPr id="58" name="Picture 4" descr=""/>
            <p:cNvPicPr/>
            <p:nvPr/>
          </p:nvPicPr>
          <p:blipFill>
            <a:blip r:embed="rId1"/>
            <a:stretch/>
          </p:blipFill>
          <p:spPr>
            <a:xfrm>
              <a:off x="533520" y="3048120"/>
              <a:ext cx="3870360" cy="3733560"/>
            </a:xfrm>
            <a:prstGeom prst="rect">
              <a:avLst/>
            </a:prstGeom>
            <a:ln cap="sq" w="381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59" name="Picture 2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4038480" cy="3724200"/>
            </a:xfrm>
            <a:prstGeom prst="rect">
              <a:avLst/>
            </a:prstGeom>
            <a:ln cap="sq" w="381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520" y="10663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ans covering body surface  and lining body cavity. </a:t>
            </a:r>
            <a:br>
              <a:rPr sz="1900"/>
            </a:b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General  characters of epithelial tissu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lls are closely aggregated with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very little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cellular substance (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matrix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 acid mucopolysaccharides 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lls are regular in shape .They are held tightly together by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  junctional compl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al cells are firmly bound to the underlying CT by a thin membrane called 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basement membran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lood vessels do not penetrate the epithelium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(avascular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um can be derived from all three embryonic germ layer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ect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------------ epidermis of the sk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end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------------epithelium of alimentary ca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mes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------------kidney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um is in a continuous process of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degener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regeneration.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has a high mitotic activity .It has a high renewal ra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مستطيل 3"/>
          <p:cNvGrpSpPr/>
          <p:nvPr/>
        </p:nvGrpSpPr>
        <p:grpSpPr>
          <a:xfrm>
            <a:off x="2627280" y="60480"/>
            <a:ext cx="4170240" cy="834840"/>
            <a:chOff x="2627280" y="60480"/>
            <a:chExt cx="4170240" cy="834840"/>
          </a:xfrm>
        </p:grpSpPr>
        <p:pic>
          <p:nvPicPr>
            <p:cNvPr id="62" name="مستطيل 3" descr=""/>
            <p:cNvPicPr/>
            <p:nvPr/>
          </p:nvPicPr>
          <p:blipFill>
            <a:blip r:embed="rId1"/>
            <a:stretch/>
          </p:blipFill>
          <p:spPr>
            <a:xfrm>
              <a:off x="2627280" y="60480"/>
              <a:ext cx="41702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808720" y="177840"/>
              <a:ext cx="376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1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-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Epithelial Tissue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1216080"/>
          <a:ext cx="8610480" cy="4727520"/>
        </p:xfrm>
        <a:graphic>
          <a:graphicData uri="http://schemas.openxmlformats.org/drawingml/2006/table">
            <a:tbl>
              <a:tblPr/>
              <a:tblGrid>
                <a:gridCol w="2684520"/>
                <a:gridCol w="59259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Protection  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the underlying CT----against injuries, bacteria and chemicals (skin –stomach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Secretory   :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pithelium is specialized for producing secretion (glandular epitheli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- 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Absorption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mall intestine-kidne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Reproduction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inal epithelium of testis and 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Contraction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oepithelial cells are contractile in  func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-Neuroepithelium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specialized in perception of external stimuli   ex. (taste buds  of tongue)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5" name="Title 1"/>
          <p:cNvSpPr/>
          <p:nvPr/>
        </p:nvSpPr>
        <p:spPr>
          <a:xfrm>
            <a:off x="990720" y="45720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eneral  Functions  of epithel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مجموعة 39"/>
          <p:cNvGrpSpPr/>
          <p:nvPr/>
        </p:nvGrpSpPr>
        <p:grpSpPr>
          <a:xfrm>
            <a:off x="380880" y="1447920"/>
            <a:ext cx="8458200" cy="4254480"/>
            <a:chOff x="380880" y="1447920"/>
            <a:chExt cx="8458200" cy="4254480"/>
          </a:xfrm>
        </p:grpSpPr>
        <p:grpSp>
          <p:nvGrpSpPr>
            <p:cNvPr id="67" name="مجموعة 35"/>
            <p:cNvGrpSpPr/>
            <p:nvPr/>
          </p:nvGrpSpPr>
          <p:grpSpPr>
            <a:xfrm>
              <a:off x="380880" y="1447920"/>
              <a:ext cx="8458200" cy="4254480"/>
              <a:chOff x="380880" y="1447920"/>
              <a:chExt cx="8458200" cy="4254480"/>
            </a:xfrm>
          </p:grpSpPr>
          <p:grpSp>
            <p:nvGrpSpPr>
              <p:cNvPr id="68" name="مجموعة 32"/>
              <p:cNvGrpSpPr/>
              <p:nvPr/>
            </p:nvGrpSpPr>
            <p:grpSpPr>
              <a:xfrm>
                <a:off x="380880" y="1447920"/>
                <a:ext cx="8458200" cy="4254480"/>
                <a:chOff x="380880" y="1447920"/>
                <a:chExt cx="8458200" cy="4254480"/>
              </a:xfrm>
            </p:grpSpPr>
            <p:grpSp>
              <p:nvGrpSpPr>
                <p:cNvPr id="69" name="مجموعة 4"/>
                <p:cNvGrpSpPr/>
                <p:nvPr/>
              </p:nvGrpSpPr>
              <p:grpSpPr>
                <a:xfrm>
                  <a:off x="380880" y="2350440"/>
                  <a:ext cx="3759120" cy="705600"/>
                  <a:chOff x="380880" y="2350440"/>
                  <a:chExt cx="3759120" cy="705600"/>
                </a:xfrm>
              </p:grpSpPr>
              <p:sp>
                <p:nvSpPr>
                  <p:cNvPr id="70" name="مستطيل مستدير الزوايا 30"/>
                  <p:cNvSpPr/>
                  <p:nvPr/>
                </p:nvSpPr>
                <p:spPr>
                  <a:xfrm>
                    <a:off x="380880" y="2350440"/>
                    <a:ext cx="375912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مستطيل 31"/>
                  <p:cNvSpPr/>
                  <p:nvPr/>
                </p:nvSpPr>
                <p:spPr>
                  <a:xfrm>
                    <a:off x="436320" y="2370960"/>
                    <a:ext cx="364824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049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24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A-number of layer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2" name="رابط مستقيم 5"/>
                <p:cNvSpPr/>
                <p:nvPr/>
              </p:nvSpPr>
              <p:spPr>
                <a:xfrm>
                  <a:off x="757080" y="3056040"/>
                  <a:ext cx="376200" cy="52848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3" name="مجموعة 6"/>
                <p:cNvGrpSpPr/>
                <p:nvPr/>
              </p:nvGrpSpPr>
              <p:grpSpPr>
                <a:xfrm>
                  <a:off x="1132560" y="3232440"/>
                  <a:ext cx="3007440" cy="705600"/>
                  <a:chOff x="1132560" y="3232440"/>
                  <a:chExt cx="3007440" cy="705600"/>
                </a:xfrm>
              </p:grpSpPr>
              <p:sp>
                <p:nvSpPr>
                  <p:cNvPr id="74" name="مستطيل مستدير الزوايا 28"/>
                  <p:cNvSpPr/>
                  <p:nvPr/>
                </p:nvSpPr>
                <p:spPr>
                  <a:xfrm>
                    <a:off x="1132560" y="323244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" name="مستطيل 29"/>
                  <p:cNvSpPr/>
                  <p:nvPr/>
                </p:nvSpPr>
                <p:spPr>
                  <a:xfrm>
                    <a:off x="1188000" y="325296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imple epithelium (one layer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6" name="رابط مستقيم 8"/>
                <p:cNvSpPr/>
                <p:nvPr/>
              </p:nvSpPr>
              <p:spPr>
                <a:xfrm>
                  <a:off x="757080" y="3056040"/>
                  <a:ext cx="376200" cy="141120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7" name="مجموعة 8"/>
                <p:cNvGrpSpPr/>
                <p:nvPr/>
              </p:nvGrpSpPr>
              <p:grpSpPr>
                <a:xfrm>
                  <a:off x="1132560" y="4114800"/>
                  <a:ext cx="3007440" cy="705600"/>
                  <a:chOff x="1132560" y="4114800"/>
                  <a:chExt cx="3007440" cy="705600"/>
                </a:xfrm>
              </p:grpSpPr>
              <p:sp>
                <p:nvSpPr>
                  <p:cNvPr id="78" name="مستطيل مستدير الزوايا 26"/>
                  <p:cNvSpPr/>
                  <p:nvPr/>
                </p:nvSpPr>
                <p:spPr>
                  <a:xfrm>
                    <a:off x="1132560" y="411480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" name="مستطيل 27"/>
                  <p:cNvSpPr/>
                  <p:nvPr/>
                </p:nvSpPr>
                <p:spPr>
                  <a:xfrm>
                    <a:off x="1188000" y="413532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tratified epithelium </a:t>
                    </a:r>
                    <a:r>
                      <a:rPr b="1" lang="ar-SA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(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(more than  one lay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0" name="مجموعة 9"/>
                <p:cNvGrpSpPr/>
                <p:nvPr/>
              </p:nvGrpSpPr>
              <p:grpSpPr>
                <a:xfrm>
                  <a:off x="5079960" y="2350440"/>
                  <a:ext cx="3759120" cy="705600"/>
                  <a:chOff x="5079960" y="2350440"/>
                  <a:chExt cx="3759120" cy="705600"/>
                </a:xfrm>
              </p:grpSpPr>
              <p:sp>
                <p:nvSpPr>
                  <p:cNvPr id="81" name="مستطيل مستدير الزوايا 24"/>
                  <p:cNvSpPr/>
                  <p:nvPr/>
                </p:nvSpPr>
                <p:spPr>
                  <a:xfrm>
                    <a:off x="5079960" y="2350440"/>
                    <a:ext cx="375912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مستطيل 25"/>
                  <p:cNvSpPr/>
                  <p:nvPr/>
                </p:nvSpPr>
                <p:spPr>
                  <a:xfrm>
                    <a:off x="5135400" y="2370960"/>
                    <a:ext cx="364824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049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24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B-Shape of cell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3" name="رابط مستقيم 13"/>
                <p:cNvSpPr/>
                <p:nvPr/>
              </p:nvSpPr>
              <p:spPr>
                <a:xfrm>
                  <a:off x="5456160" y="3056040"/>
                  <a:ext cx="376200" cy="52848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4" name="مجموعة 11"/>
                <p:cNvGrpSpPr/>
                <p:nvPr/>
              </p:nvGrpSpPr>
              <p:grpSpPr>
                <a:xfrm>
                  <a:off x="5831640" y="3232440"/>
                  <a:ext cx="3007440" cy="705600"/>
                  <a:chOff x="5831640" y="3232440"/>
                  <a:chExt cx="3007440" cy="705600"/>
                </a:xfrm>
              </p:grpSpPr>
              <p:sp>
                <p:nvSpPr>
                  <p:cNvPr id="85" name="مستطيل مستدير الزوايا 22"/>
                  <p:cNvSpPr/>
                  <p:nvPr/>
                </p:nvSpPr>
                <p:spPr>
                  <a:xfrm>
                    <a:off x="5831640" y="323244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" name="مستطيل 23"/>
                  <p:cNvSpPr/>
                  <p:nvPr/>
                </p:nvSpPr>
                <p:spPr>
                  <a:xfrm>
                    <a:off x="5887080" y="325296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quamous(flat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7" name="مجموعة 12"/>
                <p:cNvGrpSpPr/>
                <p:nvPr/>
              </p:nvGrpSpPr>
              <p:grpSpPr>
                <a:xfrm>
                  <a:off x="5715000" y="4114800"/>
                  <a:ext cx="3124080" cy="704880"/>
                  <a:chOff x="5715000" y="4114800"/>
                  <a:chExt cx="3124080" cy="704880"/>
                </a:xfrm>
              </p:grpSpPr>
              <p:sp>
                <p:nvSpPr>
                  <p:cNvPr id="88" name="مستطيل مستدير الزوايا 20"/>
                  <p:cNvSpPr/>
                  <p:nvPr/>
                </p:nvSpPr>
                <p:spPr>
                  <a:xfrm>
                    <a:off x="5832360" y="4114800"/>
                    <a:ext cx="3006720" cy="704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" name="مستطيل 21"/>
                  <p:cNvSpPr/>
                  <p:nvPr/>
                </p:nvSpPr>
                <p:spPr>
                  <a:xfrm>
                    <a:off x="5715000" y="4135320"/>
                    <a:ext cx="306864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Cuboidal  (Height = width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0" name="رابط مستقيم 18"/>
                <p:cNvSpPr/>
                <p:nvPr/>
              </p:nvSpPr>
              <p:spPr>
                <a:xfrm>
                  <a:off x="5456160" y="3056040"/>
                  <a:ext cx="376200" cy="229392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1" name="مجموعة 14"/>
                <p:cNvGrpSpPr/>
                <p:nvPr/>
              </p:nvGrpSpPr>
              <p:grpSpPr>
                <a:xfrm>
                  <a:off x="5831640" y="4996800"/>
                  <a:ext cx="3007440" cy="705600"/>
                  <a:chOff x="5831640" y="4996800"/>
                  <a:chExt cx="3007440" cy="705600"/>
                </a:xfrm>
              </p:grpSpPr>
              <p:sp>
                <p:nvSpPr>
                  <p:cNvPr id="92" name="مستطيل مستدير الزوايا 18"/>
                  <p:cNvSpPr/>
                  <p:nvPr/>
                </p:nvSpPr>
                <p:spPr>
                  <a:xfrm>
                    <a:off x="5831640" y="499680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" name="مستطيل 19"/>
                  <p:cNvSpPr/>
                  <p:nvPr/>
                </p:nvSpPr>
                <p:spPr>
                  <a:xfrm>
                    <a:off x="5887080" y="501732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3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Columnar (Hight is 2-5 greater than width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" name="مجموعة 15"/>
                <p:cNvGrpSpPr/>
                <p:nvPr/>
              </p:nvGrpSpPr>
              <p:grpSpPr>
                <a:xfrm>
                  <a:off x="492120" y="1447920"/>
                  <a:ext cx="7696440" cy="705600"/>
                  <a:chOff x="492120" y="1447920"/>
                  <a:chExt cx="7696440" cy="705600"/>
                </a:xfrm>
              </p:grpSpPr>
              <p:sp>
                <p:nvSpPr>
                  <p:cNvPr id="95" name="مستطيل مستدير الزوايا 16"/>
                  <p:cNvSpPr/>
                  <p:nvPr/>
                </p:nvSpPr>
                <p:spPr>
                  <a:xfrm>
                    <a:off x="492120" y="1447920"/>
                    <a:ext cx="7696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مستطيل 17"/>
                  <p:cNvSpPr/>
                  <p:nvPr/>
                </p:nvSpPr>
                <p:spPr>
                  <a:xfrm>
                    <a:off x="547560" y="1468440"/>
                    <a:ext cx="7585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400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32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Classification of epithelia according to</a:t>
                    </a:r>
                    <a:r>
                      <a:rPr b="1" lang="en-US" sz="32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97" name="رابط مستقيم 13"/>
              <p:cNvSpPr/>
              <p:nvPr/>
            </p:nvSpPr>
            <p:spPr>
              <a:xfrm>
                <a:off x="5486400" y="4043520"/>
                <a:ext cx="457200" cy="528480"/>
              </a:xfrm>
              <a:prstGeom prst="pie">
                <a:avLst/>
              </a:prstGeom>
              <a:noFill/>
              <a:ln w="25560">
                <a:solidFill>
                  <a:srgbClr val="3d6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" name="رابط مستقيم 37"/>
            <p:cNvSpPr/>
            <p:nvPr/>
          </p:nvSpPr>
          <p:spPr>
            <a:xfrm flipH="1">
              <a:off x="2131920" y="2057400"/>
              <a:ext cx="2880" cy="30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رابط مستقيم 38"/>
            <p:cNvSpPr/>
            <p:nvPr/>
          </p:nvSpPr>
          <p:spPr>
            <a:xfrm flipH="1">
              <a:off x="7085160" y="2057400"/>
              <a:ext cx="1440" cy="30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TextBox 6"/>
          <p:cNvSpPr/>
          <p:nvPr/>
        </p:nvSpPr>
        <p:spPr>
          <a:xfrm>
            <a:off x="2079000" y="53352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lassification of the epithe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1290600"/>
          <a:ext cx="8686800" cy="5367240"/>
        </p:xfrm>
        <a:graphic>
          <a:graphicData uri="http://schemas.openxmlformats.org/drawingml/2006/table">
            <a:tbl>
              <a:tblPr/>
              <a:tblGrid>
                <a:gridCol w="5446440"/>
                <a:gridCol w="3240360"/>
              </a:tblGrid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imple squamous epitheli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hedral in shape and oval nuclei ,(thin to allow material transport-filteration (kidney, lung, blood vesse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Endothelium ------in blood vessels and lymph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esothelium------in perito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imple cuboidal epitheli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 where ion exchange is required (kidney proximal tubul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Simple columnar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 non –ciliated  columnar(Digestive tr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ciliated   columnar  (oviduc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4" descr=""/>
          <p:cNvPicPr/>
          <p:nvPr/>
        </p:nvPicPr>
        <p:blipFill>
          <a:blip r:embed="rId1"/>
          <a:srcRect l="4998" t="36460" r="67503" b="34098"/>
          <a:stretch/>
        </p:blipFill>
        <p:spPr>
          <a:xfrm>
            <a:off x="6019920" y="3657600"/>
            <a:ext cx="289548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5924520" y="1600200"/>
            <a:ext cx="2990880" cy="923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rcRect l="0" t="0" r="0" b="2279"/>
          <a:stretch/>
        </p:blipFill>
        <p:spPr>
          <a:xfrm>
            <a:off x="5848200" y="5029200"/>
            <a:ext cx="299088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مستطيل 9"/>
          <p:cNvSpPr/>
          <p:nvPr/>
        </p:nvSpPr>
        <p:spPr>
          <a:xfrm>
            <a:off x="152280" y="528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 on the last two criteria  we classify the epithel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62120"/>
          <a:ext cx="8686800" cy="5295960"/>
        </p:xfrm>
        <a:graphic>
          <a:graphicData uri="http://schemas.openxmlformats.org/drawingml/2006/table">
            <a:tbl>
              <a:tblPr/>
              <a:tblGrid>
                <a:gridCol w="5154480"/>
                <a:gridCol w="3532320"/>
              </a:tblGrid>
              <a:tr h="16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Sratified squamous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non-keratinized (esophagu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keratinized (sk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Pseudostratified ciliated  columnar epitheliun (trache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Transitional  epithelium (urinary bladde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 full                     b-emp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Picture 4" descr=""/>
          <p:cNvPicPr/>
          <p:nvPr/>
        </p:nvPicPr>
        <p:blipFill>
          <a:blip r:embed="rId1"/>
          <a:srcRect l="68340" t="2803" r="0" b="62142"/>
          <a:stretch/>
        </p:blipFill>
        <p:spPr>
          <a:xfrm>
            <a:off x="5715000" y="838080"/>
            <a:ext cx="2895480" cy="144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572080" y="2438280"/>
            <a:ext cx="2962440" cy="12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t3.gstatic.com/images?q=tbn:ANd9GcSOkaeVA8no62ZVYWkNxKnlXxFudYvBev0h-_Rm3V5PHlPKMvv6"/>
          <p:cNvPicPr/>
          <p:nvPr/>
        </p:nvPicPr>
        <p:blipFill>
          <a:blip r:embed="rId3"/>
          <a:stretch/>
        </p:blipFill>
        <p:spPr>
          <a:xfrm>
            <a:off x="5257800" y="3809880"/>
            <a:ext cx="170028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PTShape_0" descr=""/>
          <p:cNvPicPr/>
          <p:nvPr/>
        </p:nvPicPr>
        <p:blipFill>
          <a:blip r:embed="rId4"/>
          <a:stretch/>
        </p:blipFill>
        <p:spPr>
          <a:xfrm>
            <a:off x="7086600" y="3809880"/>
            <a:ext cx="17701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5:51:13Z</dcterms:created>
  <dc:creator>DELL</dc:creator>
  <dc:description/>
  <dc:language>en-US</dc:language>
  <cp:lastModifiedBy>DELL</cp:lastModifiedBy>
  <dcterms:modified xsi:type="dcterms:W3CDTF">2013-09-23T06:18:23Z</dcterms:modified>
  <cp:revision>5</cp:revision>
  <dc:subject/>
  <dc:title>الشريحة 1</dc:title>
</cp:coreProperties>
</file>