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D555-668D-4CEB-8DED-771E7D6C413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8121-F47C-4BFD-A30D-20CD1F3458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ECEF-93FE-47C8-BDAB-DBD89703885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50BA-99A6-43CE-982D-7BEDBB489E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568-C305-493D-8095-1A1AE7DC7E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D5DD-33EF-4126-9DF3-487DDE4B918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AD24-17D2-4D0D-A3FD-2F919BD3872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5755-9350-4A0C-9161-4AD20E9DA0B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E43C-11BA-4ED2-9BD0-026174F003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9A83-0DD7-4FEE-A27B-4BBA1E687E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9B9-FC01-4D29-9527-688C2BAE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D4C-8F59-45B3-BB9B-5B8B705D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1E9-76FF-4D2E-9E95-9D714857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07C-685B-4DB0-8688-D183DFE3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15D-F6D0-419F-A944-F378806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E31-E046-4366-8FF3-C3EB497B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1CE-6FAA-436E-A01C-EA4D915D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953-CA06-4039-ABC2-F6C089F9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FD7-E2E6-4A62-9D3F-A3932DBC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E2B-FB8B-41A9-9E00-9C75F7BA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923-0FC3-4892-8209-59F482D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7EA-C6E5-4554-8EB8-02964396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6A80-8E09-44B1-99B9-D7884FE3FB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are sensitive to changes in 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240" y="762120"/>
            <a:ext cx="8915400" cy="60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ci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increases</a:t>
            </a:r>
            <a:r>
              <a:rPr b="1" lang="en-US" sz="2000" spc="-1" strike="noStrike">
                <a:solidFill>
                  <a:srgbClr val="00b05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en hydrochloric acid is added to water, hydrogen ions dissociate 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نفص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chloride 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Cl         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Cl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ddition of an acid makes a solution more acid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bas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ndalus"/>
                <a:ea typeface="Andalus"/>
              </a:rPr>
              <a:t>reduces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ion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concentration in a solu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 bases reduc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directly by releasing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combines with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OH → 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+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→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lutions with more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ha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ndalus"/>
                <a:ea typeface="Andalus"/>
              </a:rPr>
              <a:t>+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re basic solutions.`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6"/>
          <p:cNvSpPr/>
          <p:nvPr/>
        </p:nvSpPr>
        <p:spPr>
          <a:xfrm>
            <a:off x="1976400" y="2357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4572000" y="5572080"/>
            <a:ext cx="138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67920"/>
            <a:ext cx="4329000" cy="6318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PH Sc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286200" y="1428480"/>
            <a:ext cx="5072040" cy="55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a neutral solution,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H =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alues for pH decline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تقل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incr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the pH scale is based on [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, values for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] can be easily calculated from the product relationshi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ess than 7 a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olutions have pH valu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more than 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mall change in pH actually indicates a change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biological fluids have pH values in the range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6 to 8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4830840" y="214200"/>
            <a:ext cx="4241880" cy="6286680"/>
            <a:chOff x="4830840" y="214200"/>
            <a:chExt cx="4241880" cy="6286680"/>
          </a:xfrm>
        </p:grpSpPr>
        <p:pic>
          <p:nvPicPr>
            <p:cNvPr id="140" name="Picture 5" descr=""/>
            <p:cNvPicPr/>
            <p:nvPr/>
          </p:nvPicPr>
          <p:blipFill>
            <a:blip r:embed="rId1"/>
            <a:stretch/>
          </p:blipFill>
          <p:spPr>
            <a:xfrm>
              <a:off x="4830840" y="214200"/>
              <a:ext cx="4241880" cy="62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6"/>
            <p:cNvSpPr/>
            <p:nvPr/>
          </p:nvSpPr>
          <p:spPr>
            <a:xfrm>
              <a:off x="7846920" y="1707120"/>
              <a:ext cx="821880" cy="197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14200" y="976320"/>
            <a:ext cx="8296560" cy="581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619600" y="2976480"/>
            <a:ext cx="35244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The Water</a:t>
            </a:r>
            <a:r>
              <a:rPr b="1" lang="en-GB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240" y="1785600"/>
            <a:ext cx="77454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fe exists on Earth because of the abundant liquid wate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ter has been referred to as the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universal solven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queous solutions: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solutions 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have materials dissolved in water)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, it has slightly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si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a slightly</a:t>
            </a:r>
            <a:r>
              <a:rPr b="1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gative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ides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42800" y="213840"/>
            <a:ext cx="2971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Impact"/>
              </a:rPr>
              <a:t>Water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-28440" y="487080"/>
            <a:ext cx="8562960" cy="5329440"/>
            <a:chOff x="-28440" y="487080"/>
            <a:chExt cx="8562960" cy="5329440"/>
          </a:xfrm>
        </p:grpSpPr>
        <p:grpSp>
          <p:nvGrpSpPr>
            <p:cNvPr id="59" name="Group 4"/>
            <p:cNvGrpSpPr/>
            <p:nvPr/>
          </p:nvGrpSpPr>
          <p:grpSpPr>
            <a:xfrm>
              <a:off x="1905120" y="1905120"/>
              <a:ext cx="1828800" cy="1778040"/>
              <a:chOff x="1905120" y="1905120"/>
              <a:chExt cx="1828800" cy="1778040"/>
            </a:xfrm>
          </p:grpSpPr>
          <p:sp>
            <p:nvSpPr>
              <p:cNvPr id="60" name="Oval 5"/>
              <p:cNvSpPr/>
              <p:nvPr/>
            </p:nvSpPr>
            <p:spPr>
              <a:xfrm>
                <a:off x="2514960" y="190512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Oval 6"/>
              <p:cNvSpPr/>
              <p:nvPr/>
            </p:nvSpPr>
            <p:spPr>
              <a:xfrm>
                <a:off x="2590920" y="284508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Oval 7"/>
              <p:cNvSpPr/>
              <p:nvPr/>
            </p:nvSpPr>
            <p:spPr>
              <a:xfrm>
                <a:off x="1905120" y="21081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Line 8"/>
              <p:cNvSpPr/>
              <p:nvPr/>
            </p:nvSpPr>
            <p:spPr>
              <a:xfrm flipH="1">
                <a:off x="2539800" y="251460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9"/>
              <p:cNvSpPr/>
              <p:nvPr/>
            </p:nvSpPr>
            <p:spPr>
              <a:xfrm flipH="1">
                <a:off x="3047760" y="266724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5814360" y="3156480"/>
              <a:ext cx="2216880" cy="2090160"/>
              <a:chOff x="5814360" y="3156480"/>
              <a:chExt cx="2216880" cy="2090160"/>
            </a:xfrm>
          </p:grpSpPr>
          <p:sp>
            <p:nvSpPr>
              <p:cNvPr id="66" name="Oval 11"/>
              <p:cNvSpPr/>
              <p:nvPr/>
            </p:nvSpPr>
            <p:spPr>
              <a:xfrm rot="18381000">
                <a:off x="6224400" y="341424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Oval 12"/>
              <p:cNvSpPr/>
              <p:nvPr/>
            </p:nvSpPr>
            <p:spPr>
              <a:xfrm rot="18381000">
                <a:off x="6965640" y="40953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Oval 13"/>
              <p:cNvSpPr/>
              <p:nvPr/>
            </p:nvSpPr>
            <p:spPr>
              <a:xfrm rot="18381000">
                <a:off x="5965560" y="421056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 flipH="1">
                <a:off x="6513120" y="4160520"/>
                <a:ext cx="225720" cy="30672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6954480" y="4138200"/>
                <a:ext cx="353160" cy="291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Group 16"/>
            <p:cNvGrpSpPr/>
            <p:nvPr/>
          </p:nvGrpSpPr>
          <p:grpSpPr>
            <a:xfrm>
              <a:off x="1143000" y="4038480"/>
              <a:ext cx="1828800" cy="1778040"/>
              <a:chOff x="1143000" y="4038480"/>
              <a:chExt cx="1828800" cy="1778040"/>
            </a:xfrm>
          </p:grpSpPr>
          <p:sp>
            <p:nvSpPr>
              <p:cNvPr id="72" name="Oval 17"/>
              <p:cNvSpPr/>
              <p:nvPr/>
            </p:nvSpPr>
            <p:spPr>
              <a:xfrm>
                <a:off x="1752840" y="40384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Oval 18"/>
              <p:cNvSpPr/>
              <p:nvPr/>
            </p:nvSpPr>
            <p:spPr>
              <a:xfrm>
                <a:off x="1828800" y="49784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Oval 19"/>
              <p:cNvSpPr/>
              <p:nvPr/>
            </p:nvSpPr>
            <p:spPr>
              <a:xfrm>
                <a:off x="1143000" y="42415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Line 20"/>
              <p:cNvSpPr/>
              <p:nvPr/>
            </p:nvSpPr>
            <p:spPr>
              <a:xfrm flipH="1">
                <a:off x="1777680" y="46479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Line 21"/>
              <p:cNvSpPr/>
              <p:nvPr/>
            </p:nvSpPr>
            <p:spPr>
              <a:xfrm flipH="1">
                <a:off x="2285640" y="48006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Group 22"/>
            <p:cNvGrpSpPr/>
            <p:nvPr/>
          </p:nvGrpSpPr>
          <p:grpSpPr>
            <a:xfrm>
              <a:off x="4267080" y="1295280"/>
              <a:ext cx="1828800" cy="1778040"/>
              <a:chOff x="4267080" y="1295280"/>
              <a:chExt cx="1828800" cy="1778040"/>
            </a:xfrm>
          </p:grpSpPr>
          <p:sp>
            <p:nvSpPr>
              <p:cNvPr id="78" name="Oval 23"/>
              <p:cNvSpPr/>
              <p:nvPr/>
            </p:nvSpPr>
            <p:spPr>
              <a:xfrm>
                <a:off x="4876920" y="129528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Oval 24"/>
              <p:cNvSpPr/>
              <p:nvPr/>
            </p:nvSpPr>
            <p:spPr>
              <a:xfrm>
                <a:off x="4952880" y="223524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Oval 25"/>
              <p:cNvSpPr/>
              <p:nvPr/>
            </p:nvSpPr>
            <p:spPr>
              <a:xfrm>
                <a:off x="4267080" y="14983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Line 26"/>
              <p:cNvSpPr/>
              <p:nvPr/>
            </p:nvSpPr>
            <p:spPr>
              <a:xfrm flipH="1">
                <a:off x="4901760" y="190476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Line 27"/>
              <p:cNvSpPr/>
              <p:nvPr/>
            </p:nvSpPr>
            <p:spPr>
              <a:xfrm flipH="1">
                <a:off x="5409720" y="205740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" name="Group 28"/>
            <p:cNvGrpSpPr/>
            <p:nvPr/>
          </p:nvGrpSpPr>
          <p:grpSpPr>
            <a:xfrm>
              <a:off x="3505320" y="3657600"/>
              <a:ext cx="1828800" cy="1778040"/>
              <a:chOff x="3505320" y="3657600"/>
              <a:chExt cx="1828800" cy="1778040"/>
            </a:xfrm>
          </p:grpSpPr>
          <p:sp>
            <p:nvSpPr>
              <p:cNvPr id="84" name="Oval 29"/>
              <p:cNvSpPr/>
              <p:nvPr/>
            </p:nvSpPr>
            <p:spPr>
              <a:xfrm>
                <a:off x="4115160" y="36576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Oval 30"/>
              <p:cNvSpPr/>
              <p:nvPr/>
            </p:nvSpPr>
            <p:spPr>
              <a:xfrm>
                <a:off x="4191120" y="45975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Oval 31"/>
              <p:cNvSpPr/>
              <p:nvPr/>
            </p:nvSpPr>
            <p:spPr>
              <a:xfrm>
                <a:off x="3505320" y="38606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32"/>
              <p:cNvSpPr/>
              <p:nvPr/>
            </p:nvSpPr>
            <p:spPr>
              <a:xfrm flipH="1">
                <a:off x="4140000" y="42670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33"/>
              <p:cNvSpPr/>
              <p:nvPr/>
            </p:nvSpPr>
            <p:spPr>
              <a:xfrm flipH="1">
                <a:off x="4647960" y="44197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9" name="Group 34"/>
            <p:cNvGrpSpPr/>
            <p:nvPr/>
          </p:nvGrpSpPr>
          <p:grpSpPr>
            <a:xfrm>
              <a:off x="6705720" y="1143000"/>
              <a:ext cx="1828800" cy="1778040"/>
              <a:chOff x="6705720" y="1143000"/>
              <a:chExt cx="1828800" cy="1778040"/>
            </a:xfrm>
          </p:grpSpPr>
          <p:sp>
            <p:nvSpPr>
              <p:cNvPr id="90" name="Oval 35"/>
              <p:cNvSpPr/>
              <p:nvPr/>
            </p:nvSpPr>
            <p:spPr>
              <a:xfrm>
                <a:off x="7315560" y="11430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Oval 36"/>
              <p:cNvSpPr/>
              <p:nvPr/>
            </p:nvSpPr>
            <p:spPr>
              <a:xfrm>
                <a:off x="7391520" y="208296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Oval 37"/>
              <p:cNvSpPr/>
              <p:nvPr/>
            </p:nvSpPr>
            <p:spPr>
              <a:xfrm>
                <a:off x="6705720" y="134604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38"/>
              <p:cNvSpPr/>
              <p:nvPr/>
            </p:nvSpPr>
            <p:spPr>
              <a:xfrm flipH="1">
                <a:off x="7340400" y="1752480"/>
                <a:ext cx="38124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39"/>
              <p:cNvSpPr/>
              <p:nvPr/>
            </p:nvSpPr>
            <p:spPr>
              <a:xfrm flipH="1">
                <a:off x="7848360" y="1905120"/>
                <a:ext cx="2556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" name="Group 40"/>
            <p:cNvGrpSpPr/>
            <p:nvPr/>
          </p:nvGrpSpPr>
          <p:grpSpPr>
            <a:xfrm>
              <a:off x="-28440" y="487080"/>
              <a:ext cx="1976400" cy="1983960"/>
              <a:chOff x="-28440" y="487080"/>
              <a:chExt cx="1976400" cy="1983960"/>
            </a:xfrm>
          </p:grpSpPr>
          <p:sp>
            <p:nvSpPr>
              <p:cNvPr id="96" name="Oval 41"/>
              <p:cNvSpPr/>
              <p:nvPr/>
            </p:nvSpPr>
            <p:spPr>
              <a:xfrm rot="4681800">
                <a:off x="653040" y="1184400"/>
                <a:ext cx="1218960" cy="11430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28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00"/>
                    </a:solidFill>
                    <a:latin typeface="Tahoma"/>
                  </a:rPr>
                  <a:t>O</a:t>
                </a:r>
                <a:r>
                  <a:rPr b="1" lang="en-GB" sz="3200" spc="-1" strike="noStrike" baseline="30000">
                    <a:solidFill>
                      <a:srgbClr val="ffff00"/>
                    </a:solidFill>
                    <a:latin typeface="Tahoma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Oval 42"/>
              <p:cNvSpPr/>
              <p:nvPr/>
            </p:nvSpPr>
            <p:spPr>
              <a:xfrm rot="4681800">
                <a:off x="18720" y="1425600"/>
                <a:ext cx="914400" cy="8380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val 43"/>
              <p:cNvSpPr/>
              <p:nvPr/>
            </p:nvSpPr>
            <p:spPr>
              <a:xfrm rot="4681800">
                <a:off x="597600" y="601920"/>
                <a:ext cx="914400" cy="838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4949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Tahoma"/>
                  </a:rPr>
                  <a:t>H</a:t>
                </a:r>
                <a:r>
                  <a:rPr b="1" lang="en-GB" sz="2800" spc="-1" strike="noStrike" baseline="30000">
                    <a:solidFill>
                      <a:srgbClr val="0000ff"/>
                    </a:solidFill>
                    <a:latin typeface="Tahoma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44"/>
              <p:cNvSpPr/>
              <p:nvPr/>
            </p:nvSpPr>
            <p:spPr>
              <a:xfrm flipH="1" flipV="1">
                <a:off x="1095120" y="1181520"/>
                <a:ext cx="79200" cy="3726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45"/>
              <p:cNvSpPr/>
              <p:nvPr/>
            </p:nvSpPr>
            <p:spPr>
              <a:xfrm flipH="1">
                <a:off x="601560" y="1737000"/>
                <a:ext cx="452520" cy="698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1" name="Group 46"/>
          <p:cNvGrpSpPr/>
          <p:nvPr/>
        </p:nvGrpSpPr>
        <p:grpSpPr>
          <a:xfrm>
            <a:off x="546120" y="1752480"/>
            <a:ext cx="7759800" cy="4496040"/>
            <a:chOff x="546120" y="1752480"/>
            <a:chExt cx="7759800" cy="4496040"/>
          </a:xfrm>
        </p:grpSpPr>
        <p:sp>
          <p:nvSpPr>
            <p:cNvPr id="102" name="Line 47"/>
            <p:cNvSpPr/>
            <p:nvPr/>
          </p:nvSpPr>
          <p:spPr>
            <a:xfrm>
              <a:off x="1676520" y="2209680"/>
              <a:ext cx="228600" cy="2286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48"/>
            <p:cNvSpPr/>
            <p:nvPr/>
          </p:nvSpPr>
          <p:spPr>
            <a:xfrm flipH="1">
              <a:off x="3733920" y="2057400"/>
              <a:ext cx="457200" cy="1522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49"/>
            <p:cNvSpPr/>
            <p:nvPr/>
          </p:nvSpPr>
          <p:spPr>
            <a:xfrm flipH="1">
              <a:off x="2666880" y="3733920"/>
              <a:ext cx="152640" cy="30456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50"/>
            <p:cNvSpPr/>
            <p:nvPr/>
          </p:nvSpPr>
          <p:spPr>
            <a:xfrm flipH="1">
              <a:off x="5028840" y="3124080"/>
              <a:ext cx="22860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51"/>
            <p:cNvSpPr/>
            <p:nvPr/>
          </p:nvSpPr>
          <p:spPr>
            <a:xfrm flipH="1">
              <a:off x="7238520" y="2959200"/>
              <a:ext cx="30492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52"/>
            <p:cNvSpPr/>
            <p:nvPr/>
          </p:nvSpPr>
          <p:spPr>
            <a:xfrm flipH="1">
              <a:off x="6121440" y="17524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53"/>
            <p:cNvSpPr/>
            <p:nvPr/>
          </p:nvSpPr>
          <p:spPr>
            <a:xfrm>
              <a:off x="4952880" y="5410080"/>
              <a:ext cx="304920" cy="38124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54"/>
            <p:cNvSpPr/>
            <p:nvPr/>
          </p:nvSpPr>
          <p:spPr>
            <a:xfrm>
              <a:off x="7772400" y="4800600"/>
              <a:ext cx="533520" cy="38088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Line 55"/>
            <p:cNvSpPr/>
            <p:nvPr/>
          </p:nvSpPr>
          <p:spPr>
            <a:xfrm>
              <a:off x="2133720" y="5791320"/>
              <a:ext cx="0" cy="45720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56"/>
            <p:cNvSpPr/>
            <p:nvPr/>
          </p:nvSpPr>
          <p:spPr>
            <a:xfrm flipH="1">
              <a:off x="546120" y="4724280"/>
              <a:ext cx="53352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3344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The Chemistry of Water - YouTube.mp4" descr=""/>
          <p:cNvPicPr/>
          <p:nvPr/>
        </p:nvPicPr>
        <p:blipFill>
          <a:blip r:embed="rId2"/>
          <a:stretch/>
        </p:blipFill>
        <p:spPr>
          <a:xfrm>
            <a:off x="500040" y="1143000"/>
            <a:ext cx="8286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rcRect l="0" t="0" r="0" b="3717"/>
          <a:stretch/>
        </p:blipFill>
        <p:spPr>
          <a:xfrm>
            <a:off x="3200400" y="2357280"/>
            <a:ext cx="5943600" cy="4500720"/>
          </a:xfrm>
          <a:prstGeom prst="rect">
            <a:avLst/>
          </a:prstGeom>
          <a:ln w="0">
            <a:noFill/>
          </a:ln>
        </p:spPr>
      </p:pic>
      <p:grpSp>
        <p:nvGrpSpPr>
          <p:cNvPr id="116" name="عنوان 9"/>
          <p:cNvGrpSpPr/>
          <p:nvPr/>
        </p:nvGrpSpPr>
        <p:grpSpPr>
          <a:xfrm>
            <a:off x="450720" y="268200"/>
            <a:ext cx="8242560" cy="878040"/>
            <a:chOff x="450720" y="268200"/>
            <a:chExt cx="8242560" cy="878040"/>
          </a:xfrm>
        </p:grpSpPr>
        <p:pic>
          <p:nvPicPr>
            <p:cNvPr id="117" name="عنوان 9" descr=""/>
            <p:cNvPicPr/>
            <p:nvPr/>
          </p:nvPicPr>
          <p:blipFill>
            <a:blip r:embed="rId2"/>
            <a:stretch/>
          </p:blipFill>
          <p:spPr>
            <a:xfrm>
              <a:off x="450720" y="268200"/>
              <a:ext cx="824256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he Universal Solvent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er is an effective solvent because it forms hydrogen bond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arge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ola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valent molecules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85840" y="2357280"/>
            <a:ext cx="413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or example,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hen a crystal of salt (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NaC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is placed in </a:t>
            </a: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partial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 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gions of water molecules. While,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ndalus"/>
                <a:ea typeface="Andalus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an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m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ydrogen bon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the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artial positiv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ydrogen regio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water molecu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Universal Solvent (Vide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ArticulateFlashObject"/>
          <p:cNvGraphicFramePr/>
          <p:nvPr/>
        </p:nvGraphicFramePr>
        <p:xfrm>
          <a:off x="468360" y="1628640"/>
          <a:ext cx="835164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8640"/>
                    <a:ext cx="835164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393840" y="1162080"/>
            <a:ext cx="896436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 liquid that is a completely homogeneous mixture of two or more substanc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 sugar cube in a glass of water will dissolve to form a uniform mixture of sugar and wate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v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dissolving ag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solut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 that is diss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Andalu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 the above  example, wate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vent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and sugar is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olute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he aqueous solu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olution in which water is the solven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Water is the solvent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1178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عنوان 1"/>
          <p:cNvGrpSpPr/>
          <p:nvPr/>
        </p:nvGrpSpPr>
        <p:grpSpPr>
          <a:xfrm>
            <a:off x="450720" y="208080"/>
            <a:ext cx="8242560" cy="798480"/>
            <a:chOff x="450720" y="208080"/>
            <a:chExt cx="8242560" cy="798480"/>
          </a:xfrm>
        </p:grpSpPr>
        <p:pic>
          <p:nvPicPr>
            <p:cNvPr id="129" name="عنوان 1" descr=""/>
            <p:cNvPicPr/>
            <p:nvPr/>
          </p:nvPicPr>
          <p:blipFill>
            <a:blip r:embed="rId1"/>
            <a:stretch/>
          </p:blipFill>
          <p:spPr>
            <a:xfrm>
              <a:off x="450720" y="208080"/>
              <a:ext cx="8242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14200"/>
              <a:ext cx="82296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ypes of solution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142920" y="1244520"/>
            <a:ext cx="86868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il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Glucose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any substance that ha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affinity for water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Hydrophob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the substances that have no affinity for water.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ecause the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ave non-ionic and non-polar 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water molecules cannot form hydrogen bonds with these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Phospholipid)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Has end with affinity for water and the other end with no affinity for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Hydrophobic molecules are the major ingredients of cell membra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7:34:02Z</dcterms:created>
  <dc:creator>DELL</dc:creator>
  <dc:description/>
  <dc:language>en-US</dc:language>
  <cp:lastModifiedBy>DELL</cp:lastModifiedBy>
  <dcterms:modified xsi:type="dcterms:W3CDTF">2013-09-23T07:42:37Z</dcterms:modified>
  <cp:revision>3</cp:revision>
  <dc:subject/>
  <dc:title>الشريحة 1</dc:title>
</cp:coreProperties>
</file>