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8A49-B254-4C66-BB17-1947EF63983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F339-BA65-4872-8AF4-FCCE43C07EF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BFBC-54FD-49FC-857E-7971EC98D34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137F-2928-472A-A05E-EB693353E50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6C9F-3862-46D9-A971-462784D1F2C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7190-6A7F-41A5-95B1-15B59907AB3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80D1-566D-40B3-A648-70C64A6A3A4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FD55-AEC1-4AB0-803F-232BBF422FC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C85E-E1C5-4249-A5A2-F51F13737DB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7D52-336B-4916-8426-FFBC4F4A619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952-D7AE-4429-98E5-5114E427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0B8B-20CA-48B1-A8D4-AA599C03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C661-0B39-4B84-8092-EBC175B6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CACE-ACE1-4F9F-AAA4-100DCC3F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978A-7756-4E04-98CF-9237C947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AC92-8B7D-4232-B8BB-AC2E89CD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5A10-BD51-4D96-83D6-2797AF02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8D43-01CF-429D-90DF-3DFEAFA0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021E-4F3F-40AB-9586-7F76C94D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D418-9596-4D2D-B5D2-7D97AB68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134D-2BE6-446C-A426-CE93BD07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DC0D-FBA5-413B-A9B3-473E32E4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9BE5-AC89-41BA-BEDA-640EECC0FE1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32394" t="16604" r="14349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rganisms are sensitive to changes in 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240" y="762120"/>
            <a:ext cx="8915400" cy="60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he aci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s a substance that </a:t>
            </a:r>
            <a:r>
              <a:rPr b="1" lang="en-US" sz="2000" spc="-1" strike="noStrike" u="sng">
                <a:solidFill>
                  <a:srgbClr val="00b050"/>
                </a:solidFill>
                <a:uFillTx/>
                <a:latin typeface="Andalus"/>
                <a:ea typeface="Andalus"/>
              </a:rPr>
              <a:t>increases</a:t>
            </a:r>
            <a:r>
              <a:rPr b="1" lang="en-US" sz="2000" spc="-1" strike="noStrike">
                <a:solidFill>
                  <a:srgbClr val="00b050"/>
                </a:solidFill>
                <a:latin typeface="Andalus"/>
                <a:ea typeface="Andalu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hydrogen ion</a:t>
            </a: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) concentration in a solu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When hydrochloric acid is added to water, hydrogen ions dissociate  </a:t>
            </a:r>
            <a:r>
              <a:rPr b="0" lang="ar-EG" sz="2000" spc="-1" strike="noStrike">
                <a:solidFill>
                  <a:srgbClr val="000000"/>
                </a:solidFill>
                <a:latin typeface="Andalus"/>
                <a:cs typeface="Andalus"/>
              </a:rPr>
              <a:t>تنفصل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from chloride 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60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Cl          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 + Cl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Addition of an acid makes a solution more acid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he bas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s any substance that </a:t>
            </a:r>
            <a:r>
              <a:rPr b="1" lang="en-US" sz="2000" spc="-1" strike="noStrike" u="sng">
                <a:solidFill>
                  <a:srgbClr val="00b050"/>
                </a:solidFill>
                <a:uFillTx/>
                <a:latin typeface="Andalus"/>
                <a:ea typeface="Andalus"/>
              </a:rPr>
              <a:t>reduces</a:t>
            </a: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hydrogen ion</a:t>
            </a: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) concentration in a solu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Some bases reduce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directly by accepting hydrogen 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Other bases reduce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indirectly by releasing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O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that combines with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NaOH → Na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 + O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O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 + 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 → 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Solutions with more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O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-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than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are basic solutions.`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152280" y="68580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6"/>
          <p:cNvSpPr/>
          <p:nvPr/>
        </p:nvSpPr>
        <p:spPr>
          <a:xfrm>
            <a:off x="1976400" y="2357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4572000" y="5572080"/>
            <a:ext cx="138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67920"/>
            <a:ext cx="4329000" cy="6318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PH Sc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286200" y="1428480"/>
            <a:ext cx="5072040" cy="55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n a neutral solution,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pH = 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Values for pH decline </a:t>
            </a:r>
            <a:r>
              <a:rPr b="0" lang="ar-EG" sz="2000" spc="-1" strike="noStrike">
                <a:solidFill>
                  <a:srgbClr val="000000"/>
                </a:solidFill>
                <a:latin typeface="Andalus"/>
                <a:cs typeface="Andalus"/>
              </a:rPr>
              <a:t>تقل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s [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] incre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While the pH scale is based on [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H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], values for [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] can be easily calculated from the product relationshi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Acidic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olutions have pH valu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less than 7 and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basic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olutions have pH valu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more than 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 small change in pH actually indicates a change in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H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OH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-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Most biological fluids have pH values in the range of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6 to 8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4830840" y="214200"/>
            <a:ext cx="4241880" cy="6286680"/>
            <a:chOff x="4830840" y="214200"/>
            <a:chExt cx="4241880" cy="6286680"/>
          </a:xfrm>
        </p:grpSpPr>
        <p:pic>
          <p:nvPicPr>
            <p:cNvPr id="140" name="Picture 5" descr=""/>
            <p:cNvPicPr/>
            <p:nvPr/>
          </p:nvPicPr>
          <p:blipFill>
            <a:blip r:embed="rId1"/>
            <a:stretch/>
          </p:blipFill>
          <p:spPr>
            <a:xfrm>
              <a:off x="4830840" y="214200"/>
              <a:ext cx="4241880" cy="628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6"/>
            <p:cNvSpPr/>
            <p:nvPr/>
          </p:nvSpPr>
          <p:spPr>
            <a:xfrm>
              <a:off x="7846920" y="1707120"/>
              <a:ext cx="821880" cy="19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newsflash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rcRect l="32394" t="16604" r="13798" b="1211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92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io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214200" y="976320"/>
            <a:ext cx="8296560" cy="5810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619600" y="2976480"/>
            <a:ext cx="352440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89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ndalus"/>
                <a:ea typeface="Andalus"/>
              </a:rPr>
              <a:t>The Water</a:t>
            </a:r>
            <a:r>
              <a:rPr b="1" lang="en-GB" sz="5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5240" y="1785600"/>
            <a:ext cx="77454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Life exists on Earth because of the abundant liquid water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Water has been referred to as the </a:t>
            </a: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universal solvent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Aqueous solutions: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e solutions </a:t>
            </a:r>
            <a:r>
              <a:rPr b="1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at have materials dissolved in water)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o, it has slightly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ositive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 a slightly</a:t>
            </a:r>
            <a:r>
              <a:rPr b="1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negative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ides</a:t>
            </a:r>
            <a:r>
              <a:rPr b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42800" y="213840"/>
            <a:ext cx="2971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Impact"/>
              </a:rPr>
              <a:t>Water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-28440" y="487080"/>
            <a:ext cx="8562960" cy="5329440"/>
            <a:chOff x="-28440" y="487080"/>
            <a:chExt cx="8562960" cy="5329440"/>
          </a:xfrm>
        </p:grpSpPr>
        <p:grpSp>
          <p:nvGrpSpPr>
            <p:cNvPr id="59" name="Group 4"/>
            <p:cNvGrpSpPr/>
            <p:nvPr/>
          </p:nvGrpSpPr>
          <p:grpSpPr>
            <a:xfrm>
              <a:off x="1905120" y="1905120"/>
              <a:ext cx="1828800" cy="1778040"/>
              <a:chOff x="1905120" y="1905120"/>
              <a:chExt cx="1828800" cy="1778040"/>
            </a:xfrm>
          </p:grpSpPr>
          <p:sp>
            <p:nvSpPr>
              <p:cNvPr id="60" name="Oval 5"/>
              <p:cNvSpPr/>
              <p:nvPr/>
            </p:nvSpPr>
            <p:spPr>
              <a:xfrm>
                <a:off x="2514960" y="190512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Oval 6"/>
              <p:cNvSpPr/>
              <p:nvPr/>
            </p:nvSpPr>
            <p:spPr>
              <a:xfrm>
                <a:off x="2590920" y="284508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Oval 7"/>
              <p:cNvSpPr/>
              <p:nvPr/>
            </p:nvSpPr>
            <p:spPr>
              <a:xfrm>
                <a:off x="1905120" y="210816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Line 8"/>
              <p:cNvSpPr/>
              <p:nvPr/>
            </p:nvSpPr>
            <p:spPr>
              <a:xfrm flipH="1">
                <a:off x="2539800" y="2514600"/>
                <a:ext cx="38124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Line 9"/>
              <p:cNvSpPr/>
              <p:nvPr/>
            </p:nvSpPr>
            <p:spPr>
              <a:xfrm flipH="1">
                <a:off x="3047760" y="2667240"/>
                <a:ext cx="2556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" name="Group 10"/>
            <p:cNvGrpSpPr/>
            <p:nvPr/>
          </p:nvGrpSpPr>
          <p:grpSpPr>
            <a:xfrm>
              <a:off x="5814360" y="3156480"/>
              <a:ext cx="2216880" cy="2090160"/>
              <a:chOff x="5814360" y="3156480"/>
              <a:chExt cx="2216880" cy="2090160"/>
            </a:xfrm>
          </p:grpSpPr>
          <p:sp>
            <p:nvSpPr>
              <p:cNvPr id="66" name="Oval 11"/>
              <p:cNvSpPr/>
              <p:nvPr/>
            </p:nvSpPr>
            <p:spPr>
              <a:xfrm rot="18381000">
                <a:off x="6224400" y="341424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Oval 12"/>
              <p:cNvSpPr/>
              <p:nvPr/>
            </p:nvSpPr>
            <p:spPr>
              <a:xfrm rot="18381000">
                <a:off x="6965640" y="409536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Oval 13"/>
              <p:cNvSpPr/>
              <p:nvPr/>
            </p:nvSpPr>
            <p:spPr>
              <a:xfrm rot="18381000">
                <a:off x="5965560" y="421056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Line 14"/>
              <p:cNvSpPr/>
              <p:nvPr/>
            </p:nvSpPr>
            <p:spPr>
              <a:xfrm flipH="1">
                <a:off x="6513120" y="4160520"/>
                <a:ext cx="225720" cy="30672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Line 15"/>
              <p:cNvSpPr/>
              <p:nvPr/>
            </p:nvSpPr>
            <p:spPr>
              <a:xfrm>
                <a:off x="6954480" y="4138200"/>
                <a:ext cx="353160" cy="2916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" name="Group 16"/>
            <p:cNvGrpSpPr/>
            <p:nvPr/>
          </p:nvGrpSpPr>
          <p:grpSpPr>
            <a:xfrm>
              <a:off x="1143000" y="4038480"/>
              <a:ext cx="1828800" cy="1778040"/>
              <a:chOff x="1143000" y="4038480"/>
              <a:chExt cx="1828800" cy="1778040"/>
            </a:xfrm>
          </p:grpSpPr>
          <p:sp>
            <p:nvSpPr>
              <p:cNvPr id="72" name="Oval 17"/>
              <p:cNvSpPr/>
              <p:nvPr/>
            </p:nvSpPr>
            <p:spPr>
              <a:xfrm>
                <a:off x="1752840" y="403848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Oval 18"/>
              <p:cNvSpPr/>
              <p:nvPr/>
            </p:nvSpPr>
            <p:spPr>
              <a:xfrm>
                <a:off x="1828800" y="497844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Oval 19"/>
              <p:cNvSpPr/>
              <p:nvPr/>
            </p:nvSpPr>
            <p:spPr>
              <a:xfrm>
                <a:off x="1143000" y="424152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Line 20"/>
              <p:cNvSpPr/>
              <p:nvPr/>
            </p:nvSpPr>
            <p:spPr>
              <a:xfrm flipH="1">
                <a:off x="1777680" y="4647960"/>
                <a:ext cx="38124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Line 21"/>
              <p:cNvSpPr/>
              <p:nvPr/>
            </p:nvSpPr>
            <p:spPr>
              <a:xfrm flipH="1">
                <a:off x="2285640" y="4800600"/>
                <a:ext cx="2556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Group 22"/>
            <p:cNvGrpSpPr/>
            <p:nvPr/>
          </p:nvGrpSpPr>
          <p:grpSpPr>
            <a:xfrm>
              <a:off x="4267080" y="1295280"/>
              <a:ext cx="1828800" cy="1778040"/>
              <a:chOff x="4267080" y="1295280"/>
              <a:chExt cx="1828800" cy="1778040"/>
            </a:xfrm>
          </p:grpSpPr>
          <p:sp>
            <p:nvSpPr>
              <p:cNvPr id="78" name="Oval 23"/>
              <p:cNvSpPr/>
              <p:nvPr/>
            </p:nvSpPr>
            <p:spPr>
              <a:xfrm>
                <a:off x="4876920" y="129528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Oval 24"/>
              <p:cNvSpPr/>
              <p:nvPr/>
            </p:nvSpPr>
            <p:spPr>
              <a:xfrm>
                <a:off x="4952880" y="223524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Oval 25"/>
              <p:cNvSpPr/>
              <p:nvPr/>
            </p:nvSpPr>
            <p:spPr>
              <a:xfrm>
                <a:off x="4267080" y="149832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Line 26"/>
              <p:cNvSpPr/>
              <p:nvPr/>
            </p:nvSpPr>
            <p:spPr>
              <a:xfrm flipH="1">
                <a:off x="4901760" y="1904760"/>
                <a:ext cx="38124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Line 27"/>
              <p:cNvSpPr/>
              <p:nvPr/>
            </p:nvSpPr>
            <p:spPr>
              <a:xfrm flipH="1">
                <a:off x="5409720" y="2057400"/>
                <a:ext cx="2556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" name="Group 28"/>
            <p:cNvGrpSpPr/>
            <p:nvPr/>
          </p:nvGrpSpPr>
          <p:grpSpPr>
            <a:xfrm>
              <a:off x="3505320" y="3657600"/>
              <a:ext cx="1828800" cy="1778040"/>
              <a:chOff x="3505320" y="3657600"/>
              <a:chExt cx="1828800" cy="1778040"/>
            </a:xfrm>
          </p:grpSpPr>
          <p:sp>
            <p:nvSpPr>
              <p:cNvPr id="84" name="Oval 29"/>
              <p:cNvSpPr/>
              <p:nvPr/>
            </p:nvSpPr>
            <p:spPr>
              <a:xfrm>
                <a:off x="4115160" y="365760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Oval 30"/>
              <p:cNvSpPr/>
              <p:nvPr/>
            </p:nvSpPr>
            <p:spPr>
              <a:xfrm>
                <a:off x="4191120" y="459756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Oval 31"/>
              <p:cNvSpPr/>
              <p:nvPr/>
            </p:nvSpPr>
            <p:spPr>
              <a:xfrm>
                <a:off x="3505320" y="386064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Line 32"/>
              <p:cNvSpPr/>
              <p:nvPr/>
            </p:nvSpPr>
            <p:spPr>
              <a:xfrm flipH="1">
                <a:off x="4140000" y="4267080"/>
                <a:ext cx="38124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Line 33"/>
              <p:cNvSpPr/>
              <p:nvPr/>
            </p:nvSpPr>
            <p:spPr>
              <a:xfrm flipH="1">
                <a:off x="4647960" y="4419720"/>
                <a:ext cx="2556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9" name="Group 34"/>
            <p:cNvGrpSpPr/>
            <p:nvPr/>
          </p:nvGrpSpPr>
          <p:grpSpPr>
            <a:xfrm>
              <a:off x="6705720" y="1143000"/>
              <a:ext cx="1828800" cy="1778040"/>
              <a:chOff x="6705720" y="1143000"/>
              <a:chExt cx="1828800" cy="1778040"/>
            </a:xfrm>
          </p:grpSpPr>
          <p:sp>
            <p:nvSpPr>
              <p:cNvPr id="90" name="Oval 35"/>
              <p:cNvSpPr/>
              <p:nvPr/>
            </p:nvSpPr>
            <p:spPr>
              <a:xfrm>
                <a:off x="7315560" y="114300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Oval 36"/>
              <p:cNvSpPr/>
              <p:nvPr/>
            </p:nvSpPr>
            <p:spPr>
              <a:xfrm>
                <a:off x="7391520" y="208296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Oval 37"/>
              <p:cNvSpPr/>
              <p:nvPr/>
            </p:nvSpPr>
            <p:spPr>
              <a:xfrm>
                <a:off x="6705720" y="134604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Line 38"/>
              <p:cNvSpPr/>
              <p:nvPr/>
            </p:nvSpPr>
            <p:spPr>
              <a:xfrm flipH="1">
                <a:off x="7340400" y="1752480"/>
                <a:ext cx="38124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Line 39"/>
              <p:cNvSpPr/>
              <p:nvPr/>
            </p:nvSpPr>
            <p:spPr>
              <a:xfrm flipH="1">
                <a:off x="7848360" y="1905120"/>
                <a:ext cx="2556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5" name="Group 40"/>
            <p:cNvGrpSpPr/>
            <p:nvPr/>
          </p:nvGrpSpPr>
          <p:grpSpPr>
            <a:xfrm>
              <a:off x="-28440" y="487080"/>
              <a:ext cx="1976400" cy="1983960"/>
              <a:chOff x="-28440" y="487080"/>
              <a:chExt cx="1976400" cy="1983960"/>
            </a:xfrm>
          </p:grpSpPr>
          <p:sp>
            <p:nvSpPr>
              <p:cNvPr id="96" name="Oval 41"/>
              <p:cNvSpPr/>
              <p:nvPr/>
            </p:nvSpPr>
            <p:spPr>
              <a:xfrm rot="4681800">
                <a:off x="653040" y="118440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Oval 42"/>
              <p:cNvSpPr/>
              <p:nvPr/>
            </p:nvSpPr>
            <p:spPr>
              <a:xfrm rot="4681800">
                <a:off x="18720" y="142560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Oval 43"/>
              <p:cNvSpPr/>
              <p:nvPr/>
            </p:nvSpPr>
            <p:spPr>
              <a:xfrm rot="4681800">
                <a:off x="597600" y="60192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Line 44"/>
              <p:cNvSpPr/>
              <p:nvPr/>
            </p:nvSpPr>
            <p:spPr>
              <a:xfrm flipH="1" flipV="1">
                <a:off x="1095120" y="1181520"/>
                <a:ext cx="79200" cy="3726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Line 45"/>
              <p:cNvSpPr/>
              <p:nvPr/>
            </p:nvSpPr>
            <p:spPr>
              <a:xfrm flipH="1">
                <a:off x="601560" y="1737000"/>
                <a:ext cx="452520" cy="6984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1" name="Group 46"/>
          <p:cNvGrpSpPr/>
          <p:nvPr/>
        </p:nvGrpSpPr>
        <p:grpSpPr>
          <a:xfrm>
            <a:off x="546120" y="1752480"/>
            <a:ext cx="7759800" cy="4496040"/>
            <a:chOff x="546120" y="1752480"/>
            <a:chExt cx="7759800" cy="4496040"/>
          </a:xfrm>
        </p:grpSpPr>
        <p:sp>
          <p:nvSpPr>
            <p:cNvPr id="102" name="Line 47"/>
            <p:cNvSpPr/>
            <p:nvPr/>
          </p:nvSpPr>
          <p:spPr>
            <a:xfrm>
              <a:off x="1676520" y="2209680"/>
              <a:ext cx="228600" cy="2286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Line 48"/>
            <p:cNvSpPr/>
            <p:nvPr/>
          </p:nvSpPr>
          <p:spPr>
            <a:xfrm flipH="1">
              <a:off x="3733920" y="2057400"/>
              <a:ext cx="457200" cy="1522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Line 49"/>
            <p:cNvSpPr/>
            <p:nvPr/>
          </p:nvSpPr>
          <p:spPr>
            <a:xfrm flipH="1">
              <a:off x="2666880" y="3733920"/>
              <a:ext cx="152640" cy="30456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Line 50"/>
            <p:cNvSpPr/>
            <p:nvPr/>
          </p:nvSpPr>
          <p:spPr>
            <a:xfrm flipH="1">
              <a:off x="5028840" y="3124080"/>
              <a:ext cx="228600" cy="4572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Line 51"/>
            <p:cNvSpPr/>
            <p:nvPr/>
          </p:nvSpPr>
          <p:spPr>
            <a:xfrm flipH="1">
              <a:off x="7238520" y="2959200"/>
              <a:ext cx="304920" cy="4572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Line 52"/>
            <p:cNvSpPr/>
            <p:nvPr/>
          </p:nvSpPr>
          <p:spPr>
            <a:xfrm flipH="1">
              <a:off x="6121440" y="1752480"/>
              <a:ext cx="53352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Line 53"/>
            <p:cNvSpPr/>
            <p:nvPr/>
          </p:nvSpPr>
          <p:spPr>
            <a:xfrm>
              <a:off x="4952880" y="5410080"/>
              <a:ext cx="304920" cy="38124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Line 54"/>
            <p:cNvSpPr/>
            <p:nvPr/>
          </p:nvSpPr>
          <p:spPr>
            <a:xfrm>
              <a:off x="7772400" y="4800600"/>
              <a:ext cx="53352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Line 55"/>
            <p:cNvSpPr/>
            <p:nvPr/>
          </p:nvSpPr>
          <p:spPr>
            <a:xfrm>
              <a:off x="2133720" y="5791320"/>
              <a:ext cx="0" cy="4572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Line 56"/>
            <p:cNvSpPr/>
            <p:nvPr/>
          </p:nvSpPr>
          <p:spPr>
            <a:xfrm flipH="1">
              <a:off x="546120" y="4724280"/>
              <a:ext cx="53352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rcRect l="31847" t="16604" r="14349" b="13086"/>
          <a:stretch/>
        </p:blipFill>
        <p:spPr>
          <a:xfrm>
            <a:off x="0" y="0"/>
            <a:ext cx="93344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The Chemistry of Water - YouTube.mp4" descr=""/>
          <p:cNvPicPr/>
          <p:nvPr/>
        </p:nvPicPr>
        <p:blipFill>
          <a:blip r:embed="rId2"/>
          <a:stretch/>
        </p:blipFill>
        <p:spPr>
          <a:xfrm>
            <a:off x="500040" y="1143000"/>
            <a:ext cx="8286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rcRect l="0" t="0" r="0" b="3717"/>
          <a:stretch/>
        </p:blipFill>
        <p:spPr>
          <a:xfrm>
            <a:off x="3200400" y="2357280"/>
            <a:ext cx="5943600" cy="4500720"/>
          </a:xfrm>
          <a:prstGeom prst="rect">
            <a:avLst/>
          </a:prstGeom>
          <a:ln w="0">
            <a:noFill/>
          </a:ln>
        </p:spPr>
      </p:pic>
      <p:grpSp>
        <p:nvGrpSpPr>
          <p:cNvPr id="116" name="عنوان 9"/>
          <p:cNvGrpSpPr/>
          <p:nvPr/>
        </p:nvGrpSpPr>
        <p:grpSpPr>
          <a:xfrm>
            <a:off x="450720" y="268200"/>
            <a:ext cx="8242560" cy="878040"/>
            <a:chOff x="450720" y="268200"/>
            <a:chExt cx="8242560" cy="878040"/>
          </a:xfrm>
        </p:grpSpPr>
        <p:pic>
          <p:nvPicPr>
            <p:cNvPr id="117" name="عنوان 9" descr=""/>
            <p:cNvPicPr/>
            <p:nvPr/>
          </p:nvPicPr>
          <p:blipFill>
            <a:blip r:embed="rId2"/>
            <a:stretch/>
          </p:blipFill>
          <p:spPr>
            <a:xfrm>
              <a:off x="450720" y="268200"/>
              <a:ext cx="824256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The Universal Solven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"/>
          <p:cNvSpPr txBox="1"/>
          <p:nvPr/>
        </p:nvSpPr>
        <p:spPr>
          <a:xfrm>
            <a:off x="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Water is an effective solvent because it forms hydrogen bonds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charged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polar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covalent molecules.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85840" y="2357280"/>
            <a:ext cx="413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rtl="1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For example,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when a crystal of salt (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NaCl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) is placed in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water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, the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Na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cation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for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hydrogen bond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with partial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negative oxygen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regions of water molecules. While, the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Cl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-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 anion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form 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hydrogen bond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with the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partial positive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hydrogen region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water molecule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The Universal Solvent (Video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ArticulateFlashObject"/>
          <p:cNvGraphicFramePr/>
          <p:nvPr/>
        </p:nvGraphicFramePr>
        <p:xfrm>
          <a:off x="468360" y="1628640"/>
          <a:ext cx="835164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ArticulateFlashObjec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28640"/>
                    <a:ext cx="835164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93840" y="1162080"/>
            <a:ext cx="8964360" cy="53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he solu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a liquid that is a completely homogeneous mixture of two or more substanc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rtl="1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Andalus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A sugar cube in a glass of water will dissolve to form a uniform mixture of sugar and water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he solvent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the dissolving agent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he solut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the substance that is dissol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rtl="1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Andalus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In the above  example, water is 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olvent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, and sugar is 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olute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he aqueous solu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the solution in which water is the solvent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Water is the solvent of li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21178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عنوان 1"/>
          <p:cNvGrpSpPr/>
          <p:nvPr/>
        </p:nvGrpSpPr>
        <p:grpSpPr>
          <a:xfrm>
            <a:off x="450720" y="208080"/>
            <a:ext cx="8242560" cy="798480"/>
            <a:chOff x="450720" y="208080"/>
            <a:chExt cx="8242560" cy="798480"/>
          </a:xfrm>
        </p:grpSpPr>
        <p:pic>
          <p:nvPicPr>
            <p:cNvPr id="129" name="عنوان 1" descr=""/>
            <p:cNvPicPr/>
            <p:nvPr/>
          </p:nvPicPr>
          <p:blipFill>
            <a:blip r:embed="rId1"/>
            <a:stretch/>
          </p:blipFill>
          <p:spPr>
            <a:xfrm>
              <a:off x="450720" y="208080"/>
              <a:ext cx="82425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57200" y="214200"/>
              <a:ext cx="82296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ypes of solution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"/>
          <p:cNvSpPr txBox="1"/>
          <p:nvPr/>
        </p:nvSpPr>
        <p:spPr>
          <a:xfrm>
            <a:off x="142920" y="1244520"/>
            <a:ext cx="86868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Hydrophilic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(Glucose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any substance that has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 affinity for water</a:t>
            </a:r>
            <a:r>
              <a:rPr b="0" lang="ar-EG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Hydrophobic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(Lipid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the substances that have no affinity for water.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Because the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have non-ionic and non-polar covalent bo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us, water molecules cannot form hydrogen bonds with these molecu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Amphipathic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(Phospholipid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Has end with affinity for water and the other end with no affinity for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The Hydrophobic molecules are the major ingredients of cell membra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07:34:02Z</dcterms:created>
  <dc:creator>DELL</dc:creator>
  <dc:description/>
  <dc:language>en-US</dc:language>
  <cp:lastModifiedBy>DELL</cp:lastModifiedBy>
  <dcterms:modified xsi:type="dcterms:W3CDTF">2013-09-23T07:42:37Z</dcterms:modified>
  <cp:revision>3</cp:revision>
  <dc:subject/>
  <dc:title>الشريحة 1</dc:title>
</cp:coreProperties>
</file>