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85D-4220-423C-B02F-23213381529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D503-1467-4940-8E69-7561F1E1034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EE21-88AD-41F7-81BB-0301C8A9FDA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0FB1-D031-46EA-947C-1C8CAD2878F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3B45-6A7F-4A90-954C-8516694E550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8B85-5BA6-4550-96A4-94536A72945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EC77-2D29-44C4-946B-B20904288A6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B020-CF31-4666-A4FC-8C0B6D947A4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50B3-1BC6-4C80-8DA0-34BDC247A06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3D31-B134-490A-BEF5-CF14F33F2D5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730-E2EA-40B0-94D9-A1A3128E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388-6BEE-4AC4-86E0-7B0F5195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589-6B55-4408-8A32-2CEE5E17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658-F139-4B94-AEA0-23F904D3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67B-5A40-483C-9F5B-0C6C71BE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164-5008-44C0-8DFE-8FDC8884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B5D-DB1C-4BBB-B51D-F72067E4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CA5-F954-4BE3-85AD-7F9D7A30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C58-C2D8-4CD2-8A20-B6D08D34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BB0-2580-4311-B583-5BE1F927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5BE-9804-451C-A8C1-9740AED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E3C-89D3-4A24-A22F-921F399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F4F1-FEF0-4EA3-8126-0C63477D9BF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sms are sensitive to changes in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762120"/>
            <a:ext cx="8915400" cy="60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aci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s a substance that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ndalus"/>
                <a:ea typeface="Andalus"/>
              </a:rPr>
              <a:t>increases</a:t>
            </a:r>
            <a:r>
              <a:rPr b="1" lang="en-US" sz="2000" spc="-1" strike="noStrike">
                <a:solidFill>
                  <a:srgbClr val="00b050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ion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concentration in a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en hydrochloric acid is added to water, hydrogen ions dissociate 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تنفصل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rom chloride 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Cl         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Cl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ddition of an acid makes a solution more acid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ba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s any substance that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ndalus"/>
                <a:ea typeface="Andalus"/>
              </a:rPr>
              <a:t>reduces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ion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concentration in a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bases reduc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Other bases reduc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indirectly by releasing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combines with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NaOH → 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→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Solutions with mor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than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re basic solutions.`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976400" y="2357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572000" y="557208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67920"/>
            <a:ext cx="4329000" cy="6318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PH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286200" y="1428480"/>
            <a:ext cx="5072040" cy="55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a neutral solution,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H =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Values for pH decline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تقل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s 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 incr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ile the pH scale is based on [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, values for [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 can be easily calculated from the product relationsh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Acid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olutions have pH valu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less than 7 an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olutions have pH valu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more than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small change in pH actually indicates a change in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O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-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biological fluids have pH values in the range of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6 to 8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830840" y="214200"/>
            <a:ext cx="4241880" cy="6286680"/>
            <a:chOff x="4830840" y="214200"/>
            <a:chExt cx="4241880" cy="6286680"/>
          </a:xfrm>
        </p:grpSpPr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4830840" y="214200"/>
              <a:ext cx="4241880" cy="62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6"/>
            <p:cNvSpPr/>
            <p:nvPr/>
          </p:nvSpPr>
          <p:spPr>
            <a:xfrm>
              <a:off x="7846920" y="1707120"/>
              <a:ext cx="821880" cy="19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14200" y="976320"/>
            <a:ext cx="8296560" cy="5810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619600" y="2976480"/>
            <a:ext cx="35244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ndalus"/>
                <a:ea typeface="Andalus"/>
              </a:rPr>
              <a:t>The Water</a:t>
            </a:r>
            <a:r>
              <a:rPr b="1" lang="en-GB" sz="5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240" y="1785600"/>
            <a:ext cx="7745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fe exists on Earth because of the abundant liquid water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ater has been referred to as the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universal solvent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queous solutions: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e solutions </a:t>
            </a:r>
            <a:r>
              <a:rPr b="1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have materials dissolved in water)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, it has slightly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sitive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a slightly</a:t>
            </a:r>
            <a:r>
              <a:rPr b="1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negative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ides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42800" y="213840"/>
            <a:ext cx="2971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Impact"/>
              </a:rPr>
              <a:t>Water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-28440" y="487080"/>
            <a:ext cx="8562960" cy="5329440"/>
            <a:chOff x="-28440" y="487080"/>
            <a:chExt cx="8562960" cy="5329440"/>
          </a:xfrm>
        </p:grpSpPr>
        <p:grpSp>
          <p:nvGrpSpPr>
            <p:cNvPr id="59" name="Group 4"/>
            <p:cNvGrpSpPr/>
            <p:nvPr/>
          </p:nvGrpSpPr>
          <p:grpSpPr>
            <a:xfrm>
              <a:off x="1905120" y="1905120"/>
              <a:ext cx="1828800" cy="1778040"/>
              <a:chOff x="1905120" y="1905120"/>
              <a:chExt cx="1828800" cy="1778040"/>
            </a:xfrm>
          </p:grpSpPr>
          <p:sp>
            <p:nvSpPr>
              <p:cNvPr id="60" name="Oval 5"/>
              <p:cNvSpPr/>
              <p:nvPr/>
            </p:nvSpPr>
            <p:spPr>
              <a:xfrm>
                <a:off x="2514960" y="190512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Oval 6"/>
              <p:cNvSpPr/>
              <p:nvPr/>
            </p:nvSpPr>
            <p:spPr>
              <a:xfrm>
                <a:off x="2590920" y="284508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1905120" y="210816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Line 8"/>
              <p:cNvSpPr/>
              <p:nvPr/>
            </p:nvSpPr>
            <p:spPr>
              <a:xfrm flipH="1">
                <a:off x="2539800" y="251460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 flipH="1">
                <a:off x="3047760" y="266724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5814360" y="3156480"/>
              <a:ext cx="2216880" cy="2090160"/>
              <a:chOff x="5814360" y="3156480"/>
              <a:chExt cx="2216880" cy="2090160"/>
            </a:xfrm>
          </p:grpSpPr>
          <p:sp>
            <p:nvSpPr>
              <p:cNvPr id="66" name="Oval 11"/>
              <p:cNvSpPr/>
              <p:nvPr/>
            </p:nvSpPr>
            <p:spPr>
              <a:xfrm rot="18381000">
                <a:off x="6224400" y="341424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Oval 12"/>
              <p:cNvSpPr/>
              <p:nvPr/>
            </p:nvSpPr>
            <p:spPr>
              <a:xfrm rot="18381000">
                <a:off x="6965640" y="40953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Oval 13"/>
              <p:cNvSpPr/>
              <p:nvPr/>
            </p:nvSpPr>
            <p:spPr>
              <a:xfrm rot="18381000">
                <a:off x="5965560" y="421056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14"/>
              <p:cNvSpPr/>
              <p:nvPr/>
            </p:nvSpPr>
            <p:spPr>
              <a:xfrm flipH="1">
                <a:off x="6513120" y="4160520"/>
                <a:ext cx="225720" cy="30672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6954480" y="4138200"/>
                <a:ext cx="353160" cy="291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Group 16"/>
            <p:cNvGrpSpPr/>
            <p:nvPr/>
          </p:nvGrpSpPr>
          <p:grpSpPr>
            <a:xfrm>
              <a:off x="1143000" y="4038480"/>
              <a:ext cx="1828800" cy="1778040"/>
              <a:chOff x="1143000" y="4038480"/>
              <a:chExt cx="1828800" cy="1778040"/>
            </a:xfrm>
          </p:grpSpPr>
          <p:sp>
            <p:nvSpPr>
              <p:cNvPr id="72" name="Oval 17"/>
              <p:cNvSpPr/>
              <p:nvPr/>
            </p:nvSpPr>
            <p:spPr>
              <a:xfrm>
                <a:off x="1752840" y="403848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Oval 18"/>
              <p:cNvSpPr/>
              <p:nvPr/>
            </p:nvSpPr>
            <p:spPr>
              <a:xfrm>
                <a:off x="1828800" y="497844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1143000" y="42415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H="1">
                <a:off x="1777680" y="464796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H="1">
                <a:off x="2285640" y="480060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22"/>
            <p:cNvGrpSpPr/>
            <p:nvPr/>
          </p:nvGrpSpPr>
          <p:grpSpPr>
            <a:xfrm>
              <a:off x="4267080" y="1295280"/>
              <a:ext cx="1828800" cy="1778040"/>
              <a:chOff x="4267080" y="1295280"/>
              <a:chExt cx="1828800" cy="1778040"/>
            </a:xfrm>
          </p:grpSpPr>
          <p:sp>
            <p:nvSpPr>
              <p:cNvPr id="78" name="Oval 23"/>
              <p:cNvSpPr/>
              <p:nvPr/>
            </p:nvSpPr>
            <p:spPr>
              <a:xfrm>
                <a:off x="4876920" y="129528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4952880" y="223524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267080" y="14983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H="1">
                <a:off x="4901760" y="190476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 flipH="1">
                <a:off x="5409720" y="205740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Group 28"/>
            <p:cNvGrpSpPr/>
            <p:nvPr/>
          </p:nvGrpSpPr>
          <p:grpSpPr>
            <a:xfrm>
              <a:off x="3505320" y="3657600"/>
              <a:ext cx="1828800" cy="1778040"/>
              <a:chOff x="3505320" y="3657600"/>
              <a:chExt cx="1828800" cy="1778040"/>
            </a:xfrm>
          </p:grpSpPr>
          <p:sp>
            <p:nvSpPr>
              <p:cNvPr id="84" name="Oval 29"/>
              <p:cNvSpPr/>
              <p:nvPr/>
            </p:nvSpPr>
            <p:spPr>
              <a:xfrm>
                <a:off x="4115160" y="36576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Oval 30"/>
              <p:cNvSpPr/>
              <p:nvPr/>
            </p:nvSpPr>
            <p:spPr>
              <a:xfrm>
                <a:off x="4191120" y="45975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Oval 31"/>
              <p:cNvSpPr/>
              <p:nvPr/>
            </p:nvSpPr>
            <p:spPr>
              <a:xfrm>
                <a:off x="3505320" y="386064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 flipH="1">
                <a:off x="4140000" y="426708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4647960" y="441972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Group 34"/>
            <p:cNvGrpSpPr/>
            <p:nvPr/>
          </p:nvGrpSpPr>
          <p:grpSpPr>
            <a:xfrm>
              <a:off x="6705720" y="1143000"/>
              <a:ext cx="1828800" cy="1778040"/>
              <a:chOff x="6705720" y="1143000"/>
              <a:chExt cx="1828800" cy="1778040"/>
            </a:xfrm>
          </p:grpSpPr>
          <p:sp>
            <p:nvSpPr>
              <p:cNvPr id="90" name="Oval 35"/>
              <p:cNvSpPr/>
              <p:nvPr/>
            </p:nvSpPr>
            <p:spPr>
              <a:xfrm>
                <a:off x="7315560" y="11430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val 36"/>
              <p:cNvSpPr/>
              <p:nvPr/>
            </p:nvSpPr>
            <p:spPr>
              <a:xfrm>
                <a:off x="7391520" y="20829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Oval 37"/>
              <p:cNvSpPr/>
              <p:nvPr/>
            </p:nvSpPr>
            <p:spPr>
              <a:xfrm>
                <a:off x="6705720" y="134604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7340400" y="175248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7848360" y="190512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40"/>
            <p:cNvGrpSpPr/>
            <p:nvPr/>
          </p:nvGrpSpPr>
          <p:grpSpPr>
            <a:xfrm>
              <a:off x="-28440" y="487080"/>
              <a:ext cx="1976400" cy="1983960"/>
              <a:chOff x="-28440" y="487080"/>
              <a:chExt cx="1976400" cy="1983960"/>
            </a:xfrm>
          </p:grpSpPr>
          <p:sp>
            <p:nvSpPr>
              <p:cNvPr id="96" name="Oval 41"/>
              <p:cNvSpPr/>
              <p:nvPr/>
            </p:nvSpPr>
            <p:spPr>
              <a:xfrm rot="4681800">
                <a:off x="653040" y="11844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Oval 42"/>
              <p:cNvSpPr/>
              <p:nvPr/>
            </p:nvSpPr>
            <p:spPr>
              <a:xfrm rot="4681800">
                <a:off x="18720" y="142560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val 43"/>
              <p:cNvSpPr/>
              <p:nvPr/>
            </p:nvSpPr>
            <p:spPr>
              <a:xfrm rot="4681800">
                <a:off x="597600" y="6019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 flipV="1">
                <a:off x="1095120" y="1181520"/>
                <a:ext cx="79200" cy="372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H="1">
                <a:off x="601560" y="1737000"/>
                <a:ext cx="452520" cy="698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1" name="Group 46"/>
          <p:cNvGrpSpPr/>
          <p:nvPr/>
        </p:nvGrpSpPr>
        <p:grpSpPr>
          <a:xfrm>
            <a:off x="546120" y="1752480"/>
            <a:ext cx="7759800" cy="4496040"/>
            <a:chOff x="546120" y="1752480"/>
            <a:chExt cx="7759800" cy="4496040"/>
          </a:xfrm>
        </p:grpSpPr>
        <p:sp>
          <p:nvSpPr>
            <p:cNvPr id="102" name="Line 47"/>
            <p:cNvSpPr/>
            <p:nvPr/>
          </p:nvSpPr>
          <p:spPr>
            <a:xfrm>
              <a:off x="1676520" y="2209680"/>
              <a:ext cx="228600" cy="228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48"/>
            <p:cNvSpPr/>
            <p:nvPr/>
          </p:nvSpPr>
          <p:spPr>
            <a:xfrm flipH="1">
              <a:off x="3733920" y="2057400"/>
              <a:ext cx="457200" cy="1522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49"/>
            <p:cNvSpPr/>
            <p:nvPr/>
          </p:nvSpPr>
          <p:spPr>
            <a:xfrm flipH="1">
              <a:off x="2666880" y="3733920"/>
              <a:ext cx="152640" cy="30456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50"/>
            <p:cNvSpPr/>
            <p:nvPr/>
          </p:nvSpPr>
          <p:spPr>
            <a:xfrm flipH="1">
              <a:off x="5028840" y="3124080"/>
              <a:ext cx="22860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51"/>
            <p:cNvSpPr/>
            <p:nvPr/>
          </p:nvSpPr>
          <p:spPr>
            <a:xfrm flipH="1">
              <a:off x="7238520" y="295920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52"/>
            <p:cNvSpPr/>
            <p:nvPr/>
          </p:nvSpPr>
          <p:spPr>
            <a:xfrm flipH="1">
              <a:off x="6121440" y="1752480"/>
              <a:ext cx="5335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53"/>
            <p:cNvSpPr/>
            <p:nvPr/>
          </p:nvSpPr>
          <p:spPr>
            <a:xfrm>
              <a:off x="4952880" y="5410080"/>
              <a:ext cx="304920" cy="38124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54"/>
            <p:cNvSpPr/>
            <p:nvPr/>
          </p:nvSpPr>
          <p:spPr>
            <a:xfrm>
              <a:off x="7772400" y="4800600"/>
              <a:ext cx="53352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55"/>
            <p:cNvSpPr/>
            <p:nvPr/>
          </p:nvSpPr>
          <p:spPr>
            <a:xfrm>
              <a:off x="2133720" y="579132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56"/>
            <p:cNvSpPr/>
            <p:nvPr/>
          </p:nvSpPr>
          <p:spPr>
            <a:xfrm flipH="1">
              <a:off x="546120" y="4724280"/>
              <a:ext cx="5335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31847" t="16604" r="14349" b="13086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The Chemistry of Water - YouTube.mp4" descr=""/>
          <p:cNvPicPr/>
          <p:nvPr/>
        </p:nvPicPr>
        <p:blipFill>
          <a:blip r:embed="rId2"/>
          <a:stretch/>
        </p:blipFill>
        <p:spPr>
          <a:xfrm>
            <a:off x="500040" y="1143000"/>
            <a:ext cx="828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rcRect l="0" t="0" r="0" b="3717"/>
          <a:stretch/>
        </p:blipFill>
        <p:spPr>
          <a:xfrm>
            <a:off x="3200400" y="2357280"/>
            <a:ext cx="5943600" cy="4500720"/>
          </a:xfrm>
          <a:prstGeom prst="rect">
            <a:avLst/>
          </a:prstGeom>
          <a:ln w="0">
            <a:noFill/>
          </a:ln>
        </p:spPr>
      </p:pic>
      <p:grpSp>
        <p:nvGrpSpPr>
          <p:cNvPr id="116" name="عنوان 9"/>
          <p:cNvGrpSpPr/>
          <p:nvPr/>
        </p:nvGrpSpPr>
        <p:grpSpPr>
          <a:xfrm>
            <a:off x="450720" y="268200"/>
            <a:ext cx="8242560" cy="878040"/>
            <a:chOff x="450720" y="268200"/>
            <a:chExt cx="8242560" cy="878040"/>
          </a:xfrm>
        </p:grpSpPr>
        <p:pic>
          <p:nvPicPr>
            <p:cNvPr id="117" name="عنوان 9" descr=""/>
            <p:cNvPicPr/>
            <p:nvPr/>
          </p:nvPicPr>
          <p:blipFill>
            <a:blip r:embed="rId2"/>
            <a:stretch/>
          </p:blipFill>
          <p:spPr>
            <a:xfrm>
              <a:off x="450720" y="268200"/>
              <a:ext cx="82425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The Universal Solve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ater is an effective solvent because it forms hydrogen bond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harge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ola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ovalent molecules.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5840" y="2357280"/>
            <a:ext cx="413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For example,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hen a crystal of salt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NaC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is placed in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a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ydrogen bon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partial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egative oxyge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gions of water molecules. While,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an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ydrogen bon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artial positive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ydrogen reg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water molecul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The Universal Solvent (Vide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ArticulateFlashObject"/>
          <p:cNvGraphicFramePr/>
          <p:nvPr/>
        </p:nvGraphicFramePr>
        <p:xfrm>
          <a:off x="468360" y="1628640"/>
          <a:ext cx="835164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ArticulateFlashObjec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83516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93840" y="1162080"/>
            <a:ext cx="896436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u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a liquid that is a completely homogeneous mixture of two or more substanc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ndalu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 sugar cube in a glass of water will dissolve to form a uniform mixture of sugar and water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vent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dissolving agen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ut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ubstance that is diss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ndalu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 the above  example, water is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olvent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, and sugar is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olute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aqueous solu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olution in which water is the solven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Water is the solvent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2117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عنوان 1"/>
          <p:cNvGrpSpPr/>
          <p:nvPr/>
        </p:nvGrpSpPr>
        <p:grpSpPr>
          <a:xfrm>
            <a:off x="450720" y="208080"/>
            <a:ext cx="8242560" cy="798480"/>
            <a:chOff x="450720" y="208080"/>
            <a:chExt cx="8242560" cy="798480"/>
          </a:xfrm>
        </p:grpSpPr>
        <p:pic>
          <p:nvPicPr>
            <p:cNvPr id="129" name="عنوان 1" descr=""/>
            <p:cNvPicPr/>
            <p:nvPr/>
          </p:nvPicPr>
          <p:blipFill>
            <a:blip r:embed="rId1"/>
            <a:stretch/>
          </p:blipFill>
          <p:spPr>
            <a:xfrm>
              <a:off x="450720" y="208080"/>
              <a:ext cx="8242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14200"/>
              <a:ext cx="82296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ypes of solu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142920" y="1244520"/>
            <a:ext cx="86868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Hydrophil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any substance that ha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 affinity for water</a:t>
            </a:r>
            <a:r>
              <a:rPr b="0" lang="ar-EG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Hydrophob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ubstances that have no affinity for water.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ecause the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ave non-ionic and non-polar 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us, water molecules cannot form hydrogen bonds with these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mphipath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Phospho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Has end with affinity for water and the other end with no affinity for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The Hydrophobic molecules are the major ingredients of cell membra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7:34:02Z</dcterms:created>
  <dc:creator>DELL</dc:creator>
  <dc:description/>
  <dc:language>en-US</dc:language>
  <cp:lastModifiedBy>DELL</cp:lastModifiedBy>
  <dcterms:modified xsi:type="dcterms:W3CDTF">2013-09-23T07:42:37Z</dcterms:modified>
  <cp:revision>3</cp:revision>
  <dc:subject/>
  <dc:title>الشريحة 1</dc:title>
</cp:coreProperties>
</file>