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18AD-4694-4A24-9986-C59BEB073C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4024-E1FA-4878-8695-DFDD942219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C658-1532-40B3-B413-E83F5D8E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EB1-79C5-46DF-9FFD-33A5598F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9356F-8ED7-4C6A-A2B6-AEB3F1E4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D8524-4416-4526-81BC-EC4484B8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CC9EA-F74A-42A2-96FF-15F49BA2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FFF43-B8F3-4D90-9BE5-82AAFCB0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37618-5F53-47CE-9BCB-FDD3E551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8C908-8768-413E-81A6-512E4B3E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CCE7B-073B-4D86-A86D-8C94A12C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2D4F3-F4B0-4B75-8B2F-B51F0A04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1636D-B1A6-4D0D-B5D5-501FE8D8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DA816-4EAB-4298-9D85-ACCE4392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D78D-EFE5-4523-9B9E-745BEE79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AFA1F-08F8-4269-B033-190B0A6C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C0B3F-23E5-4087-A9E2-37286171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03C76-0AD3-4348-B683-065D266C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A0C96-CE5E-48F8-9BED-7860E229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50461-46DC-480C-ADA1-1457D699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F06BE-920E-4E8D-8B22-2BDADFB7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2321B-BEBF-42DA-B3DF-0D89AB21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4A5C3-2E7F-4A39-8696-5780661F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22A3F-B82E-4511-AABF-41042EA0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BE8B5-2F9C-474F-AA84-3A49B024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FE09-56D6-4279-8346-557D2CDA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313A0-E45B-4B87-8193-B23BF0B1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FA954-7444-4843-99AB-1D17006F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2E0CA-73FB-460F-AD62-A1EBB5AC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53300-4CA4-4AFE-85EA-2CCDAF26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CD61F-3DA7-425D-AC50-279F0DD8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8F306-3E71-4E50-9FCB-1FB1DB73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7FD27-E90A-44DD-8AB6-548CED5F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C7E51-2AAE-49D5-827B-62F960CD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5C5CC-0D8C-40F0-BB35-A5ED9769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2B5FB-1EBC-4826-BF7A-60755B90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0E42-732D-4DEE-B738-D38C51F2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4FE94-7341-4F02-8BE1-48E91535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CDB4C-D759-44E2-960C-E2672889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9062C-FBE3-441C-83F3-40634263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47BC7-8F29-48F3-9D4D-5DC76D62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365BE-3DE8-4152-8457-B608F33D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A5AE8-9EFF-453E-9187-9D0AC943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CD7F9-D368-4014-B707-8029A324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A0767-423A-4B1E-91B2-30717640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5DF06-F836-42C7-8FE9-00863078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DC68A-DBB6-4CCF-8461-03CB23B4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9AE9-D3AE-4D18-8E4F-0ABB96DE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C5445-F958-45DC-82E6-5510151A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9EA70-D89F-4BAE-9A46-75318338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1736E-89CF-4525-9734-A1EE277A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987D7-9E7B-4E81-B8B3-CA58B7D6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1A2C1-9008-4811-9448-BA64228C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D1B22-E701-4C13-9B82-CE1632B3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ABA89-20D5-4946-92EB-ADCB339D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7DCC09-F908-4332-B8BC-6C511110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9A842-2FF5-4033-B6D4-1A26824D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F3B10C-563D-492E-8238-485E6435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F267-14BF-4693-A666-9251EFB6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89DC2E-D87C-4662-B599-3BB165E5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6F3A5-0D25-482B-9D8C-07661C0E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C5D00D-1932-45FE-B1CC-81550752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DFB27-F114-4AC0-8916-725CC2BD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DB129-08EF-44CE-9B2D-197D8E27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71F6A7-9350-40C4-8714-E5D72878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D5441-5289-4CFE-BBBD-A3D81603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A06771-C69F-4498-BCCA-356DBF02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DE805A-8C91-4EFF-A64F-D4E75045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ADFFA3-D6BC-4427-A0A2-C741F860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C994-4CEF-4B8A-8466-59D75BEA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9B68B3-B04E-4303-BE24-29AE971A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A03A66-AA0F-4D8A-9E33-93FA5737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972CE5-8AFB-4D4D-BFE6-D66AA486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C8880B-98E9-4FBA-8DAA-78545E34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885EC2-6172-483A-B9BE-77CE85F0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59D379-3236-49CB-9DFF-AA90C4DB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0CB0ED-2923-4FF5-8629-C72D0063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6CB7E4-970B-498B-8E04-408D7F41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0FAB18-11D9-479B-AD2D-C74CE7E3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9756-8278-4BA8-836E-D3F37CA5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C5DD-1A82-4989-9637-33CF793A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888C-08D5-45C2-9A86-D6503ACC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5A5-ED7D-4A6F-9D9C-A0AEB84F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A8C9-E5DE-44AA-A173-F85DB886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506E-E1A0-4FB6-9BA3-2E54D396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8A7E-4B16-422C-827E-80B8198C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80EB-0BED-4AED-9FEE-62E3E1EC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533F-AC75-421F-8F5A-D5FFAC04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C6A1E-B853-4AD7-BCF9-7FCD3E0D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E4D37-FD5B-4C42-86B8-7FAD8559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DBF3F-AD51-48F9-9458-E8DD7651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6D94F-85F4-40D9-93C2-2E8760B4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3B0C5-CB5D-4F65-ACA8-75F66C5C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845-3314-478E-9621-E29FAB92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4CA21-54D8-4AFC-BE6C-F64312D7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199DF-191F-4860-B2DF-2BECCB7D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82D27-27FA-489B-8BD8-1F2952E9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DF7F7-A77B-45D2-8442-BC4BA89C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4CB14-3A68-485A-BCAA-06E9AD23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D9F78-AB9B-4D4A-846A-AFD4C141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08B1F-941C-4F47-8320-DB46D39F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24AC6-90F1-43E5-BFA4-B9F780B6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4B011-8CD7-400F-93AF-AB2FD3CC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8522F-7BCA-484F-B0DC-D8A0E6B8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8B3-7B9B-440C-9CF1-4E0E5888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ECF2F-4BF7-49B4-B930-91AECD04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0DD20-67C8-4611-A2E9-661D004C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46CDD-22BA-461D-8B86-3DD11C5D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1FBCB-F78A-4DD0-91B9-19FC4906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43BA2-64B9-4F22-8948-0BEE617D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E49DD-2DD1-4A6E-83DE-206E54BF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6E1BE-7269-4E85-B529-66572176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2801B-E2A7-4718-8768-BCFEFAFC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25828-CFD3-4982-9240-2265920B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36DD3-C4C0-424B-8EEA-EFC77415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DD3-EC12-485A-A247-B68569E4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740AF-7E4E-41CB-8C63-E6F482FC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D4943-37A5-4737-B257-0ED8E8D2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86B59-FEFC-4343-B311-A60BA8DB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AE7C9-08C4-4696-807E-80BDBCE6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C803F-53B7-4849-A04F-7CB78C65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BDFDE-6C6C-4438-A933-BF653AEC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58BD3-BA8D-4D95-AD9C-AA5466EA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84839-5A08-414A-9F75-9FF3A823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C4AAA-6867-4E90-8A57-E01CB7E5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643AF-3398-4C1D-A4FD-4A408C3A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D0B-B1E2-4FBD-84BA-27528757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E80CB-6BC3-451D-85C7-700238AB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5FADE-6621-479D-B2AE-E85DDEAD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E292B-C444-4D91-B308-1A97DDA6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B0EC3-8F94-459D-94E5-864627D1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65A1B-93A5-4D6C-80EB-11C3386D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57223-83E4-429F-96E8-9A224009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170D3-FF69-4738-88C0-3FEAF065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5A3C4-B00D-49B2-9771-0E13811C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3DD96-D75B-44C3-AA28-38695F35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379B6-5095-4BDA-AB58-3A5B40AB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E8D-3A17-4DFD-B709-A486AA75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70E00-764C-432E-ADC1-24A09159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11824-E8C2-4183-8E58-908BBA99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8D6A7-3484-42C9-9916-A0062713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AC919-49E5-45B6-B24E-6C5322C4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91D6B-AA34-4BB2-8EB1-636F7DEE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735BD-4C69-4834-9765-E897B17E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8C6CB-FE83-4B9B-8AA7-F86DFACF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57201-71BD-4CA7-8D6B-30ACE683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CF43B-3C1E-40A1-81DA-ADCAA821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03EC3-AB1C-4618-AF6F-C1A75457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EBC-D547-42CE-BED1-FB9EF70F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A3C43-7A6E-481C-A0F8-57B648A8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14013-6E2A-4996-9FD3-88B76920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7A8C1-5531-4585-BBA5-62F66985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F9C9C-9AD1-4AB4-9A78-8F7F2553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0C307-B8FE-4757-A1C3-02009C32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D203B-C490-41E6-A347-8209F897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E2E89-4571-46F7-8879-D1E30FD2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4D25B-29FC-484F-AAA0-64DC2B51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272A9-88E9-4D79-B41A-1C43CA7C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F2E49-5A97-4D51-A140-2B82761E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8094-BAF4-41DB-BCDE-A515B9EB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9491A-F254-470B-BA47-F3D04798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005D3-CE22-4FF1-811D-5C5A46C5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309ABD-F527-4CA8-9B9E-E5465D72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1CA23-DC59-4DB3-B35E-C228699F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B6B95-A25D-4679-B4BC-2B0C08AE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B16A8-7522-4A39-B775-D4D0AE6F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4F04D-59A6-43E8-8B7D-02FDF682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06958-CDC9-4B30-835B-556D9414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0917D-2E82-4A61-972D-355E7CC8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8302A-73C5-4959-9708-B1B50310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DF5D-654F-4A06-BB3A-3F95163BD1A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890A-B8BE-4286-93A9-4FAB82A8E48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408B-7080-4CC3-A272-7B93D6C6F9C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D298-82C1-48B6-B73F-DC82DB1D38D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9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4082-AB1C-4C3C-A17F-7936936819A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2"/>
          </p:nvPr>
        </p:nvSpPr>
        <p:spPr>
          <a:xfrm>
            <a:off x="6832080" y="6315480"/>
            <a:ext cx="134712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CECB-93BE-4442-8C69-870DB8ACEF72}" type="slidenum">
              <a:rPr b="0" lang="zh-CN" sz="1400" spc="-1" strike="noStrike">
                <a:solidFill>
                  <a:srgbClr val="ffffff"/>
                </a:solidFill>
                <a:latin typeface="Franklin Gothic Book"/>
                <a:ea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9F59-1CDD-4AC8-8FB0-7F601FFF436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FEC3-D2DE-4FE6-BF91-912A1886C9A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3B56-EB43-4DBB-BFFC-A1F599F7959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8707-0935-4314-8C26-FAEB77124B7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631D-CB4D-4212-9810-C8AD10059E2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BC94-7F01-4107-A743-6DFE8AC71E6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056F-327D-4D7B-AED3-D61FDDF3C31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8491-43B4-4411-A9F9-FFFB6BB9E13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Introduction </a:t>
            </a:r>
            <a:r>
              <a:rPr b="0" lang="en-US" sz="4400" spc="-1" strike="noStrike">
                <a:solidFill>
                  <a:srgbClr val="0000ff"/>
                </a:solidFill>
                <a:latin typeface="Perpetua"/>
              </a:rPr>
              <a:t>to</a:t>
            </a: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 Metabolism</a:t>
            </a:r>
            <a:r>
              <a:rPr b="0" lang="en-US" sz="6000" spc="-1" strike="noStrike">
                <a:solidFill>
                  <a:srgbClr val="0000ff"/>
                </a:solidFill>
                <a:latin typeface="Perpetua"/>
              </a:rPr>
              <a:t> 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3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" descr="BioLogo2small"/>
          <p:cNvPicPr/>
          <p:nvPr/>
        </p:nvPicPr>
        <p:blipFill>
          <a:blip r:embed="rId1"/>
          <a:stretch/>
        </p:blipFill>
        <p:spPr>
          <a:xfrm>
            <a:off x="6781680" y="38088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Major purpose living things require energy for</a:t>
            </a:r>
            <a:r>
              <a:rPr b="0" lang="en-US" sz="2800" spc="-1" strike="noStrike">
                <a:solidFill>
                  <a:srgbClr val="0000ff"/>
                </a:solidFill>
                <a:latin typeface="Cambria"/>
              </a:rPr>
              <a:t>:</a:t>
            </a: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3809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echanical work in muscle contraction and other cellular movemen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704" name="Picture 5" descr="active_transport"/>
          <p:cNvPicPr/>
          <p:nvPr/>
        </p:nvPicPr>
        <p:blipFill>
          <a:blip r:embed="rId1"/>
          <a:stretch/>
        </p:blipFill>
        <p:spPr>
          <a:xfrm>
            <a:off x="6248520" y="2057400"/>
            <a:ext cx="2604960" cy="238140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6"/>
          <p:cNvSpPr/>
          <p:nvPr/>
        </p:nvSpPr>
        <p:spPr>
          <a:xfrm>
            <a:off x="6095880" y="12952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ctive transport of molecules and ion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533520" y="579132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ynthesis of biomolecules    and simple precur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9" descr="http://t0.gstatic.com/images?q=tbn:ANd9GcSzngpfWKvA5VC8xt5enJLHSsxzbK7pb0o6ltZhHsQgqODi8gGmdA"/>
          <p:cNvPicPr/>
          <p:nvPr/>
        </p:nvPicPr>
        <p:blipFill>
          <a:blip r:embed="rId2"/>
          <a:stretch/>
        </p:blipFill>
        <p:spPr>
          <a:xfrm>
            <a:off x="685800" y="1905120"/>
            <a:ext cx="2286000" cy="22161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1" descr="http://t1.gstatic.com/images?q=tbn:ANd9GcRygyoZ33DHIN8v7RMF_nopRNLgP_oFQAtMNlxDnuUkOchbU2xG"/>
          <p:cNvPicPr/>
          <p:nvPr/>
        </p:nvPicPr>
        <p:blipFill>
          <a:blip r:embed="rId3"/>
          <a:stretch/>
        </p:blipFill>
        <p:spPr>
          <a:xfrm>
            <a:off x="3733920" y="4876920"/>
            <a:ext cx="2609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962160" y="380520"/>
            <a:ext cx="11430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mbria"/>
              </a:rPr>
              <a:t>ATP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0" name="Rectangle 4"/>
          <p:cNvSpPr/>
          <p:nvPr/>
        </p:nvSpPr>
        <p:spPr>
          <a:xfrm>
            <a:off x="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Nucleotide with three phosphate groups attached to the ribose sug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1faec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  <a:ea typeface="Arial"/>
              </a:rPr>
              <a:t>Most important phosphate compound in metabo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1faec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ne of the common links between catabolism and anabolism is A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TP is used to shuttle chemical energy from catabolism to anabo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11" descr="http://t1.gstatic.com/images?q=tbn:ANd9GcRygyoZ33DHIN8v7RMF_nopRNLgP_oFQAtMNlxDnuUkOchbU2xG"/>
          <p:cNvPicPr/>
          <p:nvPr/>
        </p:nvPicPr>
        <p:blipFill>
          <a:blip r:embed="rId1"/>
          <a:stretch/>
        </p:blipFill>
        <p:spPr>
          <a:xfrm>
            <a:off x="6248520" y="228600"/>
            <a:ext cx="2609640" cy="175248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4" descr="ATP"/>
          <p:cNvPicPr/>
          <p:nvPr/>
        </p:nvPicPr>
        <p:blipFill>
          <a:blip r:embed="rId2"/>
          <a:stretch/>
        </p:blipFill>
        <p:spPr>
          <a:xfrm>
            <a:off x="4800600" y="3048120"/>
            <a:ext cx="4114800" cy="260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A large amount of energy is liberated when</a:t>
            </a:r>
            <a:r>
              <a:rPr b="0" lang="en-US" sz="32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777960" y="14479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42217"/>
                </a:solidFill>
                <a:latin typeface="Cambria"/>
              </a:rPr>
              <a:t>1.</a:t>
            </a:r>
            <a:r>
              <a:rPr b="1" lang="en-US" sz="2000" spc="-1" strike="noStrike">
                <a:solidFill>
                  <a:srgbClr val="742217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913320" y="5029200"/>
            <a:ext cx="4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42217"/>
                </a:solidFill>
                <a:latin typeface="Franklin Gothic Book"/>
              </a:rPr>
              <a:t>2.</a:t>
            </a:r>
            <a:r>
              <a:rPr b="0" lang="en-US" sz="2000" spc="-1" strike="noStrike">
                <a:solidFill>
                  <a:srgbClr val="742217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1447920" y="4951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ATP → AMP + PPi (pyrophospah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1364400" y="144792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mbria"/>
              </a:rPr>
              <a:t>ATP → ADP + Pi (orthophosphate)</a:t>
            </a:r>
            <a:r>
              <a:rPr b="0" lang="en-US" sz="2000" spc="-1" strike="noStrike">
                <a:solidFill>
                  <a:srgbClr val="40404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8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5899320" cy="2576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762120" y="533160"/>
            <a:ext cx="76197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ATP is continuously formed and consumed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Resting person consumes ~ 40kg of ATP/ 24 hr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0" name="Text Box 3"/>
          <p:cNvSpPr/>
          <p:nvPr/>
        </p:nvSpPr>
        <p:spPr>
          <a:xfrm>
            <a:off x="1168200" y="3284640"/>
            <a:ext cx="10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Comic Sans MS"/>
              </a:rPr>
              <a:t>ADP</a:t>
            </a:r>
            <a:r>
              <a:rPr b="1" lang="en-US" sz="2000" spc="-1" strike="noStrike">
                <a:solidFill>
                  <a:srgbClr val="d34817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4"/>
          <p:cNvSpPr/>
          <p:nvPr/>
        </p:nvSpPr>
        <p:spPr>
          <a:xfrm>
            <a:off x="2514600" y="3657600"/>
            <a:ext cx="33526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5"/>
          <p:cNvSpPr/>
          <p:nvPr/>
        </p:nvSpPr>
        <p:spPr>
          <a:xfrm flipH="1">
            <a:off x="2437920" y="3429000"/>
            <a:ext cx="3429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6"/>
          <p:cNvSpPr/>
          <p:nvPr/>
        </p:nvSpPr>
        <p:spPr>
          <a:xfrm>
            <a:off x="6217920" y="3208320"/>
            <a:ext cx="10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34817"/>
                </a:solidFill>
                <a:latin typeface="Comic Sans MS"/>
              </a:rPr>
              <a:t>ATP</a:t>
            </a:r>
            <a:r>
              <a:rPr b="1" lang="en-US" sz="2400" spc="-1" strike="noStrike">
                <a:solidFill>
                  <a:srgbClr val="d34817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7"/>
          <p:cNvSpPr/>
          <p:nvPr/>
        </p:nvSpPr>
        <p:spPr>
          <a:xfrm>
            <a:off x="2209680" y="2590920"/>
            <a:ext cx="4038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Cambria"/>
              </a:rPr>
              <a:t>Motion, Active transport, Biosynthesis, Signal amplification</a:t>
            </a:r>
            <a:r>
              <a:rPr b="0" lang="en-US" sz="1800" spc="-1" strike="noStrike">
                <a:solidFill>
                  <a:srgbClr val="cc0099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8"/>
          <p:cNvSpPr/>
          <p:nvPr/>
        </p:nvSpPr>
        <p:spPr>
          <a:xfrm>
            <a:off x="2247840" y="3886200"/>
            <a:ext cx="4038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42217"/>
                </a:solidFill>
                <a:latin typeface="Cambria"/>
              </a:rPr>
              <a:t>Photosynthesis or oxidation of fuel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9"/>
          <p:cNvSpPr/>
          <p:nvPr/>
        </p:nvSpPr>
        <p:spPr>
          <a:xfrm>
            <a:off x="1295280" y="4876920"/>
            <a:ext cx="66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Basic model of energy exchange in biologic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How do cells make ATP</a:t>
            </a: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0" y="1371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ambria"/>
              </a:rPr>
              <a:t>3 mechanisms of phosphoryl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304920" y="2133720"/>
            <a:ext cx="883908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aec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faecd"/>
                </a:solidFill>
                <a:uFillTx/>
                <a:latin typeface="Cambria"/>
              </a:rPr>
              <a:t>substrate level phosphorylation</a:t>
            </a:r>
            <a:r>
              <a:rPr b="1" lang="en-US" sz="2400" spc="-1" strike="noStrike">
                <a:solidFill>
                  <a:srgbClr val="1faecd"/>
                </a:solidFill>
                <a:latin typeface="Cambria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ere a substrate molecule (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p ) donates its high energy P to ADP making AT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aec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aecd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faecd"/>
                </a:solidFill>
                <a:uFillTx/>
                <a:latin typeface="Cambria"/>
              </a:rPr>
              <a:t>Oxidative phosphory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e- transferred from organic molecules and  passed through a series of acceptors to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aecd"/>
                </a:solidFill>
                <a:latin typeface="Cambria"/>
              </a:rPr>
              <a:t>3.  </a:t>
            </a:r>
            <a:r>
              <a:rPr b="1" lang="en-US" sz="2400" spc="-1" strike="noStrike" u="sng">
                <a:solidFill>
                  <a:srgbClr val="1faecd"/>
                </a:solidFill>
                <a:uFillTx/>
                <a:latin typeface="Cambria"/>
              </a:rPr>
              <a:t>Photophosphorylation </a:t>
            </a:r>
            <a:r>
              <a:rPr b="1" lang="en-US" sz="2400" spc="-1" strike="noStrike">
                <a:solidFill>
                  <a:srgbClr val="1faecd"/>
                </a:solidFill>
                <a:latin typeface="Cambria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ccurs during photosynthesis –light energy used to make ATP 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7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Bookman Old Style"/>
                <a:ea typeface="MS UI Gothic"/>
              </a:rPr>
              <a:t>THANK   YOU</a:t>
            </a:r>
            <a:r>
              <a:rPr b="0" lang="en-US" sz="4400" spc="-1" strike="noStrike">
                <a:solidFill>
                  <a:srgbClr val="696464"/>
                </a:solidFill>
                <a:latin typeface="Bookman Old Style"/>
                <a:ea typeface="MS UI Gothic"/>
              </a:rPr>
              <a:t> !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731" name="Picture 5" descr="coffee break"/>
          <p:cNvPicPr/>
          <p:nvPr/>
        </p:nvPicPr>
        <p:blipFill>
          <a:blip r:embed="rId1"/>
          <a:stretch/>
        </p:blipFill>
        <p:spPr>
          <a:xfrm>
            <a:off x="3352680" y="2133720"/>
            <a:ext cx="22766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3"/>
          <p:cNvSpPr/>
          <p:nvPr/>
        </p:nvSpPr>
        <p:spPr>
          <a:xfrm>
            <a:off x="228600" y="29718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Biosynth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5715000" y="2971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Degrad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304920" y="37339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Reductive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579132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Oxidative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304920" y="46483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Energy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5791320" y="4572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Energy Lib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304920" y="5638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Diverging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5791320" y="55627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  <a:ea typeface="SimSun"/>
              </a:rPr>
              <a:t>Conve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1"/>
          <p:cNvSpPr/>
          <p:nvPr/>
        </p:nvSpPr>
        <p:spPr>
          <a:xfrm>
            <a:off x="4800600" y="16002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mbria"/>
                <a:ea typeface="SimSun"/>
              </a:rPr>
              <a:t>Decomposition of large complex molecules into small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228600" y="152388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mbria"/>
                <a:ea typeface="SimSun"/>
              </a:rPr>
              <a:t>large complex organic molecules are constructed from small molec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TextBox 14"/>
          <p:cNvGrpSpPr/>
          <p:nvPr/>
        </p:nvGrpSpPr>
        <p:grpSpPr>
          <a:xfrm>
            <a:off x="176040" y="438120"/>
            <a:ext cx="3079800" cy="757440"/>
            <a:chOff x="176040" y="438120"/>
            <a:chExt cx="3079800" cy="757440"/>
          </a:xfrm>
        </p:grpSpPr>
        <p:pic>
          <p:nvPicPr>
            <p:cNvPr id="616" name="TextBox 14" descr=""/>
            <p:cNvPicPr/>
            <p:nvPr/>
          </p:nvPicPr>
          <p:blipFill>
            <a:blip r:embed="rId1"/>
            <a:stretch/>
          </p:blipFill>
          <p:spPr>
            <a:xfrm>
              <a:off x="176040" y="438120"/>
              <a:ext cx="30798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228600" y="5335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Perpetua"/>
                </a:rPr>
                <a:t>Catabolis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Down Arrow 21"/>
          <p:cNvSpPr/>
          <p:nvPr/>
        </p:nvSpPr>
        <p:spPr>
          <a:xfrm>
            <a:off x="1523880" y="1143000"/>
            <a:ext cx="304920" cy="5335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TextBox 22"/>
          <p:cNvGrpSpPr/>
          <p:nvPr/>
        </p:nvGrpSpPr>
        <p:grpSpPr>
          <a:xfrm>
            <a:off x="5510160" y="438120"/>
            <a:ext cx="3079800" cy="757440"/>
            <a:chOff x="5510160" y="438120"/>
            <a:chExt cx="3079800" cy="757440"/>
          </a:xfrm>
        </p:grpSpPr>
        <p:pic>
          <p:nvPicPr>
            <p:cNvPr id="620" name="TextBox 22" descr=""/>
            <p:cNvPicPr/>
            <p:nvPr/>
          </p:nvPicPr>
          <p:blipFill>
            <a:blip r:embed="rId2"/>
            <a:stretch/>
          </p:blipFill>
          <p:spPr>
            <a:xfrm>
              <a:off x="5510160" y="438120"/>
              <a:ext cx="30798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5562720" y="53352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Perpetua"/>
                </a:rPr>
                <a:t>Anabolis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Down Arrow 23"/>
          <p:cNvSpPr/>
          <p:nvPr/>
        </p:nvSpPr>
        <p:spPr>
          <a:xfrm>
            <a:off x="6858000" y="1143000"/>
            <a:ext cx="304920" cy="5335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3"/>
          <p:cNvSpPr/>
          <p:nvPr/>
        </p:nvSpPr>
        <p:spPr>
          <a:xfrm>
            <a:off x="533520" y="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mbria"/>
                <a:ea typeface="SimSun"/>
              </a:rPr>
              <a:t>Ca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304920" y="9907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mbria"/>
                <a:ea typeface="SimSu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SimSun"/>
              </a:rPr>
              <a:t>Many</a:t>
            </a: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5"/>
          <p:cNvSpPr/>
          <p:nvPr/>
        </p:nvSpPr>
        <p:spPr>
          <a:xfrm>
            <a:off x="1295280" y="1219320"/>
            <a:ext cx="6858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6"/>
          <p:cNvSpPr/>
          <p:nvPr/>
        </p:nvSpPr>
        <p:spPr>
          <a:xfrm>
            <a:off x="1828800" y="990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mbria"/>
                <a:ea typeface="SimSu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SimSun"/>
              </a:rPr>
              <a:t>Few</a:t>
            </a:r>
            <a:r>
              <a:rPr b="1" lang="en-US" sz="1800" spc="-1" strike="noStrike">
                <a:solidFill>
                  <a:srgbClr val="0000ff"/>
                </a:solidFill>
                <a:latin typeface="Cambria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7"/>
          <p:cNvSpPr/>
          <p:nvPr/>
        </p:nvSpPr>
        <p:spPr>
          <a:xfrm>
            <a:off x="5562720" y="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34817"/>
                </a:solidFill>
                <a:latin typeface="Cambria"/>
                <a:ea typeface="SimSun"/>
              </a:rPr>
              <a:t> </a:t>
            </a:r>
            <a:r>
              <a:rPr b="1" lang="en-US" sz="2800" spc="-1" strike="noStrike">
                <a:solidFill>
                  <a:srgbClr val="d34817"/>
                </a:solidFill>
                <a:latin typeface="Cambria"/>
                <a:ea typeface="SimSun"/>
              </a:rPr>
              <a:t>An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5181480" y="9144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34817"/>
                </a:solidFill>
                <a:latin typeface="Cambria"/>
                <a:ea typeface="SimSun"/>
              </a:rPr>
              <a:t>      </a:t>
            </a:r>
            <a:r>
              <a:rPr b="1" lang="en-US" sz="1800" spc="-1" strike="noStrike">
                <a:solidFill>
                  <a:srgbClr val="d34817"/>
                </a:solidFill>
                <a:latin typeface="Cambria"/>
                <a:ea typeface="SimSun"/>
              </a:rPr>
              <a:t>Few</a:t>
            </a:r>
            <a:r>
              <a:rPr b="1" lang="en-US" sz="1800" spc="-1" strike="noStrike">
                <a:solidFill>
                  <a:srgbClr val="d34817"/>
                </a:solidFill>
                <a:latin typeface="Cambria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9"/>
          <p:cNvSpPr/>
          <p:nvPr/>
        </p:nvSpPr>
        <p:spPr>
          <a:xfrm>
            <a:off x="6324480" y="1143000"/>
            <a:ext cx="685800" cy="0"/>
          </a:xfrm>
          <a:prstGeom prst="line">
            <a:avLst/>
          </a:prstGeom>
          <a:ln w="28440">
            <a:solidFill>
              <a:srgbClr val="d348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6934320" y="914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34817"/>
                </a:solidFill>
                <a:latin typeface="Cambria"/>
                <a:ea typeface="SimSun"/>
              </a:rPr>
              <a:t>  </a:t>
            </a:r>
            <a:r>
              <a:rPr b="1" lang="en-US" sz="1800" spc="-1" strike="noStrike">
                <a:solidFill>
                  <a:srgbClr val="d34817"/>
                </a:solidFill>
                <a:latin typeface="Cambria"/>
                <a:ea typeface="SimSun"/>
              </a:rPr>
              <a:t>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533520" y="457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mbria"/>
                <a:ea typeface="SimSun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  <a:ea typeface="SimSun"/>
              </a:rPr>
              <a:t>converging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2"/>
          <p:cNvSpPr/>
          <p:nvPr/>
        </p:nvSpPr>
        <p:spPr>
          <a:xfrm>
            <a:off x="5638680" y="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mbria"/>
                <a:ea typeface="SimSun"/>
              </a:rPr>
              <a:t> (</a:t>
            </a:r>
            <a:r>
              <a:rPr b="1" lang="en-US" sz="2800" spc="-1" strike="noStrike">
                <a:solidFill>
                  <a:srgbClr val="0000ff"/>
                </a:solidFill>
                <a:latin typeface="Cambria"/>
                <a:ea typeface="SimSun"/>
              </a:rPr>
              <a:t>diverging</a:t>
            </a:r>
            <a:r>
              <a:rPr b="1" lang="en-US" sz="2800" spc="-1" strike="noStrike">
                <a:solidFill>
                  <a:srgbClr val="0000ff"/>
                </a:solidFill>
                <a:latin typeface="Cambri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4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391160" cy="508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"/>
          <p:cNvSpPr/>
          <p:nvPr/>
        </p:nvSpPr>
        <p:spPr>
          <a:xfrm>
            <a:off x="2743200" y="2286000"/>
            <a:ext cx="4114800" cy="3429000"/>
          </a:xfrm>
          <a:prstGeom prst="irregularSeal2">
            <a:avLst/>
          </a:prstGeom>
          <a:solidFill>
            <a:srgbClr val="ffffff"/>
          </a:solidFill>
          <a:ln w="12600">
            <a:solidFill>
              <a:srgbClr val="a28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Text Box 3"/>
          <p:cNvGrpSpPr/>
          <p:nvPr/>
        </p:nvGrpSpPr>
        <p:grpSpPr>
          <a:xfrm>
            <a:off x="480960" y="1096920"/>
            <a:ext cx="2852640" cy="1408320"/>
            <a:chOff x="480960" y="1096920"/>
            <a:chExt cx="2852640" cy="1408320"/>
          </a:xfrm>
        </p:grpSpPr>
        <p:pic>
          <p:nvPicPr>
            <p:cNvPr id="636" name="Text Box 3" descr=""/>
            <p:cNvPicPr/>
            <p:nvPr/>
          </p:nvPicPr>
          <p:blipFill>
            <a:blip r:embed="rId1"/>
            <a:stretch/>
          </p:blipFill>
          <p:spPr>
            <a:xfrm>
              <a:off x="480960" y="1096920"/>
              <a:ext cx="285264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533520" y="1219320"/>
              <a:ext cx="2743200" cy="12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200" spc="-1" strike="noStrike">
                  <a:solidFill>
                    <a:srgbClr val="422e2e"/>
                  </a:solidFill>
                  <a:latin typeface="Cambria"/>
                </a:rPr>
                <a:t>Nutrien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Carbohydrat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Fa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Protein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Rectangle 4"/>
          <p:cNvGrpSpPr/>
          <p:nvPr/>
        </p:nvGrpSpPr>
        <p:grpSpPr>
          <a:xfrm>
            <a:off x="633240" y="5315040"/>
            <a:ext cx="2927520" cy="946080"/>
            <a:chOff x="633240" y="5315040"/>
            <a:chExt cx="2927520" cy="946080"/>
          </a:xfrm>
        </p:grpSpPr>
        <p:pic>
          <p:nvPicPr>
            <p:cNvPr id="639" name="Rectangle 4" descr=""/>
            <p:cNvPicPr/>
            <p:nvPr/>
          </p:nvPicPr>
          <p:blipFill>
            <a:blip r:embed="rId2"/>
            <a:stretch/>
          </p:blipFill>
          <p:spPr>
            <a:xfrm>
              <a:off x="633240" y="5315040"/>
              <a:ext cx="292752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685800" y="5410080"/>
              <a:ext cx="28195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200" spc="-1" strike="noStrike">
                  <a:solidFill>
                    <a:srgbClr val="422e2e"/>
                  </a:solidFill>
                  <a:latin typeface="Cambria"/>
                </a:rPr>
                <a:t>   </a:t>
              </a:r>
              <a:r>
                <a:rPr b="1" lang="en-AU" sz="2200" spc="-1" strike="noStrike">
                  <a:solidFill>
                    <a:srgbClr val="422e2e"/>
                  </a:solidFill>
                  <a:latin typeface="Cambria"/>
                </a:rPr>
                <a:t>End produ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     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H</a:t>
              </a:r>
              <a:r>
                <a:rPr b="0" lang="en-AU" sz="2200" spc="-1" strike="noStrike" baseline="-25000">
                  <a:solidFill>
                    <a:srgbClr val="422e2e"/>
                  </a:solidFill>
                  <a:latin typeface="Cambria"/>
                </a:rPr>
                <a:t>2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O, CO</a:t>
              </a:r>
              <a:r>
                <a:rPr b="0" lang="en-AU" sz="2200" spc="-1" strike="noStrike" baseline="-25000">
                  <a:solidFill>
                    <a:srgbClr val="422e2e"/>
                  </a:solidFill>
                  <a:latin typeface="Cambria"/>
                </a:rPr>
                <a:t>2, </a:t>
              </a:r>
              <a:r>
                <a:rPr b="0" lang="en-AU" sz="2200" spc="-1" strike="noStrike">
                  <a:solidFill>
                    <a:srgbClr val="422e2e"/>
                  </a:solidFill>
                  <a:latin typeface="Cambria"/>
                </a:rPr>
                <a:t>NH</a:t>
              </a:r>
              <a:r>
                <a:rPr b="0" lang="en-AU" sz="2200" spc="-1" strike="noStrike" baseline="-25000">
                  <a:solidFill>
                    <a:srgbClr val="422e2e"/>
                  </a:solidFill>
                  <a:latin typeface="Cambria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Line 5"/>
          <p:cNvSpPr/>
          <p:nvPr/>
        </p:nvSpPr>
        <p:spPr>
          <a:xfrm>
            <a:off x="2286000" y="2666880"/>
            <a:ext cx="0" cy="2667240"/>
          </a:xfrm>
          <a:prstGeom prst="line">
            <a:avLst/>
          </a:prstGeom>
          <a:ln w="7632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"/>
          <p:cNvSpPr/>
          <p:nvPr/>
        </p:nvSpPr>
        <p:spPr>
          <a:xfrm>
            <a:off x="0" y="3352680"/>
            <a:ext cx="2209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Catabolism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oxidative, exergon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Rectangle 7"/>
          <p:cNvGrpSpPr/>
          <p:nvPr/>
        </p:nvGrpSpPr>
        <p:grpSpPr>
          <a:xfrm>
            <a:off x="6040440" y="1017720"/>
            <a:ext cx="2633760" cy="1689120"/>
            <a:chOff x="6040440" y="1017720"/>
            <a:chExt cx="2633760" cy="1689120"/>
          </a:xfrm>
        </p:grpSpPr>
        <p:pic>
          <p:nvPicPr>
            <p:cNvPr id="644" name="Rectangle 7" descr=""/>
            <p:cNvPicPr/>
            <p:nvPr/>
          </p:nvPicPr>
          <p:blipFill>
            <a:blip r:embed="rId3"/>
            <a:stretch/>
          </p:blipFill>
          <p:spPr>
            <a:xfrm>
              <a:off x="6040440" y="1017720"/>
              <a:ext cx="263376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6169320" y="1143000"/>
              <a:ext cx="236628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200" spc="-1" strike="noStrike">
                  <a:solidFill>
                    <a:srgbClr val="0000ff"/>
                  </a:solidFill>
                  <a:latin typeface="Cambria"/>
                </a:rPr>
                <a:t>Macromolec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Proteins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Polysaccharid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Lipi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Nucleic aci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Rectangle 8"/>
          <p:cNvGrpSpPr/>
          <p:nvPr/>
        </p:nvGrpSpPr>
        <p:grpSpPr>
          <a:xfrm>
            <a:off x="5821200" y="4979880"/>
            <a:ext cx="3060720" cy="1689120"/>
            <a:chOff x="5821200" y="4979880"/>
            <a:chExt cx="3060720" cy="1689120"/>
          </a:xfrm>
        </p:grpSpPr>
        <p:pic>
          <p:nvPicPr>
            <p:cNvPr id="647" name="Rectangle 8" descr=""/>
            <p:cNvPicPr/>
            <p:nvPr/>
          </p:nvPicPr>
          <p:blipFill>
            <a:blip r:embed="rId4"/>
            <a:stretch/>
          </p:blipFill>
          <p:spPr>
            <a:xfrm>
              <a:off x="5821200" y="4979880"/>
              <a:ext cx="306072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5988600" y="5105520"/>
              <a:ext cx="275796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200" spc="-1" strike="noStrike">
                  <a:solidFill>
                    <a:srgbClr val="0000ff"/>
                  </a:solidFill>
                  <a:latin typeface="Cambria"/>
                </a:rPr>
                <a:t>Precursor Molecul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Amino aci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Sugar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Fatty acid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      </a:t>
              </a:r>
              <a:r>
                <a:rPr b="0" lang="en-AU" sz="2200" spc="-1" strike="noStrike">
                  <a:solidFill>
                    <a:srgbClr val="0000ff"/>
                  </a:solidFill>
                  <a:latin typeface="Cambria"/>
                </a:rPr>
                <a:t>Nitrogenous bas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Line 9"/>
          <p:cNvSpPr/>
          <p:nvPr/>
        </p:nvSpPr>
        <p:spPr>
          <a:xfrm flipV="1">
            <a:off x="6934320" y="2819520"/>
            <a:ext cx="0" cy="2286000"/>
          </a:xfrm>
          <a:prstGeom prst="line">
            <a:avLst/>
          </a:prstGeom>
          <a:ln w="7632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0"/>
          <p:cNvSpPr/>
          <p:nvPr/>
        </p:nvSpPr>
        <p:spPr>
          <a:xfrm>
            <a:off x="6934320" y="3352680"/>
            <a:ext cx="20574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Anabolism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(reductive, endergon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11"/>
          <p:cNvGrpSpPr/>
          <p:nvPr/>
        </p:nvGrpSpPr>
        <p:grpSpPr>
          <a:xfrm>
            <a:off x="2285640" y="3732840"/>
            <a:ext cx="991080" cy="486000"/>
            <a:chOff x="2285640" y="3732840"/>
            <a:chExt cx="991080" cy="486000"/>
          </a:xfrm>
        </p:grpSpPr>
        <p:sp>
          <p:nvSpPr>
            <p:cNvPr id="652" name="Line 12"/>
            <p:cNvSpPr/>
            <p:nvPr/>
          </p:nvSpPr>
          <p:spPr>
            <a:xfrm>
              <a:off x="2514600" y="4191120"/>
              <a:ext cx="762120" cy="0"/>
            </a:xfrm>
            <a:prstGeom prst="line">
              <a:avLst/>
            </a:prstGeom>
            <a:ln w="19080">
              <a:solidFill>
                <a:srgbClr val="9b2d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3" name="AutoShape 13"/>
            <p:cNvCxnSpPr/>
            <p:nvPr/>
          </p:nvCxnSpPr>
          <p:spPr>
            <a:xfrm flipH="1" rot="16200000">
              <a:off x="2157120" y="3861360"/>
              <a:ext cx="486360" cy="229320"/>
            </a:xfrm>
            <a:prstGeom prst="curvedConnector5">
              <a:avLst>
                <a:gd name="adj1" fmla="val 90518"/>
                <a:gd name="adj2" fmla="val 50000"/>
                <a:gd name="adj3" fmla="val 90518"/>
              </a:avLst>
            </a:prstGeom>
            <a:ln w="19080">
              <a:solidFill>
                <a:srgbClr val="9b2d1f"/>
              </a:solidFill>
              <a:miter/>
            </a:ln>
          </p:spPr>
        </p:cxnSp>
      </p:grpSp>
      <p:sp>
        <p:nvSpPr>
          <p:cNvPr id="654" name="Text Box 14"/>
          <p:cNvSpPr/>
          <p:nvPr/>
        </p:nvSpPr>
        <p:spPr>
          <a:xfrm>
            <a:off x="3809880" y="36576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00ff"/>
                </a:solidFill>
                <a:latin typeface="Cambria"/>
              </a:rPr>
              <a:t>Chemical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5"/>
          <p:cNvSpPr/>
          <p:nvPr/>
        </p:nvSpPr>
        <p:spPr>
          <a:xfrm>
            <a:off x="434340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42217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6"/>
          <p:cNvSpPr/>
          <p:nvPr/>
        </p:nvSpPr>
        <p:spPr>
          <a:xfrm>
            <a:off x="5263560" y="33526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7"/>
          <p:cNvSpPr/>
          <p:nvPr/>
        </p:nvSpPr>
        <p:spPr>
          <a:xfrm>
            <a:off x="3130200" y="35053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8"/>
          <p:cNvSpPr/>
          <p:nvPr/>
        </p:nvSpPr>
        <p:spPr>
          <a:xfrm>
            <a:off x="3124080" y="4191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NAD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9"/>
          <p:cNvSpPr/>
          <p:nvPr/>
        </p:nvSpPr>
        <p:spPr>
          <a:xfrm>
            <a:off x="4880520" y="2895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42217"/>
                </a:solidFill>
                <a:latin typeface="Times New Roman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0"/>
          <p:cNvSpPr/>
          <p:nvPr/>
        </p:nvSpPr>
        <p:spPr>
          <a:xfrm>
            <a:off x="4422240" y="44197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42217"/>
                </a:solidFill>
                <a:latin typeface="Cambri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1"/>
          <p:cNvSpPr/>
          <p:nvPr/>
        </p:nvSpPr>
        <p:spPr>
          <a:xfrm>
            <a:off x="3661560" y="4800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742217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2"/>
          <p:cNvSpPr/>
          <p:nvPr/>
        </p:nvSpPr>
        <p:spPr>
          <a:xfrm>
            <a:off x="5186880" y="42670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3"/>
          <p:cNvSpPr/>
          <p:nvPr/>
        </p:nvSpPr>
        <p:spPr>
          <a:xfrm>
            <a:off x="6019920" y="3276720"/>
            <a:ext cx="761760" cy="0"/>
          </a:xfrm>
          <a:prstGeom prst="line">
            <a:avLst/>
          </a:prstGeom>
          <a:ln w="2844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Group 24"/>
          <p:cNvGrpSpPr/>
          <p:nvPr/>
        </p:nvGrpSpPr>
        <p:grpSpPr>
          <a:xfrm>
            <a:off x="2285640" y="3275640"/>
            <a:ext cx="991080" cy="486000"/>
            <a:chOff x="2285640" y="3275640"/>
            <a:chExt cx="991080" cy="486000"/>
          </a:xfrm>
        </p:grpSpPr>
        <p:sp>
          <p:nvSpPr>
            <p:cNvPr id="665" name="Line 25"/>
            <p:cNvSpPr/>
            <p:nvPr/>
          </p:nvSpPr>
          <p:spPr>
            <a:xfrm>
              <a:off x="2514600" y="3733920"/>
              <a:ext cx="762120" cy="0"/>
            </a:xfrm>
            <a:prstGeom prst="line">
              <a:avLst/>
            </a:prstGeom>
            <a:ln w="19080">
              <a:solidFill>
                <a:srgbClr val="9b2d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6" name="AutoShape 26"/>
            <p:cNvCxnSpPr/>
            <p:nvPr/>
          </p:nvCxnSpPr>
          <p:spPr>
            <a:xfrm flipH="1" rot="16200000">
              <a:off x="2157120" y="3404160"/>
              <a:ext cx="486360" cy="229320"/>
            </a:xfrm>
            <a:prstGeom prst="curvedConnector5">
              <a:avLst>
                <a:gd name="adj1" fmla="val 90518"/>
                <a:gd name="adj2" fmla="val 50000"/>
                <a:gd name="adj3" fmla="val 90518"/>
              </a:avLst>
            </a:prstGeom>
            <a:ln w="19080">
              <a:solidFill>
                <a:srgbClr val="9b2d1f"/>
              </a:solidFill>
              <a:miter/>
            </a:ln>
          </p:spPr>
        </p:cxnSp>
      </p:grpSp>
      <p:grpSp>
        <p:nvGrpSpPr>
          <p:cNvPr id="667" name="Group 27"/>
          <p:cNvGrpSpPr/>
          <p:nvPr/>
        </p:nvGrpSpPr>
        <p:grpSpPr>
          <a:xfrm>
            <a:off x="2285640" y="2742120"/>
            <a:ext cx="991080" cy="486000"/>
            <a:chOff x="2285640" y="2742120"/>
            <a:chExt cx="991080" cy="486000"/>
          </a:xfrm>
        </p:grpSpPr>
        <p:sp>
          <p:nvSpPr>
            <p:cNvPr id="668" name="Line 28"/>
            <p:cNvSpPr/>
            <p:nvPr/>
          </p:nvSpPr>
          <p:spPr>
            <a:xfrm>
              <a:off x="2514600" y="3200400"/>
              <a:ext cx="762120" cy="0"/>
            </a:xfrm>
            <a:prstGeom prst="line">
              <a:avLst/>
            </a:prstGeom>
            <a:ln w="19080">
              <a:solidFill>
                <a:srgbClr val="9b2d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AutoShape 29"/>
            <p:cNvCxnSpPr/>
            <p:nvPr/>
          </p:nvCxnSpPr>
          <p:spPr>
            <a:xfrm flipH="1" rot="16200000">
              <a:off x="2157120" y="2870640"/>
              <a:ext cx="486360" cy="229320"/>
            </a:xfrm>
            <a:prstGeom prst="curvedConnector5">
              <a:avLst>
                <a:gd name="adj1" fmla="val 90518"/>
                <a:gd name="adj2" fmla="val 50000"/>
                <a:gd name="adj3" fmla="val 90518"/>
              </a:avLst>
            </a:prstGeom>
            <a:ln w="19080">
              <a:solidFill>
                <a:srgbClr val="9b2d1f"/>
              </a:solidFill>
              <a:miter/>
            </a:ln>
          </p:spPr>
        </p:cxnSp>
      </p:grpSp>
      <p:sp>
        <p:nvSpPr>
          <p:cNvPr id="670" name="Line 30"/>
          <p:cNvSpPr/>
          <p:nvPr/>
        </p:nvSpPr>
        <p:spPr>
          <a:xfrm>
            <a:off x="6019920" y="3886200"/>
            <a:ext cx="761760" cy="0"/>
          </a:xfrm>
          <a:prstGeom prst="line">
            <a:avLst/>
          </a:prstGeom>
          <a:ln w="2844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31"/>
          <p:cNvSpPr/>
          <p:nvPr/>
        </p:nvSpPr>
        <p:spPr>
          <a:xfrm>
            <a:off x="6019920" y="4267080"/>
            <a:ext cx="761760" cy="0"/>
          </a:xfrm>
          <a:prstGeom prst="line">
            <a:avLst/>
          </a:prstGeom>
          <a:ln w="2844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2"/>
          <p:cNvSpPr/>
          <p:nvPr/>
        </p:nvSpPr>
        <p:spPr>
          <a:xfrm>
            <a:off x="6019920" y="4724280"/>
            <a:ext cx="761760" cy="0"/>
          </a:xfrm>
          <a:prstGeom prst="line">
            <a:avLst/>
          </a:prstGeom>
          <a:ln w="28440">
            <a:solidFill>
              <a:srgbClr val="9b2d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33"/>
          <p:cNvGrpSpPr/>
          <p:nvPr/>
        </p:nvGrpSpPr>
        <p:grpSpPr>
          <a:xfrm>
            <a:off x="2285640" y="4266000"/>
            <a:ext cx="991080" cy="486000"/>
            <a:chOff x="2285640" y="4266000"/>
            <a:chExt cx="991080" cy="486000"/>
          </a:xfrm>
        </p:grpSpPr>
        <p:sp>
          <p:nvSpPr>
            <p:cNvPr id="674" name="Line 34"/>
            <p:cNvSpPr/>
            <p:nvPr/>
          </p:nvSpPr>
          <p:spPr>
            <a:xfrm>
              <a:off x="2514600" y="4724280"/>
              <a:ext cx="762120" cy="0"/>
            </a:xfrm>
            <a:prstGeom prst="line">
              <a:avLst/>
            </a:prstGeom>
            <a:ln w="19080">
              <a:solidFill>
                <a:srgbClr val="9b2d1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5" name="AutoShape 35"/>
            <p:cNvCxnSpPr/>
            <p:nvPr/>
          </p:nvCxnSpPr>
          <p:spPr>
            <a:xfrm flipH="1" rot="16200000">
              <a:off x="2157120" y="4394520"/>
              <a:ext cx="486360" cy="229320"/>
            </a:xfrm>
            <a:prstGeom prst="curvedConnector5">
              <a:avLst>
                <a:gd name="adj1" fmla="val 90518"/>
                <a:gd name="adj2" fmla="val 50000"/>
                <a:gd name="adj3" fmla="val 90518"/>
              </a:avLst>
            </a:prstGeom>
            <a:ln w="19080">
              <a:solidFill>
                <a:srgbClr val="9b2d1f"/>
              </a:solidFill>
              <a:miter/>
            </a:ln>
          </p:spPr>
        </p:cxnSp>
      </p:grpSp>
      <p:sp>
        <p:nvSpPr>
          <p:cNvPr id="676" name="Text Box 36"/>
          <p:cNvSpPr/>
          <p:nvPr/>
        </p:nvSpPr>
        <p:spPr>
          <a:xfrm>
            <a:off x="457200" y="5335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SimSun"/>
              </a:rPr>
              <a:t>Catabolism and anabolism are always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5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437920" y="6854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  <a:ea typeface="幼圆"/>
              </a:rPr>
              <a:t>Chemical energy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mbria"/>
                <a:ea typeface="SimSun"/>
              </a:rPr>
              <a:t>ATP -</a:t>
            </a:r>
            <a:r>
              <a:rPr b="0" lang="en-US" sz="2600" spc="-1" strike="noStrike">
                <a:solidFill>
                  <a:srgbClr val="cc0099"/>
                </a:solidFill>
                <a:latin typeface="Cambria"/>
                <a:ea typeface="SimSu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SimSun"/>
              </a:rPr>
              <a:t>energy currency.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It serves as the driving force for nearly all biochemical process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mbria"/>
                <a:ea typeface="SimSun"/>
              </a:rPr>
              <a:t>NADH,NADPH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SimSun"/>
              </a:rPr>
              <a:t> - reducing powe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SimSun"/>
              </a:rPr>
              <a:t>    </a:t>
            </a:r>
            <a:r>
              <a:rPr b="0" lang="en-US" sz="2600" spc="-1" strike="noStrike">
                <a:solidFill>
                  <a:srgbClr val="cc0099"/>
                </a:solidFill>
                <a:latin typeface="Cambria"/>
                <a:ea typeface="SimSun"/>
              </a:rPr>
              <a:t>NADH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SimSu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r oxidation and energy yielding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en-US" sz="2600" spc="-1" strike="noStrike">
                <a:solidFill>
                  <a:srgbClr val="cc0099"/>
                </a:solidFill>
                <a:latin typeface="Cambria"/>
              </a:rPr>
              <a:t>NADPH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for biosynthetic processes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4648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  <a:ea typeface="幼圆"/>
              </a:rPr>
              <a:t>Metabolic Pathway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609480" y="31528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5"/>
          <p:cNvSpPr/>
          <p:nvPr/>
        </p:nvSpPr>
        <p:spPr>
          <a:xfrm>
            <a:off x="1219320" y="353376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2819520" y="31528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7"/>
          <p:cNvSpPr/>
          <p:nvPr/>
        </p:nvSpPr>
        <p:spPr>
          <a:xfrm>
            <a:off x="3505320" y="353376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4876920" y="31528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9"/>
          <p:cNvSpPr/>
          <p:nvPr/>
        </p:nvSpPr>
        <p:spPr>
          <a:xfrm>
            <a:off x="5486400" y="353376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6934320" y="3152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228600" y="42670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9b2d1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Cambria"/>
                <a:ea typeface="SimSu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  <a:ea typeface="SimSun"/>
              </a:rPr>
              <a:t>A is a precursor  for B, C and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228600" y="4800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9b2d1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Cambria"/>
                <a:ea typeface="SimSu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  <a:ea typeface="SimSun"/>
              </a:rPr>
              <a:t>B is a precursor  for C and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2286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9b2d1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Cambria"/>
                <a:ea typeface="SimSu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  <a:ea typeface="SimSun"/>
              </a:rPr>
              <a:t>C is a precursor for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4"/>
          <p:cNvSpPr/>
          <p:nvPr/>
        </p:nvSpPr>
        <p:spPr>
          <a:xfrm rot="5400000">
            <a:off x="3848040" y="1895040"/>
            <a:ext cx="380880" cy="2286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5"/>
          <p:cNvSpPr/>
          <p:nvPr/>
        </p:nvSpPr>
        <p:spPr>
          <a:xfrm>
            <a:off x="2819520" y="23623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2217"/>
                </a:solidFill>
                <a:latin typeface="Cambria"/>
                <a:ea typeface="SimSun"/>
              </a:rPr>
              <a:t>intermedi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4419720" y="4191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2217"/>
                </a:solidFill>
                <a:latin typeface="Cambria"/>
                <a:ea typeface="SimSun"/>
              </a:rPr>
              <a:t>metabolites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7"/>
          <p:cNvSpPr/>
          <p:nvPr/>
        </p:nvSpPr>
        <p:spPr>
          <a:xfrm>
            <a:off x="1523880" y="1828800"/>
            <a:ext cx="5791320" cy="459720"/>
          </a:xfrm>
          <a:prstGeom prst="rect">
            <a:avLst/>
          </a:prstGeom>
          <a:gradFill rotWithShape="0">
            <a:gsLst>
              <a:gs pos="0">
                <a:srgbClr val="dad2c3"/>
              </a:gs>
              <a:gs pos="100000">
                <a:srgbClr val="fbe0dd"/>
              </a:gs>
            </a:gsLst>
            <a:lin ang="5400000"/>
          </a:gradFill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SimSun"/>
              </a:rPr>
              <a:t>Sequential steps catalyzed by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18"/>
          <p:cNvSpPr/>
          <p:nvPr/>
        </p:nvSpPr>
        <p:spPr>
          <a:xfrm rot="5374200">
            <a:off x="4911480" y="1790640"/>
            <a:ext cx="385560" cy="4418280"/>
          </a:xfrm>
          <a:custGeom>
            <a:avLst/>
            <a:gdLst>
              <a:gd name="textAreaLeft" fmla="*/ 0 w 385560"/>
              <a:gd name="textAreaRight" fmla="*/ 139320 w 385560"/>
              <a:gd name="textAreaTop" fmla="*/ 115200 h 4418280"/>
              <a:gd name="textAreaBottom" fmla="*/ 4303080 h 441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3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  <a:ea typeface="幼圆"/>
              </a:rPr>
              <a:t>Characteristics of  Metabolic Pathway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85440" y="1676160"/>
            <a:ext cx="89154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  <a:ea typeface="SimSun"/>
              </a:rPr>
              <a:t>Metabolic pathways are </a:t>
            </a:r>
            <a:r>
              <a:rPr b="1" lang="en-US" sz="2200" spc="-1" strike="noStrike">
                <a:solidFill>
                  <a:srgbClr val="d34817"/>
                </a:solidFill>
                <a:latin typeface="Cambria"/>
                <a:ea typeface="SimSun"/>
              </a:rPr>
              <a:t>irreversible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  <a:ea typeface="SimSun"/>
              </a:rPr>
              <a:t>Metabolic pathways have </a:t>
            </a:r>
            <a:r>
              <a:rPr b="1" lang="en-US" sz="2200" spc="-1" strike="noStrike">
                <a:solidFill>
                  <a:srgbClr val="d34817"/>
                </a:solidFill>
                <a:latin typeface="Cambria"/>
                <a:ea typeface="SimSun"/>
              </a:rPr>
              <a:t>committed step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Early step unique to a pathway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rreversible step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1faec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Requires energy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buClr>
                <a:srgbClr val="1faec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Often results in a phosphorylated compound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  <a:ea typeface="SimSun"/>
              </a:rPr>
              <a:t>Metabolic pathways are </a:t>
            </a:r>
            <a:r>
              <a:rPr b="1" lang="en-US" sz="2200" spc="-1" strike="noStrike">
                <a:solidFill>
                  <a:srgbClr val="d34817"/>
                </a:solidFill>
                <a:latin typeface="Cambria"/>
                <a:ea typeface="SimSun"/>
              </a:rPr>
              <a:t>regulated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  <a:ea typeface="SimSun"/>
              </a:rPr>
              <a:t>Metabolic pathways are </a:t>
            </a:r>
            <a:r>
              <a:rPr b="1" lang="en-US" sz="2200" spc="-1" strike="noStrike">
                <a:solidFill>
                  <a:srgbClr val="d34817"/>
                </a:solidFill>
                <a:latin typeface="Cambria"/>
                <a:ea typeface="SimSun"/>
              </a:rPr>
              <a:t>compartmentalized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6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6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6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mbria"/>
                <a:ea typeface="幼圆"/>
              </a:rPr>
              <a:t>Cellular level Compartmentation</a:t>
            </a:r>
            <a:r>
              <a:rPr b="0" lang="en-US" sz="3200" spc="-1" strike="noStrike">
                <a:solidFill>
                  <a:srgbClr val="0000ff"/>
                </a:solidFill>
                <a:latin typeface="Cambria"/>
                <a:ea typeface="幼圆"/>
              </a:rPr>
              <a:t> 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80880" y="18288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Cambria"/>
                <a:ea typeface="SimSun"/>
              </a:rPr>
              <a:t>Mitochondria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SimSun"/>
              </a:rPr>
              <a:t> (TCA cycle, fatty acid oxidation, amino acid breakdow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2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2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4817"/>
                </a:solidFill>
                <a:latin typeface="Cambria"/>
                <a:ea typeface="SimSun"/>
              </a:rPr>
              <a:t>Cytosol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SimSun"/>
              </a:rPr>
              <a:t> (glycolysis, fatty acid biosynthesis, pentose phosphate pathway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699" name="Picture 6" descr=""/>
          <p:cNvPicPr/>
          <p:nvPr/>
        </p:nvPicPr>
        <p:blipFill>
          <a:blip r:embed="rId1"/>
          <a:stretch/>
        </p:blipFill>
        <p:spPr>
          <a:xfrm>
            <a:off x="5810400" y="2133720"/>
            <a:ext cx="2865240" cy="380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6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Control of metabolic pathway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42217"/>
                </a:solidFill>
                <a:latin typeface="Cambria"/>
                <a:ea typeface="SimSun"/>
              </a:rPr>
              <a:t>Molecular level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SimSun"/>
              </a:rPr>
              <a:t>Control of enzyme level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SimSun"/>
              </a:rPr>
              <a:t>    </a:t>
            </a:r>
            <a:r>
              <a:rPr b="0" lang="en-US" sz="2600" spc="-1" strike="noStrike">
                <a:solidFill>
                  <a:srgbClr val="0000ff"/>
                </a:solidFill>
                <a:latin typeface="Cambria"/>
              </a:rPr>
              <a:t>gene expression (slow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SimSun"/>
              </a:rPr>
              <a:t>Control of enzyme activity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SimSu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SimSun"/>
              </a:rPr>
              <a:t> (fast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mbria"/>
              </a:rPr>
              <a:t>     </a:t>
            </a:r>
            <a:r>
              <a:rPr b="0" lang="en-US" sz="2600" spc="-1" strike="noStrike">
                <a:solidFill>
                  <a:srgbClr val="0000ff"/>
                </a:solidFill>
                <a:latin typeface="Cambria"/>
              </a:rPr>
              <a:t>- allosteric control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(binding of an effector at one site affects enzyme activity at another site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mbria"/>
              </a:rPr>
              <a:t>     </a:t>
            </a:r>
            <a:r>
              <a:rPr b="0" lang="en-US" sz="2600" spc="-1" strike="noStrike">
                <a:solidFill>
                  <a:srgbClr val="0000ff"/>
                </a:solidFill>
                <a:latin typeface="Cambria"/>
              </a:rPr>
              <a:t>- covalent control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(phosphorylation, adenylylation, etc)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44:31Z</dcterms:created>
  <dc:creator>aalghanouchi</dc:creator>
  <dc:description/>
  <dc:language>en-US</dc:language>
  <cp:lastModifiedBy>Administrator</cp:lastModifiedBy>
  <dcterms:modified xsi:type="dcterms:W3CDTF">2012-02-25T12:24:17Z</dcterms:modified>
  <cp:revision>75</cp:revision>
  <dc:subject/>
  <dc:title>Slide 1</dc:title>
</cp:coreProperties>
</file>