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1D78-FA4A-4E4B-87B0-999830599F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C850-ABBA-4CAE-A67A-D5B6C0ADE5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34F-EE5A-4B2E-9EC4-DD280F42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63F1-9DA7-4F61-A988-F815E187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852DD-1C1F-4EDE-8F24-FF9886F5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9F0C2-6276-4091-A572-161B55D3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F4609-1007-4B0D-9DA5-BABAFEF2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E35E5-5A38-43E1-B5B6-872D8A15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1F107-87B6-4905-8F2E-4F74CE1A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655F3-DFF8-4DE1-A7A5-408E575F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2AD9A-C886-4A58-8710-323A0D8B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A152C-9533-4C53-AE1F-C2B7A65B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9E1FE-2ED8-45F8-A889-4AF90FFA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2D952-707B-4C37-AB04-F5BF312D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FDA-B939-402B-B602-E3CC51FE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AACDE-953B-4AB8-BAE5-28FD65F3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65524-763A-4706-AFF4-BA60EBF2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E5089-9641-4D1B-AB2B-F6B6CE18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4D722-B4A9-456D-BEA3-4676DC4B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E6819-C560-478C-80F4-433C2700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13FFB-CF30-4706-93CB-EFE02180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5D184-FE38-4D84-9C54-208590BF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4DDED-DE84-4061-BEE8-7EE1E222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C7D24-D0D7-493D-9912-C0D56E9F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C7F51-22E7-42DA-A8DD-8E540237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C98-0476-409C-8479-388F3F85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9B639-ECCF-4E59-BC2A-1E773BAC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CE342-CC16-4D82-BAD6-DAF8444E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4DE44-4E21-470C-8A93-DD7B4E62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B9CCF-CCFE-4DFA-BE2D-B12AAF04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45236-0C17-4349-8E7A-5FCAABA7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E88C7-E9C1-422E-9EE0-E4290054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9AE1F-DEFD-47F9-B42A-E3B09B34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6A129-458C-4201-AA0F-D335A368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22714-8EB1-4A4F-8046-D0EB0522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6F23D-0663-4CA5-9577-071140E9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E2DC-BF3E-4F3F-9B9A-D4A86274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6A6C2-3A00-4B75-B6BF-A477300B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5492F-A96B-4336-98EF-2A39CF15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6A7FD-CE07-4AE0-B833-5928B73B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09F05-B0B8-449F-8F24-6DA7DF3C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87067-6A10-4EEF-A10C-FCC1B82C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E6BA7-2E0A-489D-BE61-361860A7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3362C-75C2-4683-A54E-B1F088C7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4D8F4-BFC9-4112-8C4C-3CBE0D37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ED02B-7629-40E1-9F07-678BBC9E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382FF-19BF-48C0-9C22-088541BD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8090-745A-4B9F-810C-27AFDB84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43E38-49BE-4ADB-8788-3EE27D80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DC956-8EEB-4A96-9C74-CE96C317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AB351-E73C-4641-BD53-E7B90890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FCFBB-D778-4CE1-9A02-DF8A0936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CB235-C24E-459F-B666-4E87FB2D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ED9DA-75DC-4BF0-B75F-DE314F00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D2217-9809-4A47-89CA-E7BF6DC1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BAB16A-5787-4621-AC53-6C3234F6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182C4-28C8-4896-A9AE-190B249C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88457F-4CE1-4F8E-87F4-F37BF46E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6610-C693-440C-8618-E5A869A0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042A0-4A0D-4B20-ABE0-98B96F2A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45F2E9-54DD-46D6-B8E1-B1858EAA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771B7-5B3B-4271-AC82-66CEB798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FC134B-DDE8-4A8D-97A4-DD09A80C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60C34-92DB-44D7-8DF3-272AE91A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02FF4-CB20-4538-8527-8C3BA876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66FAD-1C2C-44A4-9E8D-C506BD3A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2DBBD-0336-4E7B-BD54-5B6AC29A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499B9-BEE8-4C17-9E66-C5A9FC1E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43AE1A-2019-4162-B1DE-C1FE3C5E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324E-F2A4-4CFB-B4AA-34A984ED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FA83F3-EDF9-4616-9EAE-4690AC79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ECE57C-3FBE-4803-9C78-8EBA166C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8445DA-CFB5-44EE-AB0A-EA479703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BCC2E-4854-4734-8731-FE0F5AFC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0AEC90-9A4C-4063-86C3-40CF1D15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77C051-DD34-4C11-A6CB-CCC34335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18752F-2349-47A7-B2EB-8DD8F5CE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48FD47-0AE2-4C28-BB51-EF4B15F4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830979-0357-4663-87B2-F9F529F2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3EC3-52E1-4C42-92E2-29D5433A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9CD7-B4B3-4769-85BE-75A87D63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CDC5-C373-4653-A31B-69FB2D41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3963-C6E2-4F5B-8C73-88D5B3CF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C44D-342B-46F4-8B34-FE02D9CA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7F2F-FC68-46A6-AD56-5C1249D2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B3A6-8F4B-4CF8-9F07-9FAF8725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9CA4-EE9A-4DBF-8882-2A0C1B4E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E829-99F7-4966-8269-602BEEE0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E214C-E271-4C63-BBBC-221EB70A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AC1CD-7733-40E2-8B59-554F7B7F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DBC97-5548-4051-A43E-CE9C289F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FE71A-B7A1-4167-A2C1-514A864D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87618-C604-4989-B15D-F47ABAF6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21B0-5660-4128-9C0B-D9702A23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7CCD6-BC1E-40F5-B27E-831CE2A4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4B784-581A-4C3E-A9BF-D13F0B65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224D9-4878-4849-9E77-C0DDA461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EBC9A-7B07-4273-8F23-6AC4819F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EE8BC-7313-4F49-B885-05244CC4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A2684-CDD9-4F70-B65D-6492D98C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0ABCC-B54C-41FA-AC23-81648086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04918-23BE-4125-AE69-7DEAA700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B5E2E-D77D-4209-9A1A-CCE9C685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7F75C-D4AB-4647-AA80-B862E4B0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D7B-374A-4D59-9C44-461A982E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C2838-8DDC-4DC9-A3A2-45612F38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1EEF4-6139-4501-967E-BD0B1F99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16CFE-797F-4ADD-9053-8EBFE408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880C6-9941-46F7-AD8C-C93A212A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59861-E710-4839-8CA1-001A1C7A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79555-515A-4B21-A5C9-F9FEE215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59809-4E00-4548-B42F-ACC21AA1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360A1-13E7-40C9-B24E-7B2B7220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44A96-77D9-4053-B93C-24A9310E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0B540-5401-4836-9351-7DEF1574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E49-8E67-4DF3-81E2-EDA2F3A3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9BCDF-624C-4602-8F6C-4CEFB406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BFC1C-D567-48A1-898D-53AE9B5E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512F8-9AC3-4923-B84D-90BD4F40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42A94-C7EF-49A9-ACDF-9213EFD3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F3B1F-EFD2-453A-AD8E-1172D1AB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21D7B-D042-468B-A892-43B66270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A2C7A-31EA-4421-81AE-F8877E51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0212B-8A82-4A2E-A53A-389C7FA9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ED382-F4D7-4515-A31F-594306F5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D25E0-2B37-4E08-9A8B-EB339AB5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2A2-DCDE-4E62-A78E-7CA7A487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0BE1E-696B-481A-AACB-EFE98FAE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924EB-F2DE-4C09-A0E3-B43E0559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4B03B-8AEA-462B-B1B9-307C46F3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BA418-619D-4DAA-97BA-7DE721CF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CA44A-7917-40A3-848D-43513A98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BD88C-8BC3-4BD4-8317-EC948166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105E4-568E-462B-B553-98971101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1C999-022E-412A-AC32-B1092DA5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E6795-CE8F-4E58-B2F5-B314C7B6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B4286-A035-4F86-A0FD-ABA48EEB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448-AEC5-4807-84EA-097FAF0F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18A81-7126-4546-B9EF-6DD09418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60458-612A-46B1-9604-C183E64A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4E21D-70A2-44C8-BB24-D060557F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96D38-942B-499F-8482-381C9055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48D51-3287-4424-B2D5-D23FFB47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5CA0B-0EC1-41D3-B574-24607A0A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0B30D-BB76-4A19-BFEF-5176A582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53F43-29FB-495F-A7FE-ECE785ED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3A902-B89B-4169-B254-EEFE5350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24054-0CC7-47D0-BAA9-10A4ABA4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AF8A-B303-4274-A86A-44F2450F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94F7A-1A43-4A43-99E7-2D8C404A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83DD4-9192-4693-87E7-3A0631F3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9D765-F617-46A3-8622-67FC0771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6152C-9754-4188-B55A-2D23B583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26A32-56E8-419E-9AA2-9379EC1B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850B1-D8DD-41A9-961F-0DC82932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9F6A4-8937-4E7E-945C-28A8D1AA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7AE27-9123-401F-85BD-3A956551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D1D5E-CA92-4582-8DA2-DD06F835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0D352-A1C7-4244-8FBA-B32CAA8B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1EF-AD58-41A1-A255-8767E844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80EB4-0BDB-4813-BCA1-44B925EB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BDB70-EE3B-49DC-B3B3-E6F0B62B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39C8D-70DD-42CA-8C79-E26BC60E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ABA43-B312-4C5D-B9C0-FE6835D9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28BEB-97E8-4052-A100-F60E55E8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D23DC-9883-43AE-826B-BBAE13D7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DCA0D-BA4A-4E82-A2DB-2E02E28C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DC09F-299F-4BE1-BABB-0BAAD6B9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8A8EE-9F20-483B-8E97-64E6F79C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CC1C8-0935-41C8-9710-D1F9B713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EB76-565F-4B0A-ACFD-CBFEFFEE6A1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17A8-C856-4889-B3C3-D953DF7DAC5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D245-B707-492D-8BC8-B39C21E148A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6A79-0920-4BE8-8615-041D06DDC94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9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92A1-8619-4DDB-B2FB-8046ED41B08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2"/>
          </p:nvPr>
        </p:nvSpPr>
        <p:spPr>
          <a:xfrm>
            <a:off x="6832080" y="6315480"/>
            <a:ext cx="134712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163F-EB10-4269-950A-C884FCBBEB9C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EDCB-924B-437D-B0E5-68F0B95AF16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9C41-5409-4D0D-8058-8010C7B8A40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72D6-2859-487C-9A9C-93F9B985491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EB3A-A7EA-44CF-AECE-638A431CAC6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8F87-7D0C-4296-BEF0-944D5FD6579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BB6F-9761-4BC0-8A74-445C73E986F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CDA6-3DC0-4998-A471-3BE4BC255AB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A4F9-81F4-400D-873E-E264D386938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Introduction </a:t>
            </a:r>
            <a:r>
              <a:rPr b="0" lang="en-US" sz="4400" spc="-1" strike="noStrike">
                <a:solidFill>
                  <a:srgbClr val="0000ff"/>
                </a:solidFill>
                <a:latin typeface="Perpetua"/>
              </a:rPr>
              <a:t>to</a:t>
            </a: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 Metabolism</a:t>
            </a:r>
            <a:r>
              <a:rPr b="0" lang="en-US" sz="6000" spc="-1" strike="noStrike">
                <a:solidFill>
                  <a:srgbClr val="0000ff"/>
                </a:solidFill>
                <a:latin typeface="Perpetua"/>
              </a:rPr>
              <a:t> 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" descr="BioLogo2small"/>
          <p:cNvPicPr/>
          <p:nvPr/>
        </p:nvPicPr>
        <p:blipFill>
          <a:blip r:embed="rId1"/>
          <a:stretch/>
        </p:blipFill>
        <p:spPr>
          <a:xfrm>
            <a:off x="6781680" y="38088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Major purpose living things require energy for</a:t>
            </a: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:</a:t>
            </a: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3809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echanical work in muscle contraction and other cellular move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04" name="Picture 5" descr="active_transport"/>
          <p:cNvPicPr/>
          <p:nvPr/>
        </p:nvPicPr>
        <p:blipFill>
          <a:blip r:embed="rId1"/>
          <a:stretch/>
        </p:blipFill>
        <p:spPr>
          <a:xfrm>
            <a:off x="6248520" y="2057400"/>
            <a:ext cx="2604960" cy="238140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6"/>
          <p:cNvSpPr/>
          <p:nvPr/>
        </p:nvSpPr>
        <p:spPr>
          <a:xfrm>
            <a:off x="6095880" y="12952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ctive transport of molecules and ion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533520" y="579132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ynthesis of biomolecules    and simple precur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9" descr="http://t0.gstatic.com/images?q=tbn:ANd9GcSzngpfWKvA5VC8xt5enJLHSsxzbK7pb0o6ltZhHsQgqODi8gGmdA"/>
          <p:cNvPicPr/>
          <p:nvPr/>
        </p:nvPicPr>
        <p:blipFill>
          <a:blip r:embed="rId2"/>
          <a:stretch/>
        </p:blipFill>
        <p:spPr>
          <a:xfrm>
            <a:off x="685800" y="1905120"/>
            <a:ext cx="2286000" cy="22161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1" descr="http://t1.gstatic.com/images?q=tbn:ANd9GcRygyoZ33DHIN8v7RMF_nopRNLgP_oFQAtMNlxDnuUkOchbU2xG"/>
          <p:cNvPicPr/>
          <p:nvPr/>
        </p:nvPicPr>
        <p:blipFill>
          <a:blip r:embed="rId3"/>
          <a:stretch/>
        </p:blipFill>
        <p:spPr>
          <a:xfrm>
            <a:off x="3733920" y="4876920"/>
            <a:ext cx="2609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962160" y="380520"/>
            <a:ext cx="1143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mbria"/>
              </a:rPr>
              <a:t>ATP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Nucleotide with three phosphate groups attached to the ribose sug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1faec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Arial"/>
              </a:rPr>
              <a:t>Most important phosphate compound in metabo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1faec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ne of the common links between catabolism and anabolism is A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TP is used to shuttle chemical energy from catabolism to anabo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11" descr="http://t1.gstatic.com/images?q=tbn:ANd9GcRygyoZ33DHIN8v7RMF_nopRNLgP_oFQAtMNlxDnuUkOchbU2xG"/>
          <p:cNvPicPr/>
          <p:nvPr/>
        </p:nvPicPr>
        <p:blipFill>
          <a:blip r:embed="rId1"/>
          <a:stretch/>
        </p:blipFill>
        <p:spPr>
          <a:xfrm>
            <a:off x="6248520" y="228600"/>
            <a:ext cx="2609640" cy="175248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4" descr="ATP"/>
          <p:cNvPicPr/>
          <p:nvPr/>
        </p:nvPicPr>
        <p:blipFill>
          <a:blip r:embed="rId2"/>
          <a:stretch/>
        </p:blipFill>
        <p:spPr>
          <a:xfrm>
            <a:off x="4800600" y="3048120"/>
            <a:ext cx="4114800" cy="260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A large amount of energy is liberated when</a:t>
            </a: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777960" y="14479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42217"/>
                </a:solidFill>
                <a:latin typeface="Cambria"/>
              </a:rPr>
              <a:t>1.</a:t>
            </a:r>
            <a:r>
              <a:rPr b="1" lang="en-US" sz="2000" spc="-1" strike="noStrike">
                <a:solidFill>
                  <a:srgbClr val="742217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913320" y="5029200"/>
            <a:ext cx="4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42217"/>
                </a:solidFill>
                <a:latin typeface="Franklin Gothic Book"/>
              </a:rPr>
              <a:t>2.</a:t>
            </a:r>
            <a:r>
              <a:rPr b="0" lang="en-US" sz="2000" spc="-1" strike="noStrike">
                <a:solidFill>
                  <a:srgbClr val="742217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1447920" y="4951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ATP → AMP + PPi (pyrophospah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1364400" y="144792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ATP → ADP + Pi (orthophosphate)</a:t>
            </a:r>
            <a:r>
              <a:rPr b="0" lang="en-US" sz="2000" spc="-1" strike="noStrike">
                <a:solidFill>
                  <a:srgbClr val="40404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8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5899320" cy="2576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762120" y="533160"/>
            <a:ext cx="76197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ATP is continuously formed and consumed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Resting person consumes ~ 40kg of ATP/ 24 hr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0" name="Text Box 3"/>
          <p:cNvSpPr/>
          <p:nvPr/>
        </p:nvSpPr>
        <p:spPr>
          <a:xfrm>
            <a:off x="1168200" y="3284640"/>
            <a:ext cx="10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Comic Sans MS"/>
              </a:rPr>
              <a:t>ADP</a:t>
            </a:r>
            <a:r>
              <a:rPr b="1" lang="en-US" sz="2000" spc="-1" strike="noStrike">
                <a:solidFill>
                  <a:srgbClr val="d34817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4"/>
          <p:cNvSpPr/>
          <p:nvPr/>
        </p:nvSpPr>
        <p:spPr>
          <a:xfrm>
            <a:off x="2514600" y="3657600"/>
            <a:ext cx="33526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5"/>
          <p:cNvSpPr/>
          <p:nvPr/>
        </p:nvSpPr>
        <p:spPr>
          <a:xfrm flipH="1">
            <a:off x="2437920" y="3429000"/>
            <a:ext cx="3429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6"/>
          <p:cNvSpPr/>
          <p:nvPr/>
        </p:nvSpPr>
        <p:spPr>
          <a:xfrm>
            <a:off x="6217920" y="3208320"/>
            <a:ext cx="10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Comic Sans MS"/>
              </a:rPr>
              <a:t>ATP</a:t>
            </a:r>
            <a:r>
              <a:rPr b="1" lang="en-US" sz="2400" spc="-1" strike="noStrike">
                <a:solidFill>
                  <a:srgbClr val="d34817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7"/>
          <p:cNvSpPr/>
          <p:nvPr/>
        </p:nvSpPr>
        <p:spPr>
          <a:xfrm>
            <a:off x="2209680" y="2590920"/>
            <a:ext cx="4038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Cambria"/>
              </a:rPr>
              <a:t>Motion, Active transport, Biosynthesis, Signal amplification</a:t>
            </a:r>
            <a:r>
              <a:rPr b="0" lang="en-US" sz="1800" spc="-1" strike="noStrike">
                <a:solidFill>
                  <a:srgbClr val="cc0099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8"/>
          <p:cNvSpPr/>
          <p:nvPr/>
        </p:nvSpPr>
        <p:spPr>
          <a:xfrm>
            <a:off x="2247840" y="3886200"/>
            <a:ext cx="4038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42217"/>
                </a:solidFill>
                <a:latin typeface="Cambria"/>
              </a:rPr>
              <a:t>Photosynthesis or oxidation of fuel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9"/>
          <p:cNvSpPr/>
          <p:nvPr/>
        </p:nvSpPr>
        <p:spPr>
          <a:xfrm>
            <a:off x="1295280" y="4876920"/>
            <a:ext cx="66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Basic model of energy exchange in biolog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How do cells make ATP</a:t>
            </a: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0" y="1371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ambria"/>
              </a:rPr>
              <a:t>3 mechanisms of phosphoryl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304920" y="2133720"/>
            <a:ext cx="883908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aec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faecd"/>
                </a:solidFill>
                <a:uFillTx/>
                <a:latin typeface="Cambria"/>
              </a:rPr>
              <a:t>substrate level phosphorylation</a:t>
            </a:r>
            <a:r>
              <a:rPr b="1" lang="en-US" sz="2400" spc="-1" strike="noStrike">
                <a:solidFill>
                  <a:srgbClr val="1faecd"/>
                </a:solidFill>
                <a:latin typeface="Cambri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ere a substrate molecule (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p ) donates its high energy P to ADP making AT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aec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aec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faecd"/>
                </a:solidFill>
                <a:uFillTx/>
                <a:latin typeface="Cambria"/>
              </a:rPr>
              <a:t>Oxidative phosphory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- transferred from organic molecules and  passed through a series of acceptors to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aecd"/>
                </a:solidFill>
                <a:latin typeface="Cambria"/>
              </a:rPr>
              <a:t>3.  </a:t>
            </a:r>
            <a:r>
              <a:rPr b="1" lang="en-US" sz="2400" spc="-1" strike="noStrike" u="sng">
                <a:solidFill>
                  <a:srgbClr val="1faecd"/>
                </a:solidFill>
                <a:uFillTx/>
                <a:latin typeface="Cambria"/>
              </a:rPr>
              <a:t>Photophosphorylation </a:t>
            </a:r>
            <a:r>
              <a:rPr b="1" lang="en-US" sz="2400" spc="-1" strike="noStrike">
                <a:solidFill>
                  <a:srgbClr val="1faecd"/>
                </a:solidFill>
                <a:latin typeface="Cambria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ccurs during photosynthesis –light energy used to make ATP 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7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Bookman Old Style"/>
                <a:ea typeface="MS UI Gothic"/>
              </a:rPr>
              <a:t>THANK   YOU</a:t>
            </a:r>
            <a:r>
              <a:rPr b="0" lang="en-US" sz="4400" spc="-1" strike="noStrike">
                <a:solidFill>
                  <a:srgbClr val="696464"/>
                </a:solidFill>
                <a:latin typeface="Bookman Old Style"/>
                <a:ea typeface="MS UI Gothic"/>
              </a:rPr>
              <a:t> !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731" name="Picture 5" descr="coffee break"/>
          <p:cNvPicPr/>
          <p:nvPr/>
        </p:nvPicPr>
        <p:blipFill>
          <a:blip r:embed="rId1"/>
          <a:stretch/>
        </p:blipFill>
        <p:spPr>
          <a:xfrm>
            <a:off x="3352680" y="2133720"/>
            <a:ext cx="22766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3"/>
          <p:cNvSpPr/>
          <p:nvPr/>
        </p:nvSpPr>
        <p:spPr>
          <a:xfrm>
            <a:off x="228600" y="29718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Biosynth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5715000" y="2971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Degrad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304920" y="37339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Reductive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579132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Oxidative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304920" y="46483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Energy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5791320" y="4572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Energy Lib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304920" y="5638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Diverging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5791320" y="55627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Conve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1"/>
          <p:cNvSpPr/>
          <p:nvPr/>
        </p:nvSpPr>
        <p:spPr>
          <a:xfrm>
            <a:off x="4800600" y="16002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mbria"/>
                <a:ea typeface="SimSun"/>
              </a:rPr>
              <a:t>Decomposition of large complex molecules into small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2"/>
          <p:cNvSpPr/>
          <p:nvPr/>
        </p:nvSpPr>
        <p:spPr>
          <a:xfrm>
            <a:off x="228600" y="1523880"/>
            <a:ext cx="35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mbria"/>
                <a:ea typeface="SimSun"/>
              </a:rPr>
              <a:t>large complex organic molecules are constructed from small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TextBox 14"/>
          <p:cNvGrpSpPr/>
          <p:nvPr/>
        </p:nvGrpSpPr>
        <p:grpSpPr>
          <a:xfrm>
            <a:off x="176040" y="438120"/>
            <a:ext cx="3079800" cy="757440"/>
            <a:chOff x="176040" y="438120"/>
            <a:chExt cx="3079800" cy="757440"/>
          </a:xfrm>
        </p:grpSpPr>
        <p:pic>
          <p:nvPicPr>
            <p:cNvPr id="616" name="TextBox 14" descr=""/>
            <p:cNvPicPr/>
            <p:nvPr/>
          </p:nvPicPr>
          <p:blipFill>
            <a:blip r:embed="rId1"/>
            <a:stretch/>
          </p:blipFill>
          <p:spPr>
            <a:xfrm>
              <a:off x="176040" y="438120"/>
              <a:ext cx="30798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228600" y="5335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Perpetua"/>
                </a:rPr>
                <a:t>Catabolis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Down Arrow 21"/>
          <p:cNvSpPr/>
          <p:nvPr/>
        </p:nvSpPr>
        <p:spPr>
          <a:xfrm>
            <a:off x="1523880" y="1143000"/>
            <a:ext cx="304920" cy="5335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TextBox 22"/>
          <p:cNvGrpSpPr/>
          <p:nvPr/>
        </p:nvGrpSpPr>
        <p:grpSpPr>
          <a:xfrm>
            <a:off x="5510160" y="438120"/>
            <a:ext cx="3079800" cy="757440"/>
            <a:chOff x="5510160" y="438120"/>
            <a:chExt cx="3079800" cy="757440"/>
          </a:xfrm>
        </p:grpSpPr>
        <p:pic>
          <p:nvPicPr>
            <p:cNvPr id="620" name="TextBox 22" descr=""/>
            <p:cNvPicPr/>
            <p:nvPr/>
          </p:nvPicPr>
          <p:blipFill>
            <a:blip r:embed="rId2"/>
            <a:stretch/>
          </p:blipFill>
          <p:spPr>
            <a:xfrm>
              <a:off x="5510160" y="438120"/>
              <a:ext cx="30798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5562720" y="5335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Perpetua"/>
                </a:rPr>
                <a:t>Anabolis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Down Arrow 23"/>
          <p:cNvSpPr/>
          <p:nvPr/>
        </p:nvSpPr>
        <p:spPr>
          <a:xfrm>
            <a:off x="6858000" y="1143000"/>
            <a:ext cx="304920" cy="5335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3"/>
          <p:cNvSpPr/>
          <p:nvPr/>
        </p:nvSpPr>
        <p:spPr>
          <a:xfrm>
            <a:off x="533520" y="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mbria"/>
                <a:ea typeface="SimSun"/>
              </a:rPr>
              <a:t>Ca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304920" y="9907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mbria"/>
                <a:ea typeface="SimSu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SimSun"/>
              </a:rPr>
              <a:t>Many</a:t>
            </a: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5"/>
          <p:cNvSpPr/>
          <p:nvPr/>
        </p:nvSpPr>
        <p:spPr>
          <a:xfrm>
            <a:off x="1295280" y="1219320"/>
            <a:ext cx="6858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1828800" y="990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mbria"/>
                <a:ea typeface="SimSu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SimSun"/>
              </a:rPr>
              <a:t>Few</a:t>
            </a: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5562720" y="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34817"/>
                </a:solidFill>
                <a:latin typeface="Cambria"/>
                <a:ea typeface="SimSun"/>
              </a:rPr>
              <a:t> </a:t>
            </a:r>
            <a:r>
              <a:rPr b="1" lang="en-US" sz="2800" spc="-1" strike="noStrike">
                <a:solidFill>
                  <a:srgbClr val="d34817"/>
                </a:solidFill>
                <a:latin typeface="Cambria"/>
                <a:ea typeface="SimSun"/>
              </a:rPr>
              <a:t>An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5181480" y="9144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34817"/>
                </a:solidFill>
                <a:latin typeface="Cambria"/>
                <a:ea typeface="SimSun"/>
              </a:rPr>
              <a:t>      </a:t>
            </a:r>
            <a:r>
              <a:rPr b="1" lang="en-US" sz="1800" spc="-1" strike="noStrike">
                <a:solidFill>
                  <a:srgbClr val="d34817"/>
                </a:solidFill>
                <a:latin typeface="Cambria"/>
                <a:ea typeface="SimSun"/>
              </a:rPr>
              <a:t>Few</a:t>
            </a:r>
            <a:r>
              <a:rPr b="1" lang="en-US" sz="1800" spc="-1" strike="noStrike">
                <a:solidFill>
                  <a:srgbClr val="d34817"/>
                </a:solidFill>
                <a:latin typeface="Cambria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9"/>
          <p:cNvSpPr/>
          <p:nvPr/>
        </p:nvSpPr>
        <p:spPr>
          <a:xfrm>
            <a:off x="6324480" y="1143000"/>
            <a:ext cx="685800" cy="0"/>
          </a:xfrm>
          <a:prstGeom prst="line">
            <a:avLst/>
          </a:prstGeom>
          <a:ln w="28440">
            <a:solidFill>
              <a:srgbClr val="d348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6934320" y="914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34817"/>
                </a:solidFill>
                <a:latin typeface="Cambria"/>
                <a:ea typeface="SimSun"/>
              </a:rPr>
              <a:t>  </a:t>
            </a:r>
            <a:r>
              <a:rPr b="1" lang="en-US" sz="1800" spc="-1" strike="noStrike">
                <a:solidFill>
                  <a:srgbClr val="d34817"/>
                </a:solidFill>
                <a:latin typeface="Cambria"/>
                <a:ea typeface="SimSun"/>
              </a:rPr>
              <a:t>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533520" y="457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mbria"/>
                <a:ea typeface="SimSu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  <a:ea typeface="SimSun"/>
              </a:rPr>
              <a:t>converging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2"/>
          <p:cNvSpPr/>
          <p:nvPr/>
        </p:nvSpPr>
        <p:spPr>
          <a:xfrm>
            <a:off x="5638680" y="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mbria"/>
                <a:ea typeface="SimSun"/>
              </a:rPr>
              <a:t> (</a:t>
            </a:r>
            <a:r>
              <a:rPr b="1" lang="en-US" sz="2800" spc="-1" strike="noStrike">
                <a:solidFill>
                  <a:srgbClr val="0000ff"/>
                </a:solidFill>
                <a:latin typeface="Cambria"/>
                <a:ea typeface="SimSun"/>
              </a:rPr>
              <a:t>diverging</a:t>
            </a:r>
            <a:r>
              <a:rPr b="1" lang="en-US" sz="2800" spc="-1" strike="noStrike">
                <a:solidFill>
                  <a:srgbClr val="0000ff"/>
                </a:solidFill>
                <a:latin typeface="Cambri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4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391160" cy="508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"/>
          <p:cNvSpPr/>
          <p:nvPr/>
        </p:nvSpPr>
        <p:spPr>
          <a:xfrm>
            <a:off x="2743200" y="2286000"/>
            <a:ext cx="4114800" cy="3429000"/>
          </a:xfrm>
          <a:prstGeom prst="irregularSeal2">
            <a:avLst/>
          </a:prstGeom>
          <a:solidFill>
            <a:srgbClr val="ffffff"/>
          </a:solidFill>
          <a:ln w="12600">
            <a:solidFill>
              <a:srgbClr val="a28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Text Box 3"/>
          <p:cNvGrpSpPr/>
          <p:nvPr/>
        </p:nvGrpSpPr>
        <p:grpSpPr>
          <a:xfrm>
            <a:off x="480960" y="1096920"/>
            <a:ext cx="2852640" cy="1408320"/>
            <a:chOff x="480960" y="1096920"/>
            <a:chExt cx="2852640" cy="1408320"/>
          </a:xfrm>
        </p:grpSpPr>
        <p:pic>
          <p:nvPicPr>
            <p:cNvPr id="636" name="Text Box 3" descr=""/>
            <p:cNvPicPr/>
            <p:nvPr/>
          </p:nvPicPr>
          <p:blipFill>
            <a:blip r:embed="rId1"/>
            <a:stretch/>
          </p:blipFill>
          <p:spPr>
            <a:xfrm>
              <a:off x="480960" y="1096920"/>
              <a:ext cx="285264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533520" y="1219320"/>
              <a:ext cx="2743200" cy="12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200" spc="-1" strike="noStrike">
                  <a:solidFill>
                    <a:srgbClr val="422e2e"/>
                  </a:solidFill>
                  <a:latin typeface="Cambria"/>
                </a:rPr>
                <a:t>Nutrien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Carbohydrat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Fa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Protein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Rectangle 4"/>
          <p:cNvGrpSpPr/>
          <p:nvPr/>
        </p:nvGrpSpPr>
        <p:grpSpPr>
          <a:xfrm>
            <a:off x="633240" y="5315040"/>
            <a:ext cx="2927520" cy="946080"/>
            <a:chOff x="633240" y="5315040"/>
            <a:chExt cx="2927520" cy="946080"/>
          </a:xfrm>
        </p:grpSpPr>
        <p:pic>
          <p:nvPicPr>
            <p:cNvPr id="639" name="Rectangle 4" descr=""/>
            <p:cNvPicPr/>
            <p:nvPr/>
          </p:nvPicPr>
          <p:blipFill>
            <a:blip r:embed="rId2"/>
            <a:stretch/>
          </p:blipFill>
          <p:spPr>
            <a:xfrm>
              <a:off x="633240" y="5315040"/>
              <a:ext cx="292752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685800" y="5410080"/>
              <a:ext cx="28195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200" spc="-1" strike="noStrike">
                  <a:solidFill>
                    <a:srgbClr val="422e2e"/>
                  </a:solidFill>
                  <a:latin typeface="Cambria"/>
                </a:rPr>
                <a:t>   </a:t>
              </a:r>
              <a:r>
                <a:rPr b="1" lang="en-AU" sz="2200" spc="-1" strike="noStrike">
                  <a:solidFill>
                    <a:srgbClr val="422e2e"/>
                  </a:solidFill>
                  <a:latin typeface="Cambria"/>
                </a:rPr>
                <a:t>End produ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     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H</a:t>
              </a:r>
              <a:r>
                <a:rPr b="0" lang="en-AU" sz="2200" spc="-1" strike="noStrike" baseline="-25000">
                  <a:solidFill>
                    <a:srgbClr val="422e2e"/>
                  </a:solidFill>
                  <a:latin typeface="Cambria"/>
                </a:rPr>
                <a:t>2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O, CO</a:t>
              </a:r>
              <a:r>
                <a:rPr b="0" lang="en-AU" sz="2200" spc="-1" strike="noStrike" baseline="-25000">
                  <a:solidFill>
                    <a:srgbClr val="422e2e"/>
                  </a:solidFill>
                  <a:latin typeface="Cambria"/>
                </a:rPr>
                <a:t>2, 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NH</a:t>
              </a:r>
              <a:r>
                <a:rPr b="0" lang="en-AU" sz="2200" spc="-1" strike="noStrike" baseline="-25000">
                  <a:solidFill>
                    <a:srgbClr val="422e2e"/>
                  </a:solidFill>
                  <a:latin typeface="Cambria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Line 5"/>
          <p:cNvSpPr/>
          <p:nvPr/>
        </p:nvSpPr>
        <p:spPr>
          <a:xfrm>
            <a:off x="2286000" y="2666880"/>
            <a:ext cx="0" cy="2667240"/>
          </a:xfrm>
          <a:prstGeom prst="line">
            <a:avLst/>
          </a:prstGeom>
          <a:ln w="7632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0" y="3352680"/>
            <a:ext cx="2209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Catabolism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oxidative, exergon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Rectangle 7"/>
          <p:cNvGrpSpPr/>
          <p:nvPr/>
        </p:nvGrpSpPr>
        <p:grpSpPr>
          <a:xfrm>
            <a:off x="6040440" y="1017720"/>
            <a:ext cx="2633760" cy="1689120"/>
            <a:chOff x="6040440" y="1017720"/>
            <a:chExt cx="2633760" cy="1689120"/>
          </a:xfrm>
        </p:grpSpPr>
        <p:pic>
          <p:nvPicPr>
            <p:cNvPr id="644" name="Rectangle 7" descr=""/>
            <p:cNvPicPr/>
            <p:nvPr/>
          </p:nvPicPr>
          <p:blipFill>
            <a:blip r:embed="rId3"/>
            <a:stretch/>
          </p:blipFill>
          <p:spPr>
            <a:xfrm>
              <a:off x="6040440" y="1017720"/>
              <a:ext cx="263376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6169320" y="1143000"/>
              <a:ext cx="236628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200" spc="-1" strike="noStrike">
                  <a:solidFill>
                    <a:srgbClr val="0000ff"/>
                  </a:solidFill>
                  <a:latin typeface="Cambria"/>
                </a:rPr>
                <a:t>Macromolec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Proteins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Polysaccharid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Lipi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Nucleic aci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Rectangle 8"/>
          <p:cNvGrpSpPr/>
          <p:nvPr/>
        </p:nvGrpSpPr>
        <p:grpSpPr>
          <a:xfrm>
            <a:off x="5821200" y="4979880"/>
            <a:ext cx="3060720" cy="1689120"/>
            <a:chOff x="5821200" y="4979880"/>
            <a:chExt cx="3060720" cy="1689120"/>
          </a:xfrm>
        </p:grpSpPr>
        <p:pic>
          <p:nvPicPr>
            <p:cNvPr id="647" name="Rectangle 8" descr=""/>
            <p:cNvPicPr/>
            <p:nvPr/>
          </p:nvPicPr>
          <p:blipFill>
            <a:blip r:embed="rId4"/>
            <a:stretch/>
          </p:blipFill>
          <p:spPr>
            <a:xfrm>
              <a:off x="5821200" y="4979880"/>
              <a:ext cx="306072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5988600" y="5105520"/>
              <a:ext cx="275796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200" spc="-1" strike="noStrike">
                  <a:solidFill>
                    <a:srgbClr val="0000ff"/>
                  </a:solidFill>
                  <a:latin typeface="Cambria"/>
                </a:rPr>
                <a:t>Precursor Molec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Amino aci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Sugar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Fatty aci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Nitrogenous bas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Line 9"/>
          <p:cNvSpPr/>
          <p:nvPr/>
        </p:nvSpPr>
        <p:spPr>
          <a:xfrm flipV="1">
            <a:off x="6934320" y="2819520"/>
            <a:ext cx="0" cy="2286000"/>
          </a:xfrm>
          <a:prstGeom prst="line">
            <a:avLst/>
          </a:prstGeom>
          <a:ln w="7632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0"/>
          <p:cNvSpPr/>
          <p:nvPr/>
        </p:nvSpPr>
        <p:spPr>
          <a:xfrm>
            <a:off x="6934320" y="3352680"/>
            <a:ext cx="2057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Anabolism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reductive, endergon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11"/>
          <p:cNvGrpSpPr/>
          <p:nvPr/>
        </p:nvGrpSpPr>
        <p:grpSpPr>
          <a:xfrm>
            <a:off x="2285640" y="3732840"/>
            <a:ext cx="991080" cy="486000"/>
            <a:chOff x="2285640" y="3732840"/>
            <a:chExt cx="991080" cy="486000"/>
          </a:xfrm>
        </p:grpSpPr>
        <p:sp>
          <p:nvSpPr>
            <p:cNvPr id="652" name="Line 12"/>
            <p:cNvSpPr/>
            <p:nvPr/>
          </p:nvSpPr>
          <p:spPr>
            <a:xfrm>
              <a:off x="2514600" y="4191120"/>
              <a:ext cx="762120" cy="0"/>
            </a:xfrm>
            <a:prstGeom prst="line">
              <a:avLst/>
            </a:prstGeom>
            <a:ln w="19080">
              <a:solidFill>
                <a:srgbClr val="9b2d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3" name="AutoShape 13"/>
            <p:cNvCxnSpPr/>
            <p:nvPr/>
          </p:nvCxnSpPr>
          <p:spPr>
            <a:xfrm flipH="1" rot="16200000">
              <a:off x="2157120" y="3861360"/>
              <a:ext cx="486360" cy="229320"/>
            </a:xfrm>
            <a:prstGeom prst="curvedConnector5">
              <a:avLst>
                <a:gd name="adj1" fmla="val 90518"/>
                <a:gd name="adj2" fmla="val 50000"/>
                <a:gd name="adj3" fmla="val 90518"/>
              </a:avLst>
            </a:prstGeom>
            <a:ln w="19080">
              <a:solidFill>
                <a:srgbClr val="9b2d1f"/>
              </a:solidFill>
              <a:miter/>
            </a:ln>
          </p:spPr>
        </p:cxnSp>
      </p:grpSp>
      <p:sp>
        <p:nvSpPr>
          <p:cNvPr id="654" name="Text Box 14"/>
          <p:cNvSpPr/>
          <p:nvPr/>
        </p:nvSpPr>
        <p:spPr>
          <a:xfrm>
            <a:off x="3809880" y="36576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00ff"/>
                </a:solidFill>
                <a:latin typeface="Cambria"/>
              </a:rPr>
              <a:t>Chemical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5"/>
          <p:cNvSpPr/>
          <p:nvPr/>
        </p:nvSpPr>
        <p:spPr>
          <a:xfrm>
            <a:off x="434340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42217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6"/>
          <p:cNvSpPr/>
          <p:nvPr/>
        </p:nvSpPr>
        <p:spPr>
          <a:xfrm>
            <a:off x="5263560" y="33526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7"/>
          <p:cNvSpPr/>
          <p:nvPr/>
        </p:nvSpPr>
        <p:spPr>
          <a:xfrm>
            <a:off x="3130200" y="35053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8"/>
          <p:cNvSpPr/>
          <p:nvPr/>
        </p:nvSpPr>
        <p:spPr>
          <a:xfrm>
            <a:off x="3124080" y="4191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9"/>
          <p:cNvSpPr/>
          <p:nvPr/>
        </p:nvSpPr>
        <p:spPr>
          <a:xfrm>
            <a:off x="4880520" y="2895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42217"/>
                </a:solidFill>
                <a:latin typeface="Times New Roman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0"/>
          <p:cNvSpPr/>
          <p:nvPr/>
        </p:nvSpPr>
        <p:spPr>
          <a:xfrm>
            <a:off x="4422240" y="44197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42217"/>
                </a:solidFill>
                <a:latin typeface="Cambri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1"/>
          <p:cNvSpPr/>
          <p:nvPr/>
        </p:nvSpPr>
        <p:spPr>
          <a:xfrm>
            <a:off x="3661560" y="4800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42217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2"/>
          <p:cNvSpPr/>
          <p:nvPr/>
        </p:nvSpPr>
        <p:spPr>
          <a:xfrm>
            <a:off x="5186880" y="42670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3"/>
          <p:cNvSpPr/>
          <p:nvPr/>
        </p:nvSpPr>
        <p:spPr>
          <a:xfrm>
            <a:off x="6019920" y="3276720"/>
            <a:ext cx="761760" cy="0"/>
          </a:xfrm>
          <a:prstGeom prst="line">
            <a:avLst/>
          </a:prstGeom>
          <a:ln w="2844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24"/>
          <p:cNvGrpSpPr/>
          <p:nvPr/>
        </p:nvGrpSpPr>
        <p:grpSpPr>
          <a:xfrm>
            <a:off x="2285640" y="3275640"/>
            <a:ext cx="991080" cy="486000"/>
            <a:chOff x="2285640" y="3275640"/>
            <a:chExt cx="991080" cy="486000"/>
          </a:xfrm>
        </p:grpSpPr>
        <p:sp>
          <p:nvSpPr>
            <p:cNvPr id="665" name="Line 25"/>
            <p:cNvSpPr/>
            <p:nvPr/>
          </p:nvSpPr>
          <p:spPr>
            <a:xfrm>
              <a:off x="2514600" y="3733920"/>
              <a:ext cx="762120" cy="0"/>
            </a:xfrm>
            <a:prstGeom prst="line">
              <a:avLst/>
            </a:prstGeom>
            <a:ln w="19080">
              <a:solidFill>
                <a:srgbClr val="9b2d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6" name="AutoShape 26"/>
            <p:cNvCxnSpPr/>
            <p:nvPr/>
          </p:nvCxnSpPr>
          <p:spPr>
            <a:xfrm flipH="1" rot="16200000">
              <a:off x="2157120" y="3404160"/>
              <a:ext cx="486360" cy="229320"/>
            </a:xfrm>
            <a:prstGeom prst="curvedConnector5">
              <a:avLst>
                <a:gd name="adj1" fmla="val 90518"/>
                <a:gd name="adj2" fmla="val 50000"/>
                <a:gd name="adj3" fmla="val 90518"/>
              </a:avLst>
            </a:prstGeom>
            <a:ln w="19080">
              <a:solidFill>
                <a:srgbClr val="9b2d1f"/>
              </a:solidFill>
              <a:miter/>
            </a:ln>
          </p:spPr>
        </p:cxnSp>
      </p:grpSp>
      <p:grpSp>
        <p:nvGrpSpPr>
          <p:cNvPr id="667" name="Group 27"/>
          <p:cNvGrpSpPr/>
          <p:nvPr/>
        </p:nvGrpSpPr>
        <p:grpSpPr>
          <a:xfrm>
            <a:off x="2285640" y="2742120"/>
            <a:ext cx="991080" cy="486000"/>
            <a:chOff x="2285640" y="2742120"/>
            <a:chExt cx="991080" cy="486000"/>
          </a:xfrm>
        </p:grpSpPr>
        <p:sp>
          <p:nvSpPr>
            <p:cNvPr id="668" name="Line 28"/>
            <p:cNvSpPr/>
            <p:nvPr/>
          </p:nvSpPr>
          <p:spPr>
            <a:xfrm>
              <a:off x="2514600" y="3200400"/>
              <a:ext cx="762120" cy="0"/>
            </a:xfrm>
            <a:prstGeom prst="line">
              <a:avLst/>
            </a:prstGeom>
            <a:ln w="19080">
              <a:solidFill>
                <a:srgbClr val="9b2d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AutoShape 29"/>
            <p:cNvCxnSpPr/>
            <p:nvPr/>
          </p:nvCxnSpPr>
          <p:spPr>
            <a:xfrm flipH="1" rot="16200000">
              <a:off x="2157120" y="2870640"/>
              <a:ext cx="486360" cy="229320"/>
            </a:xfrm>
            <a:prstGeom prst="curvedConnector5">
              <a:avLst>
                <a:gd name="adj1" fmla="val 90518"/>
                <a:gd name="adj2" fmla="val 50000"/>
                <a:gd name="adj3" fmla="val 90518"/>
              </a:avLst>
            </a:prstGeom>
            <a:ln w="19080">
              <a:solidFill>
                <a:srgbClr val="9b2d1f"/>
              </a:solidFill>
              <a:miter/>
            </a:ln>
          </p:spPr>
        </p:cxnSp>
      </p:grpSp>
      <p:sp>
        <p:nvSpPr>
          <p:cNvPr id="670" name="Line 30"/>
          <p:cNvSpPr/>
          <p:nvPr/>
        </p:nvSpPr>
        <p:spPr>
          <a:xfrm>
            <a:off x="6019920" y="3886200"/>
            <a:ext cx="761760" cy="0"/>
          </a:xfrm>
          <a:prstGeom prst="line">
            <a:avLst/>
          </a:prstGeom>
          <a:ln w="2844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31"/>
          <p:cNvSpPr/>
          <p:nvPr/>
        </p:nvSpPr>
        <p:spPr>
          <a:xfrm>
            <a:off x="6019920" y="4267080"/>
            <a:ext cx="761760" cy="0"/>
          </a:xfrm>
          <a:prstGeom prst="line">
            <a:avLst/>
          </a:prstGeom>
          <a:ln w="2844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2"/>
          <p:cNvSpPr/>
          <p:nvPr/>
        </p:nvSpPr>
        <p:spPr>
          <a:xfrm>
            <a:off x="6019920" y="4724280"/>
            <a:ext cx="761760" cy="0"/>
          </a:xfrm>
          <a:prstGeom prst="line">
            <a:avLst/>
          </a:prstGeom>
          <a:ln w="2844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33"/>
          <p:cNvGrpSpPr/>
          <p:nvPr/>
        </p:nvGrpSpPr>
        <p:grpSpPr>
          <a:xfrm>
            <a:off x="2285640" y="4266000"/>
            <a:ext cx="991080" cy="486000"/>
            <a:chOff x="2285640" y="4266000"/>
            <a:chExt cx="991080" cy="486000"/>
          </a:xfrm>
        </p:grpSpPr>
        <p:sp>
          <p:nvSpPr>
            <p:cNvPr id="674" name="Line 34"/>
            <p:cNvSpPr/>
            <p:nvPr/>
          </p:nvSpPr>
          <p:spPr>
            <a:xfrm>
              <a:off x="2514600" y="4724280"/>
              <a:ext cx="762120" cy="0"/>
            </a:xfrm>
            <a:prstGeom prst="line">
              <a:avLst/>
            </a:prstGeom>
            <a:ln w="19080">
              <a:solidFill>
                <a:srgbClr val="9b2d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5" name="AutoShape 35"/>
            <p:cNvCxnSpPr/>
            <p:nvPr/>
          </p:nvCxnSpPr>
          <p:spPr>
            <a:xfrm flipH="1" rot="16200000">
              <a:off x="2157120" y="4394520"/>
              <a:ext cx="486360" cy="229320"/>
            </a:xfrm>
            <a:prstGeom prst="curvedConnector5">
              <a:avLst>
                <a:gd name="adj1" fmla="val 90518"/>
                <a:gd name="adj2" fmla="val 50000"/>
                <a:gd name="adj3" fmla="val 90518"/>
              </a:avLst>
            </a:prstGeom>
            <a:ln w="19080">
              <a:solidFill>
                <a:srgbClr val="9b2d1f"/>
              </a:solidFill>
              <a:miter/>
            </a:ln>
          </p:spPr>
        </p:cxnSp>
      </p:grpSp>
      <p:sp>
        <p:nvSpPr>
          <p:cNvPr id="676" name="Text Box 36"/>
          <p:cNvSpPr/>
          <p:nvPr/>
        </p:nvSpPr>
        <p:spPr>
          <a:xfrm>
            <a:off x="457200" y="533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SimSun"/>
              </a:rPr>
              <a:t>Catabolism and anabolism are always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437920" y="6854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  <a:ea typeface="幼圆"/>
              </a:rPr>
              <a:t>Chemical energy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mbria"/>
                <a:ea typeface="SimSun"/>
              </a:rPr>
              <a:t>ATP -</a:t>
            </a:r>
            <a:r>
              <a:rPr b="0" lang="en-US" sz="2600" spc="-1" strike="noStrike">
                <a:solidFill>
                  <a:srgbClr val="cc0099"/>
                </a:solidFill>
                <a:latin typeface="Cambria"/>
                <a:ea typeface="SimSu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SimSun"/>
              </a:rPr>
              <a:t>energy currency.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It serves as the driving force for nearly all biochemical process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mbria"/>
                <a:ea typeface="SimSun"/>
              </a:rPr>
              <a:t>NADH,NADPH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SimSun"/>
              </a:rPr>
              <a:t> - reducing powe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SimSun"/>
              </a:rPr>
              <a:t>    </a:t>
            </a:r>
            <a:r>
              <a:rPr b="0" lang="en-US" sz="2600" spc="-1" strike="noStrike">
                <a:solidFill>
                  <a:srgbClr val="cc0099"/>
                </a:solidFill>
                <a:latin typeface="Cambria"/>
                <a:ea typeface="SimSun"/>
              </a:rPr>
              <a:t>NADH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SimSu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r oxidation and energy yielding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en-US" sz="2600" spc="-1" strike="noStrike">
                <a:solidFill>
                  <a:srgbClr val="cc0099"/>
                </a:solidFill>
                <a:latin typeface="Cambria"/>
              </a:rPr>
              <a:t>NADPH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for biosynthetic processe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4648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  <a:ea typeface="幼圆"/>
              </a:rPr>
              <a:t>Metabolic Pathway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609480" y="31528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5"/>
          <p:cNvSpPr/>
          <p:nvPr/>
        </p:nvSpPr>
        <p:spPr>
          <a:xfrm>
            <a:off x="1219320" y="353376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2819520" y="31528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7"/>
          <p:cNvSpPr/>
          <p:nvPr/>
        </p:nvSpPr>
        <p:spPr>
          <a:xfrm>
            <a:off x="3505320" y="353376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4876920" y="31528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9"/>
          <p:cNvSpPr/>
          <p:nvPr/>
        </p:nvSpPr>
        <p:spPr>
          <a:xfrm>
            <a:off x="5486400" y="35337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6934320" y="3152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228600" y="42670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9b2d1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Cambria"/>
                <a:ea typeface="SimSu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  <a:ea typeface="SimSun"/>
              </a:rPr>
              <a:t>A is a precursor  for B, C and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228600" y="4800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9b2d1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Cambria"/>
                <a:ea typeface="SimSu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  <a:ea typeface="SimSun"/>
              </a:rPr>
              <a:t>B is a precursor  for C and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2286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9b2d1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Cambria"/>
                <a:ea typeface="SimSu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  <a:ea typeface="SimSun"/>
              </a:rPr>
              <a:t>C is a precursor f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4"/>
          <p:cNvSpPr/>
          <p:nvPr/>
        </p:nvSpPr>
        <p:spPr>
          <a:xfrm rot="5400000">
            <a:off x="3848040" y="1895040"/>
            <a:ext cx="380880" cy="2286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5"/>
          <p:cNvSpPr/>
          <p:nvPr/>
        </p:nvSpPr>
        <p:spPr>
          <a:xfrm>
            <a:off x="2819520" y="23623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2217"/>
                </a:solidFill>
                <a:latin typeface="Cambria"/>
                <a:ea typeface="SimSun"/>
              </a:rPr>
              <a:t>intermedi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4419720" y="4191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2217"/>
                </a:solidFill>
                <a:latin typeface="Cambria"/>
                <a:ea typeface="SimSun"/>
              </a:rPr>
              <a:t>metabolites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7"/>
          <p:cNvSpPr/>
          <p:nvPr/>
        </p:nvSpPr>
        <p:spPr>
          <a:xfrm>
            <a:off x="1523880" y="1828800"/>
            <a:ext cx="5791320" cy="459720"/>
          </a:xfrm>
          <a:prstGeom prst="rect">
            <a:avLst/>
          </a:prstGeom>
          <a:gradFill rotWithShape="0">
            <a:gsLst>
              <a:gs pos="0">
                <a:srgbClr val="dad2c3"/>
              </a:gs>
              <a:gs pos="100000">
                <a:srgbClr val="fbe0dd"/>
              </a:gs>
            </a:gsLst>
            <a:lin ang="5400000"/>
          </a:gra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SimSun"/>
              </a:rPr>
              <a:t>Sequential steps catalyzed by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18"/>
          <p:cNvSpPr/>
          <p:nvPr/>
        </p:nvSpPr>
        <p:spPr>
          <a:xfrm rot="5374200">
            <a:off x="4911480" y="1790640"/>
            <a:ext cx="385560" cy="4418280"/>
          </a:xfrm>
          <a:custGeom>
            <a:avLst/>
            <a:gdLst>
              <a:gd name="textAreaLeft" fmla="*/ 0 w 385560"/>
              <a:gd name="textAreaRight" fmla="*/ 139320 w 385560"/>
              <a:gd name="textAreaTop" fmla="*/ 115200 h 4418280"/>
              <a:gd name="textAreaBottom" fmla="*/ 4303080 h 441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  <a:ea typeface="幼圆"/>
              </a:rPr>
              <a:t>Characteristics of  Metabolic Pathway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85440" y="1676160"/>
            <a:ext cx="89154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  <a:ea typeface="SimSun"/>
              </a:rPr>
              <a:t>Metabolic pathways are </a:t>
            </a:r>
            <a:r>
              <a:rPr b="1" lang="en-US" sz="2200" spc="-1" strike="noStrike">
                <a:solidFill>
                  <a:srgbClr val="d34817"/>
                </a:solidFill>
                <a:latin typeface="Cambria"/>
                <a:ea typeface="SimSun"/>
              </a:rPr>
              <a:t>irreversible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  <a:ea typeface="SimSun"/>
              </a:rPr>
              <a:t>Metabolic pathways have </a:t>
            </a:r>
            <a:r>
              <a:rPr b="1" lang="en-US" sz="2200" spc="-1" strike="noStrike">
                <a:solidFill>
                  <a:srgbClr val="d34817"/>
                </a:solidFill>
                <a:latin typeface="Cambria"/>
                <a:ea typeface="SimSun"/>
              </a:rPr>
              <a:t>committed step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arly step unique to a pathway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rreversible step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1faec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Requires energy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1faec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Often results in a phosphorylated compound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  <a:ea typeface="SimSun"/>
              </a:rPr>
              <a:t>Metabolic pathways are </a:t>
            </a:r>
            <a:r>
              <a:rPr b="1" lang="en-US" sz="2200" spc="-1" strike="noStrike">
                <a:solidFill>
                  <a:srgbClr val="d34817"/>
                </a:solidFill>
                <a:latin typeface="Cambria"/>
                <a:ea typeface="SimSun"/>
              </a:rPr>
              <a:t>regulated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  <a:ea typeface="SimSun"/>
              </a:rPr>
              <a:t>Metabolic pathways are </a:t>
            </a:r>
            <a:r>
              <a:rPr b="1" lang="en-US" sz="2200" spc="-1" strike="noStrike">
                <a:solidFill>
                  <a:srgbClr val="d34817"/>
                </a:solidFill>
                <a:latin typeface="Cambria"/>
                <a:ea typeface="SimSun"/>
              </a:rPr>
              <a:t>compartmentalized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6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6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  <a:ea typeface="幼圆"/>
              </a:rPr>
              <a:t>Cellular level Compartmentation</a:t>
            </a:r>
            <a:r>
              <a:rPr b="0" lang="en-US" sz="3200" spc="-1" strike="noStrike">
                <a:solidFill>
                  <a:srgbClr val="0000ff"/>
                </a:solidFill>
                <a:latin typeface="Cambria"/>
                <a:ea typeface="幼圆"/>
              </a:rPr>
              <a:t>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80880" y="18288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Cambria"/>
                <a:ea typeface="SimSun"/>
              </a:rPr>
              <a:t>Mitochondria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SimSun"/>
              </a:rPr>
              <a:t> (TCA cycle, fatty acid oxidation, amino acid breakdow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2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2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Cambria"/>
                <a:ea typeface="SimSun"/>
              </a:rPr>
              <a:t>Cytosol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SimSun"/>
              </a:rPr>
              <a:t> (glycolysis, fatty acid biosynthesis, pentose phosphate pathway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99" name="Picture 6" descr=""/>
          <p:cNvPicPr/>
          <p:nvPr/>
        </p:nvPicPr>
        <p:blipFill>
          <a:blip r:embed="rId1"/>
          <a:stretch/>
        </p:blipFill>
        <p:spPr>
          <a:xfrm>
            <a:off x="5810400" y="2133720"/>
            <a:ext cx="2865240" cy="380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Control of metabolic pathway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42217"/>
                </a:solidFill>
                <a:latin typeface="Cambria"/>
                <a:ea typeface="SimSun"/>
              </a:rPr>
              <a:t>Molecular level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SimSun"/>
              </a:rPr>
              <a:t>Control of enzyme leve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SimSun"/>
              </a:rPr>
              <a:t>    </a:t>
            </a:r>
            <a:r>
              <a:rPr b="0" lang="en-US" sz="2600" spc="-1" strike="noStrike">
                <a:solidFill>
                  <a:srgbClr val="0000ff"/>
                </a:solidFill>
                <a:latin typeface="Cambria"/>
              </a:rPr>
              <a:t>gene expression (slow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SimSun"/>
              </a:rPr>
              <a:t>Control of enzyme activity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SimSu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SimSun"/>
              </a:rPr>
              <a:t> (fast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mbria"/>
              </a:rPr>
              <a:t>     </a:t>
            </a:r>
            <a:r>
              <a:rPr b="0" lang="en-US" sz="2600" spc="-1" strike="noStrike">
                <a:solidFill>
                  <a:srgbClr val="0000ff"/>
                </a:solidFill>
                <a:latin typeface="Cambria"/>
              </a:rPr>
              <a:t>- allosteric control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(binding of an effector at one site affects enzyme activity at another site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mbria"/>
              </a:rPr>
              <a:t>     </a:t>
            </a:r>
            <a:r>
              <a:rPr b="0" lang="en-US" sz="2600" spc="-1" strike="noStrike">
                <a:solidFill>
                  <a:srgbClr val="0000ff"/>
                </a:solidFill>
                <a:latin typeface="Cambria"/>
              </a:rPr>
              <a:t>- covalent control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(phosphorylation, adenylylation, etc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44:31Z</dcterms:created>
  <dc:creator>aalghanouchi</dc:creator>
  <dc:description/>
  <dc:language>en-US</dc:language>
  <cp:lastModifiedBy>Administrator</cp:lastModifiedBy>
  <dcterms:modified xsi:type="dcterms:W3CDTF">2012-02-25T12:24:17Z</dcterms:modified>
  <cp:revision>75</cp:revision>
  <dc:subject/>
  <dc:title>Slide 1</dc:title>
</cp:coreProperties>
</file>