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91F-F136-4CDC-BE18-7D4A03E2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BAB-2085-44C2-A7D7-66C23CCF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E99-6779-4D3E-A5AC-B35A68AF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E76-7F19-4A25-9C83-881AEBCB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D8D5-506A-45B6-BA9C-C3015AF5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3951-7572-4DE2-8F1B-F7F6A4A6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A6AA-2277-4900-B99B-7B5F2E16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8C53-CB36-4FE1-9894-04AEE6D5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09D7-4578-41B5-99D6-B00C3B05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3162-90F0-42D9-9544-5C0C1886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276B-C909-4112-BFE5-588AD2B1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DFE-64FD-46F8-8CEA-5FD0DBDA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C6EE-EF6C-4E9B-893A-0275F464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48AB-4FAF-4F84-9A61-E0E8A443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5874-EFCD-4A51-B661-9ABBE0D0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86F4-4660-43CE-8A6B-FA815E53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E2F3-137A-434D-A6C8-4809E90B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997-322E-410A-A8F3-7CBFC905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CAF-71E5-4D27-BA29-756850A1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800-4AAC-4A7F-A49D-6B20728D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A0A-E846-4FA6-93E4-43B55A1B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9F6-C1B0-4F64-85DB-23C0BEC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A17-C719-4D20-8874-C33AF8E9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7A4-6E51-424A-A08A-0265DF51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D8CC-77A8-496F-B40E-757765BE556F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431D-06C0-436E-BAA5-006E995101A4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troduction to Computers and C++ Programming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The Software Development Method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Specify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the problem requirements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2.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Analyze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the problem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Input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Output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Formulas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3.</a:t>
            </a:r>
            <a:r>
              <a:rPr b="1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Design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the algorithm to solve the problem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4.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Implement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the algorithm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5.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Test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and verify the completed program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6.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Maintain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and</a:t>
            </a:r>
            <a:r>
              <a:rPr b="0" lang="en-US" sz="2400" spc="-1" strike="noStrike">
                <a:solidFill>
                  <a:srgbClr val="ffcccc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update</a:t>
            </a:r>
            <a:r>
              <a:rPr b="0" lang="en-US" sz="2400" spc="-1" strike="noStrike">
                <a:solidFill>
                  <a:srgbClr val="ffcccc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the program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he Software Life Cycl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nalysis and specification of the task (problem definition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esign of the software (algorithm design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mplementation (coding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esting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Maintenance and evolution of the system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bsolescens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troduction to C++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676520"/>
            <a:ext cx="20574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BCP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95280" y="2362320"/>
            <a:ext cx="4648320" cy="1218960"/>
            <a:chOff x="1295280" y="2362320"/>
            <a:chExt cx="4648320" cy="1218960"/>
          </a:xfrm>
        </p:grpSpPr>
        <p:sp>
          <p:nvSpPr>
            <p:cNvPr id="175" name=""/>
            <p:cNvSpPr/>
            <p:nvPr/>
          </p:nvSpPr>
          <p:spPr>
            <a:xfrm>
              <a:off x="1295280" y="2971800"/>
              <a:ext cx="4648320" cy="609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93939"/>
                  </a:solidFill>
                  <a:latin typeface="Arial"/>
                </a:rPr>
                <a:t>B programming language</a:t>
              </a:r>
              <a:endParaRPr b="0" lang="en-US" sz="32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2362320"/>
              <a:ext cx="0" cy="6094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95280" y="3657600"/>
            <a:ext cx="4648320" cy="1219320"/>
            <a:chOff x="1295280" y="3657600"/>
            <a:chExt cx="4648320" cy="1219320"/>
          </a:xfrm>
        </p:grpSpPr>
        <p:sp>
          <p:nvSpPr>
            <p:cNvPr id="178" name=""/>
            <p:cNvSpPr/>
            <p:nvPr/>
          </p:nvSpPr>
          <p:spPr>
            <a:xfrm>
              <a:off x="1295280" y="4267080"/>
              <a:ext cx="4648320" cy="609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93939"/>
                  </a:solidFill>
                  <a:latin typeface="Arial"/>
                </a:rPr>
                <a:t>C programming language</a:t>
              </a:r>
              <a:endParaRPr b="0" lang="en-US" sz="32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5120" y="3657600"/>
              <a:ext cx="0" cy="6094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371600" y="4952880"/>
            <a:ext cx="2057400" cy="1219320"/>
            <a:chOff x="1371600" y="4952880"/>
            <a:chExt cx="2057400" cy="1219320"/>
          </a:xfrm>
        </p:grpSpPr>
        <p:sp>
          <p:nvSpPr>
            <p:cNvPr id="181" name=""/>
            <p:cNvSpPr/>
            <p:nvPr/>
          </p:nvSpPr>
          <p:spPr>
            <a:xfrm>
              <a:off x="1371600" y="5562720"/>
              <a:ext cx="2057400" cy="609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93939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28800" y="4952880"/>
              <a:ext cx="0" cy="60984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104880" y="4191120"/>
            <a:ext cx="2418840" cy="825480"/>
          </a:xfrm>
          <a:prstGeom prst="rect">
            <a:avLst/>
          </a:prstGeom>
          <a:noFill/>
          <a:ln cap="rnd" w="9360">
            <a:solidFill>
              <a:srgbClr val="ff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Dennis Ritchi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1970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02360" y="5334120"/>
            <a:ext cx="2828880" cy="825480"/>
          </a:xfrm>
          <a:prstGeom prst="rect">
            <a:avLst/>
          </a:prstGeom>
          <a:noFill/>
          <a:ln cap="rnd" w="9360">
            <a:solidFill>
              <a:srgbClr val="ff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Bjarne Stroustrap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1980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yout of a C++ Program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1371600"/>
            <a:ext cx="541044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Variable_Declaration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1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2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Las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0200" y="5715000"/>
            <a:ext cx="7478280" cy="838080"/>
            <a:chOff x="1600200" y="5715000"/>
            <a:chExt cx="7478280" cy="838080"/>
          </a:xfrm>
        </p:grpSpPr>
        <p:sp>
          <p:nvSpPr>
            <p:cNvPr id="188" name=""/>
            <p:cNvSpPr/>
            <p:nvPr/>
          </p:nvSpPr>
          <p:spPr>
            <a:xfrm>
              <a:off x="1600200" y="5715000"/>
              <a:ext cx="4876920" cy="838080"/>
            </a:xfrm>
            <a:prstGeom prst="rect">
              <a:avLst/>
            </a:prstGeom>
            <a:noFill/>
            <a:ln w="9360">
              <a:solidFill>
                <a:srgbClr val="f827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16880" y="5867280"/>
              <a:ext cx="23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00cc"/>
                  </a:solidFill>
                  <a:latin typeface="Arial"/>
                </a:rPr>
                <a:t>Program ends her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477120" y="6095880"/>
              <a:ext cx="304560" cy="0"/>
            </a:xfrm>
            <a:prstGeom prst="line">
              <a:avLst/>
            </a:prstGeom>
            <a:ln w="9360">
              <a:solidFill>
                <a:srgbClr val="f8270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00200" y="1447920"/>
            <a:ext cx="7547760" cy="1828800"/>
            <a:chOff x="1600200" y="1447920"/>
            <a:chExt cx="7547760" cy="1828800"/>
          </a:xfrm>
        </p:grpSpPr>
        <p:sp>
          <p:nvSpPr>
            <p:cNvPr id="192" name=""/>
            <p:cNvSpPr/>
            <p:nvPr/>
          </p:nvSpPr>
          <p:spPr>
            <a:xfrm>
              <a:off x="1600200" y="1447920"/>
              <a:ext cx="4876920" cy="1828800"/>
            </a:xfrm>
            <a:prstGeom prst="rect">
              <a:avLst/>
            </a:prstGeom>
            <a:noFill/>
            <a:ln w="9360">
              <a:solidFill>
                <a:srgbClr val="f827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16160" y="2133720"/>
              <a:ext cx="24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00cc"/>
                  </a:solidFill>
                  <a:latin typeface="Arial"/>
                </a:rPr>
                <a:t>Program starts her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477120" y="2362320"/>
              <a:ext cx="304560" cy="0"/>
            </a:xfrm>
            <a:prstGeom prst="line">
              <a:avLst/>
            </a:prstGeom>
            <a:ln w="9360">
              <a:solidFill>
                <a:srgbClr val="f8270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yout of a C++ Program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1371600"/>
            <a:ext cx="419112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Variable_Declaration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1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2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Las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343400" y="1419120"/>
            <a:ext cx="3988440" cy="398880"/>
            <a:chOff x="4343400" y="1419120"/>
            <a:chExt cx="3988440" cy="398880"/>
          </a:xfrm>
        </p:grpSpPr>
        <p:sp>
          <p:nvSpPr>
            <p:cNvPr id="198" name=""/>
            <p:cNvSpPr/>
            <p:nvPr/>
          </p:nvSpPr>
          <p:spPr>
            <a:xfrm>
              <a:off x="4343400" y="1600200"/>
              <a:ext cx="1905120" cy="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23760" y="1419120"/>
              <a:ext cx="20080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Arial"/>
                </a:rPr>
                <a:t>include directiv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419720" y="1828800"/>
            <a:ext cx="4462560" cy="398880"/>
            <a:chOff x="4419720" y="1828800"/>
            <a:chExt cx="4462560" cy="398880"/>
          </a:xfrm>
        </p:grpSpPr>
        <p:sp>
          <p:nvSpPr>
            <p:cNvPr id="201" name=""/>
            <p:cNvSpPr/>
            <p:nvPr/>
          </p:nvSpPr>
          <p:spPr>
            <a:xfrm>
              <a:off x="4419720" y="2057400"/>
              <a:ext cx="1828800" cy="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21240" y="1828800"/>
              <a:ext cx="2561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Arial"/>
                </a:rPr>
                <a:t>standard namespac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048120" y="2514600"/>
            <a:ext cx="5046840" cy="398880"/>
            <a:chOff x="3048120" y="2514600"/>
            <a:chExt cx="5046840" cy="398880"/>
          </a:xfrm>
        </p:grpSpPr>
        <p:sp>
          <p:nvSpPr>
            <p:cNvPr id="204" name=""/>
            <p:cNvSpPr/>
            <p:nvPr/>
          </p:nvSpPr>
          <p:spPr>
            <a:xfrm>
              <a:off x="3048120" y="2743200"/>
              <a:ext cx="3200400" cy="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0800" y="2514600"/>
              <a:ext cx="1694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Arial"/>
                </a:rPr>
                <a:t>main function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657600" y="5762520"/>
            <a:ext cx="4851000" cy="398880"/>
            <a:chOff x="3657600" y="5762520"/>
            <a:chExt cx="4851000" cy="398880"/>
          </a:xfrm>
        </p:grpSpPr>
        <p:sp>
          <p:nvSpPr>
            <p:cNvPr id="207" name=""/>
            <p:cNvSpPr/>
            <p:nvPr/>
          </p:nvSpPr>
          <p:spPr>
            <a:xfrm>
              <a:off x="3657600" y="6019920"/>
              <a:ext cx="2590920" cy="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74600" y="5762520"/>
              <a:ext cx="2034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Arial"/>
                </a:rPr>
                <a:t>return statement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334120" y="3352680"/>
            <a:ext cx="3813120" cy="2133720"/>
            <a:chOff x="5334120" y="3352680"/>
            <a:chExt cx="3813120" cy="2133720"/>
          </a:xfrm>
        </p:grpSpPr>
        <p:sp>
          <p:nvSpPr>
            <p:cNvPr id="210" name=""/>
            <p:cNvSpPr/>
            <p:nvPr/>
          </p:nvSpPr>
          <p:spPr>
            <a:xfrm>
              <a:off x="5334120" y="3352680"/>
              <a:ext cx="75960" cy="21337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10080" y="4419720"/>
              <a:ext cx="838440" cy="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8440" y="4191120"/>
              <a:ext cx="2728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Arial"/>
                </a:rPr>
                <a:t>executable statement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ample C++ Program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number1, number2, sum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&lt;&lt; "Enter first number: "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in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gt;&gt; number1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&lt;&lt; "Enter second number: "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in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gt;&gt; number2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um = number1 + number2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lt;&lt; "Sum = " &lt;&lt; sum &lt;&lt;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“\n”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4120" y="1766880"/>
          <a:ext cx="341928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766880"/>
                    <a:ext cx="3419280" cy="1509840"/>
                  </a:xfrm>
                  <a:prstGeom prst="rect">
                    <a:avLst/>
                  </a:prstGeom>
                  <a:ln w="381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Compiling and Running a C++ Program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218" name="Fig1.11" descr=""/>
          <p:cNvPicPr/>
          <p:nvPr/>
        </p:nvPicPr>
        <p:blipFill>
          <a:blip r:embed="rId1"/>
          <a:stretch/>
        </p:blipFill>
        <p:spPr>
          <a:xfrm>
            <a:off x="2287440" y="1600200"/>
            <a:ext cx="5635800" cy="4495680"/>
          </a:xfrm>
          <a:prstGeom prst="rect">
            <a:avLst/>
          </a:prstGeom>
          <a:ln w="38160">
            <a:solidFill>
              <a:srgbClr val="ff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esting and Debugging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ug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 mistake/error in the program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ebugging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he process of eliminating bugs in a program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esting and Debugging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ypes of program errors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8270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Times New Roman"/>
              </a:rPr>
              <a:t>Syntax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error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iolations of the rules of the programming languag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8270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Times New Roman"/>
              </a:rPr>
              <a:t>Run-tim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error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Detected by computers when the program is run (numeric calcualtions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8270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Times New Roman"/>
              </a:rPr>
              <a:t>Logic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error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istakes in the underlying algorithm or translating the algorithm into C++ languag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ample C++ Program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03480" y="1563840"/>
            <a:ext cx="23018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2704"/>
                </a:solidFill>
                <a:uFillTx/>
                <a:latin typeface="Arial"/>
              </a:rPr>
              <a:t>Try this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Write a program that displays the product of two integer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1600200"/>
            <a:ext cx="5365800" cy="474048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number1, number2, product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&lt;&lt; "Enter first number: "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in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gt;&gt; number1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&lt;&lt; "Enter second number: "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in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gt;&gt; number2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roduct =…………………..?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lt;&lt; “Product = " &lt;&lt; product &lt;&lt;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“\n”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Main Components of a Computer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971800"/>
            <a:ext cx="1371600" cy="76212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9113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nput device(s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1676520"/>
            <a:ext cx="1447920" cy="4572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2514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2895480"/>
            <a:ext cx="1752840" cy="1447920"/>
          </a:xfrm>
          <a:prstGeom prst="flowChartDocumen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3200400"/>
            <a:ext cx="1752840" cy="0"/>
          </a:xfrm>
          <a:prstGeom prst="line">
            <a:avLst/>
          </a:prstGeom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429000"/>
            <a:ext cx="1752840" cy="0"/>
          </a:xfrm>
          <a:prstGeom prst="line">
            <a:avLst/>
          </a:prstGeom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657600"/>
            <a:ext cx="1752840" cy="0"/>
          </a:xfrm>
          <a:prstGeom prst="line">
            <a:avLst/>
          </a:prstGeom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3886200"/>
            <a:ext cx="1752840" cy="0"/>
          </a:xfrm>
          <a:prstGeom prst="line">
            <a:avLst/>
          </a:prstGeom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5197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econdary memory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5257800"/>
            <a:ext cx="1676520" cy="76212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2971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Output device(s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971800"/>
            <a:ext cx="1447560" cy="83808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1600200"/>
            <a:ext cx="2361960" cy="289548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2004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2767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22096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2209680"/>
            <a:ext cx="304920" cy="381240"/>
          </a:xfrm>
          <a:prstGeom prst="upArrow">
            <a:avLst>
              <a:gd name="adj1" fmla="val 50000"/>
              <a:gd name="adj2" fmla="val 31257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47242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724280"/>
            <a:ext cx="304920" cy="381240"/>
          </a:xfrm>
          <a:prstGeom prst="upArrow">
            <a:avLst>
              <a:gd name="adj1" fmla="val 50000"/>
              <a:gd name="adj2" fmla="val 31257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70360" y="2743200"/>
            <a:ext cx="14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00011111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10101100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11100011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ytes and Address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Main memory is divided into numbered locations called </a:t>
            </a:r>
            <a:r>
              <a:rPr b="0" lang="en-US" sz="3200" spc="-1" strike="noStrike">
                <a:solidFill>
                  <a:srgbClr val="f82704"/>
                </a:solidFill>
                <a:latin typeface="Times New Roman"/>
              </a:rPr>
              <a:t>bytes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e number associated with a byte is called its </a:t>
            </a:r>
            <a:r>
              <a:rPr b="0" lang="en-US" sz="3200" spc="-1" strike="noStrike">
                <a:solidFill>
                  <a:srgbClr val="f82704"/>
                </a:solidFill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 group of consecutive bytes is used as the location for a a data item, such as a number or letter. The address of the first byte in the group is used as the address of this larger memory location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omputer System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Hardwar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C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orkstation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Mainfram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oftwar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Operating System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rogram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hat is a program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 program is set of instructions for a computer to follo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enever we give a computer both a </a:t>
            </a:r>
            <a:r>
              <a:rPr b="0" lang="en-US" sz="3200" spc="-1" strike="noStrike">
                <a:solidFill>
                  <a:srgbClr val="f82704"/>
                </a:solidFill>
                <a:latin typeface="Times New Roman"/>
              </a:rPr>
              <a:t>program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to follow and some </a:t>
            </a:r>
            <a:r>
              <a:rPr b="0" lang="en-US" sz="3200" spc="-1" strike="noStrike">
                <a:solidFill>
                  <a:srgbClr val="f82704"/>
                </a:solidFill>
                <a:latin typeface="Times New Roman"/>
              </a:rPr>
              <a:t>data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for the program, we are said to be </a:t>
            </a: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running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the program on the data, and the computer is said to </a:t>
            </a: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execute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the program on the data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High Level Languag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++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Low Level Languag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ssembly Languag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Add X Y Z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Machine Language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00011101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ompiler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rograms that translate a high-level language like C++ to a machine-language that the computer can directly understand and execute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Preparing a C++ program for Running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1676520"/>
            <a:ext cx="1981080" cy="1066680"/>
          </a:xfrm>
          <a:prstGeom prst="ellipse">
            <a:avLst/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++ program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ource Cod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200400"/>
            <a:ext cx="167652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560" y="3276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ompile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4876920"/>
            <a:ext cx="2438280" cy="990360"/>
          </a:xfrm>
          <a:prstGeom prst="ellipse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200400"/>
            <a:ext cx="2286000" cy="1219320"/>
          </a:xfrm>
          <a:prstGeom prst="ellipse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3124080"/>
            <a:ext cx="2133720" cy="1905120"/>
          </a:xfrm>
          <a:prstGeom prst="ellipse">
            <a:avLst/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5334120"/>
            <a:ext cx="1676520" cy="533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952880"/>
            <a:ext cx="23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Object code for C++ program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440" y="5334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200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Object code for other routin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66520" y="2362320"/>
            <a:ext cx="1295640" cy="68580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962520"/>
            <a:ext cx="0" cy="83808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5562720"/>
            <a:ext cx="1066680" cy="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324480" y="4800600"/>
            <a:ext cx="533520" cy="53352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495680"/>
            <a:ext cx="0" cy="76212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Program Design Proces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Times New Roman"/>
              </a:rPr>
              <a:t>Problem-solving phas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1676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Times New Roman"/>
              </a:rPr>
              <a:t>Implementation phas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362320"/>
            <a:ext cx="1981440" cy="457200"/>
          </a:xfrm>
          <a:prstGeom prst="ellipse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276720"/>
            <a:ext cx="1828800" cy="6858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Problem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4419720"/>
            <a:ext cx="1828800" cy="6858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562720"/>
            <a:ext cx="1828800" cy="6858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esktop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286000"/>
            <a:ext cx="2895480" cy="4191120"/>
          </a:xfrm>
          <a:prstGeom prst="rect">
            <a:avLst/>
          </a:prstGeom>
          <a:noFill/>
          <a:ln w="9360">
            <a:solidFill>
              <a:srgbClr val="3939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971800"/>
            <a:ext cx="1828800" cy="6858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ranslating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o C++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114800"/>
            <a:ext cx="1828800" cy="6858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5562720"/>
            <a:ext cx="2438280" cy="838080"/>
          </a:xfrm>
          <a:prstGeom prst="ellipse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Working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819520"/>
            <a:ext cx="0" cy="45720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943600"/>
            <a:ext cx="38088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3581280"/>
            <a:ext cx="0" cy="23623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3581280"/>
            <a:ext cx="38088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800600"/>
            <a:ext cx="38088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2362320"/>
            <a:ext cx="3200400" cy="2819160"/>
          </a:xfrm>
          <a:prstGeom prst="rect">
            <a:avLst/>
          </a:prstGeom>
          <a:noFill/>
          <a:ln w="9360">
            <a:solidFill>
              <a:srgbClr val="3939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00600"/>
            <a:ext cx="129528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724280" y="3352680"/>
            <a:ext cx="0" cy="14479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352680"/>
            <a:ext cx="129564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4495680"/>
            <a:ext cx="38124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305920" y="3276720"/>
            <a:ext cx="0" cy="121896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000640" y="3276720"/>
            <a:ext cx="30492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3657600"/>
            <a:ext cx="0" cy="45720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4800600"/>
            <a:ext cx="0" cy="7621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7:14:31Z</dcterms:created>
  <dc:creator>Mwakil</dc:creator>
  <dc:description/>
  <dc:language>en-US</dc:language>
  <cp:lastModifiedBy>Mwakil</cp:lastModifiedBy>
  <dcterms:modified xsi:type="dcterms:W3CDTF">2004-06-23T14:11:11Z</dcterms:modified>
  <cp:revision>4</cp:revision>
  <dc:subject/>
  <dc:title>PowerPoint Presentation</dc:title>
</cp:coreProperties>
</file>