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EDF9-C57F-4866-8710-CD5B483A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8377-6944-4EDD-91E4-8166B604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FDF6-F14F-4FAD-A48D-5AEF3B6B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B306-8AAF-43D1-BE89-AA65C5F3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829F-EACB-4DB4-9B18-ACAB4BBE6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9F6A-C6ED-4B9C-896D-662160F7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4B41-B4B8-435D-A118-9EB9B877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7EA9-4EA1-4FA5-8D50-6F5FAEBE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F76C-5DC5-4FC1-A072-1760648C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D87F-C874-4E78-9879-2C0FCD31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53F8-640B-42E3-85C7-0422BE11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FA2F-4994-4871-B08A-1B612CF3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E2A2-35FA-42BA-9B51-ED570EE1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F874-7938-4FA9-B3C2-AF915AA6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88FB-609A-477D-AD2F-E3E48C05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74A9-83AC-4B00-9A1C-F83D7E52E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14C7-4262-41CA-B127-8D382E3C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B0A2-EB88-499C-A664-B4D0CEDE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4CB2-AB66-4A91-A87F-E9EBFEAD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BDE-19D5-415C-A85E-B48EE36A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D670-E1CE-4507-843D-690731BC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E1D1-C236-4D5E-A278-4C282F7B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19C7-0C4D-432B-B41A-9CE60EF4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4D7D-345F-472B-B58B-38F17292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3707-A88C-4DC3-88EA-C0FBC156E014}" type="slidenum"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FE18-B132-456A-A978-30CF0429DC11}" type="slidenum"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9393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9393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Introduction to Computers and C++ Programming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Chapter 1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The Software Development Method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6600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2704"/>
                </a:solidFill>
                <a:latin typeface="Times New Roman"/>
                <a:ea typeface="Times New Roman (Arabic)"/>
              </a:rPr>
              <a:t>Specify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 the problem requirements.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0" algn="just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2.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f82704"/>
                </a:solidFill>
                <a:latin typeface="Times New Roman"/>
                <a:ea typeface="Times New Roman (Arabic)"/>
              </a:rPr>
              <a:t>Analyze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 the problem.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0" algn="just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Input: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0" algn="just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Output: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0" algn="just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Formulas: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0" algn="just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3.</a:t>
            </a:r>
            <a:r>
              <a:rPr b="1" lang="ar-SA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f82704"/>
                </a:solidFill>
                <a:latin typeface="Times New Roman"/>
                <a:ea typeface="Times New Roman (Arabic)"/>
              </a:rPr>
              <a:t>Design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 the algorithm to solve the problem.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0" algn="just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4. </a:t>
            </a:r>
            <a:r>
              <a:rPr b="0" lang="en-US" sz="2400" spc="-1" strike="noStrike">
                <a:solidFill>
                  <a:srgbClr val="f82704"/>
                </a:solidFill>
                <a:latin typeface="Times New Roman"/>
                <a:ea typeface="Times New Roman (Arabic)"/>
              </a:rPr>
              <a:t>Implement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 the algorithm.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0" algn="just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5. </a:t>
            </a:r>
            <a:r>
              <a:rPr b="0" lang="en-US" sz="2400" spc="-1" strike="noStrike">
                <a:solidFill>
                  <a:srgbClr val="f82704"/>
                </a:solidFill>
                <a:latin typeface="Times New Roman"/>
                <a:ea typeface="Times New Roman (Arabic)"/>
              </a:rPr>
              <a:t>Test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 and verify the completed program.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0" algn="just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6. </a:t>
            </a:r>
            <a:r>
              <a:rPr b="0" lang="en-US" sz="2400" spc="-1" strike="noStrike">
                <a:solidFill>
                  <a:srgbClr val="f82704"/>
                </a:solidFill>
                <a:latin typeface="Times New Roman"/>
                <a:ea typeface="Times New Roman (Arabic)"/>
              </a:rPr>
              <a:t>Maintain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 and</a:t>
            </a:r>
            <a:r>
              <a:rPr b="0" lang="en-US" sz="2400" spc="-1" strike="noStrike">
                <a:solidFill>
                  <a:srgbClr val="ffcccc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f82704"/>
                </a:solidFill>
                <a:latin typeface="Times New Roman"/>
                <a:ea typeface="Times New Roman (Arabic)"/>
              </a:rPr>
              <a:t>update</a:t>
            </a:r>
            <a:r>
              <a:rPr b="0" lang="en-US" sz="2400" spc="-1" strike="noStrike">
                <a:solidFill>
                  <a:srgbClr val="ffcccc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 (Arabic)"/>
              </a:rPr>
              <a:t>the program.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0" algn="just">
              <a:lnSpc>
                <a:spcPct val="10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The Software Life Cycl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Analysis and specification of the task (problem definition)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Design of the software (algorithm design)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Implementation (coding)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esting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Maintenance and evolution of the system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Obsolescense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Introduction to C++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676520"/>
            <a:ext cx="205740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Arial"/>
              </a:rPr>
              <a:t>BCP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295280" y="2362320"/>
            <a:ext cx="4648320" cy="1218960"/>
            <a:chOff x="1295280" y="2362320"/>
            <a:chExt cx="4648320" cy="1218960"/>
          </a:xfrm>
        </p:grpSpPr>
        <p:sp>
          <p:nvSpPr>
            <p:cNvPr id="175" name=""/>
            <p:cNvSpPr/>
            <p:nvPr/>
          </p:nvSpPr>
          <p:spPr>
            <a:xfrm>
              <a:off x="1295280" y="2971800"/>
              <a:ext cx="4648320" cy="609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93939"/>
                  </a:solidFill>
                  <a:latin typeface="Arial"/>
                </a:rPr>
                <a:t>B programming language</a:t>
              </a:r>
              <a:endParaRPr b="0" lang="en-US" sz="32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05120" y="2362320"/>
              <a:ext cx="0" cy="60948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295280" y="3657600"/>
            <a:ext cx="4648320" cy="1219320"/>
            <a:chOff x="1295280" y="3657600"/>
            <a:chExt cx="4648320" cy="1219320"/>
          </a:xfrm>
        </p:grpSpPr>
        <p:sp>
          <p:nvSpPr>
            <p:cNvPr id="178" name=""/>
            <p:cNvSpPr/>
            <p:nvPr/>
          </p:nvSpPr>
          <p:spPr>
            <a:xfrm>
              <a:off x="1295280" y="4267080"/>
              <a:ext cx="4648320" cy="609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93939"/>
                  </a:solidFill>
                  <a:latin typeface="Arial"/>
                </a:rPr>
                <a:t>C programming language</a:t>
              </a:r>
              <a:endParaRPr b="0" lang="en-US" sz="32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05120" y="3657600"/>
              <a:ext cx="0" cy="60948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371600" y="4952880"/>
            <a:ext cx="2057400" cy="1219320"/>
            <a:chOff x="1371600" y="4952880"/>
            <a:chExt cx="2057400" cy="1219320"/>
          </a:xfrm>
        </p:grpSpPr>
        <p:sp>
          <p:nvSpPr>
            <p:cNvPr id="181" name=""/>
            <p:cNvSpPr/>
            <p:nvPr/>
          </p:nvSpPr>
          <p:spPr>
            <a:xfrm>
              <a:off x="1371600" y="5562720"/>
              <a:ext cx="2057400" cy="609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93939"/>
                  </a:solidFill>
                  <a:latin typeface="Arial"/>
                </a:rPr>
                <a:t>C++</a:t>
              </a:r>
              <a:endParaRPr b="0" lang="en-US" sz="32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28800" y="4952880"/>
              <a:ext cx="0" cy="60984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104880" y="4191120"/>
            <a:ext cx="2418840" cy="825480"/>
          </a:xfrm>
          <a:prstGeom prst="rect">
            <a:avLst/>
          </a:prstGeom>
          <a:noFill/>
          <a:ln cap="rnd" w="9360">
            <a:solidFill>
              <a:srgbClr val="ff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Dennis Ritchi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1970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02360" y="5334120"/>
            <a:ext cx="2828880" cy="825480"/>
          </a:xfrm>
          <a:prstGeom prst="rect">
            <a:avLst/>
          </a:prstGeom>
          <a:noFill/>
          <a:ln cap="rnd" w="9360">
            <a:solidFill>
              <a:srgbClr val="ff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Bjarne Stroustrap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00cc"/>
                </a:solidFill>
                <a:latin typeface="Arial"/>
              </a:rPr>
              <a:t>1980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Layout of a C++ Program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1371600"/>
            <a:ext cx="5410440" cy="55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#include &lt;iostream&gt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using namespace std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int main()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Variable_Declaration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Statement_1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Statement_2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  …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Statement_Last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600200" y="5715000"/>
            <a:ext cx="7478280" cy="838080"/>
            <a:chOff x="1600200" y="5715000"/>
            <a:chExt cx="7478280" cy="838080"/>
          </a:xfrm>
        </p:grpSpPr>
        <p:sp>
          <p:nvSpPr>
            <p:cNvPr id="188" name=""/>
            <p:cNvSpPr/>
            <p:nvPr/>
          </p:nvSpPr>
          <p:spPr>
            <a:xfrm>
              <a:off x="1600200" y="5715000"/>
              <a:ext cx="4876920" cy="838080"/>
            </a:xfrm>
            <a:prstGeom prst="rect">
              <a:avLst/>
            </a:prstGeom>
            <a:noFill/>
            <a:ln w="9360">
              <a:solidFill>
                <a:srgbClr val="f827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16880" y="5867280"/>
              <a:ext cx="23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6600cc"/>
                  </a:solidFill>
                  <a:latin typeface="Arial"/>
                </a:rPr>
                <a:t>Program ends here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477120" y="6095880"/>
              <a:ext cx="304560" cy="0"/>
            </a:xfrm>
            <a:prstGeom prst="line">
              <a:avLst/>
            </a:prstGeom>
            <a:ln w="9360">
              <a:solidFill>
                <a:srgbClr val="f8270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600200" y="1447920"/>
            <a:ext cx="7547760" cy="1828800"/>
            <a:chOff x="1600200" y="1447920"/>
            <a:chExt cx="7547760" cy="1828800"/>
          </a:xfrm>
        </p:grpSpPr>
        <p:sp>
          <p:nvSpPr>
            <p:cNvPr id="192" name=""/>
            <p:cNvSpPr/>
            <p:nvPr/>
          </p:nvSpPr>
          <p:spPr>
            <a:xfrm>
              <a:off x="1600200" y="1447920"/>
              <a:ext cx="4876920" cy="1828800"/>
            </a:xfrm>
            <a:prstGeom prst="rect">
              <a:avLst/>
            </a:prstGeom>
            <a:noFill/>
            <a:ln w="9360">
              <a:solidFill>
                <a:srgbClr val="f827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16160" y="2133720"/>
              <a:ext cx="243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6600cc"/>
                  </a:solidFill>
                  <a:latin typeface="Arial"/>
                </a:rPr>
                <a:t>Program starts here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477120" y="2362320"/>
              <a:ext cx="304560" cy="0"/>
            </a:xfrm>
            <a:prstGeom prst="line">
              <a:avLst/>
            </a:prstGeom>
            <a:ln w="9360">
              <a:solidFill>
                <a:srgbClr val="f8270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Layout of a C++ Program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1371600"/>
            <a:ext cx="4191120" cy="55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#include &lt;iostream&gt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using namespace std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int main()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Variable_Declaration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Statement_1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Statement_2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  …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93939"/>
                </a:solidFill>
                <a:latin typeface="Arial"/>
              </a:rPr>
              <a:t>Statement_Last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343400" y="1419120"/>
            <a:ext cx="3988440" cy="398880"/>
            <a:chOff x="4343400" y="1419120"/>
            <a:chExt cx="3988440" cy="398880"/>
          </a:xfrm>
        </p:grpSpPr>
        <p:sp>
          <p:nvSpPr>
            <p:cNvPr id="198" name=""/>
            <p:cNvSpPr/>
            <p:nvPr/>
          </p:nvSpPr>
          <p:spPr>
            <a:xfrm>
              <a:off x="4343400" y="1600200"/>
              <a:ext cx="1905120" cy="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23760" y="1419120"/>
              <a:ext cx="20080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cc"/>
                  </a:solidFill>
                  <a:latin typeface="Arial"/>
                </a:rPr>
                <a:t>include directive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419720" y="1828800"/>
            <a:ext cx="4462560" cy="398880"/>
            <a:chOff x="4419720" y="1828800"/>
            <a:chExt cx="4462560" cy="398880"/>
          </a:xfrm>
        </p:grpSpPr>
        <p:sp>
          <p:nvSpPr>
            <p:cNvPr id="201" name=""/>
            <p:cNvSpPr/>
            <p:nvPr/>
          </p:nvSpPr>
          <p:spPr>
            <a:xfrm>
              <a:off x="4419720" y="2057400"/>
              <a:ext cx="1828800" cy="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21240" y="1828800"/>
              <a:ext cx="2561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cc"/>
                  </a:solidFill>
                  <a:latin typeface="Arial"/>
                </a:rPr>
                <a:t>standard namespace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048120" y="2514600"/>
            <a:ext cx="5046840" cy="398880"/>
            <a:chOff x="3048120" y="2514600"/>
            <a:chExt cx="5046840" cy="398880"/>
          </a:xfrm>
        </p:grpSpPr>
        <p:sp>
          <p:nvSpPr>
            <p:cNvPr id="204" name=""/>
            <p:cNvSpPr/>
            <p:nvPr/>
          </p:nvSpPr>
          <p:spPr>
            <a:xfrm>
              <a:off x="3048120" y="2743200"/>
              <a:ext cx="3200400" cy="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0800" y="2514600"/>
              <a:ext cx="16941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cc"/>
                  </a:solidFill>
                  <a:latin typeface="Arial"/>
                </a:rPr>
                <a:t>main function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657600" y="5762520"/>
            <a:ext cx="4851000" cy="398880"/>
            <a:chOff x="3657600" y="5762520"/>
            <a:chExt cx="4851000" cy="398880"/>
          </a:xfrm>
        </p:grpSpPr>
        <p:sp>
          <p:nvSpPr>
            <p:cNvPr id="207" name=""/>
            <p:cNvSpPr/>
            <p:nvPr/>
          </p:nvSpPr>
          <p:spPr>
            <a:xfrm>
              <a:off x="3657600" y="6019920"/>
              <a:ext cx="2590920" cy="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74600" y="5762520"/>
              <a:ext cx="2034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cc"/>
                  </a:solidFill>
                  <a:latin typeface="Arial"/>
                </a:rPr>
                <a:t>return statement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334120" y="3352680"/>
            <a:ext cx="3813120" cy="2133720"/>
            <a:chOff x="5334120" y="3352680"/>
            <a:chExt cx="3813120" cy="2133720"/>
          </a:xfrm>
        </p:grpSpPr>
        <p:sp>
          <p:nvSpPr>
            <p:cNvPr id="210" name=""/>
            <p:cNvSpPr/>
            <p:nvPr/>
          </p:nvSpPr>
          <p:spPr>
            <a:xfrm>
              <a:off x="5334120" y="3352680"/>
              <a:ext cx="75960" cy="21337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10080" y="4419720"/>
              <a:ext cx="838440" cy="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18440" y="4191120"/>
              <a:ext cx="27288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cc"/>
                  </a:solidFill>
                  <a:latin typeface="Arial"/>
                </a:rPr>
                <a:t>executable statements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Sample C++ Program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99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#include &lt;iostream&gt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using namespace std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int main()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int number1, number2, sum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82704"/>
                </a:solidFill>
                <a:latin typeface="Arial"/>
              </a:rPr>
              <a:t>cout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&lt;&lt; "Enter first number: "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in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 &gt;&gt; number1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82704"/>
                </a:solidFill>
                <a:latin typeface="Arial"/>
              </a:rPr>
              <a:t>cout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&lt;&lt; "Enter second number: "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in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 &gt;&gt; number2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sum = number1 + number2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82704"/>
                </a:solidFill>
                <a:latin typeface="Arial"/>
              </a:rPr>
              <a:t>cout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 &lt;&lt; "Sum = " &lt;&lt; sum &lt;&lt; 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“\n”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return 0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34120" y="1766880"/>
          <a:ext cx="3419280" cy="15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766880"/>
                    <a:ext cx="3419280" cy="1509840"/>
                  </a:xfrm>
                  <a:prstGeom prst="rect">
                    <a:avLst/>
                  </a:prstGeom>
                  <a:ln w="38160">
                    <a:solidFill>
                      <a:srgbClr val="6600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Compiling and Running a C++ Program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218" name="Fig1.11" descr=""/>
          <p:cNvPicPr/>
          <p:nvPr/>
        </p:nvPicPr>
        <p:blipFill>
          <a:blip r:embed="rId1"/>
          <a:stretch/>
        </p:blipFill>
        <p:spPr>
          <a:xfrm>
            <a:off x="2287440" y="1600200"/>
            <a:ext cx="5635800" cy="4495680"/>
          </a:xfrm>
          <a:prstGeom prst="rect">
            <a:avLst/>
          </a:prstGeom>
          <a:ln w="38160">
            <a:solidFill>
              <a:srgbClr val="ff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Testing and Debugging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Bug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A mistake/error in the program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Debugging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The process of eliminating bugs in a program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Testing and Debugging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ypes of program errors: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8270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2704"/>
                </a:solidFill>
                <a:latin typeface="Times New Roman"/>
              </a:rPr>
              <a:t>Syntax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 error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Violations of the rules of the programming language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8270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2704"/>
                </a:solidFill>
                <a:latin typeface="Times New Roman"/>
              </a:rPr>
              <a:t>Run-time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 error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Detected by computers when the program is run (numeric calcualtions)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8270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2704"/>
                </a:solidFill>
                <a:latin typeface="Times New Roman"/>
              </a:rPr>
              <a:t>Logic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 error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Mistakes in the underlying algorithm or translating the algorithm into C++ language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Sample C++ Program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03480" y="1563840"/>
            <a:ext cx="23018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2704"/>
                </a:solidFill>
                <a:uFillTx/>
                <a:latin typeface="Arial"/>
              </a:rPr>
              <a:t>Try this: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Write a program that displays the product of two integer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29000" y="1600200"/>
            <a:ext cx="5365800" cy="4740480"/>
          </a:xfrm>
          <a:prstGeom prst="rect">
            <a:avLst/>
          </a:prstGeom>
          <a:solidFill>
            <a:srgbClr val="ffffff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#include &lt;iostream&gt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using namespace std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int main()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int number1, number2, product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82704"/>
                </a:solidFill>
                <a:latin typeface="Arial"/>
              </a:rPr>
              <a:t>cout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&lt;&lt; "Enter first number: "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in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 &gt;&gt; number1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82704"/>
                </a:solidFill>
                <a:latin typeface="Arial"/>
              </a:rPr>
              <a:t>cout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&lt;&lt; "Enter second number: "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in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 &gt;&gt; number2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product =…………………..?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82704"/>
                </a:solidFill>
                <a:latin typeface="Arial"/>
              </a:rPr>
              <a:t>cout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  &lt;&lt; “Product = " &lt;&lt; product &lt;&lt; 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“\n”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3939"/>
                </a:solidFill>
                <a:latin typeface="Arial"/>
              </a:rPr>
              <a:t>return 0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Main Components of a Computer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2971800"/>
            <a:ext cx="1371600" cy="762120"/>
          </a:xfrm>
          <a:prstGeom prst="rect">
            <a:avLst/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9113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Input device(s)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1676520"/>
            <a:ext cx="1447920" cy="457200"/>
          </a:xfrm>
          <a:prstGeom prst="rect">
            <a:avLst/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2514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Main memory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2895480"/>
            <a:ext cx="1752840" cy="1447920"/>
          </a:xfrm>
          <a:prstGeom prst="flowChartDocument">
            <a:avLst/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3200400"/>
            <a:ext cx="1752840" cy="0"/>
          </a:xfrm>
          <a:prstGeom prst="line">
            <a:avLst/>
          </a:prstGeom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3429000"/>
            <a:ext cx="1752840" cy="0"/>
          </a:xfrm>
          <a:prstGeom prst="line">
            <a:avLst/>
          </a:prstGeom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3657600"/>
            <a:ext cx="1752840" cy="0"/>
          </a:xfrm>
          <a:prstGeom prst="line">
            <a:avLst/>
          </a:prstGeom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3886200"/>
            <a:ext cx="1752840" cy="0"/>
          </a:xfrm>
          <a:prstGeom prst="line">
            <a:avLst/>
          </a:prstGeom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51973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Secondary memory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5257800"/>
            <a:ext cx="1676520" cy="762120"/>
          </a:xfrm>
          <a:prstGeom prst="rect">
            <a:avLst/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29718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Output device(s)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2971800"/>
            <a:ext cx="1447560" cy="838080"/>
          </a:xfrm>
          <a:prstGeom prst="rect">
            <a:avLst/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1600200"/>
            <a:ext cx="2361960" cy="2895480"/>
          </a:xfrm>
          <a:prstGeom prst="rect">
            <a:avLst/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32004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f9d87e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3276720"/>
            <a:ext cx="533160" cy="304560"/>
          </a:xfrm>
          <a:prstGeom prst="rightArrow">
            <a:avLst>
              <a:gd name="adj1" fmla="val 50000"/>
              <a:gd name="adj2" fmla="val 43765"/>
            </a:avLst>
          </a:prstGeom>
          <a:solidFill>
            <a:srgbClr val="f9d87e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2209680"/>
            <a:ext cx="304560" cy="381240"/>
          </a:xfrm>
          <a:prstGeom prst="downArrow">
            <a:avLst>
              <a:gd name="adj1" fmla="val 50000"/>
              <a:gd name="adj2" fmla="val 31294"/>
            </a:avLst>
          </a:prstGeom>
          <a:solidFill>
            <a:srgbClr val="f9d87e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2209680"/>
            <a:ext cx="304920" cy="381240"/>
          </a:xfrm>
          <a:prstGeom prst="upArrow">
            <a:avLst>
              <a:gd name="adj1" fmla="val 50000"/>
              <a:gd name="adj2" fmla="val 31257"/>
            </a:avLst>
          </a:prstGeom>
          <a:solidFill>
            <a:srgbClr val="f9d87e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4724280"/>
            <a:ext cx="304560" cy="381240"/>
          </a:xfrm>
          <a:prstGeom prst="downArrow">
            <a:avLst>
              <a:gd name="adj1" fmla="val 50000"/>
              <a:gd name="adj2" fmla="val 31294"/>
            </a:avLst>
          </a:prstGeom>
          <a:solidFill>
            <a:srgbClr val="f9d87e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4724280"/>
            <a:ext cx="304920" cy="381240"/>
          </a:xfrm>
          <a:prstGeom prst="upArrow">
            <a:avLst>
              <a:gd name="adj1" fmla="val 50000"/>
              <a:gd name="adj2" fmla="val 31257"/>
            </a:avLst>
          </a:prstGeom>
          <a:solidFill>
            <a:srgbClr val="f9d87e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70360" y="2743200"/>
            <a:ext cx="146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00011111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10101100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11100011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Bytes and Address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Main memory is divided into numbered locations called </a:t>
            </a:r>
            <a:r>
              <a:rPr b="0" lang="en-US" sz="3200" spc="-1" strike="noStrike">
                <a:solidFill>
                  <a:srgbClr val="f82704"/>
                </a:solidFill>
                <a:latin typeface="Times New Roman"/>
              </a:rPr>
              <a:t>bytes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he number associated with a byte is called its </a:t>
            </a:r>
            <a:r>
              <a:rPr b="0" lang="en-US" sz="3200" spc="-1" strike="noStrike">
                <a:solidFill>
                  <a:srgbClr val="f82704"/>
                </a:solidFill>
                <a:latin typeface="Times New Roman"/>
              </a:rPr>
              <a:t>address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A group of consecutive bytes is used as the location for a a data item, such as a number or letter. The address of the first byte in the group is used as the address of this larger memory location.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omputer System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Hardware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PC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Workstation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Mainframe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oftware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Operating System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Program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What is a program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A program is set of instructions for a computer to follow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Whenever we give a computer both a </a:t>
            </a:r>
            <a:r>
              <a:rPr b="0" lang="en-US" sz="3200" spc="-1" strike="noStrike">
                <a:solidFill>
                  <a:srgbClr val="f82704"/>
                </a:solidFill>
                <a:latin typeface="Times New Roman"/>
              </a:rPr>
              <a:t>program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to follow and some </a:t>
            </a:r>
            <a:r>
              <a:rPr b="0" lang="en-US" sz="3200" spc="-1" strike="noStrike">
                <a:solidFill>
                  <a:srgbClr val="f82704"/>
                </a:solidFill>
                <a:latin typeface="Times New Roman"/>
              </a:rPr>
              <a:t>data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for the program, we are said to be </a:t>
            </a:r>
            <a:r>
              <a:rPr b="1" lang="en-US" sz="3200" spc="-1" strike="noStrike">
                <a:solidFill>
                  <a:srgbClr val="393939"/>
                </a:solidFill>
                <a:latin typeface="Times New Roman"/>
              </a:rPr>
              <a:t>running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the program on the data, and the computer is said to </a:t>
            </a:r>
            <a:r>
              <a:rPr b="1" lang="en-US" sz="3200" spc="-1" strike="noStrike">
                <a:solidFill>
                  <a:srgbClr val="393939"/>
                </a:solidFill>
                <a:latin typeface="Times New Roman"/>
              </a:rPr>
              <a:t>execute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the program on the data.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Languag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High Level Language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++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Java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Low Level Language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Assembly Language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Add X Y Z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Machine Language 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00011101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ompiler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Programs that translate a high-level language like C++ to a machine-language that the computer can directly understand and execute.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Preparing a C++ program for Running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1676520"/>
            <a:ext cx="1981080" cy="1066680"/>
          </a:xfrm>
          <a:prstGeom prst="ellipse">
            <a:avLst/>
          </a:prstGeom>
          <a:solidFill>
            <a:srgbClr val="f9d87e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C++ program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Source Cod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200400"/>
            <a:ext cx="1676520" cy="685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7560" y="32767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Compiler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4876920"/>
            <a:ext cx="2438280" cy="990360"/>
          </a:xfrm>
          <a:prstGeom prst="ellipse">
            <a:avLst/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3200400"/>
            <a:ext cx="2286000" cy="1219320"/>
          </a:xfrm>
          <a:prstGeom prst="ellipse">
            <a:avLst/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29400" y="3124080"/>
            <a:ext cx="2133720" cy="1905120"/>
          </a:xfrm>
          <a:prstGeom prst="ellipse">
            <a:avLst/>
          </a:prstGeom>
          <a:solidFill>
            <a:srgbClr val="f9d87e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5334120"/>
            <a:ext cx="1676520" cy="533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952880"/>
            <a:ext cx="230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Object code for C++ program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10440" y="5334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Linker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32004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Object code for other routine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666520" y="2362320"/>
            <a:ext cx="1295640" cy="685800"/>
          </a:xfrm>
          <a:prstGeom prst="line">
            <a:avLst/>
          </a:prstGeom>
          <a:ln w="9360">
            <a:solidFill>
              <a:srgbClr val="3939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962520"/>
            <a:ext cx="0" cy="838080"/>
          </a:xfrm>
          <a:prstGeom prst="line">
            <a:avLst/>
          </a:prstGeom>
          <a:ln w="9360">
            <a:solidFill>
              <a:srgbClr val="3939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5562720"/>
            <a:ext cx="1066680" cy="0"/>
          </a:xfrm>
          <a:prstGeom prst="line">
            <a:avLst/>
          </a:prstGeom>
          <a:ln w="9360">
            <a:solidFill>
              <a:srgbClr val="3939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324480" y="4800600"/>
            <a:ext cx="533520" cy="533520"/>
          </a:xfrm>
          <a:prstGeom prst="line">
            <a:avLst/>
          </a:prstGeom>
          <a:ln w="9360">
            <a:solidFill>
              <a:srgbClr val="3939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4495680"/>
            <a:ext cx="0" cy="762120"/>
          </a:xfrm>
          <a:prstGeom prst="line">
            <a:avLst/>
          </a:prstGeom>
          <a:ln w="9360">
            <a:solidFill>
              <a:srgbClr val="39393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Program Design Proces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67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93939"/>
                </a:solidFill>
                <a:latin typeface="Times New Roman"/>
              </a:rPr>
              <a:t>Problem-solving phas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16765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93939"/>
                </a:solidFill>
                <a:latin typeface="Times New Roman"/>
              </a:rPr>
              <a:t>Implementation phas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2362320"/>
            <a:ext cx="1981440" cy="457200"/>
          </a:xfrm>
          <a:prstGeom prst="ellipse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3276720"/>
            <a:ext cx="1828800" cy="685800"/>
          </a:xfrm>
          <a:prstGeom prst="rect">
            <a:avLst/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Problem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definition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4419720"/>
            <a:ext cx="1828800" cy="685800"/>
          </a:xfrm>
          <a:prstGeom prst="rect">
            <a:avLst/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562720"/>
            <a:ext cx="1828800" cy="685800"/>
          </a:xfrm>
          <a:prstGeom prst="rect">
            <a:avLst/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Desktop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testing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286000"/>
            <a:ext cx="2895480" cy="4191120"/>
          </a:xfrm>
          <a:prstGeom prst="rect">
            <a:avLst/>
          </a:prstGeom>
          <a:noFill/>
          <a:ln w="9360">
            <a:solidFill>
              <a:srgbClr val="3939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2971800"/>
            <a:ext cx="1828800" cy="685800"/>
          </a:xfrm>
          <a:prstGeom prst="rect">
            <a:avLst/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Translating 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to C++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4114800"/>
            <a:ext cx="1828800" cy="685800"/>
          </a:xfrm>
          <a:prstGeom prst="rect">
            <a:avLst/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Testing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15000" y="5562720"/>
            <a:ext cx="2438280" cy="838080"/>
          </a:xfrm>
          <a:prstGeom prst="ellipse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Working 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2819520"/>
            <a:ext cx="0" cy="45720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3962520"/>
            <a:ext cx="0" cy="45720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5105520"/>
            <a:ext cx="0" cy="45720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219320" y="5943600"/>
            <a:ext cx="380880" cy="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219320" y="3581280"/>
            <a:ext cx="0" cy="236232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3581280"/>
            <a:ext cx="380880" cy="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4800600"/>
            <a:ext cx="380880" cy="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10080" y="2362320"/>
            <a:ext cx="3200400" cy="2819160"/>
          </a:xfrm>
          <a:prstGeom prst="rect">
            <a:avLst/>
          </a:prstGeom>
          <a:noFill/>
          <a:ln w="9360">
            <a:solidFill>
              <a:srgbClr val="3939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4800600"/>
            <a:ext cx="1295280" cy="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724280" y="3352680"/>
            <a:ext cx="0" cy="144792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3352680"/>
            <a:ext cx="1295640" cy="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24680" y="4495680"/>
            <a:ext cx="381240" cy="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305920" y="3276720"/>
            <a:ext cx="0" cy="121896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000640" y="3276720"/>
            <a:ext cx="304920" cy="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34320" y="3657600"/>
            <a:ext cx="0" cy="45720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34320" y="4800600"/>
            <a:ext cx="0" cy="76212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07:14:31Z</dcterms:created>
  <dc:creator>Mwakil</dc:creator>
  <dc:description/>
  <dc:language>en-US</dc:language>
  <cp:lastModifiedBy>Mwakil</cp:lastModifiedBy>
  <dcterms:modified xsi:type="dcterms:W3CDTF">2004-06-23T14:11:11Z</dcterms:modified>
  <cp:revision>4</cp:revision>
  <dc:subject/>
  <dc:title>PowerPoint Presentation</dc:title>
</cp:coreProperties>
</file>