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10191750" cy="7199313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39320" y="696960"/>
            <a:ext cx="49309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F764-D9A1-4405-9765-E1186FD19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039680" y="696960"/>
            <a:ext cx="4930920" cy="348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226D-1871-426F-8CF9-4FB4FAB209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DA14-2C4B-41D7-8E15-36A1954C6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9760" y="288720"/>
            <a:ext cx="91706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9760" y="1679040"/>
            <a:ext cx="9170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9760" y="4161600"/>
            <a:ext cx="9170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BB98-4397-4CF6-A019-7CD07BF8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9760" y="288720"/>
            <a:ext cx="91706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9760" y="1679040"/>
            <a:ext cx="4475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09200" y="1679040"/>
            <a:ext cx="4475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9760" y="4161600"/>
            <a:ext cx="4475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09200" y="4161600"/>
            <a:ext cx="4475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DBCF-3148-49F0-81B1-067D7E587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9760" y="288720"/>
            <a:ext cx="91706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9760" y="1679040"/>
            <a:ext cx="2952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0440" y="1679040"/>
            <a:ext cx="2952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11120" y="1679040"/>
            <a:ext cx="2952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9760" y="4161600"/>
            <a:ext cx="2952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0440" y="4161600"/>
            <a:ext cx="2952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11120" y="4161600"/>
            <a:ext cx="2952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6B74-E719-4A43-A96D-2DD245C33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9760" y="288720"/>
            <a:ext cx="91706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9760" y="1679040"/>
            <a:ext cx="91706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CE55-6D44-436A-B272-0659965C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9760" y="288720"/>
            <a:ext cx="91706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9760" y="1679040"/>
            <a:ext cx="91706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891E-B546-4F51-8BAB-AB7AA9A8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9760" y="288720"/>
            <a:ext cx="91706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9760" y="1679040"/>
            <a:ext cx="4475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09200" y="1679040"/>
            <a:ext cx="4475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36CE-4E9B-473F-9560-FCA0FA4B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9760" y="288720"/>
            <a:ext cx="91706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2319-FAFC-4D99-B645-F1FB92D3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9760" y="288720"/>
            <a:ext cx="917064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6269-6DA0-4DD0-9488-831FCFD9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9760" y="288720"/>
            <a:ext cx="91706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9760" y="1679040"/>
            <a:ext cx="4475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09200" y="1679040"/>
            <a:ext cx="4475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9760" y="4161600"/>
            <a:ext cx="4475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D321-4704-41D2-8D31-765A8D11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9760" y="288720"/>
            <a:ext cx="91706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9760" y="1679040"/>
            <a:ext cx="4475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9200" y="1679040"/>
            <a:ext cx="4475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09200" y="4161600"/>
            <a:ext cx="4475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6AEC-1245-479C-869A-A8DD6B83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9760" y="288720"/>
            <a:ext cx="91706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9760" y="1679040"/>
            <a:ext cx="4475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9200" y="1679040"/>
            <a:ext cx="4475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9760" y="4161600"/>
            <a:ext cx="9170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718B-AE0B-46D9-B60C-418EDA80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9760" y="288720"/>
            <a:ext cx="91706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9760" y="1679040"/>
            <a:ext cx="91706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9400" y="6557760"/>
            <a:ext cx="2377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81560" y="6557760"/>
            <a:ext cx="32270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02240" y="6557760"/>
            <a:ext cx="2377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B486-DB53-4C13-9C34-3D8264F71DD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63560" y="2236680"/>
            <a:ext cx="8663040" cy="15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Ratios and Rat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2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2D3C-468C-48D2-9560-6AE6BD04F04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750960" y="781200"/>
            <a:ext cx="704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proportion of technicians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280160" y="2000160"/>
            <a:ext cx="70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(Number of technicians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5"/>
          <p:cNvSpPr/>
          <p:nvPr/>
        </p:nvSpPr>
        <p:spPr>
          <a:xfrm>
            <a:off x="1131840" y="2914560"/>
            <a:ext cx="7048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1867680" y="3067200"/>
            <a:ext cx="589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(Total of medical staff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1354680" y="436248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1431000" y="504828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10"/>
          <p:cNvSpPr/>
          <p:nvPr/>
        </p:nvSpPr>
        <p:spPr>
          <a:xfrm>
            <a:off x="1360440" y="4971960"/>
            <a:ext cx="10666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2723400" y="4667400"/>
            <a:ext cx="174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= 0.33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6297-AA0A-49E2-BC03-082C19BDC28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446040" y="781200"/>
            <a:ext cx="9744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Note that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um of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 Black"/>
                <a:ea typeface="Times New Roman"/>
              </a:rPr>
              <a:t>all proportions 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hould equal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(0.5 + 0.167 + 0.333) =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2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6E0C-3783-4F75-872C-E3660B26854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69920" y="560520"/>
            <a:ext cx="9725040" cy="62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 Black"/>
                <a:ea typeface="Times New Roman"/>
              </a:rPr>
              <a:t>Characteristics of proport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5298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1-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Numerator is part of denominat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5298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2- The value of the proportion will always be some decimal number between 0 and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5298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0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≤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P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≤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5298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3- Difficult to interpr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CE59-CBB8-4066-B2D8-354BCB86C9E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40760" y="247680"/>
            <a:ext cx="9829800" cy="67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6100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o make the proportion easy to interpret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6100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we change it to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Black"/>
                <a:ea typeface="Times New Roman"/>
              </a:rPr>
              <a:t>percentage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by multiplying by 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ts val="61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Percentage = proportion x 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61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Black"/>
                <a:ea typeface="Times New Roman"/>
              </a:rPr>
              <a:t>Range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of values for percentage is from 0 to 10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ts val="61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0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≤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Percentage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≤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1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06D9-CD14-4906-A1D1-695275BE636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09760" y="171000"/>
            <a:ext cx="9385200" cy="678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997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Exampl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4997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1- Percentage of nurses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4997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     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(150/300) x 100 = 50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4997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2- percentage of physicia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4997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     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(50 / 300 ) x 100 = 16.7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4997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3- percentage of technicia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4997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     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(100 / 300 ) x 100 = 33.3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1613-1F36-4E25-B136-26509C7E2CB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17080" y="247320"/>
            <a:ext cx="97534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59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Rati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98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f "a" is one number and "b" is another; a ratio between the two i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5998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a/b or a: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98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means "so many "a" per unit of b"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0413-A0D9-47EF-B1B0-ED461B3C4CA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18880" y="479520"/>
            <a:ext cx="9716760" cy="29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Example 1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n a class of 50 students, 30 students were from Riyadh and 20 students were from out Riyad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1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"/>
          <p:cNvSpPr/>
          <p:nvPr/>
        </p:nvSpPr>
        <p:spPr>
          <a:xfrm>
            <a:off x="182520" y="3676680"/>
            <a:ext cx="9972720" cy="15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598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Find ratio of students from Riyadh to students from out Riyad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1846080" y="5276880"/>
            <a:ext cx="68360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54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= 30 : 20 or 30/20 = 1.5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75DC-B9B9-4518-A4D3-12CC387D0E0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3"/>
          <p:cNvSpPr/>
          <p:nvPr/>
        </p:nvSpPr>
        <p:spPr>
          <a:xfrm>
            <a:off x="0" y="552600"/>
            <a:ext cx="1019016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4997"/>
              </a:lnSpc>
              <a:spcBef>
                <a:spcPts val="24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nterpretation: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98"/>
              </a:lnSpc>
              <a:spcBef>
                <a:spcPts val="24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for every 150 students from Riyadh there are 100 students from outside Riyadh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9F5E-C7F2-4F01-8734-A35631DDD13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17080" y="0"/>
            <a:ext cx="9753480" cy="66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5499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Example 2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5998"/>
              </a:lnSpc>
              <a:spcBef>
                <a:spcPts val="247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ex ratio: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is simply the ratio of males to femal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5998"/>
              </a:lnSpc>
              <a:spcBef>
                <a:spcPts val="247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his ratio is usually expressed as the number of males per 100 femal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5499"/>
              </a:lnSpc>
              <a:spcBef>
                <a:spcPts val="247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written as: males : fem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7A6B-E05D-4192-93CE-D8BF792A991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17080" y="399960"/>
            <a:ext cx="97534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5298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uppose we hav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5298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males = 1000;    females = 900;  th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5298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ex ratio = 1000 : 9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5499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or can also be written a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ts val="5499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(10/9) = 1.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5499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Or can be written a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5499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111 : 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B6EA-46EF-432D-8673-0C68E716F80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9760" y="288720"/>
            <a:ext cx="917064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3760" y="399600"/>
            <a:ext cx="96012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0">
              <a:lnSpc>
                <a:spcPct val="13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Example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35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n a class of 50 students, 30 students were from Riyadh and 20 students were from outside Riyad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85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1459-CB44-44D2-AC30-AAE83F1BAED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67DB-D841-4D91-9659-673656D6D9E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46040" y="324000"/>
            <a:ext cx="9296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ts val="5998"/>
              </a:lnSpc>
              <a:spcBef>
                <a:spcPts val="28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here are 111 males for every 100 fe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750960" y="781200"/>
          <a:ext cx="5943600" cy="5911560"/>
        </p:xfrm>
        <a:graphic>
          <a:graphicData uri="http://schemas.openxmlformats.org/drawingml/2006/table">
            <a:tbl>
              <a:tblPr/>
              <a:tblGrid>
                <a:gridCol w="1544400"/>
                <a:gridCol w="1231920"/>
                <a:gridCol w="1490760"/>
                <a:gridCol w="1676520"/>
              </a:tblGrid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m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x rat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9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9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9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7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9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9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9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9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9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Slide Number Placeholder 2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3B03-A14F-4B52-B0EC-F800FC7F61E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23480" y="-360"/>
            <a:ext cx="990612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 Black"/>
                <a:ea typeface="Times New Roman"/>
              </a:rPr>
              <a:t>Characteristics of a Ratio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Black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1-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Numerator is not part of denom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5199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2- Data should be collected over the same time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"/>
          <p:cNvSpPr/>
          <p:nvPr/>
        </p:nvSpPr>
        <p:spPr>
          <a:xfrm>
            <a:off x="217440" y="3539160"/>
            <a:ext cx="9718560" cy="33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f the percentage of smokers among university students is 20%, then the proportion of smokers is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E76A-CFDA-48E7-8537-F48EAE72B22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217440" y="247680"/>
          <a:ext cx="9753480" cy="6103800"/>
        </p:xfrm>
        <a:graphic>
          <a:graphicData uri="http://schemas.openxmlformats.org/drawingml/2006/table">
            <a:tbl>
              <a:tblPr/>
              <a:tblGrid>
                <a:gridCol w="1866960"/>
                <a:gridCol w="2324160"/>
                <a:gridCol w="2666880"/>
                <a:gridCol w="289548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ood typ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equenc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porti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centag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16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3/ 25) = 0.5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2 x 100 = 5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16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7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Slide Number Placeholder 2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5EFF-7BF2-4445-9126-B2CFB18226E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0" y="324000"/>
            <a:ext cx="1019016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Gestational diabetes is a form of diabetes that occurs in some pregnant women during pregna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n a sample of 500 pregnant women in Riyadh selected from primary health care centers with no previous history of diabetes, 100 were found to have a gestational diabe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9918-B4A9-44A6-9EE3-F4B6B2B8C3B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217440" y="1336680"/>
          <a:ext cx="9753480" cy="2193840"/>
        </p:xfrm>
        <a:graphic>
          <a:graphicData uri="http://schemas.openxmlformats.org/drawingml/2006/table">
            <a:tbl>
              <a:tblPr/>
              <a:tblGrid>
                <a:gridCol w="2149560"/>
                <a:gridCol w="4089240"/>
                <a:gridCol w="3514680"/>
              </a:tblGrid>
              <a:tr h="1432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Women  sam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with gestational diabe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no gestational diabe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1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5" name="Slide Number Placeholder 2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108C-9599-43B1-97BA-713E4DDB950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141120" y="247680"/>
            <a:ext cx="975384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5698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a- Proportion of  women who were found to have gestational diabetes is: 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43A0-1B1F-4AB3-A998-56FC8938A0C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293760" y="2533680"/>
            <a:ext cx="9677160" cy="43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5499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b- Percentage of  women who were found to have gestational diabetes is: 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5499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- Ratio of women with gestational diabetes to women with no gestational diabetes is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"/>
          <p:cNvSpPr/>
          <p:nvPr/>
        </p:nvSpPr>
        <p:spPr>
          <a:xfrm>
            <a:off x="293760" y="1104840"/>
            <a:ext cx="9524880" cy="54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ts val="5298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n a study on smoking status at King Saud University (KSU), a sample of 1000 students were select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5298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Each student was asked whether he smokes or no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5298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t was found that among the students who were selected, 100 students smoke, based on this information we can s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3DF5-DF80-4B68-9E80-36D8B52A8FB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مستطيل 1"/>
          <p:cNvSpPr/>
          <p:nvPr/>
        </p:nvSpPr>
        <p:spPr>
          <a:xfrm>
            <a:off x="217440" y="247680"/>
            <a:ext cx="9753480" cy="33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5100"/>
              </a:lnSpc>
              <a:buClr>
                <a:srgbClr val="000000"/>
              </a:buClr>
              <a:buFont typeface="Arial Black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Population in this study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5100"/>
              </a:lnSpc>
              <a:buClr>
                <a:srgbClr val="000000"/>
              </a:buClr>
              <a:buFont typeface="Arial Black"/>
              <a:buAutoNum type="arabicParenR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moking status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5100"/>
              </a:lnSpc>
              <a:buClr>
                <a:srgbClr val="000000"/>
              </a:buClr>
              <a:buFont typeface="Arial Black"/>
              <a:buAutoNum type="arabicParenR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King Saud University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51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3) Students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51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4) Students at KSU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2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18E0-54E0-4081-B3FF-7BAD069196F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مستطيل 1"/>
          <p:cNvSpPr/>
          <p:nvPr/>
        </p:nvSpPr>
        <p:spPr>
          <a:xfrm>
            <a:off x="217440" y="3676680"/>
            <a:ext cx="944892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5598"/>
              </a:lnSpc>
              <a:buClr>
                <a:srgbClr val="000000"/>
              </a:buClr>
              <a:buFont typeface="Arial Black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he proportion of smokers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5598"/>
              </a:lnSpc>
              <a:buClr>
                <a:srgbClr val="000000"/>
              </a:buClr>
              <a:buFont typeface="Arial Black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he percentage of smokers i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5100"/>
              </a:lnSpc>
              <a:buClr>
                <a:srgbClr val="000000"/>
              </a:buClr>
              <a:buFont typeface="Arial Black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he ratio of smokers to non-smokers i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217440" y="560520"/>
            <a:ext cx="9972720" cy="58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Rat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302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Number of events, deaths or cases of disease per unit of population, in a particular time spa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2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03CA-19D5-4DD4-BAA6-3D8AFADA366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446040" y="247680"/>
            <a:ext cx="944892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8520" indent="-398520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Fi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1- proportion of students from Riyad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93760" y="2762280"/>
          <a:ext cx="9677160" cy="2468520"/>
        </p:xfrm>
        <a:graphic>
          <a:graphicData uri="http://schemas.openxmlformats.org/drawingml/2006/table">
            <a:tbl>
              <a:tblPr/>
              <a:tblGrid>
                <a:gridCol w="2419200"/>
                <a:gridCol w="2419560"/>
                <a:gridCol w="2419200"/>
                <a:gridCol w="2419200"/>
              </a:tblGrid>
              <a:tr h="155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iyadh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side Riyadh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5" name="Rectangle 3"/>
          <p:cNvSpPr/>
          <p:nvPr/>
        </p:nvSpPr>
        <p:spPr>
          <a:xfrm>
            <a:off x="0" y="5810400"/>
            <a:ext cx="101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2- proportion of students from out Riyad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6EB1-A7E0-4CFB-BD9B-E60BB82EE97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3"/>
          <p:cNvSpPr/>
          <p:nvPr/>
        </p:nvSpPr>
        <p:spPr>
          <a:xfrm>
            <a:off x="219240" y="324000"/>
            <a:ext cx="997092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7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o calculate a rate the following are need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4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defined period of time (yea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4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defined population (country, cit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5998"/>
              </a:lnSpc>
              <a:spcBef>
                <a:spcPts val="24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number of events occurring during a period (number of deaths in a country during a year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2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C18A-025A-4BD4-9F93-29EDD418BD6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293760" y="247680"/>
            <a:ext cx="967716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520560" indent="-406080">
              <a:lnSpc>
                <a:spcPct val="100000"/>
              </a:lnSpc>
              <a:spcBef>
                <a:spcPts val="27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he formula for calculating a rate is given b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Rate = (a/ (a + b)) x 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Whe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98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a = frequency with which an event has occurred during some specified period of time, usually a y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121A-6DAD-4EEC-AFFC-64DF2F07666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3"/>
          <p:cNvSpPr/>
          <p:nvPr/>
        </p:nvSpPr>
        <p:spPr>
          <a:xfrm>
            <a:off x="65160" y="171360"/>
            <a:ext cx="101250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36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a + b = number of persons exposed to the risk of event during the same period of ti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6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k = some number such as 10, 1000, 10,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0" y="3448080"/>
            <a:ext cx="9982080" cy="29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spcBef>
                <a:spcPts val="36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he </a:t>
            </a:r>
            <a:r>
              <a:rPr b="1" i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nominator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is a component part of a </a:t>
            </a:r>
            <a:r>
              <a:rPr b="1" i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denominator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6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he purpose of multiplying by k is to avoid results involving very small numb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F794-0A7C-43B7-8ED9-722D84175D5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"/>
          <p:cNvSpPr/>
          <p:nvPr/>
        </p:nvSpPr>
        <p:spPr>
          <a:xfrm>
            <a:off x="217440" y="212760"/>
            <a:ext cx="9755280" cy="57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ts val="4499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Rates are useful for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ts val="4499"/>
              </a:lnSpc>
              <a:spcBef>
                <a:spcPts val="1400"/>
              </a:spcBef>
              <a:buClr>
                <a:srgbClr val="000000"/>
              </a:buClr>
              <a:buFont typeface="Arial Blac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omparing disease occurr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72880" algn="r">
              <a:lnSpc>
                <a:spcPts val="4499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n different locations whose populations differ in siz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72880" algn="r">
              <a:lnSpc>
                <a:spcPts val="4499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during different periods of ti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65320" indent="-343080" algn="r">
              <a:lnSpc>
                <a:spcPts val="4499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For examp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65320" indent="-343080" algn="r">
              <a:lnSpc>
                <a:spcPts val="4499"/>
              </a:lnSpc>
              <a:spcBef>
                <a:spcPts val="1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19.5 cases of chickenpox/ 100,000 in 200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65320" indent="-343080" algn="r">
              <a:lnSpc>
                <a:spcPts val="4499"/>
              </a:lnSpc>
              <a:spcBef>
                <a:spcPts val="1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135.8 cases per 100,000 in 199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2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02F5-9AA3-401B-8956-B556BB14BC2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3"/>
          <p:cNvSpPr/>
          <p:nvPr/>
        </p:nvSpPr>
        <p:spPr>
          <a:xfrm>
            <a:off x="254160" y="639720"/>
            <a:ext cx="9716760" cy="57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Exampl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uppose in a certain area, total number of population is 4,000,000. Suppose in a certain year 10,000 die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f we would like to compute death ra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2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005E-8182-4811-8487-77FF38C4E69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3"/>
          <p:cNvSpPr/>
          <p:nvPr/>
        </p:nvSpPr>
        <p:spPr>
          <a:xfrm>
            <a:off x="217440" y="324000"/>
            <a:ext cx="967752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Death rate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= (10,000) / (40,000) x k = 0.00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5199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We can select k to be 10,000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5199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We expect population to be reduced by 25 for every 10,000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2675160" y="1238400"/>
            <a:ext cx="430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(Deaths in a year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626920" y="2076480"/>
            <a:ext cx="427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(Total populat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5"/>
          <p:cNvSpPr/>
          <p:nvPr/>
        </p:nvSpPr>
        <p:spPr>
          <a:xfrm>
            <a:off x="2579760" y="2000160"/>
            <a:ext cx="42670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6944760" y="1467000"/>
            <a:ext cx="160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x 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1353-61CD-40B4-B7D8-79A459510FF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9760" y="288720"/>
            <a:ext cx="9170640" cy="94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- Demograp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217440" y="1157400"/>
            <a:ext cx="9972720" cy="53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lnSpc>
                <a:spcPts val="5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emography is usually defined as the study of human populations, their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199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199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ensity and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199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ge and sex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199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arriage and divor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199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vital events, fertility, mortality,   mi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Black"/>
              </a:rPr>
              <a:t>(Demos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= populat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EA8D-DBE4-416B-8829-E4AA01D3698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13C4-37B9-407C-82D4-7E43ADBB2EE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41120" y="552600"/>
            <a:ext cx="9829800" cy="34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Uses of census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. Planning for national development, i.e. educational, housing, manpower,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lanning, and e.t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. The allocation of resour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5"/>
          <p:cNvSpPr/>
          <p:nvPr/>
        </p:nvSpPr>
        <p:spPr>
          <a:xfrm>
            <a:off x="369720" y="171360"/>
            <a:ext cx="9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Level of health services for the population KSA (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208160" y="781200"/>
          <a:ext cx="7848360" cy="6327720"/>
        </p:xfrm>
        <a:graphic>
          <a:graphicData uri="http://schemas.openxmlformats.org/drawingml/2006/table">
            <a:tbl>
              <a:tblPr/>
              <a:tblGrid>
                <a:gridCol w="4225680"/>
                <a:gridCol w="3622680"/>
              </a:tblGrid>
              <a:tr h="841320">
                <a:tc>
                  <a:txBody>
                    <a:bodyPr lIns="68760" rIns="68760" tIns="0" bIns="0" anchor="ctr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Indica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Rate per 10,000 popu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68760" rIns="68760" tIns="0" bIns="0" anchor="ctr">
                      <a:noAutofit/>
                    </a:bodyPr>
                    <a:p>
                      <a:pPr rtl="1">
                        <a:lnSpc>
                          <a:spcPts val="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Physici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ts val="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15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68760" rIns="68760" tIns="0" bIns="0" anchor="ctr">
                      <a:noAutofit/>
                    </a:bodyPr>
                    <a:p>
                      <a:pPr rtl="1">
                        <a:lnSpc>
                          <a:spcPts val="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Dent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ts val="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1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68760" rIns="68760" tIns="0" bIns="0" anchor="ctr">
                      <a:noAutofit/>
                    </a:bodyPr>
                    <a:p>
                      <a:pPr rtl="1">
                        <a:lnSpc>
                          <a:spcPts val="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Pharmac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ts val="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2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68760" rIns="68760" tIns="0" bIns="0" anchor="ctr">
                      <a:noAutofit/>
                    </a:bodyPr>
                    <a:p>
                      <a:pPr rtl="1">
                        <a:lnSpc>
                          <a:spcPts val="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Nur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ts val="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32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68760" rIns="68760" tIns="0" bIns="0" anchor="ctr">
                      <a:noAutofit/>
                    </a:bodyPr>
                    <a:p>
                      <a:pPr rtl="1">
                        <a:lnSpc>
                          <a:spcPts val="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Health technici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ts val="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18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68760" rIns="68760" tIns="0" bIns="0" anchor="ctr">
                      <a:noAutofit/>
                    </a:bodyPr>
                    <a:p>
                      <a:pPr rtl="1">
                        <a:lnSpc>
                          <a:spcPts val="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Hospital be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ts val="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22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000">
                <a:tc>
                  <a:txBody>
                    <a:bodyPr lIns="68760" rIns="68760" tIns="0" bIns="0" anchor="ctr">
                      <a:noAutofit/>
                    </a:bodyPr>
                    <a:p>
                      <a:pPr rtl="1">
                        <a:lnSpc>
                          <a:spcPts val="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MOH hospital be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ts val="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13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68760" rIns="68760" tIns="0" bIns="0" anchor="ctr">
                      <a:noAutofit/>
                    </a:bodyPr>
                    <a:p>
                      <a:pPr rtl="1">
                        <a:lnSpc>
                          <a:spcPts val="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Private hospital be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ts val="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4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68760" rIns="68760" tIns="0" bIns="0" anchor="ctr">
                      <a:noAutofit/>
                    </a:bodyPr>
                    <a:p>
                      <a:pPr rtl="1">
                        <a:lnSpc>
                          <a:spcPts val="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Health cent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ts val="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1.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B020-A8C6-4B6C-9123-0A6980C1539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3200" y="2236320"/>
            <a:ext cx="9131400" cy="154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3- The basic demographic equ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97A3-0BF2-4E6A-AF03-2725C0FE790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217440" y="324000"/>
            <a:ext cx="9972720" cy="66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Proportion of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Black"/>
                <a:ea typeface="Times New Roman"/>
              </a:rPr>
              <a:t>students from Riyadh 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Note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All students in the class = 5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tudents from Riyadh  + students from out Riyad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30             +           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1354680" y="1390680"/>
            <a:ext cx="812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(Number of students from Riyadh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364400" y="23050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81000" indent="-981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(All students in the clas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5"/>
          <p:cNvSpPr/>
          <p:nvPr/>
        </p:nvSpPr>
        <p:spPr>
          <a:xfrm>
            <a:off x="1284120" y="2228760"/>
            <a:ext cx="80773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7ADC-2D46-43EF-8A73-F8859010586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"/>
          <p:cNvSpPr/>
          <p:nvPr/>
        </p:nvSpPr>
        <p:spPr>
          <a:xfrm>
            <a:off x="217440" y="262080"/>
            <a:ext cx="9753480" cy="60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uppose in a certain country at time t (1433) contains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 Black"/>
              </a:rPr>
              <a:t>t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persons, and 1 year later (1434) it contains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 Black"/>
              </a:rPr>
              <a:t>t+1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persons. Then we can write down the following equ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 Black"/>
              </a:rPr>
              <a:t>t+1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= 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 Black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+ B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 Black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- D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 Black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+ I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 Black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– E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 Black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2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0034-BA7C-49A3-8BAE-F397EB97B9A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"/>
          <p:cNvSpPr/>
          <p:nvPr/>
        </p:nvSpPr>
        <p:spPr>
          <a:xfrm>
            <a:off x="217440" y="399960"/>
            <a:ext cx="9753480" cy="63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Whe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 Black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: number of births occurring in the   population between times t and t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 Black"/>
              </a:rPr>
              <a:t>t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number of deaths occurring in the population between times t and t+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 Black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: number of immigrants between times t and t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2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70CE-B05F-4C92-A31F-E866048117D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"/>
          <p:cNvSpPr/>
          <p:nvPr/>
        </p:nvSpPr>
        <p:spPr>
          <a:xfrm>
            <a:off x="217440" y="247680"/>
            <a:ext cx="9753480" cy="59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2160" indent="-722160">
              <a:lnSpc>
                <a:spcPts val="51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Black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: number of emigrants between times t and t+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2160" indent="-722160">
              <a:lnSpc>
                <a:spcPts val="51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Black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–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Black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= natural incr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2160" indent="-722160">
              <a:lnSpc>
                <a:spcPts val="51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Black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–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Black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= net mi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2160" indent="-722160">
              <a:lnSpc>
                <a:spcPts val="51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 Country's population size can only change because of three types of ev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2160" indent="-722160">
              <a:lnSpc>
                <a:spcPts val="5199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irth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2160" indent="-722160">
              <a:lnSpc>
                <a:spcPts val="5199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eaths an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2160" indent="-722160">
              <a:lnSpc>
                <a:spcPts val="5199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igr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2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83C0-F2FF-42A4-81D1-AC398024B72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itle 1"/>
          <p:cNvSpPr/>
          <p:nvPr/>
        </p:nvSpPr>
        <p:spPr>
          <a:xfrm>
            <a:off x="369720" y="2305080"/>
            <a:ext cx="917100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4- Data 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2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5ABD-3ABC-45C2-92AB-61DCA99CF7A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512640" y="311040"/>
            <a:ext cx="9458280" cy="68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2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 order to calculate rate and ratios, data are required on bo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- The number of events occurring within the given time interval,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- The population exposed to the risk of experiencing those ev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re are three main sour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- Population cens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- vital reg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3- Surv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8466-9886-41FC-9A91-989DE6EF5D9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>
            <a:off x="217440" y="399960"/>
            <a:ext cx="9677520" cy="61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pulation Censu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2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st widely largest source of data carried in a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2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st countries have regular censuses usually taken every 10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bjectives of censu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- Obtain information at regular intervals to facilitate comparisons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- To improve comparability between count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823E-594C-401D-8D89-20A85C7CB9D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"/>
          <p:cNvSpPr/>
          <p:nvPr/>
        </p:nvSpPr>
        <p:spPr>
          <a:xfrm>
            <a:off x="293760" y="399960"/>
            <a:ext cx="9753480" cy="54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ts val="47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 these censuses everyone resident in the country  on a particular day is counted and asked to reply to various questions abou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47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47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47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ccup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47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arital stat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47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du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47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amily size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7C46-B989-4665-8BDC-BADF3C9B84A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77C5-740F-4FB7-9830-E0C43650F44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217440" y="476280"/>
            <a:ext cx="997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4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hief Characteristics of censu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4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- Univers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4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mplete recording of the entire population within a geographically well-defined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293760" y="3524400"/>
            <a:ext cx="96012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4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- Individual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4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ach person must be recorded separately along with his or her tra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"/>
          <p:cNvSpPr/>
          <p:nvPr/>
        </p:nvSpPr>
        <p:spPr>
          <a:xfrm>
            <a:off x="217440" y="476280"/>
            <a:ext cx="9829800" cy="47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4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3- Government supervis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4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t must a legal basis make it to be compulsory included and to provide the information reques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4- Period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hould be carried out at regular interval. Make it easier to check tr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A768-0AF5-4C31-9DC8-968A1AB2A9F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446040" y="704880"/>
            <a:ext cx="9372600" cy="24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5- Simultaneou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t must be related to a single point in time, not a period, even though the enumeration itself may be spread over days or even wee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527F8-2F8E-42E5-B8FA-5FBC8257051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598680" y="628560"/>
            <a:ext cx="772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Proportion of student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Black"/>
                <a:ea typeface="Times New Roman"/>
              </a:rPr>
              <a:t>from Riyadh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"/>
          <p:cNvSpPr/>
          <p:nvPr/>
        </p:nvSpPr>
        <p:spPr>
          <a:xfrm>
            <a:off x="0" y="3219480"/>
            <a:ext cx="101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Proportion of students from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Black"/>
                <a:ea typeface="Times New Roman"/>
              </a:rPr>
              <a:t>out Riyadh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934560" y="4057560"/>
            <a:ext cx="903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(Number of students from out Riyadh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5"/>
          <p:cNvSpPr/>
          <p:nvPr/>
        </p:nvSpPr>
        <p:spPr>
          <a:xfrm>
            <a:off x="1284120" y="4819680"/>
            <a:ext cx="8077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1212120" y="5048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81000" indent="-981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(All students in the clas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983880" y="57340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983880" y="626760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1976760" y="5886360"/>
            <a:ext cx="123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.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755280" y="146700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755280" y="200016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1672200" y="1771560"/>
            <a:ext cx="123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.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F3A4-28B4-44F7-A06D-74A2C07B73E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22000" y="171000"/>
            <a:ext cx="9171000" cy="94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ata Collected in Censu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22000" y="1085400"/>
            <a:ext cx="9171000" cy="611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lnSpc>
                <a:spcPts val="47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ts val="47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ts val="47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lationship to head of house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ts val="47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use hold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ts val="47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Fer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ts val="47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rt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ts val="47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ocial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ts val="47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conomic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ts val="47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lace of res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ts val="47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B4EA-CA26-4C83-8E28-3D9D629D15E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"/>
          <p:cNvSpPr/>
          <p:nvPr/>
        </p:nvSpPr>
        <p:spPr>
          <a:xfrm>
            <a:off x="203040" y="247680"/>
            <a:ext cx="982980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of census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y respondents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1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spondents complete the questionnaire themselves and they mail it back, USA,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1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responsibility is shared, with the householders filling the questionnaire, and checked  by the enumerator when it is coll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D71F8-FC14-432F-B72E-66CBB997BAC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"/>
          <p:cNvSpPr/>
          <p:nvPr/>
        </p:nvSpPr>
        <p:spPr>
          <a:xfrm>
            <a:off x="141120" y="399960"/>
            <a:ext cx="9753840" cy="20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- By enumerator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questionnaire is filled by enumerators with the help of the household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9473-CBF8-4B9E-98D0-595E08EE02D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674640" y="247680"/>
          <a:ext cx="7391520" cy="5962680"/>
        </p:xfrm>
        <a:graphic>
          <a:graphicData uri="http://schemas.openxmlformats.org/drawingml/2006/table">
            <a:tbl>
              <a:tblPr/>
              <a:tblGrid>
                <a:gridCol w="3090960"/>
                <a:gridCol w="4300560"/>
              </a:tblGrid>
              <a:tr h="1209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9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ount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ts val="29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opulation (2010)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29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audi Arab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ts val="29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7,448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0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29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Ye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ts val="29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4,053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0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29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alest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ts val="29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,12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0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29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ra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ts val="29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2,961,9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0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29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Bahr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ts val="29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,262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0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29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mira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ts val="29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,512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0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29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O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ts val="29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,773,4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0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29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Jord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ts val="29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,187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2" name="Slide Number Placeholder 2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ECA0-A8C9-45F7-A98A-B4CDA4BF5EB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5680" y="1162080"/>
            <a:ext cx="917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- De Facto Cen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1999800"/>
            <a:ext cx="10190160" cy="52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51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unting people where they found, irrespective of  their permanent res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51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r example, People attending hotels in Riyadh in the night of census are considered as Riyadh citizens, irrespective of whether they are living in Riyadh or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"/>
          <p:cNvSpPr/>
          <p:nvPr/>
        </p:nvSpPr>
        <p:spPr>
          <a:xfrm>
            <a:off x="1077480" y="476280"/>
            <a:ext cx="713160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thods of conducting a cen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0DD5-06A7-4728-91E6-FF8535C9F97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مستطيل 2"/>
          <p:cNvSpPr/>
          <p:nvPr/>
        </p:nvSpPr>
        <p:spPr>
          <a:xfrm>
            <a:off x="293760" y="171360"/>
            <a:ext cx="9677160" cy="50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ts val="4399"/>
              </a:lnSpc>
              <a:buClr>
                <a:srgbClr val="000000"/>
              </a:buClr>
              <a:buFont typeface="Arial Blac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ts val="4399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mple and easy to apply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ts val="4399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less 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ts val="5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) Disadvant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ts val="51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Persons in transit may not be inclu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ts val="51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Provision of incorrect picture of the population distrib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ts val="51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Vital rates may be distor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"/>
          <p:cNvSpPr/>
          <p:nvPr/>
        </p:nvSpPr>
        <p:spPr>
          <a:xfrm>
            <a:off x="217440" y="5200560"/>
            <a:ext cx="975348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7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s method is used in countries as: Saudi Arabia, England, Egypt, Iraq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181C-B3B4-448A-8813-F167595C1CB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9760" y="288720"/>
            <a:ext cx="917064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- De Jure Cen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1120" y="1161720"/>
            <a:ext cx="100490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ts val="4499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counting individuals at their legal permanent residence regardless to whether or not they are physically present at the time of the censu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ts val="4499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It gives a true fig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مستطيل 3"/>
          <p:cNvSpPr/>
          <p:nvPr/>
        </p:nvSpPr>
        <p:spPr>
          <a:xfrm>
            <a:off x="293760" y="4438800"/>
            <a:ext cx="98964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The disadvantages incl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-  Expensive in time and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2- Some individuals may be counted tw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3- Information may be incompl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A3DE-0796-419F-B0A8-EA17D17FAE5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"/>
          <p:cNvSpPr/>
          <p:nvPr/>
        </p:nvSpPr>
        <p:spPr>
          <a:xfrm>
            <a:off x="217440" y="291960"/>
            <a:ext cx="9972720" cy="62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erro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- Incomplete coverage: An undercount may arise because whole areas are simply missed or because certain subgroups are hard to cover. Such groups include the homeless, nomads, infants, students, vagrants, sea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- Response error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- accidental: enumerator recording the answer given to him wrongl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2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56D1-EFAD-4302-AE6A-EE3B8A340E7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"/>
          <p:cNvSpPr/>
          <p:nvPr/>
        </p:nvSpPr>
        <p:spPr>
          <a:xfrm>
            <a:off x="0" y="476280"/>
            <a:ext cx="10190160" cy="63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ts val="44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spondent misunderstanding the question, not knowing the answ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ts val="44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rrors of data ente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-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berate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spondent give wrong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ts val="44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omeone may lie about his ag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ts val="44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ivorce people may declare themselves to be singl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ts val="44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use proud may overstate the size of  their house and the amenities they h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2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46CE-ABD2-4F4D-AB6C-C920BA33706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"/>
          <p:cNvSpPr/>
          <p:nvPr/>
        </p:nvSpPr>
        <p:spPr>
          <a:xfrm>
            <a:off x="1012680" y="552600"/>
            <a:ext cx="620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opulation censuses in Saudi Ara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ctl00_ContentPlaceHolder1_ctl00_ChartUC1_ImageChart" descr="Saudi Arabia Population"/>
          <p:cNvPicPr/>
          <p:nvPr/>
        </p:nvPicPr>
        <p:blipFill>
          <a:blip r:embed="rId1"/>
          <a:stretch/>
        </p:blipFill>
        <p:spPr>
          <a:xfrm>
            <a:off x="446040" y="1076400"/>
            <a:ext cx="8991720" cy="5952960"/>
          </a:xfrm>
          <a:prstGeom prst="rect">
            <a:avLst/>
          </a:prstGeom>
          <a:ln w="0">
            <a:noFill/>
          </a:ln>
        </p:spPr>
      </p:pic>
      <p:sp>
        <p:nvSpPr>
          <p:cNvPr id="220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2925-F28E-4946-A132-099DEFF7B51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10920" y="2831760"/>
            <a:ext cx="934092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Example 2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n a Medical Center we have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1- 50 physicians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2- 150 nurses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3- 100 technicia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9600" y="171360"/>
            <a:ext cx="967752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Note tha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um of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Black"/>
                <a:ea typeface="Times New Roman"/>
              </a:rPr>
              <a:t>all proportions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hould equa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(0.6 + 0.4) =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1AE1-6AB9-45C0-B9A6-F03AB72B6DA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"/>
          <p:cNvSpPr/>
          <p:nvPr/>
        </p:nvSpPr>
        <p:spPr>
          <a:xfrm>
            <a:off x="141120" y="552600"/>
            <a:ext cx="9906120" cy="54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- Vital reg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72880" indent="-272880">
              <a:lnSpc>
                <a:spcPts val="4997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"/>
              </a:rPr>
              <a:t>Usually there are specialized departments, collecting such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72880" indent="-272880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"/>
              </a:rPr>
              <a:t>( Ministry of Health,  etc.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 many countries, it is usually a legal requirement to register the birth, of every child, marriage, divorce, and each de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2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91A8-0817-4C3C-8B60-BAC5FBEA8ED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"/>
          <p:cNvSpPr/>
          <p:nvPr/>
        </p:nvSpPr>
        <p:spPr>
          <a:xfrm>
            <a:off x="293760" y="1771560"/>
            <a:ext cx="9372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ts val="47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irth: date of birth, place of birth, sex of child, name of child’s parents, occupation of child par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217440" y="3753000"/>
            <a:ext cx="997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ts val="47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arriage: Date of marriage, place of marriage, names of bride and groom, ages of bride and groom, previous marital status of bride and groom, occupation of bride and g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مستطيل 3"/>
          <p:cNvSpPr/>
          <p:nvPr/>
        </p:nvSpPr>
        <p:spPr>
          <a:xfrm>
            <a:off x="293760" y="324000"/>
            <a:ext cx="9677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ts val="4997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ome details may be collected, 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7847-CB6E-4EF9-B1CC-228F95BC6DD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"/>
          <p:cNvSpPr/>
          <p:nvPr/>
        </p:nvSpPr>
        <p:spPr>
          <a:xfrm>
            <a:off x="293760" y="552600"/>
            <a:ext cx="9677160" cy="39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ts val="51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eaths: Date of death, place of death, sex of deceased, age of deceased at death, cause of de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ts val="51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registration of migration is less wide spread. Some countries have systems of continuous regist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EDD2-B36D-43AF-9602-A28C342D603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"/>
          <p:cNvSpPr/>
          <p:nvPr/>
        </p:nvSpPr>
        <p:spPr>
          <a:xfrm>
            <a:off x="293760" y="399960"/>
            <a:ext cx="9372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ts val="47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et migration in these countries may be estimat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ts val="47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1182960" y="2152800"/>
            <a:ext cx="1868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 Black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– 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 Black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3479040" y="2076480"/>
            <a:ext cx="3326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 Black"/>
              </a:rPr>
              <a:t>t+1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- 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 Black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- B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 Black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+ D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 Black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46040" y="3295800"/>
            <a:ext cx="9448920" cy="33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- Surve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1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aps in the data provided by censuses and vital registration can be filled by carrying out special surveys to elicit out the particular information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75AE-B4E6-46FB-96B6-ACF34E97AE2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"/>
          <p:cNvSpPr/>
          <p:nvPr/>
        </p:nvSpPr>
        <p:spPr>
          <a:xfrm>
            <a:off x="293760" y="399960"/>
            <a:ext cx="9677160" cy="65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 of sample survey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- It reduces cost compared to complete enum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- can be organized and executed relatively quick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3- can gather more information compared to cen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advantag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- sampling err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1B33-27D0-4946-AAC7-26B26A36D91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"/>
          <p:cNvSpPr/>
          <p:nvPr/>
        </p:nvSpPr>
        <p:spPr>
          <a:xfrm>
            <a:off x="293760" y="476280"/>
            <a:ext cx="9677160" cy="58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rveys provided data of interest may be divided into two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spective studies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volves first carrying out a normal census-type survey, which acts as a baseline, followed by repeated visits to check for and record subsequent ev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length of visits between intervals va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2221-2E6B-4CBA-8E6E-FE9D6B916E7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293760" y="399960"/>
            <a:ext cx="9677160" cy="58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interval will be three to four months, maintained for two or three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ain probl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- Difficulties to reconta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- Large population which has to be covered if sufficient events which has to be recor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3- The high c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4- Difficulty of maintaining such a system for so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745C-AC9B-4432-A640-2D0E7677457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369720" y="3448080"/>
            <a:ext cx="9601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7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otal children born a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umbers living at home, away and d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ime since last bi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ntraceptive u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293760" y="704880"/>
            <a:ext cx="960120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ospective survey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 sample of people is interviewed at a single point in time, and asked questions about events which happened in the pa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7F42-5382-45A2-9CEF-EBC1220B097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17080" y="324000"/>
            <a:ext cx="9753480" cy="67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a- Find proportion of nurses in the medical cen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Number of  Nurses  = 150;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otal of Medical staff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(nurses (150) + physicians  (50) + technicians (100)) = 300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9224-69B5-4C34-BB74-2729BFC7EAC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"/>
          <p:cNvSpPr/>
          <p:nvPr/>
        </p:nvSpPr>
        <p:spPr>
          <a:xfrm>
            <a:off x="369720" y="2152800"/>
            <a:ext cx="9525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1000" indent="-981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81000" indent="-981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81000" indent="-981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81000" indent="-981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50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= 0.5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81000" indent="-981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776520" y="704880"/>
            <a:ext cx="640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proportion of nurses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1773000" y="2076480"/>
            <a:ext cx="523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(Number of nurses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1678680" y="3067200"/>
            <a:ext cx="532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(Total of medical staff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6"/>
          <p:cNvSpPr/>
          <p:nvPr/>
        </p:nvSpPr>
        <p:spPr>
          <a:xfrm>
            <a:off x="1893960" y="291456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FBDF-4E5C-4B6D-A792-0013A7EFA3A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17080" y="247680"/>
            <a:ext cx="9753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5320" indent="0">
              <a:lnSpc>
                <a:spcPts val="5499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2-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Find proportion of physicia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2532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25320" indent="0">
              <a:lnSpc>
                <a:spcPts val="5698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number of physicians = 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25320" indent="0">
              <a:lnSpc>
                <a:spcPts val="5698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otal of Medical staff  = 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253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1539000" y="3371760"/>
            <a:ext cx="61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(Number of physicians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830960" y="4362480"/>
            <a:ext cx="532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(Total of medical staff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5"/>
          <p:cNvSpPr/>
          <p:nvPr/>
        </p:nvSpPr>
        <p:spPr>
          <a:xfrm>
            <a:off x="1436760" y="4286160"/>
            <a:ext cx="6248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1408680" y="54291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9"/>
          <p:cNvSpPr/>
          <p:nvPr/>
        </p:nvSpPr>
        <p:spPr>
          <a:xfrm>
            <a:off x="1284120" y="6039000"/>
            <a:ext cx="838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1278720" y="596268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952000" y="5657760"/>
            <a:ext cx="174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= 0.16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5882-5EAB-444E-831A-0DC2A0CC5A1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08:00:24Z</dcterms:created>
  <dc:creator>Jaco</dc:creator>
  <dc:description/>
  <dc:language>en-US</dc:language>
  <cp:lastModifiedBy>Basma</cp:lastModifiedBy>
  <cp:lastPrinted>2014-09-07T09:16:02Z</cp:lastPrinted>
  <dcterms:modified xsi:type="dcterms:W3CDTF">2017-02-05T09:23:54Z</dcterms:modified>
  <cp:revision>125</cp:revision>
  <dc:subject/>
  <dc:title>Ratios and Rates</dc:title>
</cp:coreProperties>
</file>