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10191750" cy="71993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696960"/>
            <a:ext cx="49309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DA1-5B50-4961-AB9C-EAF70632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39680" y="696960"/>
            <a:ext cx="49309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7FC-F35C-4123-BA55-12BAB04B6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5E6-B9CE-498A-B99A-74CCD87D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9170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760" y="4161600"/>
            <a:ext cx="9170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60F-B8D7-4FCD-9FFF-1C19B7E5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976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920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1B0-FCFE-4E54-B819-B3476625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440" y="167904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1120" y="167904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9760" y="416160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440" y="416160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1120" y="4161600"/>
            <a:ext cx="2952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050-796E-4B08-B0DF-289D473B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9760" y="1679040"/>
            <a:ext cx="91706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EC0-788D-477B-A7A9-FD18251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917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070-4A5A-41D0-B412-C58244BA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30B-7835-4EBD-BECE-E4EE9A75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956-7A38-45D1-9E49-8F1549E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9760" y="288720"/>
            <a:ext cx="91706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375-7D06-4934-A3AB-5E4E04B8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976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0E1-59EA-4979-A90B-7B34964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9200" y="416160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28C-91DD-42ED-B007-30CC9E7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976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9200" y="1679040"/>
            <a:ext cx="4475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9760" y="4161600"/>
            <a:ext cx="91706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8D5-C668-4E18-964F-A24173DA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9760" y="1679040"/>
            <a:ext cx="9170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9400" y="6557760"/>
            <a:ext cx="2377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81560" y="6557760"/>
            <a:ext cx="3227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2240" y="6557760"/>
            <a:ext cx="2377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1428-F521-4944-A5D1-7CB0FE972E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63560" y="2236680"/>
            <a:ext cx="866304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Ratios and Rat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4D2-0360-4928-BA0B-D5157E9210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50960" y="781200"/>
            <a:ext cx="70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technicians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80160" y="200016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technicians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5"/>
          <p:cNvSpPr/>
          <p:nvPr/>
        </p:nvSpPr>
        <p:spPr>
          <a:xfrm>
            <a:off x="1131840" y="2914560"/>
            <a:ext cx="704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867680" y="3067200"/>
            <a:ext cx="58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of medical staf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54680" y="43624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431000" y="50482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0"/>
          <p:cNvSpPr/>
          <p:nvPr/>
        </p:nvSpPr>
        <p:spPr>
          <a:xfrm>
            <a:off x="1360440" y="4971960"/>
            <a:ext cx="1066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723400" y="46674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0.3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EEF3-3FEC-4EFB-A780-AEF7EDA819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46040" y="781200"/>
            <a:ext cx="974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te that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m of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all proportions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hould equal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0.5 + 0.167 + 0.333)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A3E3-A82B-4A14-A575-06849ACEE2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9920" y="560520"/>
            <a:ext cx="9725040" cy="62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Characteristics of propor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erator is part of denomina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The value of the proportion will always be some decimal number between 0 and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- Difficult to interp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11C0-A8B2-440D-8F6D-C046440353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0760" y="247680"/>
            <a:ext cx="98298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61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 make the proportion easy to interpret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1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e change it t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percentage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by multiplying by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61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ercentage = proportion x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61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Range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of values for percentage is from 0 to 1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61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0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ercentage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≤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6EB0-40C2-494C-A9D9-70FA9202D0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9760" y="171000"/>
            <a:ext cx="93852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997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Percentage of nurses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150/300) x 100 = 5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percentage of physici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50 / 300 ) x 100 = 16.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- percentage of technicia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4997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100 / 300 ) x 100 = 33.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8FA2-6A76-479D-A212-0D7CCEB5A9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7080" y="247320"/>
            <a:ext cx="9753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59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f "a" is one number and "b" is another; a ratio between the two i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59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/b or a: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eans "so many "a" per unit of b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6BE-E5E0-4D17-97FB-311923CFAE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8880" y="479520"/>
            <a:ext cx="9716760" cy="29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class of 50 students, 30 students were from Riyadh and 20 students were from out Riyad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82520" y="3676680"/>
            <a:ext cx="99727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598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d ratio of students from Riyadh to students from out Riyad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846080" y="5276880"/>
            <a:ext cx="6836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54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30 : 20 or 30/20 = 1.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A344-E9A3-479D-855B-663A4F729A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552600"/>
            <a:ext cx="10190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spcBef>
                <a:spcPts val="24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terpretation: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24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or every 150 students from Riyadh there are 100 students from outside Riyadh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63B-AE22-4F1B-8E0E-506FCB487C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17080" y="0"/>
            <a:ext cx="9753480" cy="66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5499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98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ex ratio: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is simply the ratio of males to fema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998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is ratio is usually expressed as the number of males per 100 femal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ritten as: males : fem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3AEA-A205-4745-A12B-6FFF99B61F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17080" y="399960"/>
            <a:ext cx="9753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52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ppose we ha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ales = 1000;    females = 900;  t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2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ex ratio = 1000 : 9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 can also be written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10/9) = 1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 can be written 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11 :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7C2E-353F-4FE9-B05A-14DC2B08CD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3760" y="399600"/>
            <a:ext cx="9601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0">
              <a:lnSpc>
                <a:spcPct val="13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5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class of 50 students, 30 students were from Riyadh and 20 students were from outside Riyad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36BD-0EB3-4578-8731-B4A33B2B01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A38-FF0C-4721-B283-ABBE5A6D34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46040" y="324000"/>
            <a:ext cx="929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ts val="5998"/>
              </a:lnSpc>
              <a:spcBef>
                <a:spcPts val="28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re are 111 males for every 100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50960" y="781200"/>
          <a:ext cx="5943600" cy="5911560"/>
        </p:xfrm>
        <a:graphic>
          <a:graphicData uri="http://schemas.openxmlformats.org/drawingml/2006/table">
            <a:tbl>
              <a:tblPr/>
              <a:tblGrid>
                <a:gridCol w="1544400"/>
                <a:gridCol w="1231920"/>
                <a:gridCol w="1490760"/>
                <a:gridCol w="1676520"/>
              </a:tblGrid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x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45C9-A46E-41E9-8479-A1853802CD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3480" y="-360"/>
            <a:ext cx="99061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Characteristics of a Ratio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erator is not part of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Data should be collected over the same ti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17440" y="3539160"/>
            <a:ext cx="97185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f the percentage of smokers among university students is 20%, then the proportion of smokers is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C678-72CB-4000-80F4-B9A90AD0D8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17440" y="247680"/>
          <a:ext cx="9753480" cy="6103800"/>
        </p:xfrm>
        <a:graphic>
          <a:graphicData uri="http://schemas.openxmlformats.org/drawingml/2006/table">
            <a:tbl>
              <a:tblPr/>
              <a:tblGrid>
                <a:gridCol w="1866960"/>
                <a:gridCol w="2324160"/>
                <a:gridCol w="2666880"/>
                <a:gridCol w="2895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 typ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r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nt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/ 25) = 0.5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 x 100 = 5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3642-0383-4AB7-BC9C-92D918B52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324000"/>
            <a:ext cx="10190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Gestational diabetes is a form of diabetes that occurs in some pregnant women during pregna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sample of 500 pregnant women in Riyadh selected from primary health care centers with no previous history of diabetes, 100 were found to have a gestational diab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646-6CE8-47D1-B7FB-DB7235D798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17440" y="1336680"/>
          <a:ext cx="9753480" cy="2193840"/>
        </p:xfrm>
        <a:graphic>
          <a:graphicData uri="http://schemas.openxmlformats.org/drawingml/2006/table">
            <a:tbl>
              <a:tblPr/>
              <a:tblGrid>
                <a:gridCol w="2149560"/>
                <a:gridCol w="4089240"/>
                <a:gridCol w="3514680"/>
              </a:tblGrid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Women 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with gestational diab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gestational diab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8D62-7FC6-4635-A797-94D5205829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41120" y="247680"/>
            <a:ext cx="97538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56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- Proportion of  women who were found to have gestational diabetes is: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CD7A-F795-4EFB-B1BB-FE3AC4C50C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93760" y="2533680"/>
            <a:ext cx="967716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4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b- Percentage of  women who were found to have gestational diabetes is: 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- Ratio of women with gestational diabetes to women with no gestational diabetes is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293760" y="1104840"/>
            <a:ext cx="95248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study on smoking status at King Saud University (KSU), a sample of 1000 students were selec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ach student was asked whether he smokes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t was found that among the students who were selected, 100 students smoke, based on this information we can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3F42-0C8A-4644-AAA6-0CF6382A74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مستطيل 1"/>
          <p:cNvSpPr/>
          <p:nvPr/>
        </p:nvSpPr>
        <p:spPr>
          <a:xfrm>
            <a:off x="217440" y="247680"/>
            <a:ext cx="97534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opulation in this study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moking statu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ing Saud University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) Student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) Students at KSU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7C7-CB74-40F6-8793-D7C6A7E508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ستطيل 1"/>
          <p:cNvSpPr/>
          <p:nvPr/>
        </p:nvSpPr>
        <p:spPr>
          <a:xfrm>
            <a:off x="217440" y="3676680"/>
            <a:ext cx="94489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5598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roportion of smoker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598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ercentage of smoker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1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ratio of smokers to non-smoker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17440" y="560520"/>
            <a:ext cx="9972720" cy="58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events, deaths or cases of disease per unit of population, in a particular time spa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0F35-4FEE-4570-8108-042ED5E3A5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46040" y="247680"/>
            <a:ext cx="94489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proportion of students from Riyad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93760" y="2762280"/>
          <a:ext cx="9677160" cy="2468520"/>
        </p:xfrm>
        <a:graphic>
          <a:graphicData uri="http://schemas.openxmlformats.org/drawingml/2006/table">
            <a:tbl>
              <a:tblPr/>
              <a:tblGrid>
                <a:gridCol w="2419200"/>
                <a:gridCol w="2419560"/>
                <a:gridCol w="2419200"/>
                <a:gridCol w="241920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yad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side Riyad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5810400"/>
            <a:ext cx="101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proportion of students from out Riy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F0D5-4775-4CBA-A056-6A9541B245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219240" y="324000"/>
            <a:ext cx="99709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7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 calculate a rate the following are need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fined period of time (ye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fined population (country, c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5998"/>
              </a:lnSpc>
              <a:spcBef>
                <a:spcPts val="24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events occurring during a period (number of deaths in a country during a yea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EF6B-4FAC-410A-BD29-3F09C48A9B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293760" y="247680"/>
            <a:ext cx="9677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0560" indent="-406080">
              <a:lnSpc>
                <a:spcPct val="100000"/>
              </a:lnSpc>
              <a:spcBef>
                <a:spcPts val="27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formula for calculating a rate is given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e = (a/ (a + b)) x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= frequency with which an event has occurred during some specified period of time, usually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2D1C-9CB7-414A-8552-E7051A33D0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65160" y="171360"/>
            <a:ext cx="10125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 + b = number of persons exposed to the risk of event during the same period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k = some number such as 10, 1000, 10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3448080"/>
            <a:ext cx="998208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minator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is a component part of a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nominator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6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urpose of multiplying by k is to avoid results involving very smal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0198-0CBB-4FE9-8CF9-733A22816F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217440" y="212760"/>
            <a:ext cx="97552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ts val="4499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Rates are useful for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mparing disease occur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different locations whose populations differ 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uring different periods of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9.5 cases of chickenpox/ 100,000 in 20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320" indent="-343080" algn="r">
              <a:lnSpc>
                <a:spcPts val="4499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35.8 cases per 100,000 in 199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A4F2-1DAB-4FE7-A5BB-01A81D0073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54160" y="639720"/>
            <a:ext cx="971676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ppose in a certain area, total number of population is 4,000,000. Suppose in a certain year 10,000 di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f we would like to compute death r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9739-F191-42D5-9BA2-72319E5FF3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217440" y="324000"/>
            <a:ext cx="9677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Death rate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(10,000) / (40,000) x k = 0.0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199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e can select k to be 10,00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199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e expect population to be reduced by 25 for every 10,00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2675160" y="123840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Deaths in a yea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626920" y="2076480"/>
            <a:ext cx="42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popul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5"/>
          <p:cNvSpPr/>
          <p:nvPr/>
        </p:nvSpPr>
        <p:spPr>
          <a:xfrm>
            <a:off x="2579760" y="2000160"/>
            <a:ext cx="426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944760" y="1467000"/>
            <a:ext cx="160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x 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E61-E499-474A-984C-9C29342F4C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 De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17440" y="1157400"/>
            <a:ext cx="997272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mography is usually defined as the study of human populations, thei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nsity an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 and sex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riage and div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vital events, fertility, mortality,  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(Demos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= popula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8DEC-18A4-4B67-B68C-4860770B92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A52-A3AA-4960-BEB1-EB7EEB4784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41120" y="552600"/>
            <a:ext cx="98298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Black"/>
              </a:rPr>
              <a:t>Uses of census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Planning for national development, i.e. educational, housing, manpower,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nning, and e.t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The allocation of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369720" y="171360"/>
            <a:ext cx="9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evel of health services for the population KSA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08160" y="781200"/>
          <a:ext cx="7848360" cy="6327720"/>
        </p:xfrm>
        <a:graphic>
          <a:graphicData uri="http://schemas.openxmlformats.org/drawingml/2006/table">
            <a:tbl>
              <a:tblPr/>
              <a:tblGrid>
                <a:gridCol w="4225680"/>
                <a:gridCol w="362268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Rate per 10,000 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hysic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Dent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harmac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N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ealth technic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8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ospital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MOH hospital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rivate hospital b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ctr">
                      <a:noAutofit/>
                    </a:bodyPr>
                    <a:p>
                      <a:pPr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Health cen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B77-3A1F-4C4E-AA10-61365CA4D5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0" y="2236320"/>
            <a:ext cx="9131400" cy="15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- The basic demographic eq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211-4465-488B-A786-033C595193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7440" y="324000"/>
            <a:ext cx="997272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students from Riyadh 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t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ll students in the class = 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tudents from Riyadh  + students from out Riy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0             +           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354680" y="1390680"/>
            <a:ext cx="81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students from Riyadh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64400" y="2305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All students in the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5"/>
          <p:cNvSpPr/>
          <p:nvPr/>
        </p:nvSpPr>
        <p:spPr>
          <a:xfrm>
            <a:off x="1284120" y="2228760"/>
            <a:ext cx="8077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D6F7-F7B3-40DE-AFEE-7F30E125DC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7440" y="262080"/>
            <a:ext cx="975348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ppose in a certain country at time t (1433) contain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persons, and 1 year later (1434) it contain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+1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ersons. Then we can write down the following equ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+1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+ B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- D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+ I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– 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2577-613D-4D94-83E7-139794B66B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17440" y="399960"/>
            <a:ext cx="975348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: number of births occurring in the   population between times t and 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number of deaths occurring in the population between times t and t+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: number of immigrants between times t and 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4F42-B13E-42B2-8634-2C05429002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17440" y="247680"/>
            <a:ext cx="975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 number of emigrants between times t and t+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= natural incr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= net 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Country's population size can only change because of three types of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irt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aths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ts val="5199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ig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4AC1-E542-4F25-93D8-48190D55E2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tle 1"/>
          <p:cNvSpPr/>
          <p:nvPr/>
        </p:nvSpPr>
        <p:spPr>
          <a:xfrm>
            <a:off x="369720" y="2305080"/>
            <a:ext cx="9171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- Data 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F74-48CC-45D6-B3B0-1686C9FB1A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12640" y="311040"/>
            <a:ext cx="9458280" cy="68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order to calculate rate and ratios, data are required on bo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The number of events occurring within the given time interval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The population exposed to the risk of experiencing thos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re are three main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Population cens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vital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7B80-4F0A-4161-BFB6-9F4EE7C6DD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217440" y="399960"/>
            <a:ext cx="967752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pulation Cens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st widely largest source of data carried in a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st countries have regular censuses usually taken every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bjectives of cens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Obtain information at regular intervals to facilitate comparis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To improve comparability betwee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E27-6FC2-4BDF-85E3-35ADBD2E9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293760" y="399960"/>
            <a:ext cx="97534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these censuses everyone resident in the country  on a particular day is counted and asked to reply to various questions abou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ccup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it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amily siz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1D4C-3B48-4EE8-B31F-E5B475351C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BD5-2A8A-484C-8473-18546E92FE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17440" y="476280"/>
            <a:ext cx="997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ief Characteristics of cens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Univers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ete recording of the entire population within a geographically well-defined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93760" y="3524400"/>
            <a:ext cx="9601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Individu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ach person must be recorded separately along with his or her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217440" y="476280"/>
            <a:ext cx="982980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Government supervis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must a legal basis make it to be compulsory included and to provide the information reque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- Period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ould be carried out at regular interval. Make it easier to check tr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64D3-CC19-4DC5-B4B3-841A49CB9A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46040" y="704880"/>
            <a:ext cx="937260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5- Simultaneo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must be related to a single point in time, not a period, even though the enumeration itself may be spread over days or even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A721-1DB0-473A-B04E-1C9ECBA7C5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598680" y="62856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student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from Riyadh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0" y="3219480"/>
            <a:ext cx="101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students fro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out Riyadh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934560" y="4057560"/>
            <a:ext cx="90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students from out Riyadh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5"/>
          <p:cNvSpPr/>
          <p:nvPr/>
        </p:nvSpPr>
        <p:spPr>
          <a:xfrm>
            <a:off x="1284120" y="4819680"/>
            <a:ext cx="8077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2120" y="504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All students in the cl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83880" y="5734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983880" y="62676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976760" y="588636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755280" y="1467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755280" y="2000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672200" y="177156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EF1-9740-4D2B-9498-9A3A46C734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22000" y="171000"/>
            <a:ext cx="9171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 Collected in Cens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22000" y="1085400"/>
            <a:ext cx="9171000" cy="61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lationship to head of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use hol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r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cia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conomic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ts val="47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lace of res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47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2BB-19CF-4FCD-9D82-CF5EC99632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203040" y="247680"/>
            <a:ext cx="9829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of censu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 respondents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ondents complete the questionnaire themselves and they mail it back, USA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sponsibility is shared, with the householders filling the questionnaire, and checked  by the enumerator when it is col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28A-BBCC-496B-918B-9F5C7C2862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41120" y="399960"/>
            <a:ext cx="975384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By enumerat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questionnaire is filled by enumerators with the help of the househol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059-CC35-45A1-9E8E-F08475AF74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74640" y="247680"/>
          <a:ext cx="7391520" cy="5962680"/>
        </p:xfrm>
        <a:graphic>
          <a:graphicData uri="http://schemas.openxmlformats.org/drawingml/2006/table">
            <a:tbl>
              <a:tblPr/>
              <a:tblGrid>
                <a:gridCol w="3090960"/>
                <a:gridCol w="4300560"/>
              </a:tblGrid>
              <a:tr h="120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pulation (2010)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,448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4,05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l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,12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2,961,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ah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,26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mir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,51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,773,4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Jor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ts val="29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,187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601F-37FD-47BF-9A60-0C4EBD307B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5680" y="1162080"/>
            <a:ext cx="917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- De Facto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99800"/>
            <a:ext cx="1019016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51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unting people where they found, irrespective of  their permanent res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1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r example, People attending hotels in Riyadh in the night of census are considered as Riyadh citizens, irrespective of whether they are living in Riyadh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1077480" y="476280"/>
            <a:ext cx="7131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thods of conducting a cen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4EAB-3CD6-4915-901E-0C7014D75B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مستطيل 2"/>
          <p:cNvSpPr/>
          <p:nvPr/>
        </p:nvSpPr>
        <p:spPr>
          <a:xfrm>
            <a:off x="293760" y="171360"/>
            <a:ext cx="9677160" cy="50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ts val="4399"/>
              </a:lnSpc>
              <a:buClr>
                <a:srgbClr val="000000"/>
              </a:buClr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43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mple and easy to apply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43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es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) 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ersons in transit may not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vision of incorrect picture of the population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ts val="51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Vital rates may be distor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217440" y="5200560"/>
            <a:ext cx="97534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s method is used in countries as: Saudi Arabia, England, Egypt,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7E43-174A-44C0-9B6A-F78CF82D85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9760" y="288720"/>
            <a:ext cx="91706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- De Jure Cen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1120" y="1161720"/>
            <a:ext cx="10049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4499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ounting individuals at their legal permanent residence regardless to whether or not they are physically present at the time of the cens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4499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It gives a true fig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مستطيل 3"/>
          <p:cNvSpPr/>
          <p:nvPr/>
        </p:nvSpPr>
        <p:spPr>
          <a:xfrm>
            <a:off x="293760" y="4438800"/>
            <a:ext cx="98964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The disadvantag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  Expensive in time and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 Some individuals may be counted tw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 Information may be in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665-12B6-40AC-9D2A-9DB3715897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217440" y="291960"/>
            <a:ext cx="9972720" cy="62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err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Incomplete coverage: An undercount may arise because whole areas are simply missed or because certain subgroups are hard to cover. Such groups include the homeless, nomads, infants, students, vagrants, se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Response erro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- accidental: enumerator recording the answer given to him wrong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5324-F53D-4534-B6B6-BFC8A0B7AC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76280"/>
            <a:ext cx="1019016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ondent misunderstanding the question, not know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rors of data ent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berat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pondent give wrong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eone may lie about his a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vorce people may declare themselves to be sing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44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use proud may overstate the size of  their house and the amenities they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1793-2ADD-4D98-AE84-008061171B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1012680" y="552600"/>
            <a:ext cx="62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ation censuses in Saudi Ara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ctl00_ContentPlaceHolder1_ctl00_ChartUC1_ImageChart" descr="Saudi Arabia Population"/>
          <p:cNvPicPr/>
          <p:nvPr/>
        </p:nvPicPr>
        <p:blipFill>
          <a:blip r:embed="rId1"/>
          <a:stretch/>
        </p:blipFill>
        <p:spPr>
          <a:xfrm>
            <a:off x="446040" y="1076400"/>
            <a:ext cx="8991720" cy="595296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526-C227-4606-97E0-7C7D938949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0920" y="2831760"/>
            <a:ext cx="934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xample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a Medical Center we hav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- 50 physician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150 nurse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- 100 technic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9600" y="171360"/>
            <a:ext cx="96775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te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um of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all proportions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should equa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0.6 + 0.4)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691A-2A4B-46E5-8382-008638DDBC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141120" y="552600"/>
            <a:ext cx="99061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Vital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72880" indent="-272880"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Usually there are specialized departments, collecting such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72880" indent="-2728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( Ministry of Health,  etc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many countries, it is usually a legal requirement to register the birth, of every child, marriage, divorce, and each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7DE-BF59-4B26-9966-896D388E4F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293760" y="177156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irth: date of birth, place of birth, sex of child, name of child’s parents, occupation of child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17440" y="3753000"/>
            <a:ext cx="997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rriage: Date of marriage, place of marriage, names of bride and groom, ages of bride and groom, previous marital status of bride and groom, occupation of bride and g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ستطيل 3"/>
          <p:cNvSpPr/>
          <p:nvPr/>
        </p:nvSpPr>
        <p:spPr>
          <a:xfrm>
            <a:off x="293760" y="324000"/>
            <a:ext cx="9677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e details may be collected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508B-A3E1-4DC6-8780-AB1DAAE1BF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293760" y="552600"/>
            <a:ext cx="967716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5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aths: Date of death, place of death, sex of deceased, age of deceased at death, cause of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5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registration of migration is less wide spread. Some countries have systems of continuous reg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527C-50EA-43FE-AB84-B85C864AF0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293760" y="399960"/>
            <a:ext cx="9372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t migration in these countries may be estima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182960" y="2152800"/>
            <a:ext cx="1868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– 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479040" y="2076480"/>
            <a:ext cx="3326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+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-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- 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+ 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46040" y="3295800"/>
            <a:ext cx="944892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- Surv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aps in the data provided by censuses and vital registration can be filled by carrying out special surveys to elicit out the particular information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5A21-89EF-4615-8793-189E00E763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93760" y="399960"/>
            <a:ext cx="967716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 of sample surve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It reduces cost compared to complete enum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can be organized and executed relativel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can gather more information compared to cen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advant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sampling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F1B5-DA51-4129-B8FB-ED7FD68FA5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93760" y="476280"/>
            <a:ext cx="967716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rveys provided data of interest may be divided into two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spective studie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volves first carrying out a normal census-type survey, which acts as a baseline, followed by repeated visits to check for and record subsequent ev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length of visits between intervals v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DAF-40EC-4EE9-8E1D-F9BF0E38E2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93760" y="399960"/>
            <a:ext cx="967716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rval will be three to four months, maintained for two or thre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ain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- Difficulties to re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Large population which has to be covered if sufficient events which has to be recor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- The high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4- Difficulty of maintaining such a system for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CAC6-7B2E-4462-B4C0-26E6609A55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69720" y="3448080"/>
            <a:ext cx="9601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tal children born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umbers living at home, away and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ime since last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traceptive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293760" y="704880"/>
            <a:ext cx="96012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ospective survey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ample of people is interviewed at a single point in time, and asked questions about events which happened in the p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C257-4B4D-4730-A1C0-241D56E9F9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17080" y="324000"/>
            <a:ext cx="975348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a- Find proportion of nurses in the medical 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 Nurses  = 150;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of Medical staff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rses (150) + physicians  (50) + technicians (100)) = 300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2C89-2677-4FDD-A4A5-23AB32B260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369720" y="2152800"/>
            <a:ext cx="952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50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0.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776520" y="704880"/>
            <a:ext cx="64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portion of nurses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773000" y="2076480"/>
            <a:ext cx="52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nurs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678680" y="306720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of medical sta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1893960" y="291456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9C7-8C6B-4A86-8B13-81904A778C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17080" y="247680"/>
            <a:ext cx="9753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ts val="5499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-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Find proportion of physic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ts val="56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mber of physicians =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ts val="5698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of Medical staff  = 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5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539000" y="337176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Number of physician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830960" y="4362480"/>
            <a:ext cx="53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Total of medical sta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5"/>
          <p:cNvSpPr/>
          <p:nvPr/>
        </p:nvSpPr>
        <p:spPr>
          <a:xfrm>
            <a:off x="1436760" y="4286160"/>
            <a:ext cx="624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08680" y="54291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1284120" y="6039000"/>
            <a:ext cx="838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278720" y="5962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952000" y="565776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= 0.1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7302600" y="6558120"/>
            <a:ext cx="2377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94A-034F-49B7-A294-742F16C970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8:00:24Z</dcterms:created>
  <dc:creator>Jaco</dc:creator>
  <dc:description/>
  <dc:language>en-US</dc:language>
  <cp:lastModifiedBy>Basma</cp:lastModifiedBy>
  <cp:lastPrinted>2014-09-07T09:16:02Z</cp:lastPrinted>
  <dcterms:modified xsi:type="dcterms:W3CDTF">2017-02-05T09:23:54Z</dcterms:modified>
  <cp:revision>125</cp:revision>
  <dc:subject/>
  <dc:title>Ratios and Rates</dc:title>
</cp:coreProperties>
</file>