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890E-F81C-4FC4-8D7D-A71915568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24A9-685E-4F20-8F87-98D9155D3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C8C3-5B22-40A2-A058-B51F53E3D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54B3-450F-488E-B021-5C1F33EA6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476D-FB29-449A-B01D-C373F23E3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1805-3033-4B5D-99ED-42F389633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4B8A-69FC-4C9E-B142-7A18930A0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F115-B996-48D6-9FA1-57978AFF2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5210-6495-42E1-9F8B-5FEB88676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7A71-C5F8-4CF3-9088-DAC3A1712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6EC4-8033-4EA3-A5A9-7758B14AC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E966-570C-42C4-85B8-60B31906E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34D3-C980-46F1-A04B-D5EFB9C4A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642E-7CCE-4ACA-97B3-8E2F6744F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B6A1-E74E-41D9-90CA-B5B78A78F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0B8A-77EA-4D2A-BD01-EDD3C34CF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209-C172-4AC4-B6ED-372DCF03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B23-A4F6-4210-A9DE-03FF5488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748E05-5E16-412E-99D1-675F3CDCE4B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047C42-BB74-42E8-9197-7AF17CB8379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8BCD71-9A54-40EB-AF85-02D03DA508F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607F7D-AD9B-49B8-958E-7F2BA6314C6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9F6937-2077-4E03-96E6-7B2321326C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DD056D-62AA-4CAF-A965-17ED791987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FDDF33-B0A0-4210-AED2-F4528FE000F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CC9045-AD8E-47C2-8F97-E61AB8FC6A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46B75E-259C-492F-85C5-4CAC5B203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286-6EC0-4AA6-8EA9-CA3BAED6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E58-9025-4DE0-997A-4254B82B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7F3F-6728-4BB1-82CC-059126B8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2114-FCFD-4C6E-95CA-113CF083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5A96-F28F-4C39-97C8-F8001945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0359-120D-4F33-B6F7-179CF768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2569-4C8B-45FE-8164-03968F6D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0A5A-44CA-404C-B4C1-16A38B4D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7D89-504A-4DBB-99A1-A82314C8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A1A-DBB9-4C4E-9B5F-3257FF26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4241-FA2A-4A67-AB7A-C8B37924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C0E5-D32E-4FDB-B47C-7A8CFBFA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C9BC-7096-4225-9325-C76640B8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F73A-8669-4145-9E1F-FD211C3E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C990-8D2D-4271-909D-ACF935C4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095AC-9460-4E2E-AC47-D969ED93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0DC24-E2F6-4392-B8A7-F329C334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231E3-3AF9-47FA-AEFA-77E6A6A4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D5E9F-925E-4EA2-9467-0ED0DC2D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1B2B5-C919-42DD-BCDD-B7B95EB4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BA4-DCA0-47E7-A3DF-F8FD1B46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E4B8F-4041-42FD-9CCB-6A637DEB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40119-E318-47BD-8D61-3F82F756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52D53-50CD-4328-820F-4D121A9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1F3D0-B803-40C0-8818-44132F03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484B9-BD22-4A5D-8F02-4FA3356D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7CEE1-BB83-4496-ACB7-E05B2AF0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218E2-3853-4DA8-9996-5CF693FD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8207B-2551-42F3-92BD-96285718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ECBC1-E988-4829-8BB1-A77E77AB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D7334-0E3F-4459-BF01-7444104C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E72-BCF3-4478-8A6C-9D9EFEEA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1E1FC-AC23-4B7C-AC9D-F023F6D3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DA0BD-4A1C-4A66-84FB-7FD29C47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C97CD-9CC7-49F4-9B2A-EA154C35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80EC2-125E-4E45-B9CE-04D2DDD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7F526-449D-4A8B-9B40-876D5A3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4DFE2-0A89-457E-A83F-051C0CD7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C2583-5B05-46CE-B8E0-63CE1D83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6B5A4-7579-41CA-BFAC-F220E0C8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1E715-265B-4F24-8784-18FDCD19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0A901-50D6-4E99-A0BB-00CB0604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DDB-CE4C-4E73-B281-FA4FB216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2AFC8-06CB-4849-B06F-E44539E1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36C3A-4327-4EAD-90D6-13BA751D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5DF9F-647B-4F34-9588-7A902735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28299-0C59-48C1-891C-4FE31D7D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11990-E8AB-4AF9-87A0-65A927C8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C0840-A7AD-44DB-9B6C-C14CA7E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B0ED9-3630-4304-B4AA-BFD75512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B7E57-858D-4609-91D0-4C284B1A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1BA1B-239A-4CB1-BACF-B667C7FC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9059E-17B0-48CA-B6A8-E6AE846B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532-9B44-4994-8150-09F20A15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FD859-9A92-4F8D-8832-88CD612F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6F7A-DCA2-4D3F-8718-D38DE63E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7BC17-2F2B-49C4-8B23-1813CF33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DCD63-2A6F-4CF3-9A7B-470234A4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90FED-AA23-430E-BEBA-D13B1D45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0AB5A-8D19-458F-9A07-0FC55407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52963-5209-4848-B4F6-886A96BC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B73F9-149C-466D-AAFA-05FE80EC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2C4B6-D453-4349-ACC2-C45C6216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74BC4-2F65-476E-ABD6-9112CCA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050-EA77-4825-8493-419EAB05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CEFD5-3C47-4EF3-9FB2-8072B7FE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0A202-2431-4315-8F45-41C13C7F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22E04-AB9B-4AC7-832B-29F2D58B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F140B-E60F-481E-81AD-74953B37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1CC09-74F7-4D49-A965-08125A75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8B266-3EBA-403A-9B71-F4E91C58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03149-62F8-4177-9275-F7522357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24BB3-EDA8-4849-9451-77A26E47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99D69-A6D0-449F-8D08-427BDC39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FE374-0B4D-4BEB-95CC-DE7720E5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A5E-0AB9-4468-860A-B5C56B5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31980-F326-4044-9DF8-25EAF2DC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42423-1E4A-46B2-93FD-05AD31D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6717F-6F81-45B7-801E-01D64D37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B22CF-7EE7-4619-A5D8-B37F27F4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13351-F20C-45ED-AA13-4103589D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0E4BB-BA1C-48EE-B0DE-604D4F7E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EEE3E-3A6D-47FB-AD16-3D442E05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E7B30-A727-4130-8852-63D208A9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FEF38-3007-467A-98FA-926DA2CD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6B57D-D9BE-4568-9CF3-7E14D814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8FB-DF65-4E1A-B27F-33D4441A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3F251-AD64-401D-B534-15F13F9B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D41F7-868D-4A15-B174-E34F3C88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4EF47-8A77-4200-8981-A8EC6C6B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2DB1C-EF77-4D99-B8D2-45A2F3F7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9C36B-5659-40C1-9833-31B6D444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F50B8-595E-48D9-A461-C2641D2F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02699-0034-44DD-9177-733AAE61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5867C2-C68F-4BE9-AFD1-3D861FF5143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9E2075-C21E-45A6-A3E0-75EECC6EC7E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3ECEFA-58B0-41AE-85B9-50791B4F2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DB01-D3FE-4D79-A049-26E3C24EF7F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21D4-079C-4CB7-AB26-DE9F421D6F4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C0DB-66F9-406A-9073-4FAFF538FA95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F36B-EC40-43E7-B2F9-C9ECD43B58A6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3D32-51E0-44CB-B74A-82C4C347150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25B5-F8E7-4965-AB13-43DD29DEA737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6013-75C0-4CD0-BF27-97F66C84613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B7FC-ED6E-4EA4-9C63-D81ACA409E3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1D08-C6FA-4C86-B31D-DFDF76DC587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D249-AEF0-417E-9F6F-EDE11EE0692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219B-78A3-4100-B092-3AD55EFCD9F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5798-79F2-4F3B-B93A-D2846507FA5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3CC4-1625-4674-9674-99E66F3DCCB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8E42-C031-4B54-9809-C5E3596151C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7488-0CD6-451E-8E81-DADDC71B5CB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673C-E34D-476B-BA5A-6A98356AF73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B5B9-E337-4D50-89A4-91DAD18659CB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18920" y="4038480"/>
            <a:ext cx="7219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PSEUDOCODE &amp; FLOWCHART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w Cen MT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 Semester 1433-1434 H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Noor Alhareqi &amp; Alaa Altheney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7443-DDE7-4181-B862-7FF66B27452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6227640" y="155736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5975280" y="242100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5724360" y="530064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9"/>
          <p:cNvCxnSpPr/>
          <p:nvPr/>
        </p:nvCxnSpPr>
        <p:spPr>
          <a:xfrm flipH="1">
            <a:off x="7379640" y="2060640"/>
            <a:ext cx="1080" cy="2894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1" name="AutoShape 10"/>
          <p:cNvCxnSpPr>
            <a:endCxn id="472" idx="0"/>
          </p:cNvCxnSpPr>
          <p:nvPr/>
        </p:nvCxnSpPr>
        <p:spPr>
          <a:xfrm flipH="1">
            <a:off x="7308000" y="3789360"/>
            <a:ext cx="1080" cy="216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3" name="AutoShape 12"/>
          <p:cNvCxnSpPr>
            <a:endCxn id="468" idx="1"/>
          </p:cNvCxnSpPr>
          <p:nvPr/>
        </p:nvCxnSpPr>
        <p:spPr>
          <a:xfrm>
            <a:off x="7308360" y="496836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4" name="AutoShape 13"/>
          <p:cNvCxnSpPr>
            <a:endCxn id="469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72" name="AutoShape 14"/>
          <p:cNvSpPr/>
          <p:nvPr/>
        </p:nvSpPr>
        <p:spPr>
          <a:xfrm>
            <a:off x="5724360" y="4005360"/>
            <a:ext cx="3168720" cy="9349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755640" y="177336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 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5796000" y="3213000"/>
            <a:ext cx="3168720" cy="50508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AutoShape 10"/>
          <p:cNvCxnSpPr/>
          <p:nvPr/>
        </p:nvCxnSpPr>
        <p:spPr>
          <a:xfrm flipH="1">
            <a:off x="7308000" y="2924280"/>
            <a:ext cx="1080" cy="2181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FC55-AAC8-442F-A0DC-1C6568AF8D8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determine if the temperature degree is above or below freez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mp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below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below freezing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above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bove freezing. 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int “below freezing” or “above freezing”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FFF5-2C62-4AD6-9B92-3D5C3A1D90A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FA90-298F-4223-97E8-953A1327AF2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calculates the Zakat, where the user enter the amount of  money then the program show the zaka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Zakat =(2.5/100) * amoun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akat is not calculated if the amount is less than 1000 S.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mou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below 100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0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above 100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(2.5/100) * amou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Zak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F3CE-4B30-4961-A8E5-4B34B0EE5AF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2"/>
          <p:cNvSpPr/>
          <p:nvPr/>
        </p:nvSpPr>
        <p:spPr>
          <a:xfrm>
            <a:off x="1792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20CF-2E34-4477-A20D-8EE2063A3A1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"/>
          <p:cNvSpPr/>
          <p:nvPr/>
        </p:nvSpPr>
        <p:spPr>
          <a:xfrm>
            <a:off x="2984400" y="1628640"/>
            <a:ext cx="3181320" cy="4032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2984400" y="6267600"/>
            <a:ext cx="3181320" cy="4014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500200" y="2990880"/>
            <a:ext cx="4372200" cy="1069920"/>
          </a:xfrm>
          <a:prstGeom prst="diamond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ount &gt;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24000" y="4408560"/>
            <a:ext cx="2952720" cy="3888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2629080" y="5424480"/>
            <a:ext cx="4246560" cy="414360"/>
          </a:xfrm>
          <a:prstGeom prst="parallelogram">
            <a:avLst>
              <a:gd name="adj" fmla="val 17802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int Za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0"/>
          <p:cNvCxnSpPr/>
          <p:nvPr/>
        </p:nvCxnSpPr>
        <p:spPr>
          <a:xfrm>
            <a:off x="4700160" y="2030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1"/>
          <p:cNvCxnSpPr/>
          <p:nvPr/>
        </p:nvCxnSpPr>
        <p:spPr>
          <a:xfrm>
            <a:off x="4700160" y="2687760"/>
            <a:ext cx="108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14"/>
          <p:cNvCxnSpPr/>
          <p:nvPr/>
        </p:nvCxnSpPr>
        <p:spPr>
          <a:xfrm>
            <a:off x="4700160" y="583848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Rectangle 19"/>
          <p:cNvSpPr/>
          <p:nvPr/>
        </p:nvSpPr>
        <p:spPr>
          <a:xfrm>
            <a:off x="6748560" y="2946240"/>
            <a:ext cx="113328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961920" y="3051000"/>
            <a:ext cx="113364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2630520" y="2367000"/>
            <a:ext cx="4245120" cy="414360"/>
          </a:xfrm>
          <a:prstGeom prst="parallelogram">
            <a:avLst>
              <a:gd name="adj" fmla="val 177959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ad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15"/>
          <p:cNvCxnSpPr/>
          <p:nvPr/>
        </p:nvCxnSpPr>
        <p:spPr>
          <a:xfrm flipH="1" flipV="1">
            <a:off x="6874920" y="3572640"/>
            <a:ext cx="883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AutoShape 15"/>
          <p:cNvCxnSpPr/>
          <p:nvPr/>
        </p:nvCxnSpPr>
        <p:spPr>
          <a:xfrm flipH="1" flipV="1">
            <a:off x="1618560" y="3572640"/>
            <a:ext cx="881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AutoShape 14"/>
          <p:cNvCxnSpPr/>
          <p:nvPr/>
        </p:nvCxnSpPr>
        <p:spPr>
          <a:xfrm flipH="1">
            <a:off x="161892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AutoShape 14"/>
          <p:cNvCxnSpPr/>
          <p:nvPr/>
        </p:nvCxnSpPr>
        <p:spPr>
          <a:xfrm flipH="1">
            <a:off x="774036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Rectangle 7"/>
          <p:cNvSpPr/>
          <p:nvPr/>
        </p:nvSpPr>
        <p:spPr>
          <a:xfrm>
            <a:off x="5940360" y="4437000"/>
            <a:ext cx="3052800" cy="389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(2.5/100)*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AutoShape 15"/>
          <p:cNvCxnSpPr/>
          <p:nvPr/>
        </p:nvCxnSpPr>
        <p:spPr>
          <a:xfrm flipV="1">
            <a:off x="77407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AutoShape 14"/>
          <p:cNvCxnSpPr/>
          <p:nvPr/>
        </p:nvCxnSpPr>
        <p:spPr>
          <a:xfrm flipH="1" flipV="1">
            <a:off x="6442920" y="5732280"/>
            <a:ext cx="12978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AutoShape 15"/>
          <p:cNvCxnSpPr/>
          <p:nvPr/>
        </p:nvCxnSpPr>
        <p:spPr>
          <a:xfrm flipH="1" flipV="1">
            <a:off x="16189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AutoShape 14"/>
          <p:cNvCxnSpPr/>
          <p:nvPr/>
        </p:nvCxnSpPr>
        <p:spPr>
          <a:xfrm flipV="1">
            <a:off x="1618920" y="5732280"/>
            <a:ext cx="11527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57B8-DA89-4548-8B27-CF37688ECA9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9280" y="169992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efine the proble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uman though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Plan the problem solution. </a:t>
            </a:r>
            <a:r>
              <a:rPr b="0" lang="en-US" sz="3200" spc="-1" strike="noStrike">
                <a:solidFill>
                  <a:srgbClr val="b95b2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 writing the algorithm [pseudo-natural language (English, Arabic) or drawing the flowchart diagram)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d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High Level Programming Language (C, C++, Java, …)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il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Machine Cod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rom </a:t>
            </a:r>
            <a:r>
              <a:rPr b="1" i="1" lang="en-US" sz="4000" spc="-1" strike="noStrike">
                <a:solidFill>
                  <a:srgbClr val="775f55"/>
                </a:solidFill>
                <a:latin typeface="Tw Cen MT"/>
              </a:rPr>
              <a:t>Lec1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 we learn tha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B7EA-A9E3-433D-936E-642B660F79A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 for a problem solution, algorithms are used to outline the solution steps us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5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, which is a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code is a detailed description of what a computer program must do, expressed in an English like language rather than in a programming langua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FE37-3D5E-4098-B226-06610343EBA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 Exampl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E72D-BF3E-40DB-9B80-A1D38D1CA87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Write a Program to Print the Sum of two integer Numb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lowchart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 flowchart is a type of diagram that represents an algorithm , showing the steps as boxes of various kinds [ex: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rectangles, diamonds, oval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], and their order by connecting these with arrows. 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97EA-09D7-4DB5-9802-3BBADDEA97A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lowcharts Symbol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Slide Number Placeholder 7"/>
          <p:cNvSpPr/>
          <p:nvPr/>
        </p:nvSpPr>
        <p:spPr>
          <a:xfrm>
            <a:off x="0" y="206388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91CA-CA4C-40EB-A841-8E08CF9F95DD}" type="slidenum">
              <a:rPr b="1" lang="ar-S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79280" y="5157720"/>
          <a:ext cx="8734680" cy="144000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14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79280" y="1987560"/>
          <a:ext cx="8734680" cy="64944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/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179280" y="263700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/Pr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179280" y="335772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thmetic 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179280" y="4149720"/>
          <a:ext cx="8734680" cy="936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sion , can be used with loo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AutoShape 67"/>
          <p:cNvSpPr/>
          <p:nvPr/>
        </p:nvSpPr>
        <p:spPr>
          <a:xfrm>
            <a:off x="2556000" y="206064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68"/>
          <p:cNvSpPr/>
          <p:nvPr/>
        </p:nvSpPr>
        <p:spPr>
          <a:xfrm>
            <a:off x="2556000" y="2708280"/>
            <a:ext cx="186984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9"/>
          <p:cNvSpPr/>
          <p:nvPr/>
        </p:nvSpPr>
        <p:spPr>
          <a:xfrm>
            <a:off x="2916360" y="3429000"/>
            <a:ext cx="136656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0"/>
          <p:cNvSpPr/>
          <p:nvPr/>
        </p:nvSpPr>
        <p:spPr>
          <a:xfrm>
            <a:off x="900000" y="213372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1"/>
          <p:cNvSpPr/>
          <p:nvPr/>
        </p:nvSpPr>
        <p:spPr>
          <a:xfrm>
            <a:off x="539640" y="2708280"/>
            <a:ext cx="194472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2"/>
          <p:cNvSpPr/>
          <p:nvPr/>
        </p:nvSpPr>
        <p:spPr>
          <a:xfrm>
            <a:off x="900000" y="3429000"/>
            <a:ext cx="172908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n1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3"/>
          <p:cNvSpPr/>
          <p:nvPr/>
        </p:nvSpPr>
        <p:spPr>
          <a:xfrm>
            <a:off x="1403280" y="4292640"/>
            <a:ext cx="2230560" cy="576360"/>
          </a:xfrm>
          <a:prstGeom prst="flowChartDecision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4"/>
          <p:cNvSpPr/>
          <p:nvPr/>
        </p:nvSpPr>
        <p:spPr>
          <a:xfrm>
            <a:off x="3635280" y="4581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75"/>
          <p:cNvSpPr/>
          <p:nvPr/>
        </p:nvSpPr>
        <p:spPr>
          <a:xfrm>
            <a:off x="971640" y="458136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7"/>
          <p:cNvSpPr/>
          <p:nvPr/>
        </p:nvSpPr>
        <p:spPr>
          <a:xfrm flipH="1">
            <a:off x="2627280" y="602136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78"/>
          <p:cNvSpPr/>
          <p:nvPr/>
        </p:nvSpPr>
        <p:spPr>
          <a:xfrm>
            <a:off x="2700360" y="558972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79"/>
          <p:cNvSpPr/>
          <p:nvPr/>
        </p:nvSpPr>
        <p:spPr>
          <a:xfrm>
            <a:off x="2268360" y="5589720"/>
            <a:ext cx="0" cy="501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0"/>
          <p:cNvSpPr/>
          <p:nvPr/>
        </p:nvSpPr>
        <p:spPr>
          <a:xfrm flipV="1">
            <a:off x="1908000" y="5589720"/>
            <a:ext cx="0" cy="57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D364-B281-4586-879A-F735F3A2011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84320" y="169992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aw a flowchart for a program that calculat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d print the  area and the perimeter of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 rectang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6227640" y="98100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5796000" y="184464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L,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5796000" y="371628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= 2 (L+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5796000" y="458136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AutoShape 9"/>
          <p:cNvCxnSpPr>
            <a:stCxn id="446" idx="2"/>
            <a:endCxn id="447" idx="1"/>
          </p:cNvCxnSpPr>
          <p:nvPr/>
        </p:nvCxnSpPr>
        <p:spPr>
          <a:xfrm>
            <a:off x="7380000" y="1483920"/>
            <a:ext cx="1080" cy="3610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2" name="AutoShape 10"/>
          <p:cNvCxnSpPr>
            <a:stCxn id="447" idx="4"/>
            <a:endCxn id="453" idx="0"/>
          </p:cNvCxnSpPr>
          <p:nvPr/>
        </p:nvCxnSpPr>
        <p:spPr>
          <a:xfrm flipH="1">
            <a:off x="7379640" y="2349360"/>
            <a:ext cx="1080" cy="432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4" name="AutoShape 11"/>
          <p:cNvCxnSpPr>
            <a:stCxn id="453" idx="2"/>
            <a:endCxn id="448" idx="0"/>
          </p:cNvCxnSpPr>
          <p:nvPr/>
        </p:nvCxnSpPr>
        <p:spPr>
          <a:xfrm>
            <a:off x="7380000" y="3314880"/>
            <a:ext cx="1080" cy="3736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5" name="AutoShape 12"/>
          <p:cNvCxnSpPr>
            <a:stCxn id="448" idx="2"/>
            <a:endCxn id="449" idx="1"/>
          </p:cNvCxnSpPr>
          <p:nvPr/>
        </p:nvCxnSpPr>
        <p:spPr>
          <a:xfrm>
            <a:off x="7380000" y="4249800"/>
            <a:ext cx="1080" cy="3038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6" name="AutoShape 13"/>
          <p:cNvCxnSpPr>
            <a:stCxn id="457" idx="4"/>
            <a:endCxn id="450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3" name="AutoShape 14"/>
          <p:cNvSpPr/>
          <p:nvPr/>
        </p:nvSpPr>
        <p:spPr>
          <a:xfrm>
            <a:off x="5796000" y="278136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= L *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5796000" y="5373720"/>
            <a:ext cx="3168720" cy="43164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16"/>
          <p:cNvCxnSpPr>
            <a:stCxn id="449" idx="4"/>
            <a:endCxn id="457" idx="1"/>
          </p:cNvCxnSpPr>
          <p:nvPr/>
        </p:nvCxnSpPr>
        <p:spPr>
          <a:xfrm>
            <a:off x="7380000" y="504144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81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the flow chart for a program that calculates the total salary for an employee using this equation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_Sal = Salary +Over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B000-9140-45DE-B7D4-73C2A176D3B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KSUOffice</cp:lastModifiedBy>
  <dcterms:modified xsi:type="dcterms:W3CDTF">2015-08-30T03:52:14Z</dcterms:modified>
  <cp:revision>9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