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FA2-B377-4B8D-8A29-82F71496E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ACE0-57D5-4D25-89BF-1D512E9B5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0A1-94D9-4576-A9E0-56C743D2A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285D-D9E6-4A44-B84C-AB79C5F4C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9EA6-678E-473D-A715-CAC28D6E9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C5B-3181-465C-BD0D-BDFB35FE7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053C-0011-48CA-AD26-526F1BE97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2DC6-9634-493B-8B69-DD8FC9756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1030-5789-4A23-AC28-882578123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4FAA-5085-408F-BCBC-CE8488516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F34F-87CA-4C86-B864-F9D905638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58A-2208-40B5-BEFD-08451C583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22B1-B5D7-4DE7-A144-73935A3F0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5911-16FF-44AC-9B44-CE5439AE7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66E-5751-4011-A37B-3131D21C6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D48-C325-44E9-A264-469933584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47F-DCDB-4097-A3FB-497ABF7D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F87-930A-4A9D-88CB-2888916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D92175-6B62-4F29-887B-514F2BE56F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6901DC-8BB2-40D6-B6D7-4912DD9987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4EC4FD-2FB9-43FD-A459-0C76DE9E20F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7A23FC-9A49-4340-9B46-AA4187BD2F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169731-CEA7-458A-AE3C-49B9069235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72E32A-466C-4F8C-A677-54A2A5499A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387251-0EC2-43F0-8CB8-BD4B840FAA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85026-20E9-42B6-B93D-1C43941C54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78F95-5C25-4628-B3DE-1C33920C2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6BD-6A5D-4B92-9265-B812C958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55B-D734-48BA-A90C-64B37FC1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73B2-B4E9-4232-93AF-EDDA85CF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7F16-3299-4D5B-980D-C5EB06BE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39AE-95F8-4990-9477-411A7159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6BF7-D850-44CF-9DD3-C4628C3B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ADB4-8813-4152-B40E-F1C611C5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D91-E481-468C-93E4-D1940DE5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3473-0087-4927-9770-BD938F3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670-4C52-4C50-8627-4F7C6FDB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2037-FFC4-4850-8549-60BD7F5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0DDB-2560-4B87-B2F5-71654FB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FB5D-C337-47C5-BFE0-904DCBA0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00C3-BEF2-4839-8C4F-A8CE4A32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70C6-DE26-4516-9645-45CBDC01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F79DC-9C46-4968-A4A0-6744B9FC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8E519-20DB-4E7E-A7B3-FA13B6C1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5047F-9E41-4919-9395-F283E09A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BCFA0-A3D1-479F-910D-5A690E24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F17B3-E1FB-49CB-A6EA-3D387C4D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893-D820-41EA-B42E-F305DDAD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CB0BE-8E8D-4981-88C2-82095880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9AE0C-5A20-4F3D-AEDD-4449118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15BC3-5B37-4410-8A4C-B452D468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A2A46-9042-4574-A9B1-3971929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EA79F-AE8D-46D4-8628-7E47523A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62F72-F8C1-49B9-AAD9-3359A9A5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D6651-A8C9-4677-8F10-7114A447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91758-ED60-4701-8165-3BD8B4C7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ACB90-9D6A-4621-B539-9A05FF5D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C112D-0401-4B4E-A3BF-A9DDB119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1E7-D64B-44A9-9B20-994A4621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EB1DF-46E3-4AEF-B6A3-29373356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46CB0-B5F6-475E-AC1D-E2D85D55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9DF97-2D76-46D9-8553-F1F86E13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153B4-16F8-4B13-91EB-0E2BACB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BE6F8-10F2-4EAE-8ABF-A4D6F9A8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64877-33A8-4C89-8AA4-D20BF4B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DB057-86AE-4B17-A2CF-83528DD7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8DF38-5E5D-4623-A2F7-00ACAE27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7B4F8-52E6-4AAE-BDA6-AF9C71D0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3346C-40BC-4DA7-8DCC-EFEEAE6D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F34-F6AF-46DE-8868-F66BAB77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A6C2D-2ABE-4C01-9971-DE0DB8D4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C4BF0-93EA-413D-B5AC-1589E6D3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5B3D4-C260-4A21-8DB1-DD01AF3C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E2FFD-AB98-4B04-BA63-3CC4AC84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5061C-FA01-4E92-87F2-7A3AFEF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40ED5-987E-4DC0-BF8C-C213D998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D07E9-95AE-48EC-A6B3-95DD5E15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145CE-D5E3-441A-8922-72F9D67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50A46-1696-4BB2-B42B-CC539875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04CF7-A8F5-4ED4-828B-2FD1A7C6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F53-BF98-4598-B83B-00BA128D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AA90B-63BF-4315-91D4-17A6ACFB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3AC6-F481-4F66-9A18-B4B95C3A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2AC6-28FD-4B69-835B-61AA6A8A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BF55E-79A3-4D2C-AA86-421745E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53B97-AFA9-4A74-BDCD-D33945A4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02F4-4068-40A7-8BF3-7C6E404B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D132-60E6-48EE-9FD1-DDD70F1C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BCD3E-A828-4641-AF1D-8FE692E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5EB14-CE76-45A3-B60C-6E8A48A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BE72-CBFD-4B0A-8C55-4C3900C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4F5-F219-4450-B41E-DFE14D14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FBD0-A14C-4346-A12C-526AB1C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5C19D-04D5-4233-BC8D-0317DB98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7DD4C-14F5-4478-9A84-1985876A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70950-20D4-4BD1-850F-DA49732B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94942-F926-410B-9699-53ABDFC2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4C905-8FCF-4599-8A16-2CEC1DAF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DDC45-03CD-48BF-B2DB-51BBBC23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FC4D5-6DE4-4631-84F1-CA09D942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72911-EB2C-494D-B7BA-69204B6D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CF9E7-F461-41DB-8CC7-2146A0E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1AA-B3AF-4AE1-B41F-2160D33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949D7-F4BD-4458-9F7F-729BFE2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4E0C5-D522-4901-8D10-F9ADF4A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93341-640F-463A-82E5-B4AB44C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2106F-D28C-4ACF-92D4-0A39FD12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C5AA7-19FD-4CFE-A797-2BD9B224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638A-240C-4AC7-A265-D5F09F37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E1D19-F474-49E6-A6B0-7A0DBD11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4A2C2-3C18-475A-8CEE-6A0143F3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50D0A-3193-48F8-9F23-A9DE7BB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67C46-0E77-4948-B6CB-E70C337C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3D3-F91F-4D9F-B305-03984D43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EDA9D-999E-4A67-AD1A-F211FB67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93D28-F23C-414E-9285-AF57F660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B3603-876C-4A13-AF06-B2AF95D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8F41-B3F5-49B5-BFCB-24A4C5C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CB662-5AF2-485C-AECD-3725069D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F6F3-4465-4401-AF76-CFA533E2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F15DD-EF55-4EFA-AE52-D47C8F3F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AF5B2-027F-4E03-9616-0441BD7809E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C06B44-B86F-4AE8-BFA5-68AA87A072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B1AA0-83AE-4ED9-9782-19D77BAC2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8175-0CCD-4553-B785-4BBEAD6BCF8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4387-2369-4B95-82EE-9CEAABA6D30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9BE8-83B4-4B04-8557-8AD41D44F7B2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A95-08C1-452F-8488-21FF8327749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3B3F-083D-49DF-86A1-B4F586D4366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A085-D1E5-4159-A334-F47A1830BC3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D048-078F-4E39-84CA-D862E53AED7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D69-EBCD-455C-B01B-CA440E44377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AC4-D45E-40B3-9C1E-FE9C5A6A24D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C44D-EC8B-473D-8BB6-6971A30B6B6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47FA-39F2-4946-9723-8E79A64F795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9660-C1B9-4D99-AFED-2ED3263F144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C9D9-F11F-4CAE-91FE-1EE8295545D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C389-1BE1-4798-81A3-2DE50D1A99F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6CB9-57A0-4686-8C0A-EF780A571C0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096-0326-4B35-B1DB-97E567FC5E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C384-23BD-4DE5-B60E-2BFB08AB203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18920" y="4038480"/>
            <a:ext cx="721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PSEUDOCODE &amp; FLOWCHART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w Cen MT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Semester 1433-1434 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Noor Alhareqi &amp; Alaa Altheney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9286-C556-46FD-B4FC-3B4688F15C5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6227640" y="155736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5975280" y="242100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5724360" y="530064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9"/>
          <p:cNvCxnSpPr/>
          <p:nvPr/>
        </p:nvCxnSpPr>
        <p:spPr>
          <a:xfrm flipH="1">
            <a:off x="7379640" y="2060640"/>
            <a:ext cx="1080" cy="2894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1" name="AutoShape 10"/>
          <p:cNvCxnSpPr>
            <a:endCxn id="472" idx="0"/>
          </p:cNvCxnSpPr>
          <p:nvPr/>
        </p:nvCxnSpPr>
        <p:spPr>
          <a:xfrm flipH="1">
            <a:off x="7308000" y="3789360"/>
            <a:ext cx="1080" cy="216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3" name="AutoShape 12"/>
          <p:cNvCxnSpPr>
            <a:endCxn id="468" idx="1"/>
          </p:cNvCxnSpPr>
          <p:nvPr/>
        </p:nvCxnSpPr>
        <p:spPr>
          <a:xfrm>
            <a:off x="7308360" y="496836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4" name="AutoShape 13"/>
          <p:cNvCxnSpPr>
            <a:endCxn id="469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72" name="AutoShape 14"/>
          <p:cNvSpPr/>
          <p:nvPr/>
        </p:nvSpPr>
        <p:spPr>
          <a:xfrm>
            <a:off x="5724360" y="4005360"/>
            <a:ext cx="3168720" cy="9349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755640" y="177336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 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5796000" y="3213000"/>
            <a:ext cx="3168720" cy="50508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AutoShape 10"/>
          <p:cNvCxnSpPr/>
          <p:nvPr/>
        </p:nvCxnSpPr>
        <p:spPr>
          <a:xfrm flipH="1">
            <a:off x="7308000" y="2924280"/>
            <a:ext cx="1080" cy="2181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ABC1-4768-4E77-AAA3-3A185ABB12F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determine if the temperature degree is above or below freez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mp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below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below freez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above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bove freezing.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nt “below freezing” or “above freezing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30CA-6190-4EBA-9945-9E29FE8D6A7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3E9C-E908-4E68-ADBA-9C5DCEFE0CB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calculates the Zakat, where the user enter the amount of  money then the program show the zaka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Zakat =(2.5/100) * amoun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kat is not calculated if the amount is less than 1000 S.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ou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below 100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0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above 100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(2.5/100) * amou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Zak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54B3-1FD9-4C7D-89F8-1685E278ABE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1792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1084-F917-49AC-8AB5-D8A4A70BDBC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984400" y="1628640"/>
            <a:ext cx="3181320" cy="4032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2984400" y="6267600"/>
            <a:ext cx="3181320" cy="4014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500200" y="2990880"/>
            <a:ext cx="4372200" cy="1069920"/>
          </a:xfrm>
          <a:prstGeom prst="diamond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ount &gt;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24000" y="4408560"/>
            <a:ext cx="2952720" cy="3888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629080" y="5424480"/>
            <a:ext cx="4246560" cy="414360"/>
          </a:xfrm>
          <a:prstGeom prst="parallelogram">
            <a:avLst>
              <a:gd name="adj" fmla="val 17802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nt Za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0"/>
          <p:cNvCxnSpPr/>
          <p:nvPr/>
        </p:nvCxnSpPr>
        <p:spPr>
          <a:xfrm>
            <a:off x="4700160" y="2030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1"/>
          <p:cNvCxnSpPr/>
          <p:nvPr/>
        </p:nvCxnSpPr>
        <p:spPr>
          <a:xfrm>
            <a:off x="4700160" y="268776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4"/>
          <p:cNvCxnSpPr/>
          <p:nvPr/>
        </p:nvCxnSpPr>
        <p:spPr>
          <a:xfrm>
            <a:off x="4700160" y="583848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Rectangle 19"/>
          <p:cNvSpPr/>
          <p:nvPr/>
        </p:nvSpPr>
        <p:spPr>
          <a:xfrm>
            <a:off x="6748560" y="2946240"/>
            <a:ext cx="113328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961920" y="3051000"/>
            <a:ext cx="113364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630520" y="2367000"/>
            <a:ext cx="4245120" cy="414360"/>
          </a:xfrm>
          <a:prstGeom prst="parallelogram">
            <a:avLst>
              <a:gd name="adj" fmla="val 177959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ad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15"/>
          <p:cNvCxnSpPr/>
          <p:nvPr/>
        </p:nvCxnSpPr>
        <p:spPr>
          <a:xfrm flipH="1" flipV="1">
            <a:off x="6874920" y="3572640"/>
            <a:ext cx="883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AutoShape 15"/>
          <p:cNvCxnSpPr/>
          <p:nvPr/>
        </p:nvCxnSpPr>
        <p:spPr>
          <a:xfrm flipH="1" flipV="1">
            <a:off x="1618560" y="3572640"/>
            <a:ext cx="881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AutoShape 14"/>
          <p:cNvCxnSpPr/>
          <p:nvPr/>
        </p:nvCxnSpPr>
        <p:spPr>
          <a:xfrm flipH="1">
            <a:off x="161892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AutoShape 14"/>
          <p:cNvCxnSpPr/>
          <p:nvPr/>
        </p:nvCxnSpPr>
        <p:spPr>
          <a:xfrm flipH="1">
            <a:off x="774036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7"/>
          <p:cNvSpPr/>
          <p:nvPr/>
        </p:nvSpPr>
        <p:spPr>
          <a:xfrm>
            <a:off x="5940360" y="4437000"/>
            <a:ext cx="3052800" cy="389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(2.5/100)*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15"/>
          <p:cNvCxnSpPr/>
          <p:nvPr/>
        </p:nvCxnSpPr>
        <p:spPr>
          <a:xfrm flipV="1">
            <a:off x="77407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AutoShape 14"/>
          <p:cNvCxnSpPr/>
          <p:nvPr/>
        </p:nvCxnSpPr>
        <p:spPr>
          <a:xfrm flipH="1" flipV="1">
            <a:off x="6442920" y="5732280"/>
            <a:ext cx="12978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AutoShape 15"/>
          <p:cNvCxnSpPr/>
          <p:nvPr/>
        </p:nvCxnSpPr>
        <p:spPr>
          <a:xfrm flipH="1" flipV="1">
            <a:off x="16189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AutoShape 14"/>
          <p:cNvCxnSpPr/>
          <p:nvPr/>
        </p:nvCxnSpPr>
        <p:spPr>
          <a:xfrm flipV="1">
            <a:off x="1618920" y="5732280"/>
            <a:ext cx="11527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C9C-0959-42BC-8FDF-3D7A5F9CB96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9280" y="169992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fine the proble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uman though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Plan the problem solution. </a:t>
            </a:r>
            <a:r>
              <a:rPr b="0" lang="en-US" sz="3200" spc="-1" strike="noStrike">
                <a:solidFill>
                  <a:srgbClr val="b95b2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 writing the algorithm [pseudo-natural language (English, Arabic) or drawing the flowchart diagram)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d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High Level Programming Language (C, C++, Java, …)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il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Machine Cod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rom </a:t>
            </a:r>
            <a:r>
              <a:rPr b="1" i="1" lang="en-US" sz="4000" spc="-1" strike="noStrike">
                <a:solidFill>
                  <a:srgbClr val="775f55"/>
                </a:solidFill>
                <a:latin typeface="Tw Cen MT"/>
              </a:rPr>
              <a:t>Lec1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 we learn tha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5288-ABFD-478F-A068-1912F2E89FC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 for a problem solution, algorithms are used to outline the solution steps us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5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, which is a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code is a detailed description of what a computer program must do, expressed in an English like language rather than in a programming langu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5F43-8301-43EA-B1FC-DA7575FD974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 Exampl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1C76-D0D4-42AE-986E-9E462FACDB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Write a Program to Print the Sum of two integer Numb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lowchar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 flowchart is a type of diagram that represents an algorithm , showing the steps as boxes of various kinds [ex: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ctangles, diamonds, oval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], and their order by connecting these with arrows.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0806-4C44-40E3-96AB-203241ADA5E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lowcharts Symbol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Slide Number Placeholder 7"/>
          <p:cNvSpPr/>
          <p:nvPr/>
        </p:nvSpPr>
        <p:spPr>
          <a:xfrm>
            <a:off x="0" y="206388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64E9-57FC-4985-B61E-104D01A8D6EF}" type="slidenum">
              <a:rPr b="1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79280" y="5157720"/>
          <a:ext cx="8734680" cy="144000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79280" y="1987560"/>
          <a:ext cx="8734680" cy="64944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/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79280" y="263700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/Pr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79280" y="335772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thmetic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179280" y="4149720"/>
          <a:ext cx="8734680" cy="936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sion , can be used with lo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AutoShape 67"/>
          <p:cNvSpPr/>
          <p:nvPr/>
        </p:nvSpPr>
        <p:spPr>
          <a:xfrm>
            <a:off x="2556000" y="206064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8"/>
          <p:cNvSpPr/>
          <p:nvPr/>
        </p:nvSpPr>
        <p:spPr>
          <a:xfrm>
            <a:off x="2556000" y="2708280"/>
            <a:ext cx="186984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9"/>
          <p:cNvSpPr/>
          <p:nvPr/>
        </p:nvSpPr>
        <p:spPr>
          <a:xfrm>
            <a:off x="2916360" y="3429000"/>
            <a:ext cx="136656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0"/>
          <p:cNvSpPr/>
          <p:nvPr/>
        </p:nvSpPr>
        <p:spPr>
          <a:xfrm>
            <a:off x="900000" y="213372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1"/>
          <p:cNvSpPr/>
          <p:nvPr/>
        </p:nvSpPr>
        <p:spPr>
          <a:xfrm>
            <a:off x="539640" y="2708280"/>
            <a:ext cx="194472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2"/>
          <p:cNvSpPr/>
          <p:nvPr/>
        </p:nvSpPr>
        <p:spPr>
          <a:xfrm>
            <a:off x="900000" y="3429000"/>
            <a:ext cx="172908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n1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3"/>
          <p:cNvSpPr/>
          <p:nvPr/>
        </p:nvSpPr>
        <p:spPr>
          <a:xfrm>
            <a:off x="1403280" y="4292640"/>
            <a:ext cx="2230560" cy="576360"/>
          </a:xfrm>
          <a:prstGeom prst="flowChartDecision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4"/>
          <p:cNvSpPr/>
          <p:nvPr/>
        </p:nvSpPr>
        <p:spPr>
          <a:xfrm>
            <a:off x="3635280" y="458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5"/>
          <p:cNvSpPr/>
          <p:nvPr/>
        </p:nvSpPr>
        <p:spPr>
          <a:xfrm>
            <a:off x="971640" y="45813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7"/>
          <p:cNvSpPr/>
          <p:nvPr/>
        </p:nvSpPr>
        <p:spPr>
          <a:xfrm flipH="1">
            <a:off x="2627280" y="602136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78"/>
          <p:cNvSpPr/>
          <p:nvPr/>
        </p:nvSpPr>
        <p:spPr>
          <a:xfrm>
            <a:off x="2700360" y="558972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79"/>
          <p:cNvSpPr/>
          <p:nvPr/>
        </p:nvSpPr>
        <p:spPr>
          <a:xfrm>
            <a:off x="2268360" y="5589720"/>
            <a:ext cx="0" cy="501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0"/>
          <p:cNvSpPr/>
          <p:nvPr/>
        </p:nvSpPr>
        <p:spPr>
          <a:xfrm flipV="1">
            <a:off x="1908000" y="5589720"/>
            <a:ext cx="0" cy="57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DE52-45A9-4994-82E3-BFA64FC42D6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84320" y="1699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aw a flowchart for a program that calcula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d print the  area and the perimeter of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 rectang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6227640" y="98100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5796000" y="184464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L,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5796000" y="371628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2 (L+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96000" y="458136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AutoShape 9"/>
          <p:cNvCxnSpPr>
            <a:stCxn id="446" idx="2"/>
            <a:endCxn id="447" idx="1"/>
          </p:cNvCxnSpPr>
          <p:nvPr/>
        </p:nvCxnSpPr>
        <p:spPr>
          <a:xfrm>
            <a:off x="7380000" y="1483920"/>
            <a:ext cx="1080" cy="3610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2" name="AutoShape 10"/>
          <p:cNvCxnSpPr>
            <a:stCxn id="447" idx="4"/>
            <a:endCxn id="453" idx="0"/>
          </p:cNvCxnSpPr>
          <p:nvPr/>
        </p:nvCxnSpPr>
        <p:spPr>
          <a:xfrm flipH="1">
            <a:off x="7379640" y="2349360"/>
            <a:ext cx="1080" cy="432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4" name="AutoShape 11"/>
          <p:cNvCxnSpPr>
            <a:stCxn id="453" idx="2"/>
            <a:endCxn id="448" idx="0"/>
          </p:cNvCxnSpPr>
          <p:nvPr/>
        </p:nvCxnSpPr>
        <p:spPr>
          <a:xfrm>
            <a:off x="7380000" y="3314880"/>
            <a:ext cx="1080" cy="3736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5" name="AutoShape 12"/>
          <p:cNvCxnSpPr>
            <a:stCxn id="448" idx="2"/>
            <a:endCxn id="449" idx="1"/>
          </p:cNvCxnSpPr>
          <p:nvPr/>
        </p:nvCxnSpPr>
        <p:spPr>
          <a:xfrm>
            <a:off x="7380000" y="4249800"/>
            <a:ext cx="1080" cy="3038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6" name="AutoShape 13"/>
          <p:cNvCxnSpPr>
            <a:stCxn id="457" idx="4"/>
            <a:endCxn id="450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3" name="AutoShape 14"/>
          <p:cNvSpPr/>
          <p:nvPr/>
        </p:nvSpPr>
        <p:spPr>
          <a:xfrm>
            <a:off x="5796000" y="278136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L *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5796000" y="5373720"/>
            <a:ext cx="3168720" cy="43164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16"/>
          <p:cNvCxnSpPr>
            <a:stCxn id="449" idx="4"/>
            <a:endCxn id="457" idx="1"/>
          </p:cNvCxnSpPr>
          <p:nvPr/>
        </p:nvCxnSpPr>
        <p:spPr>
          <a:xfrm>
            <a:off x="7380000" y="504144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81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the flow chart for a program that calculates the total salary for an employee using this equation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_Sal = Salary +Over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EA6F-EE44-4113-AAE0-A19CFCBA072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KSUOffice</cp:lastModifiedBy>
  <dcterms:modified xsi:type="dcterms:W3CDTF">2015-08-30T03:52:14Z</dcterms:modified>
  <cp:revision>9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