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EFCB-3D6E-438A-A2BD-F9BE724B2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470-94BD-4623-9170-F485BCD00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FC7D-682C-4E72-B274-C8867D482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6357-5314-4161-9901-D2C2260BA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A72-3B76-4B57-A47D-B39CE59DA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49A-410E-40F4-9230-B8EC1F4AC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F2B-D451-49EA-96F1-7326877E0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3EE-213C-47D6-9766-05C794E57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6C4-AD60-4223-8915-5259FB83A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24C-C2F0-47EA-A52B-B8290F552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15D-3E59-4A73-8CDE-068CCF7F8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CEB-23B2-4F95-82FB-32743B823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7540-69ED-41EE-87B1-E2DBC992E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B6B-DD7A-42BD-AA5F-35AED484E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5C25-8EA8-4A27-9D94-7779C1AEE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71E2-41C7-48CA-A9F2-C86D5C5FC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413-B226-4934-895D-50A9EE0B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C88-D317-4E3A-8F4D-7F4A62B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CECF6A-5592-4957-B436-4B59F2F110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E83B71-DF78-43BE-B3A5-6670CFA1B87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BE02C-088D-4C13-8A3A-88407C5820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E900F-6B51-469D-AE74-7C02E83742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D43CC-B89D-4B4D-BD1A-05E34DE938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25D98-9A5D-4A14-9D12-0A5B0959B7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6695B-18BA-4DC8-8824-B2F4C6A04AB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FA930D-607C-4EF6-993C-4231C26AF0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91534C-DCBA-44A1-8ECE-D6FA2F8EA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918-12FF-4E8D-A85F-DBAA319E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B7B-6084-4196-8DFC-3EC54A13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07F-85A9-400C-B5B8-5560B7B2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5047-026D-479F-9462-1822FE4C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1EB2-E798-44A3-8E56-D0DBEADD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E2E-A668-4ACC-A034-08037CA8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22B9-F0F4-4FB8-8371-134B9FB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39D6-7F48-49FD-B797-CE6B90F1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9C65-DA0E-4628-B311-8EE5B1B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7CA-7106-49D2-A2B7-79867D13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480D-56F0-47F4-9491-520E261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179F-217B-49E0-AF58-A032F1D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4515-F607-41AC-9FFE-F0255AB4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B7C5-93ED-4E05-B57E-DE1C775F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9D86-66D8-44F3-8D62-F08FC790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D0E6E-D609-432E-B012-03629B22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05C7E-2CBA-484A-BA2A-D98EB2DB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C5AE2-AF75-4B6D-99B7-C3BD3F26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C8FA4-441F-44D0-B08C-216017CA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0E577-C69C-45CA-A8A9-DEF01A6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3D3-29C4-4997-950D-ECC6C39C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BAB5D-6F11-42BE-A9C5-F56155CD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C05E8-E40D-4B52-BE66-7482CEF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8C6E2-2686-4700-9B65-D964074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42282-259D-4483-B923-9AFB5B8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C598F-7F06-45B9-BF78-09D1B35D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9EED0-5396-410F-83A5-7DB2C824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59F6A-9853-4716-A5C4-54960131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140C2-8F2B-4E4C-8A3A-1225C345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66BB7-F99C-4492-8386-10C56A56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143D0-7CB6-4770-9414-4193E31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BFB-C6EC-4D84-81A8-50F3523F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88B21-CD4F-4F7D-AFA9-417278EC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37292-121E-40DC-A0B4-E984938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525EC-4926-408F-8AD1-783F7109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D36E8-F5A0-4AC1-ADCF-D42B3BFC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0091C-98EC-4CF4-A38B-B70120E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37AAF-FA0D-4AE7-B7F2-B35F48D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D41FE-1737-4E89-9BD6-9CD9AD0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967C6-0595-4CFD-9F40-4399507B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42E3C-28E7-48A2-890C-53DEF897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1FE63-8DDC-4B1A-BABF-4D4195F1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4D2-A422-4F14-82A3-04C9A8C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70F90-B818-41E9-B84A-4F94BF00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367D3-A927-4895-982E-34E3483E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DEC2C-05BB-4684-9243-372899A8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7C82F-9557-409F-95EF-BCC51557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EBC5F-7757-46E0-986A-44FFF32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20089-0901-49E0-86B0-D199DA8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FAA7C-9657-414B-B0B8-05C8F36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13E60-DCAD-4827-A9A8-800E71B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9D9BF-7443-453C-9DD2-88D3D1F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6CFB9-5FA9-4B77-9AD2-FFF9042C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2B0-48EA-4FF0-80E9-0F5B5423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6BCB3-A3DF-4CF7-AD37-EBB8CC16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19513-1390-4BD8-8A7D-079B1159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48BC-7F2D-42CE-BEF4-DB18652E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575D-EAF8-4774-A431-2291A10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06EA-DE4F-494B-9EBA-8A03E5E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D5F9-7463-42CE-B675-4D7BE69B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E589-4510-4A23-8841-3EBB8DA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A4F7-1ED3-4CAE-9B8D-47D3922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6023-3225-496B-B742-BFE2020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58C1-8189-4B21-8D50-187F917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3A3-83B4-4148-A967-964949B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38596-859A-4B98-B309-20BBAB9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547D7-3088-4ADF-9E63-7A6A7547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BCAB-C415-4AB8-B86C-9832EDA6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72512-40F6-4F05-8FBB-67937181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0D16B-3891-4CB6-86EC-5DC7F8A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C03CD-4662-4E79-B0AA-82500D48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8FE16-90DC-4B39-A9B4-6671964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3902D-4713-4EBC-B3E1-3617C781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13581-575E-403A-919D-F110520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6B3BD-FEFE-4769-AE38-66F4AC8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2DB-8212-42A7-B31D-EF49C425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AB090-C7AA-4BA5-A5CC-4DE4F5F7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B702F-B088-4D90-AA56-EEA105F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DABEA-06AE-4D1C-A406-3C2A44F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C7541-3D88-4A4A-B847-A0C5BDEC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7F4A9-5F63-46C4-B172-08470365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5DD0A-3A16-4AD6-B453-24A6FDF1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F040-11BA-47D9-B6F6-F3E79EB0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E37C6-D071-4FEA-AA48-B46B94D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3483-596B-4577-8F01-CDC6B000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A047C-4687-4A67-B14B-F5317DC6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37E-63BE-4B1C-A34E-687344D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DB7D8-E00A-45AA-AE9A-0C0E156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CA8B5-D687-4C63-A560-4FA0271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9315-426A-4472-92BB-2B73073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220F5-F2B7-4F77-91A7-D78AFFE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3549-BEDA-4468-A660-816EEA7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63DC-F8DF-4038-A0F2-F5CB93F4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2A79-4CCF-4B34-AC60-B97C3E3F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FB356F-940B-47F8-8FCA-F72C8020B4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AE023-D8A2-45B2-AB77-BFEA47072F1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38FE82-8105-4998-938C-5FA30AA41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0AA2-8662-49D0-8DDE-A7D0943F16D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B77E-7B80-4017-87B7-51F031BB476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172-16E9-4ECF-928A-3FCFAD998C7C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21F-15ED-413A-82E0-1BFB4AF1258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6958-D12F-4F60-88FE-E6AED81D9C3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D21-0229-4CE0-8863-449F3757A50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7471-8C31-41C1-9EC3-7AE9711AF96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150-0042-4EF0-A63D-90F80B71108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B766-26E5-471A-958D-F82BCDA6B7B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FA3-D1DE-453A-BD1D-42CA4C5ECD2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6779-1B48-4F90-81B5-776B8160390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585D-B216-4268-B6E6-0989505D8C9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3BCF-7EAC-42E3-8810-1D3AEF07319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24DE-28D9-41F1-BE3E-4214CD4796D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9AA-2C2A-4DD6-9E43-EA1F001A8AB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4A97-89C9-4FCA-AF9A-983E836F152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174F-5CCD-4C02-BB69-DA2C6E07169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8920" y="4038480"/>
            <a:ext cx="721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PSEUDOCODE &amp; FLOWCHART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w Cen MT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Semester 1433-1434 H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Noor Alhareqi &amp; Alaa Althene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A4B2-19F7-41C7-8DCC-D19564F874E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6227640" y="155736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5975280" y="242100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5724360" y="530064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9"/>
          <p:cNvCxnSpPr/>
          <p:nvPr/>
        </p:nvCxnSpPr>
        <p:spPr>
          <a:xfrm flipH="1">
            <a:off x="7379640" y="2060640"/>
            <a:ext cx="1080" cy="2894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1" name="AutoShape 10"/>
          <p:cNvCxnSpPr>
            <a:endCxn id="472" idx="0"/>
          </p:cNvCxnSpPr>
          <p:nvPr/>
        </p:nvCxnSpPr>
        <p:spPr>
          <a:xfrm flipH="1">
            <a:off x="7308000" y="3789360"/>
            <a:ext cx="1080" cy="216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3" name="AutoShape 12"/>
          <p:cNvCxnSpPr>
            <a:endCxn id="468" idx="1"/>
          </p:cNvCxnSpPr>
          <p:nvPr/>
        </p:nvCxnSpPr>
        <p:spPr>
          <a:xfrm>
            <a:off x="7308360" y="496836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74" name="AutoShape 13"/>
          <p:cNvCxnSpPr>
            <a:endCxn id="469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72" name="AutoShape 14"/>
          <p:cNvSpPr/>
          <p:nvPr/>
        </p:nvSpPr>
        <p:spPr>
          <a:xfrm>
            <a:off x="5724360" y="4005360"/>
            <a:ext cx="3168720" cy="9349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755640" y="177336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 = Salary +Overtim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Total_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5796000" y="3213000"/>
            <a:ext cx="3168720" cy="50508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AutoShape 10"/>
          <p:cNvCxnSpPr/>
          <p:nvPr/>
        </p:nvCxnSpPr>
        <p:spPr>
          <a:xfrm flipH="1">
            <a:off x="7308000" y="2924280"/>
            <a:ext cx="1080" cy="2181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8752-4451-4B8E-AAD8-6E6F37D766E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determine if the temperature degree is above or below freez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below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below freez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Temp is above the 3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ve freezing.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nt “below freezing” or “above freezing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2A5-062E-4D47-BAAC-94BF764118E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434-224F-412D-9832-63F92E7E872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a flowchart for a program that calculates the Zakat, where the user enter the amount of  money then the program show the zaka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Zakat =(2.5/100) * amoun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akat is not calculated if the amount is less than 1000 S.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ou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below 100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0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eck if amount is above 1000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Zakat =(2.5/100) * amou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Zak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B4E-3E55-4DB5-9A93-03318634042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1792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7E8-ADE4-4149-B939-F33D0B4B3F4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984400" y="1628640"/>
            <a:ext cx="3181320" cy="4032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2984400" y="6267600"/>
            <a:ext cx="3181320" cy="40140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500200" y="2990880"/>
            <a:ext cx="4372200" cy="1069920"/>
          </a:xfrm>
          <a:prstGeom prst="diamond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ount &gt;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24000" y="4408560"/>
            <a:ext cx="2952720" cy="38880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>
            <a:off x="2629080" y="5424480"/>
            <a:ext cx="4246560" cy="414360"/>
          </a:xfrm>
          <a:prstGeom prst="parallelogram">
            <a:avLst>
              <a:gd name="adj" fmla="val 17802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nt Za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0"/>
          <p:cNvCxnSpPr/>
          <p:nvPr/>
        </p:nvCxnSpPr>
        <p:spPr>
          <a:xfrm>
            <a:off x="4700160" y="2030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1"/>
          <p:cNvCxnSpPr/>
          <p:nvPr/>
        </p:nvCxnSpPr>
        <p:spPr>
          <a:xfrm>
            <a:off x="4700160" y="268776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14"/>
          <p:cNvCxnSpPr/>
          <p:nvPr/>
        </p:nvCxnSpPr>
        <p:spPr>
          <a:xfrm>
            <a:off x="4700160" y="583848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Rectangle 19"/>
          <p:cNvSpPr/>
          <p:nvPr/>
        </p:nvSpPr>
        <p:spPr>
          <a:xfrm>
            <a:off x="6748560" y="2946240"/>
            <a:ext cx="113328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961920" y="3051000"/>
            <a:ext cx="1133640" cy="40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f6eb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2630520" y="2367000"/>
            <a:ext cx="4245120" cy="414360"/>
          </a:xfrm>
          <a:prstGeom prst="parallelogram">
            <a:avLst>
              <a:gd name="adj" fmla="val 177959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15"/>
          <p:cNvCxnSpPr/>
          <p:nvPr/>
        </p:nvCxnSpPr>
        <p:spPr>
          <a:xfrm flipH="1" flipV="1">
            <a:off x="6874920" y="3572640"/>
            <a:ext cx="883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AutoShape 15"/>
          <p:cNvCxnSpPr/>
          <p:nvPr/>
        </p:nvCxnSpPr>
        <p:spPr>
          <a:xfrm flipH="1" flipV="1">
            <a:off x="1618560" y="3572640"/>
            <a:ext cx="881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AutoShape 14"/>
          <p:cNvCxnSpPr/>
          <p:nvPr/>
        </p:nvCxnSpPr>
        <p:spPr>
          <a:xfrm flipH="1">
            <a:off x="161892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AutoShape 14"/>
          <p:cNvCxnSpPr/>
          <p:nvPr/>
        </p:nvCxnSpPr>
        <p:spPr>
          <a:xfrm flipH="1">
            <a:off x="7740360" y="3573000"/>
            <a:ext cx="21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Rectangle 7"/>
          <p:cNvSpPr/>
          <p:nvPr/>
        </p:nvSpPr>
        <p:spPr>
          <a:xfrm>
            <a:off x="5940360" y="4437000"/>
            <a:ext cx="3052800" cy="389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=(2.5/100)*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15"/>
          <p:cNvCxnSpPr/>
          <p:nvPr/>
        </p:nvCxnSpPr>
        <p:spPr>
          <a:xfrm flipV="1">
            <a:off x="77407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4"/>
          <p:cNvCxnSpPr/>
          <p:nvPr/>
        </p:nvCxnSpPr>
        <p:spPr>
          <a:xfrm flipH="1" flipV="1">
            <a:off x="6442920" y="5732280"/>
            <a:ext cx="12978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AutoShape 15"/>
          <p:cNvCxnSpPr/>
          <p:nvPr/>
        </p:nvCxnSpPr>
        <p:spPr>
          <a:xfrm flipH="1" flipV="1">
            <a:off x="1618920" y="4868280"/>
            <a:ext cx="21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4"/>
          <p:cNvCxnSpPr/>
          <p:nvPr/>
        </p:nvCxnSpPr>
        <p:spPr>
          <a:xfrm flipV="1">
            <a:off x="1618920" y="5732280"/>
            <a:ext cx="11527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C21F-8FF6-475D-81FC-428BC12587A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9280" y="1699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efine the proble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uman though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Plan the problem solution. </a:t>
            </a:r>
            <a:r>
              <a:rPr b="0" lang="en-US" sz="3200" spc="-1" strike="noStrike">
                <a:solidFill>
                  <a:srgbClr val="b95b22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b95b22"/>
                </a:solidFill>
                <a:latin typeface="Tw Cen MT"/>
              </a:rPr>
              <a:t> writing the algorithm [pseudo-natural language (English, Arabic) or drawing the flowchart diagram)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d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High Level Programming Language (C, C++, Java, …)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ile the program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Machine Cod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4760" indent="-3236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0088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rom </a:t>
            </a:r>
            <a:r>
              <a:rPr b="1" i="1" lang="en-US" sz="4000" spc="-1" strike="noStrike">
                <a:solidFill>
                  <a:srgbClr val="775f55"/>
                </a:solidFill>
                <a:latin typeface="Tw Cen MT"/>
              </a:rPr>
              <a:t>Lec1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 we learn tha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58D5-3E2F-462B-9411-8FEB31AC3F0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 for a problem solution, algorithms are used to outline the solution steps us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5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31896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, which is a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code is a detailed description of what a computer program must do, expressed in an English like language rather than in a programming languag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D11C-9EAD-48DF-B8DD-6186871289C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seudocode Examp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C975-73A6-480E-AB2D-2D489DF1982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Write a Program to Print the Sum of two integer Numb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lowcha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 flowchart is a type of diagram that represents an algorithm , showing the steps as boxes of various kinds [ex: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rectangles, diamonds, oval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], and their order by connecting these with arrows.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1C4F-622D-4642-A3F7-6E7008917B9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Flowcharts Symbol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Slide Number Placeholder 7"/>
          <p:cNvSpPr/>
          <p:nvPr/>
        </p:nvSpPr>
        <p:spPr>
          <a:xfrm>
            <a:off x="0" y="206388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235E-398C-4468-8F80-9B3F0AAF4823}" type="slidenum">
              <a:rPr b="1" lang="ar-S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79280" y="5157720"/>
          <a:ext cx="8734680" cy="144000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79280" y="1987560"/>
          <a:ext cx="8734680" cy="64944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/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179280" y="263700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/P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79280" y="3357720"/>
          <a:ext cx="8734680" cy="720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hmetic 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79280" y="4149720"/>
          <a:ext cx="8734680" cy="936720"/>
        </p:xfrm>
        <a:graphic>
          <a:graphicData uri="http://schemas.openxmlformats.org/drawingml/2006/table">
            <a:tbl>
              <a:tblPr/>
              <a:tblGrid>
                <a:gridCol w="4464000"/>
                <a:gridCol w="42706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 , can be used with lo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AutoShape 67"/>
          <p:cNvSpPr/>
          <p:nvPr/>
        </p:nvSpPr>
        <p:spPr>
          <a:xfrm>
            <a:off x="2556000" y="206064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8"/>
          <p:cNvSpPr/>
          <p:nvPr/>
        </p:nvSpPr>
        <p:spPr>
          <a:xfrm>
            <a:off x="2556000" y="2708280"/>
            <a:ext cx="186984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9"/>
          <p:cNvSpPr/>
          <p:nvPr/>
        </p:nvSpPr>
        <p:spPr>
          <a:xfrm>
            <a:off x="2916360" y="3429000"/>
            <a:ext cx="136656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0"/>
          <p:cNvSpPr/>
          <p:nvPr/>
        </p:nvSpPr>
        <p:spPr>
          <a:xfrm>
            <a:off x="900000" y="2133720"/>
            <a:ext cx="1441440" cy="431640"/>
          </a:xfrm>
          <a:prstGeom prst="flowChartTerminator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1"/>
          <p:cNvSpPr/>
          <p:nvPr/>
        </p:nvSpPr>
        <p:spPr>
          <a:xfrm>
            <a:off x="539640" y="2708280"/>
            <a:ext cx="1944720" cy="358920"/>
          </a:xfrm>
          <a:prstGeom prst="flowChartInputOutput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2"/>
          <p:cNvSpPr/>
          <p:nvPr/>
        </p:nvSpPr>
        <p:spPr>
          <a:xfrm>
            <a:off x="900000" y="3429000"/>
            <a:ext cx="1729080" cy="574560"/>
          </a:xfrm>
          <a:prstGeom prst="flowChartProcess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= n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3"/>
          <p:cNvSpPr/>
          <p:nvPr/>
        </p:nvSpPr>
        <p:spPr>
          <a:xfrm>
            <a:off x="1403280" y="4292640"/>
            <a:ext cx="2230560" cy="576360"/>
          </a:xfrm>
          <a:prstGeom prst="flowChartDecision">
            <a:avLst/>
          </a:prstGeom>
          <a:solidFill>
            <a:srgbClr val="94b6d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4"/>
          <p:cNvSpPr/>
          <p:nvPr/>
        </p:nvSpPr>
        <p:spPr>
          <a:xfrm>
            <a:off x="3635280" y="4581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75"/>
          <p:cNvSpPr/>
          <p:nvPr/>
        </p:nvSpPr>
        <p:spPr>
          <a:xfrm>
            <a:off x="971640" y="4581360"/>
            <a:ext cx="43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7"/>
          <p:cNvSpPr/>
          <p:nvPr/>
        </p:nvSpPr>
        <p:spPr>
          <a:xfrm flipH="1">
            <a:off x="2627280" y="602136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78"/>
          <p:cNvSpPr/>
          <p:nvPr/>
        </p:nvSpPr>
        <p:spPr>
          <a:xfrm>
            <a:off x="2700360" y="558972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9"/>
          <p:cNvSpPr/>
          <p:nvPr/>
        </p:nvSpPr>
        <p:spPr>
          <a:xfrm>
            <a:off x="2268360" y="5589720"/>
            <a:ext cx="0" cy="501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0"/>
          <p:cNvSpPr/>
          <p:nvPr/>
        </p:nvSpPr>
        <p:spPr>
          <a:xfrm flipV="1">
            <a:off x="1908000" y="5589720"/>
            <a:ext cx="0" cy="574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4ADE-0E14-4EC0-9C00-F3CA5276B00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8432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aw a flowchart for a program that calcul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d print the  area and the perimeter of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 rectang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6227640" y="981000"/>
            <a:ext cx="2305080" cy="50328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5796000" y="1844640"/>
            <a:ext cx="3168720" cy="50472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L,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5796000" y="371628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= 2 (L+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96000" y="4581360"/>
            <a:ext cx="3168720" cy="43200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6012000" y="6093000"/>
            <a:ext cx="2736720" cy="576000"/>
          </a:xfrm>
          <a:prstGeom prst="flowChartTerminator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9"/>
          <p:cNvCxnSpPr>
            <a:stCxn id="446" idx="2"/>
            <a:endCxn id="447" idx="1"/>
          </p:cNvCxnSpPr>
          <p:nvPr/>
        </p:nvCxnSpPr>
        <p:spPr>
          <a:xfrm>
            <a:off x="7380000" y="1483920"/>
            <a:ext cx="1080" cy="3610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2" name="AutoShape 10"/>
          <p:cNvCxnSpPr>
            <a:stCxn id="447" idx="4"/>
            <a:endCxn id="453" idx="0"/>
          </p:cNvCxnSpPr>
          <p:nvPr/>
        </p:nvCxnSpPr>
        <p:spPr>
          <a:xfrm flipH="1">
            <a:off x="7379640" y="2349360"/>
            <a:ext cx="1080" cy="43272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4" name="AutoShape 11"/>
          <p:cNvCxnSpPr>
            <a:stCxn id="453" idx="2"/>
            <a:endCxn id="448" idx="0"/>
          </p:cNvCxnSpPr>
          <p:nvPr/>
        </p:nvCxnSpPr>
        <p:spPr>
          <a:xfrm>
            <a:off x="7380000" y="3314880"/>
            <a:ext cx="1080" cy="37368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5" name="AutoShape 12"/>
          <p:cNvCxnSpPr>
            <a:stCxn id="448" idx="2"/>
            <a:endCxn id="449" idx="1"/>
          </p:cNvCxnSpPr>
          <p:nvPr/>
        </p:nvCxnSpPr>
        <p:spPr>
          <a:xfrm>
            <a:off x="7380000" y="4249800"/>
            <a:ext cx="1080" cy="30384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cxnSp>
        <p:nvCxnSpPr>
          <p:cNvPr id="456" name="AutoShape 13"/>
          <p:cNvCxnSpPr>
            <a:stCxn id="457" idx="4"/>
            <a:endCxn id="450" idx="0"/>
          </p:cNvCxnSpPr>
          <p:nvPr/>
        </p:nvCxnSpPr>
        <p:spPr>
          <a:xfrm>
            <a:off x="7380000" y="5805000"/>
            <a:ext cx="1080" cy="28836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3" name="AutoShape 14"/>
          <p:cNvSpPr/>
          <p:nvPr/>
        </p:nvSpPr>
        <p:spPr>
          <a:xfrm>
            <a:off x="5796000" y="2781360"/>
            <a:ext cx="3168720" cy="504720"/>
          </a:xfrm>
          <a:prstGeom prst="flowChartProcess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= L * 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5796000" y="5373720"/>
            <a:ext cx="3168720" cy="431640"/>
          </a:xfrm>
          <a:prstGeom prst="flowChartInputOutput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16"/>
          <p:cNvCxnSpPr>
            <a:stCxn id="449" idx="4"/>
            <a:endCxn id="457" idx="1"/>
          </p:cNvCxnSpPr>
          <p:nvPr/>
        </p:nvCxnSpPr>
        <p:spPr>
          <a:xfrm>
            <a:off x="7380000" y="5041440"/>
            <a:ext cx="1080" cy="304200"/>
          </a:xfrm>
          <a:prstGeom prst="straightConnector1">
            <a:avLst/>
          </a:prstGeom>
          <a:ln w="19080">
            <a:solidFill>
              <a:srgbClr val="a25c32"/>
            </a:solidFill>
            <a:miter/>
            <a:tailEnd len="med" type="triangle" w="med"/>
          </a:ln>
        </p:spPr>
      </p:cxn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aw the flow chart for a program that calculates the total salary for an employee using this equatio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_Sal = Salary +Over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197D-26B5-478B-AF7F-E43ED923D4C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KSUOffice</cp:lastModifiedBy>
  <dcterms:modified xsi:type="dcterms:W3CDTF">2015-08-30T03:52:14Z</dcterms:modified>
  <cp:revision>9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