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dt" idx="2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ftr" idx="2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 type="sldNum" idx="2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B381-F8E2-4E17-812D-B15A91FDC3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6EFC-A189-44F4-828A-056AA01446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5ADC-D015-4E1F-BD09-02472C3DC1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2901-556B-4760-9DC8-E85B42C597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6DA5-4C39-4A9C-9C37-E04AC61132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C853-346B-4712-B623-9330D1CD97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3570-AED5-433F-95BF-F0E4C07C3B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50DC-0267-4804-94B4-3D164719E3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A5D9-CB42-4D57-A033-16EB7971DF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209F-E945-423D-B4D1-DCF33E0B51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2256-B686-4844-A404-7B5C5EC3F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51D5-7D28-4070-8F40-9AF7D1EDDB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8AD4-DFCA-4084-BB60-D0871608DD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50F1-D0EF-41D8-9106-0AE6AC08F4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AAC7-3FFA-418F-99E9-B4F326FF81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AEBC-F036-4975-A440-5D3FDDB7A3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9B91-3066-4101-9A17-488ACC740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BA34-30EE-42AC-96B3-C0322315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EBF352-A33A-497F-A49C-C5F638FCE04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902F39-FE64-4CBE-B239-8714CC27A71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ED29D0-D188-49FE-859E-3D3E7A3CC1B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BE9EEA-C27D-4C03-A0D0-31E5FDEB8BC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7D3E87-4681-4253-9137-D482A4EF321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514B0C-7396-4856-8FCF-60035EB5669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4A52FA-CC23-476A-9E47-6BCA1ED09FC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2D4946-D6C2-475F-968A-0145C22D1D8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56DED2-ED9B-483E-9982-7EE49224C2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7B69-4476-461A-B170-45C99EF41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DC45-CF62-4BAB-B8CE-2BA15B5B2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DE73-5D11-473C-A55C-FC34CE597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F6AE-5EA4-459F-BB8C-998C72FB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7B68-D841-4453-8983-B27A595D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23A4-1BE7-48AC-8B44-B073B7D1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97C5-9C52-44F3-B887-2CEAD550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F23D-2265-45DC-BE73-5759C923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6B15-38B7-4515-8B74-030514C4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C435-FBCF-4381-B532-25F336B3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132B-C18B-49AD-9E70-0BF9DCB0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352A-52AE-4FCC-A848-26426BBC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45E0-5E25-4184-9CED-294CE856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B91C-9C18-4F86-B86B-8175D4510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6101-66AE-407E-BCC5-D7372DCA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BCA5AB-CB9B-4DF9-9091-58A70880E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66AAB6-9049-4B05-8673-72A2B19A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329A5B-E475-47F9-A242-4C050196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36036E-0485-4ED8-A0ED-A29DFEF4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B46B48-5338-467C-AF2D-BC90225B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0F21-8FA2-455A-B35B-76A6A781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FB2F0F-B5F4-40EE-99C6-E58E55F2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AB4A54-50F1-4F3F-8C21-552AEE11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6CE7E1-347E-4870-A6D1-ADA929E2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6B8A99-2F48-4195-84AD-DC649A1E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E6BBDE-B762-4F3E-9468-57A906F1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C2CDAD-CFF7-43D3-8D82-DB32DF4B0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B24879-A80B-48D1-B502-E7C978F2C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8ED801-CD04-47E8-A96B-E4F87A373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75BFCD-9C4F-4DDC-B5BC-903F25CE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39C97B-94A3-459F-A5AA-327A131F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B6F6-CC88-43AE-9BC3-452A2FB8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8DD451-8528-4949-8B7C-9E546C07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AD8C5D-1A2E-4CA7-A048-3E9C6A7E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4A0958-F24E-4F16-B2F8-6E2D7630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5AA125-DB6C-4E3F-8949-0814342C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2633B5-EA7B-4A78-A335-A6AEE718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CBC3AE-9CED-47BB-ABF9-A42BDBCE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8D5B3B-9E91-4FC7-BDF8-A7CAF09C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B3FC07-3AB7-44D6-AC41-B78C48A3B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81584A-AAA0-4115-870D-168932A2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2F0083-ACA6-4995-9E65-26BE4A05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B307-2B77-4CAD-939D-B7D56455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28074F-FD0D-412D-9E0E-6F7A1C64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670352-B069-47D2-84E2-AF5EF705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C2B8A9-52AB-46AF-9D37-6BDFB137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866D94-664B-423F-A6C2-73510A5B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280B2C-448C-4AD4-B4C5-A03471BF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89EEB3-54FD-4D61-A2AF-8B191736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CC45E2-FFF1-4F39-A788-AD7F7E11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D6DEFE-648F-4478-A316-10FD57E6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5C094D-0D58-4717-B8ED-854AD9D2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6A98AF-5319-4F6A-A050-007A570C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7D7E-9CF6-41CC-A10E-5A8F35BA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10BA81-DF70-4FDD-A7E5-7437F55C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9820E-CBFC-4B59-B961-0EBDFCE8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681F2-8E93-4BAC-88F2-5EFD83FE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13562-4FF1-405D-A83D-325DFA22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0C0C2-897E-426B-88EA-176DC826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B1F22-3C98-4C97-B89C-6E233B9B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ADC83-F630-49AC-A39F-A20FAA39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1BE81-EF75-401A-954C-6CBB4F39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E0085-83AD-42C0-8532-BA83BA94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8D75B-7C15-482E-8157-E76AEBAE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96D6-FE84-4789-9048-CBDC908A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7A19F-7F7B-4DC7-8FBC-921E99A3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B20A4-79D2-422C-A56D-8CDBB5126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4758C-23D6-4053-B737-BD11A02D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B91937-F800-4925-A76B-02C3BB1E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E0EB7E-91F6-4AF4-A527-B55A6D3A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712901-DDC2-4017-BA99-B9C59623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BE7C6B-182B-4360-AB9C-18835CAD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735BDF-0CB8-454D-A95A-D10C3C75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1885CC-B097-4A12-A9D3-D64F0FAC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1E262A-3B8D-4720-A5A0-78A24E74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6B63-0D63-44A2-9A08-9373F583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57DB10-6FA1-4315-8008-104E8CA2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999A93-3F88-42E8-BD14-742D5BC2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222F1D-BA65-437B-958A-ECB67406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1A2381-BF83-42D2-81DD-11AAB08C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B68882-BDA8-419F-B7FA-50BCA5531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B3EF5-B899-40CD-932B-F42AFCE61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1B081-B4CF-4DA4-8497-F5F695DB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14AD7-D077-4235-AEAB-7EC6D5E2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4A1DE-374A-4A84-8E03-5BC5AA5B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DC7BB-BA5D-4776-A3CB-F4E8BAB3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84BE-5FD1-4F0A-8789-5A60953F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709CE-F1ED-45A7-B86D-3E149276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26D72-4358-4E71-88DD-7F5FE8E9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F6FA6-A571-4242-979B-D70C792A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EEE3A-95CE-4AD8-8B80-B163E767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04682-DBAD-4863-AA9B-7AF2D937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D472E-BF95-4AB6-9F31-02E35181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E099E-2C9E-4F5B-B1B7-A12B6047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48C100-3E31-4943-8EAF-3F5983A00EF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693360-4B55-4C6B-AB4A-2F04E360F5A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4D8C82-5D79-4FD5-AC30-1762B7A01D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183C-0982-47A8-89B9-A11A58CA7A3A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4843-3205-490B-9EBF-93673885329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74F8-1EFE-4DDA-9214-168EBBE01C82}" type="datetime">
              <a:rPr b="0" lang="en-US" sz="2000" spc="-1" strike="noStrike">
                <a:solidFill>
                  <a:srgbClr val="ffffff"/>
                </a:solidFill>
                <a:latin typeface="Tw Cen MT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EC25-3169-4418-9F69-58FEC1986A69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FC14-A87B-4A1B-8E48-A965E012D5FA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514B-FDC5-42EE-832D-2A257FC7B4D5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8F91-9DEE-4350-AB38-0C00DE0913DD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8332-981E-4881-8F2B-F60DA57694E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E73F-359D-4BCA-A896-D6952AE6897E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A496-CA91-4231-904E-77D1BC07655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E3F6-134A-4BCC-B51B-771F5D17945E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B0D2-2D3A-4578-851F-C8F92B462858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4766-DE11-4911-9224-7C9179D760E1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0A2B-D037-4ED5-9AF0-E3C642AF5BB6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3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A382-1C30-4C48-9F25-E73FB8740990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3EAF-08FD-4BF2-80A9-2E108DC4AD95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2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9DEA-1F1D-4FD6-B019-32E9AA798739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18920" y="4038480"/>
            <a:ext cx="72198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ebddc3"/>
                </a:solidFill>
                <a:latin typeface="Tw Cen MT"/>
                <a:ea typeface="Arial"/>
              </a:rPr>
              <a:t> </a:t>
            </a:r>
            <a:r>
              <a:rPr b="1" lang="en-US" sz="4000" spc="-1" strike="noStrike">
                <a:solidFill>
                  <a:srgbClr val="ebddc3"/>
                </a:solidFill>
                <a:latin typeface="Tw Cen MT"/>
                <a:ea typeface="Arial"/>
              </a:rPr>
              <a:t>C</a:t>
            </a: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HAPTER 1</a:t>
            </a:r>
            <a:br>
              <a:rPr sz="4000"/>
            </a:b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PSEUDOCODE &amp; FLOWCHARTS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1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w Cen MT"/>
              </a:rPr>
              <a:t>st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  Semester 1433-1434 H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2" name="Footer Placeholder 5"/>
          <p:cNvSpPr/>
          <p:nvPr/>
        </p:nvSpPr>
        <p:spPr>
          <a:xfrm>
            <a:off x="324000" y="1125360"/>
            <a:ext cx="586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King Saud University </a:t>
            </a:r>
            <a:br>
              <a:rPr sz="2000"/>
            </a:b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College Of Applied Studies and Community Services  </a:t>
            </a:r>
            <a:br>
              <a:rPr sz="2400"/>
            </a:b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CSC 1101</a:t>
            </a:r>
            <a:br>
              <a:rPr sz="2000"/>
            </a:b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Computer Programming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Done By: Asmal Alosai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Edited By: Noor Alhareqi &amp; Alaa Altheney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9C40-0502-4CC1-86E3-4CFAEA56509A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4"/>
          <p:cNvSpPr/>
          <p:nvPr/>
        </p:nvSpPr>
        <p:spPr>
          <a:xfrm>
            <a:off x="6227640" y="1557360"/>
            <a:ext cx="2305080" cy="503280"/>
          </a:xfrm>
          <a:prstGeom prst="flowChartTerminator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5"/>
          <p:cNvSpPr/>
          <p:nvPr/>
        </p:nvSpPr>
        <p:spPr>
          <a:xfrm>
            <a:off x="5975280" y="2421000"/>
            <a:ext cx="3168720" cy="504720"/>
          </a:xfrm>
          <a:prstGeom prst="flowChartInputOutput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Sa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5724360" y="5300640"/>
            <a:ext cx="3168720" cy="432000"/>
          </a:xfrm>
          <a:prstGeom prst="flowChartInputOutput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otal_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8"/>
          <p:cNvSpPr/>
          <p:nvPr/>
        </p:nvSpPr>
        <p:spPr>
          <a:xfrm>
            <a:off x="6012000" y="6093000"/>
            <a:ext cx="2736720" cy="576000"/>
          </a:xfrm>
          <a:prstGeom prst="flowChartTerminator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0" name="AutoShape 9"/>
          <p:cNvCxnSpPr/>
          <p:nvPr/>
        </p:nvCxnSpPr>
        <p:spPr>
          <a:xfrm flipH="1">
            <a:off x="7379640" y="2060640"/>
            <a:ext cx="1080" cy="28944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cxnSp>
        <p:nvCxnSpPr>
          <p:cNvPr id="471" name="AutoShape 10"/>
          <p:cNvCxnSpPr>
            <a:endCxn id="472" idx="0"/>
          </p:cNvCxnSpPr>
          <p:nvPr/>
        </p:nvCxnSpPr>
        <p:spPr>
          <a:xfrm flipH="1">
            <a:off x="7308000" y="3789360"/>
            <a:ext cx="1080" cy="21672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cxnSp>
        <p:nvCxnSpPr>
          <p:cNvPr id="473" name="AutoShape 12"/>
          <p:cNvCxnSpPr>
            <a:endCxn id="468" idx="1"/>
          </p:cNvCxnSpPr>
          <p:nvPr/>
        </p:nvCxnSpPr>
        <p:spPr>
          <a:xfrm>
            <a:off x="7308360" y="4968360"/>
            <a:ext cx="1080" cy="30420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cxnSp>
        <p:nvCxnSpPr>
          <p:cNvPr id="474" name="AutoShape 13"/>
          <p:cNvCxnSpPr>
            <a:endCxn id="469" idx="0"/>
          </p:cNvCxnSpPr>
          <p:nvPr/>
        </p:nvCxnSpPr>
        <p:spPr>
          <a:xfrm>
            <a:off x="7380000" y="5805000"/>
            <a:ext cx="1080" cy="28836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sp>
        <p:nvSpPr>
          <p:cNvPr id="472" name="AutoShape 14"/>
          <p:cNvSpPr/>
          <p:nvPr/>
        </p:nvSpPr>
        <p:spPr>
          <a:xfrm>
            <a:off x="5724360" y="4005360"/>
            <a:ext cx="3168720" cy="934920"/>
          </a:xfrm>
          <a:prstGeom prst="flowChartProcess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Total_Sal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Salary +Overtim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28036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Solu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755640" y="177336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Sa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Over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Total_Sal = Salary +Overtim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Total_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5796000" y="3213000"/>
            <a:ext cx="3168720" cy="505080"/>
          </a:xfrm>
          <a:prstGeom prst="flowChartInputOutput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Over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8" name="AutoShape 10"/>
          <p:cNvCxnSpPr/>
          <p:nvPr/>
        </p:nvCxnSpPr>
        <p:spPr>
          <a:xfrm flipH="1">
            <a:off x="7308000" y="2924280"/>
            <a:ext cx="1080" cy="21816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Example 3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0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DC1A-8973-420A-A971-E5D8749A2DD5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12720" y="1600200"/>
            <a:ext cx="8352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raw a flowchart for a program that determine if the temperature degree is above or below freezin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emp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heck if Temp is below the 3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below freezing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heck if Temp is above the 3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above freezing.   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int “below freezing” or “above freezing”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Solu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4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3B35-FEF1-4A24-A0C2-93D7851E8692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63272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 4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8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2BDA-E8A8-4B99-A4CA-26B2BD5FF0BB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raw a flowchart for a program that calculates the Zakat, where the user enter the amount of  money then the program show the zakat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Zakat =(2.5/100) * amount.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Zakat is not calculated if the amount is less than 1000 S.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Solu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mount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heck if amount is below 100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Zakat =0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heck if amount is above 1000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Zakat =(2.5/100) * amou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Zaka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F69E-B0FB-4774-B519-612F75908B26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Solu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6" name="Footer Placeholder 2"/>
          <p:cNvSpPr/>
          <p:nvPr/>
        </p:nvSpPr>
        <p:spPr>
          <a:xfrm>
            <a:off x="1792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5078-301C-4455-B5A6-81A3E29DC349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3"/>
          <p:cNvSpPr/>
          <p:nvPr/>
        </p:nvSpPr>
        <p:spPr>
          <a:xfrm>
            <a:off x="2984400" y="1628640"/>
            <a:ext cx="3181320" cy="403200"/>
          </a:xfrm>
          <a:prstGeom prst="ellipse">
            <a:avLst/>
          </a:prstGeom>
          <a:gradFill rotWithShape="0">
            <a:gsLst>
              <a:gs pos="0">
                <a:srgbClr val="b2a1c7"/>
              </a:gs>
              <a:gs pos="50000">
                <a:srgbClr val="8064a2"/>
              </a:gs>
              <a:gs pos="100000">
                <a:srgbClr val="b2a1c7"/>
              </a:gs>
            </a:gsLst>
            <a:lin ang="5400000"/>
          </a:gra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4"/>
          <p:cNvSpPr/>
          <p:nvPr/>
        </p:nvSpPr>
        <p:spPr>
          <a:xfrm>
            <a:off x="2984400" y="6267600"/>
            <a:ext cx="3181320" cy="401400"/>
          </a:xfrm>
          <a:prstGeom prst="ellipse">
            <a:avLst/>
          </a:prstGeom>
          <a:gradFill rotWithShape="0">
            <a:gsLst>
              <a:gs pos="0">
                <a:srgbClr val="b2a1c7"/>
              </a:gs>
              <a:gs pos="50000">
                <a:srgbClr val="8064a2"/>
              </a:gs>
              <a:gs pos="100000">
                <a:srgbClr val="b2a1c7"/>
              </a:gs>
            </a:gsLst>
            <a:lin ang="5400000"/>
          </a:gra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6"/>
          <p:cNvSpPr/>
          <p:nvPr/>
        </p:nvSpPr>
        <p:spPr>
          <a:xfrm>
            <a:off x="2500200" y="2990880"/>
            <a:ext cx="4372200" cy="1069920"/>
          </a:xfrm>
          <a:prstGeom prst="diamond">
            <a:avLst/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mount &gt;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324000" y="4408560"/>
            <a:ext cx="2952720" cy="388800"/>
          </a:xfrm>
          <a:prstGeom prst="rect">
            <a:avLst/>
          </a:prstGeom>
          <a:gradFill rotWithShape="0">
            <a:gsLst>
              <a:gs pos="0">
                <a:srgbClr val="92cddc"/>
              </a:gs>
              <a:gs pos="50000">
                <a:srgbClr val="4bacc6"/>
              </a:gs>
              <a:gs pos="100000">
                <a:srgbClr val="92cddc"/>
              </a:gs>
            </a:gsLst>
            <a:lin ang="5400000"/>
          </a:gradFill>
          <a:ln w="12600">
            <a:solidFill>
              <a:srgbClr val="4bacc6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ak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=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9"/>
          <p:cNvSpPr/>
          <p:nvPr/>
        </p:nvSpPr>
        <p:spPr>
          <a:xfrm>
            <a:off x="2629080" y="5424480"/>
            <a:ext cx="4246560" cy="414360"/>
          </a:xfrm>
          <a:prstGeom prst="parallelogram">
            <a:avLst>
              <a:gd name="adj" fmla="val 178020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Print Zak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3" name="AutoShape 10"/>
          <p:cNvCxnSpPr/>
          <p:nvPr/>
        </p:nvCxnSpPr>
        <p:spPr>
          <a:xfrm>
            <a:off x="4700160" y="20300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4" name="AutoShape 11"/>
          <p:cNvCxnSpPr/>
          <p:nvPr/>
        </p:nvCxnSpPr>
        <p:spPr>
          <a:xfrm>
            <a:off x="4700160" y="2687760"/>
            <a:ext cx="1080" cy="3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5" name="AutoShape 14"/>
          <p:cNvCxnSpPr/>
          <p:nvPr/>
        </p:nvCxnSpPr>
        <p:spPr>
          <a:xfrm>
            <a:off x="4700160" y="5838480"/>
            <a:ext cx="108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6" name="Rectangle 19"/>
          <p:cNvSpPr/>
          <p:nvPr/>
        </p:nvSpPr>
        <p:spPr>
          <a:xfrm>
            <a:off x="6748560" y="2946240"/>
            <a:ext cx="1133280" cy="403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f6eb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961920" y="3051000"/>
            <a:ext cx="1133640" cy="403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f6eb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9"/>
          <p:cNvSpPr/>
          <p:nvPr/>
        </p:nvSpPr>
        <p:spPr>
          <a:xfrm>
            <a:off x="2630520" y="2367000"/>
            <a:ext cx="4245120" cy="414360"/>
          </a:xfrm>
          <a:prstGeom prst="parallelogram">
            <a:avLst>
              <a:gd name="adj" fmla="val 177959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ad am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9" name="AutoShape 15"/>
          <p:cNvCxnSpPr/>
          <p:nvPr/>
        </p:nvCxnSpPr>
        <p:spPr>
          <a:xfrm flipH="1" flipV="1">
            <a:off x="6874920" y="3572640"/>
            <a:ext cx="8830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0" name="AutoShape 15"/>
          <p:cNvCxnSpPr/>
          <p:nvPr/>
        </p:nvCxnSpPr>
        <p:spPr>
          <a:xfrm flipH="1" flipV="1">
            <a:off x="1618560" y="3572640"/>
            <a:ext cx="8816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1" name="AutoShape 14"/>
          <p:cNvCxnSpPr/>
          <p:nvPr/>
        </p:nvCxnSpPr>
        <p:spPr>
          <a:xfrm flipH="1">
            <a:off x="1618920" y="3573000"/>
            <a:ext cx="216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AutoShape 14"/>
          <p:cNvCxnSpPr/>
          <p:nvPr/>
        </p:nvCxnSpPr>
        <p:spPr>
          <a:xfrm flipH="1">
            <a:off x="7740360" y="3573000"/>
            <a:ext cx="216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Rectangle 7"/>
          <p:cNvSpPr/>
          <p:nvPr/>
        </p:nvSpPr>
        <p:spPr>
          <a:xfrm>
            <a:off x="5940360" y="4437000"/>
            <a:ext cx="3052800" cy="389160"/>
          </a:xfrm>
          <a:prstGeom prst="rect">
            <a:avLst/>
          </a:prstGeom>
          <a:gradFill rotWithShape="0">
            <a:gsLst>
              <a:gs pos="0">
                <a:srgbClr val="92cddc"/>
              </a:gs>
              <a:gs pos="50000">
                <a:srgbClr val="4bacc6"/>
              </a:gs>
              <a:gs pos="100000">
                <a:srgbClr val="92cddc"/>
              </a:gs>
            </a:gsLst>
            <a:lin ang="5400000"/>
          </a:gradFill>
          <a:ln w="12600">
            <a:solidFill>
              <a:srgbClr val="4bacc6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ak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=(2.5/100)*am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4" name="AutoShape 15"/>
          <p:cNvCxnSpPr/>
          <p:nvPr/>
        </p:nvCxnSpPr>
        <p:spPr>
          <a:xfrm flipV="1">
            <a:off x="7740720" y="4868280"/>
            <a:ext cx="2160" cy="88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5" name="AutoShape 14"/>
          <p:cNvCxnSpPr/>
          <p:nvPr/>
        </p:nvCxnSpPr>
        <p:spPr>
          <a:xfrm flipH="1" flipV="1">
            <a:off x="6442920" y="5732280"/>
            <a:ext cx="129780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6" name="AutoShape 15"/>
          <p:cNvCxnSpPr/>
          <p:nvPr/>
        </p:nvCxnSpPr>
        <p:spPr>
          <a:xfrm flipH="1" flipV="1">
            <a:off x="1618920" y="4868280"/>
            <a:ext cx="2160" cy="88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7" name="AutoShape 14"/>
          <p:cNvCxnSpPr/>
          <p:nvPr/>
        </p:nvCxnSpPr>
        <p:spPr>
          <a:xfrm flipV="1">
            <a:off x="1618920" y="5732280"/>
            <a:ext cx="11527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Levels of Program Developmen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Footer Placeholder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560D-EFE3-48E4-BDF9-549C0686F09B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79280" y="1699920"/>
            <a:ext cx="8686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lvl="1" marL="554760" indent="-323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efine the problem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uman though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54760" indent="-323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5b22"/>
                </a:solidFill>
                <a:latin typeface="Tw Cen MT"/>
              </a:rPr>
              <a:t>Plan the problem solution. </a:t>
            </a:r>
            <a:r>
              <a:rPr b="0" lang="en-US" sz="3200" spc="-1" strike="noStrike">
                <a:solidFill>
                  <a:srgbClr val="b95b22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b95b22"/>
                </a:solidFill>
                <a:latin typeface="Tw Cen MT"/>
              </a:rPr>
              <a:t> writing the algorithm [pseudo-natural language (English, Arabic) or drawing the flowchart diagram).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54760" indent="-323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ode the program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High Level Programming Language (C, C++, Java, …)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54760" indent="-323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ompile the program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Machine Cod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54760" indent="-323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Run the program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54760" indent="-323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est and debug the program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00880" indent="-2008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00880" indent="-200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From </a:t>
            </a:r>
            <a:r>
              <a:rPr b="1" i="1" lang="en-US" sz="4000" spc="-1" strike="noStrike">
                <a:solidFill>
                  <a:srgbClr val="775f55"/>
                </a:solidFill>
                <a:latin typeface="Tw Cen MT"/>
              </a:rPr>
              <a:t>Lec1</a:t>
            </a: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 we learn tha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FC9C-26E4-483C-9CDF-90CBD5AB169E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85800" y="1600200"/>
            <a:ext cx="820728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hen planning for a problem solution, algorithms are used to outline the solution steps us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1896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w Cen MT"/>
              </a:rPr>
              <a:t>English like statements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, called </a:t>
            </a:r>
            <a:r>
              <a:rPr b="1" i="1" lang="en-US" sz="2500" spc="-1" strike="noStrike">
                <a:solidFill>
                  <a:srgbClr val="b95b22"/>
                </a:solidFill>
                <a:latin typeface="Tw Cen MT"/>
              </a:rPr>
              <a:t>pseudocode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1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or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1896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A </a:t>
            </a:r>
            <a:r>
              <a:rPr b="1" i="1" lang="en-US" sz="2800" spc="-1" strike="noStrike">
                <a:solidFill>
                  <a:srgbClr val="b95b22"/>
                </a:solidFill>
                <a:latin typeface="Tw Cen MT"/>
                <a:ea typeface="Arial"/>
              </a:rPr>
              <a:t>flowchart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 , which is a graphical representation of an algorithm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Pseudoco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seudocode is a detailed description of what a computer program must do, expressed in an English like language rather than in a programming languag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FE82-0874-41AE-912E-9AC94491E84F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Pseudocode Example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6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3456-0747-4698-9957-0E1CD6A63AFE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Write a Program to Print the Sum of two integer Number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Start the program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ead the first number and save in  the variable ( N1 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ead the second number and save in the variable ( N2 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Sum the both numbers and save the result in the variable ( Sum )   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Sum = N1 + N2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Print the variable ( Sum )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End the program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Flowchart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 flowchart is a type of diagram that represents an algorithm , showing the steps as boxes of various kinds [ex: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rectangles, diamonds, oval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], and their order by connecting these with arrows. 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7144-F889-4BAA-9294-3F1C023F7E16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Flowcharts Symbol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4" name="Slide Number Placeholder 7"/>
          <p:cNvSpPr/>
          <p:nvPr/>
        </p:nvSpPr>
        <p:spPr>
          <a:xfrm>
            <a:off x="0" y="206388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1DE2-D79B-4792-BD3C-CEADE5D3BFE6}" type="slidenum">
              <a:rPr b="1" lang="ar-SA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179280" y="5157720"/>
          <a:ext cx="8734680" cy="1440000"/>
        </p:xfrm>
        <a:graphic>
          <a:graphicData uri="http://schemas.openxmlformats.org/drawingml/2006/table">
            <a:tbl>
              <a:tblPr/>
              <a:tblGrid>
                <a:gridCol w="4464000"/>
                <a:gridCol w="4270680"/>
              </a:tblGrid>
              <a:tr h="144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179280" y="1987560"/>
          <a:ext cx="8734680" cy="649440"/>
        </p:xfrm>
        <a:graphic>
          <a:graphicData uri="http://schemas.openxmlformats.org/drawingml/2006/table">
            <a:tbl>
              <a:tblPr/>
              <a:tblGrid>
                <a:gridCol w="4464000"/>
                <a:gridCol w="4270680"/>
              </a:tblGrid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/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7" name=""/>
          <p:cNvGraphicFramePr/>
          <p:nvPr/>
        </p:nvGraphicFramePr>
        <p:xfrm>
          <a:off x="179280" y="2637000"/>
          <a:ext cx="8734680" cy="720720"/>
        </p:xfrm>
        <a:graphic>
          <a:graphicData uri="http://schemas.openxmlformats.org/drawingml/2006/table">
            <a:tbl>
              <a:tblPr/>
              <a:tblGrid>
                <a:gridCol w="4464000"/>
                <a:gridCol w="427068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/Pri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179280" y="3357720"/>
          <a:ext cx="8734680" cy="720720"/>
        </p:xfrm>
        <a:graphic>
          <a:graphicData uri="http://schemas.openxmlformats.org/drawingml/2006/table">
            <a:tbl>
              <a:tblPr/>
              <a:tblGrid>
                <a:gridCol w="4464000"/>
                <a:gridCol w="427068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ithmetic Oper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179280" y="4149720"/>
          <a:ext cx="8734680" cy="936720"/>
        </p:xfrm>
        <a:graphic>
          <a:graphicData uri="http://schemas.openxmlformats.org/drawingml/2006/table">
            <a:tbl>
              <a:tblPr/>
              <a:tblGrid>
                <a:gridCol w="4464000"/>
                <a:gridCol w="4270680"/>
              </a:tblGrid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ision , can be used with loo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AutoShape 67"/>
          <p:cNvSpPr/>
          <p:nvPr/>
        </p:nvSpPr>
        <p:spPr>
          <a:xfrm>
            <a:off x="2556000" y="2060640"/>
            <a:ext cx="1441440" cy="431640"/>
          </a:xfrm>
          <a:prstGeom prst="flowChartTerminator">
            <a:avLst/>
          </a:prstGeom>
          <a:solidFill>
            <a:srgbClr val="94b6d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68"/>
          <p:cNvSpPr/>
          <p:nvPr/>
        </p:nvSpPr>
        <p:spPr>
          <a:xfrm>
            <a:off x="2556000" y="2708280"/>
            <a:ext cx="1869840" cy="358920"/>
          </a:xfrm>
          <a:prstGeom prst="flowChartInputOutput">
            <a:avLst/>
          </a:prstGeom>
          <a:solidFill>
            <a:srgbClr val="94b6d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n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69"/>
          <p:cNvSpPr/>
          <p:nvPr/>
        </p:nvSpPr>
        <p:spPr>
          <a:xfrm>
            <a:off x="2916360" y="3429000"/>
            <a:ext cx="1366560" cy="574560"/>
          </a:xfrm>
          <a:prstGeom prst="flowChartProcess">
            <a:avLst/>
          </a:prstGeom>
          <a:solidFill>
            <a:srgbClr val="94b6d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70"/>
          <p:cNvSpPr/>
          <p:nvPr/>
        </p:nvSpPr>
        <p:spPr>
          <a:xfrm>
            <a:off x="900000" y="2133720"/>
            <a:ext cx="1441440" cy="431640"/>
          </a:xfrm>
          <a:prstGeom prst="flowChartTerminator">
            <a:avLst/>
          </a:prstGeom>
          <a:solidFill>
            <a:srgbClr val="94b6d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71"/>
          <p:cNvSpPr/>
          <p:nvPr/>
        </p:nvSpPr>
        <p:spPr>
          <a:xfrm>
            <a:off x="539640" y="2708280"/>
            <a:ext cx="1944720" cy="358920"/>
          </a:xfrm>
          <a:prstGeom prst="flowChartInputOutput">
            <a:avLst/>
          </a:prstGeom>
          <a:solidFill>
            <a:srgbClr val="94b6d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n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72"/>
          <p:cNvSpPr/>
          <p:nvPr/>
        </p:nvSpPr>
        <p:spPr>
          <a:xfrm>
            <a:off x="900000" y="3429000"/>
            <a:ext cx="1729080" cy="574560"/>
          </a:xfrm>
          <a:prstGeom prst="flowChartProcess">
            <a:avLst/>
          </a:prstGeom>
          <a:solidFill>
            <a:srgbClr val="94b6d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 = n1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73"/>
          <p:cNvSpPr/>
          <p:nvPr/>
        </p:nvSpPr>
        <p:spPr>
          <a:xfrm>
            <a:off x="1403280" y="4292640"/>
            <a:ext cx="2230560" cy="576360"/>
          </a:xfrm>
          <a:prstGeom prst="flowChartDecision">
            <a:avLst/>
          </a:prstGeom>
          <a:solidFill>
            <a:srgbClr val="94b6d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 &gt;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74"/>
          <p:cNvSpPr/>
          <p:nvPr/>
        </p:nvSpPr>
        <p:spPr>
          <a:xfrm>
            <a:off x="3635280" y="4581360"/>
            <a:ext cx="43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75"/>
          <p:cNvSpPr/>
          <p:nvPr/>
        </p:nvSpPr>
        <p:spPr>
          <a:xfrm>
            <a:off x="971640" y="4581360"/>
            <a:ext cx="4316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77"/>
          <p:cNvSpPr/>
          <p:nvPr/>
        </p:nvSpPr>
        <p:spPr>
          <a:xfrm flipH="1">
            <a:off x="2627280" y="6021360"/>
            <a:ext cx="1224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78"/>
          <p:cNvSpPr/>
          <p:nvPr/>
        </p:nvSpPr>
        <p:spPr>
          <a:xfrm>
            <a:off x="2700360" y="558972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79"/>
          <p:cNvSpPr/>
          <p:nvPr/>
        </p:nvSpPr>
        <p:spPr>
          <a:xfrm>
            <a:off x="2268360" y="5589720"/>
            <a:ext cx="0" cy="501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80"/>
          <p:cNvSpPr/>
          <p:nvPr/>
        </p:nvSpPr>
        <p:spPr>
          <a:xfrm flipV="1">
            <a:off x="1908000" y="5589720"/>
            <a:ext cx="0" cy="574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D7B3-E6A5-4A9F-83CA-05071FD4261F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84320" y="1699920"/>
            <a:ext cx="77724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Draw a flowchart for a program that calculat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and print the  area and the perimeter of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a rectangle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idt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rea = length*width  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imeter = 2*( length + width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rea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imet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AutoShape 4"/>
          <p:cNvSpPr/>
          <p:nvPr/>
        </p:nvSpPr>
        <p:spPr>
          <a:xfrm>
            <a:off x="6227640" y="981000"/>
            <a:ext cx="2305080" cy="503280"/>
          </a:xfrm>
          <a:prstGeom prst="flowChartTerminator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5"/>
          <p:cNvSpPr/>
          <p:nvPr/>
        </p:nvSpPr>
        <p:spPr>
          <a:xfrm>
            <a:off x="5796000" y="1844640"/>
            <a:ext cx="3168720" cy="504720"/>
          </a:xfrm>
          <a:prstGeom prst="flowChartInputOutput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L,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6"/>
          <p:cNvSpPr/>
          <p:nvPr/>
        </p:nvSpPr>
        <p:spPr>
          <a:xfrm>
            <a:off x="5796000" y="3716280"/>
            <a:ext cx="3168720" cy="504720"/>
          </a:xfrm>
          <a:prstGeom prst="flowChartProcess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meter = 2 (L+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7"/>
          <p:cNvSpPr/>
          <p:nvPr/>
        </p:nvSpPr>
        <p:spPr>
          <a:xfrm>
            <a:off x="5796000" y="4581360"/>
            <a:ext cx="3168720" cy="432000"/>
          </a:xfrm>
          <a:prstGeom prst="flowChartInputOutput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8"/>
          <p:cNvSpPr/>
          <p:nvPr/>
        </p:nvSpPr>
        <p:spPr>
          <a:xfrm>
            <a:off x="6012000" y="6093000"/>
            <a:ext cx="2736720" cy="576000"/>
          </a:xfrm>
          <a:prstGeom prst="flowChartTerminator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AutoShape 9"/>
          <p:cNvCxnSpPr>
            <a:stCxn id="446" idx="2"/>
            <a:endCxn id="447" idx="1"/>
          </p:cNvCxnSpPr>
          <p:nvPr/>
        </p:nvCxnSpPr>
        <p:spPr>
          <a:xfrm>
            <a:off x="7380000" y="1483920"/>
            <a:ext cx="1080" cy="36108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cxnSp>
        <p:nvCxnSpPr>
          <p:cNvPr id="452" name="AutoShape 10"/>
          <p:cNvCxnSpPr>
            <a:stCxn id="447" idx="4"/>
            <a:endCxn id="453" idx="0"/>
          </p:cNvCxnSpPr>
          <p:nvPr/>
        </p:nvCxnSpPr>
        <p:spPr>
          <a:xfrm flipH="1">
            <a:off x="7379640" y="2349360"/>
            <a:ext cx="1080" cy="43272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cxnSp>
        <p:nvCxnSpPr>
          <p:cNvPr id="454" name="AutoShape 11"/>
          <p:cNvCxnSpPr>
            <a:stCxn id="453" idx="2"/>
            <a:endCxn id="448" idx="0"/>
          </p:cNvCxnSpPr>
          <p:nvPr/>
        </p:nvCxnSpPr>
        <p:spPr>
          <a:xfrm>
            <a:off x="7380000" y="3314880"/>
            <a:ext cx="1080" cy="37368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cxnSp>
        <p:nvCxnSpPr>
          <p:cNvPr id="455" name="AutoShape 12"/>
          <p:cNvCxnSpPr>
            <a:stCxn id="448" idx="2"/>
            <a:endCxn id="449" idx="1"/>
          </p:cNvCxnSpPr>
          <p:nvPr/>
        </p:nvCxnSpPr>
        <p:spPr>
          <a:xfrm>
            <a:off x="7380000" y="4249800"/>
            <a:ext cx="1080" cy="30384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cxnSp>
        <p:nvCxnSpPr>
          <p:cNvPr id="456" name="AutoShape 13"/>
          <p:cNvCxnSpPr>
            <a:stCxn id="457" idx="4"/>
            <a:endCxn id="450" idx="0"/>
          </p:cNvCxnSpPr>
          <p:nvPr/>
        </p:nvCxnSpPr>
        <p:spPr>
          <a:xfrm>
            <a:off x="7380000" y="5805000"/>
            <a:ext cx="1080" cy="28836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sp>
        <p:nvSpPr>
          <p:cNvPr id="453" name="AutoShape 14"/>
          <p:cNvSpPr/>
          <p:nvPr/>
        </p:nvSpPr>
        <p:spPr>
          <a:xfrm>
            <a:off x="5796000" y="2781360"/>
            <a:ext cx="3168720" cy="504720"/>
          </a:xfrm>
          <a:prstGeom prst="flowChartProcess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= L * 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15"/>
          <p:cNvSpPr/>
          <p:nvPr/>
        </p:nvSpPr>
        <p:spPr>
          <a:xfrm>
            <a:off x="5796000" y="5373720"/>
            <a:ext cx="3168720" cy="431640"/>
          </a:xfrm>
          <a:prstGeom prst="flowChartInputOutput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per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8" name="AutoShape 16"/>
          <p:cNvCxnSpPr>
            <a:stCxn id="449" idx="4"/>
            <a:endCxn id="457" idx="1"/>
          </p:cNvCxnSpPr>
          <p:nvPr/>
        </p:nvCxnSpPr>
        <p:spPr>
          <a:xfrm>
            <a:off x="7380000" y="5041440"/>
            <a:ext cx="1080" cy="30420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Solu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Example 2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181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raw the flow chart for a program that calculates the total salary for an employee using this equation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tal_Sal = Salary +Overti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0E54-15C6-40D3-AF51-18329E39CD0C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1:23:47Z</dcterms:created>
  <dc:creator>user</dc:creator>
  <dc:description/>
  <dc:language>en-US</dc:language>
  <cp:lastModifiedBy>KSUOffice</cp:lastModifiedBy>
  <dcterms:modified xsi:type="dcterms:W3CDTF">2015-08-30T03:52:14Z</dcterms:modified>
  <cp:revision>9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6DA1098C655300498A04611AF6A7E116</vt:lpwstr>
  </property>
</Properties>
</file>