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66C-4466-4490-8030-E3A8B5F1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F2A-BC13-4F32-9C66-6218EF0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8AD-B544-4560-AB0B-793BC237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AD8-986F-41CE-A0B7-3CE0F4C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576-0B87-4F02-AD13-5C735D1E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3CC2-502A-42B1-8AED-276C159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C3A-00A6-44EE-8B7D-974F036B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E60-8426-4471-B75F-18C404BE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A3A-F14D-45F6-AD69-FCD5EBF8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8973-2A70-456C-88FF-3C4E3D2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0DC6-ACFF-464F-8363-6A7C665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581-3D47-4DC2-9CAB-50BCBE76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161-CC9B-439A-BAE6-E7A0F31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0883-48CB-421B-8CF9-0A79422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A79B-F41B-4A84-8FC6-1073A9F3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E193-A93E-4F6F-84D4-28E293BE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3596-A0C4-49E6-9D7E-8DB8B659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C87-E403-48D9-BE8A-805E783C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5E6-508B-41C8-A11D-994DC0E3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C43-CA36-40FA-BF00-81A918CA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2B7-56F6-4D05-BF55-D361FCAB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39B-19D6-4C95-9689-4FCF804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A7E-6631-4EC1-9BEF-B8FE71B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0B8-8781-44B1-8858-46EC357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643-E10F-4CA8-8BF5-176EDC630E02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62C-12E0-43AB-A782-4B93E6D28B23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++ Basic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Lecture 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Input Using ci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n  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Variable_1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Variable_2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gt;&g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…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in &gt;&gt; number &gt;&gt; siz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in &gt;&gt; grade1   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&gt;&gt; grade2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343400"/>
            <a:ext cx="3505320" cy="132300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cin &gt;&gt; grade1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cin &gt;&gt; grade2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Output Using cou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ut  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ariable_or_string_1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V</a:t>
            </a:r>
            <a:r>
              <a:rPr b="0" i="1" lang="en-US" sz="2400" spc="-1" strike="noStrike">
                <a:solidFill>
                  <a:srgbClr val="6600cc"/>
                </a:solidFill>
                <a:latin typeface="Times New Roman"/>
              </a:rPr>
              <a:t>ariable_or_string_2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&lt;&lt; 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…  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 &lt;&lt; number &lt;&lt; siz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 &lt;&lt; “Hello \n”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clude directiv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ing directive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amespaces (collection of names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4240" y="3733920"/>
            <a:ext cx="3646440" cy="116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# include &lt;iostream&gt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scape Sequenc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backslash \ preceding a character tells the compiler that the sequence following the \ doesn’t have the same meaning as the character appearing by itself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New_lin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n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orizontal tab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ler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ackslash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\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uble quot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\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thers: v, b, r, ?, :, \000, \xhhh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ew line &amp; Blank lin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“\n”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end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f you could include the \n at the end of a longer string, then use \n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f the \n would appear by itself as the short string “\n”, then use endl instead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rmatting numbers with a decimal poin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uble price = 84.50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&lt;&lt; “The price is $” &lt;&lt; price&lt;&lt;end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6360" y="3581280"/>
            <a:ext cx="260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8160" y="4343400"/>
            <a:ext cx="3448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0000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6720" y="5105520"/>
            <a:ext cx="27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8520" y="5867280"/>
            <a:ext cx="361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The price is $84.5000e0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gic Formul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setf (ios::fixed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setf(ios::showpoint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.precision(2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514600"/>
            <a:ext cx="4724640" cy="266688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ine Breaks in I/O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 can keep input and output on the same line by omitting the \n or endl at the end of the last prompt lin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&lt;&lt; “Enter the cost per person: $”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  &gt;&gt; cost_per_person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1320" y="6019920"/>
            <a:ext cx="598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Enter the cost per person: $5.40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790640"/>
            <a:ext cx="3962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Your local department store is having its annual sale. Write a program that calculates the sale price for items in the store. The program should prompt the user for the original price and the discount (10%, 25%, etc.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124600" y="1752480"/>
          <a:ext cx="401940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600" y="1752480"/>
                    <a:ext cx="40194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952880" y="1523880"/>
          <a:ext cx="40197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523880"/>
                    <a:ext cx="40197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3000" y="1766880"/>
            <a:ext cx="66294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include &lt;iostream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double discount,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Enter the price of the item: $"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in&gt;&gt;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Enter the discount for the this item: %"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in&gt;&gt; discoun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price = price - (price * discount/100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setf (ios::fixed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setf(ios::showpoint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.precision(2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"\nThe sale price for your item is: $"&lt;&lt; price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cout&lt;&lt;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ograms manipulate data such as numbers and lette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++ uses variables to name &amp; store dat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8120" y="3809880"/>
            <a:ext cx="1486800" cy="520560"/>
          </a:xfrm>
          <a:prstGeom prst="rect">
            <a:avLst/>
          </a:prstGeom>
          <a:solidFill>
            <a:srgbClr val="f9d8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36960" y="4354560"/>
            <a:ext cx="2055240" cy="1663560"/>
            <a:chOff x="1236960" y="4354560"/>
            <a:chExt cx="2055240" cy="1663560"/>
          </a:xfrm>
        </p:grpSpPr>
        <p:sp>
          <p:nvSpPr>
            <p:cNvPr id="96" name=""/>
            <p:cNvSpPr/>
            <p:nvPr/>
          </p:nvSpPr>
          <p:spPr>
            <a:xfrm>
              <a:off x="1236960" y="5192640"/>
              <a:ext cx="155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(Identifier)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225520" y="4354560"/>
              <a:ext cx="1066680" cy="6854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92560" y="4354560"/>
            <a:ext cx="2104560" cy="1221840"/>
            <a:chOff x="3292560" y="4354560"/>
            <a:chExt cx="2104560" cy="1221840"/>
          </a:xfrm>
        </p:grpSpPr>
        <p:sp>
          <p:nvSpPr>
            <p:cNvPr id="99" name=""/>
            <p:cNvSpPr/>
            <p:nvPr/>
          </p:nvSpPr>
          <p:spPr>
            <a:xfrm>
              <a:off x="4439160" y="511668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3939"/>
                  </a:solidFill>
                  <a:latin typeface="Arial"/>
                </a:rPr>
                <a:t>Valu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92560" y="4354560"/>
              <a:ext cx="1143000" cy="6098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98400" y="3886200"/>
            <a:ext cx="2451960" cy="2136240"/>
            <a:chOff x="6098400" y="3886200"/>
            <a:chExt cx="2451960" cy="2136240"/>
          </a:xfrm>
        </p:grpSpPr>
        <p:grpSp>
          <p:nvGrpSpPr>
            <p:cNvPr id="102" name=""/>
            <p:cNvGrpSpPr/>
            <p:nvPr/>
          </p:nvGrpSpPr>
          <p:grpSpPr>
            <a:xfrm>
              <a:off x="7102440" y="4608360"/>
              <a:ext cx="1447920" cy="1371600"/>
              <a:chOff x="7102440" y="4608360"/>
              <a:chExt cx="1447920" cy="137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7102440" y="46083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02440" y="50655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02440" y="5522760"/>
                <a:ext cx="1447920" cy="457200"/>
              </a:xfrm>
              <a:prstGeom prst="bevel">
                <a:avLst>
                  <a:gd name="adj" fmla="val 12500"/>
                </a:avLst>
              </a:prstGeom>
              <a:solidFill>
                <a:srgbClr val="f9d87e">
                  <a:alpha val="50000"/>
                </a:srgbClr>
              </a:solidFill>
              <a:ln w="936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93939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98400" y="4572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num1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4360" y="38862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93939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8400" y="51055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num2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8880" y="46483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123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51055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456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8760" y="556272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2704"/>
                  </a:solidFill>
                  <a:latin typeface="Arial"/>
                </a:rPr>
                <a:t>grad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8880" y="5562720"/>
              <a:ext cx="6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rite a Program to convert a temperature in degrees Fahrenheit to degree Celcius.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ata Requiremen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blem inpu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Fahrenhei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blem OutPu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loat Celciu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elcius = (5/9) * (faherenheit – 32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b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rite a Program to read two data items and print their sum, difference, product, and quotient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rite a program that reads in the length and width of a rectangular yard and the length and width of a rectangular house situated in the yard. Your program should compute the time required to cut the grass at the rate of 2 square meters per second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ariable Declara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Type_Name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93939"/>
                </a:solidFill>
                <a:latin typeface="Times New Roman"/>
              </a:rPr>
              <a:t>Variable_Name1, Variable_Name_2, …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nt, total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double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ice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ll variables must be declared before they are used in the program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{  int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double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one_weight,  total_weigh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Enter the number of candy bars in a package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and the weight in ounces of one candy bar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Then press return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in&gt;&gt; one_weight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total_weight = one_weight * number_of_bars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cout&lt;&lt; "Total weight is " &lt;&lt;total_weight &lt;&lt; " ounces.\n"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257800" y="1752480"/>
          <a:ext cx="390060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752480"/>
                    <a:ext cx="3900600" cy="1685880"/>
                  </a:xfrm>
                  <a:prstGeom prst="rect">
                    <a:avLst/>
                  </a:prstGeom>
                  <a:ln w="9360">
                    <a:solidFill>
                      <a:srgbClr val="ff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1790640"/>
            <a:ext cx="38098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Names: Identifie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Begin with a letter or underscor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Remaining characters must be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Letters 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igits 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Underscor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1905120"/>
            <a:ext cx="292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1560" y="1828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560" y="2362320"/>
            <a:ext cx="292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Big_Bonus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71560" y="2362320"/>
            <a:ext cx="47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560" y="28195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0480" y="28195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560" y="32767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_address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71560" y="32767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560" y="373392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%change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0480" y="37339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41911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program1.cpp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0480" y="419112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560" y="46483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_3X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156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560" y="51814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price-1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0480" y="518148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560" y="571500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total5*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0480" y="57150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Notes on Identifie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++ is case sensitiv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</a:rPr>
              <a:t>average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meaningful nam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Keywords/reserved word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ub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ssignment Statemen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Variable = </a:t>
            </a:r>
            <a:r>
              <a:rPr b="0" i="1" lang="en-US" sz="2800" spc="-1" strike="noStrike">
                <a:solidFill>
                  <a:srgbClr val="393939"/>
                </a:solidFill>
                <a:latin typeface="Times New Roman"/>
              </a:rPr>
              <a:t>Expression  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istance = speed_rate * time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nt = count + 2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eight = 35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Variables and Assignmen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93939"/>
                </a:solidFill>
                <a:latin typeface="Times New Roman"/>
              </a:rPr>
              <a:t>Initializing variables</a:t>
            </a:r>
            <a:endParaRPr b="0" lang="en-US" sz="36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yntax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1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Expression_for_value_1,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2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Expression_for_value_2,..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1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8270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ression_for_value_1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ariable_Name_2 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8270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ression_for_value_2</a:t>
            </a:r>
            <a:r>
              <a:rPr b="0" lang="en-US" sz="2000" spc="-1" strike="noStrike">
                <a:solidFill>
                  <a:srgbClr val="f82704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,..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count = 0, max = 555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  count(0), max(555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put and Outpu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put strea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stream of input that is being fed into the computer for the program to us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in (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in&gt;&gt; number_of_bars;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utput strea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stream of output generated by the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ut (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ut&lt;&lt; "Enter the number of candy bars.\n";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2:17:44Z</dcterms:created>
  <dc:creator>Mwakil</dc:creator>
  <dc:description/>
  <dc:language>en-US</dc:language>
  <cp:lastModifiedBy>Mwakil</cp:lastModifiedBy>
  <dcterms:modified xsi:type="dcterms:W3CDTF">2004-06-28T06:34:44Z</dcterms:modified>
  <cp:revision>5</cp:revision>
  <dc:subject/>
  <dc:title>PowerPoint Presentation</dc:title>
</cp:coreProperties>
</file>