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976-B53F-4A55-A9AE-BE617DB5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B0A-E921-4717-A539-918E759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8A9-752A-4329-993C-617339B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1E2-D08C-4346-AB02-E22645AE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F830-B961-4A6D-9A06-EBF60C76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3D2D-7431-4EB0-94AC-1271968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0DC-0DBF-46D1-AC21-792D3D0D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881A-3FFC-4183-83F7-18CF526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D9A-5BB2-4691-A0D7-8788BF91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1794-06F2-48FA-8CD2-6C518E5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1DEA-6775-48F9-80E8-A64FE00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469-5D92-4B1A-9F58-F70ED0DC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192-A974-4C9A-8075-05F06E2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900-A3EE-47A6-8F1B-92DA7A5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5DA1-09AE-4BBE-96A3-6412C79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AA26-9021-47B4-89E2-110820D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90D-A67F-424C-B90A-B7FCB318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E66-E05D-4D87-BADD-AAF2D96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708-7661-42D1-9163-993BD3E4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5A5-19D5-4BC8-A4CC-42CDD570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48C-4E9B-4FAC-8792-1D35B07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F62-18FC-4CF2-BDB7-FE0CFBF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CE3-22B9-4591-966C-B1F7966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2CD-09DF-47BE-ACE5-C61112E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D7F-5207-4A47-985F-61C5BE4CFF13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F68-4EA6-4FA1-93AF-D937911FFDEB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++ Basic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cture 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Input Using ci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n  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Variable_1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Variable_2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…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in &gt;&gt; number &gt;&gt; siz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in &gt;&gt; grade1   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&gt;&gt; grade2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343400"/>
            <a:ext cx="3505320" cy="132300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cin &gt;&gt; grade1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cin &gt;&gt; grade2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Output Using cou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ut  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ariable_or_string_1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ariable_or_string_2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 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…  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 &lt;&lt; number &lt;&lt; siz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 &lt;&lt; “Hello \n”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clude directiv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ing directive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amespaces (collection of names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4240" y="3733920"/>
            <a:ext cx="364644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# include &lt;iostream&gt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scape Sequenc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backslash \ preceding a character tells the compiler that the sequence following the \ doesn’t have the same meaning as the character appearing by itself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New_lin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n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orizontal tab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ler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ackslash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\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uble quot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thers: v, b, r, ?, :, \000, \xhhh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ew line &amp; Blank lin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“\n”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end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f you could include the \n at the end of a longer string, then use \n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f the \n would appear by itself as the short string “\n”, then use endl instead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rmatting numbers with a decimal poin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uble price = 84.50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&lt;&lt; “The price is $” &lt;&lt; price&lt;&lt;end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6360" y="358128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8160" y="4343400"/>
            <a:ext cx="344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0000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5105520"/>
            <a:ext cx="27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8520" y="5867280"/>
            <a:ext cx="361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00e0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gic Formul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setf (ios::fixed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setf(ios::showpoint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precision(2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514600"/>
            <a:ext cx="4724640" cy="266688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ine Breaks in I/O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 can keep input and output on the same line by omitting the \n or endl at the end of the last prompt lin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“Enter the cost per person: $”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  &gt;&gt; cost_per_person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1320" y="6019920"/>
            <a:ext cx="598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Enter the cost per person: $5.40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790640"/>
            <a:ext cx="3962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Your local department store is having its annual sale. Write a program that calculates the sale price for items in the store. The program should prompt the user for the original price and the discount (10%, 25%, etc.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124600" y="1752480"/>
          <a:ext cx="401940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600" y="1752480"/>
                    <a:ext cx="40194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952880" y="1523880"/>
          <a:ext cx="40197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23880"/>
                    <a:ext cx="40197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3000" y="1766880"/>
            <a:ext cx="66294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include &lt;iostream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double discount,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Enter the price of the item: $"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in&gt;&gt;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Enter the discount for the this item: %"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in&gt;&gt; discoun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price = price - (price * discount/100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setf (ios::fixed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setf(ios::showpoint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precision(2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\nThe sale price for your item is: $"&lt;&lt;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ograms manipulate data such as numbers and lette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++ uses variables to name &amp; store dat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8120" y="3809880"/>
            <a:ext cx="1486800" cy="520560"/>
          </a:xfrm>
          <a:prstGeom prst="rect">
            <a:avLst/>
          </a:prstGeom>
          <a:solidFill>
            <a:srgbClr val="f9d8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36960" y="4354560"/>
            <a:ext cx="2055240" cy="1663560"/>
            <a:chOff x="1236960" y="4354560"/>
            <a:chExt cx="2055240" cy="1663560"/>
          </a:xfrm>
        </p:grpSpPr>
        <p:sp>
          <p:nvSpPr>
            <p:cNvPr id="96" name=""/>
            <p:cNvSpPr/>
            <p:nvPr/>
          </p:nvSpPr>
          <p:spPr>
            <a:xfrm>
              <a:off x="1236960" y="5192640"/>
              <a:ext cx="155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(Identifier)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225520" y="4354560"/>
              <a:ext cx="1066680" cy="6854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92560" y="4354560"/>
            <a:ext cx="2104560" cy="1221840"/>
            <a:chOff x="3292560" y="4354560"/>
            <a:chExt cx="2104560" cy="1221840"/>
          </a:xfrm>
        </p:grpSpPr>
        <p:sp>
          <p:nvSpPr>
            <p:cNvPr id="99" name=""/>
            <p:cNvSpPr/>
            <p:nvPr/>
          </p:nvSpPr>
          <p:spPr>
            <a:xfrm>
              <a:off x="4439160" y="511668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Valu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92560" y="4354560"/>
              <a:ext cx="1143000" cy="6098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98400" y="3886200"/>
            <a:ext cx="2451960" cy="2136240"/>
            <a:chOff x="6098400" y="3886200"/>
            <a:chExt cx="2451960" cy="2136240"/>
          </a:xfrm>
        </p:grpSpPr>
        <p:grpSp>
          <p:nvGrpSpPr>
            <p:cNvPr id="102" name=""/>
            <p:cNvGrpSpPr/>
            <p:nvPr/>
          </p:nvGrpSpPr>
          <p:grpSpPr>
            <a:xfrm>
              <a:off x="7102440" y="4608360"/>
              <a:ext cx="1447920" cy="1371600"/>
              <a:chOff x="7102440" y="4608360"/>
              <a:chExt cx="1447920" cy="137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7102440" y="46083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02440" y="50655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02440" y="55227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98400" y="4572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num1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4360" y="38862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93939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8400" y="51055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num2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46483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123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1055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456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8760" y="556272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grad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8880" y="55627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rite a Program to convert a temperature in degrees Fahrenheit to degree Celciu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ata Requiremen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blem inpu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Fahrenhei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blem OutPu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loat Celciu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elcius = (5/9) * (faherenheit – 32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rite a Program to read two data items and print their sum, difference, product, and quotient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rite a program that reads in the length and width of a rectangular yard and the length and width of a rectangular house situated in the yard. Your program should compute the time required to cut the grass at the rate of 2 square meters per second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ariable Declara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Type_Name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Variable_Name1, Variable_Name_2, …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nt, total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double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ic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ll variables must be declared before they are used in the program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  int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double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one_weight,  total_weigh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Enter the number of candy bars in a package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and the weight in ounces of one candy bar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Then press return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one_weigh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total_weight = one_weight * 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Total weight is " &lt;&lt;total_weight &lt;&lt; " ounces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57800" y="1752480"/>
          <a:ext cx="390060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900600" cy="1685880"/>
                  </a:xfrm>
                  <a:prstGeom prst="rect">
                    <a:avLst/>
                  </a:prstGeom>
                  <a:ln w="9360">
                    <a:solidFill>
                      <a:srgbClr val="ff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Names: Identifie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Begin with a letter or underscor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Remaining characters must be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Letters 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igits 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Underscor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1905120"/>
            <a:ext cx="292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1560" y="1828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560" y="2362320"/>
            <a:ext cx="292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Big_Bonus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1560" y="2362320"/>
            <a:ext cx="47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560" y="28195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0480" y="28195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560" y="32767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_address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71560" y="32767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560" y="373392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%change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0480" y="37339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41911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program1.cpp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0480" y="41911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560" y="46483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_3X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156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560" y="51814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price-1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0480" y="518148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560" y="571500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total5*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0480" y="5715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otes on Identifie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++ is case sensitiv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meaningful nam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Keywords/reserved word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u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ssignment Statemen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Variable = </a:t>
            </a:r>
            <a:r>
              <a:rPr b="0" i="1" lang="en-US" sz="2800" spc="-1" strike="noStrike">
                <a:solidFill>
                  <a:srgbClr val="393939"/>
                </a:solidFill>
                <a:latin typeface="Times New Roman"/>
              </a:rPr>
              <a:t>Expression 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istance = speed_rate * time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nt = count + 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eight = 35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3939"/>
                </a:solidFill>
                <a:latin typeface="Times New Roman"/>
              </a:rPr>
              <a:t>Initializing variables</a:t>
            </a:r>
            <a:endParaRPr b="0" lang="en-US" sz="36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1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Expression_for_value_1,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2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Expression_for_value_2,..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1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8270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ression_for_value_1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2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8270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ression_for_value_2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,..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count = 0, max = 555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  count(0), max(555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put strea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stream of input that is being fed into the computer for the program to us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(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n&gt;&gt; number_of_bars;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utput strea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stream of output generated by the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(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ut&lt;&lt; "Enter the number of candy bars.\n";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17:44Z</dcterms:created>
  <dc:creator>Mwakil</dc:creator>
  <dc:description/>
  <dc:language>en-US</dc:language>
  <cp:lastModifiedBy>Mwakil</cp:lastModifiedBy>
  <dcterms:modified xsi:type="dcterms:W3CDTF">2004-06-28T06:34:44Z</dcterms:modified>
  <cp:revision>5</cp:revision>
  <dc:subject/>
  <dc:title>PowerPoint Presentation</dc:title>
</cp:coreProperties>
</file>