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CB34D-FDE5-498B-98A8-5B201426A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0A17E-3FD2-4898-8169-0F92E0A60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D2740AD-3918-46A4-854E-5DC6557D705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isco Networking Academ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outing &amp;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: Introduction to Switched Networ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9FD46-6532-4DCD-B9A3-739847E38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A4E640E-D492-4FDD-A978-0958582BF72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2E787-53C5-4576-994C-42CCCB0DB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4AACB71-5290-417C-95D3-040C8411F67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ex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D75DD-9AAC-441D-9D5B-F310EEDA6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8E8FCEE-6F6C-4D76-9122-C558EF0677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 Switch Ports at the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0D6D-B1DD-414E-BCF4-44C9EF114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488ED84-4C34-41FE-82B8-FF2F56505A1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A3DC0-DB39-40A9-AF42-6D2D61DF9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FB57E6B-BACA-4378-92BB-76B7E1F92C5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D8232-9F5B-44E1-B848-16FFAA2D2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3810BB6-7F8C-430B-B1B5-7B14B8A6F7F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C831-E07A-4D68-AF8D-F0FD23553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CB677D1-6C3A-4C39-91FA-4FF639A4809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ifying Switch Por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CC27-75E2-4437-AE9A-F7293466F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8B294F2-4A40-48E6-BEF2-B4295C1A4F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47878-0478-4475-A369-90B11940D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9FE626F4-DA35-4C9E-B46E-EFB1F44D3B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4063-D61A-4ED6-9BA8-B7D3D758D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8507BE6-75C2-41F0-BACF-55D24B4A37E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D341A-5FE9-425B-A823-B3911A81C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975449C-35B5-4FA2-ADD2-53051CBDFF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732E9-B101-4E32-BD6D-05279672F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69601C0-E1D9-4852-83E0-5148D9D7E0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FFAF2-6981-41A3-A5A3-A763C35FA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05231-4F73-4149-AD85-419C3AACE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DC81B6D-EA6D-438E-8F48-6BD55712F80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EA889-6196-422E-AD57-1779F206C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0E5784F-3714-4F39-8575-DB7881E8479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C562-C651-43F0-A8AC-5C353DB80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817D4F4-E1AE-441E-B409-F0C001356F7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T environment variable is set using 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boot system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onfiguration mode command. Us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bootvar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to see to what the current IOS boot file 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F2A2A-C696-4D2E-967D-C8F92F0FE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72FEA5B-2127-46DF-9117-A5CDADC697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ing From a System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E5FD-6CD4-485B-B28F-91893D66A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EA41480-A336-45E8-9E51-A2421EFC5BC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0737A-16D2-4522-A7CE-16F7FF305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F3899A57-0CD7-4230-B3B7-10F91E0069A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6C62A-1EA0-42D3-94FC-EDB34140B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9974C99-812A-43C2-A4EC-E1B1D54DB31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5365341-DCBE-45C6-9E7E-FF0388949CB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 hidden="1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 hidden="1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7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A5F8F3E-951D-4AE6-B953-8A4116A804A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4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2671560"/>
            <a:ext cx="3767400" cy="82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43EF659-AA83-4CD6-8A52-458B95D5FB4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560" y="79848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5200" y="2014200"/>
            <a:ext cx="7939080" cy="357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ACAA4D8-87C7-41B2-A776-E9FE19E2DAA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0680" y="2263320"/>
            <a:ext cx="3854520" cy="148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 3: Introduction to Switch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67881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And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19240" y="3949560"/>
            <a:ext cx="6710400" cy="2152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040" y="1365120"/>
            <a:ext cx="68360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Duplex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0320" y="1670040"/>
            <a:ext cx="6719760" cy="43783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385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2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onfigure Switch Ports at the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14400" y="1246320"/>
            <a:ext cx="6700680" cy="5025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008680" y="596916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511200" y="1405080"/>
            <a:ext cx="7940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ble types (straight-through or crossover) were required when connec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omatic medium-dependent interface crossover (auto-MDIX) feature eliminat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uto-MDIX is enabled, the interface automatically detects and configures the connection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auto-MDIX on an interface, the interface speed and duplex must be s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008680" y="609120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581040" y="1309680"/>
            <a:ext cx="7826400" cy="49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8440" y="2467080"/>
            <a:ext cx="7826400" cy="2755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0" y="1239840"/>
            <a:ext cx="893592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Verifying Switch Por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600120" y="1209600"/>
            <a:ext cx="7624800" cy="4870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244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68160" y="1614600"/>
            <a:ext cx="7624800" cy="4605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82440" y="2281320"/>
            <a:ext cx="8982360" cy="3813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witch Media (connection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47720" y="1601640"/>
            <a:ext cx="81313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B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Switch Security: Management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82440" y="2689200"/>
            <a:ext cx="8982360" cy="299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Interface-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0" y="0"/>
            <a:ext cx="9144000" cy="685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44000" h="685800">
                <a:moveTo>
                  <a:pt x="0" y="0"/>
                </a:moveTo>
                <a:lnTo>
                  <a:pt x="25400" y="0"/>
                </a:lnTo>
                <a:lnTo>
                  <a:pt x="25400" y="1905"/>
                </a:lnTo>
                <a:lnTo>
                  <a:pt x="0" y="19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: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719280" y="1471680"/>
            <a:ext cx="81309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dvantages and disadvantages of stat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initial settings on a Cisco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to meet networ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management switch virtu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basic security attack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security best practice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port security feature to restrict network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655560" y="16509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oot load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does low-level CPU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initializes the flash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locates and loads a default IOS operating system software image into memory and hands control of the switch over to the 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5560" y="1419120"/>
            <a:ext cx="79408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find a suitable IOS image, the switch goes through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ttempts to automatically boot by using information in the BOOT environm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variable is not set, the switch performs a top-to-bottom search through the flash file system. It will load and execute the first executable file, if it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OS operating system then initializes the interfaces using the Cisco IOS commands found in the configuration file, startup configuration, which is stored in NV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mm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set the BOOT environm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Recovering From a System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also be used to manage the switch if the IOS can’t be 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be accessed through a console connectio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onnect a PC by console cable to the switch console port. Unplug the switch power 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econnect the power cord to the switch and press and hold down the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The System LED turns briefly amber and then solid green. Relea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: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in the terminal emulation software on the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560" y="1419120"/>
            <a:ext cx="79408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ort on Cisco Catalyst switches have status LED indicator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these LED lights reflect port activity but they can also provide other information about the switch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modes are available on Cisco Catalyst 2960 swi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ower System (RPS)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tatus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Duplex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peed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ver Ethernet (PoE) Mode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2960 switch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57240" y="2027160"/>
            <a:ext cx="6288120" cy="45496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560" y="1419120"/>
            <a:ext cx="7940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remotely manage a Cisco switch, it needs to be configured to access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and a subnet mask must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naging the switch from a remote network, a default gateway must also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information (address, subnet mask, gateway) is to be assigned to a switch SVI (switch virtual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se IP settings allow remote management and remote access to the switch, they do not allow the switch to route Layer 3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 aas</dc:creator>
  <dc:description/>
  <dc:language>en-US</dc:language>
  <cp:lastModifiedBy>Asma</cp:lastModifiedBy>
  <dcterms:modified xsi:type="dcterms:W3CDTF">2017-02-14T09:43:37Z</dcterms:modified>
  <cp:revision>30</cp:revision>
  <dc:subject/>
  <dc:title>Chapter 2: Introduction to Switched Networks</dc:title>
</cp:coreProperties>
</file>