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BA2C1-957D-4279-A666-F9F273320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B94C0-AD3D-4A11-BC19-513480888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B2B20EC0-E697-4E1F-BB63-4BB7E2C8D07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04640" y="4378320"/>
            <a:ext cx="61214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Cisco Networking Academy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Routing &amp;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文泉驛正黑"/>
              </a:rPr>
              <a:t>Chapter 2: Introduction to Switched Network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A1BC2-17B9-4AAF-B222-BCC1F7C8E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D17A596D-629D-4906-A1DA-C5CE81A01AE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ing for Basic Switch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6ADCE-003F-49CF-A380-42C064773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4332AB65-9F68-4721-925C-6E9E6A956E2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ex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BD7AE-04C1-48A2-9CA6-9238668A9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CD9ECA69-8323-41EF-BE36-2B0CFE4D912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gure Switch Ports at the 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C3957-7370-4DE5-B5F8-68289A4AC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BE6F785F-2B7F-449C-AAF1-C5F79733033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DIX Auto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EB529-E3E0-4C5E-B5F6-B62E46E2E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7055ECC5-0556-494D-BB2D-C22AC2E5BE2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DIX Auto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8D05C-9FC2-4F7A-B251-61AB4EE18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A4169D5E-FAE7-4A22-99A6-1C0DFCCBFE4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DIX Auto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D051A-55F9-4138-8ED7-2CD6A0CAE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4F343FFA-702D-45A7-A6CF-D53ECD0D0D7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ifying Switch Port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14977-03E8-467F-8FE6-1DD2AA908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91368273-699E-491D-9335-9400F17D4A3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Access Lay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D2EC6-9A2B-4173-B5A3-B311A3C40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F1E85C7D-2D74-4D26-8571-D1E281DD8A5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Access Lay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F9E67-B3E4-46B4-8AB6-2B28DEDBC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A0E22B4E-8639-4B03-832B-E94A2EFB84F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6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ubleshooting Network Access Lay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768BC-3CDD-4909-A249-167DADF4D0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DB6AC328-6C3A-475C-81F7-E4973D5F65C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Chapt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1AD0D-C006-4114-B895-5DF00B25A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360BE880-4919-4786-8C30-CAA3912F814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6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ubleshooting Network Access Lay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D438E-9BA8-4441-861F-13F49C517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1FB74-2A5D-4A6A-988E-9CF610514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7B56E253-0F22-4D38-86FE-62C370D2087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8A8E1-6E17-4BDF-9402-57DA2C700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27C4829B-F84A-4DDB-9BB6-731FC834951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Boot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894A2-624D-4902-92E2-FC8577F7A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CD203508-791E-439E-9B17-35968307430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Boot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OT environment variable is set using 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boot system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configuration mode command. Us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bootvar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 to see to what the current IOS boot file is s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1029F-F7D9-4DF7-B762-60364C1F7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9890E1DA-4013-4681-95A4-497F721A21A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vering From a System Cr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69C1F-3F4D-4399-A16D-0DADFC7C1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9692440C-9867-4BC0-A727-AC7183FBBCA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LED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3DB31-1CD8-4CD5-A61D-768505122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B8311F41-C927-438E-B15E-41E97D52AD9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LED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92B6D-2D42-4DEB-8C76-D2D04F918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CDAE05AC-89CD-40B1-ADB4-735F232E8FA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ing for Basic Switch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 hidden="1"/>
          <p:cNvSpPr/>
          <p:nvPr/>
        </p:nvSpPr>
        <p:spPr>
          <a:xfrm>
            <a:off x="193680" y="6672240"/>
            <a:ext cx="961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2" hidden="1"/>
          <p:cNvSpPr/>
          <p:nvPr/>
        </p:nvSpPr>
        <p:spPr>
          <a:xfrm>
            <a:off x="8387640" y="6626520"/>
            <a:ext cx="739800" cy="23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FB9D535-9A51-4EA7-9C3D-60809136471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" hidden="1"/>
          <p:cNvSpPr/>
          <p:nvPr/>
        </p:nvSpPr>
        <p:spPr>
          <a:xfrm>
            <a:off x="4510080" y="6672240"/>
            <a:ext cx="200016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 hidden="1"/>
          <p:cNvSpPr/>
          <p:nvPr/>
        </p:nvSpPr>
        <p:spPr>
          <a:xfrm>
            <a:off x="6897960" y="6672240"/>
            <a:ext cx="8755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1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1911240"/>
            <a:ext cx="9144000" cy="24321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7"/>
          <p:cNvSpPr/>
          <p:nvPr/>
        </p:nvSpPr>
        <p:spPr>
          <a:xfrm>
            <a:off x="4510080" y="6672240"/>
            <a:ext cx="200016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8"/>
          <p:cNvSpPr/>
          <p:nvPr/>
        </p:nvSpPr>
        <p:spPr>
          <a:xfrm>
            <a:off x="6897960" y="6672240"/>
            <a:ext cx="8755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9"/>
          <p:cNvSpPr/>
          <p:nvPr/>
        </p:nvSpPr>
        <p:spPr>
          <a:xfrm>
            <a:off x="193680" y="6672240"/>
            <a:ext cx="961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0"/>
          <p:cNvSpPr/>
          <p:nvPr/>
        </p:nvSpPr>
        <p:spPr>
          <a:xfrm>
            <a:off x="8387640" y="6626520"/>
            <a:ext cx="739800" cy="23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7A0BD568-D8BB-4FC6-B4D7-1255150B696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1" descr=""/>
          <p:cNvPicPr/>
          <p:nvPr/>
        </p:nvPicPr>
        <p:blipFill>
          <a:blip r:embed="rId4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2" descr=""/>
          <p:cNvPicPr/>
          <p:nvPr/>
        </p:nvPicPr>
        <p:blipFill>
          <a:blip r:embed="rId5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2671560"/>
            <a:ext cx="3767400" cy="828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193680" y="6672240"/>
            <a:ext cx="961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8387640" y="6626520"/>
            <a:ext cx="739800" cy="23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1E89349-11D4-416A-B7F6-EE5A0AAB1F3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4510080" y="6672240"/>
            <a:ext cx="200016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6897960" y="6672240"/>
            <a:ext cx="8755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1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560" y="79848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55200" y="2014200"/>
            <a:ext cx="7939080" cy="357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93680" y="6672240"/>
            <a:ext cx="961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8387640" y="6626520"/>
            <a:ext cx="739800" cy="23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01E9DD9-FFE0-444B-887B-F697611E082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4510080" y="6672240"/>
            <a:ext cx="200016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6897960" y="6672240"/>
            <a:ext cx="8755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0680" y="2263320"/>
            <a:ext cx="3854520" cy="1481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 3: Introduction to Switched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11040" y="4672080"/>
            <a:ext cx="678816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And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Preparing for Basic Switch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019240" y="3949560"/>
            <a:ext cx="6710400" cy="2152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365040" y="1365120"/>
            <a:ext cx="6836040" cy="291636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4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5008680" y="6176880"/>
            <a:ext cx="3668760" cy="36396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Duplex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030320" y="1670040"/>
            <a:ext cx="6719760" cy="43783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2440" y="3859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2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Configure Switch Ports at the Physic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914400" y="1246320"/>
            <a:ext cx="6700680" cy="502596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008680" y="5969160"/>
            <a:ext cx="3668760" cy="63828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do butt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MDIX Auto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511200" y="1405080"/>
            <a:ext cx="794052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cable types (straight-through or crossover) were required when connect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tomatic medium-dependent interface crossover (auto-MDIX) feature eliminates thi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uto-MDIX is enabled, the interface automatically detects and configures the connection appropr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auto-MDIX on an interface, the interface speed and duplex must be se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5008680" y="6091200"/>
            <a:ext cx="3668760" cy="63828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do butt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581040" y="1309680"/>
            <a:ext cx="7826400" cy="4932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MDIX Auto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MDIX Auto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568440" y="2467080"/>
            <a:ext cx="7826400" cy="27558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0" y="1239840"/>
            <a:ext cx="8935920" cy="48816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Verifying Switch Port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5008680" y="6176880"/>
            <a:ext cx="3668760" cy="36396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600120" y="1209600"/>
            <a:ext cx="7624800" cy="48704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2440" y="3996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Network 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668160" y="1614600"/>
            <a:ext cx="7624800" cy="4605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Network 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5008680" y="6176880"/>
            <a:ext cx="3668760" cy="36396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1"/>
          <a:stretch/>
        </p:blipFill>
        <p:spPr>
          <a:xfrm>
            <a:off x="82440" y="2281320"/>
            <a:ext cx="8982360" cy="38131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Network 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480960" y="1433520"/>
            <a:ext cx="7940880" cy="1120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 algn="ctr">
              <a:lnSpc>
                <a:spcPct val="90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 Switch Media (connection)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4680" y="4932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747720" y="1601640"/>
            <a:ext cx="813132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 Basic Switch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 Switch Security: Management an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1"/>
          <a:stretch/>
        </p:blipFill>
        <p:spPr>
          <a:xfrm>
            <a:off x="82440" y="2689200"/>
            <a:ext cx="8982360" cy="2998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Network 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80960" y="1433520"/>
            <a:ext cx="7940880" cy="1120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 algn="ctr">
              <a:lnSpc>
                <a:spcPct val="90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 Interface-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1"/>
          <p:cNvSpPr/>
          <p:nvPr/>
        </p:nvSpPr>
        <p:spPr>
          <a:xfrm>
            <a:off x="0" y="0"/>
            <a:ext cx="9144000" cy="6858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9144000" h="685800">
                <a:moveTo>
                  <a:pt x="0" y="0"/>
                </a:moveTo>
                <a:lnTo>
                  <a:pt x="25400" y="0"/>
                </a:lnTo>
                <a:lnTo>
                  <a:pt x="25400" y="1905"/>
                </a:lnTo>
                <a:lnTo>
                  <a:pt x="0" y="190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508040" y="2741760"/>
            <a:ext cx="6097680" cy="8920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da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4680" y="4932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Chapter 2: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719280" y="1471680"/>
            <a:ext cx="813096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advantages and disadvantages of static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initial settings on a Cisco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switch ports to meet network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the management switch virtu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basic security attacks in a switched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security best practices in a switched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the port security feature to restrict network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Switch Boot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655560" y="1650960"/>
            <a:ext cx="7940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5760"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boot load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 loader does low-level CPU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 loader initializes the flash file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 loader locates and loads a default IOS operating system software image into memory and hands control of the switch over to the 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Switch Boot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655560" y="1419120"/>
            <a:ext cx="794088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5760"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find a suitable IOS image, the switch goes through the following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ttempts to automatically boot by using information in the BOOT environm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variable is not set, the switch performs a top-to-bottom search through the flash file system. It will load and execute the first executable file, if it 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OS operating system then initializes the interfaces using the Cisco IOS commands found in the configuration file, startup configuration, which is stored in NV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omm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t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used to set the BOOT environmen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Recovering From a System 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655560" y="1419120"/>
            <a:ext cx="7940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ot loader can also be used to manage the switch if the IOS can’t be lo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ot loader can be accessed through a console connectio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5760">
              <a:lnSpc>
                <a:spcPct val="100000"/>
              </a:lnSpc>
              <a:spcBef>
                <a:spcPts val="700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Connect a PC by console cable to the switch console port. Unplug the switch power c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5760">
              <a:lnSpc>
                <a:spcPct val="100000"/>
              </a:lnSpc>
              <a:spcBef>
                <a:spcPts val="700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Reconnect the power cord to the switch and press and hold down the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 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5760">
              <a:lnSpc>
                <a:spcPct val="100000"/>
              </a:lnSpc>
              <a:spcBef>
                <a:spcPts val="700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The System LED turns briefly amber and then solid green. Releas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 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ot loa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:prom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ears in the terminal emulation software on the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Switch LED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655560" y="1419120"/>
            <a:ext cx="794088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ort on Cisco Catalyst switches have status LED indicator 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 these LED lights reflect port activity but they can also provide other information about the switch through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modes are available on Cisco Catalyst 2960 swi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ndant Power System (RPS)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Status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Duplex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Speed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over Ethernet (PoE) Mode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Switch LED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655560" y="1419120"/>
            <a:ext cx="7940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Catalyst 2960 switch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957240" y="2027160"/>
            <a:ext cx="6288120" cy="45496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4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Preparing for Basic Switch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655560" y="1419120"/>
            <a:ext cx="79408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remotely manage a Cisco switch, it needs to be configured to access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P address and a subnet mask must be config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anaging the switch from a remote network, a default gateway must also be config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information (address, subnet mask, gateway) is to be assigned to a switch SVI (switch virtual inter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se IP settings allow remote management and remote access to the switch, they do not allow the switch to route Layer 3 pack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 aas</dc:creator>
  <dc:description/>
  <dc:language>en-US</dc:language>
  <cp:lastModifiedBy>Asma</cp:lastModifiedBy>
  <dcterms:modified xsi:type="dcterms:W3CDTF">2017-02-14T09:43:37Z</dcterms:modified>
  <cp:revision>30</cp:revision>
  <dc:subject/>
  <dc:title>Chapter 2: Introduction to Switched Networks</dc:title>
</cp:coreProperties>
</file>