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A2C-DC8E-4F41-8652-5AEB9340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B31-259C-46BD-918E-D658DC8A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356-2B1A-452A-AB11-A967E063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947-2064-47DC-9984-29E496EF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C219-747C-4CD8-B3AF-F7BB23D1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3859-6CCB-4CF8-9A78-B5C94139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E170-F9D0-4E16-89BE-4F70DF40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F216-65B8-4D19-BC0D-2B7FBEDB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010F-37A4-4EFE-B7D2-769D7881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A2C0-B930-4322-BB99-460B8568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40CD-ABF0-4A2C-A7F7-ECBFED9A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6EF-B4E0-4B6A-87AE-37BE207E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AC7F-D5FE-4136-9AE0-2DD7324E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905C-8A64-4B05-8CC0-A138464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EEA4-7EAB-47DE-B6C9-8D042CB1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0BBB-CE7B-4DB9-BB04-7BB17338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B32E-605E-40B8-BA9B-0D33EC2C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219-9C35-41C8-B04C-157B7812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BF0-F1BF-448F-B9F1-FDEB4AFE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777-D84F-4B35-AC3B-67376397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15F-4055-4C3B-BF98-C86FC231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F69-6FC3-402B-8562-CCAA7169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9005-2BB1-4C70-B5AE-CB33E5DD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505-209B-437F-8CEA-391FBE83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A08C-412F-4154-80AA-016840CBA81C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23C6-1E42-4DD8-A637-ACE6DF9A44D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27CB-D93B-41DB-8D01-E85938EA693B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5A12-4635-4979-B963-B45E553DB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80e6"/>
                </a:solidFill>
                <a:latin typeface="Lucida Console"/>
              </a:rPr>
              <a:t>Chapter 4 </a:t>
            </a:r>
            <a:br>
              <a:rPr sz="3200"/>
            </a:b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 &amp; Logical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7914-B43A-4262-81E3-206B37EE3D2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only is used to deal with invalid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ample, we assume all values entered by the user are in the range 0–10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ed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the las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s terminate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872C-5C46-4F06-AA31-41D194711CF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vbhtp5_05images_Page_25.pn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13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497A-9E82-417C-82B4-B0108F19FF2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vbhtp5_05images_Page_24.png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5551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vbhtp5_05images_Page_26.png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28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2800" spc="-1" strike="noStrike">
                <a:solidFill>
                  <a:srgbClr val="3380e6"/>
                </a:solidFill>
                <a:latin typeface="Arial"/>
              </a:rPr>
              <a:t> Multiple-Selection Stat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32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32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 also can use relational operators to determine whether the controlling expression satisfies a cond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keywor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ong with the relational operator,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o test for values less than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B021-2D0C-4ACD-A834-E8135115E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403280" y="3630600"/>
            <a:ext cx="2664000" cy="58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&lt;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364000" y="3773520"/>
            <a:ext cx="2737080" cy="34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rade &lt; </a:t>
            </a:r>
            <a:r>
              <a:rPr b="0" lang="en-US" sz="1800" spc="-1" strike="noStrike">
                <a:solidFill>
                  <a:srgbClr val="00b0f0"/>
                </a:solidFill>
                <a:latin typeface="Lucida Conso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Straight Arrow Connector 8"/>
          <p:cNvCxnSpPr>
            <a:stCxn id="146" idx="3"/>
            <a:endCxn id="147" idx="1"/>
          </p:cNvCxnSpPr>
          <p:nvPr/>
        </p:nvCxnSpPr>
        <p:spPr>
          <a:xfrm>
            <a:off x="4067280" y="3925440"/>
            <a:ext cx="1297440" cy="1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9" name="TextBox 9"/>
          <p:cNvSpPr/>
          <p:nvPr/>
        </p:nvSpPr>
        <p:spPr>
          <a:xfrm>
            <a:off x="4067280" y="36306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Calibri"/>
              </a:rPr>
              <a:t>Equival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28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2800" spc="-1" strike="noStrike">
                <a:solidFill>
                  <a:srgbClr val="3380e6"/>
                </a:solidFill>
                <a:latin typeface="Arial"/>
              </a:rPr>
              <a:t> Multiple-Selection Stat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32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32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values can be tested in a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by separating the values with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om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tests for the value 0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 in the range 5–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can be used to test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FACF-8D73-4164-A91E-1923AC898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 Statement to test 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tring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Example: (The Select Color Example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 that asks the user to enter one of the three basic colors (red,green,blue) if the input is correct the label change its color to the entered col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D5E2-A75E-4608-81BB-4ABE3AA9C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4608360" y="465300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59432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161928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1619280" y="4653000"/>
            <a:ext cx="27003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341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(The Select Color Example Progr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6E79-7BDF-45AE-876F-04E3DEC04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rcRect l="2487" t="16218" r="37743" b="33937"/>
          <a:stretch/>
        </p:blipFill>
        <p:spPr>
          <a:xfrm>
            <a:off x="826920" y="1989000"/>
            <a:ext cx="777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dition is an expression that results in a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—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, we’ve studied onl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mple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ch a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lection and repetition statement evaluated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condition with one of the operators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F7A6-FE76-4E40-8E73-9F011A52F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andle multiple conditions more efficiently,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ogical opera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used to form complex conditions by combining simple 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operators are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3AA4-DAFF-46B7-B97A-294EF0A2C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30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1" i="1" lang="en-US" sz="30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se we wish to ensure that two conditions are both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 program before a certain path of execution is chos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such a case, we can use the logical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perator as follow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gender 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seniorFemales +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1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atement contains two simple condi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F753-3658-42DA-9256-7A54143BB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F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female a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a senior citiz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imple conditions are evaluated first, because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oth higher than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f gender = </a:t>
            </a:r>
            <a:r>
              <a:rPr b="0" lang="en-US" sz="24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2400" spc="-1" strike="noStrike">
                <a:solidFill>
                  <a:srgbClr val="128aff"/>
                </a:solidFill>
                <a:latin typeface="Lucida Console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2505240" y="4888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552456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eft Brace 6"/>
          <p:cNvSpPr/>
          <p:nvPr/>
        </p:nvSpPr>
        <p:spPr>
          <a:xfrm rot="16200000">
            <a:off x="2847960" y="392400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752840"/>
              <a:gd name="textAreaBottom" fmla="*/ 17449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eft Brace 7"/>
          <p:cNvSpPr/>
          <p:nvPr/>
        </p:nvSpPr>
        <p:spPr>
          <a:xfrm rot="16200000">
            <a:off x="5753160" y="41148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eft Brace 8"/>
          <p:cNvSpPr/>
          <p:nvPr/>
        </p:nvSpPr>
        <p:spPr>
          <a:xfrm rot="16200000">
            <a:off x="4314600" y="407628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2514600"/>
              <a:gd name="textAreaBottom" fmla="*/ 25066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1905120" y="5486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both are True then the condition of the </a:t>
            </a:r>
            <a:r>
              <a:rPr b="1" lang="en-US" sz="1800" spc="-1" strike="noStrike">
                <a:solidFill>
                  <a:srgbClr val="3333ff"/>
                </a:solidFill>
                <a:latin typeface="Calibri"/>
              </a:rPr>
              <a:t>If Stat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m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44B0-2ACF-41BB-A93B-A8356FD64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Text Placeholder 2" descr=""/>
          <p:cNvPicPr/>
          <p:nvPr/>
        </p:nvPicPr>
        <p:blipFill>
          <a:blip r:embed="rId1"/>
          <a:stretch/>
        </p:blipFill>
        <p:spPr>
          <a:xfrm>
            <a:off x="371520" y="1511280"/>
            <a:ext cx="8321760" cy="516420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E2B7-C210-4B66-B74B-275A53709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is combined condition i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niorFem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 is incremented by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dability of the preceding combined condition can be improved by adding parenthe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gender 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(age &gt;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143000" y="2209680"/>
          <a:ext cx="6477120" cy="1854360"/>
        </p:xfrm>
        <a:graphic>
          <a:graphicData uri="http://schemas.openxmlformats.org/drawingml/2006/table">
            <a:tbl>
              <a:tblPr/>
              <a:tblGrid>
                <a:gridCol w="1933560"/>
                <a:gridCol w="1771560"/>
                <a:gridCol w="2772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= "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ge &gt;= </a:t>
                      </a:r>
                      <a:r>
                        <a:rPr b="0" lang="en-US" sz="1800" spc="-1" strike="noStrike">
                          <a:solidFill>
                            <a:srgbClr val="128aff"/>
                          </a:solidFill>
                          <a:latin typeface="Lucida Console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the </a:t>
                      </a: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Calibri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ondition m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E764-A3E1-49F7-9083-4E823DD2F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30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1" i="1" lang="en-US" sz="30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w let’s consider the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perat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se we wish to ensure that either or both of two conditions ar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fore we choose a certain path of execu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use 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perator as in the following program seg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(semesterAverage &gt;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6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"Student grade is A"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statement also contains two simple condition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4C7E-E8AA-4C4F-8245-3043B64CC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mesterA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throughout the semes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on the final ex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1626-831F-4EB9-B6E5-0D926867D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then considers the combined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semesterAverage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wards the student an “A” if either or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x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isplayed, unless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 has a higher precedence tha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8EE8-C978-4E8B-8F76-36301EDD9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vbhtp5_05images_Page_31.pn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20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4040-C21E-4BA9-BFAC-65F89DA77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dition containing the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logical exclusive O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X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and only if one of its operands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 and the other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both operands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both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entire condition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424A-A3CE-45A0-9ABF-228B69DCE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" descr="vbhtp5_05images_Page_33.png"/>
          <p:cNvPicPr/>
          <p:nvPr/>
        </p:nvPicPr>
        <p:blipFill>
          <a:blip r:embed="rId1"/>
          <a:srcRect l="12500" t="0" r="30003" b="49990"/>
          <a:stretch/>
        </p:blipFill>
        <p:spPr>
          <a:xfrm>
            <a:off x="3581280" y="3676680"/>
            <a:ext cx="5257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ogical negation) operator enables you to “reverse” the meaning of a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the logical operator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each comb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, the logical negation operator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, requiring only one oper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1" descr="vbhtp5_05images_Page_34.png"/>
          <p:cNvPicPr/>
          <p:nvPr/>
        </p:nvPicPr>
        <p:blipFill>
          <a:blip r:embed="rId1"/>
          <a:srcRect l="25834" t="0" r="40002" b="52733"/>
          <a:stretch/>
        </p:blipFill>
        <p:spPr>
          <a:xfrm>
            <a:off x="2971800" y="3828960"/>
            <a:ext cx="3124080" cy="262440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0A02-1A22-4B35-9DD5-348941CC4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negation operator is demonstrated by the following program seg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The value is "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&amp; value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entheses arou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 logical negation operator (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higher precedence than the equality oper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CAD0-30F7-4723-A3D3-45E88EF60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, you can avoid using logical negation by expressing the condition differently with relational or equality oper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lexibility helps you express conditions more natural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preceding statement can be written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85800" y="4843440"/>
            <a:ext cx="3124080" cy="337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943600" y="4843440"/>
            <a:ext cx="2666880" cy="337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value &lt;&gt;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Straight Arrow Connector 7"/>
          <p:cNvCxnSpPr>
            <a:stCxn id="226" idx="3"/>
            <a:endCxn id="227" idx="1"/>
          </p:cNvCxnSpPr>
          <p:nvPr/>
        </p:nvCxnSpPr>
        <p:spPr>
          <a:xfrm>
            <a:off x="3809520" y="5011200"/>
            <a:ext cx="2134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9" name="TextBox 8"/>
          <p:cNvSpPr/>
          <p:nvPr/>
        </p:nvSpPr>
        <p:spPr>
          <a:xfrm>
            <a:off x="3962520" y="4691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EB60-428A-48B0-A232-0FA5E6694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rators’ Prece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4BA5-CC8D-4A35-8216-6DFBE4D13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1" descr="vbhtp5_05images_Page_40.png"/>
          <p:cNvPicPr/>
          <p:nvPr/>
        </p:nvPicPr>
        <p:blipFill>
          <a:blip r:embed="rId1"/>
          <a:srcRect l="14177" t="7786" r="30704" b="10502"/>
          <a:stretch/>
        </p:blipFill>
        <p:spPr>
          <a:xfrm>
            <a:off x="1763640" y="1557360"/>
            <a:ext cx="504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32AF-9D41-4C2E-BE2D-095325BBE01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18538" t="15374" r="17821" b="19656"/>
          <a:stretch/>
        </p:blipFill>
        <p:spPr>
          <a:xfrm>
            <a:off x="539640" y="692280"/>
            <a:ext cx="8280360" cy="475272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971640" y="566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th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11280" y="134136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X += ( 4 \ y * 2 ) ^ ( x – 2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94AC-34E1-4819-A4F5-4E60E8FFC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eft Brace 6"/>
          <p:cNvSpPr/>
          <p:nvPr/>
        </p:nvSpPr>
        <p:spPr>
          <a:xfrm rot="16200000">
            <a:off x="3960000" y="1809000"/>
            <a:ext cx="432000" cy="50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3280"/>
              <a:gd name="textAreaBottom" fmla="*/ 4921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eft Brace 7"/>
          <p:cNvSpPr/>
          <p:nvPr/>
        </p:nvSpPr>
        <p:spPr>
          <a:xfrm rot="16200000">
            <a:off x="363528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5400" y="10800"/>
                  <a:pt x="0" y="10800"/>
                </a:cubicBezTo>
                <a:cubicBezTo>
                  <a:pt x="54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8"/>
          <p:cNvSpPr/>
          <p:nvPr/>
        </p:nvSpPr>
        <p:spPr>
          <a:xfrm>
            <a:off x="3995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traight Connector 10"/>
          <p:cNvSpPr/>
          <p:nvPr/>
        </p:nvSpPr>
        <p:spPr>
          <a:xfrm flipV="1">
            <a:off x="341964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3635280" y="278136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eft Brace 16"/>
          <p:cNvSpPr/>
          <p:nvPr/>
        </p:nvSpPr>
        <p:spPr>
          <a:xfrm rot="16200000">
            <a:off x="5435280" y="2925360"/>
            <a:ext cx="289080" cy="5745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560"/>
              <a:gd name="textAreaBottom" fmla="*/ 56736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traight Connector 17"/>
          <p:cNvSpPr/>
          <p:nvPr/>
        </p:nvSpPr>
        <p:spPr>
          <a:xfrm flipV="1">
            <a:off x="586728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5435640" y="3357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traight Connector 20"/>
          <p:cNvSpPr/>
          <p:nvPr/>
        </p:nvSpPr>
        <p:spPr>
          <a:xfrm flipV="1">
            <a:off x="529272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eft Brace 22"/>
          <p:cNvSpPr/>
          <p:nvPr/>
        </p:nvSpPr>
        <p:spPr>
          <a:xfrm rot="16200000">
            <a:off x="4469400" y="3243960"/>
            <a:ext cx="432000" cy="18111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1811160"/>
              <a:gd name="textAreaBottom" fmla="*/ 1800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30"/>
                </a:cubicBezTo>
                <a:lnTo>
                  <a:pt x="10800" y="13279"/>
                </a:lnTo>
                <a:cubicBezTo>
                  <a:pt x="10800" y="13494"/>
                  <a:pt x="5400" y="13709"/>
                  <a:pt x="0" y="13709"/>
                </a:cubicBezTo>
                <a:cubicBezTo>
                  <a:pt x="5400" y="13709"/>
                  <a:pt x="10800" y="13924"/>
                  <a:pt x="10800" y="14139"/>
                </a:cubicBezTo>
                <a:lnTo>
                  <a:pt x="10800" y="21170"/>
                </a:lnTo>
                <a:cubicBezTo>
                  <a:pt x="10800" y="2138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traight Connector 23"/>
          <p:cNvSpPr/>
          <p:nvPr/>
        </p:nvSpPr>
        <p:spPr>
          <a:xfrm flipV="1">
            <a:off x="5591160" y="3716280"/>
            <a:ext cx="0" cy="21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25"/>
          <p:cNvSpPr/>
          <p:nvPr/>
        </p:nvSpPr>
        <p:spPr>
          <a:xfrm flipV="1">
            <a:off x="3780000" y="314172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0"/>
          <p:cNvSpPr/>
          <p:nvPr/>
        </p:nvSpPr>
        <p:spPr>
          <a:xfrm>
            <a:off x="4788000" y="4365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Left Brace 41"/>
          <p:cNvSpPr/>
          <p:nvPr/>
        </p:nvSpPr>
        <p:spPr>
          <a:xfrm rot="16200000">
            <a:off x="3640680" y="3999240"/>
            <a:ext cx="431640" cy="2170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2170080"/>
              <a:gd name="textAreaBottom" fmla="*/ 2158920 h 21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9"/>
                  <a:pt x="10800" y="358"/>
                </a:cubicBezTo>
                <a:lnTo>
                  <a:pt x="10800" y="13351"/>
                </a:lnTo>
                <a:cubicBezTo>
                  <a:pt x="10800" y="13530"/>
                  <a:pt x="5400" y="13709"/>
                  <a:pt x="0" y="13709"/>
                </a:cubicBezTo>
                <a:cubicBezTo>
                  <a:pt x="5400" y="13709"/>
                  <a:pt x="10800" y="13888"/>
                  <a:pt x="10800" y="14067"/>
                </a:cubicBezTo>
                <a:lnTo>
                  <a:pt x="10800" y="21242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traight Connector 42"/>
          <p:cNvSpPr/>
          <p:nvPr/>
        </p:nvSpPr>
        <p:spPr>
          <a:xfrm flipV="1">
            <a:off x="4941720" y="4724280"/>
            <a:ext cx="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traight Connector 43"/>
          <p:cNvSpPr/>
          <p:nvPr/>
        </p:nvSpPr>
        <p:spPr>
          <a:xfrm flipV="1">
            <a:off x="2771640" y="1773000"/>
            <a:ext cx="0" cy="309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Oval 44"/>
          <p:cNvSpPr/>
          <p:nvPr/>
        </p:nvSpPr>
        <p:spPr>
          <a:xfrm>
            <a:off x="3995640" y="530064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If Not( x * y &lt; 0 ) And ( x ^ 2 &gt;= 100 Mod 4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83AB-00A9-4A83-9305-6E2F1E7A8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eft Brace 6"/>
          <p:cNvSpPr/>
          <p:nvPr/>
        </p:nvSpPr>
        <p:spPr>
          <a:xfrm rot="16200000">
            <a:off x="2808000" y="1807920"/>
            <a:ext cx="432000" cy="505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5080"/>
              <a:gd name="textAreaBottom" fmla="*/ 4939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eft Brace 7"/>
          <p:cNvSpPr/>
          <p:nvPr/>
        </p:nvSpPr>
        <p:spPr>
          <a:xfrm rot="16200000">
            <a:off x="327492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5400" y="10800"/>
                  <a:pt x="0" y="10800"/>
                </a:cubicBezTo>
                <a:cubicBezTo>
                  <a:pt x="54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284328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traight Connector 10"/>
          <p:cNvSpPr/>
          <p:nvPr/>
        </p:nvSpPr>
        <p:spPr>
          <a:xfrm flipV="1">
            <a:off x="378000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Oval 11"/>
          <p:cNvSpPr/>
          <p:nvPr/>
        </p:nvSpPr>
        <p:spPr>
          <a:xfrm>
            <a:off x="3276720" y="2781360"/>
            <a:ext cx="3585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eft Brace 16"/>
          <p:cNvSpPr/>
          <p:nvPr/>
        </p:nvSpPr>
        <p:spPr>
          <a:xfrm rot="16200000">
            <a:off x="5219640" y="1701360"/>
            <a:ext cx="289080" cy="574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920"/>
              <a:gd name="textAreaBottom" fmla="*/ 56772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Oval 18"/>
          <p:cNvSpPr/>
          <p:nvPr/>
        </p:nvSpPr>
        <p:spPr>
          <a:xfrm>
            <a:off x="5219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eft Brace 22"/>
          <p:cNvSpPr/>
          <p:nvPr/>
        </p:nvSpPr>
        <p:spPr>
          <a:xfrm rot="16200000">
            <a:off x="6981840" y="1450440"/>
            <a:ext cx="291960" cy="1079640"/>
          </a:xfrm>
          <a:custGeom>
            <a:avLst/>
            <a:gdLst>
              <a:gd name="textAreaLeft" fmla="*/ 186480 w 291960"/>
              <a:gd name="textAreaRight" fmla="*/ 292320 w 291960"/>
              <a:gd name="textAreaTop" fmla="*/ 7560 h 1079640"/>
              <a:gd name="textAreaBottom" fmla="*/ 107208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8"/>
                </a:cubicBezTo>
                <a:lnTo>
                  <a:pt x="10800" y="10130"/>
                </a:lnTo>
                <a:cubicBezTo>
                  <a:pt x="10800" y="10374"/>
                  <a:pt x="5400" y="10618"/>
                  <a:pt x="0" y="10618"/>
                </a:cubicBezTo>
                <a:cubicBezTo>
                  <a:pt x="5400" y="10618"/>
                  <a:pt x="10800" y="10862"/>
                  <a:pt x="10800" y="11106"/>
                </a:cubicBezTo>
                <a:lnTo>
                  <a:pt x="10800" y="21112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40"/>
          <p:cNvSpPr/>
          <p:nvPr/>
        </p:nvSpPr>
        <p:spPr>
          <a:xfrm>
            <a:off x="694836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Left Brace 41"/>
          <p:cNvSpPr/>
          <p:nvPr/>
        </p:nvSpPr>
        <p:spPr>
          <a:xfrm rot="16200000">
            <a:off x="6014160" y="1851480"/>
            <a:ext cx="457200" cy="1738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738440"/>
              <a:gd name="textAreaBottom" fmla="*/ 1726560 h 17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4"/>
                </a:cubicBezTo>
                <a:lnTo>
                  <a:pt x="10800" y="10435"/>
                </a:lnTo>
                <a:cubicBezTo>
                  <a:pt x="10800" y="10672"/>
                  <a:pt x="5400" y="10909"/>
                  <a:pt x="0" y="10909"/>
                </a:cubicBezTo>
                <a:cubicBezTo>
                  <a:pt x="5400" y="10909"/>
                  <a:pt x="10800" y="11146"/>
                  <a:pt x="10800" y="11383"/>
                </a:cubicBezTo>
                <a:lnTo>
                  <a:pt x="10800" y="21126"/>
                </a:lnTo>
                <a:cubicBezTo>
                  <a:pt x="10800" y="213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Oval 44"/>
          <p:cNvSpPr/>
          <p:nvPr/>
        </p:nvSpPr>
        <p:spPr>
          <a:xfrm>
            <a:off x="6084720" y="2924280"/>
            <a:ext cx="3733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Left Brace 27"/>
          <p:cNvSpPr/>
          <p:nvPr/>
        </p:nvSpPr>
        <p:spPr>
          <a:xfrm rot="16200000">
            <a:off x="2615400" y="2721960"/>
            <a:ext cx="457200" cy="1296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296720"/>
              <a:gd name="textAreaBottom" fmla="*/ 12848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274"/>
                </a:lnTo>
                <a:cubicBezTo>
                  <a:pt x="10800" y="10592"/>
                  <a:pt x="5400" y="10909"/>
                  <a:pt x="0" y="10909"/>
                </a:cubicBezTo>
                <a:cubicBezTo>
                  <a:pt x="5400" y="10909"/>
                  <a:pt x="10800" y="11227"/>
                  <a:pt x="10800" y="11544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traight Connector 28"/>
          <p:cNvSpPr/>
          <p:nvPr/>
        </p:nvSpPr>
        <p:spPr>
          <a:xfrm flipV="1">
            <a:off x="2195640" y="1844280"/>
            <a:ext cx="0" cy="1297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val 31"/>
          <p:cNvSpPr/>
          <p:nvPr/>
        </p:nvSpPr>
        <p:spPr>
          <a:xfrm>
            <a:off x="2700360" y="3573360"/>
            <a:ext cx="3729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Left Brace 32"/>
          <p:cNvSpPr/>
          <p:nvPr/>
        </p:nvSpPr>
        <p:spPr>
          <a:xfrm rot="16200000">
            <a:off x="4343400" y="2938680"/>
            <a:ext cx="457200" cy="3311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3311280"/>
              <a:gd name="textAreaBottom" fmla="*/ 329940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661"/>
                </a:lnTo>
                <a:cubicBezTo>
                  <a:pt x="10800" y="10785"/>
                  <a:pt x="5400" y="10909"/>
                  <a:pt x="0" y="10909"/>
                </a:cubicBezTo>
                <a:cubicBezTo>
                  <a:pt x="5400" y="10909"/>
                  <a:pt x="10800" y="11033"/>
                  <a:pt x="10800" y="11157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val 33"/>
          <p:cNvSpPr/>
          <p:nvPr/>
        </p:nvSpPr>
        <p:spPr>
          <a:xfrm>
            <a:off x="4344840" y="479736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traight Connector 34"/>
          <p:cNvSpPr/>
          <p:nvPr/>
        </p:nvSpPr>
        <p:spPr>
          <a:xfrm flipV="1">
            <a:off x="6227640" y="328464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traight Connector 36"/>
          <p:cNvSpPr/>
          <p:nvPr/>
        </p:nvSpPr>
        <p:spPr>
          <a:xfrm flipV="1">
            <a:off x="2916360" y="393372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60D1-6304-479A-B617-1F00DBDC1C7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rcRect l="19089" t="17347" r="17265" b="16703"/>
          <a:stretch/>
        </p:blipFill>
        <p:spPr>
          <a:xfrm>
            <a:off x="395280" y="62064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468360" y="5516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If Then Else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is program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quival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he one in previous slide#3 that uses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6972-BA0F-4823-9311-37730E3200B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79280" y="2492280"/>
            <a:ext cx="3961080" cy="733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Select Case Statement (The code in Slide#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859280" y="2492280"/>
            <a:ext cx="4140360" cy="733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If Then Else Statement (The code in Slide#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324000" y="5516640"/>
            <a:ext cx="4032000" cy="520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Press one of the Calculate Score Button Without Entering any score in the TextBo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560232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2857320" cy="213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4"/>
          <a:stretch/>
        </p:blipFill>
        <p:spPr>
          <a:xfrm>
            <a:off x="5602320" y="335772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8"/>
          <p:cNvSpPr/>
          <p:nvPr/>
        </p:nvSpPr>
        <p:spPr>
          <a:xfrm>
            <a:off x="4932360" y="5516640"/>
            <a:ext cx="4032360" cy="520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89 and press one of the Calculate Score but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grade in the range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0 represents a Perfect 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90–99 represents an A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80–89 represents a B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0–79 represents a C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60–69 represents a D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nd 0–59 represents an F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assume that the user enters a grade in the range 0–100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expression following the keyword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in this case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is called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troll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xpress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is compared in order with eac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a matching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found, the code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executes, then program control proceeds to the first statement after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908000" y="6308640"/>
            <a:ext cx="684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C0E0-252B-422C-B2DB-EDD64074E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28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28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atement can specify multiple action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 The Following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has two action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output will be as follow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pecifies the range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0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ans all the values [80,81,82,….,87,88,89] ranging between 80 to 8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C461-F640-418D-A833-54415CAD1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19642" t="31798" r="43279" b="58862"/>
          <a:stretch/>
        </p:blipFill>
        <p:spPr>
          <a:xfrm>
            <a:off x="1476360" y="1989000"/>
            <a:ext cx="6029280" cy="80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28576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between the controlling expression’s value (grade) and a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bel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Garamond"/>
              </a:rPr>
              <a:t>optional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ecu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necessary to write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lide#3: If the User enters the value 59, the action of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executed as follo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7769-EE4E-4BD2-9DE0-28F8E415B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857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8"/>
          <p:cNvGrpSpPr/>
          <p:nvPr/>
        </p:nvGrpSpPr>
        <p:grpSpPr>
          <a:xfrm>
            <a:off x="34920" y="3924360"/>
            <a:ext cx="4897440" cy="2232000"/>
            <a:chOff x="34920" y="3924360"/>
            <a:chExt cx="4897440" cy="223200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rcRect l="25178" t="36048" r="38299" b="33440"/>
            <a:stretch/>
          </p:blipFill>
          <p:spPr>
            <a:xfrm>
              <a:off x="178920" y="3924360"/>
              <a:ext cx="47534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6"/>
            <p:cNvSpPr/>
            <p:nvPr/>
          </p:nvSpPr>
          <p:spPr>
            <a:xfrm>
              <a:off x="34920" y="5652360"/>
              <a:ext cx="439344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6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Select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80e6"/>
                </a:solidFill>
                <a:latin typeface="Lucida Console"/>
              </a:rPr>
              <a:t>Case</a:t>
            </a:r>
            <a:r>
              <a:rPr b="0" lang="en-US" sz="3200" spc="-1" strike="noStrike">
                <a:solidFill>
                  <a:srgbClr val="3380e6"/>
                </a:solidFill>
                <a:latin typeface="Arial"/>
              </a:rPr>
              <a:t> Multiple-Select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and the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ontain a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gram control simply continues with the first statement after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de in slide#3 does not have the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bellow, when the user Enters the number 59 nothing will hap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94CF-617C-4960-AAD3-35BA071E0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5867280" y="4140360"/>
            <a:ext cx="2857680" cy="1819080"/>
          </a:xfrm>
          <a:prstGeom prst="rect">
            <a:avLst/>
          </a:prstGeom>
          <a:ln w="0">
            <a:noFill/>
          </a:ln>
        </p:spPr>
      </p:pic>
      <p:cxnSp>
        <p:nvCxnSpPr>
          <p:cNvPr id="130" name="Straight Arrow Connector 11"/>
          <p:cNvCxnSpPr/>
          <p:nvPr/>
        </p:nvCxnSpPr>
        <p:spPr>
          <a:xfrm>
            <a:off x="4932000" y="5040000"/>
            <a:ext cx="935640" cy="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31" name="Straight Arrow Connector 13"/>
          <p:cNvCxnSpPr/>
          <p:nvPr/>
        </p:nvCxnSpPr>
        <p:spPr>
          <a:xfrm>
            <a:off x="5508720" y="5652720"/>
            <a:ext cx="108000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32" name="TextBox 15"/>
          <p:cNvSpPr/>
          <p:nvPr/>
        </p:nvSpPr>
        <p:spPr>
          <a:xfrm>
            <a:off x="4356000" y="5653080"/>
            <a:ext cx="115272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Nothing is display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4:33:12Z</dcterms:created>
  <dc:creator>Maysoon</dc:creator>
  <dc:description/>
  <dc:language>en-US</dc:language>
  <cp:lastModifiedBy>sara</cp:lastModifiedBy>
  <dcterms:modified xsi:type="dcterms:W3CDTF">2014-02-22T17:46:0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