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3B0-E9B3-443C-88DF-BF60DDC9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829-B6FF-4468-9FED-13BBA95D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EDB-352E-4EC3-AFBD-0D87C3E0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3FB-65B9-4D3F-B979-6AB41ACC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A751-4DD1-4846-93FE-F34F1B8F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A5DB-B14C-459F-897A-2E1C068B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AB5A-0E95-4632-8EFC-0E17620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0229-C497-4C3D-8430-FF296DD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AD15-ECC6-4263-876B-3D98DDF1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417D-8992-4222-9C46-D7C63796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99A2-CA1A-4D82-8CC9-6F766EAE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96D-7B2E-479F-8104-0CA10A8D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53CF-2A91-41F1-8C00-B3C2F417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D92B-563A-4C43-98E5-F6C7582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F9B-3FF4-4805-9605-D0A0707D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E9A7-EA26-4A5A-BE85-D9A74B05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F813-73AA-4094-A4A7-31E4B50F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EAA-F343-4FC6-956D-6C26BE20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76C-35F8-4CBD-A8F7-8C42DE1E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A82-2667-4B9F-80DB-60E7FCC7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D3B-606C-4A5E-B736-AD34602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E64-4934-40A3-8A8C-5B23D2F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60E-D37C-48BC-80B6-DF54885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118-5F87-4A27-9130-F1E6B9E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69EB-4D3F-41D0-B235-8AA1CE2FF83D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D96A-86A8-4CF1-B814-059C5D9164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B5C-9F78-429B-91A2-20A3A620395D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EC80-02C4-49BE-8F97-3B9AFAEB9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80e6"/>
                </a:solidFill>
                <a:latin typeface="Lucida Console"/>
              </a:rPr>
              <a:t>Chapter 4 </a:t>
            </a:r>
            <a:br>
              <a:rPr sz="3200"/>
            </a:b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 &amp; Logical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4284-05E2-451C-866F-93EAA3BB46F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444B-7B90-45A8-9280-14E68F4387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13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DF1-F0BA-4FAF-A741-14DF82B4844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 Multiple-Selection Stat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32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32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EC4B-FE26-4F08-9A0A-68346935A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403280" y="3630600"/>
            <a:ext cx="2664000" cy="58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364000" y="3773520"/>
            <a:ext cx="2737080" cy="34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Straight Arrow Connector 8"/>
          <p:cNvCxnSpPr>
            <a:stCxn id="146" idx="3"/>
            <a:endCxn id="147" idx="1"/>
          </p:cNvCxnSpPr>
          <p:nvPr/>
        </p:nvCxnSpPr>
        <p:spPr>
          <a:xfrm>
            <a:off x="4067280" y="3925440"/>
            <a:ext cx="129744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9" name="TextBox 9"/>
          <p:cNvSpPr/>
          <p:nvPr/>
        </p:nvSpPr>
        <p:spPr>
          <a:xfrm>
            <a:off x="4067280" y="36306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 Multiple-Selection Stat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32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32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AC6C-B390-4902-82A1-B1540251F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981-7E91-424B-BBC4-A4F4510F7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B322-4F75-47C3-A49F-D62B2270E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3313-6CB5-4C89-A3B3-B3D1C98F8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D88F-B17B-4435-A2CA-FA8B81A73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30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30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200-1A5F-4E0D-91FB-53D1DAA85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4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4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2505240" y="4888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552456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eft Brace 7"/>
          <p:cNvSpPr/>
          <p:nvPr/>
        </p:nvSpPr>
        <p:spPr>
          <a:xfrm rot="16200000">
            <a:off x="575316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eft Brace 8"/>
          <p:cNvSpPr/>
          <p:nvPr/>
        </p:nvSpPr>
        <p:spPr>
          <a:xfrm rot="16200000">
            <a:off x="431460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1905120" y="5486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1D35-C528-4D12-841A-212888CB7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 Placeholder 2" descr=""/>
          <p:cNvPicPr/>
          <p:nvPr/>
        </p:nvPicPr>
        <p:blipFill>
          <a:blip r:embed="rId1"/>
          <a:stretch/>
        </p:blipFill>
        <p:spPr>
          <a:xfrm>
            <a:off x="371520" y="1511280"/>
            <a:ext cx="8321760" cy="516420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A896-2174-466D-85D5-4EE7BDB2C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EC51-E1CE-474B-80DF-6160BD834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30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30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6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58BD-B2F3-41FE-BFA8-068C82CD0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8340-B29C-436B-A247-D6C44A0A0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442A-0AED-40A2-965A-7BF0E2A91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20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E9A2-5D1F-45E4-B9EF-4A5DA51E0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D9F7-A7BC-4329-BE96-46FCD8E2F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" descr="vbhtp5_05images_Page_33.png"/>
          <p:cNvPicPr/>
          <p:nvPr/>
        </p:nvPicPr>
        <p:blipFill>
          <a:blip r:embed="rId1"/>
          <a:srcRect l="12500" t="0" r="30003" b="49990"/>
          <a:stretch/>
        </p:blipFill>
        <p:spPr>
          <a:xfrm>
            <a:off x="3581280" y="3676680"/>
            <a:ext cx="5257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077D-D7A4-466C-BE2D-1F99D5B77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90B-D821-4EC9-882E-E1C582D78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Straight Arrow Connector 7"/>
          <p:cNvCxnSpPr>
            <a:stCxn id="226" idx="3"/>
            <a:endCxn id="227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9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A00E-4A30-4844-B9B9-5C230CD70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ors’ Prece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A9D9-2F88-4E6A-B1B9-FA58FE733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" descr="vbhtp5_05images_Page_40.png"/>
          <p:cNvPicPr/>
          <p:nvPr/>
        </p:nvPicPr>
        <p:blipFill>
          <a:blip r:embed="rId1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D67-17B4-44BD-8E53-BB819AF4BC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0A8E-1EBC-485F-90E7-65A9FBF35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30"/>
                </a:cubicBezTo>
                <a:lnTo>
                  <a:pt x="10800" y="13279"/>
                </a:lnTo>
                <a:cubicBezTo>
                  <a:pt x="10800" y="13494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9"/>
                </a:cubicBezTo>
                <a:lnTo>
                  <a:pt x="10800" y="21170"/>
                </a:lnTo>
                <a:cubicBezTo>
                  <a:pt x="10800" y="2138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BC7-92E9-4F74-8CD4-372B494F3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8"/>
                </a:cubicBezTo>
                <a:lnTo>
                  <a:pt x="10800" y="10130"/>
                </a:lnTo>
                <a:cubicBezTo>
                  <a:pt x="10800" y="10374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6"/>
                </a:cubicBezTo>
                <a:lnTo>
                  <a:pt x="10800" y="21112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435"/>
                </a:lnTo>
                <a:cubicBezTo>
                  <a:pt x="10800" y="10672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3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274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7"/>
                  <a:pt x="10800" y="11544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661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3"/>
                  <a:pt x="10800" y="11157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FC89-41E5-48F9-B3ED-E567CA216A0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68360" y="5516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83E1-227B-49D3-92A3-E5C5837CBCA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0AC3-0089-43D0-9D9A-05AE35F47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E15E-FE9E-4224-8A8D-E45648829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87C0-44F2-4DE0-846F-A8508BD87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8"/>
          <p:cNvGrpSpPr/>
          <p:nvPr/>
        </p:nvGrpSpPr>
        <p:grpSpPr>
          <a:xfrm>
            <a:off x="34920" y="3924360"/>
            <a:ext cx="4897440" cy="2232000"/>
            <a:chOff x="34920" y="3924360"/>
            <a:chExt cx="4897440" cy="223200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92436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6"/>
            <p:cNvSpPr/>
            <p:nvPr/>
          </p:nvSpPr>
          <p:spPr>
            <a:xfrm>
              <a:off x="34920" y="565236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DACF-69AC-4316-8821-A772FC6B3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130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31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32" name="TextBox 15"/>
          <p:cNvSpPr/>
          <p:nvPr/>
        </p:nvSpPr>
        <p:spPr>
          <a:xfrm>
            <a:off x="4356000" y="5653080"/>
            <a:ext cx="11527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sara</cp:lastModifiedBy>
  <dcterms:modified xsi:type="dcterms:W3CDTF">2014-02-22T17:46:0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