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9ED-181A-4A81-B6D0-9731365C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982-14D0-49D9-AE42-235C4CC1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45C-8DF9-459C-B748-E06DFB78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8FD-F459-423B-8521-9E97E671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36C4-4675-48CE-A52E-913D6F02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FD12-ED47-4351-9352-D279F9F3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0A4F-F7F6-488C-B32E-F9A66ABD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F728-29B2-498A-8CE4-36BA78A5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9E2D-0067-46B1-8D8A-38572331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32FB-E31B-4CAB-9A9E-D487F2CE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DC14-569D-4684-9C8A-08E1D250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E43-15A2-4442-AF04-F52DCB0A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5208-A644-4011-A33B-312E5CC7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73C4-1100-4F33-87AA-B51C3AAB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E719-5954-42E7-85D4-3FBBE0AC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846A-56C9-4257-986B-CE7BDE85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B6C9-6CBD-48B6-9DF8-FE2C7594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D17D8-7F60-4EE8-9261-B0507DD1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A4A6-E5F3-468B-ADC0-72F970DB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9F151-30DB-4EFD-A74D-D7DFF523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7DEE3-9AB1-4FFC-AA3F-B2B17525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AC7A2-64C2-4751-9B3B-B5FAE267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7E1-CBEA-495B-99F8-F6154B99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7B4CE-9C5B-4E82-A816-86380AF6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4F6C7-F7F1-438F-8B9E-C15B5DE5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FD5D3-4BEE-4A9C-92F0-65487D45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7BDED-AC39-4D46-9CC3-5E2D745D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7B54E-FDA9-4E2F-83F0-89F47F8C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D9E8E-B053-4B35-B672-E39A1613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D3CAE-9BA0-42E7-824D-F1D50CCD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9DEDE-0867-4BB8-A6E8-D341E50E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BD3240-AD80-483A-BDD8-CC3BC857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EE8B2-E4BD-44C5-B6F6-0B38E95B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064-40A1-4BC7-B358-A48D7B04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87C2A7-860B-41F0-8880-A0915E53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3E0CA7-2DFC-4039-B305-DE6D41F7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1A9B4-1563-44D9-80B2-2527D591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D04FE1-0F59-42CB-9757-695C6D98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24A4BB-2EDD-4B29-B55E-5AE3AF34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C4C79D-D5C6-4C0B-8751-DFCCB620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38497-91EE-4D4E-8643-018D2157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A8C70-D307-4AD7-8CCD-34EAD081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3C4B2-BAD1-4DFB-9E06-3F367C09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B684A-0225-4E42-852A-747CB557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744-C4FF-41DC-B315-21E4427A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36CC5-6A71-4B21-80C0-121E564A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5A4DA-2646-44F3-B121-D1D7002C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0073-DDDD-4747-8F68-E4651658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C6200-C510-4D60-B145-549B6A20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40853-67C1-451E-86C4-3B5DDEB1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4C7EF-3CE3-4D45-ADB3-4E3BBDF6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786DB-15DB-4C0C-B648-8864B08D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D122D-D572-45B2-932E-032666FB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CD145-CFA1-4AED-B56C-F9088B4A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C82B4-7304-424B-B454-DBC056E7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997-ECE7-4559-8CAE-BC6026ED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DD4ED-7B28-4726-B014-BE6BF1D5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D9747-7BE2-4C89-94B8-27A1D818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5B141-A6AB-4E1D-988C-D616A7BA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4EDFD-13B6-4B12-9D21-183D38ED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82F0F-397C-4874-AE54-27E64470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A5D74-0063-44AE-8A13-E3CEAEC9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EDB82-89A7-4E85-B221-E07332F5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46E6D-A649-4A5B-88E9-2575EC98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4D6A4-D4EA-451A-A675-C0F3CA88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B851E-EDF5-4C7E-AD95-CE724E83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F18-34A8-404D-B9A6-F35C5FFE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35890-1AAE-49BD-950F-374CB693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0437D-9CAF-4AB9-9BA8-3540BCCC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0DCC8-9308-48F9-B8A2-7E847443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62B3F-6767-47BA-8899-DD28B03D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E853A-AA86-45C8-BBE9-71D9BDDA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99AFE-C03D-4B47-B1B8-1E1ED5F3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EDD71-64D5-4D33-96C7-14BEE68B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57971-1486-4437-8526-51127589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820D8-7B2C-436A-A40C-0364F88E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8CB1B-871E-4668-978C-D07A7C5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256-AE02-48E8-A604-19630098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98D72-7735-4F9C-964B-89F820C6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C3288-5D21-4E17-B70C-629B11C7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61EE5-B27E-41C4-9D5A-1A441C3F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B90D4-0987-4635-990B-A17E1FAC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751DF-B0B8-4A64-A920-900792B1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DF6-67BA-4E84-9935-BD3C9EBD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437C-BC03-47E2-8B5B-CC409D16C9AD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1992-2011 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689A-5E84-4A54-87FA-8BD9B40BE18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1241-FD58-4B3B-8A80-8405D028C60D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 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96B6-0E37-4A54-BEA5-BCE5E9D7828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76F7-CC65-4926-A65C-2F5BDD82C06A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1992-2011 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911F-4473-4C2A-8C80-767F6118E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ight Triangle 3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8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3" name="Freeform 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Freeform 7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6" name="Freeform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8" name="Straight Connector 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Action Button: Forward or Next 10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0DC0-1FBA-4B66-B075-97771BF91185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6A21-F894-436B-9077-7969BA9B9A0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2742840" y="6408720"/>
            <a:ext cx="398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© 1992-2011 by Pearson Education, Inc. All Rights Reserved. - 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7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C269-7A73-4991-8463-94861A187176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٧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4BC7-6A38-4784-8870-B48002E6F14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6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DA85-B943-4EF7-8EA9-7F0279E2F288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٧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C08C-CC62-448C-B846-2D7F2CFECD1A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4229-4579-4226-91BE-20943456834D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٧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BB4A-ED6C-4948-9337-B2892318A864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731960"/>
            <a:ext cx="8010360" cy="185904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75B8-F060-43A2-B9A1-B922566F6BC5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743200" y="6408720"/>
            <a:ext cx="398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4" descr=""/>
          <p:cNvPicPr/>
          <p:nvPr/>
        </p:nvPicPr>
        <p:blipFill>
          <a:blip r:embed="rId1"/>
          <a:stretch/>
        </p:blipFill>
        <p:spPr>
          <a:xfrm>
            <a:off x="-12600" y="208080"/>
            <a:ext cx="8705880" cy="1218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9528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only is used to deal with invalid valu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ample, we assume all values entered by the user are in the range 0–100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ed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the las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words terminate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A68F-EC63-47C9-9499-F914DB1118C8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vbhtp5_05images_Page_25.pn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384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0B02-9C4F-47B3-BFD9-5CD91A95DF4B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" descr="vbhtp5_05images_Page_24.png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5551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" descr="vbhtp5_05images_Page_26.png"/>
          <p:cNvPicPr/>
          <p:nvPr/>
        </p:nvPicPr>
        <p:blipFill>
          <a:blip r:embed="rId3"/>
          <a:stretch/>
        </p:blipFill>
        <p:spPr>
          <a:xfrm>
            <a:off x="0" y="3357720"/>
            <a:ext cx="914400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s also can use relational operators to determine whether the controlling expression satisfies a condi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long with the relational operator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 to test for values less than 0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05DA-BAEE-4091-B42E-AB5B03D4E9B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1403280" y="4767120"/>
            <a:ext cx="2664000" cy="58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&lt;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5364000" y="4910040"/>
            <a:ext cx="2737080" cy="3405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rade &lt; </a:t>
            </a:r>
            <a:r>
              <a:rPr b="0" lang="en-US" sz="1800" spc="-1" strike="noStrike">
                <a:solidFill>
                  <a:srgbClr val="00b0f0"/>
                </a:solidFill>
                <a:latin typeface="Lucida Conso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Straight Arrow Connector 8"/>
          <p:cNvCxnSpPr>
            <a:stCxn id="392" idx="3"/>
            <a:endCxn id="393" idx="1"/>
          </p:cNvCxnSpPr>
          <p:nvPr/>
        </p:nvCxnSpPr>
        <p:spPr>
          <a:xfrm>
            <a:off x="4067280" y="5062320"/>
            <a:ext cx="1297440" cy="1080"/>
          </a:xfrm>
          <a:prstGeom prst="straightConnector1">
            <a:avLst/>
          </a:prstGeom>
          <a:ln w="5508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395" name="TextBox 9"/>
          <p:cNvSpPr/>
          <p:nvPr/>
        </p:nvSpPr>
        <p:spPr>
          <a:xfrm>
            <a:off x="4067280" y="47671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1f28"/>
                </a:solidFill>
                <a:latin typeface="Calibri"/>
              </a:rPr>
              <a:t>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ultiple values can be tested i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 by separating the values with </a:t>
            </a:r>
            <a:r>
              <a:rPr b="0" lang="en-US" sz="2300" spc="-1" strike="noStrike">
                <a:solidFill>
                  <a:srgbClr val="0033cc"/>
                </a:solidFill>
                <a:latin typeface="Times New Roman"/>
              </a:rPr>
              <a:t>comma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as 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ich tests for the value 0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lues in the range 5–9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 can be used to test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34CA-1251-47A7-BEEE-85EEDC0094C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ts val="25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 Statement to test 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tring valu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ts val="25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Example: (The Select Color Example)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program that asks the user to enter one of the three basic colors (red,green,blue) if the input is correct the label change its color to the entered col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D9B8-59EE-4DEA-A355-B52B0FB55B2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4608360" y="465300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459432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4"/>
          <a:stretch/>
        </p:blipFill>
        <p:spPr>
          <a:xfrm>
            <a:off x="161928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5"/>
          <a:stretch/>
        </p:blipFill>
        <p:spPr>
          <a:xfrm>
            <a:off x="1619280" y="4653000"/>
            <a:ext cx="27003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425080" cy="12189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914400" y="1341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(The Select Color Example Progra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9957-19E8-4F2D-B3C6-625FFBEDE5F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2"/>
          <a:srcRect l="2487" t="16218" r="37743" b="33937"/>
          <a:stretch/>
        </p:blipFill>
        <p:spPr>
          <a:xfrm>
            <a:off x="826920" y="1989000"/>
            <a:ext cx="777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dition is an expression that results in a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—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, we’ve studied onl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mple cond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ch a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lection and repetition statement evaluated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condition with one of the operators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7EE5-A5F2-4FE2-9763-5135111A08E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handle multiple conditions more efficiently, the </a:t>
            </a:r>
            <a:r>
              <a:rPr b="0" lang="en-US" sz="2700" spc="-1" strike="noStrike">
                <a:solidFill>
                  <a:srgbClr val="0000ff"/>
                </a:solidFill>
                <a:latin typeface="Times New Roman"/>
              </a:rPr>
              <a:t>logical operator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an be used to form complex conditions by combining simple 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gical operators are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4CE8-88E6-48AB-8C90-867411CF02D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ppose we wish to ensure that two conditions are bot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n a program before a certain path of execution is chos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n such a case, we can use the logical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n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 as follow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gender 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seniorFemales +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1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 contains two simple condi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7999-D731-438E-93C0-8EBD73DA9C9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n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F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female a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a senior citiz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simple conditions are evaluated first, because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oth higher than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If gender = </a:t>
            </a:r>
            <a:r>
              <a:rPr b="0" lang="en-US" sz="21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1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2100" spc="-1" strike="noStrike">
                <a:solidFill>
                  <a:srgbClr val="128aff"/>
                </a:solidFill>
                <a:latin typeface="Lucida Console"/>
              </a:rPr>
              <a:t>65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10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F3FB-841B-4D79-958D-57EDEB9420E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2357280" y="477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4429080" y="477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eft Brace 6"/>
          <p:cNvSpPr/>
          <p:nvPr/>
        </p:nvSpPr>
        <p:spPr>
          <a:xfrm rot="16200000">
            <a:off x="2847960" y="3924000"/>
            <a:ext cx="304560" cy="175284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752840"/>
              <a:gd name="textAreaBottom" fmla="*/ 17449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7"/>
                  <a:pt x="10800" y="313"/>
                </a:cubicBezTo>
                <a:lnTo>
                  <a:pt x="10800" y="10487"/>
                </a:lnTo>
                <a:cubicBezTo>
                  <a:pt x="10800" y="10644"/>
                  <a:pt x="5400" y="10800"/>
                  <a:pt x="0" y="10800"/>
                </a:cubicBezTo>
                <a:cubicBezTo>
                  <a:pt x="5400" y="10800"/>
                  <a:pt x="10800" y="10957"/>
                  <a:pt x="10800" y="11113"/>
                </a:cubicBezTo>
                <a:lnTo>
                  <a:pt x="10800" y="21287"/>
                </a:lnTo>
                <a:cubicBezTo>
                  <a:pt x="10800" y="214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eft Brace 7"/>
          <p:cNvSpPr/>
          <p:nvPr/>
        </p:nvSpPr>
        <p:spPr>
          <a:xfrm rot="16200000">
            <a:off x="4962600" y="411480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eft Brace 8"/>
          <p:cNvSpPr/>
          <p:nvPr/>
        </p:nvSpPr>
        <p:spPr>
          <a:xfrm rot="16200000">
            <a:off x="3962520" y="407628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2514600"/>
              <a:gd name="textAreaBottom" fmla="*/ 25066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9"/>
          <p:cNvSpPr/>
          <p:nvPr/>
        </p:nvSpPr>
        <p:spPr>
          <a:xfrm>
            <a:off x="1905120" y="5486400"/>
            <a:ext cx="65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both are True then the condition of the </a:t>
            </a:r>
            <a:r>
              <a:rPr b="1" lang="en-US" sz="1800" spc="-1" strike="noStrike">
                <a:solidFill>
                  <a:srgbClr val="3333ff"/>
                </a:solidFill>
                <a:latin typeface="Calibri"/>
              </a:rPr>
              <a:t>If Stat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704440" cy="1218960"/>
          </a:xfrm>
          <a:prstGeom prst="rect">
            <a:avLst/>
          </a:prstGeom>
          <a:ln w="0">
            <a:noFill/>
          </a:ln>
        </p:spPr>
      </p:pic>
      <p:pic>
        <p:nvPicPr>
          <p:cNvPr id="332" name="Text Placeholder 2" descr=""/>
          <p:cNvPicPr/>
          <p:nvPr/>
        </p:nvPicPr>
        <p:blipFill>
          <a:blip r:embed="rId2"/>
          <a:stretch/>
        </p:blipFill>
        <p:spPr>
          <a:xfrm>
            <a:off x="450720" y="1511280"/>
            <a:ext cx="8242560" cy="5164200"/>
          </a:xfrm>
          <a:prstGeom prst="rect">
            <a:avLst/>
          </a:prstGeom>
          <a:ln w="0">
            <a:noFill/>
          </a:ln>
        </p:spPr>
      </p:pic>
      <p:sp>
        <p:nvSpPr>
          <p:cNvPr id="33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B0D3-EAFB-4491-AD70-2A0FD7EF59D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is combined condition i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niorFem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 is incremented by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dability of the preceding combined condition can be improved by adding parenthes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(gender 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(age &gt;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F6C6-43A6-4E99-B8C0-57B621F6A72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143000" y="2209680"/>
          <a:ext cx="6477120" cy="1854360"/>
        </p:xfrm>
        <a:graphic>
          <a:graphicData uri="http://schemas.openxmlformats.org/drawingml/2006/table">
            <a:tbl>
              <a:tblPr/>
              <a:tblGrid>
                <a:gridCol w="1933560"/>
                <a:gridCol w="1771560"/>
                <a:gridCol w="2772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nder = "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ge &gt;= </a:t>
                      </a:r>
                      <a:r>
                        <a:rPr b="0" lang="en-US" sz="1800" spc="-1" strike="noStrike">
                          <a:solidFill>
                            <a:srgbClr val="128aff"/>
                          </a:solidFill>
                          <a:latin typeface="Lucida Console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s the </a:t>
                      </a: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Lucida Sans Unicode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Condition m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ow let’s consider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ppose we wish to ensure that either or both of two conditions ar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before we choose a certain path of execu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use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 as in the following program segment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semesterAverage &gt;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Student grade is A"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s statement also contains two simple conditions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8541-E33A-4EEC-97FB-F1381884A83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mesterAv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throughout the semes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inalEx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on the final ex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910F-387B-4B9E-BFB2-FF858E221B1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then considers the combined condi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semesterAverage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wards the student an “A” if either or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x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isplayed, unless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 has a higher precedence tha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4FDD-EECE-4132-9F78-09524B64EBD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" descr="vbhtp5_05images_Page_31.png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453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B41D-311C-4379-BF1B-2F15439F505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ndition containing the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logical exclusive O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X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and only if one of its operands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 and the other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both operands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both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entire condition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8B58-DD94-460A-8C5F-C08F6F88C64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" descr="vbhtp5_05images_Page_33.png"/>
          <p:cNvPicPr/>
          <p:nvPr/>
        </p:nvPicPr>
        <p:blipFill>
          <a:blip r:embed="rId2"/>
          <a:srcRect l="12500" t="0" r="30003" b="49990"/>
          <a:stretch/>
        </p:blipFill>
        <p:spPr>
          <a:xfrm>
            <a:off x="3214800" y="3676680"/>
            <a:ext cx="56242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ogical negation) operator enables you to “reverse” the meaning of a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the logical operator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each comb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, the logical negation operator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, requiring only one oper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" descr="vbhtp5_05images_Page_34.png"/>
          <p:cNvPicPr/>
          <p:nvPr/>
        </p:nvPicPr>
        <p:blipFill>
          <a:blip r:embed="rId1"/>
          <a:srcRect l="25834" t="0" r="40002" b="52733"/>
          <a:stretch/>
        </p:blipFill>
        <p:spPr>
          <a:xfrm>
            <a:off x="2971800" y="3828960"/>
            <a:ext cx="3124080" cy="262440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0C18-EE8E-4682-AE06-58C1C4507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al negation operator is demonstrated by the following program segment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The value is "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&amp; value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entheses arou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ce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the logical negation operator (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a higher precedence than the equality operat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A60A-EDB8-4456-B341-946D7F7A7F6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cases, you can avoid using logical negation by expressing the condition differently with relational or equality operato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lexibility helps you express conditions more naturall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he preceding statement can be written as follow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Lucida Console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9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7BAA-E68F-432D-A0B3-1192AB6EE66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685800" y="4843440"/>
            <a:ext cx="3124080" cy="337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5943600" y="4843440"/>
            <a:ext cx="2666880" cy="337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value &lt;&gt;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Straight Arrow Connector 7"/>
          <p:cNvCxnSpPr>
            <a:stCxn id="473" idx="3"/>
            <a:endCxn id="474" idx="1"/>
          </p:cNvCxnSpPr>
          <p:nvPr/>
        </p:nvCxnSpPr>
        <p:spPr>
          <a:xfrm>
            <a:off x="3809520" y="5011200"/>
            <a:ext cx="21344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476" name="TextBox 8"/>
          <p:cNvSpPr/>
          <p:nvPr/>
        </p:nvSpPr>
        <p:spPr>
          <a:xfrm>
            <a:off x="3962520" y="4691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08D3-F73D-4C66-828A-37D920F2D6A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" descr="vbhtp5_05images_Page_40.png"/>
          <p:cNvPicPr/>
          <p:nvPr/>
        </p:nvPicPr>
        <p:blipFill>
          <a:blip r:embed="rId2"/>
          <a:srcRect l="14177" t="7786" r="30704" b="10502"/>
          <a:stretch/>
        </p:blipFill>
        <p:spPr>
          <a:xfrm>
            <a:off x="1763640" y="1557360"/>
            <a:ext cx="504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1862-AA3C-48DD-A6E1-8792897C4C4B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rcRect l="18538" t="15374" r="17821" b="19656"/>
          <a:stretch/>
        </p:blipFill>
        <p:spPr>
          <a:xfrm>
            <a:off x="539640" y="692280"/>
            <a:ext cx="8280360" cy="47527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971640" y="566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th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11280" y="134136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X += ( 4 \ y * 2 ) ^ ( x – 2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37C1-6F5C-4232-9BCF-C9999613C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eft Brace 6"/>
          <p:cNvSpPr/>
          <p:nvPr/>
        </p:nvSpPr>
        <p:spPr>
          <a:xfrm rot="16200000">
            <a:off x="3960000" y="1809000"/>
            <a:ext cx="432000" cy="503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3280"/>
              <a:gd name="textAreaBottom" fmla="*/ 4921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4"/>
                </a:cubicBezTo>
                <a:lnTo>
                  <a:pt x="10800" y="9256"/>
                </a:lnTo>
                <a:cubicBezTo>
                  <a:pt x="10800" y="10028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4"/>
                </a:cubicBezTo>
                <a:lnTo>
                  <a:pt x="10800" y="20056"/>
                </a:lnTo>
                <a:cubicBezTo>
                  <a:pt x="10800" y="2082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eft Brace 7"/>
          <p:cNvSpPr/>
          <p:nvPr/>
        </p:nvSpPr>
        <p:spPr>
          <a:xfrm rot="16200000">
            <a:off x="363528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8"/>
          <p:cNvSpPr/>
          <p:nvPr/>
        </p:nvSpPr>
        <p:spPr>
          <a:xfrm>
            <a:off x="3995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10"/>
          <p:cNvSpPr/>
          <p:nvPr/>
        </p:nvSpPr>
        <p:spPr>
          <a:xfrm flipV="1">
            <a:off x="341964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3635280" y="278136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eft Brace 16"/>
          <p:cNvSpPr/>
          <p:nvPr/>
        </p:nvSpPr>
        <p:spPr>
          <a:xfrm rot="16200000">
            <a:off x="5435280" y="2925360"/>
            <a:ext cx="289080" cy="57456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560"/>
              <a:gd name="textAreaBottom" fmla="*/ 56736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5"/>
                </a:cubicBezTo>
                <a:lnTo>
                  <a:pt x="10800" y="9895"/>
                </a:lnTo>
                <a:cubicBezTo>
                  <a:pt x="10800" y="10348"/>
                  <a:pt x="5400" y="10800"/>
                  <a:pt x="0" y="10800"/>
                </a:cubicBezTo>
                <a:cubicBezTo>
                  <a:pt x="5400" y="10800"/>
                  <a:pt x="10800" y="11253"/>
                  <a:pt x="10800" y="11705"/>
                </a:cubicBezTo>
                <a:lnTo>
                  <a:pt x="10800" y="20695"/>
                </a:lnTo>
                <a:cubicBezTo>
                  <a:pt x="10800" y="211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17"/>
          <p:cNvSpPr/>
          <p:nvPr/>
        </p:nvSpPr>
        <p:spPr>
          <a:xfrm flipV="1">
            <a:off x="586728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8"/>
          <p:cNvSpPr/>
          <p:nvPr/>
        </p:nvSpPr>
        <p:spPr>
          <a:xfrm>
            <a:off x="5435640" y="3357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0"/>
          <p:cNvSpPr/>
          <p:nvPr/>
        </p:nvSpPr>
        <p:spPr>
          <a:xfrm flipV="1">
            <a:off x="529272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eft Brace 22"/>
          <p:cNvSpPr/>
          <p:nvPr/>
        </p:nvSpPr>
        <p:spPr>
          <a:xfrm rot="16200000">
            <a:off x="4469400" y="3243960"/>
            <a:ext cx="432000" cy="18111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1811160"/>
              <a:gd name="textAreaBottom" fmla="*/ 1800000 h 18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29"/>
                </a:cubicBezTo>
                <a:lnTo>
                  <a:pt x="10800" y="13280"/>
                </a:lnTo>
                <a:cubicBezTo>
                  <a:pt x="10800" y="13495"/>
                  <a:pt x="5400" y="13709"/>
                  <a:pt x="0" y="13709"/>
                </a:cubicBezTo>
                <a:cubicBezTo>
                  <a:pt x="5400" y="13709"/>
                  <a:pt x="10800" y="13924"/>
                  <a:pt x="10800" y="14138"/>
                </a:cubicBezTo>
                <a:lnTo>
                  <a:pt x="10800" y="21171"/>
                </a:lnTo>
                <a:cubicBezTo>
                  <a:pt x="10800" y="213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3"/>
          <p:cNvSpPr/>
          <p:nvPr/>
        </p:nvSpPr>
        <p:spPr>
          <a:xfrm flipV="1">
            <a:off x="5591160" y="3716280"/>
            <a:ext cx="0" cy="217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25"/>
          <p:cNvSpPr/>
          <p:nvPr/>
        </p:nvSpPr>
        <p:spPr>
          <a:xfrm flipV="1">
            <a:off x="3780000" y="314172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40"/>
          <p:cNvSpPr/>
          <p:nvPr/>
        </p:nvSpPr>
        <p:spPr>
          <a:xfrm>
            <a:off x="4788000" y="4365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eft Brace 41"/>
          <p:cNvSpPr/>
          <p:nvPr/>
        </p:nvSpPr>
        <p:spPr>
          <a:xfrm rot="16200000">
            <a:off x="3640680" y="3999240"/>
            <a:ext cx="431640" cy="2170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2170080"/>
              <a:gd name="textAreaBottom" fmla="*/ 2158920 h 21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9"/>
                  <a:pt x="10800" y="358"/>
                </a:cubicBezTo>
                <a:lnTo>
                  <a:pt x="10800" y="13351"/>
                </a:lnTo>
                <a:cubicBezTo>
                  <a:pt x="10800" y="13530"/>
                  <a:pt x="5400" y="13709"/>
                  <a:pt x="0" y="13709"/>
                </a:cubicBezTo>
                <a:cubicBezTo>
                  <a:pt x="5400" y="13709"/>
                  <a:pt x="10800" y="13888"/>
                  <a:pt x="10800" y="14067"/>
                </a:cubicBezTo>
                <a:lnTo>
                  <a:pt x="10800" y="21242"/>
                </a:lnTo>
                <a:cubicBezTo>
                  <a:pt x="10800" y="2142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42"/>
          <p:cNvSpPr/>
          <p:nvPr/>
        </p:nvSpPr>
        <p:spPr>
          <a:xfrm flipV="1">
            <a:off x="4941720" y="4724280"/>
            <a:ext cx="0" cy="1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43"/>
          <p:cNvSpPr/>
          <p:nvPr/>
        </p:nvSpPr>
        <p:spPr>
          <a:xfrm flipV="1">
            <a:off x="2771640" y="1773000"/>
            <a:ext cx="0" cy="309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44"/>
          <p:cNvSpPr/>
          <p:nvPr/>
        </p:nvSpPr>
        <p:spPr>
          <a:xfrm>
            <a:off x="3995640" y="530064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If Not( x * y &lt; 0 ) And ( x ^ 2 &gt;= 100 Mod 4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4D25-4192-4A71-974E-19EC1DE81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eft Brace 6"/>
          <p:cNvSpPr/>
          <p:nvPr/>
        </p:nvSpPr>
        <p:spPr>
          <a:xfrm rot="16200000">
            <a:off x="2808000" y="1807920"/>
            <a:ext cx="432000" cy="505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5080"/>
              <a:gd name="textAreaBottom" fmla="*/ 4939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0"/>
                  <a:pt x="10800" y="1540"/>
                </a:cubicBezTo>
                <a:lnTo>
                  <a:pt x="10800" y="9260"/>
                </a:lnTo>
                <a:cubicBezTo>
                  <a:pt x="10800" y="10030"/>
                  <a:pt x="5400" y="10800"/>
                  <a:pt x="0" y="10800"/>
                </a:cubicBezTo>
                <a:cubicBezTo>
                  <a:pt x="5400" y="10800"/>
                  <a:pt x="10800" y="11570"/>
                  <a:pt x="10800" y="12340"/>
                </a:cubicBezTo>
                <a:lnTo>
                  <a:pt x="10800" y="20060"/>
                </a:lnTo>
                <a:cubicBezTo>
                  <a:pt x="10800" y="2083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eft Brace 7"/>
          <p:cNvSpPr/>
          <p:nvPr/>
        </p:nvSpPr>
        <p:spPr>
          <a:xfrm rot="16200000">
            <a:off x="327492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"/>
          <p:cNvSpPr/>
          <p:nvPr/>
        </p:nvSpPr>
        <p:spPr>
          <a:xfrm>
            <a:off x="284328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0"/>
          <p:cNvSpPr/>
          <p:nvPr/>
        </p:nvSpPr>
        <p:spPr>
          <a:xfrm flipV="1">
            <a:off x="378000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3276720" y="2781360"/>
            <a:ext cx="3585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eft Brace 16"/>
          <p:cNvSpPr/>
          <p:nvPr/>
        </p:nvSpPr>
        <p:spPr>
          <a:xfrm rot="16200000">
            <a:off x="5219640" y="1701360"/>
            <a:ext cx="289080" cy="5749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920"/>
              <a:gd name="textAreaBottom" fmla="*/ 56772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5"/>
                </a:cubicBezTo>
                <a:lnTo>
                  <a:pt x="10800" y="9895"/>
                </a:lnTo>
                <a:cubicBezTo>
                  <a:pt x="10800" y="10348"/>
                  <a:pt x="5400" y="10800"/>
                  <a:pt x="0" y="10800"/>
                </a:cubicBezTo>
                <a:cubicBezTo>
                  <a:pt x="5400" y="10800"/>
                  <a:pt x="10800" y="11253"/>
                  <a:pt x="10800" y="11705"/>
                </a:cubicBezTo>
                <a:lnTo>
                  <a:pt x="10800" y="20695"/>
                </a:lnTo>
                <a:cubicBezTo>
                  <a:pt x="10800" y="211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8"/>
          <p:cNvSpPr/>
          <p:nvPr/>
        </p:nvSpPr>
        <p:spPr>
          <a:xfrm>
            <a:off x="5219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eft Brace 22"/>
          <p:cNvSpPr/>
          <p:nvPr/>
        </p:nvSpPr>
        <p:spPr>
          <a:xfrm rot="16200000">
            <a:off x="6981840" y="1450440"/>
            <a:ext cx="291960" cy="1079640"/>
          </a:xfrm>
          <a:custGeom>
            <a:avLst/>
            <a:gdLst>
              <a:gd name="textAreaLeft" fmla="*/ 186480 w 291960"/>
              <a:gd name="textAreaRight" fmla="*/ 292320 w 291960"/>
              <a:gd name="textAreaTop" fmla="*/ 7560 h 1079640"/>
              <a:gd name="textAreaBottom" fmla="*/ 107208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7"/>
                </a:cubicBezTo>
                <a:lnTo>
                  <a:pt x="10800" y="10131"/>
                </a:lnTo>
                <a:cubicBezTo>
                  <a:pt x="10800" y="10375"/>
                  <a:pt x="5400" y="10618"/>
                  <a:pt x="0" y="10618"/>
                </a:cubicBezTo>
                <a:cubicBezTo>
                  <a:pt x="5400" y="10618"/>
                  <a:pt x="10800" y="10862"/>
                  <a:pt x="10800" y="11105"/>
                </a:cubicBezTo>
                <a:lnTo>
                  <a:pt x="10800" y="21113"/>
                </a:lnTo>
                <a:cubicBezTo>
                  <a:pt x="10800" y="213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40"/>
          <p:cNvSpPr/>
          <p:nvPr/>
        </p:nvSpPr>
        <p:spPr>
          <a:xfrm>
            <a:off x="694836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eft Brace 41"/>
          <p:cNvSpPr/>
          <p:nvPr/>
        </p:nvSpPr>
        <p:spPr>
          <a:xfrm rot="16200000">
            <a:off x="6014160" y="1851480"/>
            <a:ext cx="457200" cy="1738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738440"/>
              <a:gd name="textAreaBottom" fmla="*/ 1726560 h 17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3"/>
                </a:cubicBezTo>
                <a:lnTo>
                  <a:pt x="10800" y="10436"/>
                </a:lnTo>
                <a:cubicBezTo>
                  <a:pt x="10800" y="10673"/>
                  <a:pt x="5400" y="10909"/>
                  <a:pt x="0" y="10909"/>
                </a:cubicBezTo>
                <a:cubicBezTo>
                  <a:pt x="5400" y="10909"/>
                  <a:pt x="10800" y="11146"/>
                  <a:pt x="10800" y="11382"/>
                </a:cubicBezTo>
                <a:lnTo>
                  <a:pt x="10800" y="21127"/>
                </a:lnTo>
                <a:cubicBezTo>
                  <a:pt x="10800" y="213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44"/>
          <p:cNvSpPr/>
          <p:nvPr/>
        </p:nvSpPr>
        <p:spPr>
          <a:xfrm>
            <a:off x="6084720" y="2924280"/>
            <a:ext cx="37332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eft Brace 27"/>
          <p:cNvSpPr/>
          <p:nvPr/>
        </p:nvSpPr>
        <p:spPr>
          <a:xfrm rot="16200000">
            <a:off x="2615400" y="2721960"/>
            <a:ext cx="457200" cy="1296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296720"/>
              <a:gd name="textAreaBottom" fmla="*/ 12848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7"/>
                  <a:pt x="10800" y="634"/>
                </a:cubicBezTo>
                <a:lnTo>
                  <a:pt x="10800" y="10275"/>
                </a:lnTo>
                <a:cubicBezTo>
                  <a:pt x="10800" y="10592"/>
                  <a:pt x="5400" y="10909"/>
                  <a:pt x="0" y="10909"/>
                </a:cubicBezTo>
                <a:cubicBezTo>
                  <a:pt x="5400" y="10909"/>
                  <a:pt x="10800" y="11226"/>
                  <a:pt x="10800" y="11543"/>
                </a:cubicBezTo>
                <a:lnTo>
                  <a:pt x="10800" y="20966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28"/>
          <p:cNvSpPr/>
          <p:nvPr/>
        </p:nvSpPr>
        <p:spPr>
          <a:xfrm flipV="1">
            <a:off x="2195640" y="1844280"/>
            <a:ext cx="0" cy="1297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1"/>
          <p:cNvSpPr/>
          <p:nvPr/>
        </p:nvSpPr>
        <p:spPr>
          <a:xfrm>
            <a:off x="2700360" y="3573360"/>
            <a:ext cx="3729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eft Brace 32"/>
          <p:cNvSpPr/>
          <p:nvPr/>
        </p:nvSpPr>
        <p:spPr>
          <a:xfrm rot="16200000">
            <a:off x="4343400" y="2938680"/>
            <a:ext cx="457200" cy="3311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3311280"/>
              <a:gd name="textAreaBottom" fmla="*/ 329940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660"/>
                </a:lnTo>
                <a:cubicBezTo>
                  <a:pt x="10800" y="10785"/>
                  <a:pt x="5400" y="10909"/>
                  <a:pt x="0" y="10909"/>
                </a:cubicBezTo>
                <a:cubicBezTo>
                  <a:pt x="5400" y="10909"/>
                  <a:pt x="10800" y="11034"/>
                  <a:pt x="10800" y="11158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33"/>
          <p:cNvSpPr/>
          <p:nvPr/>
        </p:nvSpPr>
        <p:spPr>
          <a:xfrm>
            <a:off x="4344840" y="479736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4"/>
          <p:cNvSpPr/>
          <p:nvPr/>
        </p:nvSpPr>
        <p:spPr>
          <a:xfrm flipV="1">
            <a:off x="6227640" y="3284640"/>
            <a:ext cx="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36"/>
          <p:cNvSpPr/>
          <p:nvPr/>
        </p:nvSpPr>
        <p:spPr>
          <a:xfrm flipV="1">
            <a:off x="2916360" y="393372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11E2-3720-4446-B2CC-45189B868A49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19089" t="17347" r="17265" b="16703"/>
          <a:stretch/>
        </p:blipFill>
        <p:spPr>
          <a:xfrm>
            <a:off x="395280" y="620640"/>
            <a:ext cx="8280360" cy="48243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5"/>
          <p:cNvSpPr/>
          <p:nvPr/>
        </p:nvSpPr>
        <p:spPr>
          <a:xfrm>
            <a:off x="468360" y="54291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If Then Else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his program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quival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the one in previous slide#3 that uses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17E1-CF6C-4967-9EA2-FAA447E81CAF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79280" y="2492280"/>
            <a:ext cx="3961080" cy="733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Select Case Statement (The code in Slide#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0"/>
          <p:cNvSpPr/>
          <p:nvPr/>
        </p:nvSpPr>
        <p:spPr>
          <a:xfrm>
            <a:off x="4859280" y="2492280"/>
            <a:ext cx="4140360" cy="733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If Then Else Statement (The code in Slide#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324000" y="5516640"/>
            <a:ext cx="4032000" cy="5202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Press one of the Calculate Score Button Without Entering any score in the Text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"/>
          <p:cNvPicPr/>
          <p:nvPr/>
        </p:nvPicPr>
        <p:blipFill>
          <a:blip r:embed="rId2"/>
          <a:stretch/>
        </p:blipFill>
        <p:spPr>
          <a:xfrm>
            <a:off x="560232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2857320" cy="2133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"/>
          <p:cNvPicPr/>
          <p:nvPr/>
        </p:nvPicPr>
        <p:blipFill>
          <a:blip r:embed="rId4"/>
          <a:stretch/>
        </p:blipFill>
        <p:spPr>
          <a:xfrm>
            <a:off x="5602320" y="3357720"/>
            <a:ext cx="2857320" cy="2133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8"/>
          <p:cNvSpPr/>
          <p:nvPr/>
        </p:nvSpPr>
        <p:spPr>
          <a:xfrm>
            <a:off x="4932360" y="5516640"/>
            <a:ext cx="4032360" cy="5202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89 and press one of the Calculate Scor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grade in the rang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00 represents a Perfect 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90–99 represents an A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80–89 represents a B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70–79 represents a C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60–69 represents a D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nd 0–59 represents an F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assume that the user enters a grade in the range 0–100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expression following the keyword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in this case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is called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troll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xpress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 is compared in order with eac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a matching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found, the code in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executes, then program control proceeds to the first statement after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1908000" y="6308640"/>
            <a:ext cx="684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8F63-DB0F-4040-8F20-163BA03DDE7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atement can specify multiple action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 The Following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has two action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output will be as follow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pecifies the range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0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ans all the values [80,81,82,….,87,88,89] ranging between 80 to 8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C5B8-1282-4DEB-AB7B-2C2E89E5A7F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2"/>
          <a:srcRect l="19642" t="31798" r="43279" b="58862"/>
          <a:stretch/>
        </p:blipFill>
        <p:spPr>
          <a:xfrm>
            <a:off x="1476360" y="1989000"/>
            <a:ext cx="6029280" cy="809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3"/>
          <a:stretch/>
        </p:blipFill>
        <p:spPr>
          <a:xfrm>
            <a:off x="5072040" y="2857680"/>
            <a:ext cx="28576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between the controlling expression’s value (grade) and a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bel,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Garamond"/>
              </a:rPr>
              <a:t>optional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ecut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necessary to write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lide#3: If the User enters the value 59, the action of th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 executed as follow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43F9-1408-41F1-BD43-BBA7AA12488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3276720" y="4149720"/>
            <a:ext cx="28573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8"/>
          <p:cNvGrpSpPr/>
          <p:nvPr/>
        </p:nvGrpSpPr>
        <p:grpSpPr>
          <a:xfrm>
            <a:off x="34920" y="3622680"/>
            <a:ext cx="4897440" cy="2232000"/>
            <a:chOff x="34920" y="3622680"/>
            <a:chExt cx="4897440" cy="2232000"/>
          </a:xfrm>
        </p:grpSpPr>
        <p:pic>
          <p:nvPicPr>
            <p:cNvPr id="369" name="Picture 2" descr=""/>
            <p:cNvPicPr/>
            <p:nvPr/>
          </p:nvPicPr>
          <p:blipFill>
            <a:blip r:embed="rId1"/>
            <a:srcRect l="25178" t="36048" r="38299" b="33440"/>
            <a:stretch/>
          </p:blipFill>
          <p:spPr>
            <a:xfrm>
              <a:off x="178920" y="3622680"/>
              <a:ext cx="47534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Box 6"/>
            <p:cNvSpPr/>
            <p:nvPr/>
          </p:nvSpPr>
          <p:spPr>
            <a:xfrm>
              <a:off x="34920" y="5350680"/>
              <a:ext cx="439344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Title 1" descr=""/>
          <p:cNvPicPr/>
          <p:nvPr/>
        </p:nvPicPr>
        <p:blipFill>
          <a:blip r:embed="rId2"/>
          <a:stretch/>
        </p:blipFill>
        <p:spPr>
          <a:xfrm>
            <a:off x="19080" y="208080"/>
            <a:ext cx="8880480" cy="12189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and the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contain a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gram control simply continues with the first statement after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ode in slide#3 does not have the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bellow, when the user Enters the number 59 nothing will happe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CA2E-DC3C-4375-BA66-D09BE7D33F6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3"/>
          <a:stretch/>
        </p:blipFill>
        <p:spPr>
          <a:xfrm>
            <a:off x="5867280" y="4140360"/>
            <a:ext cx="2857680" cy="1819080"/>
          </a:xfrm>
          <a:prstGeom prst="rect">
            <a:avLst/>
          </a:prstGeom>
          <a:ln w="0">
            <a:noFill/>
          </a:ln>
        </p:spPr>
      </p:pic>
      <p:cxnSp>
        <p:nvCxnSpPr>
          <p:cNvPr id="376" name="Straight Arrow Connector 11"/>
          <p:cNvCxnSpPr/>
          <p:nvPr/>
        </p:nvCxnSpPr>
        <p:spPr>
          <a:xfrm>
            <a:off x="4932000" y="5040000"/>
            <a:ext cx="935640" cy="1080"/>
          </a:xfrm>
          <a:prstGeom prst="straightConnector1">
            <a:avLst/>
          </a:prstGeom>
          <a:ln w="63360">
            <a:solidFill>
              <a:srgbClr val="7d3c4a"/>
            </a:solidFill>
            <a:miter/>
            <a:tailEnd len="med" type="triangle" w="med"/>
          </a:ln>
        </p:spPr>
      </p:cxnSp>
      <p:cxnSp>
        <p:nvCxnSpPr>
          <p:cNvPr id="377" name="Straight Arrow Connector 13"/>
          <p:cNvCxnSpPr/>
          <p:nvPr/>
        </p:nvCxnSpPr>
        <p:spPr>
          <a:xfrm>
            <a:off x="5508720" y="5652720"/>
            <a:ext cx="1080000" cy="108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triangle" w="med"/>
          </a:ln>
        </p:spPr>
      </p:cxnSp>
      <p:sp>
        <p:nvSpPr>
          <p:cNvPr id="378" name="TextBox 15"/>
          <p:cNvSpPr/>
          <p:nvPr/>
        </p:nvSpPr>
        <p:spPr>
          <a:xfrm>
            <a:off x="4356000" y="5286240"/>
            <a:ext cx="1152720" cy="82404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Lucida Sans Unicode"/>
              </a:rPr>
              <a:t>Nothing is displa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4:33:12Z</dcterms:created>
  <dc:creator>Maysoon</dc:creator>
  <dc:description/>
  <dc:language>en-US</dc:language>
  <cp:lastModifiedBy>GK</cp:lastModifiedBy>
  <dcterms:modified xsi:type="dcterms:W3CDTF">2014-10-11T19:38:44Z</dcterms:modified>
  <cp:revision>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