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14E-8DD6-4640-A65A-11BFCB26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8F8-4286-470B-907B-B893A794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9F4-BAB0-46D1-BB55-12EE1976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455F-8FB1-43A7-9DDA-CCE297F5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A7A7-561A-4891-A23B-367718B3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2EA6-89FB-4EA8-A342-95C30512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9C29-337E-49C8-81B6-5BF4503B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A83C-4A66-451C-B50D-4541B3D8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8AD2-AD6C-4AF4-BA7B-CAB3ACB5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9F21-A534-4951-BEDA-DA2E7E2B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11F9-2133-4211-94E6-671DD502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40E3-60D9-4EE5-AD7E-359C62A0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E498-2B21-4DED-AE7E-E85FB1A4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89A5-B9EA-4024-A511-66247433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A580-A855-4B07-9DFC-800E0C5D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E95E-D19F-40CA-856F-D2F738BD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1B03-3F7A-4074-81C3-B0B55C41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ADC40-92E8-4BFA-8BB7-EF8E1198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2F150-0E58-4BB6-9650-90E05BBE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0A69F-1CFB-4D76-9EA6-AD65B843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971D1-D592-4423-811F-E4474263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BBDD8-8BD1-4BB6-AE77-381A0310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D9B-C55C-4EF5-A36C-0DA609BE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188C6-6975-4EC0-8B49-EE1F2FE6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1A2D6-C7B0-414B-B807-5A00E954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49F0D-4BE1-42C9-9DE7-DABE81EE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381A9-EA5E-4DA5-A6B1-F844DFBE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1F515-7271-4196-AFC7-34395509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71F7B-B0F5-4CBB-80BB-BC651716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A9A62-BC30-444E-97FD-1616F3FA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1A2A94-4BAB-45AA-9458-0A0C5FC1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9C4DBE-13BF-4FD0-B1B0-A2ABD5E5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AF2E9E-179C-4715-A52D-CD2044C4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646-8224-4E21-A119-2135600C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311580-82F6-4F1E-BB86-2F45CF37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88634C-AD71-4DEE-843F-79BF6089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7037EC-D2E4-4B25-8EBF-FE9F0747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2AAF60-6F13-4C2C-824E-6F9C2BCF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273627-502C-4C44-88A2-CB1BD57A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73F89D-F8A5-4D15-9D97-64E825A7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9A91D-D951-42FD-8CE7-52A924B0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48A2CB-7AA2-46C8-80D3-B97D68AA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A0B82B-BB07-415E-A845-35357522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4C2E9-0129-4FCD-BEE8-4C2C1D5E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2EE0-2637-417A-B18A-A2E54897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C9A5A-C6DF-4A06-BAB0-95C01D59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05FBA-FB9D-4B15-BBFA-3249A4C4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3CD32-F2FF-4C0F-99ED-CC238C14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40208-C9FF-41B2-B095-D113AB67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684BA-4F63-4EAA-A2CE-119953DA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E6DDA-6A9D-464A-8D9C-7E051601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5F9C6-5B54-4B13-9E4C-601C9867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49C52-6933-4DF2-A881-72FDA6DB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F39EC-D4F6-4DDC-93C6-84C203A9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DAEF7-A742-4EF4-9F96-B253B7A7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08B-D6FD-4773-9167-9CC62B3E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173A8-A552-48E8-93F7-1AAEC313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36131-F704-41D8-9909-800D4D90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60404-889F-40FF-9D06-1FBD43C3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7DEF2-2135-4A25-B282-6573E51F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4327A-E05E-4207-B0B4-609E523E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7D3FF-062A-40A9-A6DB-CD4F1F61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4AF50-33CE-45A1-ADD9-EEAA540A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B96F1-F31E-4A8A-9CE6-9F6E25A7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0A817-9DDE-4036-BA66-D8EEAEDB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BACDF-B0F7-477D-9871-9630ADFD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6F5A-4460-4648-A36A-CF63407F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13CC6-5E4A-46E2-AF83-42017F09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8C341-0914-4FE0-A39F-B602ECF1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11BF2-8879-4305-B446-DFE1A5BE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69500-6657-4BA9-9B51-7A828D4F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6554C-A1C2-4342-BC52-43422238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F781C-8FC2-444F-925C-4D9C0D95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4642E-31A4-41D4-9246-FF695DD4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2B713-C7BD-4AB0-87C7-D8ED3D33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B918D-1DE9-43AF-9FD3-5B4F357A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C3389-D93E-4390-8332-59B27BD5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275-3345-4D8F-8E3A-D082B47F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F375F-93AC-4312-B2F3-68D74D9C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7F657-6C20-4A83-8449-0ADFAEFB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C2B95-A77A-4705-87F9-A85C261F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0CC41-9FF2-46B4-90F3-FE312DF6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C5A08-7F42-4A09-82A1-0D75569A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CCB8-E4E5-4EB0-A67F-08A3222D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5754-3A47-4E92-99A2-D3FFBDC19C62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1992-2011 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457F-B6E6-4EFC-A15D-9A79247AE98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8921-7124-4B5E-BE3A-B2A883AD842E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 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84AD-5459-4999-B37D-712B56B1AC9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E6CE-ED1B-47BF-8F51-BEF026349687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262692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1992-2011 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A632-2C61-44A3-BC1A-0AF27571D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ight Triangle 3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8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3" name="Freeform 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Freeform 7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36" name="Freeform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8" name="Straight Connector 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Action Button: Forward or Next 10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60E3-FC7F-44A2-AF73-E274BDD2F308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E1F7-DCBB-4095-9147-2FFDE054B1E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2742840" y="6408720"/>
            <a:ext cx="398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Lucida Sans Unicode"/>
              </a:rPr>
              <a:t>© 1992-2011 by Pearson Education, Inc. All Rights Reserved. - 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87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2FCD-6DAB-4C03-903B-2FA924DAAFF0}" type="datetime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١٤٤٨/٠٢/١٦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262692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9E3C-6C80-43D2-9024-5E56612F3E0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6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1DF7-468C-4382-BE37-DB68C459F09A}" type="datetime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١٤٤٨/٠٢/١٦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0979-4F40-4D50-B6E5-FC1D73A45B6D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5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A057-077A-41E2-8700-5C053DD6C3B5}" type="datetime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١٤٤٨/٠٢/١٦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CE1B-9298-41C9-944F-B5C99A273451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731960"/>
            <a:ext cx="8010360" cy="1859040"/>
          </a:xfrm>
          <a:prstGeom prst="rect">
            <a:avLst/>
          </a:prstGeom>
          <a:ln w="0">
            <a:noFill/>
          </a:ln>
        </p:spPr>
      </p:pic>
      <p:sp>
        <p:nvSpPr>
          <p:cNvPr id="32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4140-76E1-4287-95C8-4BF894D95572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743200" y="6408720"/>
            <a:ext cx="3987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4" descr=""/>
          <p:cNvPicPr/>
          <p:nvPr/>
        </p:nvPicPr>
        <p:blipFill>
          <a:blip r:embed="rId1"/>
          <a:stretch/>
        </p:blipFill>
        <p:spPr>
          <a:xfrm>
            <a:off x="-12600" y="208080"/>
            <a:ext cx="8705880" cy="12189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395280" y="1699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only is used to deal with invalid valu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example, we assume all values entered by the user are in the range 0–100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used,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the last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quir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words terminate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0710-94A3-4C6C-A036-E68048ED6B08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vbhtp5_05images_Page_25.pn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551560"/>
          </a:xfrm>
          <a:prstGeom prst="rect">
            <a:avLst/>
          </a:prstGeom>
          <a:ln w="0">
            <a:noFill/>
          </a:ln>
        </p:spPr>
      </p:pic>
      <p:sp>
        <p:nvSpPr>
          <p:cNvPr id="384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F19D-F925-400A-8FCA-21EEE5AF14A6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" descr="vbhtp5_05images_Page_24.png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5551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" descr="vbhtp5_05images_Page_26.png"/>
          <p:cNvPicPr/>
          <p:nvPr/>
        </p:nvPicPr>
        <p:blipFill>
          <a:blip r:embed="rId3"/>
          <a:stretch/>
        </p:blipFill>
        <p:spPr>
          <a:xfrm>
            <a:off x="0" y="3357720"/>
            <a:ext cx="914400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Types of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Stat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s also can use relational operators to determine whether the controlling expression satisfies a conditio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es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I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long with the relational operator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&lt;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, to test for values less than 0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24F0-692E-4C75-B2FC-F821F760024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1403280" y="4767120"/>
            <a:ext cx="2664000" cy="587160"/>
          </a:xfrm>
          <a:prstGeom prst="rect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Select Ca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&lt;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5364000" y="4910040"/>
            <a:ext cx="2737080" cy="34056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rade &lt; </a:t>
            </a:r>
            <a:r>
              <a:rPr b="0" lang="en-US" sz="1800" spc="-1" strike="noStrike">
                <a:solidFill>
                  <a:srgbClr val="00b0f0"/>
                </a:solidFill>
                <a:latin typeface="Lucida Conso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Straight Arrow Connector 8"/>
          <p:cNvCxnSpPr>
            <a:stCxn id="392" idx="3"/>
            <a:endCxn id="393" idx="1"/>
          </p:cNvCxnSpPr>
          <p:nvPr/>
        </p:nvCxnSpPr>
        <p:spPr>
          <a:xfrm>
            <a:off x="4067280" y="5062320"/>
            <a:ext cx="1297440" cy="1080"/>
          </a:xfrm>
          <a:prstGeom prst="straightConnector1">
            <a:avLst/>
          </a:prstGeom>
          <a:ln w="5508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395" name="TextBox 9"/>
          <p:cNvSpPr/>
          <p:nvPr/>
        </p:nvSpPr>
        <p:spPr>
          <a:xfrm>
            <a:off x="4067280" y="476712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a1f28"/>
                </a:solidFill>
                <a:latin typeface="Calibri"/>
              </a:rPr>
              <a:t>Equival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Types of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Stat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ultiple values can be tested in a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 by separating the values with </a:t>
            </a:r>
            <a:r>
              <a:rPr b="0" lang="en-US" sz="2300" spc="-1" strike="noStrike">
                <a:solidFill>
                  <a:srgbClr val="0033cc"/>
                </a:solidFill>
                <a:latin typeface="Times New Roman"/>
              </a:rPr>
              <a:t>comma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as 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Case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,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5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To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9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ich tests for the value 0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lues in the range 5–9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so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 can be used to test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trin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8B75-FBF6-44C6-B764-015BFB4B1EA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60480" y="208080"/>
            <a:ext cx="8632800" cy="121896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ts val="25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1" i="1" lang="en-US" sz="2400" spc="-1" strike="noStrike">
                <a:solidFill>
                  <a:srgbClr val="000000"/>
                </a:solidFill>
                <a:latin typeface="AGaramond"/>
              </a:rPr>
              <a:t>…</a:t>
            </a: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400" spc="-1" strike="noStrike">
                <a:solidFill>
                  <a:srgbClr val="000000"/>
                </a:solidFill>
                <a:latin typeface="AGaramond"/>
              </a:rPr>
              <a:t> Statement to test </a:t>
            </a: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String valu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ts val="25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Console"/>
              </a:rPr>
              <a:t>Example: (The Select Color Example)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program that asks the user to enter one of the three basic colors (red,green,blue) if the input is correct the label change its color to the entered colo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5202-6ED2-4D2E-97AF-E27B5C507CC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4608360" y="465300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4594320" y="292428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4"/>
          <a:stretch/>
        </p:blipFill>
        <p:spPr>
          <a:xfrm>
            <a:off x="1619280" y="292428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5"/>
          <a:stretch/>
        </p:blipFill>
        <p:spPr>
          <a:xfrm>
            <a:off x="1619280" y="4653000"/>
            <a:ext cx="27003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268200" y="208080"/>
            <a:ext cx="8425080" cy="12189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914400" y="1341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Console"/>
              </a:rPr>
              <a:t>(The Select Color Example Program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671A-E3C8-4E06-BB46-756316107C5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2"/>
          <a:srcRect l="2487" t="16218" r="37743" b="33937"/>
          <a:stretch/>
        </p:blipFill>
        <p:spPr>
          <a:xfrm>
            <a:off x="826920" y="1989000"/>
            <a:ext cx="7777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dition is an expression that results in a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—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far, we’ve studied onl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imple cond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uch a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lt;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lection and repetition statement evaluated on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e condition with one of the operators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A9FD-19A6-4A72-9355-35DAAE57AB0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handle multiple conditions more efficiently, the </a:t>
            </a:r>
            <a:r>
              <a:rPr b="0" lang="en-US" sz="2700" spc="-1" strike="noStrike">
                <a:solidFill>
                  <a:srgbClr val="0000ff"/>
                </a:solidFill>
                <a:latin typeface="Times New Roman"/>
              </a:rPr>
              <a:t>logical operator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can be used to form complex conditions by combining simple o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gical operators are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A371-8B24-4994-B849-6B6EC5DCFFA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ppose we wish to ensure that two conditions are both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n a program before a certain path of execution is chos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n such a case, we can use the logical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An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perator as follow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gender 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age &gt;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65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  seniorFemales +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1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 contains two simple conditio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0163-E79A-43BE-AF72-330FAB010C4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en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"F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s whether a person is female and 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6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s whether a person is a senior citiz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simple conditions are evaluated first, because the precedence of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both higher than the precedence of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If gender = </a:t>
            </a:r>
            <a:r>
              <a:rPr b="0" lang="en-US" sz="21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1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 age &gt;= </a:t>
            </a:r>
            <a:r>
              <a:rPr b="0" lang="en-US" sz="2100" spc="-1" strike="noStrike">
                <a:solidFill>
                  <a:srgbClr val="128aff"/>
                </a:solidFill>
                <a:latin typeface="Lucida Console"/>
              </a:rPr>
              <a:t>65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10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4A96-CD57-45BB-896B-6686FDD3EB1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2357280" y="477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4429080" y="477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eft Brace 6"/>
          <p:cNvSpPr/>
          <p:nvPr/>
        </p:nvSpPr>
        <p:spPr>
          <a:xfrm rot="16200000">
            <a:off x="2847960" y="3924000"/>
            <a:ext cx="304560" cy="175284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752840"/>
              <a:gd name="textAreaBottom" fmla="*/ 17449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7"/>
                  <a:pt x="10800" y="313"/>
                </a:cubicBezTo>
                <a:lnTo>
                  <a:pt x="10800" y="10487"/>
                </a:lnTo>
                <a:cubicBezTo>
                  <a:pt x="10800" y="10644"/>
                  <a:pt x="5400" y="10800"/>
                  <a:pt x="0" y="10800"/>
                </a:cubicBezTo>
                <a:cubicBezTo>
                  <a:pt x="5400" y="10800"/>
                  <a:pt x="10800" y="10957"/>
                  <a:pt x="10800" y="11113"/>
                </a:cubicBezTo>
                <a:lnTo>
                  <a:pt x="10800" y="21287"/>
                </a:lnTo>
                <a:cubicBezTo>
                  <a:pt x="10800" y="214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eft Brace 7"/>
          <p:cNvSpPr/>
          <p:nvPr/>
        </p:nvSpPr>
        <p:spPr>
          <a:xfrm rot="16200000">
            <a:off x="4962600" y="411480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371600"/>
              <a:gd name="textAreaBottom" fmla="*/ 13636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eft Brace 8"/>
          <p:cNvSpPr/>
          <p:nvPr/>
        </p:nvSpPr>
        <p:spPr>
          <a:xfrm rot="16200000">
            <a:off x="3962520" y="407628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2514600"/>
              <a:gd name="textAreaBottom" fmla="*/ 25066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8"/>
                </a:cubicBezTo>
                <a:lnTo>
                  <a:pt x="10800" y="10582"/>
                </a:lnTo>
                <a:cubicBezTo>
                  <a:pt x="10800" y="10691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8"/>
                </a:cubicBezTo>
                <a:lnTo>
                  <a:pt x="10800" y="21382"/>
                </a:lnTo>
                <a:cubicBezTo>
                  <a:pt x="10800" y="2149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9"/>
          <p:cNvSpPr/>
          <p:nvPr/>
        </p:nvSpPr>
        <p:spPr>
          <a:xfrm>
            <a:off x="1905120" y="5486400"/>
            <a:ext cx="65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both are True then the condition of the </a:t>
            </a:r>
            <a:r>
              <a:rPr b="1" lang="en-US" sz="1800" spc="-1" strike="noStrike">
                <a:solidFill>
                  <a:srgbClr val="3333ff"/>
                </a:solidFill>
                <a:latin typeface="Calibri"/>
              </a:rPr>
              <a:t>If State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268200" y="208080"/>
            <a:ext cx="8704440" cy="1218960"/>
          </a:xfrm>
          <a:prstGeom prst="rect">
            <a:avLst/>
          </a:prstGeom>
          <a:ln w="0">
            <a:noFill/>
          </a:ln>
        </p:spPr>
      </p:pic>
      <p:pic>
        <p:nvPicPr>
          <p:cNvPr id="332" name="Text Placeholder 2" descr=""/>
          <p:cNvPicPr/>
          <p:nvPr/>
        </p:nvPicPr>
        <p:blipFill>
          <a:blip r:embed="rId2"/>
          <a:stretch/>
        </p:blipFill>
        <p:spPr>
          <a:xfrm>
            <a:off x="450720" y="1511280"/>
            <a:ext cx="8242560" cy="5164200"/>
          </a:xfrm>
          <a:prstGeom prst="rect">
            <a:avLst/>
          </a:prstGeom>
          <a:ln w="0">
            <a:noFill/>
          </a:ln>
        </p:spPr>
      </p:pic>
      <p:sp>
        <p:nvSpPr>
          <p:cNvPr id="33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BA97-1F58-47EB-A2B4-F8E524FCC0F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is combined condition i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niorFem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 is incremented by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dability of the preceding combined condition can be improved by adding parenthes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(gender =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20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(age &gt;=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65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8A52-5C4F-4515-84E6-901B5D9FC60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143000" y="2209680"/>
          <a:ext cx="6477120" cy="1854360"/>
        </p:xfrm>
        <a:graphic>
          <a:graphicData uri="http://schemas.openxmlformats.org/drawingml/2006/table">
            <a:tbl>
              <a:tblPr/>
              <a:tblGrid>
                <a:gridCol w="1933560"/>
                <a:gridCol w="1771560"/>
                <a:gridCol w="2772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nder = "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age &gt;= </a:t>
                      </a:r>
                      <a:r>
                        <a:rPr b="0" lang="en-US" sz="1800" spc="-1" strike="noStrike">
                          <a:solidFill>
                            <a:srgbClr val="128aff"/>
                          </a:solidFill>
                          <a:latin typeface="Lucida Console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s the </a:t>
                      </a: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Lucida Sans Unicode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Condition m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ow let’s consider th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perato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ppose we wish to ensure that either or both of two conditions ar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before we choose a certain path of executio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 use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perator as in the following program segment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(semesterAverage &gt;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Or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finalExam &gt;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1700" spc="-1" strike="noStrike">
                <a:solidFill>
                  <a:srgbClr val="000000"/>
                </a:solidFill>
                <a:latin typeface="LucidaSansTypewriter"/>
              </a:rPr>
              <a:t>)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  resultLabel.Text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"Student grade is A"</a:t>
            </a:r>
            <a:br>
              <a:rPr sz="1700"/>
            </a:b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s statement also contains two simple conditions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27CA-14A5-4E31-B7BD-935DB794774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mesterAve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valuated to determine whether the student deserves an “A” in the course because of his performance throughout the semest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inalEx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valuated to determine whether the student deserves an “A” in the course because of his performance on the final exam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1918-4B47-4CA7-A688-27FE3CB1DC8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then considers the combined condi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semesterAverage &gt;= </a:t>
            </a:r>
            <a:r>
              <a:rPr b="0" lang="en-US" sz="22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Lucida Console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 finalExam &gt;= </a:t>
            </a:r>
            <a:r>
              <a:rPr b="0" lang="en-US" sz="22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LucidaSansTypewriter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wards the student an “A” if either or both of the conditions ar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xt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"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isplayed, unless both of the conditions ar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 has a higher precedence tha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5AB4-2152-406D-80FE-A013184A86C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1" descr="vbhtp5_05images_Page_31.png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1560"/>
          </a:xfrm>
          <a:prstGeom prst="rect">
            <a:avLst/>
          </a:prstGeom>
          <a:ln w="0">
            <a:noFill/>
          </a:ln>
        </p:spPr>
      </p:pic>
      <p:sp>
        <p:nvSpPr>
          <p:cNvPr id="453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D5EB-9E0A-4989-8FD7-724EE4B4302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8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ondition containing the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logical exclusive OR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X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i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and only if one of its operands results in a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ue and the other results in a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u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both operands ar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both ar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 entire condition i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3E5D-18B1-4456-B135-D886DF828A8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" descr="vbhtp5_05images_Page_33.png"/>
          <p:cNvPicPr/>
          <p:nvPr/>
        </p:nvPicPr>
        <p:blipFill>
          <a:blip r:embed="rId2"/>
          <a:srcRect l="12500" t="0" r="30003" b="49990"/>
          <a:stretch/>
        </p:blipFill>
        <p:spPr>
          <a:xfrm>
            <a:off x="3214800" y="3676680"/>
            <a:ext cx="56242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8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ogical negation) operator enables you to “reverse” the meaning of a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ike the logical operator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each combi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, the logical negation operator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, requiring only one oper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" descr="vbhtp5_05images_Page_34.png"/>
          <p:cNvPicPr/>
          <p:nvPr/>
        </p:nvPicPr>
        <p:blipFill>
          <a:blip r:embed="rId1"/>
          <a:srcRect l="25834" t="0" r="40002" b="52733"/>
          <a:stretch/>
        </p:blipFill>
        <p:spPr>
          <a:xfrm>
            <a:off x="2971800" y="3828960"/>
            <a:ext cx="3124080" cy="2624400"/>
          </a:xfrm>
          <a:prstGeom prst="rect">
            <a:avLst/>
          </a:prstGeom>
          <a:ln w="0">
            <a:noFill/>
          </a:ln>
        </p:spPr>
      </p:pic>
      <p:sp>
        <p:nvSpPr>
          <p:cNvPr id="464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EF44-8D16-49DA-B581-7800397A3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gical negation operator is demonstrated by the following program segment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Not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(value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  resultLabel.Text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"The value is "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&amp; value</a:t>
            </a:r>
            <a:br>
              <a:rPr sz="1700"/>
            </a:b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entheses around 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cess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ause the logical negation operator (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s a higher precedence than the equality operato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3E95-7AB6-4975-A551-EFED3C0C533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st cases, you can avoid using logical negation by expressing the condition differently with relational or equality operator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flexibility helps you express conditions more naturall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the preceding statement can be written as follow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Lucida Console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9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3DED-E478-4BEC-AFF0-6FA5EC71B3B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685800" y="4843440"/>
            <a:ext cx="3124080" cy="337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(value 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5943600" y="4843440"/>
            <a:ext cx="2666880" cy="337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value &lt;&gt;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Straight Arrow Connector 7"/>
          <p:cNvCxnSpPr>
            <a:stCxn id="473" idx="3"/>
            <a:endCxn id="474" idx="1"/>
          </p:cNvCxnSpPr>
          <p:nvPr/>
        </p:nvCxnSpPr>
        <p:spPr>
          <a:xfrm>
            <a:off x="3809520" y="5011200"/>
            <a:ext cx="213444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476" name="TextBox 8"/>
          <p:cNvSpPr/>
          <p:nvPr/>
        </p:nvSpPr>
        <p:spPr>
          <a:xfrm>
            <a:off x="3962520" y="46911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be written 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78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0827-1BF2-42CD-866C-E1164DDFCD8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" descr="vbhtp5_05images_Page_40.png"/>
          <p:cNvPicPr/>
          <p:nvPr/>
        </p:nvPicPr>
        <p:blipFill>
          <a:blip r:embed="rId2"/>
          <a:srcRect l="14177" t="7786" r="30704" b="10502"/>
          <a:stretch/>
        </p:blipFill>
        <p:spPr>
          <a:xfrm>
            <a:off x="1763640" y="1557360"/>
            <a:ext cx="5040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28CA-EEEA-4319-9923-EFE9170AA310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rcRect l="18538" t="15374" r="17821" b="19656"/>
          <a:stretch/>
        </p:blipFill>
        <p:spPr>
          <a:xfrm>
            <a:off x="539640" y="692280"/>
            <a:ext cx="8280360" cy="4752720"/>
          </a:xfrm>
          <a:prstGeom prst="rect">
            <a:avLst/>
          </a:prstGeom>
          <a:ln w="0">
            <a:noFill/>
          </a:ln>
        </p:spPr>
      </p:pic>
      <p:sp>
        <p:nvSpPr>
          <p:cNvPr id="338" name="TextBox 7"/>
          <p:cNvSpPr/>
          <p:nvPr/>
        </p:nvSpPr>
        <p:spPr>
          <a:xfrm>
            <a:off x="971640" y="5661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ove program Use the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Select Cas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ment to determine the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 #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411280" y="1341360"/>
            <a:ext cx="43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Calibri"/>
              </a:rPr>
              <a:t>X += ( 4 \ y * 2 ) ^ ( x – 2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6486-8782-4A74-82D4-ED0017086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eft Brace 6"/>
          <p:cNvSpPr/>
          <p:nvPr/>
        </p:nvSpPr>
        <p:spPr>
          <a:xfrm rot="16200000">
            <a:off x="3960000" y="1809000"/>
            <a:ext cx="432000" cy="503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503280"/>
              <a:gd name="textAreaBottom" fmla="*/ 4921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2"/>
                  <a:pt x="10800" y="1544"/>
                </a:cubicBezTo>
                <a:lnTo>
                  <a:pt x="10800" y="9256"/>
                </a:lnTo>
                <a:cubicBezTo>
                  <a:pt x="10800" y="10028"/>
                  <a:pt x="5400" y="10800"/>
                  <a:pt x="0" y="10800"/>
                </a:cubicBezTo>
                <a:cubicBezTo>
                  <a:pt x="5400" y="10800"/>
                  <a:pt x="10800" y="11572"/>
                  <a:pt x="10800" y="12344"/>
                </a:cubicBezTo>
                <a:lnTo>
                  <a:pt x="10800" y="20056"/>
                </a:lnTo>
                <a:cubicBezTo>
                  <a:pt x="10800" y="2082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eft Brace 7"/>
          <p:cNvSpPr/>
          <p:nvPr/>
        </p:nvSpPr>
        <p:spPr>
          <a:xfrm rot="16200000">
            <a:off x="3635280" y="2275920"/>
            <a:ext cx="289080" cy="7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1"/>
                  <a:pt x="10800" y="722"/>
                </a:cubicBezTo>
                <a:lnTo>
                  <a:pt x="10800" y="10078"/>
                </a:lnTo>
                <a:cubicBezTo>
                  <a:pt x="10800" y="10439"/>
                  <a:pt x="5400" y="10800"/>
                  <a:pt x="0" y="10800"/>
                </a:cubicBezTo>
                <a:cubicBezTo>
                  <a:pt x="5400" y="10800"/>
                  <a:pt x="10800" y="11161"/>
                  <a:pt x="10800" y="11522"/>
                </a:cubicBezTo>
                <a:lnTo>
                  <a:pt x="10800" y="20878"/>
                </a:lnTo>
                <a:cubicBezTo>
                  <a:pt x="10800" y="212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8"/>
          <p:cNvSpPr/>
          <p:nvPr/>
        </p:nvSpPr>
        <p:spPr>
          <a:xfrm>
            <a:off x="399564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10"/>
          <p:cNvSpPr/>
          <p:nvPr/>
        </p:nvSpPr>
        <p:spPr>
          <a:xfrm flipV="1">
            <a:off x="3419640" y="177336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3635280" y="2781360"/>
            <a:ext cx="3603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eft Brace 16"/>
          <p:cNvSpPr/>
          <p:nvPr/>
        </p:nvSpPr>
        <p:spPr>
          <a:xfrm rot="16200000">
            <a:off x="5435280" y="2925360"/>
            <a:ext cx="289080" cy="57456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574560"/>
              <a:gd name="textAreaBottom" fmla="*/ 567360 h 57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5"/>
                </a:cubicBezTo>
                <a:lnTo>
                  <a:pt x="10800" y="9895"/>
                </a:lnTo>
                <a:cubicBezTo>
                  <a:pt x="10800" y="10348"/>
                  <a:pt x="5400" y="10800"/>
                  <a:pt x="0" y="10800"/>
                </a:cubicBezTo>
                <a:cubicBezTo>
                  <a:pt x="5400" y="10800"/>
                  <a:pt x="10800" y="11253"/>
                  <a:pt x="10800" y="11705"/>
                </a:cubicBezTo>
                <a:lnTo>
                  <a:pt x="10800" y="20695"/>
                </a:lnTo>
                <a:cubicBezTo>
                  <a:pt x="10800" y="211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17"/>
          <p:cNvSpPr/>
          <p:nvPr/>
        </p:nvSpPr>
        <p:spPr>
          <a:xfrm flipV="1">
            <a:off x="5867280" y="1773360"/>
            <a:ext cx="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8"/>
          <p:cNvSpPr/>
          <p:nvPr/>
        </p:nvSpPr>
        <p:spPr>
          <a:xfrm>
            <a:off x="5435640" y="3357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20"/>
          <p:cNvSpPr/>
          <p:nvPr/>
        </p:nvSpPr>
        <p:spPr>
          <a:xfrm flipV="1">
            <a:off x="5292720" y="1773360"/>
            <a:ext cx="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eft Brace 22"/>
          <p:cNvSpPr/>
          <p:nvPr/>
        </p:nvSpPr>
        <p:spPr>
          <a:xfrm rot="16200000">
            <a:off x="4469400" y="3243960"/>
            <a:ext cx="432000" cy="181116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1811160"/>
              <a:gd name="textAreaBottom" fmla="*/ 1800000 h 181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5"/>
                  <a:pt x="10800" y="429"/>
                </a:cubicBezTo>
                <a:lnTo>
                  <a:pt x="10800" y="13280"/>
                </a:lnTo>
                <a:cubicBezTo>
                  <a:pt x="10800" y="13495"/>
                  <a:pt x="5400" y="13709"/>
                  <a:pt x="0" y="13709"/>
                </a:cubicBezTo>
                <a:cubicBezTo>
                  <a:pt x="5400" y="13709"/>
                  <a:pt x="10800" y="13924"/>
                  <a:pt x="10800" y="14138"/>
                </a:cubicBezTo>
                <a:lnTo>
                  <a:pt x="10800" y="21171"/>
                </a:lnTo>
                <a:cubicBezTo>
                  <a:pt x="10800" y="2138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23"/>
          <p:cNvSpPr/>
          <p:nvPr/>
        </p:nvSpPr>
        <p:spPr>
          <a:xfrm flipV="1">
            <a:off x="5591160" y="3716280"/>
            <a:ext cx="0" cy="217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25"/>
          <p:cNvSpPr/>
          <p:nvPr/>
        </p:nvSpPr>
        <p:spPr>
          <a:xfrm flipV="1">
            <a:off x="3780000" y="314172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40"/>
          <p:cNvSpPr/>
          <p:nvPr/>
        </p:nvSpPr>
        <p:spPr>
          <a:xfrm>
            <a:off x="4788000" y="4365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eft Brace 41"/>
          <p:cNvSpPr/>
          <p:nvPr/>
        </p:nvSpPr>
        <p:spPr>
          <a:xfrm rot="16200000">
            <a:off x="3640680" y="3999240"/>
            <a:ext cx="431640" cy="2170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2170080"/>
              <a:gd name="textAreaBottom" fmla="*/ 2158920 h 217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9"/>
                  <a:pt x="10800" y="358"/>
                </a:cubicBezTo>
                <a:lnTo>
                  <a:pt x="10800" y="13351"/>
                </a:lnTo>
                <a:cubicBezTo>
                  <a:pt x="10800" y="13530"/>
                  <a:pt x="5400" y="13709"/>
                  <a:pt x="0" y="13709"/>
                </a:cubicBezTo>
                <a:cubicBezTo>
                  <a:pt x="5400" y="13709"/>
                  <a:pt x="10800" y="13888"/>
                  <a:pt x="10800" y="14067"/>
                </a:cubicBezTo>
                <a:lnTo>
                  <a:pt x="10800" y="21242"/>
                </a:lnTo>
                <a:cubicBezTo>
                  <a:pt x="10800" y="2142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42"/>
          <p:cNvSpPr/>
          <p:nvPr/>
        </p:nvSpPr>
        <p:spPr>
          <a:xfrm flipV="1">
            <a:off x="4941720" y="4724280"/>
            <a:ext cx="0" cy="14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43"/>
          <p:cNvSpPr/>
          <p:nvPr/>
        </p:nvSpPr>
        <p:spPr>
          <a:xfrm flipV="1">
            <a:off x="2771640" y="1773000"/>
            <a:ext cx="0" cy="309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44"/>
          <p:cNvSpPr/>
          <p:nvPr/>
        </p:nvSpPr>
        <p:spPr>
          <a:xfrm>
            <a:off x="3995640" y="5300640"/>
            <a:ext cx="3747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 #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7280" y="134136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Calibri"/>
              </a:rPr>
              <a:t>If Not( x * y &lt; 0 ) And ( x ^ 2 &gt;= 100 Mod 4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924E-EC0D-4FF4-8177-9D70B7C43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eft Brace 6"/>
          <p:cNvSpPr/>
          <p:nvPr/>
        </p:nvSpPr>
        <p:spPr>
          <a:xfrm rot="16200000">
            <a:off x="2808000" y="1807920"/>
            <a:ext cx="432000" cy="505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505080"/>
              <a:gd name="textAreaBottom" fmla="*/ 4939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0"/>
                  <a:pt x="10800" y="1540"/>
                </a:cubicBezTo>
                <a:lnTo>
                  <a:pt x="10800" y="9260"/>
                </a:lnTo>
                <a:cubicBezTo>
                  <a:pt x="10800" y="10030"/>
                  <a:pt x="5400" y="10800"/>
                  <a:pt x="0" y="10800"/>
                </a:cubicBezTo>
                <a:cubicBezTo>
                  <a:pt x="5400" y="10800"/>
                  <a:pt x="10800" y="11570"/>
                  <a:pt x="10800" y="12340"/>
                </a:cubicBezTo>
                <a:lnTo>
                  <a:pt x="10800" y="20060"/>
                </a:lnTo>
                <a:cubicBezTo>
                  <a:pt x="10800" y="2083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eft Brace 7"/>
          <p:cNvSpPr/>
          <p:nvPr/>
        </p:nvSpPr>
        <p:spPr>
          <a:xfrm rot="16200000">
            <a:off x="3274920" y="2275920"/>
            <a:ext cx="289080" cy="7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1"/>
                  <a:pt x="10800" y="722"/>
                </a:cubicBezTo>
                <a:lnTo>
                  <a:pt x="10800" y="10078"/>
                </a:lnTo>
                <a:cubicBezTo>
                  <a:pt x="10800" y="10439"/>
                  <a:pt x="5400" y="10800"/>
                  <a:pt x="0" y="10800"/>
                </a:cubicBezTo>
                <a:cubicBezTo>
                  <a:pt x="5400" y="10800"/>
                  <a:pt x="10800" y="11161"/>
                  <a:pt x="10800" y="11522"/>
                </a:cubicBezTo>
                <a:lnTo>
                  <a:pt x="10800" y="20878"/>
                </a:lnTo>
                <a:cubicBezTo>
                  <a:pt x="10800" y="212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8"/>
          <p:cNvSpPr/>
          <p:nvPr/>
        </p:nvSpPr>
        <p:spPr>
          <a:xfrm>
            <a:off x="284328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10"/>
          <p:cNvSpPr/>
          <p:nvPr/>
        </p:nvSpPr>
        <p:spPr>
          <a:xfrm flipV="1">
            <a:off x="3780000" y="177336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3276720" y="2781360"/>
            <a:ext cx="3585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eft Brace 16"/>
          <p:cNvSpPr/>
          <p:nvPr/>
        </p:nvSpPr>
        <p:spPr>
          <a:xfrm rot="16200000">
            <a:off x="5219640" y="1701360"/>
            <a:ext cx="289080" cy="5749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574920"/>
              <a:gd name="textAreaBottom" fmla="*/ 567720 h 5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5"/>
                </a:cubicBezTo>
                <a:lnTo>
                  <a:pt x="10800" y="9895"/>
                </a:lnTo>
                <a:cubicBezTo>
                  <a:pt x="10800" y="10348"/>
                  <a:pt x="5400" y="10800"/>
                  <a:pt x="0" y="10800"/>
                </a:cubicBezTo>
                <a:cubicBezTo>
                  <a:pt x="5400" y="10800"/>
                  <a:pt x="10800" y="11253"/>
                  <a:pt x="10800" y="11705"/>
                </a:cubicBezTo>
                <a:lnTo>
                  <a:pt x="10800" y="20695"/>
                </a:lnTo>
                <a:cubicBezTo>
                  <a:pt x="10800" y="211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8"/>
          <p:cNvSpPr/>
          <p:nvPr/>
        </p:nvSpPr>
        <p:spPr>
          <a:xfrm>
            <a:off x="521964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eft Brace 22"/>
          <p:cNvSpPr/>
          <p:nvPr/>
        </p:nvSpPr>
        <p:spPr>
          <a:xfrm rot="16200000">
            <a:off x="6981840" y="1450440"/>
            <a:ext cx="291960" cy="1079640"/>
          </a:xfrm>
          <a:custGeom>
            <a:avLst/>
            <a:gdLst>
              <a:gd name="textAreaLeft" fmla="*/ 186480 w 291960"/>
              <a:gd name="textAreaRight" fmla="*/ 292320 w 291960"/>
              <a:gd name="textAreaTop" fmla="*/ 7560 h 1079640"/>
              <a:gd name="textAreaBottom" fmla="*/ 107208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4"/>
                  <a:pt x="10800" y="487"/>
                </a:cubicBezTo>
                <a:lnTo>
                  <a:pt x="10800" y="10131"/>
                </a:lnTo>
                <a:cubicBezTo>
                  <a:pt x="10800" y="10375"/>
                  <a:pt x="5400" y="10618"/>
                  <a:pt x="0" y="10618"/>
                </a:cubicBezTo>
                <a:cubicBezTo>
                  <a:pt x="5400" y="10618"/>
                  <a:pt x="10800" y="10862"/>
                  <a:pt x="10800" y="11105"/>
                </a:cubicBezTo>
                <a:lnTo>
                  <a:pt x="10800" y="21113"/>
                </a:lnTo>
                <a:cubicBezTo>
                  <a:pt x="10800" y="213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40"/>
          <p:cNvSpPr/>
          <p:nvPr/>
        </p:nvSpPr>
        <p:spPr>
          <a:xfrm>
            <a:off x="694836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eft Brace 41"/>
          <p:cNvSpPr/>
          <p:nvPr/>
        </p:nvSpPr>
        <p:spPr>
          <a:xfrm rot="16200000">
            <a:off x="6014160" y="1851480"/>
            <a:ext cx="457200" cy="17384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738440"/>
              <a:gd name="textAreaBottom" fmla="*/ 1726560 h 17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3"/>
                </a:cubicBezTo>
                <a:lnTo>
                  <a:pt x="10800" y="10436"/>
                </a:lnTo>
                <a:cubicBezTo>
                  <a:pt x="10800" y="10673"/>
                  <a:pt x="5400" y="10909"/>
                  <a:pt x="0" y="10909"/>
                </a:cubicBezTo>
                <a:cubicBezTo>
                  <a:pt x="5400" y="10909"/>
                  <a:pt x="10800" y="11146"/>
                  <a:pt x="10800" y="11382"/>
                </a:cubicBezTo>
                <a:lnTo>
                  <a:pt x="10800" y="21127"/>
                </a:lnTo>
                <a:cubicBezTo>
                  <a:pt x="10800" y="213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44"/>
          <p:cNvSpPr/>
          <p:nvPr/>
        </p:nvSpPr>
        <p:spPr>
          <a:xfrm>
            <a:off x="6084720" y="2924280"/>
            <a:ext cx="37332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eft Brace 27"/>
          <p:cNvSpPr/>
          <p:nvPr/>
        </p:nvSpPr>
        <p:spPr>
          <a:xfrm rot="16200000">
            <a:off x="2615400" y="2721960"/>
            <a:ext cx="457200" cy="1296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296720"/>
              <a:gd name="textAreaBottom" fmla="*/ 12848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7"/>
                  <a:pt x="10800" y="634"/>
                </a:cubicBezTo>
                <a:lnTo>
                  <a:pt x="10800" y="10275"/>
                </a:lnTo>
                <a:cubicBezTo>
                  <a:pt x="10800" y="10592"/>
                  <a:pt x="5400" y="10909"/>
                  <a:pt x="0" y="10909"/>
                </a:cubicBezTo>
                <a:cubicBezTo>
                  <a:pt x="5400" y="10909"/>
                  <a:pt x="10800" y="11226"/>
                  <a:pt x="10800" y="11543"/>
                </a:cubicBezTo>
                <a:lnTo>
                  <a:pt x="10800" y="20966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28"/>
          <p:cNvSpPr/>
          <p:nvPr/>
        </p:nvSpPr>
        <p:spPr>
          <a:xfrm flipV="1">
            <a:off x="2195640" y="1844280"/>
            <a:ext cx="0" cy="1297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1"/>
          <p:cNvSpPr/>
          <p:nvPr/>
        </p:nvSpPr>
        <p:spPr>
          <a:xfrm>
            <a:off x="2700360" y="3573360"/>
            <a:ext cx="3729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eft Brace 32"/>
          <p:cNvSpPr/>
          <p:nvPr/>
        </p:nvSpPr>
        <p:spPr>
          <a:xfrm rot="16200000">
            <a:off x="4343400" y="2938680"/>
            <a:ext cx="457200" cy="3311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3311280"/>
              <a:gd name="textAreaBottom" fmla="*/ 3299400 h 33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660"/>
                </a:lnTo>
                <a:cubicBezTo>
                  <a:pt x="10800" y="10785"/>
                  <a:pt x="5400" y="10909"/>
                  <a:pt x="0" y="10909"/>
                </a:cubicBezTo>
                <a:cubicBezTo>
                  <a:pt x="5400" y="10909"/>
                  <a:pt x="10800" y="11034"/>
                  <a:pt x="10800" y="11158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33"/>
          <p:cNvSpPr/>
          <p:nvPr/>
        </p:nvSpPr>
        <p:spPr>
          <a:xfrm>
            <a:off x="4344840" y="4797360"/>
            <a:ext cx="3747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4"/>
          <p:cNvSpPr/>
          <p:nvPr/>
        </p:nvSpPr>
        <p:spPr>
          <a:xfrm flipV="1">
            <a:off x="6227640" y="3284640"/>
            <a:ext cx="0" cy="122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traight Connector 36"/>
          <p:cNvSpPr/>
          <p:nvPr/>
        </p:nvSpPr>
        <p:spPr>
          <a:xfrm flipV="1">
            <a:off x="2916360" y="393372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0CB8-5FF2-4286-844E-69A5BE89D01A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rcRect l="19089" t="17347" r="17265" b="16703"/>
          <a:stretch/>
        </p:blipFill>
        <p:spPr>
          <a:xfrm>
            <a:off x="395280" y="620640"/>
            <a:ext cx="8280360" cy="48243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5"/>
          <p:cNvSpPr/>
          <p:nvPr/>
        </p:nvSpPr>
        <p:spPr>
          <a:xfrm>
            <a:off x="468360" y="54291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ove program Use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If Then ElseI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ment to determine the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This program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equival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the one in previous slide#3 that uses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Selec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23E3-0A4B-4FAC-9AAA-005267EF2A9C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179280" y="2492280"/>
            <a:ext cx="3961080" cy="733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77 and press the Calculate Score button of the Select Case Statement (The code in Slide#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0"/>
          <p:cNvSpPr/>
          <p:nvPr/>
        </p:nvSpPr>
        <p:spPr>
          <a:xfrm>
            <a:off x="4859280" y="2492280"/>
            <a:ext cx="4140360" cy="733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77 and press the Calculate Score button of the If Then Else Statement (The code in Slide#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1"/>
          <p:cNvSpPr/>
          <p:nvPr/>
        </p:nvSpPr>
        <p:spPr>
          <a:xfrm>
            <a:off x="324000" y="5516640"/>
            <a:ext cx="4032000" cy="52020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Press one of the Calculate Score Button Without Entering any score in the Text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"/>
          <p:cNvPicPr/>
          <p:nvPr/>
        </p:nvPicPr>
        <p:blipFill>
          <a:blip r:embed="rId2"/>
          <a:stretch/>
        </p:blipFill>
        <p:spPr>
          <a:xfrm>
            <a:off x="5602320" y="33336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"/>
          <p:cNvPicPr/>
          <p:nvPr/>
        </p:nvPicPr>
        <p:blipFill>
          <a:blip r:embed="rId3"/>
          <a:stretch/>
        </p:blipFill>
        <p:spPr>
          <a:xfrm>
            <a:off x="684360" y="3357720"/>
            <a:ext cx="2857320" cy="2133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"/>
          <p:cNvPicPr/>
          <p:nvPr/>
        </p:nvPicPr>
        <p:blipFill>
          <a:blip r:embed="rId4"/>
          <a:stretch/>
        </p:blipFill>
        <p:spPr>
          <a:xfrm>
            <a:off x="5602320" y="3357720"/>
            <a:ext cx="2857320" cy="21333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8"/>
          <p:cNvSpPr/>
          <p:nvPr/>
        </p:nvSpPr>
        <p:spPr>
          <a:xfrm>
            <a:off x="4932360" y="5516640"/>
            <a:ext cx="4032360" cy="52020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89 and press one of the Calculate Score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60480" y="208080"/>
            <a:ext cx="8632800" cy="12189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grade in the rang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00 represents a Perfect 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90–99 represents an A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80–89 represents a B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70–79 represents a C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60–69 represents a D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nd 0–59 represents an F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 assume that the user enters a grade in the range 0–100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expression following the keyword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(in this case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grad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is called th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ontrollin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xpressio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t is compared in order with each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f a matching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found, the code in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executes, then program control proceeds to the first statement after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1908000" y="6308640"/>
            <a:ext cx="6840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3174-9EB5-4DE0-88AD-62E50A591EA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atement can specify multiple action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: The Following 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C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has two action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output will be as follow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pecifies the range;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C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80 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89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ans all the values [80,81,82,….,87,88,89] ranging between 80 to 89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174C-F3BC-4AE6-887A-9F971B272D0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2"/>
          <a:srcRect l="19642" t="31798" r="43279" b="58862"/>
          <a:stretch/>
        </p:blipFill>
        <p:spPr>
          <a:xfrm>
            <a:off x="1476360" y="1989000"/>
            <a:ext cx="6029280" cy="809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"/>
          <p:cNvPicPr/>
          <p:nvPr/>
        </p:nvPicPr>
        <p:blipFill>
          <a:blip r:embed="rId3"/>
          <a:stretch/>
        </p:blipFill>
        <p:spPr>
          <a:xfrm>
            <a:off x="5072040" y="2857680"/>
            <a:ext cx="28576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60480" y="208080"/>
            <a:ext cx="8632800" cy="12189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match occurs between the controlling expression’s value (grade) and a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bel,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Garamond"/>
              </a:rPr>
              <a:t>optional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ecut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necessary to write 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lide#3: If the User enters the value 59, the action of th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ase El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be executed as follow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EC33-5B26-42E1-B7CC-494FE02647D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3276720" y="4149720"/>
            <a:ext cx="28573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8"/>
          <p:cNvGrpSpPr/>
          <p:nvPr/>
        </p:nvGrpSpPr>
        <p:grpSpPr>
          <a:xfrm>
            <a:off x="34920" y="3622680"/>
            <a:ext cx="4897440" cy="2232000"/>
            <a:chOff x="34920" y="3622680"/>
            <a:chExt cx="4897440" cy="2232000"/>
          </a:xfrm>
        </p:grpSpPr>
        <p:pic>
          <p:nvPicPr>
            <p:cNvPr id="369" name="Picture 2" descr=""/>
            <p:cNvPicPr/>
            <p:nvPr/>
          </p:nvPicPr>
          <p:blipFill>
            <a:blip r:embed="rId1"/>
            <a:srcRect l="25178" t="36048" r="38299" b="33440"/>
            <a:stretch/>
          </p:blipFill>
          <p:spPr>
            <a:xfrm>
              <a:off x="178920" y="3622680"/>
              <a:ext cx="47534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Box 6"/>
            <p:cNvSpPr/>
            <p:nvPr/>
          </p:nvSpPr>
          <p:spPr>
            <a:xfrm>
              <a:off x="34920" y="5350680"/>
              <a:ext cx="439344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Title 1" descr=""/>
          <p:cNvPicPr/>
          <p:nvPr/>
        </p:nvPicPr>
        <p:blipFill>
          <a:blip r:embed="rId2"/>
          <a:stretch/>
        </p:blipFill>
        <p:spPr>
          <a:xfrm>
            <a:off x="19080" y="208080"/>
            <a:ext cx="8880480" cy="12189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match occurs and the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contain a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gram control simply continues with the first statement after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code in slide#3 does not have the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Case El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bellow, when the user Enters the number 59 nothing will happen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9441-70CF-45AC-BA15-8FA1ED4C4F0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3"/>
          <a:stretch/>
        </p:blipFill>
        <p:spPr>
          <a:xfrm>
            <a:off x="5867280" y="4140360"/>
            <a:ext cx="2857680" cy="1819080"/>
          </a:xfrm>
          <a:prstGeom prst="rect">
            <a:avLst/>
          </a:prstGeom>
          <a:ln w="0">
            <a:noFill/>
          </a:ln>
        </p:spPr>
      </p:pic>
      <p:cxnSp>
        <p:nvCxnSpPr>
          <p:cNvPr id="376" name="Straight Arrow Connector 11"/>
          <p:cNvCxnSpPr/>
          <p:nvPr/>
        </p:nvCxnSpPr>
        <p:spPr>
          <a:xfrm>
            <a:off x="4932000" y="5040000"/>
            <a:ext cx="935640" cy="1080"/>
          </a:xfrm>
          <a:prstGeom prst="straightConnector1">
            <a:avLst/>
          </a:prstGeom>
          <a:ln w="63360">
            <a:solidFill>
              <a:srgbClr val="7d3c4a"/>
            </a:solidFill>
            <a:miter/>
            <a:tailEnd len="med" type="triangle" w="med"/>
          </a:ln>
        </p:spPr>
      </p:cxnSp>
      <p:cxnSp>
        <p:nvCxnSpPr>
          <p:cNvPr id="377" name="Straight Arrow Connector 13"/>
          <p:cNvCxnSpPr/>
          <p:nvPr/>
        </p:nvCxnSpPr>
        <p:spPr>
          <a:xfrm>
            <a:off x="5508720" y="5652720"/>
            <a:ext cx="1080000" cy="108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triangle" w="med"/>
          </a:ln>
        </p:spPr>
      </p:cxnSp>
      <p:sp>
        <p:nvSpPr>
          <p:cNvPr id="378" name="TextBox 15"/>
          <p:cNvSpPr/>
          <p:nvPr/>
        </p:nvSpPr>
        <p:spPr>
          <a:xfrm>
            <a:off x="4356000" y="5286240"/>
            <a:ext cx="1152720" cy="824040"/>
          </a:xfrm>
          <a:prstGeom prst="rect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Lucida Sans Unicode"/>
              </a:rPr>
              <a:t>Nothing is displa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04:33:12Z</dcterms:created>
  <dc:creator>Maysoon</dc:creator>
  <dc:description/>
  <dc:language>en-US</dc:language>
  <cp:lastModifiedBy>GK</cp:lastModifiedBy>
  <dcterms:modified xsi:type="dcterms:W3CDTF">2014-10-11T19:38:44Z</dcterms:modified>
  <cp:revision>5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130AFAA5D399E489E1819B440698DE2</vt:lpwstr>
  </property>
</Properties>
</file>