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8408-21A6-45FA-A94C-060140F5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97C-5CFA-4F54-BF66-4AE4E4A2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71B-8D17-4736-97B4-B4E4EEC7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2829-5715-4EE7-957A-FF015B54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3846-C44A-486C-8ED7-A0C18245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CD1A-1D56-467F-9682-750A9AA1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07D7-BB1D-4F2A-AA9E-6070F671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CD19-D00B-4D8D-86E4-8541B2B8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B274-39BC-465C-9310-9DF5B986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793A-6F13-4E21-8C34-79D6D39E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10A2-25DB-4C63-A495-52B7F882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899-EA65-4D75-B1AE-2992F393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AAA5-0CF6-48E3-8946-9E7B24A9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93ED-5704-45D4-8026-0E6F6FE0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F22C-CC0A-4DA1-903F-9D268C73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22B0-7871-4167-AAF3-EF4D9A95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6F74-0246-4869-92C1-2203F3B8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6B0B0-4FC2-4753-A02F-C919CB3F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BE8FE-B314-4E22-90A1-DDDD6BFB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4D731-1930-44CA-B1BA-E9916DE5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24CBB-7FA6-4612-8B56-83EF70C1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8FDA0-44AA-4E80-89E6-062585E1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6F0-2129-43F2-AD90-76A26807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2244C-E18C-4479-87F2-2CDAC804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71925-2CC1-495E-B922-C81DB350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11B1D-D18E-4E0C-80C1-4C53ACE4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E5859-13FD-4148-BB69-A74D8260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15F9F-F8A6-4A60-9565-3028DA8A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A22AE-C65A-4478-A76F-CDAFF533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3EA68-8833-4099-9C38-B9B5FF27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3DAD8-E485-4584-BCF5-5CA34DCF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C79539-845E-4216-BAD2-627159F9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9EC68-1EAB-43FC-99EE-5D0080C7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A43-822E-482D-8BE6-EE273D30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4EA08-22D6-41DD-9CD2-236D6EA9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64C27D-3BD4-4D32-8CB7-357D5947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F7E002-4AD5-489A-A81C-A8E122E0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CEF299-6A35-40B9-8D86-4FF09BC1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B6334B-467E-4950-A57C-797DF5F0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5B5B5B-5BC1-4FCE-8F6D-E12B478E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70EF91-6FC7-495C-A5AB-E757A4B7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2FDE1A-D68E-4935-ADA5-563DDE55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D746D6-38A2-4BB8-8435-CDDDF7B9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13A18-DB93-483D-AE45-DBCD98FC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85BC-B8B9-4E3E-8887-03F8025F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8FA05-3AF0-4C25-97BC-5B2C7CC3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F280F-A8F6-41A5-B08C-5F96767D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AD334-3577-4142-B195-1986BBC8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9090D-5712-4746-98AA-0ADE6EE9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72E02-196E-40EE-BAC0-AC94BBED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227F3-E3A5-4045-8DCC-6C8D6E44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2BE31-EC2D-4065-B71A-23812BCE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AB25A-D408-4B5B-A18A-8569B011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39A8D-8BDD-4645-9613-94E1ACA7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8EF81-B66F-4310-AFCE-C99C6B77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E21-7093-4A33-A7D9-A0494ACA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192F8-7ACF-4541-904F-8A4CD18D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1EE3A-9C7A-4543-82D0-653D368A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7733C-ABFC-41F4-B6B8-4303C38C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90975-96A7-41CF-9A1B-3205F973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068FE-E211-43A7-BDE3-41321325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FED9E-E572-4CC9-A8DF-8AA041F4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9C0E6-6EA0-4AB1-8F2A-C69A7584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00F39-A62D-48BD-9DF6-CECD607B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CCC9B-2CE4-431B-8E57-3656D62F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E465A-89B6-458A-BB7B-B21D330A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C39-5F0A-4F7D-9821-96AE753F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A95DF-A43C-43F3-85CF-FD432D59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260AD-5DE9-4EE6-AFBE-6A2DA54D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500BF-6036-4656-9D76-991047D2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AA0C8-E665-4BAF-9C98-EB17F6F3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6DFF0-CC20-4C74-B897-E65F361F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84ED6-91C3-4841-949F-E2F23C47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66EE1-14FB-4C20-B12E-60451802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921F7-7DE1-47E6-B2B5-2C6121A1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0822E-2568-41D8-978F-E2727296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8759E-8F42-4C29-BDA4-D15D3293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5226-CBBE-4B19-A0E5-8093E5FE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1F6E1-F253-4901-B8D3-F0EF295A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D80AC-B2F1-4E86-8695-B1ED47B8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9479B-1173-4CD2-A261-E39DDBFA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5593B-8CE7-4457-9AD6-5D3713CC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1A14C-733D-41A7-876C-014D3516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6E4D-7758-4946-A384-D1893D8C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5A29-37F0-4B00-8189-9FC0F7882703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1992-2011 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011D-653F-4189-BBF9-1CEB07EDFD7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E9CE-EFAC-4277-A711-FF45D754CFB5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 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B26E-D605-47C0-87B7-947E47791B2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F130-D3C1-45C5-B36E-505A5F71D430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262692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1992-2011 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D0FB-A8DC-40A8-B339-88F2F78FB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ight Triangle 3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8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3" name="Freeform 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Freeform 7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36" name="Freeform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8" name="Straight Connector 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Action Button: Forward or Next 10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6DF0-CC82-491C-B975-0CA2C9DB6949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2BC9-256C-4517-AB96-05ACD157677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2742840" y="6408720"/>
            <a:ext cx="398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Lucida Sans Unicode"/>
              </a:rPr>
              <a:t>© 1992-2011 by Pearson Education, Inc. All Rights Reserved. - 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87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1519-74A0-43AE-A067-B0BC840CA841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٧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262692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524C-2758-4B9B-9010-DDB457E2830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6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F173-0BC6-4CD1-98BC-E70817C194C5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٧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7268-2DBB-4B5F-943C-ED857EB98D4B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5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D2BF-9B50-48D2-934D-6CE2513D3CEF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٧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1B9F-FFDF-4A8E-97C4-43AF40C731AA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731960"/>
            <a:ext cx="8010360" cy="1859040"/>
          </a:xfrm>
          <a:prstGeom prst="rect">
            <a:avLst/>
          </a:prstGeom>
          <a:ln w="0">
            <a:noFill/>
          </a:ln>
        </p:spPr>
      </p:pic>
      <p:sp>
        <p:nvSpPr>
          <p:cNvPr id="32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465B-4A3A-4B29-9C74-0EAD32FD33C0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743200" y="6408720"/>
            <a:ext cx="3987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4" descr=""/>
          <p:cNvPicPr/>
          <p:nvPr/>
        </p:nvPicPr>
        <p:blipFill>
          <a:blip r:embed="rId1"/>
          <a:stretch/>
        </p:blipFill>
        <p:spPr>
          <a:xfrm>
            <a:off x="-12600" y="208080"/>
            <a:ext cx="8705880" cy="12189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395280" y="1699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only is used to deal with invalid valu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example, we assume all values entered by the user are in the range 0–100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used,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the last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quir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words terminate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D7B1-F5AE-47D6-89DD-BE8E14B08688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vbhtp5_05images_Page_25.pn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551560"/>
          </a:xfrm>
          <a:prstGeom prst="rect">
            <a:avLst/>
          </a:prstGeom>
          <a:ln w="0">
            <a:noFill/>
          </a:ln>
        </p:spPr>
      </p:pic>
      <p:sp>
        <p:nvSpPr>
          <p:cNvPr id="384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E9E7-BFB1-4822-9404-A7868C5D6AB4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" descr="vbhtp5_05images_Page_24.png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5551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" descr="vbhtp5_05images_Page_26.png"/>
          <p:cNvPicPr/>
          <p:nvPr/>
        </p:nvPicPr>
        <p:blipFill>
          <a:blip r:embed="rId3"/>
          <a:stretch/>
        </p:blipFill>
        <p:spPr>
          <a:xfrm>
            <a:off x="0" y="3357720"/>
            <a:ext cx="914400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Types of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Stat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s also can use relational operators to determine whether the controlling expression satisfies a conditio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es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I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long with the relational operator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&lt;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 to test for values less than 0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F674-87D3-43FF-9B79-FB9C107DBE6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1403280" y="4767120"/>
            <a:ext cx="2664000" cy="587160"/>
          </a:xfrm>
          <a:prstGeom prst="rect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Select Ca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&lt;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5364000" y="4910040"/>
            <a:ext cx="2737080" cy="34056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rade &lt; </a:t>
            </a:r>
            <a:r>
              <a:rPr b="0" lang="en-US" sz="1800" spc="-1" strike="noStrike">
                <a:solidFill>
                  <a:srgbClr val="00b0f0"/>
                </a:solidFill>
                <a:latin typeface="Lucida Conso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Straight Arrow Connector 8"/>
          <p:cNvCxnSpPr>
            <a:stCxn id="392" idx="3"/>
            <a:endCxn id="393" idx="1"/>
          </p:cNvCxnSpPr>
          <p:nvPr/>
        </p:nvCxnSpPr>
        <p:spPr>
          <a:xfrm>
            <a:off x="4067280" y="5062320"/>
            <a:ext cx="1297440" cy="1080"/>
          </a:xfrm>
          <a:prstGeom prst="straightConnector1">
            <a:avLst/>
          </a:prstGeom>
          <a:ln w="5508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395" name="TextBox 9"/>
          <p:cNvSpPr/>
          <p:nvPr/>
        </p:nvSpPr>
        <p:spPr>
          <a:xfrm>
            <a:off x="4067280" y="476712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a1f28"/>
                </a:solidFill>
                <a:latin typeface="Calibri"/>
              </a:rPr>
              <a:t>Equival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Types of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Stat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ultiple values can be tested in a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 by separating the values with </a:t>
            </a:r>
            <a:r>
              <a:rPr b="0" lang="en-US" sz="2300" spc="-1" strike="noStrike">
                <a:solidFill>
                  <a:srgbClr val="0033cc"/>
                </a:solidFill>
                <a:latin typeface="Times New Roman"/>
              </a:rPr>
              <a:t>comma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as 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Case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,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5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To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9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ich tests for the value 0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lues in the range 5–9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so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 can be used to test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DCAB-D98A-4382-8D36-C6F8EA6FA53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ts val="25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1" i="1" lang="en-US" sz="2400" spc="-1" strike="noStrike">
                <a:solidFill>
                  <a:srgbClr val="000000"/>
                </a:solidFill>
                <a:latin typeface="AGaramond"/>
              </a:rPr>
              <a:t>…</a:t>
            </a: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400" spc="-1" strike="noStrike">
                <a:solidFill>
                  <a:srgbClr val="000000"/>
                </a:solidFill>
                <a:latin typeface="AGaramond"/>
              </a:rPr>
              <a:t> Statement to test </a:t>
            </a: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String valu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ts val="25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Console"/>
              </a:rPr>
              <a:t>Example: (The Select Color Example)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program that asks the user to enter one of the three basic colors (red,green,blue) if the input is correct the label change its color to the entered colo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D1AB-23E6-4758-B57B-78BDFBBF027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4608360" y="465300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4594320" y="292428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4"/>
          <a:stretch/>
        </p:blipFill>
        <p:spPr>
          <a:xfrm>
            <a:off x="1619280" y="292428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5"/>
          <a:stretch/>
        </p:blipFill>
        <p:spPr>
          <a:xfrm>
            <a:off x="1619280" y="4653000"/>
            <a:ext cx="27003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268200" y="208080"/>
            <a:ext cx="8425080" cy="12189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914400" y="1341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Console"/>
              </a:rPr>
              <a:t>(The Select Color Example Program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CD88-8F19-4AA6-AF33-7C72D914F61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2"/>
          <a:srcRect l="2487" t="16218" r="37743" b="33937"/>
          <a:stretch/>
        </p:blipFill>
        <p:spPr>
          <a:xfrm>
            <a:off x="826920" y="1989000"/>
            <a:ext cx="7777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dition is an expression that results in a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—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ar, we’ve studied onl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imple cond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uch a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lection and repetition statement evaluated on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e condition with one of the operators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3EC7-868D-4C64-93D3-FCDA4657F3F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handle multiple conditions more efficiently, the </a:t>
            </a:r>
            <a:r>
              <a:rPr b="0" lang="en-US" sz="2700" spc="-1" strike="noStrike">
                <a:solidFill>
                  <a:srgbClr val="0000ff"/>
                </a:solidFill>
                <a:latin typeface="Times New Roman"/>
              </a:rPr>
              <a:t>logical operator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can be used to form complex conditions by combining simple o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gical operators are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B675-1921-45B4-A8F8-309ECB4DDEE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ppose we wish to ensure that two conditions are both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n a program before a certain path of execution is chos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n such a case, we can use the logical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An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 as follow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gender 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age &gt;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65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  seniorFemales +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1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 contains two simple conditio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DA39-6341-44C7-B60F-AEE6E2BA6CA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en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"F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s whether a person is female and 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6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s whether a person is a senior citiz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simple conditions are evaluated first, because the precedence of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both higher than the precedence of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If gender = </a:t>
            </a:r>
            <a:r>
              <a:rPr b="0" lang="en-US" sz="21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1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 age &gt;= </a:t>
            </a:r>
            <a:r>
              <a:rPr b="0" lang="en-US" sz="2100" spc="-1" strike="noStrike">
                <a:solidFill>
                  <a:srgbClr val="128aff"/>
                </a:solidFill>
                <a:latin typeface="Lucida Console"/>
              </a:rPr>
              <a:t>65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10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4222-1FB9-439A-8FE2-04693FB15A9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2357280" y="477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4429080" y="477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eft Brace 6"/>
          <p:cNvSpPr/>
          <p:nvPr/>
        </p:nvSpPr>
        <p:spPr>
          <a:xfrm rot="16200000">
            <a:off x="2847960" y="3924000"/>
            <a:ext cx="304560" cy="175284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752840"/>
              <a:gd name="textAreaBottom" fmla="*/ 17449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7"/>
                  <a:pt x="10800" y="313"/>
                </a:cubicBezTo>
                <a:lnTo>
                  <a:pt x="10800" y="10487"/>
                </a:lnTo>
                <a:cubicBezTo>
                  <a:pt x="10800" y="10644"/>
                  <a:pt x="5400" y="10800"/>
                  <a:pt x="0" y="10800"/>
                </a:cubicBezTo>
                <a:cubicBezTo>
                  <a:pt x="5400" y="10800"/>
                  <a:pt x="10800" y="10957"/>
                  <a:pt x="10800" y="11113"/>
                </a:cubicBezTo>
                <a:lnTo>
                  <a:pt x="10800" y="21287"/>
                </a:lnTo>
                <a:cubicBezTo>
                  <a:pt x="10800" y="214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eft Brace 7"/>
          <p:cNvSpPr/>
          <p:nvPr/>
        </p:nvSpPr>
        <p:spPr>
          <a:xfrm rot="16200000">
            <a:off x="4962600" y="411480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371600"/>
              <a:gd name="textAreaBottom" fmla="*/ 13636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eft Brace 8"/>
          <p:cNvSpPr/>
          <p:nvPr/>
        </p:nvSpPr>
        <p:spPr>
          <a:xfrm rot="16200000">
            <a:off x="3962520" y="407628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2514600"/>
              <a:gd name="textAreaBottom" fmla="*/ 25066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8"/>
                </a:cubicBezTo>
                <a:lnTo>
                  <a:pt x="10800" y="10582"/>
                </a:lnTo>
                <a:cubicBezTo>
                  <a:pt x="10800" y="10691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8"/>
                </a:cubicBezTo>
                <a:lnTo>
                  <a:pt x="10800" y="21382"/>
                </a:lnTo>
                <a:cubicBezTo>
                  <a:pt x="10800" y="2149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9"/>
          <p:cNvSpPr/>
          <p:nvPr/>
        </p:nvSpPr>
        <p:spPr>
          <a:xfrm>
            <a:off x="1905120" y="5486400"/>
            <a:ext cx="65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both are True then the condition of the </a:t>
            </a:r>
            <a:r>
              <a:rPr b="1" lang="en-US" sz="1800" spc="-1" strike="noStrike">
                <a:solidFill>
                  <a:srgbClr val="3333ff"/>
                </a:solidFill>
                <a:latin typeface="Calibri"/>
              </a:rPr>
              <a:t>If Stat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268200" y="208080"/>
            <a:ext cx="8704440" cy="1218960"/>
          </a:xfrm>
          <a:prstGeom prst="rect">
            <a:avLst/>
          </a:prstGeom>
          <a:ln w="0">
            <a:noFill/>
          </a:ln>
        </p:spPr>
      </p:pic>
      <p:pic>
        <p:nvPicPr>
          <p:cNvPr id="332" name="Text Placeholder 2" descr=""/>
          <p:cNvPicPr/>
          <p:nvPr/>
        </p:nvPicPr>
        <p:blipFill>
          <a:blip r:embed="rId2"/>
          <a:stretch/>
        </p:blipFill>
        <p:spPr>
          <a:xfrm>
            <a:off x="450720" y="1511280"/>
            <a:ext cx="8242560" cy="5164200"/>
          </a:xfrm>
          <a:prstGeom prst="rect">
            <a:avLst/>
          </a:prstGeom>
          <a:ln w="0">
            <a:noFill/>
          </a:ln>
        </p:spPr>
      </p:pic>
      <p:sp>
        <p:nvSpPr>
          <p:cNvPr id="33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ED6C-4CF4-4FD2-B26B-46FCF5194F0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is combined condition i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niorFem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 is incremented by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dability of the preceding combined condition can be improved by adding parenthes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(gender =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(age &gt;=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65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4988-2A59-44C9-AF4E-6C30FB1670A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143000" y="2209680"/>
          <a:ext cx="6477120" cy="1854360"/>
        </p:xfrm>
        <a:graphic>
          <a:graphicData uri="http://schemas.openxmlformats.org/drawingml/2006/table">
            <a:tbl>
              <a:tblPr/>
              <a:tblGrid>
                <a:gridCol w="1933560"/>
                <a:gridCol w="1771560"/>
                <a:gridCol w="2772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nder = "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age &gt;= </a:t>
                      </a:r>
                      <a:r>
                        <a:rPr b="0" lang="en-US" sz="1800" spc="-1" strike="noStrike">
                          <a:solidFill>
                            <a:srgbClr val="128aff"/>
                          </a:solidFill>
                          <a:latin typeface="Lucida Console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s the </a:t>
                      </a: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Lucida Sans Unicode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Condition m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ow let’s consider th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ppose we wish to ensure that either or both of two conditions ar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before we choose a certain path of executio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 use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 as in the following program segment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(semesterAverage &gt;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Or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finalExam &gt;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1700" spc="-1" strike="noStrike">
                <a:solidFill>
                  <a:srgbClr val="000000"/>
                </a:solidFill>
                <a:latin typeface="LucidaSansTypewriter"/>
              </a:rPr>
              <a:t>)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  resultLabel.Text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"Student grade is A"</a:t>
            </a:r>
            <a:br>
              <a:rPr sz="1700"/>
            </a:b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s statement also contains two simple conditions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B889-8899-46AC-A211-F5FF43F30E2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mesterAv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aluated to determine whether the student deserves an “A” in the course because of his performance throughout the semest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inalEx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aluated to determine whether the student deserves an “A” in the course because of his performance on the final exa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45ED-1CF0-406E-8895-53FB1C2670D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then considers the combined condi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semesterAverage &gt;= </a:t>
            </a:r>
            <a:r>
              <a:rPr b="0" lang="en-US" sz="22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Lucida Console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 finalExam &gt;= </a:t>
            </a:r>
            <a:r>
              <a:rPr b="0" lang="en-US" sz="22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LucidaSansTypewriter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wards the student an “A” if either or both of the conditions ar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xt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"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isplayed, unless both of the conditions ar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 has a higher precedence tha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1591-5C3F-4FAB-8746-0401B0C4FA7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1" descr="vbhtp5_05images_Page_31.png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1560"/>
          </a:xfrm>
          <a:prstGeom prst="rect">
            <a:avLst/>
          </a:prstGeom>
          <a:ln w="0">
            <a:noFill/>
          </a:ln>
        </p:spPr>
      </p:pic>
      <p:sp>
        <p:nvSpPr>
          <p:cNvPr id="453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45DD-122C-4042-8858-393B4740654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8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ndition containing the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logical exclusive O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X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i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and only if one of its operands results in a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 and the other results in a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both operands ar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both ar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 entire condition i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9212-46FC-46A9-A4E5-C1AE44F4228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" descr="vbhtp5_05images_Page_33.png"/>
          <p:cNvPicPr/>
          <p:nvPr/>
        </p:nvPicPr>
        <p:blipFill>
          <a:blip r:embed="rId2"/>
          <a:srcRect l="12500" t="0" r="30003" b="49990"/>
          <a:stretch/>
        </p:blipFill>
        <p:spPr>
          <a:xfrm>
            <a:off x="3214800" y="3676680"/>
            <a:ext cx="56242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8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ogical negation) operator enables you to “reverse” the meaning of a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ike the logical operator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each comb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, the logical negation operator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, requiring only one oper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" descr="vbhtp5_05images_Page_34.png"/>
          <p:cNvPicPr/>
          <p:nvPr/>
        </p:nvPicPr>
        <p:blipFill>
          <a:blip r:embed="rId1"/>
          <a:srcRect l="25834" t="0" r="40002" b="52733"/>
          <a:stretch/>
        </p:blipFill>
        <p:spPr>
          <a:xfrm>
            <a:off x="2971800" y="3828960"/>
            <a:ext cx="3124080" cy="2624400"/>
          </a:xfrm>
          <a:prstGeom prst="rect">
            <a:avLst/>
          </a:prstGeom>
          <a:ln w="0">
            <a:noFill/>
          </a:ln>
        </p:spPr>
      </p:pic>
      <p:sp>
        <p:nvSpPr>
          <p:cNvPr id="464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F330-613C-4781-B7F9-5E0C0A822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gical negation operator is demonstrated by the following program segment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Not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(value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  resultLabel.Text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"The value is "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&amp; value</a:t>
            </a:r>
            <a:br>
              <a:rPr sz="1700"/>
            </a:b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entheses around 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cess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ause the logical negation operator (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a higher precedence than the equality operato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DCED-95CB-4C3F-AE47-C1FB1C5DB87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st cases, you can avoid using logical negation by expressing the condition differently with relational or equality operator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flexibility helps you express conditions more naturall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the preceding statement can be written as follow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Lucida Console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9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6907-33EB-418D-BC28-FEC756FBC6D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685800" y="4843440"/>
            <a:ext cx="3124080" cy="337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(value 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5943600" y="4843440"/>
            <a:ext cx="2666880" cy="337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value &lt;&gt;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Straight Arrow Connector 7"/>
          <p:cNvCxnSpPr>
            <a:stCxn id="473" idx="3"/>
            <a:endCxn id="474" idx="1"/>
          </p:cNvCxnSpPr>
          <p:nvPr/>
        </p:nvCxnSpPr>
        <p:spPr>
          <a:xfrm>
            <a:off x="3809520" y="5011200"/>
            <a:ext cx="213444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476" name="TextBox 8"/>
          <p:cNvSpPr/>
          <p:nvPr/>
        </p:nvSpPr>
        <p:spPr>
          <a:xfrm>
            <a:off x="3962520" y="46911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be written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78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F030-41BA-43E3-BD49-47F4199AF64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" descr="vbhtp5_05images_Page_40.png"/>
          <p:cNvPicPr/>
          <p:nvPr/>
        </p:nvPicPr>
        <p:blipFill>
          <a:blip r:embed="rId2"/>
          <a:srcRect l="14177" t="7786" r="30704" b="10502"/>
          <a:stretch/>
        </p:blipFill>
        <p:spPr>
          <a:xfrm>
            <a:off x="1763640" y="1557360"/>
            <a:ext cx="5040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3EE5-DC09-4686-892B-E7849C8A7B36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rcRect l="18538" t="15374" r="17821" b="19656"/>
          <a:stretch/>
        </p:blipFill>
        <p:spPr>
          <a:xfrm>
            <a:off x="539640" y="692280"/>
            <a:ext cx="8280360" cy="4752720"/>
          </a:xfrm>
          <a:prstGeom prst="rect">
            <a:avLst/>
          </a:prstGeom>
          <a:ln w="0">
            <a:noFill/>
          </a:ln>
        </p:spPr>
      </p:pic>
      <p:sp>
        <p:nvSpPr>
          <p:cNvPr id="338" name="TextBox 7"/>
          <p:cNvSpPr/>
          <p:nvPr/>
        </p:nvSpPr>
        <p:spPr>
          <a:xfrm>
            <a:off x="971640" y="5661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ove program Use the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Select Cas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ment to determine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#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411280" y="1341360"/>
            <a:ext cx="43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Calibri"/>
              </a:rPr>
              <a:t>X += ( 4 \ y * 2 ) ^ ( x – 2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53DB-BC9A-4A3A-8152-00815E644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eft Brace 6"/>
          <p:cNvSpPr/>
          <p:nvPr/>
        </p:nvSpPr>
        <p:spPr>
          <a:xfrm rot="16200000">
            <a:off x="3960000" y="1809000"/>
            <a:ext cx="432000" cy="503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503280"/>
              <a:gd name="textAreaBottom" fmla="*/ 4921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2"/>
                  <a:pt x="10800" y="1544"/>
                </a:cubicBezTo>
                <a:lnTo>
                  <a:pt x="10800" y="9256"/>
                </a:lnTo>
                <a:cubicBezTo>
                  <a:pt x="10800" y="10028"/>
                  <a:pt x="5400" y="10800"/>
                  <a:pt x="0" y="10800"/>
                </a:cubicBezTo>
                <a:cubicBezTo>
                  <a:pt x="5400" y="10800"/>
                  <a:pt x="10800" y="11572"/>
                  <a:pt x="10800" y="12344"/>
                </a:cubicBezTo>
                <a:lnTo>
                  <a:pt x="10800" y="20056"/>
                </a:lnTo>
                <a:cubicBezTo>
                  <a:pt x="10800" y="2082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eft Brace 7"/>
          <p:cNvSpPr/>
          <p:nvPr/>
        </p:nvSpPr>
        <p:spPr>
          <a:xfrm rot="16200000">
            <a:off x="3635280" y="2275920"/>
            <a:ext cx="289080" cy="7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1"/>
                  <a:pt x="10800" y="722"/>
                </a:cubicBezTo>
                <a:lnTo>
                  <a:pt x="10800" y="10078"/>
                </a:lnTo>
                <a:cubicBezTo>
                  <a:pt x="10800" y="10439"/>
                  <a:pt x="5400" y="10800"/>
                  <a:pt x="0" y="10800"/>
                </a:cubicBezTo>
                <a:cubicBezTo>
                  <a:pt x="5400" y="10800"/>
                  <a:pt x="10800" y="11161"/>
                  <a:pt x="10800" y="11522"/>
                </a:cubicBezTo>
                <a:lnTo>
                  <a:pt x="10800" y="20878"/>
                </a:lnTo>
                <a:cubicBezTo>
                  <a:pt x="10800" y="212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8"/>
          <p:cNvSpPr/>
          <p:nvPr/>
        </p:nvSpPr>
        <p:spPr>
          <a:xfrm>
            <a:off x="399564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10"/>
          <p:cNvSpPr/>
          <p:nvPr/>
        </p:nvSpPr>
        <p:spPr>
          <a:xfrm flipV="1">
            <a:off x="3419640" y="177336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3635280" y="2781360"/>
            <a:ext cx="3603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eft Brace 16"/>
          <p:cNvSpPr/>
          <p:nvPr/>
        </p:nvSpPr>
        <p:spPr>
          <a:xfrm rot="16200000">
            <a:off x="5435280" y="2925360"/>
            <a:ext cx="289080" cy="57456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574560"/>
              <a:gd name="textAreaBottom" fmla="*/ 567360 h 57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5"/>
                </a:cubicBezTo>
                <a:lnTo>
                  <a:pt x="10800" y="9895"/>
                </a:lnTo>
                <a:cubicBezTo>
                  <a:pt x="10800" y="10348"/>
                  <a:pt x="5400" y="10800"/>
                  <a:pt x="0" y="10800"/>
                </a:cubicBezTo>
                <a:cubicBezTo>
                  <a:pt x="5400" y="10800"/>
                  <a:pt x="10800" y="11253"/>
                  <a:pt x="10800" y="11705"/>
                </a:cubicBezTo>
                <a:lnTo>
                  <a:pt x="10800" y="20695"/>
                </a:lnTo>
                <a:cubicBezTo>
                  <a:pt x="10800" y="211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17"/>
          <p:cNvSpPr/>
          <p:nvPr/>
        </p:nvSpPr>
        <p:spPr>
          <a:xfrm flipV="1">
            <a:off x="5867280" y="177336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8"/>
          <p:cNvSpPr/>
          <p:nvPr/>
        </p:nvSpPr>
        <p:spPr>
          <a:xfrm>
            <a:off x="5435640" y="3357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20"/>
          <p:cNvSpPr/>
          <p:nvPr/>
        </p:nvSpPr>
        <p:spPr>
          <a:xfrm flipV="1">
            <a:off x="5292720" y="177336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eft Brace 22"/>
          <p:cNvSpPr/>
          <p:nvPr/>
        </p:nvSpPr>
        <p:spPr>
          <a:xfrm rot="16200000">
            <a:off x="4469400" y="3243960"/>
            <a:ext cx="432000" cy="181116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1811160"/>
              <a:gd name="textAreaBottom" fmla="*/ 1800000 h 181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5"/>
                  <a:pt x="10800" y="429"/>
                </a:cubicBezTo>
                <a:lnTo>
                  <a:pt x="10800" y="13280"/>
                </a:lnTo>
                <a:cubicBezTo>
                  <a:pt x="10800" y="13495"/>
                  <a:pt x="5400" y="13709"/>
                  <a:pt x="0" y="13709"/>
                </a:cubicBezTo>
                <a:cubicBezTo>
                  <a:pt x="5400" y="13709"/>
                  <a:pt x="10800" y="13924"/>
                  <a:pt x="10800" y="14138"/>
                </a:cubicBezTo>
                <a:lnTo>
                  <a:pt x="10800" y="21171"/>
                </a:lnTo>
                <a:cubicBezTo>
                  <a:pt x="10800" y="2138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23"/>
          <p:cNvSpPr/>
          <p:nvPr/>
        </p:nvSpPr>
        <p:spPr>
          <a:xfrm flipV="1">
            <a:off x="5591160" y="3716280"/>
            <a:ext cx="0" cy="217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25"/>
          <p:cNvSpPr/>
          <p:nvPr/>
        </p:nvSpPr>
        <p:spPr>
          <a:xfrm flipV="1">
            <a:off x="3780000" y="314172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40"/>
          <p:cNvSpPr/>
          <p:nvPr/>
        </p:nvSpPr>
        <p:spPr>
          <a:xfrm>
            <a:off x="4788000" y="4365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eft Brace 41"/>
          <p:cNvSpPr/>
          <p:nvPr/>
        </p:nvSpPr>
        <p:spPr>
          <a:xfrm rot="16200000">
            <a:off x="3640680" y="3999240"/>
            <a:ext cx="431640" cy="2170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2170080"/>
              <a:gd name="textAreaBottom" fmla="*/ 2158920 h 217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9"/>
                  <a:pt x="10800" y="358"/>
                </a:cubicBezTo>
                <a:lnTo>
                  <a:pt x="10800" y="13351"/>
                </a:lnTo>
                <a:cubicBezTo>
                  <a:pt x="10800" y="13530"/>
                  <a:pt x="5400" y="13709"/>
                  <a:pt x="0" y="13709"/>
                </a:cubicBezTo>
                <a:cubicBezTo>
                  <a:pt x="5400" y="13709"/>
                  <a:pt x="10800" y="13888"/>
                  <a:pt x="10800" y="14067"/>
                </a:cubicBezTo>
                <a:lnTo>
                  <a:pt x="10800" y="21242"/>
                </a:lnTo>
                <a:cubicBezTo>
                  <a:pt x="10800" y="2142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42"/>
          <p:cNvSpPr/>
          <p:nvPr/>
        </p:nvSpPr>
        <p:spPr>
          <a:xfrm flipV="1">
            <a:off x="4941720" y="4724280"/>
            <a:ext cx="0" cy="14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43"/>
          <p:cNvSpPr/>
          <p:nvPr/>
        </p:nvSpPr>
        <p:spPr>
          <a:xfrm flipV="1">
            <a:off x="2771640" y="1773000"/>
            <a:ext cx="0" cy="309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44"/>
          <p:cNvSpPr/>
          <p:nvPr/>
        </p:nvSpPr>
        <p:spPr>
          <a:xfrm>
            <a:off x="3995640" y="5300640"/>
            <a:ext cx="3747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#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7280" y="134136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Calibri"/>
              </a:rPr>
              <a:t>If Not( x * y &lt; 0 ) And ( x ^ 2 &gt;= 100 Mod 4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1D26-6479-404B-850B-EF5C8BA3C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eft Brace 6"/>
          <p:cNvSpPr/>
          <p:nvPr/>
        </p:nvSpPr>
        <p:spPr>
          <a:xfrm rot="16200000">
            <a:off x="2808000" y="1807920"/>
            <a:ext cx="432000" cy="505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505080"/>
              <a:gd name="textAreaBottom" fmla="*/ 4939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0"/>
                  <a:pt x="10800" y="1540"/>
                </a:cubicBezTo>
                <a:lnTo>
                  <a:pt x="10800" y="9260"/>
                </a:lnTo>
                <a:cubicBezTo>
                  <a:pt x="10800" y="10030"/>
                  <a:pt x="5400" y="10800"/>
                  <a:pt x="0" y="10800"/>
                </a:cubicBezTo>
                <a:cubicBezTo>
                  <a:pt x="5400" y="10800"/>
                  <a:pt x="10800" y="11570"/>
                  <a:pt x="10800" y="12340"/>
                </a:cubicBezTo>
                <a:lnTo>
                  <a:pt x="10800" y="20060"/>
                </a:lnTo>
                <a:cubicBezTo>
                  <a:pt x="10800" y="2083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eft Brace 7"/>
          <p:cNvSpPr/>
          <p:nvPr/>
        </p:nvSpPr>
        <p:spPr>
          <a:xfrm rot="16200000">
            <a:off x="3274920" y="2275920"/>
            <a:ext cx="289080" cy="7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1"/>
                  <a:pt x="10800" y="722"/>
                </a:cubicBezTo>
                <a:lnTo>
                  <a:pt x="10800" y="10078"/>
                </a:lnTo>
                <a:cubicBezTo>
                  <a:pt x="10800" y="10439"/>
                  <a:pt x="5400" y="10800"/>
                  <a:pt x="0" y="10800"/>
                </a:cubicBezTo>
                <a:cubicBezTo>
                  <a:pt x="5400" y="10800"/>
                  <a:pt x="10800" y="11161"/>
                  <a:pt x="10800" y="11522"/>
                </a:cubicBezTo>
                <a:lnTo>
                  <a:pt x="10800" y="20878"/>
                </a:lnTo>
                <a:cubicBezTo>
                  <a:pt x="10800" y="212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8"/>
          <p:cNvSpPr/>
          <p:nvPr/>
        </p:nvSpPr>
        <p:spPr>
          <a:xfrm>
            <a:off x="284328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10"/>
          <p:cNvSpPr/>
          <p:nvPr/>
        </p:nvSpPr>
        <p:spPr>
          <a:xfrm flipV="1">
            <a:off x="3780000" y="177336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3276720" y="2781360"/>
            <a:ext cx="3585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eft Brace 16"/>
          <p:cNvSpPr/>
          <p:nvPr/>
        </p:nvSpPr>
        <p:spPr>
          <a:xfrm rot="16200000">
            <a:off x="5219640" y="1701360"/>
            <a:ext cx="289080" cy="5749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574920"/>
              <a:gd name="textAreaBottom" fmla="*/ 567720 h 5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5"/>
                </a:cubicBezTo>
                <a:lnTo>
                  <a:pt x="10800" y="9895"/>
                </a:lnTo>
                <a:cubicBezTo>
                  <a:pt x="10800" y="10348"/>
                  <a:pt x="5400" y="10800"/>
                  <a:pt x="0" y="10800"/>
                </a:cubicBezTo>
                <a:cubicBezTo>
                  <a:pt x="5400" y="10800"/>
                  <a:pt x="10800" y="11253"/>
                  <a:pt x="10800" y="11705"/>
                </a:cubicBezTo>
                <a:lnTo>
                  <a:pt x="10800" y="20695"/>
                </a:lnTo>
                <a:cubicBezTo>
                  <a:pt x="10800" y="211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8"/>
          <p:cNvSpPr/>
          <p:nvPr/>
        </p:nvSpPr>
        <p:spPr>
          <a:xfrm>
            <a:off x="521964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eft Brace 22"/>
          <p:cNvSpPr/>
          <p:nvPr/>
        </p:nvSpPr>
        <p:spPr>
          <a:xfrm rot="16200000">
            <a:off x="6981840" y="1450440"/>
            <a:ext cx="291960" cy="1079640"/>
          </a:xfrm>
          <a:custGeom>
            <a:avLst/>
            <a:gdLst>
              <a:gd name="textAreaLeft" fmla="*/ 186480 w 291960"/>
              <a:gd name="textAreaRight" fmla="*/ 292320 w 291960"/>
              <a:gd name="textAreaTop" fmla="*/ 7560 h 1079640"/>
              <a:gd name="textAreaBottom" fmla="*/ 107208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4"/>
                  <a:pt x="10800" y="487"/>
                </a:cubicBezTo>
                <a:lnTo>
                  <a:pt x="10800" y="10131"/>
                </a:lnTo>
                <a:cubicBezTo>
                  <a:pt x="10800" y="10375"/>
                  <a:pt x="5400" y="10618"/>
                  <a:pt x="0" y="10618"/>
                </a:cubicBezTo>
                <a:cubicBezTo>
                  <a:pt x="5400" y="10618"/>
                  <a:pt x="10800" y="10862"/>
                  <a:pt x="10800" y="11105"/>
                </a:cubicBezTo>
                <a:lnTo>
                  <a:pt x="10800" y="21113"/>
                </a:lnTo>
                <a:cubicBezTo>
                  <a:pt x="10800" y="213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40"/>
          <p:cNvSpPr/>
          <p:nvPr/>
        </p:nvSpPr>
        <p:spPr>
          <a:xfrm>
            <a:off x="694836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eft Brace 41"/>
          <p:cNvSpPr/>
          <p:nvPr/>
        </p:nvSpPr>
        <p:spPr>
          <a:xfrm rot="16200000">
            <a:off x="6014160" y="1851480"/>
            <a:ext cx="457200" cy="17384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738440"/>
              <a:gd name="textAreaBottom" fmla="*/ 1726560 h 17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3"/>
                </a:cubicBezTo>
                <a:lnTo>
                  <a:pt x="10800" y="10436"/>
                </a:lnTo>
                <a:cubicBezTo>
                  <a:pt x="10800" y="10673"/>
                  <a:pt x="5400" y="10909"/>
                  <a:pt x="0" y="10909"/>
                </a:cubicBezTo>
                <a:cubicBezTo>
                  <a:pt x="5400" y="10909"/>
                  <a:pt x="10800" y="11146"/>
                  <a:pt x="10800" y="11382"/>
                </a:cubicBezTo>
                <a:lnTo>
                  <a:pt x="10800" y="21127"/>
                </a:lnTo>
                <a:cubicBezTo>
                  <a:pt x="10800" y="213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44"/>
          <p:cNvSpPr/>
          <p:nvPr/>
        </p:nvSpPr>
        <p:spPr>
          <a:xfrm>
            <a:off x="6084720" y="2924280"/>
            <a:ext cx="37332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eft Brace 27"/>
          <p:cNvSpPr/>
          <p:nvPr/>
        </p:nvSpPr>
        <p:spPr>
          <a:xfrm rot="16200000">
            <a:off x="2615400" y="2721960"/>
            <a:ext cx="457200" cy="1296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296720"/>
              <a:gd name="textAreaBottom" fmla="*/ 12848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7"/>
                  <a:pt x="10800" y="634"/>
                </a:cubicBezTo>
                <a:lnTo>
                  <a:pt x="10800" y="10275"/>
                </a:lnTo>
                <a:cubicBezTo>
                  <a:pt x="10800" y="10592"/>
                  <a:pt x="5400" y="10909"/>
                  <a:pt x="0" y="10909"/>
                </a:cubicBezTo>
                <a:cubicBezTo>
                  <a:pt x="5400" y="10909"/>
                  <a:pt x="10800" y="11226"/>
                  <a:pt x="10800" y="11543"/>
                </a:cubicBezTo>
                <a:lnTo>
                  <a:pt x="10800" y="20966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28"/>
          <p:cNvSpPr/>
          <p:nvPr/>
        </p:nvSpPr>
        <p:spPr>
          <a:xfrm flipV="1">
            <a:off x="2195640" y="1844280"/>
            <a:ext cx="0" cy="1297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1"/>
          <p:cNvSpPr/>
          <p:nvPr/>
        </p:nvSpPr>
        <p:spPr>
          <a:xfrm>
            <a:off x="2700360" y="3573360"/>
            <a:ext cx="3729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eft Brace 32"/>
          <p:cNvSpPr/>
          <p:nvPr/>
        </p:nvSpPr>
        <p:spPr>
          <a:xfrm rot="16200000">
            <a:off x="4343400" y="2938680"/>
            <a:ext cx="457200" cy="3311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3311280"/>
              <a:gd name="textAreaBottom" fmla="*/ 3299400 h 33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660"/>
                </a:lnTo>
                <a:cubicBezTo>
                  <a:pt x="10800" y="10785"/>
                  <a:pt x="5400" y="10909"/>
                  <a:pt x="0" y="10909"/>
                </a:cubicBezTo>
                <a:cubicBezTo>
                  <a:pt x="5400" y="10909"/>
                  <a:pt x="10800" y="11034"/>
                  <a:pt x="10800" y="11158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33"/>
          <p:cNvSpPr/>
          <p:nvPr/>
        </p:nvSpPr>
        <p:spPr>
          <a:xfrm>
            <a:off x="4344840" y="4797360"/>
            <a:ext cx="3747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4"/>
          <p:cNvSpPr/>
          <p:nvPr/>
        </p:nvSpPr>
        <p:spPr>
          <a:xfrm flipV="1">
            <a:off x="6227640" y="3284640"/>
            <a:ext cx="0" cy="12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36"/>
          <p:cNvSpPr/>
          <p:nvPr/>
        </p:nvSpPr>
        <p:spPr>
          <a:xfrm flipV="1">
            <a:off x="2916360" y="393372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8E9C-582A-43CE-8D32-3C1F58D8B7DF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rcRect l="19089" t="17347" r="17265" b="16703"/>
          <a:stretch/>
        </p:blipFill>
        <p:spPr>
          <a:xfrm>
            <a:off x="395280" y="620640"/>
            <a:ext cx="8280360" cy="48243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5"/>
          <p:cNvSpPr/>
          <p:nvPr/>
        </p:nvSpPr>
        <p:spPr>
          <a:xfrm>
            <a:off x="468360" y="54291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ove program Use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If Then ElseI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ment to determine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This program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quival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the one in previous slide#3 that uses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Selec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5615-3C5F-46B7-9C5B-B281BE526BF4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179280" y="2492280"/>
            <a:ext cx="3961080" cy="733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77 and press the Calculate Score button of the Select Case Statement (The code in Slide#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0"/>
          <p:cNvSpPr/>
          <p:nvPr/>
        </p:nvSpPr>
        <p:spPr>
          <a:xfrm>
            <a:off x="4859280" y="2492280"/>
            <a:ext cx="4140360" cy="733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77 and press the Calculate Score button of the If Then Else Statement (The code in Slide#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324000" y="5516640"/>
            <a:ext cx="4032000" cy="52020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Press one of the Calculate Score Button Without Entering any score in the Text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"/>
          <p:cNvPicPr/>
          <p:nvPr/>
        </p:nvPicPr>
        <p:blipFill>
          <a:blip r:embed="rId2"/>
          <a:stretch/>
        </p:blipFill>
        <p:spPr>
          <a:xfrm>
            <a:off x="5602320" y="33336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"/>
          <p:cNvPicPr/>
          <p:nvPr/>
        </p:nvPicPr>
        <p:blipFill>
          <a:blip r:embed="rId3"/>
          <a:stretch/>
        </p:blipFill>
        <p:spPr>
          <a:xfrm>
            <a:off x="684360" y="3357720"/>
            <a:ext cx="2857320" cy="2133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"/>
          <p:cNvPicPr/>
          <p:nvPr/>
        </p:nvPicPr>
        <p:blipFill>
          <a:blip r:embed="rId4"/>
          <a:stretch/>
        </p:blipFill>
        <p:spPr>
          <a:xfrm>
            <a:off x="5602320" y="3357720"/>
            <a:ext cx="2857320" cy="2133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8"/>
          <p:cNvSpPr/>
          <p:nvPr/>
        </p:nvSpPr>
        <p:spPr>
          <a:xfrm>
            <a:off x="4932360" y="5516640"/>
            <a:ext cx="4032360" cy="52020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89 and press one of the Calculate Scor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grade in the rang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00 represents a Perfect 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90–99 represents an A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80–89 represents a B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70–79 represents a C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60–69 represents a D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nd 0–59 represents an F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 assume that the user enters a grade in the range 0–100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expression following the keyword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(in this case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grad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is called th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ontrollin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xpressio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 is compared in order with each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a matching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found, the code in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executes, then program control proceeds to the first statement after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1908000" y="6308640"/>
            <a:ext cx="6840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6D80-4EED-4925-AE1A-135C2A870CB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atement can specify multiple action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 The Following 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C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has two action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output will be as follow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pecifies the range;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C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80 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89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ans all the values [80,81,82,….,87,88,89] ranging between 80 to 89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3799-438C-45AC-B93A-06647AA376E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2"/>
          <a:srcRect l="19642" t="31798" r="43279" b="58862"/>
          <a:stretch/>
        </p:blipFill>
        <p:spPr>
          <a:xfrm>
            <a:off x="1476360" y="1989000"/>
            <a:ext cx="6029280" cy="809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3"/>
          <a:stretch/>
        </p:blipFill>
        <p:spPr>
          <a:xfrm>
            <a:off x="5072040" y="2857680"/>
            <a:ext cx="28576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match occurs between the controlling expression’s value (grade) and a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bel,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Garamond"/>
              </a:rPr>
              <a:t>optional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ecut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necessary to write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lide#3: If the User enters the value 59, the action of th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ase El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be executed as follow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488A-82C0-4756-B394-6A7476B57C0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3276720" y="4149720"/>
            <a:ext cx="28573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8"/>
          <p:cNvGrpSpPr/>
          <p:nvPr/>
        </p:nvGrpSpPr>
        <p:grpSpPr>
          <a:xfrm>
            <a:off x="34920" y="3622680"/>
            <a:ext cx="4897440" cy="2232000"/>
            <a:chOff x="34920" y="3622680"/>
            <a:chExt cx="4897440" cy="2232000"/>
          </a:xfrm>
        </p:grpSpPr>
        <p:pic>
          <p:nvPicPr>
            <p:cNvPr id="369" name="Picture 2" descr=""/>
            <p:cNvPicPr/>
            <p:nvPr/>
          </p:nvPicPr>
          <p:blipFill>
            <a:blip r:embed="rId1"/>
            <a:srcRect l="25178" t="36048" r="38299" b="33440"/>
            <a:stretch/>
          </p:blipFill>
          <p:spPr>
            <a:xfrm>
              <a:off x="178920" y="3622680"/>
              <a:ext cx="47534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Box 6"/>
            <p:cNvSpPr/>
            <p:nvPr/>
          </p:nvSpPr>
          <p:spPr>
            <a:xfrm>
              <a:off x="34920" y="5350680"/>
              <a:ext cx="439344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Title 1" descr=""/>
          <p:cNvPicPr/>
          <p:nvPr/>
        </p:nvPicPr>
        <p:blipFill>
          <a:blip r:embed="rId2"/>
          <a:stretch/>
        </p:blipFill>
        <p:spPr>
          <a:xfrm>
            <a:off x="19080" y="208080"/>
            <a:ext cx="8880480" cy="12189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match occurs and the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contain a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gram control simply continues with the first statement after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code in slide#3 does not have the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Case El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bellow, when the user Enters the number 59 nothing will happen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1BC2-B073-4EF1-85CD-395210B519B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3"/>
          <a:stretch/>
        </p:blipFill>
        <p:spPr>
          <a:xfrm>
            <a:off x="5867280" y="4140360"/>
            <a:ext cx="2857680" cy="1819080"/>
          </a:xfrm>
          <a:prstGeom prst="rect">
            <a:avLst/>
          </a:prstGeom>
          <a:ln w="0">
            <a:noFill/>
          </a:ln>
        </p:spPr>
      </p:pic>
      <p:cxnSp>
        <p:nvCxnSpPr>
          <p:cNvPr id="376" name="Straight Arrow Connector 11"/>
          <p:cNvCxnSpPr/>
          <p:nvPr/>
        </p:nvCxnSpPr>
        <p:spPr>
          <a:xfrm>
            <a:off x="4932000" y="5040000"/>
            <a:ext cx="935640" cy="1080"/>
          </a:xfrm>
          <a:prstGeom prst="straightConnector1">
            <a:avLst/>
          </a:prstGeom>
          <a:ln w="63360">
            <a:solidFill>
              <a:srgbClr val="7d3c4a"/>
            </a:solidFill>
            <a:miter/>
            <a:tailEnd len="med" type="triangle" w="med"/>
          </a:ln>
        </p:spPr>
      </p:cxnSp>
      <p:cxnSp>
        <p:nvCxnSpPr>
          <p:cNvPr id="377" name="Straight Arrow Connector 13"/>
          <p:cNvCxnSpPr/>
          <p:nvPr/>
        </p:nvCxnSpPr>
        <p:spPr>
          <a:xfrm>
            <a:off x="5508720" y="5652720"/>
            <a:ext cx="1080000" cy="108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triangle" w="med"/>
          </a:ln>
        </p:spPr>
      </p:cxnSp>
      <p:sp>
        <p:nvSpPr>
          <p:cNvPr id="378" name="TextBox 15"/>
          <p:cNvSpPr/>
          <p:nvPr/>
        </p:nvSpPr>
        <p:spPr>
          <a:xfrm>
            <a:off x="4356000" y="5286240"/>
            <a:ext cx="1152720" cy="824040"/>
          </a:xfrm>
          <a:prstGeom prst="rect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Lucida Sans Unicode"/>
              </a:rPr>
              <a:t>Nothing is displa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4:33:12Z</dcterms:created>
  <dc:creator>Maysoon</dc:creator>
  <dc:description/>
  <dc:language>en-US</dc:language>
  <cp:lastModifiedBy>GK</cp:lastModifiedBy>
  <dcterms:modified xsi:type="dcterms:W3CDTF">2014-10-11T19:38:44Z</dcterms:modified>
  <cp:revision>5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130AFAA5D399E489E1819B440698DE2</vt:lpwstr>
  </property>
</Properties>
</file>