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0D4-7B4C-49C2-8954-7BDEECB3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950-ADF4-4660-9A2F-C2371504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75D-D7CB-4446-BCF7-9A9E1EF2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B7A-8A96-4749-8BAD-6F9E628D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7147-0F4F-4F61-85A5-3A6094D3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DC37-629C-482F-B17C-801A5AAE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CADA-CC77-4B0C-B2D7-C7780870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36F3-C6D5-40D0-B40D-2A0A8CBB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D67B-8887-4E0D-9D11-83674A86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3E46-2C71-4F5F-AA66-64644B12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1F7B-A4E3-4A15-96A6-BD6A31F5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3B3-9875-4F79-888E-AB3D5EA4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0C22-4320-44BB-9CC3-4A8634E0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0C45-C4B6-4700-8144-E6BF18BA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0BDD-0C67-4480-9113-2F405F14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EEF6-3CC5-4895-9066-8D4ACB3A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9391-F738-44D5-B10B-550DDC04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A797A-19A0-4251-95FC-7C6327E0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360E0-C561-4C1B-B2BF-C663A622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EF89-8710-4899-B4B7-C64191FF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F47AF-523E-46D5-A462-D2B706F7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D7294-5ACF-41F3-A616-02DE92FD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A8E-AB4C-4723-8FFE-95B12ABC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F70E2-14BC-438A-BFA8-95813F0E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0508-526C-4795-B2B3-95355F5B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01E62-29C6-4D18-ADA7-BD102D0B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9DC89-D774-4F7D-8102-C8FA458D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5D9F0-5D72-45EE-B339-4BB56392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B920-30FE-4BC8-9632-E3316B87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46D9-89DA-4028-A4DC-1050A0B2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785CC-561E-44CF-9F98-11EEB771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5684B8-1DA0-4C61-A673-81472949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072AB4-685F-434C-838A-5F420C20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D4D-7AF2-476B-8D4C-1D521563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330BF-A297-4211-A2D2-FE0F1F62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D37E5-1AF3-409E-8DFA-B9AD9134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46C63-5143-4A01-9DFA-5CD14D41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9E7E90-7F6D-451B-901A-23AECC75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501FC-EF7D-4B01-A066-A12F3B9F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18B326-AAD9-4321-965E-0425D96C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4C748-FD40-4268-AB72-90F94679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F1B47E-ED71-4F82-919F-30BA5664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F917A8-8AA6-474B-8E6B-7E60B995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20218-68E7-42C9-88E8-97F5C240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2A0-3A5A-4BA8-AD68-97AA26FC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A94CF-F57E-4C14-8853-AF186CE1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0F96D-2DCD-4387-B557-F34ED577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424DC-996D-4FBE-BC99-8254528C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FEBAD-8EBB-4542-9EE6-FF234BAE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1CAEE-3A9E-42FF-9497-D2B02A72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AA7BE-5E48-40B2-9ACD-88D5A9CB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F0172-5C98-4C8E-AA6F-CA96BF92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0D8D5-E949-41E5-8CFC-00045826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78E3E-4020-43A0-84B9-D5F15A4D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C9AD0-84DC-47C8-A8B9-813C34F6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B85-2D65-4204-972E-F3D0BB6A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51123-00F5-40B3-84C2-57BC672C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DEC53-D353-40D2-8254-68104BAA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C103D-55FC-4AF5-AA60-591D6201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B27F7-9A0E-4A0B-8B58-6F95EC69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EC8D0-A21B-4E2B-AE71-7D18DB9E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E9EA6-8CA6-4088-B407-B83FA481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96185-6743-4779-BC03-91C7506D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02E51-7A08-4583-8C72-1462CBCA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1CD8A-4C3A-4F77-8BBE-DCF55E37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A6600-9CE7-4075-94B7-ADFF9386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06C-E163-41B7-9991-9D21892E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41070-5C6A-42CD-9FA2-C9DF591A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A779E-8883-4920-98C2-C9EBA3D6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45FB0-33F6-441F-BB0F-97D24105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6354D-00D2-4087-A56F-9ECE8CA2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DEA9A-3196-46D4-8DDA-9E4B62D7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EB1B3-2B09-4ECC-852E-CFE3C627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607EA-BA7A-4A5B-AFA3-802AD67D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7D94D-2B81-499C-926C-E4B13B14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61FB0-ED32-4B41-84D6-7918A133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8418A-BCAE-4228-ADD2-E16675EA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41E-9982-44C4-82AA-CE41203A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C4CEA-C0F3-4E36-9E65-8AF4A495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4AB27-A6D1-4246-87EF-5A3EA822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53B3B-1E4B-480B-88CC-EE323516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6862E-A2E9-4CF0-9785-8DA534A6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F1144-ECDE-45DB-BE42-548EEB10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838-9814-4B51-8848-D1522995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5969-14B8-4556-9875-44AEDB2A6C75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1992-2011 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ADFA-DC4A-40D8-AC41-08CFCE365CC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4334-329F-4CC6-823F-8C6EF3262649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 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602C-560C-4AB3-981F-5825D3F1341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57CC-B075-487E-BEC7-F45DB6DA521B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1992-2011 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7196-6A1C-4A96-B2DB-A8BD8A30E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ight Triangle 3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8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3" name="Freeform 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Freeform 7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6" name="Freeform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8" name="Straight Connector 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Action Button: Forward or Next 10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3E69-CF46-4AE4-9E54-46BD560E4090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C0A4-1BD6-402A-8390-BA81BF03E48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2742840" y="6408720"/>
            <a:ext cx="398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© 1992-2011 by Pearson Education, Inc. All Rights Reserved. - 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7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4083-484C-48D2-BB32-069D992E1510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٦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009F-C3AE-49BF-9887-08F1E953DBA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6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0145-1D24-4DBA-969E-31A381856BAA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٦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D048-71FB-4F2B-8EB4-BD9E992D5B4C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6078-0A8F-4696-B6E1-A36902F4C201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٦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F082-0C0D-4A35-B278-A895F86F9275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731960"/>
            <a:ext cx="8010360" cy="185904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73EC-170A-4E58-9B30-8F3881D3C435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743200" y="6408720"/>
            <a:ext cx="398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4" descr=""/>
          <p:cNvPicPr/>
          <p:nvPr/>
        </p:nvPicPr>
        <p:blipFill>
          <a:blip r:embed="rId1"/>
          <a:stretch/>
        </p:blipFill>
        <p:spPr>
          <a:xfrm>
            <a:off x="-12600" y="208080"/>
            <a:ext cx="8705880" cy="1218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9528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only is used to deal with invalid valu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ample, we assume all values entered by the user are in the range 0–100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ed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the las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words terminate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6D24-69D7-4565-A7DA-AF2CDBA23A22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vbhtp5_05images_Page_25.pn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384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1B51-CAB6-4CF8-98D0-B645496D90EC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" descr="vbhtp5_05images_Page_24.png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5551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" descr="vbhtp5_05images_Page_26.png"/>
          <p:cNvPicPr/>
          <p:nvPr/>
        </p:nvPicPr>
        <p:blipFill>
          <a:blip r:embed="rId3"/>
          <a:stretch/>
        </p:blipFill>
        <p:spPr>
          <a:xfrm>
            <a:off x="0" y="3357720"/>
            <a:ext cx="914400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s also can use relational operators to determine whether the controlling expression satisfies a condi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long with the relational operator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 to test for values less than 0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115D-497B-4B96-9988-85030267CAB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1403280" y="4767120"/>
            <a:ext cx="2664000" cy="58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&lt;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5364000" y="4910040"/>
            <a:ext cx="2737080" cy="3405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rade &lt; </a:t>
            </a:r>
            <a:r>
              <a:rPr b="0" lang="en-US" sz="1800" spc="-1" strike="noStrike">
                <a:solidFill>
                  <a:srgbClr val="00b0f0"/>
                </a:solidFill>
                <a:latin typeface="Lucida Conso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Straight Arrow Connector 8"/>
          <p:cNvCxnSpPr>
            <a:stCxn id="392" idx="3"/>
            <a:endCxn id="393" idx="1"/>
          </p:cNvCxnSpPr>
          <p:nvPr/>
        </p:nvCxnSpPr>
        <p:spPr>
          <a:xfrm>
            <a:off x="4067280" y="5062320"/>
            <a:ext cx="1297440" cy="1080"/>
          </a:xfrm>
          <a:prstGeom prst="straightConnector1">
            <a:avLst/>
          </a:prstGeom>
          <a:ln w="5508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395" name="TextBox 9"/>
          <p:cNvSpPr/>
          <p:nvPr/>
        </p:nvSpPr>
        <p:spPr>
          <a:xfrm>
            <a:off x="4067280" y="47671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1f28"/>
                </a:solidFill>
                <a:latin typeface="Calibri"/>
              </a:rPr>
              <a:t>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ultiple values can be tested i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 by separating the values with </a:t>
            </a:r>
            <a:r>
              <a:rPr b="0" lang="en-US" sz="2300" spc="-1" strike="noStrike">
                <a:solidFill>
                  <a:srgbClr val="0033cc"/>
                </a:solidFill>
                <a:latin typeface="Times New Roman"/>
              </a:rPr>
              <a:t>comma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as 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ich tests for the value 0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lues in the range 5–9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 can be used to test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17CC-072E-4D47-912E-9C45899E2F0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ts val="25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 Statement to test 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tring valu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ts val="25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Example: (The Select Color Example)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program that asks the user to enter one of the three basic colors (red,green,blue) if the input is correct the label change its color to the entered col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0AFA-2C93-4CCF-AC9E-FDE05ECF09F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4608360" y="465300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459432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4"/>
          <a:stretch/>
        </p:blipFill>
        <p:spPr>
          <a:xfrm>
            <a:off x="161928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5"/>
          <a:stretch/>
        </p:blipFill>
        <p:spPr>
          <a:xfrm>
            <a:off x="1619280" y="4653000"/>
            <a:ext cx="27003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425080" cy="12189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914400" y="1341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(The Select Color Example Progra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39D6-3B9A-4476-A259-2F5EF518027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2"/>
          <a:srcRect l="2487" t="16218" r="37743" b="33937"/>
          <a:stretch/>
        </p:blipFill>
        <p:spPr>
          <a:xfrm>
            <a:off x="826920" y="1989000"/>
            <a:ext cx="777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dition is an expression that results in a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—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, we’ve studied onl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mple cond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ch a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lection and repetition statement evaluated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condition with one of the operators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41A0-85AB-40DA-9E85-5B0ACDCF84D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handle multiple conditions more efficiently, the </a:t>
            </a:r>
            <a:r>
              <a:rPr b="0" lang="en-US" sz="2700" spc="-1" strike="noStrike">
                <a:solidFill>
                  <a:srgbClr val="0000ff"/>
                </a:solidFill>
                <a:latin typeface="Times New Roman"/>
              </a:rPr>
              <a:t>logical operator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an be used to form complex conditions by combining simple 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gical operators are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33EA-BBEB-4FEC-82D9-11195FB942C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ppose we wish to ensure that two conditions are bot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n a program before a certain path of execution is chos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n such a case, we can use the logical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n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 as follow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gender 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seniorFemales +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1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 contains two simple condi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97E2-6FC3-4993-84AE-89C13655BD9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n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F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female a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a senior citiz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simple conditions are evaluated first, because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oth higher than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If gender = </a:t>
            </a:r>
            <a:r>
              <a:rPr b="0" lang="en-US" sz="21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1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2100" spc="-1" strike="noStrike">
                <a:solidFill>
                  <a:srgbClr val="128aff"/>
                </a:solidFill>
                <a:latin typeface="Lucida Console"/>
              </a:rPr>
              <a:t>65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10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3182-7E6B-4B4D-A7E6-61B5F4170D8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2357280" y="477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4429080" y="477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eft Brace 6"/>
          <p:cNvSpPr/>
          <p:nvPr/>
        </p:nvSpPr>
        <p:spPr>
          <a:xfrm rot="16200000">
            <a:off x="2847960" y="3924000"/>
            <a:ext cx="304560" cy="175284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752840"/>
              <a:gd name="textAreaBottom" fmla="*/ 17449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7"/>
                  <a:pt x="10800" y="313"/>
                </a:cubicBezTo>
                <a:lnTo>
                  <a:pt x="10800" y="10487"/>
                </a:lnTo>
                <a:cubicBezTo>
                  <a:pt x="10800" y="10644"/>
                  <a:pt x="5400" y="10800"/>
                  <a:pt x="0" y="10800"/>
                </a:cubicBezTo>
                <a:cubicBezTo>
                  <a:pt x="5400" y="10800"/>
                  <a:pt x="10800" y="10957"/>
                  <a:pt x="10800" y="11113"/>
                </a:cubicBezTo>
                <a:lnTo>
                  <a:pt x="10800" y="21287"/>
                </a:lnTo>
                <a:cubicBezTo>
                  <a:pt x="10800" y="214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eft Brace 7"/>
          <p:cNvSpPr/>
          <p:nvPr/>
        </p:nvSpPr>
        <p:spPr>
          <a:xfrm rot="16200000">
            <a:off x="4962600" y="411480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eft Brace 8"/>
          <p:cNvSpPr/>
          <p:nvPr/>
        </p:nvSpPr>
        <p:spPr>
          <a:xfrm rot="16200000">
            <a:off x="3962520" y="407628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2514600"/>
              <a:gd name="textAreaBottom" fmla="*/ 25066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9"/>
          <p:cNvSpPr/>
          <p:nvPr/>
        </p:nvSpPr>
        <p:spPr>
          <a:xfrm>
            <a:off x="1905120" y="5486400"/>
            <a:ext cx="65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both are True then the condition of the </a:t>
            </a:r>
            <a:r>
              <a:rPr b="1" lang="en-US" sz="1800" spc="-1" strike="noStrike">
                <a:solidFill>
                  <a:srgbClr val="3333ff"/>
                </a:solidFill>
                <a:latin typeface="Calibri"/>
              </a:rPr>
              <a:t>If Stat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704440" cy="1218960"/>
          </a:xfrm>
          <a:prstGeom prst="rect">
            <a:avLst/>
          </a:prstGeom>
          <a:ln w="0">
            <a:noFill/>
          </a:ln>
        </p:spPr>
      </p:pic>
      <p:pic>
        <p:nvPicPr>
          <p:cNvPr id="332" name="Text Placeholder 2" descr=""/>
          <p:cNvPicPr/>
          <p:nvPr/>
        </p:nvPicPr>
        <p:blipFill>
          <a:blip r:embed="rId2"/>
          <a:stretch/>
        </p:blipFill>
        <p:spPr>
          <a:xfrm>
            <a:off x="450720" y="1511280"/>
            <a:ext cx="8242560" cy="5164200"/>
          </a:xfrm>
          <a:prstGeom prst="rect">
            <a:avLst/>
          </a:prstGeom>
          <a:ln w="0">
            <a:noFill/>
          </a:ln>
        </p:spPr>
      </p:pic>
      <p:sp>
        <p:nvSpPr>
          <p:cNvPr id="33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3089-6EB5-4A01-9FAD-60EAF8E526D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is combined condition i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niorFem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 is incremented by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dability of the preceding combined condition can be improved by adding parenthes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(gender 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(age &gt;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0A9E-D391-455F-8EF2-EE7AF1B7786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143000" y="2209680"/>
          <a:ext cx="6477120" cy="1854360"/>
        </p:xfrm>
        <a:graphic>
          <a:graphicData uri="http://schemas.openxmlformats.org/drawingml/2006/table">
            <a:tbl>
              <a:tblPr/>
              <a:tblGrid>
                <a:gridCol w="1933560"/>
                <a:gridCol w="1771560"/>
                <a:gridCol w="2772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nder = "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ge &gt;= </a:t>
                      </a:r>
                      <a:r>
                        <a:rPr b="0" lang="en-US" sz="1800" spc="-1" strike="noStrike">
                          <a:solidFill>
                            <a:srgbClr val="128aff"/>
                          </a:solidFill>
                          <a:latin typeface="Lucida Console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s the </a:t>
                      </a: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Lucida Sans Unicode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Condition m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ow let’s consider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ppose we wish to ensure that either or both of two conditions ar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before we choose a certain path of execu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use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 as in the following program segment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semesterAverage &gt;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Student grade is A"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s statement also contains two simple conditions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5FB3-685F-4357-B030-DB68B490D0A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mesterAv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throughout the semes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inalEx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on the final ex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AFEB-E92F-4C82-AB95-DE24C72CFC1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then considers the combined condi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semesterAverage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wards the student an “A” if either or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x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isplayed, unless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 has a higher precedence tha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EA16-D2AE-431A-AE38-77DDE64844B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" descr="vbhtp5_05images_Page_31.png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453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8AA2-DCC8-4DE0-8B14-D347C0FFE36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ndition containing the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logical exclusive O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X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and only if one of its operands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 and the other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both operands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both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entire condition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B45D-93C1-40F3-AFEE-ECEFA139623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" descr="vbhtp5_05images_Page_33.png"/>
          <p:cNvPicPr/>
          <p:nvPr/>
        </p:nvPicPr>
        <p:blipFill>
          <a:blip r:embed="rId2"/>
          <a:srcRect l="12500" t="0" r="30003" b="49990"/>
          <a:stretch/>
        </p:blipFill>
        <p:spPr>
          <a:xfrm>
            <a:off x="3214800" y="3676680"/>
            <a:ext cx="56242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ogical negation) operator enables you to “reverse” the meaning of a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the logical operator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each comb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, the logical negation operator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, requiring only one oper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" descr="vbhtp5_05images_Page_34.png"/>
          <p:cNvPicPr/>
          <p:nvPr/>
        </p:nvPicPr>
        <p:blipFill>
          <a:blip r:embed="rId1"/>
          <a:srcRect l="25834" t="0" r="40002" b="52733"/>
          <a:stretch/>
        </p:blipFill>
        <p:spPr>
          <a:xfrm>
            <a:off x="2971800" y="3828960"/>
            <a:ext cx="3124080" cy="262440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5F38-5C7D-4B92-BF32-808B44BF7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al negation operator is demonstrated by the following program segment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The value is "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&amp; value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entheses arou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ce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the logical negation operator (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a higher precedence than the equality operat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2AAD-D28D-42E6-BAEE-9EFB16B4E3E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cases, you can avoid using logical negation by expressing the condition differently with relational or equality operato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lexibility helps you express conditions more naturall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he preceding statement can be written as follow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Lucida Console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9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8B0B-A663-408D-B000-8EDA1BA5E3F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685800" y="4843440"/>
            <a:ext cx="3124080" cy="337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5943600" y="4843440"/>
            <a:ext cx="2666880" cy="337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value &lt;&gt;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Straight Arrow Connector 7"/>
          <p:cNvCxnSpPr>
            <a:stCxn id="473" idx="3"/>
            <a:endCxn id="474" idx="1"/>
          </p:cNvCxnSpPr>
          <p:nvPr/>
        </p:nvCxnSpPr>
        <p:spPr>
          <a:xfrm>
            <a:off x="3809520" y="5011200"/>
            <a:ext cx="21344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476" name="TextBox 8"/>
          <p:cNvSpPr/>
          <p:nvPr/>
        </p:nvSpPr>
        <p:spPr>
          <a:xfrm>
            <a:off x="3962520" y="4691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CA58-B70D-469E-A915-62EDF504272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" descr="vbhtp5_05images_Page_40.png"/>
          <p:cNvPicPr/>
          <p:nvPr/>
        </p:nvPicPr>
        <p:blipFill>
          <a:blip r:embed="rId2"/>
          <a:srcRect l="14177" t="7786" r="30704" b="10502"/>
          <a:stretch/>
        </p:blipFill>
        <p:spPr>
          <a:xfrm>
            <a:off x="1763640" y="1557360"/>
            <a:ext cx="504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E8CD-8080-4C31-B950-8A9452B250B5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rcRect l="18538" t="15374" r="17821" b="19656"/>
          <a:stretch/>
        </p:blipFill>
        <p:spPr>
          <a:xfrm>
            <a:off x="539640" y="692280"/>
            <a:ext cx="8280360" cy="47527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971640" y="566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th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11280" y="134136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X += ( 4 \ y * 2 ) ^ ( x – 2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3D48-EE9F-4C9C-AE68-F0C8101DE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eft Brace 6"/>
          <p:cNvSpPr/>
          <p:nvPr/>
        </p:nvSpPr>
        <p:spPr>
          <a:xfrm rot="16200000">
            <a:off x="3960000" y="1809000"/>
            <a:ext cx="432000" cy="503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3280"/>
              <a:gd name="textAreaBottom" fmla="*/ 4921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4"/>
                </a:cubicBezTo>
                <a:lnTo>
                  <a:pt x="10800" y="9256"/>
                </a:lnTo>
                <a:cubicBezTo>
                  <a:pt x="10800" y="10028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4"/>
                </a:cubicBezTo>
                <a:lnTo>
                  <a:pt x="10800" y="20056"/>
                </a:lnTo>
                <a:cubicBezTo>
                  <a:pt x="10800" y="2082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eft Brace 7"/>
          <p:cNvSpPr/>
          <p:nvPr/>
        </p:nvSpPr>
        <p:spPr>
          <a:xfrm rot="16200000">
            <a:off x="363528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8"/>
          <p:cNvSpPr/>
          <p:nvPr/>
        </p:nvSpPr>
        <p:spPr>
          <a:xfrm>
            <a:off x="3995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10"/>
          <p:cNvSpPr/>
          <p:nvPr/>
        </p:nvSpPr>
        <p:spPr>
          <a:xfrm flipV="1">
            <a:off x="341964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3635280" y="278136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eft Brace 16"/>
          <p:cNvSpPr/>
          <p:nvPr/>
        </p:nvSpPr>
        <p:spPr>
          <a:xfrm rot="16200000">
            <a:off x="5435280" y="2925360"/>
            <a:ext cx="289080" cy="57456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560"/>
              <a:gd name="textAreaBottom" fmla="*/ 56736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5"/>
                </a:cubicBezTo>
                <a:lnTo>
                  <a:pt x="10800" y="9895"/>
                </a:lnTo>
                <a:cubicBezTo>
                  <a:pt x="10800" y="10348"/>
                  <a:pt x="5400" y="10800"/>
                  <a:pt x="0" y="10800"/>
                </a:cubicBezTo>
                <a:cubicBezTo>
                  <a:pt x="5400" y="10800"/>
                  <a:pt x="10800" y="11253"/>
                  <a:pt x="10800" y="11705"/>
                </a:cubicBezTo>
                <a:lnTo>
                  <a:pt x="10800" y="20695"/>
                </a:lnTo>
                <a:cubicBezTo>
                  <a:pt x="10800" y="211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17"/>
          <p:cNvSpPr/>
          <p:nvPr/>
        </p:nvSpPr>
        <p:spPr>
          <a:xfrm flipV="1">
            <a:off x="586728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8"/>
          <p:cNvSpPr/>
          <p:nvPr/>
        </p:nvSpPr>
        <p:spPr>
          <a:xfrm>
            <a:off x="5435640" y="3357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0"/>
          <p:cNvSpPr/>
          <p:nvPr/>
        </p:nvSpPr>
        <p:spPr>
          <a:xfrm flipV="1">
            <a:off x="529272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eft Brace 22"/>
          <p:cNvSpPr/>
          <p:nvPr/>
        </p:nvSpPr>
        <p:spPr>
          <a:xfrm rot="16200000">
            <a:off x="4469400" y="3243960"/>
            <a:ext cx="432000" cy="18111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1811160"/>
              <a:gd name="textAreaBottom" fmla="*/ 1800000 h 18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29"/>
                </a:cubicBezTo>
                <a:lnTo>
                  <a:pt x="10800" y="13280"/>
                </a:lnTo>
                <a:cubicBezTo>
                  <a:pt x="10800" y="13495"/>
                  <a:pt x="5400" y="13709"/>
                  <a:pt x="0" y="13709"/>
                </a:cubicBezTo>
                <a:cubicBezTo>
                  <a:pt x="5400" y="13709"/>
                  <a:pt x="10800" y="13924"/>
                  <a:pt x="10800" y="14138"/>
                </a:cubicBezTo>
                <a:lnTo>
                  <a:pt x="10800" y="21171"/>
                </a:lnTo>
                <a:cubicBezTo>
                  <a:pt x="10800" y="213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3"/>
          <p:cNvSpPr/>
          <p:nvPr/>
        </p:nvSpPr>
        <p:spPr>
          <a:xfrm flipV="1">
            <a:off x="5591160" y="3716280"/>
            <a:ext cx="0" cy="217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25"/>
          <p:cNvSpPr/>
          <p:nvPr/>
        </p:nvSpPr>
        <p:spPr>
          <a:xfrm flipV="1">
            <a:off x="3780000" y="314172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40"/>
          <p:cNvSpPr/>
          <p:nvPr/>
        </p:nvSpPr>
        <p:spPr>
          <a:xfrm>
            <a:off x="4788000" y="4365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eft Brace 41"/>
          <p:cNvSpPr/>
          <p:nvPr/>
        </p:nvSpPr>
        <p:spPr>
          <a:xfrm rot="16200000">
            <a:off x="3640680" y="3999240"/>
            <a:ext cx="431640" cy="2170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2170080"/>
              <a:gd name="textAreaBottom" fmla="*/ 2158920 h 21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9"/>
                  <a:pt x="10800" y="358"/>
                </a:cubicBezTo>
                <a:lnTo>
                  <a:pt x="10800" y="13351"/>
                </a:lnTo>
                <a:cubicBezTo>
                  <a:pt x="10800" y="13530"/>
                  <a:pt x="5400" y="13709"/>
                  <a:pt x="0" y="13709"/>
                </a:cubicBezTo>
                <a:cubicBezTo>
                  <a:pt x="5400" y="13709"/>
                  <a:pt x="10800" y="13888"/>
                  <a:pt x="10800" y="14067"/>
                </a:cubicBezTo>
                <a:lnTo>
                  <a:pt x="10800" y="21242"/>
                </a:lnTo>
                <a:cubicBezTo>
                  <a:pt x="10800" y="2142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42"/>
          <p:cNvSpPr/>
          <p:nvPr/>
        </p:nvSpPr>
        <p:spPr>
          <a:xfrm flipV="1">
            <a:off x="4941720" y="4724280"/>
            <a:ext cx="0" cy="1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43"/>
          <p:cNvSpPr/>
          <p:nvPr/>
        </p:nvSpPr>
        <p:spPr>
          <a:xfrm flipV="1">
            <a:off x="2771640" y="1773000"/>
            <a:ext cx="0" cy="309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44"/>
          <p:cNvSpPr/>
          <p:nvPr/>
        </p:nvSpPr>
        <p:spPr>
          <a:xfrm>
            <a:off x="3995640" y="530064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If Not( x * y &lt; 0 ) And ( x ^ 2 &gt;= 100 Mod 4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8C81-F3F2-4EFD-B553-77EDA4E15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eft Brace 6"/>
          <p:cNvSpPr/>
          <p:nvPr/>
        </p:nvSpPr>
        <p:spPr>
          <a:xfrm rot="16200000">
            <a:off x="2808000" y="1807920"/>
            <a:ext cx="432000" cy="505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5080"/>
              <a:gd name="textAreaBottom" fmla="*/ 4939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0"/>
                  <a:pt x="10800" y="1540"/>
                </a:cubicBezTo>
                <a:lnTo>
                  <a:pt x="10800" y="9260"/>
                </a:lnTo>
                <a:cubicBezTo>
                  <a:pt x="10800" y="10030"/>
                  <a:pt x="5400" y="10800"/>
                  <a:pt x="0" y="10800"/>
                </a:cubicBezTo>
                <a:cubicBezTo>
                  <a:pt x="5400" y="10800"/>
                  <a:pt x="10800" y="11570"/>
                  <a:pt x="10800" y="12340"/>
                </a:cubicBezTo>
                <a:lnTo>
                  <a:pt x="10800" y="20060"/>
                </a:lnTo>
                <a:cubicBezTo>
                  <a:pt x="10800" y="2083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eft Brace 7"/>
          <p:cNvSpPr/>
          <p:nvPr/>
        </p:nvSpPr>
        <p:spPr>
          <a:xfrm rot="16200000">
            <a:off x="327492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"/>
          <p:cNvSpPr/>
          <p:nvPr/>
        </p:nvSpPr>
        <p:spPr>
          <a:xfrm>
            <a:off x="284328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0"/>
          <p:cNvSpPr/>
          <p:nvPr/>
        </p:nvSpPr>
        <p:spPr>
          <a:xfrm flipV="1">
            <a:off x="378000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3276720" y="2781360"/>
            <a:ext cx="3585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eft Brace 16"/>
          <p:cNvSpPr/>
          <p:nvPr/>
        </p:nvSpPr>
        <p:spPr>
          <a:xfrm rot="16200000">
            <a:off x="5219640" y="1701360"/>
            <a:ext cx="289080" cy="5749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920"/>
              <a:gd name="textAreaBottom" fmla="*/ 56772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5"/>
                </a:cubicBezTo>
                <a:lnTo>
                  <a:pt x="10800" y="9895"/>
                </a:lnTo>
                <a:cubicBezTo>
                  <a:pt x="10800" y="10348"/>
                  <a:pt x="5400" y="10800"/>
                  <a:pt x="0" y="10800"/>
                </a:cubicBezTo>
                <a:cubicBezTo>
                  <a:pt x="5400" y="10800"/>
                  <a:pt x="10800" y="11253"/>
                  <a:pt x="10800" y="11705"/>
                </a:cubicBezTo>
                <a:lnTo>
                  <a:pt x="10800" y="20695"/>
                </a:lnTo>
                <a:cubicBezTo>
                  <a:pt x="10800" y="211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8"/>
          <p:cNvSpPr/>
          <p:nvPr/>
        </p:nvSpPr>
        <p:spPr>
          <a:xfrm>
            <a:off x="5219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eft Brace 22"/>
          <p:cNvSpPr/>
          <p:nvPr/>
        </p:nvSpPr>
        <p:spPr>
          <a:xfrm rot="16200000">
            <a:off x="6981840" y="1450440"/>
            <a:ext cx="291960" cy="1079640"/>
          </a:xfrm>
          <a:custGeom>
            <a:avLst/>
            <a:gdLst>
              <a:gd name="textAreaLeft" fmla="*/ 186480 w 291960"/>
              <a:gd name="textAreaRight" fmla="*/ 292320 w 291960"/>
              <a:gd name="textAreaTop" fmla="*/ 7560 h 1079640"/>
              <a:gd name="textAreaBottom" fmla="*/ 107208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7"/>
                </a:cubicBezTo>
                <a:lnTo>
                  <a:pt x="10800" y="10131"/>
                </a:lnTo>
                <a:cubicBezTo>
                  <a:pt x="10800" y="10375"/>
                  <a:pt x="5400" y="10618"/>
                  <a:pt x="0" y="10618"/>
                </a:cubicBezTo>
                <a:cubicBezTo>
                  <a:pt x="5400" y="10618"/>
                  <a:pt x="10800" y="10862"/>
                  <a:pt x="10800" y="11105"/>
                </a:cubicBezTo>
                <a:lnTo>
                  <a:pt x="10800" y="21113"/>
                </a:lnTo>
                <a:cubicBezTo>
                  <a:pt x="10800" y="213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40"/>
          <p:cNvSpPr/>
          <p:nvPr/>
        </p:nvSpPr>
        <p:spPr>
          <a:xfrm>
            <a:off x="694836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eft Brace 41"/>
          <p:cNvSpPr/>
          <p:nvPr/>
        </p:nvSpPr>
        <p:spPr>
          <a:xfrm rot="16200000">
            <a:off x="6014160" y="1851480"/>
            <a:ext cx="457200" cy="1738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738440"/>
              <a:gd name="textAreaBottom" fmla="*/ 1726560 h 17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3"/>
                </a:cubicBezTo>
                <a:lnTo>
                  <a:pt x="10800" y="10436"/>
                </a:lnTo>
                <a:cubicBezTo>
                  <a:pt x="10800" y="10673"/>
                  <a:pt x="5400" y="10909"/>
                  <a:pt x="0" y="10909"/>
                </a:cubicBezTo>
                <a:cubicBezTo>
                  <a:pt x="5400" y="10909"/>
                  <a:pt x="10800" y="11146"/>
                  <a:pt x="10800" y="11382"/>
                </a:cubicBezTo>
                <a:lnTo>
                  <a:pt x="10800" y="21127"/>
                </a:lnTo>
                <a:cubicBezTo>
                  <a:pt x="10800" y="213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44"/>
          <p:cNvSpPr/>
          <p:nvPr/>
        </p:nvSpPr>
        <p:spPr>
          <a:xfrm>
            <a:off x="6084720" y="2924280"/>
            <a:ext cx="37332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eft Brace 27"/>
          <p:cNvSpPr/>
          <p:nvPr/>
        </p:nvSpPr>
        <p:spPr>
          <a:xfrm rot="16200000">
            <a:off x="2615400" y="2721960"/>
            <a:ext cx="457200" cy="1296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296720"/>
              <a:gd name="textAreaBottom" fmla="*/ 12848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7"/>
                  <a:pt x="10800" y="634"/>
                </a:cubicBezTo>
                <a:lnTo>
                  <a:pt x="10800" y="10275"/>
                </a:lnTo>
                <a:cubicBezTo>
                  <a:pt x="10800" y="10592"/>
                  <a:pt x="5400" y="10909"/>
                  <a:pt x="0" y="10909"/>
                </a:cubicBezTo>
                <a:cubicBezTo>
                  <a:pt x="5400" y="10909"/>
                  <a:pt x="10800" y="11226"/>
                  <a:pt x="10800" y="11543"/>
                </a:cubicBezTo>
                <a:lnTo>
                  <a:pt x="10800" y="20966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28"/>
          <p:cNvSpPr/>
          <p:nvPr/>
        </p:nvSpPr>
        <p:spPr>
          <a:xfrm flipV="1">
            <a:off x="2195640" y="1844280"/>
            <a:ext cx="0" cy="1297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1"/>
          <p:cNvSpPr/>
          <p:nvPr/>
        </p:nvSpPr>
        <p:spPr>
          <a:xfrm>
            <a:off x="2700360" y="3573360"/>
            <a:ext cx="3729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eft Brace 32"/>
          <p:cNvSpPr/>
          <p:nvPr/>
        </p:nvSpPr>
        <p:spPr>
          <a:xfrm rot="16200000">
            <a:off x="4343400" y="2938680"/>
            <a:ext cx="457200" cy="3311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3311280"/>
              <a:gd name="textAreaBottom" fmla="*/ 329940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660"/>
                </a:lnTo>
                <a:cubicBezTo>
                  <a:pt x="10800" y="10785"/>
                  <a:pt x="5400" y="10909"/>
                  <a:pt x="0" y="10909"/>
                </a:cubicBezTo>
                <a:cubicBezTo>
                  <a:pt x="5400" y="10909"/>
                  <a:pt x="10800" y="11034"/>
                  <a:pt x="10800" y="11158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33"/>
          <p:cNvSpPr/>
          <p:nvPr/>
        </p:nvSpPr>
        <p:spPr>
          <a:xfrm>
            <a:off x="4344840" y="479736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4"/>
          <p:cNvSpPr/>
          <p:nvPr/>
        </p:nvSpPr>
        <p:spPr>
          <a:xfrm flipV="1">
            <a:off x="6227640" y="3284640"/>
            <a:ext cx="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36"/>
          <p:cNvSpPr/>
          <p:nvPr/>
        </p:nvSpPr>
        <p:spPr>
          <a:xfrm flipV="1">
            <a:off x="2916360" y="393372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51CF-3984-44BD-9BA7-059459D637F7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19089" t="17347" r="17265" b="16703"/>
          <a:stretch/>
        </p:blipFill>
        <p:spPr>
          <a:xfrm>
            <a:off x="395280" y="620640"/>
            <a:ext cx="8280360" cy="48243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5"/>
          <p:cNvSpPr/>
          <p:nvPr/>
        </p:nvSpPr>
        <p:spPr>
          <a:xfrm>
            <a:off x="468360" y="54291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If Then Else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his program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quival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the one in previous slide#3 that uses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48E1-CBD5-4A13-BA9D-C1E082D11C28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79280" y="2492280"/>
            <a:ext cx="3961080" cy="733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Select Case Statement (The code in Slide#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0"/>
          <p:cNvSpPr/>
          <p:nvPr/>
        </p:nvSpPr>
        <p:spPr>
          <a:xfrm>
            <a:off x="4859280" y="2492280"/>
            <a:ext cx="4140360" cy="733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If Then Else Statement (The code in Slide#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324000" y="5516640"/>
            <a:ext cx="4032000" cy="5202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Press one of the Calculate Score Button Without Entering any score in the Text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"/>
          <p:cNvPicPr/>
          <p:nvPr/>
        </p:nvPicPr>
        <p:blipFill>
          <a:blip r:embed="rId2"/>
          <a:stretch/>
        </p:blipFill>
        <p:spPr>
          <a:xfrm>
            <a:off x="560232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2857320" cy="2133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"/>
          <p:cNvPicPr/>
          <p:nvPr/>
        </p:nvPicPr>
        <p:blipFill>
          <a:blip r:embed="rId4"/>
          <a:stretch/>
        </p:blipFill>
        <p:spPr>
          <a:xfrm>
            <a:off x="5602320" y="3357720"/>
            <a:ext cx="2857320" cy="2133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8"/>
          <p:cNvSpPr/>
          <p:nvPr/>
        </p:nvSpPr>
        <p:spPr>
          <a:xfrm>
            <a:off x="4932360" y="5516640"/>
            <a:ext cx="4032360" cy="5202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89 and press one of the Calculate Scor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grade in the rang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00 represents a Perfect 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90–99 represents an A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80–89 represents a B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70–79 represents a C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60–69 represents a D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nd 0–59 represents an F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assume that the user enters a grade in the range 0–100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expression following the keyword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in this case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is called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troll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xpress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 is compared in order with eac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a matching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found, the code in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executes, then program control proceeds to the first statement after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1908000" y="6308640"/>
            <a:ext cx="684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95B2-027F-433A-87D7-0DFB92C7FA6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atement can specify multiple action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 The Following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has two action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output will be as follow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pecifies the range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0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ans all the values [80,81,82,….,87,88,89] ranging between 80 to 8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B74E-5D9C-4F86-9F33-E1DF61FD3D9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2"/>
          <a:srcRect l="19642" t="31798" r="43279" b="58862"/>
          <a:stretch/>
        </p:blipFill>
        <p:spPr>
          <a:xfrm>
            <a:off x="1476360" y="1989000"/>
            <a:ext cx="6029280" cy="809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3"/>
          <a:stretch/>
        </p:blipFill>
        <p:spPr>
          <a:xfrm>
            <a:off x="5072040" y="2857680"/>
            <a:ext cx="28576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between the controlling expression’s value (grade) and a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bel,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Garamond"/>
              </a:rPr>
              <a:t>optional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ecut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necessary to write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lide#3: If the User enters the value 59, the action of th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 executed as follow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4FA5-99A5-4441-8AB2-8EC6210FE4A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3276720" y="4149720"/>
            <a:ext cx="28573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8"/>
          <p:cNvGrpSpPr/>
          <p:nvPr/>
        </p:nvGrpSpPr>
        <p:grpSpPr>
          <a:xfrm>
            <a:off x="34920" y="3622680"/>
            <a:ext cx="4897440" cy="2232000"/>
            <a:chOff x="34920" y="3622680"/>
            <a:chExt cx="4897440" cy="2232000"/>
          </a:xfrm>
        </p:grpSpPr>
        <p:pic>
          <p:nvPicPr>
            <p:cNvPr id="369" name="Picture 2" descr=""/>
            <p:cNvPicPr/>
            <p:nvPr/>
          </p:nvPicPr>
          <p:blipFill>
            <a:blip r:embed="rId1"/>
            <a:srcRect l="25178" t="36048" r="38299" b="33440"/>
            <a:stretch/>
          </p:blipFill>
          <p:spPr>
            <a:xfrm>
              <a:off x="178920" y="3622680"/>
              <a:ext cx="47534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Box 6"/>
            <p:cNvSpPr/>
            <p:nvPr/>
          </p:nvSpPr>
          <p:spPr>
            <a:xfrm>
              <a:off x="34920" y="5350680"/>
              <a:ext cx="439344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Title 1" descr=""/>
          <p:cNvPicPr/>
          <p:nvPr/>
        </p:nvPicPr>
        <p:blipFill>
          <a:blip r:embed="rId2"/>
          <a:stretch/>
        </p:blipFill>
        <p:spPr>
          <a:xfrm>
            <a:off x="19080" y="208080"/>
            <a:ext cx="8880480" cy="12189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and the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contain a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gram control simply continues with the first statement after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ode in slide#3 does not have the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bellow, when the user Enters the number 59 nothing will happe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FCDE-9D37-4A89-8E63-5CB3CB59E57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3"/>
          <a:stretch/>
        </p:blipFill>
        <p:spPr>
          <a:xfrm>
            <a:off x="5867280" y="4140360"/>
            <a:ext cx="2857680" cy="1819080"/>
          </a:xfrm>
          <a:prstGeom prst="rect">
            <a:avLst/>
          </a:prstGeom>
          <a:ln w="0">
            <a:noFill/>
          </a:ln>
        </p:spPr>
      </p:pic>
      <p:cxnSp>
        <p:nvCxnSpPr>
          <p:cNvPr id="376" name="Straight Arrow Connector 11"/>
          <p:cNvCxnSpPr/>
          <p:nvPr/>
        </p:nvCxnSpPr>
        <p:spPr>
          <a:xfrm>
            <a:off x="4932000" y="5040000"/>
            <a:ext cx="935640" cy="1080"/>
          </a:xfrm>
          <a:prstGeom prst="straightConnector1">
            <a:avLst/>
          </a:prstGeom>
          <a:ln w="63360">
            <a:solidFill>
              <a:srgbClr val="7d3c4a"/>
            </a:solidFill>
            <a:miter/>
            <a:tailEnd len="med" type="triangle" w="med"/>
          </a:ln>
        </p:spPr>
      </p:cxnSp>
      <p:cxnSp>
        <p:nvCxnSpPr>
          <p:cNvPr id="377" name="Straight Arrow Connector 13"/>
          <p:cNvCxnSpPr/>
          <p:nvPr/>
        </p:nvCxnSpPr>
        <p:spPr>
          <a:xfrm>
            <a:off x="5508720" y="5652720"/>
            <a:ext cx="1080000" cy="108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triangle" w="med"/>
          </a:ln>
        </p:spPr>
      </p:cxnSp>
      <p:sp>
        <p:nvSpPr>
          <p:cNvPr id="378" name="TextBox 15"/>
          <p:cNvSpPr/>
          <p:nvPr/>
        </p:nvSpPr>
        <p:spPr>
          <a:xfrm>
            <a:off x="4356000" y="5286240"/>
            <a:ext cx="1152720" cy="82404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Lucida Sans Unicode"/>
              </a:rPr>
              <a:t>Nothing is displa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4:33:12Z</dcterms:created>
  <dc:creator>Maysoon</dc:creator>
  <dc:description/>
  <dc:language>en-US</dc:language>
  <cp:lastModifiedBy>GK</cp:lastModifiedBy>
  <dcterms:modified xsi:type="dcterms:W3CDTF">2014-10-11T19:38:44Z</dcterms:modified>
  <cp:revision>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