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0F0-23AF-4AE5-BBBE-110EF7E6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EFB3-92B1-4D20-A56C-56D535FE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2C2A-294F-4321-AE7E-CBB543DC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DE4D-B3BF-42C9-9ABB-0E9815EE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E07F-3D2C-4421-9F03-DDE1A7DD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AE74-DBDF-4BB4-A26E-2EFDDF6B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8BB5-2893-450F-8972-5D41DD1E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9E96-3044-4373-9327-9D0BC9D8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9C56-B4DA-41D9-8D8A-0C710EC3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8AD0-14B9-4308-94B5-413252BB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5B86-3FDE-4E82-A39A-FFAF41EC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9F6-A5F9-4F07-A64C-A2934E7B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F091-1301-4257-A467-F00D38EB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BA03-7A7E-408B-91BC-0377E7FC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82CE-C120-432E-888A-1C51F4A4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53A4-880C-4E8B-80F4-80055476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25B6-FB9A-451C-8B6D-1A60CE18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7C447-65A3-444A-A9F6-7BF3608D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1F6C4-4AF9-4A59-A7A4-79529576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DB49A-E166-4BE0-956E-4BDF5DEA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58972-5D20-441A-8212-9FFFFB3C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EF583-BED1-4082-823F-A72E555A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CF9-4849-40DA-A141-9CEE1DCF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DC421-6C29-4BD2-99C6-9BCEBB0D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36E39-37EF-47C1-B2E7-F6849342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E6EF6-73A1-413F-8446-1DACAA18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9A09E-2FBE-479C-840D-742F9EA5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546CC-06DF-4B44-9F61-FD2DD44E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834E9-B30F-4C76-B12F-AD01BCC9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F6391-E1B5-4F44-85AC-53A33FBE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BBC532-23C1-4554-BD0F-E8B8DE5B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8245A1-8ADB-424C-937D-F0E56E26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349399-E867-480B-9EB2-ABA3A8E1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316A-683F-4767-9F0B-FBFC59C8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60653E-C93B-4E64-AF88-86BB6483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64B68A-6142-40DC-8DF6-522F6CE4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A98EE1-797B-4C0E-A3FB-40B40A5F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A46E93-2CF1-443C-8199-C46CDC0D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77EFDC-75A5-40A5-A540-EC973E68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72677A-3ABE-4BF8-8F34-566529A4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DEC792-C9AE-4977-BFF0-0DD59DD1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473D22-D2AB-4753-8A64-D28D9889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FDD4AB-501E-4E62-84CB-88C9DB1D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61F7A-485F-4DED-9996-6192B78C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F9C5-FCFE-45BB-929E-E6D80512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3FAFE-1295-4C4B-960F-43C2543E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6F639-2414-4B14-95C5-4FBC3EBA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B53D7-61A2-4BF3-B13D-24F614EC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EB703-389C-4BBD-96AC-C4662E82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4BCAF-45A6-4F72-8A9D-9DDEE023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06B3D-DA93-4BB2-986E-613E4DA1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5CBA7-4702-46CF-AEBC-F1946C84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D6D19-1040-47EC-B5A2-6C85D25C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7F9A2-9EB3-41A7-B4E1-A4FA8416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C7165-00B7-44D2-B850-87ED0720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169-5BF0-46EB-8696-046650CD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7A943-6441-4FEB-B153-979AE95D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F418D-A14C-4047-8101-FA90233E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9844B-3F97-495A-BB1C-085F11B1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9EF97-45C3-4982-8E76-2622A807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6DF7B-BC39-4D47-ABAF-81B465A5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D3BB0-F17D-4D6B-A8CF-F22F8439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D3BED-B8F1-496B-85D5-62901967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B040D-2BA8-48BD-B880-61F339F3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77D31-ADA7-47BA-A3B1-2ACD233C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5053A-0AA1-4DA2-B888-86B7C186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31CA-9B2D-4015-81F0-212F0237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57309-ADC1-4B00-9AF9-ED9C6ADC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AA237-8E73-49AB-806C-E6CAA72F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CA9E4-3644-4211-9896-2F6A2083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614CE-C393-4386-8CCE-3574A20D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62F1C-972F-40D9-A4A5-533EC6E2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914EE-1CCC-4980-BFB9-1EE2C9AC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EB435-AE65-459C-96AC-82D4AFA2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69843-1BEF-466B-9E41-51E731C9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C6A09-C25B-46CA-AD4D-68C06174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08254-C849-4C0B-912A-0B48BCB7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25E6-52E2-49EA-AE0A-1714CBBC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07AD8-D0A6-4B16-83F3-2A882238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71D18-5A02-4571-8D76-AF3CBE8D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B4ECA-B5DE-4A59-8856-A0994DEA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B8ABB-8235-455C-A537-9691863D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42215-800C-44D3-815E-BD5FAD73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AC4E-E543-42C9-9C57-DF67D2A3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4C75-3740-4EB6-98DB-14F04B0F8829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1992-2011 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B49A-36EB-4311-A9E3-C4B249AF881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7A2C-A9B0-42E9-B736-EBB3EF181AEF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 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EA83-B16E-45C7-AA00-1A3C8979797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1043-C0C2-4E3E-9871-185984D71A34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262692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1992-2011 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9D27-D425-41D6-B370-E61108C73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ight Triangle 3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8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3" name="Freeform 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Freeform 7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36" name="Freeform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8" name="Straight Connector 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Action Button: Forward or Next 10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C1C6-B40B-4C94-8361-D01F075C91BF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759D-9559-43A1-937E-CD57B0BC132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2742840" y="6408720"/>
            <a:ext cx="398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Lucida Sans Unicode"/>
              </a:rPr>
              <a:t>© 1992-2011 by Pearson Education, Inc. All Rights Reserved. - 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87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EAD0-38A7-43A4-8168-B5900B8E45C3}" type="datetime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١٤٤٨/٠٢/١٥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262692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D372-C119-4E3E-90E1-6052711652B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6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FB95-539B-4FBF-8F48-1333B57A3CCE}" type="datetime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١٤٤٨/٠٢/١٥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AD01-1C07-4972-B8E6-7BF2837783EE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5" name="Action Button: Back or Previous 10">
            <a:hlinkClick r:id="" action="ppaction://hlinkshowjump?jump=previousslide"/>
          </p:cNvPr>
          <p:cNvSpPr/>
          <p:nvPr/>
        </p:nvSpPr>
        <p:spPr>
          <a:xfrm>
            <a:off x="8305920" y="1522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ction Button: Forward or Next 15">
            <a:hlinkClick r:id="" action="ppaction://hlinkshowjump?jump=nextslide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43000" indent="-228600">
              <a:spcBef>
                <a:spcPts val="400"/>
              </a:spcBef>
              <a:buClr>
                <a:srgbClr val="da1f28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43000" indent="-2286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71B2-2F10-4611-BE9C-B2FE2FBE73C0}" type="datetime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١٤٤٨/٠٢/١٥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9785-776C-4D3D-A172-A46EB5B7D624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1731960"/>
            <a:ext cx="8010360" cy="1859040"/>
          </a:xfrm>
          <a:prstGeom prst="rect">
            <a:avLst/>
          </a:prstGeom>
          <a:ln w="0">
            <a:noFill/>
          </a:ln>
        </p:spPr>
      </p:pic>
      <p:sp>
        <p:nvSpPr>
          <p:cNvPr id="32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A102-F641-4F45-A425-18B56E746948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743200" y="6408720"/>
            <a:ext cx="3987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4" descr=""/>
          <p:cNvPicPr/>
          <p:nvPr/>
        </p:nvPicPr>
        <p:blipFill>
          <a:blip r:embed="rId1"/>
          <a:stretch/>
        </p:blipFill>
        <p:spPr>
          <a:xfrm>
            <a:off x="-12600" y="208080"/>
            <a:ext cx="8705880" cy="12189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395280" y="1699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only is used to deal with invalid valu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example, we assume all values entered by the user are in the range 0–100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used,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be the last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quire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words terminate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F1A4-F0AD-4E90-89C7-F480B407F590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" descr="vbhtp5_05images_Page_25.pn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551560"/>
          </a:xfrm>
          <a:prstGeom prst="rect">
            <a:avLst/>
          </a:prstGeom>
          <a:ln w="0">
            <a:noFill/>
          </a:ln>
        </p:spPr>
      </p:pic>
      <p:sp>
        <p:nvSpPr>
          <p:cNvPr id="384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2A48-633D-4713-B18B-ECFEDEF28128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" descr="vbhtp5_05images_Page_24.png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5551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" descr="vbhtp5_05images_Page_26.png"/>
          <p:cNvPicPr/>
          <p:nvPr/>
        </p:nvPicPr>
        <p:blipFill>
          <a:blip r:embed="rId3"/>
          <a:stretch/>
        </p:blipFill>
        <p:spPr>
          <a:xfrm>
            <a:off x="0" y="3357720"/>
            <a:ext cx="914400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Types of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Stat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s also can use relational operators to determine whether the controlling expression satisfies a conditio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es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I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long with the relational operator,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&lt;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, to test for values less than 0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A61A-BA83-466C-A122-1F7C7DCA0B6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1403280" y="4767120"/>
            <a:ext cx="2664000" cy="587160"/>
          </a:xfrm>
          <a:prstGeom prst="rect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Select Ca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Case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&lt;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6"/>
          <p:cNvSpPr/>
          <p:nvPr/>
        </p:nvSpPr>
        <p:spPr>
          <a:xfrm>
            <a:off x="5364000" y="4910040"/>
            <a:ext cx="2737080" cy="34056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grade &lt; </a:t>
            </a:r>
            <a:r>
              <a:rPr b="0" lang="en-US" sz="1800" spc="-1" strike="noStrike">
                <a:solidFill>
                  <a:srgbClr val="00b0f0"/>
                </a:solidFill>
                <a:latin typeface="Lucida Conso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Straight Arrow Connector 8"/>
          <p:cNvCxnSpPr>
            <a:stCxn id="392" idx="3"/>
            <a:endCxn id="393" idx="1"/>
          </p:cNvCxnSpPr>
          <p:nvPr/>
        </p:nvCxnSpPr>
        <p:spPr>
          <a:xfrm>
            <a:off x="4067280" y="5062320"/>
            <a:ext cx="1297440" cy="1080"/>
          </a:xfrm>
          <a:prstGeom prst="straightConnector1">
            <a:avLst/>
          </a:prstGeom>
          <a:ln w="55080">
            <a:solidFill>
              <a:srgbClr val="da1f28"/>
            </a:solidFill>
            <a:miter/>
            <a:tailEnd len="med" type="arrow" w="med"/>
          </a:ln>
        </p:spPr>
      </p:cxnSp>
      <p:sp>
        <p:nvSpPr>
          <p:cNvPr id="395" name="TextBox 9"/>
          <p:cNvSpPr/>
          <p:nvPr/>
        </p:nvSpPr>
        <p:spPr>
          <a:xfrm>
            <a:off x="4067280" y="476712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a1f28"/>
                </a:solidFill>
                <a:latin typeface="Calibri"/>
              </a:rPr>
              <a:t>Equival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Types of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Stat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ultiple values can be tested in a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 by separating the values with </a:t>
            </a:r>
            <a:r>
              <a:rPr b="0" lang="en-US" sz="2300" spc="-1" strike="noStrike">
                <a:solidFill>
                  <a:srgbClr val="0033cc"/>
                </a:solidFill>
                <a:latin typeface="Times New Roman"/>
              </a:rPr>
              <a:t>comma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 as i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Case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,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5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To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9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ich tests for the value 0 </a:t>
            </a:r>
            <a:r>
              <a:rPr b="1" lang="en-US" sz="2300" spc="-1" strike="noStrike">
                <a:solidFill>
                  <a:srgbClr val="0033cc"/>
                </a:solidFill>
                <a:latin typeface="Times New Roman"/>
              </a:rPr>
              <a:t>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lues in the range 5–9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so,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 can be used to test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trin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D206-FCBA-41C5-82E6-A9F2339C2B6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60480" y="208080"/>
            <a:ext cx="8632800" cy="121896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ts val="25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1" i="1" lang="en-US" sz="2400" spc="-1" strike="noStrike">
                <a:solidFill>
                  <a:srgbClr val="000000"/>
                </a:solidFill>
                <a:latin typeface="AGaramond"/>
              </a:rPr>
              <a:t>…</a:t>
            </a: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1" i="1" lang="en-US" sz="2400" spc="-1" strike="noStrike">
                <a:solidFill>
                  <a:srgbClr val="000000"/>
                </a:solidFill>
                <a:latin typeface="AGaramond"/>
              </a:rPr>
              <a:t> Statement to test </a:t>
            </a: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String valu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ts val="25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Console"/>
              </a:rPr>
              <a:t>Example: (The Select Color Example)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program that asks the user to enter one of the three basic colors (red,green,blue) if the input is correct the label change its color to the entered colo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09B7-7F67-40E0-8372-78A300409B6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4608360" y="465300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4594320" y="292428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4"/>
          <a:stretch/>
        </p:blipFill>
        <p:spPr>
          <a:xfrm>
            <a:off x="1619280" y="2924280"/>
            <a:ext cx="2700360" cy="16207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"/>
          <p:cNvPicPr/>
          <p:nvPr/>
        </p:nvPicPr>
        <p:blipFill>
          <a:blip r:embed="rId5"/>
          <a:stretch/>
        </p:blipFill>
        <p:spPr>
          <a:xfrm>
            <a:off x="1619280" y="4653000"/>
            <a:ext cx="27003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268200" y="208080"/>
            <a:ext cx="8425080" cy="12189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914400" y="1341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Console"/>
              </a:rPr>
              <a:t>(The Select Color Example Program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EB1A-6C4B-497A-82DE-D2CA432300A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2"/>
          <a:srcRect l="2487" t="16218" r="37743" b="33937"/>
          <a:stretch/>
        </p:blipFill>
        <p:spPr>
          <a:xfrm>
            <a:off x="826920" y="1989000"/>
            <a:ext cx="7777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dition is an expression that results in a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—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far, we’ve studied onl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imple cond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uch a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lt;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lection and repetition statement evaluated on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e condition with one of the operators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g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Lucida Console"/>
              </a:rPr>
              <a:t>&lt;&g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5E64-B2D4-4447-BBA7-2422D9B1DA6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handle multiple conditions more efficiently, the </a:t>
            </a:r>
            <a:r>
              <a:rPr b="0" lang="en-US" sz="2700" spc="-1" strike="noStrike">
                <a:solidFill>
                  <a:srgbClr val="0000ff"/>
                </a:solidFill>
                <a:latin typeface="Times New Roman"/>
              </a:rPr>
              <a:t>logical operator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can be used to form complex conditions by combining simple o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gical operators are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7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1441-DCA9-4BAB-89D9-7DAB4E52491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uppose we wish to ensure that two conditions are both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n a program before a certain path of execution is chos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n such a case, we can use the logical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An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perator as follow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gender 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age &gt;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65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  seniorFemales += </a:t>
            </a:r>
            <a:r>
              <a:rPr b="0" lang="en-US" sz="1900" spc="-1" strike="noStrike">
                <a:solidFill>
                  <a:srgbClr val="128aff"/>
                </a:solidFill>
                <a:latin typeface="Lucida Console"/>
              </a:rPr>
              <a:t>1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he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 contains two simple conditio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EBA8-11EA-46D6-BF65-EFC6F4A72AD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en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"F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es whether a person is female and 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6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es whether a person is a senior citiz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wo simple conditions are evaluated first, because the precedence of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both higher than the precedence of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If gender = </a:t>
            </a:r>
            <a:r>
              <a:rPr b="0" lang="en-US" sz="21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1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 age &gt;= </a:t>
            </a:r>
            <a:r>
              <a:rPr b="0" lang="en-US" sz="2100" spc="-1" strike="noStrike">
                <a:solidFill>
                  <a:srgbClr val="128aff"/>
                </a:solidFill>
                <a:latin typeface="Lucida Console"/>
              </a:rPr>
              <a:t>65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10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A072-A08F-4CBA-A774-BC2DB949265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2357280" y="477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4429080" y="477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eft Brace 6"/>
          <p:cNvSpPr/>
          <p:nvPr/>
        </p:nvSpPr>
        <p:spPr>
          <a:xfrm rot="16200000">
            <a:off x="2847960" y="3924000"/>
            <a:ext cx="304560" cy="175284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752840"/>
              <a:gd name="textAreaBottom" fmla="*/ 17449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7"/>
                  <a:pt x="10800" y="313"/>
                </a:cubicBezTo>
                <a:lnTo>
                  <a:pt x="10800" y="10487"/>
                </a:lnTo>
                <a:cubicBezTo>
                  <a:pt x="10800" y="10644"/>
                  <a:pt x="5400" y="10800"/>
                  <a:pt x="0" y="10800"/>
                </a:cubicBezTo>
                <a:cubicBezTo>
                  <a:pt x="5400" y="10800"/>
                  <a:pt x="10800" y="10957"/>
                  <a:pt x="10800" y="11113"/>
                </a:cubicBezTo>
                <a:lnTo>
                  <a:pt x="10800" y="21287"/>
                </a:lnTo>
                <a:cubicBezTo>
                  <a:pt x="10800" y="214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eft Brace 7"/>
          <p:cNvSpPr/>
          <p:nvPr/>
        </p:nvSpPr>
        <p:spPr>
          <a:xfrm rot="16200000">
            <a:off x="4962600" y="411480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371600"/>
              <a:gd name="textAreaBottom" fmla="*/ 136368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eft Brace 8"/>
          <p:cNvSpPr/>
          <p:nvPr/>
        </p:nvSpPr>
        <p:spPr>
          <a:xfrm rot="16200000">
            <a:off x="3962520" y="4076280"/>
            <a:ext cx="304920" cy="2514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2514600"/>
              <a:gd name="textAreaBottom" fmla="*/ 25066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"/>
                  <a:pt x="10800" y="218"/>
                </a:cubicBezTo>
                <a:lnTo>
                  <a:pt x="10800" y="10582"/>
                </a:lnTo>
                <a:cubicBezTo>
                  <a:pt x="10800" y="10691"/>
                  <a:pt x="5400" y="10800"/>
                  <a:pt x="0" y="10800"/>
                </a:cubicBezTo>
                <a:cubicBezTo>
                  <a:pt x="5400" y="10800"/>
                  <a:pt x="10800" y="10909"/>
                  <a:pt x="10800" y="11018"/>
                </a:cubicBezTo>
                <a:lnTo>
                  <a:pt x="10800" y="21382"/>
                </a:lnTo>
                <a:cubicBezTo>
                  <a:pt x="10800" y="2149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9"/>
          <p:cNvSpPr/>
          <p:nvPr/>
        </p:nvSpPr>
        <p:spPr>
          <a:xfrm>
            <a:off x="1905120" y="5486400"/>
            <a:ext cx="65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both are True then the condition of the </a:t>
            </a:r>
            <a:r>
              <a:rPr b="1" lang="en-US" sz="1800" spc="-1" strike="noStrike">
                <a:solidFill>
                  <a:srgbClr val="3333ff"/>
                </a:solidFill>
                <a:latin typeface="Calibri"/>
              </a:rPr>
              <a:t>If State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268200" y="208080"/>
            <a:ext cx="8704440" cy="1218960"/>
          </a:xfrm>
          <a:prstGeom prst="rect">
            <a:avLst/>
          </a:prstGeom>
          <a:ln w="0">
            <a:noFill/>
          </a:ln>
        </p:spPr>
      </p:pic>
      <p:pic>
        <p:nvPicPr>
          <p:cNvPr id="332" name="Text Placeholder 2" descr=""/>
          <p:cNvPicPr/>
          <p:nvPr/>
        </p:nvPicPr>
        <p:blipFill>
          <a:blip r:embed="rId2"/>
          <a:stretch/>
        </p:blipFill>
        <p:spPr>
          <a:xfrm>
            <a:off x="450720" y="1511280"/>
            <a:ext cx="8242560" cy="5164200"/>
          </a:xfrm>
          <a:prstGeom prst="rect">
            <a:avLst/>
          </a:prstGeom>
          <a:ln w="0">
            <a:noFill/>
          </a:ln>
        </p:spPr>
      </p:pic>
      <p:sp>
        <p:nvSpPr>
          <p:cNvPr id="33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2774-0E43-401E-BF55-74827F2A36A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is combined condition i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niorFem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 is incremented by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dability of the preceding combined condition can be improved by adding parenthes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(gender = </a:t>
            </a:r>
            <a:r>
              <a:rPr b="0" lang="en-US" sz="2000" spc="-1" strike="noStrike">
                <a:solidFill>
                  <a:srgbClr val="128aff"/>
                </a:solidFill>
                <a:latin typeface="Lucida Console"/>
              </a:rPr>
              <a:t>"F"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2000" spc="-1" strike="noStrike">
                <a:solidFill>
                  <a:srgbClr val="0000ff"/>
                </a:solidFill>
                <a:latin typeface="Lucida Console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(age &gt;= </a:t>
            </a:r>
            <a:r>
              <a:rPr b="0" lang="en-US" sz="2000" spc="-1" strike="noStrike">
                <a:solidFill>
                  <a:srgbClr val="128aff"/>
                </a:solidFill>
                <a:latin typeface="Lucida Console"/>
              </a:rPr>
              <a:t>65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81EB-811C-4922-9CE7-BC6BE5A447B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143000" y="2209680"/>
          <a:ext cx="6477120" cy="1854360"/>
        </p:xfrm>
        <a:graphic>
          <a:graphicData uri="http://schemas.openxmlformats.org/drawingml/2006/table">
            <a:tbl>
              <a:tblPr/>
              <a:tblGrid>
                <a:gridCol w="1933560"/>
                <a:gridCol w="1771560"/>
                <a:gridCol w="2772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nder = "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Console"/>
                        </a:rPr>
                        <a:t>age &gt;= </a:t>
                      </a:r>
                      <a:r>
                        <a:rPr b="0" lang="en-US" sz="1800" spc="-1" strike="noStrike">
                          <a:solidFill>
                            <a:srgbClr val="128aff"/>
                          </a:solidFill>
                          <a:latin typeface="Lucida Console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s the </a:t>
                      </a: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Lucida Sans Unicode"/>
                        </a:rPr>
                        <a:t>I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Condition m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Lucida Sans Unicode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7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1" i="1" lang="en-US" sz="27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ow let’s consider th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perato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uppose we wish to ensure that either or both of two conditions ar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before we choose a certain path of executio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 use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perator as in the following program segment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(semesterAverage &gt;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Or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finalExam &gt;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1700" spc="-1" strike="noStrike">
                <a:solidFill>
                  <a:srgbClr val="000000"/>
                </a:solidFill>
                <a:latin typeface="LucidaSansTypewriter"/>
              </a:rPr>
              <a:t>)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  resultLabel.Text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"Student grade is A"</a:t>
            </a:r>
            <a:br>
              <a:rPr sz="1700"/>
            </a:b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s statement also contains two simple conditions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AE11-5C04-497A-8708-3D7B98A0E06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mesterAve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valuated to determine whether the student deserves an “A” in the course because of his performance throughout the semest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inalEx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valuated to determine whether the student deserves an “A” in the course because of his performance on the final exam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DCF6-F643-40DB-9A29-88747D4DE39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 then considers the combined condi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semesterAverage &gt;= </a:t>
            </a:r>
            <a:r>
              <a:rPr b="0" lang="en-US" sz="22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Lucida Console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 finalExam &gt;= </a:t>
            </a:r>
            <a:r>
              <a:rPr b="0" lang="en-US" sz="2200" spc="-1" strike="noStrike">
                <a:solidFill>
                  <a:srgbClr val="128aff"/>
                </a:solidFill>
                <a:latin typeface="Lucida Console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LucidaSansTypewriter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wards the student an “A” if either or both of the conditions ar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xt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"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isplayed, unless both of the conditions ar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 has a higher precedence tha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E231-AC4D-4050-B032-AF96E77EFB2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1" descr="vbhtp5_05images_Page_31.png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5551560"/>
          </a:xfrm>
          <a:prstGeom prst="rect">
            <a:avLst/>
          </a:prstGeom>
          <a:ln w="0">
            <a:noFill/>
          </a:ln>
        </p:spPr>
      </p:pic>
      <p:sp>
        <p:nvSpPr>
          <p:cNvPr id="453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94D5-163C-444A-9CD3-C7FEC051BE0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8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ondition containing the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logical exclusive OR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X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i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and only if one of its operands results in a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lue and the other results in a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lu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both operands are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both are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 entire condition is 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6293-D585-496F-A35C-84215F692A2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" descr="vbhtp5_05images_Page_33.png"/>
          <p:cNvPicPr/>
          <p:nvPr/>
        </p:nvPicPr>
        <p:blipFill>
          <a:blip r:embed="rId2"/>
          <a:srcRect l="12500" t="0" r="30003" b="49990"/>
          <a:stretch/>
        </p:blipFill>
        <p:spPr>
          <a:xfrm>
            <a:off x="3214800" y="3676680"/>
            <a:ext cx="56242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Logical Oper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Logical </a:t>
            </a:r>
            <a:r>
              <a:rPr b="1" i="1" lang="en-US" sz="28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1" i="1" lang="en-US" sz="2800" spc="-1" strike="noStrike">
                <a:solidFill>
                  <a:srgbClr val="000000"/>
                </a:solidFill>
                <a:latin typeface="AGaramond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logical negation) operator enables you to “reverse” the meaning of a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ike the logical operators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each combi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, the logical negation operator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, requiring only one opera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-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" descr="vbhtp5_05images_Page_34.png"/>
          <p:cNvPicPr/>
          <p:nvPr/>
        </p:nvPicPr>
        <p:blipFill>
          <a:blip r:embed="rId1"/>
          <a:srcRect l="25834" t="0" r="40002" b="52733"/>
          <a:stretch/>
        </p:blipFill>
        <p:spPr>
          <a:xfrm>
            <a:off x="2971800" y="3828960"/>
            <a:ext cx="3124080" cy="2624400"/>
          </a:xfrm>
          <a:prstGeom prst="rect">
            <a:avLst/>
          </a:prstGeom>
          <a:ln w="0">
            <a:noFill/>
          </a:ln>
        </p:spPr>
      </p:pic>
      <p:sp>
        <p:nvSpPr>
          <p:cNvPr id="464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5DAD-A295-4053-A451-58088E2BC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gical negation operator is demonstrated by the following program segment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Not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(value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Then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  resultLabel.Text = </a:t>
            </a:r>
            <a:r>
              <a:rPr b="0" lang="en-US" sz="1700" spc="-1" strike="noStrike">
                <a:solidFill>
                  <a:srgbClr val="128aff"/>
                </a:solidFill>
                <a:latin typeface="Lucida Console"/>
              </a:rPr>
              <a:t>"The value is "</a:t>
            </a:r>
            <a:r>
              <a:rPr b="0" lang="en-US" sz="1700" spc="-1" strike="noStrike">
                <a:solidFill>
                  <a:srgbClr val="000000"/>
                </a:solidFill>
                <a:latin typeface="Lucida Console"/>
              </a:rPr>
              <a:t> &amp; value</a:t>
            </a:r>
            <a:br>
              <a:rPr sz="1700"/>
            </a:br>
            <a:r>
              <a:rPr b="0" lang="en-US" sz="1700" spc="-1" strike="noStrike">
                <a:solidFill>
                  <a:srgbClr val="0000ff"/>
                </a:solidFill>
                <a:latin typeface="Lucida Console"/>
              </a:rPr>
              <a:t>End If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entheses around the conditio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cess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ause the logical negation operator (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has a higher precedence than the equality operato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4ADC-8365-4DC0-B9D3-09F6CEFC919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st cases, you can avoid using logical negation by expressing the condition differently with relational or equality operator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flexibility helps you express conditions more naturall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the preceding statement can be written as follow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Lucida Console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9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2380-E9C1-4700-B198-066A48A197C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685800" y="4843440"/>
            <a:ext cx="3124080" cy="337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(value =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5943600" y="4843440"/>
            <a:ext cx="2666880" cy="337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value &lt;&gt;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Straight Arrow Connector 7"/>
          <p:cNvCxnSpPr>
            <a:stCxn id="473" idx="3"/>
            <a:endCxn id="474" idx="1"/>
          </p:cNvCxnSpPr>
          <p:nvPr/>
        </p:nvCxnSpPr>
        <p:spPr>
          <a:xfrm>
            <a:off x="3809520" y="5011200"/>
            <a:ext cx="2134440" cy="1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476" name="TextBox 8"/>
          <p:cNvSpPr/>
          <p:nvPr/>
        </p:nvSpPr>
        <p:spPr>
          <a:xfrm>
            <a:off x="3962520" y="46911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n be written 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478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31EC-11E3-4DFD-9D98-DF6B7D67BAF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" descr="vbhtp5_05images_Page_40.png"/>
          <p:cNvPicPr/>
          <p:nvPr/>
        </p:nvPicPr>
        <p:blipFill>
          <a:blip r:embed="rId2"/>
          <a:srcRect l="14177" t="7786" r="30704" b="10502"/>
          <a:stretch/>
        </p:blipFill>
        <p:spPr>
          <a:xfrm>
            <a:off x="1763640" y="1557360"/>
            <a:ext cx="5040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A22C-371E-4809-BED9-10169253FEE0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rcRect l="18538" t="15374" r="17821" b="19656"/>
          <a:stretch/>
        </p:blipFill>
        <p:spPr>
          <a:xfrm>
            <a:off x="539640" y="692280"/>
            <a:ext cx="8280360" cy="4752720"/>
          </a:xfrm>
          <a:prstGeom prst="rect">
            <a:avLst/>
          </a:prstGeom>
          <a:ln w="0">
            <a:noFill/>
          </a:ln>
        </p:spPr>
      </p:pic>
      <p:sp>
        <p:nvSpPr>
          <p:cNvPr id="338" name="TextBox 7"/>
          <p:cNvSpPr/>
          <p:nvPr/>
        </p:nvSpPr>
        <p:spPr>
          <a:xfrm>
            <a:off x="971640" y="5661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ove program Use the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Select Cas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ment to determine the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 #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411280" y="1341360"/>
            <a:ext cx="43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Calibri"/>
              </a:rPr>
              <a:t>X += ( 4 \ y * 2 ) ^ ( x – 2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3093-D82C-4534-84C6-01266401D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eft Brace 6"/>
          <p:cNvSpPr/>
          <p:nvPr/>
        </p:nvSpPr>
        <p:spPr>
          <a:xfrm rot="16200000">
            <a:off x="3960000" y="1809000"/>
            <a:ext cx="432000" cy="503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503280"/>
              <a:gd name="textAreaBottom" fmla="*/ 4921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2"/>
                  <a:pt x="10800" y="1544"/>
                </a:cubicBezTo>
                <a:lnTo>
                  <a:pt x="10800" y="9256"/>
                </a:lnTo>
                <a:cubicBezTo>
                  <a:pt x="10800" y="10028"/>
                  <a:pt x="5400" y="10800"/>
                  <a:pt x="0" y="10800"/>
                </a:cubicBezTo>
                <a:cubicBezTo>
                  <a:pt x="5400" y="10800"/>
                  <a:pt x="10800" y="11572"/>
                  <a:pt x="10800" y="12344"/>
                </a:cubicBezTo>
                <a:lnTo>
                  <a:pt x="10800" y="20056"/>
                </a:lnTo>
                <a:cubicBezTo>
                  <a:pt x="10800" y="2082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eft Brace 7"/>
          <p:cNvSpPr/>
          <p:nvPr/>
        </p:nvSpPr>
        <p:spPr>
          <a:xfrm rot="16200000">
            <a:off x="3635280" y="2275920"/>
            <a:ext cx="289080" cy="72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1"/>
                  <a:pt x="10800" y="722"/>
                </a:cubicBezTo>
                <a:lnTo>
                  <a:pt x="10800" y="10078"/>
                </a:lnTo>
                <a:cubicBezTo>
                  <a:pt x="10800" y="10439"/>
                  <a:pt x="5400" y="10800"/>
                  <a:pt x="0" y="10800"/>
                </a:cubicBezTo>
                <a:cubicBezTo>
                  <a:pt x="5400" y="10800"/>
                  <a:pt x="10800" y="11161"/>
                  <a:pt x="10800" y="11522"/>
                </a:cubicBezTo>
                <a:lnTo>
                  <a:pt x="10800" y="20878"/>
                </a:lnTo>
                <a:cubicBezTo>
                  <a:pt x="10800" y="212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8"/>
          <p:cNvSpPr/>
          <p:nvPr/>
        </p:nvSpPr>
        <p:spPr>
          <a:xfrm>
            <a:off x="399564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10"/>
          <p:cNvSpPr/>
          <p:nvPr/>
        </p:nvSpPr>
        <p:spPr>
          <a:xfrm flipV="1">
            <a:off x="3419640" y="177336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3635280" y="2781360"/>
            <a:ext cx="3603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eft Brace 16"/>
          <p:cNvSpPr/>
          <p:nvPr/>
        </p:nvSpPr>
        <p:spPr>
          <a:xfrm rot="16200000">
            <a:off x="5435280" y="2925360"/>
            <a:ext cx="289080" cy="57456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574560"/>
              <a:gd name="textAreaBottom" fmla="*/ 567360 h 57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3"/>
                  <a:pt x="10800" y="905"/>
                </a:cubicBezTo>
                <a:lnTo>
                  <a:pt x="10800" y="9895"/>
                </a:lnTo>
                <a:cubicBezTo>
                  <a:pt x="10800" y="10348"/>
                  <a:pt x="5400" y="10800"/>
                  <a:pt x="0" y="10800"/>
                </a:cubicBezTo>
                <a:cubicBezTo>
                  <a:pt x="5400" y="10800"/>
                  <a:pt x="10800" y="11253"/>
                  <a:pt x="10800" y="11705"/>
                </a:cubicBezTo>
                <a:lnTo>
                  <a:pt x="10800" y="20695"/>
                </a:lnTo>
                <a:cubicBezTo>
                  <a:pt x="10800" y="2114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17"/>
          <p:cNvSpPr/>
          <p:nvPr/>
        </p:nvSpPr>
        <p:spPr>
          <a:xfrm flipV="1">
            <a:off x="5867280" y="1773360"/>
            <a:ext cx="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18"/>
          <p:cNvSpPr/>
          <p:nvPr/>
        </p:nvSpPr>
        <p:spPr>
          <a:xfrm>
            <a:off x="5435640" y="3357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20"/>
          <p:cNvSpPr/>
          <p:nvPr/>
        </p:nvSpPr>
        <p:spPr>
          <a:xfrm flipV="1">
            <a:off x="5292720" y="1773360"/>
            <a:ext cx="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eft Brace 22"/>
          <p:cNvSpPr/>
          <p:nvPr/>
        </p:nvSpPr>
        <p:spPr>
          <a:xfrm rot="16200000">
            <a:off x="4469400" y="3243960"/>
            <a:ext cx="432000" cy="181116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1811160"/>
              <a:gd name="textAreaBottom" fmla="*/ 1800000 h 181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5"/>
                  <a:pt x="10800" y="429"/>
                </a:cubicBezTo>
                <a:lnTo>
                  <a:pt x="10800" y="13280"/>
                </a:lnTo>
                <a:cubicBezTo>
                  <a:pt x="10800" y="13495"/>
                  <a:pt x="5400" y="13709"/>
                  <a:pt x="0" y="13709"/>
                </a:cubicBezTo>
                <a:cubicBezTo>
                  <a:pt x="5400" y="13709"/>
                  <a:pt x="10800" y="13924"/>
                  <a:pt x="10800" y="14138"/>
                </a:cubicBezTo>
                <a:lnTo>
                  <a:pt x="10800" y="21171"/>
                </a:lnTo>
                <a:cubicBezTo>
                  <a:pt x="10800" y="2138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23"/>
          <p:cNvSpPr/>
          <p:nvPr/>
        </p:nvSpPr>
        <p:spPr>
          <a:xfrm flipV="1">
            <a:off x="5591160" y="3716280"/>
            <a:ext cx="0" cy="217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25"/>
          <p:cNvSpPr/>
          <p:nvPr/>
        </p:nvSpPr>
        <p:spPr>
          <a:xfrm flipV="1">
            <a:off x="3780000" y="314172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40"/>
          <p:cNvSpPr/>
          <p:nvPr/>
        </p:nvSpPr>
        <p:spPr>
          <a:xfrm>
            <a:off x="4788000" y="4365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eft Brace 41"/>
          <p:cNvSpPr/>
          <p:nvPr/>
        </p:nvSpPr>
        <p:spPr>
          <a:xfrm rot="16200000">
            <a:off x="3640680" y="3999240"/>
            <a:ext cx="431640" cy="2170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2170080"/>
              <a:gd name="textAreaBottom" fmla="*/ 2158920 h 217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9"/>
                  <a:pt x="10800" y="358"/>
                </a:cubicBezTo>
                <a:lnTo>
                  <a:pt x="10800" y="13351"/>
                </a:lnTo>
                <a:cubicBezTo>
                  <a:pt x="10800" y="13530"/>
                  <a:pt x="5400" y="13709"/>
                  <a:pt x="0" y="13709"/>
                </a:cubicBezTo>
                <a:cubicBezTo>
                  <a:pt x="5400" y="13709"/>
                  <a:pt x="10800" y="13888"/>
                  <a:pt x="10800" y="14067"/>
                </a:cubicBezTo>
                <a:lnTo>
                  <a:pt x="10800" y="21242"/>
                </a:lnTo>
                <a:cubicBezTo>
                  <a:pt x="10800" y="2142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traight Connector 42"/>
          <p:cNvSpPr/>
          <p:nvPr/>
        </p:nvSpPr>
        <p:spPr>
          <a:xfrm flipV="1">
            <a:off x="4941720" y="4724280"/>
            <a:ext cx="0" cy="14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43"/>
          <p:cNvSpPr/>
          <p:nvPr/>
        </p:nvSpPr>
        <p:spPr>
          <a:xfrm flipV="1">
            <a:off x="2771640" y="1773000"/>
            <a:ext cx="0" cy="309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44"/>
          <p:cNvSpPr/>
          <p:nvPr/>
        </p:nvSpPr>
        <p:spPr>
          <a:xfrm>
            <a:off x="3995640" y="5300640"/>
            <a:ext cx="3747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 #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7280" y="134136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Calibri"/>
              </a:rPr>
              <a:t>If Not( x * y &lt; 0 ) And ( x ^ 2 &gt;= 100 Mod 4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992-2011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y Pearson Education, Inc. All Rights Reserved. -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3D5B-C32F-452E-8C89-BE9EA7416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eft Brace 6"/>
          <p:cNvSpPr/>
          <p:nvPr/>
        </p:nvSpPr>
        <p:spPr>
          <a:xfrm rot="16200000">
            <a:off x="2808000" y="1807920"/>
            <a:ext cx="432000" cy="5050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505080"/>
              <a:gd name="textAreaBottom" fmla="*/ 4939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0"/>
                  <a:pt x="10800" y="1540"/>
                </a:cubicBezTo>
                <a:lnTo>
                  <a:pt x="10800" y="9260"/>
                </a:lnTo>
                <a:cubicBezTo>
                  <a:pt x="10800" y="10030"/>
                  <a:pt x="5400" y="10800"/>
                  <a:pt x="0" y="10800"/>
                </a:cubicBezTo>
                <a:cubicBezTo>
                  <a:pt x="5400" y="10800"/>
                  <a:pt x="10800" y="11570"/>
                  <a:pt x="10800" y="12340"/>
                </a:cubicBezTo>
                <a:lnTo>
                  <a:pt x="10800" y="20060"/>
                </a:lnTo>
                <a:cubicBezTo>
                  <a:pt x="10800" y="2083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eft Brace 7"/>
          <p:cNvSpPr/>
          <p:nvPr/>
        </p:nvSpPr>
        <p:spPr>
          <a:xfrm rot="16200000">
            <a:off x="3274920" y="2275920"/>
            <a:ext cx="289080" cy="720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720720"/>
              <a:gd name="textAreaBottom" fmla="*/ 713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1"/>
                  <a:pt x="10800" y="722"/>
                </a:cubicBezTo>
                <a:lnTo>
                  <a:pt x="10800" y="10078"/>
                </a:lnTo>
                <a:cubicBezTo>
                  <a:pt x="10800" y="10439"/>
                  <a:pt x="5400" y="10800"/>
                  <a:pt x="0" y="10800"/>
                </a:cubicBezTo>
                <a:cubicBezTo>
                  <a:pt x="5400" y="10800"/>
                  <a:pt x="10800" y="11161"/>
                  <a:pt x="10800" y="11522"/>
                </a:cubicBezTo>
                <a:lnTo>
                  <a:pt x="10800" y="20878"/>
                </a:lnTo>
                <a:cubicBezTo>
                  <a:pt x="10800" y="212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8"/>
          <p:cNvSpPr/>
          <p:nvPr/>
        </p:nvSpPr>
        <p:spPr>
          <a:xfrm>
            <a:off x="284328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10"/>
          <p:cNvSpPr/>
          <p:nvPr/>
        </p:nvSpPr>
        <p:spPr>
          <a:xfrm flipV="1">
            <a:off x="3780000" y="177336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1"/>
          <p:cNvSpPr/>
          <p:nvPr/>
        </p:nvSpPr>
        <p:spPr>
          <a:xfrm>
            <a:off x="3276720" y="2781360"/>
            <a:ext cx="3585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eft Brace 16"/>
          <p:cNvSpPr/>
          <p:nvPr/>
        </p:nvSpPr>
        <p:spPr>
          <a:xfrm rot="16200000">
            <a:off x="5219640" y="1701360"/>
            <a:ext cx="289080" cy="5749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574920"/>
              <a:gd name="textAreaBottom" fmla="*/ 567720 h 5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3"/>
                  <a:pt x="10800" y="905"/>
                </a:cubicBezTo>
                <a:lnTo>
                  <a:pt x="10800" y="9895"/>
                </a:lnTo>
                <a:cubicBezTo>
                  <a:pt x="10800" y="10348"/>
                  <a:pt x="5400" y="10800"/>
                  <a:pt x="0" y="10800"/>
                </a:cubicBezTo>
                <a:cubicBezTo>
                  <a:pt x="5400" y="10800"/>
                  <a:pt x="10800" y="11253"/>
                  <a:pt x="10800" y="11705"/>
                </a:cubicBezTo>
                <a:lnTo>
                  <a:pt x="10800" y="20695"/>
                </a:lnTo>
                <a:cubicBezTo>
                  <a:pt x="10800" y="2114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8"/>
          <p:cNvSpPr/>
          <p:nvPr/>
        </p:nvSpPr>
        <p:spPr>
          <a:xfrm>
            <a:off x="521964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eft Brace 22"/>
          <p:cNvSpPr/>
          <p:nvPr/>
        </p:nvSpPr>
        <p:spPr>
          <a:xfrm rot="16200000">
            <a:off x="6981840" y="1450440"/>
            <a:ext cx="291960" cy="1079640"/>
          </a:xfrm>
          <a:custGeom>
            <a:avLst/>
            <a:gdLst>
              <a:gd name="textAreaLeft" fmla="*/ 186480 w 291960"/>
              <a:gd name="textAreaRight" fmla="*/ 292320 w 291960"/>
              <a:gd name="textAreaTop" fmla="*/ 7560 h 1079640"/>
              <a:gd name="textAreaBottom" fmla="*/ 107208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4"/>
                  <a:pt x="10800" y="487"/>
                </a:cubicBezTo>
                <a:lnTo>
                  <a:pt x="10800" y="10131"/>
                </a:lnTo>
                <a:cubicBezTo>
                  <a:pt x="10800" y="10375"/>
                  <a:pt x="5400" y="10618"/>
                  <a:pt x="0" y="10618"/>
                </a:cubicBezTo>
                <a:cubicBezTo>
                  <a:pt x="5400" y="10618"/>
                  <a:pt x="10800" y="10862"/>
                  <a:pt x="10800" y="11105"/>
                </a:cubicBezTo>
                <a:lnTo>
                  <a:pt x="10800" y="21113"/>
                </a:lnTo>
                <a:cubicBezTo>
                  <a:pt x="10800" y="213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40"/>
          <p:cNvSpPr/>
          <p:nvPr/>
        </p:nvSpPr>
        <p:spPr>
          <a:xfrm>
            <a:off x="6948360" y="2133720"/>
            <a:ext cx="360360" cy="358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eft Brace 41"/>
          <p:cNvSpPr/>
          <p:nvPr/>
        </p:nvSpPr>
        <p:spPr>
          <a:xfrm rot="16200000">
            <a:off x="6014160" y="1851480"/>
            <a:ext cx="457200" cy="17384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738440"/>
              <a:gd name="textAreaBottom" fmla="*/ 1726560 h 17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3"/>
                </a:cubicBezTo>
                <a:lnTo>
                  <a:pt x="10800" y="10436"/>
                </a:lnTo>
                <a:cubicBezTo>
                  <a:pt x="10800" y="10673"/>
                  <a:pt x="5400" y="10909"/>
                  <a:pt x="0" y="10909"/>
                </a:cubicBezTo>
                <a:cubicBezTo>
                  <a:pt x="5400" y="10909"/>
                  <a:pt x="10800" y="11146"/>
                  <a:pt x="10800" y="11382"/>
                </a:cubicBezTo>
                <a:lnTo>
                  <a:pt x="10800" y="21127"/>
                </a:lnTo>
                <a:cubicBezTo>
                  <a:pt x="10800" y="213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44"/>
          <p:cNvSpPr/>
          <p:nvPr/>
        </p:nvSpPr>
        <p:spPr>
          <a:xfrm>
            <a:off x="6084720" y="2924280"/>
            <a:ext cx="37332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eft Brace 27"/>
          <p:cNvSpPr/>
          <p:nvPr/>
        </p:nvSpPr>
        <p:spPr>
          <a:xfrm rot="16200000">
            <a:off x="2615400" y="2721960"/>
            <a:ext cx="457200" cy="1296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296720"/>
              <a:gd name="textAreaBottom" fmla="*/ 12848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7"/>
                  <a:pt x="10800" y="634"/>
                </a:cubicBezTo>
                <a:lnTo>
                  <a:pt x="10800" y="10275"/>
                </a:lnTo>
                <a:cubicBezTo>
                  <a:pt x="10800" y="10592"/>
                  <a:pt x="5400" y="10909"/>
                  <a:pt x="0" y="10909"/>
                </a:cubicBezTo>
                <a:cubicBezTo>
                  <a:pt x="5400" y="10909"/>
                  <a:pt x="10800" y="11226"/>
                  <a:pt x="10800" y="11543"/>
                </a:cubicBezTo>
                <a:lnTo>
                  <a:pt x="10800" y="20966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28"/>
          <p:cNvSpPr/>
          <p:nvPr/>
        </p:nvSpPr>
        <p:spPr>
          <a:xfrm flipV="1">
            <a:off x="2195640" y="1844280"/>
            <a:ext cx="0" cy="1297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1"/>
          <p:cNvSpPr/>
          <p:nvPr/>
        </p:nvSpPr>
        <p:spPr>
          <a:xfrm>
            <a:off x="2700360" y="3573360"/>
            <a:ext cx="3729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eft Brace 32"/>
          <p:cNvSpPr/>
          <p:nvPr/>
        </p:nvSpPr>
        <p:spPr>
          <a:xfrm rot="16200000">
            <a:off x="4343400" y="2938680"/>
            <a:ext cx="457200" cy="3311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3311280"/>
              <a:gd name="textAreaBottom" fmla="*/ 3299400 h 33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49"/>
                </a:cubicBezTo>
                <a:lnTo>
                  <a:pt x="10800" y="10660"/>
                </a:lnTo>
                <a:cubicBezTo>
                  <a:pt x="10800" y="10785"/>
                  <a:pt x="5400" y="10909"/>
                  <a:pt x="0" y="10909"/>
                </a:cubicBezTo>
                <a:cubicBezTo>
                  <a:pt x="5400" y="10909"/>
                  <a:pt x="10800" y="11034"/>
                  <a:pt x="10800" y="11158"/>
                </a:cubicBezTo>
                <a:lnTo>
                  <a:pt x="10800" y="21351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33"/>
          <p:cNvSpPr/>
          <p:nvPr/>
        </p:nvSpPr>
        <p:spPr>
          <a:xfrm>
            <a:off x="4344840" y="4797360"/>
            <a:ext cx="3747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34"/>
          <p:cNvSpPr/>
          <p:nvPr/>
        </p:nvSpPr>
        <p:spPr>
          <a:xfrm flipV="1">
            <a:off x="6227640" y="3284640"/>
            <a:ext cx="0" cy="122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traight Connector 36"/>
          <p:cNvSpPr/>
          <p:nvPr/>
        </p:nvSpPr>
        <p:spPr>
          <a:xfrm flipV="1">
            <a:off x="2916360" y="393372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A5A2-0A34-4312-A534-FA8205BF6573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rcRect l="19089" t="17347" r="17265" b="16703"/>
          <a:stretch/>
        </p:blipFill>
        <p:spPr>
          <a:xfrm>
            <a:off x="395280" y="620640"/>
            <a:ext cx="8280360" cy="4824360"/>
          </a:xfrm>
          <a:prstGeom prst="rect">
            <a:avLst/>
          </a:prstGeom>
          <a:ln w="0">
            <a:noFill/>
          </a:ln>
        </p:spPr>
      </p:pic>
      <p:sp>
        <p:nvSpPr>
          <p:cNvPr id="342" name="TextBox 5"/>
          <p:cNvSpPr/>
          <p:nvPr/>
        </p:nvSpPr>
        <p:spPr>
          <a:xfrm>
            <a:off x="468360" y="54291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ove program Use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If Then ElseI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ment to determine the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This program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equival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the one in previous slide#3 that uses </a:t>
            </a:r>
            <a:r>
              <a:rPr b="1" lang="en-US" sz="1800" spc="-1" strike="noStrike">
                <a:solidFill>
                  <a:srgbClr val="0033cc"/>
                </a:solidFill>
                <a:latin typeface="Calibri"/>
              </a:rPr>
              <a:t>Selec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2"/>
          <p:cNvSpPr/>
          <p:nvPr/>
        </p:nvSpPr>
        <p:spPr>
          <a:xfrm>
            <a:off x="3962520" y="6408720"/>
            <a:ext cx="276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F094-0E71-4D3A-8636-E6C1CD8F2B01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179280" y="2492280"/>
            <a:ext cx="3961080" cy="733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77 and press the Calculate Score button of the Select Case Statement (The code in Slide#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0"/>
          <p:cNvSpPr/>
          <p:nvPr/>
        </p:nvSpPr>
        <p:spPr>
          <a:xfrm>
            <a:off x="4859280" y="2492280"/>
            <a:ext cx="4140360" cy="733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77 and press the Calculate Score button of the If Then Else Statement (The code in Slide#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1"/>
          <p:cNvSpPr/>
          <p:nvPr/>
        </p:nvSpPr>
        <p:spPr>
          <a:xfrm>
            <a:off x="324000" y="5516640"/>
            <a:ext cx="4032000" cy="52020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Press one of the Calculate Score Button Without Entering any score in the Text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"/>
          <p:cNvPicPr/>
          <p:nvPr/>
        </p:nvPicPr>
        <p:blipFill>
          <a:blip r:embed="rId2"/>
          <a:stretch/>
        </p:blipFill>
        <p:spPr>
          <a:xfrm>
            <a:off x="5602320" y="33336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"/>
          <p:cNvPicPr/>
          <p:nvPr/>
        </p:nvPicPr>
        <p:blipFill>
          <a:blip r:embed="rId3"/>
          <a:stretch/>
        </p:blipFill>
        <p:spPr>
          <a:xfrm>
            <a:off x="684360" y="3357720"/>
            <a:ext cx="2857320" cy="21333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"/>
          <p:cNvPicPr/>
          <p:nvPr/>
        </p:nvPicPr>
        <p:blipFill>
          <a:blip r:embed="rId4"/>
          <a:stretch/>
        </p:blipFill>
        <p:spPr>
          <a:xfrm>
            <a:off x="5602320" y="3357720"/>
            <a:ext cx="2857320" cy="21333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18"/>
          <p:cNvSpPr/>
          <p:nvPr/>
        </p:nvSpPr>
        <p:spPr>
          <a:xfrm>
            <a:off x="4932360" y="5516640"/>
            <a:ext cx="4032360" cy="52020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en The user enters grade 89 and press one of the Calculate Score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60480" y="208080"/>
            <a:ext cx="8632800" cy="12189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grade in the range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00 represents a Perfect A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90–99 represents an A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80–89 represents a B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70–79 represents a C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60–69 represents a D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nd 0–59 represents an F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 assume that the user enters a grade in the range 0–100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expression following the keyword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(in this case,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grad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) is called th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ontrollin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xpressio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t is compared in order with each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f a matching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found, the code in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executes, then program control proceeds to the first statement after the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tatemen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1908000" y="6308640"/>
            <a:ext cx="6840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7604-3263-415B-B78F-CE28491AD6F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atement can specify multiple action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: The Following 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Ca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has two action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output will be as follows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pecifies the range;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Cas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80 </a:t>
            </a:r>
            <a:r>
              <a:rPr b="1" lang="en-US" sz="21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89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ans all the values [80,81,82,….,87,88,89] ranging between 80 to 89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AC13-364E-49B8-A8BA-00ACE8C1BB6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2"/>
          <a:srcRect l="19642" t="31798" r="43279" b="58862"/>
          <a:stretch/>
        </p:blipFill>
        <p:spPr>
          <a:xfrm>
            <a:off x="1476360" y="1989000"/>
            <a:ext cx="6029280" cy="809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"/>
          <p:cNvPicPr/>
          <p:nvPr/>
        </p:nvPicPr>
        <p:blipFill>
          <a:blip r:embed="rId3"/>
          <a:stretch/>
        </p:blipFill>
        <p:spPr>
          <a:xfrm>
            <a:off x="5072040" y="2857680"/>
            <a:ext cx="28576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60480" y="208080"/>
            <a:ext cx="8632800" cy="12189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match occurs between the controlling expression’s value (grade) and a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bel,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Garamond"/>
              </a:rPr>
              <a:t>optional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ecut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necessary to write 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lide#3: If the User enters the value 59, the action of the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ase El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be executed as follow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2144-A7BB-463D-9780-1F7CED065F3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3276720" y="4149720"/>
            <a:ext cx="28573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8"/>
          <p:cNvGrpSpPr/>
          <p:nvPr/>
        </p:nvGrpSpPr>
        <p:grpSpPr>
          <a:xfrm>
            <a:off x="34920" y="3622680"/>
            <a:ext cx="4897440" cy="2232000"/>
            <a:chOff x="34920" y="3622680"/>
            <a:chExt cx="4897440" cy="2232000"/>
          </a:xfrm>
        </p:grpSpPr>
        <p:pic>
          <p:nvPicPr>
            <p:cNvPr id="369" name="Picture 2" descr=""/>
            <p:cNvPicPr/>
            <p:nvPr/>
          </p:nvPicPr>
          <p:blipFill>
            <a:blip r:embed="rId1"/>
            <a:srcRect l="25178" t="36048" r="38299" b="33440"/>
            <a:stretch/>
          </p:blipFill>
          <p:spPr>
            <a:xfrm>
              <a:off x="178920" y="3622680"/>
              <a:ext cx="47534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TextBox 6"/>
            <p:cNvSpPr/>
            <p:nvPr/>
          </p:nvSpPr>
          <p:spPr>
            <a:xfrm>
              <a:off x="34920" y="5350680"/>
              <a:ext cx="439344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Title 1" descr=""/>
          <p:cNvPicPr/>
          <p:nvPr/>
        </p:nvPicPr>
        <p:blipFill>
          <a:blip r:embed="rId2"/>
          <a:stretch/>
        </p:blipFill>
        <p:spPr>
          <a:xfrm>
            <a:off x="19080" y="208080"/>
            <a:ext cx="8880480" cy="121896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match occurs and the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contain a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Lucida Console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ogram control simply continues with the first statement after the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code in slide#3 does not have the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Case El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bellow, when the user Enters the number 59 nothing will happen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Footer Placeholder 3"/>
          <p:cNvSpPr/>
          <p:nvPr/>
        </p:nvSpPr>
        <p:spPr>
          <a:xfrm>
            <a:off x="2627280" y="6381720"/>
            <a:ext cx="60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1992-2011 by Pearson Education, Inc. All Rights Reserved. -Edited By Maysoon Al-Duwa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212E-BD98-49BD-82AA-F67F74371A6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3"/>
          <a:stretch/>
        </p:blipFill>
        <p:spPr>
          <a:xfrm>
            <a:off x="5867280" y="4140360"/>
            <a:ext cx="2857680" cy="1819080"/>
          </a:xfrm>
          <a:prstGeom prst="rect">
            <a:avLst/>
          </a:prstGeom>
          <a:ln w="0">
            <a:noFill/>
          </a:ln>
        </p:spPr>
      </p:pic>
      <p:cxnSp>
        <p:nvCxnSpPr>
          <p:cNvPr id="376" name="Straight Arrow Connector 11"/>
          <p:cNvCxnSpPr/>
          <p:nvPr/>
        </p:nvCxnSpPr>
        <p:spPr>
          <a:xfrm>
            <a:off x="4932000" y="5040000"/>
            <a:ext cx="935640" cy="1080"/>
          </a:xfrm>
          <a:prstGeom prst="straightConnector1">
            <a:avLst/>
          </a:prstGeom>
          <a:ln w="63360">
            <a:solidFill>
              <a:srgbClr val="7d3c4a"/>
            </a:solidFill>
            <a:miter/>
            <a:tailEnd len="med" type="triangle" w="med"/>
          </a:ln>
        </p:spPr>
      </p:cxnSp>
      <p:cxnSp>
        <p:nvCxnSpPr>
          <p:cNvPr id="377" name="Straight Arrow Connector 13"/>
          <p:cNvCxnSpPr/>
          <p:nvPr/>
        </p:nvCxnSpPr>
        <p:spPr>
          <a:xfrm>
            <a:off x="5508720" y="5652720"/>
            <a:ext cx="1080000" cy="108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triangle" w="med"/>
          </a:ln>
        </p:spPr>
      </p:cxnSp>
      <p:sp>
        <p:nvSpPr>
          <p:cNvPr id="378" name="TextBox 15"/>
          <p:cNvSpPr/>
          <p:nvPr/>
        </p:nvSpPr>
        <p:spPr>
          <a:xfrm>
            <a:off x="4356000" y="5286240"/>
            <a:ext cx="1152720" cy="824040"/>
          </a:xfrm>
          <a:prstGeom prst="rect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1f28"/>
                </a:solidFill>
                <a:latin typeface="Lucida Sans Unicode"/>
              </a:rPr>
              <a:t>Nothing is display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04:33:12Z</dcterms:created>
  <dc:creator>Maysoon</dc:creator>
  <dc:description/>
  <dc:language>en-US</dc:language>
  <cp:lastModifiedBy>GK</cp:lastModifiedBy>
  <dcterms:modified xsi:type="dcterms:W3CDTF">2014-10-11T19:38:44Z</dcterms:modified>
  <cp:revision>5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130AFAA5D399E489E1819B440698DE2</vt:lpwstr>
  </property>
</Properties>
</file>