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4F4-050B-4334-8940-47DAC1F7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E818-BDC0-4057-990A-82BD18F5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2D8-A256-4DE9-ADD3-5204AD16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C79-1DFC-4806-9C96-971C0BAE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99A7-86BC-4635-8B82-3E622C37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BC65-C61C-4A9F-8919-AB80BAFB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B017-D81E-4A39-8275-2376639D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B9AC-92CE-4CE3-B51E-BA0129F0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C17F-60E2-419C-ABBE-ACA5538D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A00B-8463-4C68-8886-E5B5E259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C36E-2149-4D08-BE10-CDBC0C20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5FA-3126-4E68-A4EB-D2A95203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2A60-72A0-49F1-87C0-93E61AA2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AE2D-7BE4-4E7A-BE9B-1BCE3537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C5DB-491E-4D99-B3C6-556AEE00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95A7-B219-4FE3-AD3A-63874A0D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6493-D22D-4A3B-98E8-BF40D12C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D630-C075-4A31-9371-BF563F16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269-401E-40E0-85D9-CEE68433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204-145F-43A6-AC60-F60CBD9C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7CE0-6E8B-4B9A-BF18-00A45258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288-6C71-43E5-A9CA-A9E63887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5D23-312C-418C-8723-DCBA17C4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50C-EF29-45A1-B10F-950B7AFC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868B-8FDF-45D2-845B-9B621758B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E124-521A-404C-A092-80479DEF9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90512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911240" y="3968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>
            <a:off x="137160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3488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371600" y="38088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Advantages of Writ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371600" y="1371600"/>
            <a:ext cx="8763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ecreas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the main program’s length and reduces the chanc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k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rro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9217080" y="63435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371600" y="2362320"/>
            <a:ext cx="87631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. Makes i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asi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to define programming tasks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programmers. Each programmer can be responsible for a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et of fun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371600" y="3657600"/>
            <a:ext cx="876312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. Allow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procedural abstr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; a programming techniqu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which a main function consists of a sequence of function call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ach function is implemented separately. This helps to focus o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 at a time instead of writing the complete program all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o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371600" y="57150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. Allow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de reu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of function progr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>
            <a:off x="1295280" y="63244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9140760" y="634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295280" y="3808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Code R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295280" y="13716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using program fragments that have already been written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tested whenever pos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295280" y="23623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t is a way to help in writing error free c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219320" y="380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User-defined Fun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219320" y="106668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Function 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219320" y="152388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 way to declare a fun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219320" y="1981080"/>
            <a:ext cx="8762760" cy="13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This tells the compil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4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The name of th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4000"/>
              </a:lnSpc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The data type of received data(if there i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The type &amp; name of sent data (if there is). Also calle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parameters of the fun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1219320" y="411480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Synt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1219320" y="457200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ftype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fnam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1219320" y="510552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219320" y="556272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void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drawcirc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Group 13"/>
          <p:cNvGrpSpPr/>
          <p:nvPr/>
        </p:nvGrpSpPr>
        <p:grpSpPr>
          <a:xfrm>
            <a:off x="4114440" y="3886200"/>
            <a:ext cx="5451840" cy="1981080"/>
            <a:chOff x="4114440" y="3886200"/>
            <a:chExt cx="5451840" cy="1981080"/>
          </a:xfrm>
        </p:grpSpPr>
        <p:sp>
          <p:nvSpPr>
            <p:cNvPr id="229" name="Line 14"/>
            <p:cNvSpPr/>
            <p:nvPr/>
          </p:nvSpPr>
          <p:spPr>
            <a:xfrm flipH="1">
              <a:off x="4114440" y="5105520"/>
              <a:ext cx="533160" cy="76176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15"/>
            <p:cNvSpPr/>
            <p:nvPr/>
          </p:nvSpPr>
          <p:spPr>
            <a:xfrm>
              <a:off x="4647960" y="3886200"/>
              <a:ext cx="4918320" cy="155412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defines a function called drawcirc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with not sent nor received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(when the program doesn’t send 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function and doesn’t receive from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function, the function is called a voi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func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2952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User-defined Fun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1295280" y="10666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Function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1295280" y="1600200"/>
            <a:ext cx="8763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 function call transfers control from the main program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 or sub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1295280" y="25146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Synt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1295280" y="29718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name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1295280" y="350532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295280" y="396252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rawcirc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12"/>
          <p:cNvGrpSpPr/>
          <p:nvPr/>
        </p:nvGrpSpPr>
        <p:grpSpPr>
          <a:xfrm>
            <a:off x="3200400" y="3809880"/>
            <a:ext cx="5832360" cy="457200"/>
            <a:chOff x="3200400" y="3809880"/>
            <a:chExt cx="5832360" cy="457200"/>
          </a:xfrm>
        </p:grpSpPr>
        <p:sp>
          <p:nvSpPr>
            <p:cNvPr id="242" name="Text Box 13"/>
            <p:cNvSpPr/>
            <p:nvPr/>
          </p:nvSpPr>
          <p:spPr>
            <a:xfrm>
              <a:off x="4114800" y="3809880"/>
              <a:ext cx="4917960" cy="33732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calls function drawcircle and causes it to begin 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4"/>
            <p:cNvSpPr/>
            <p:nvPr/>
          </p:nvSpPr>
          <p:spPr>
            <a:xfrm flipH="1">
              <a:off x="3200400" y="4267080"/>
              <a:ext cx="9144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2952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User-defined Fun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295280" y="10666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Function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295280" y="1600200"/>
            <a:ext cx="8763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efines the function operation by writing the code for th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 a similar way to writing the code for the main 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295280" y="24382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Synt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1295280" y="2971800"/>
            <a:ext cx="87631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type fname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local decl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xecutable statements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295280" y="419112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1295280" y="4648320"/>
            <a:ext cx="876312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circle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cout &lt;&lt; “ *** ”&lt;&lt;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*      *”&lt;&lt;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 *** ” endl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12"/>
          <p:cNvGrpSpPr/>
          <p:nvPr/>
        </p:nvGrpSpPr>
        <p:grpSpPr>
          <a:xfrm>
            <a:off x="3733920" y="3886200"/>
            <a:ext cx="5908680" cy="2251080"/>
            <a:chOff x="3733920" y="3886200"/>
            <a:chExt cx="5908680" cy="2251080"/>
          </a:xfrm>
        </p:grpSpPr>
        <p:sp>
          <p:nvSpPr>
            <p:cNvPr id="255" name="Line 13"/>
            <p:cNvSpPr/>
            <p:nvPr/>
          </p:nvSpPr>
          <p:spPr>
            <a:xfrm flipH="1">
              <a:off x="3733920" y="4952880"/>
              <a:ext cx="954000" cy="11844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14"/>
            <p:cNvSpPr/>
            <p:nvPr/>
          </p:nvSpPr>
          <p:spPr>
            <a:xfrm>
              <a:off x="4689360" y="3886200"/>
              <a:ext cx="4953240" cy="155412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does not contain the return 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because this function will not send 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data to the program “main functio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(i.e. a function should contai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 </a:t>
              </a: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return statement only if it is going to send data to the progra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2952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User-define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371600" y="1523880"/>
            <a:ext cx="4038480" cy="29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void drawcircl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drawcirc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void drawcircle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248520" y="160020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unction 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523880" y="9907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i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6248520" y="32767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Function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6248520" y="472428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Function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3"/>
          <p:cNvSpPr/>
          <p:nvPr/>
        </p:nvSpPr>
        <p:spPr>
          <a:xfrm flipH="1">
            <a:off x="4800600" y="1828800"/>
            <a:ext cx="1447920" cy="0"/>
          </a:xfrm>
          <a:prstGeom prst="line">
            <a:avLst/>
          </a:prstGeom>
          <a:ln w="28440">
            <a:solidFill>
              <a:srgbClr val="5f5f5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4"/>
          <p:cNvSpPr/>
          <p:nvPr/>
        </p:nvSpPr>
        <p:spPr>
          <a:xfrm flipH="1">
            <a:off x="3505320" y="3505320"/>
            <a:ext cx="27432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5"/>
          <p:cNvSpPr/>
          <p:nvPr/>
        </p:nvSpPr>
        <p:spPr>
          <a:xfrm flipH="1">
            <a:off x="4800600" y="4952880"/>
            <a:ext cx="1447920" cy="0"/>
          </a:xfrm>
          <a:prstGeom prst="line">
            <a:avLst/>
          </a:prstGeom>
          <a:ln w="28440">
            <a:solidFill>
              <a:srgbClr val="9966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4800600" y="4419720"/>
            <a:ext cx="0" cy="137160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4724280" y="4419720"/>
            <a:ext cx="7632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4724280" y="5791320"/>
            <a:ext cx="7632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219320" y="380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User-define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1295280" y="1523880"/>
            <a:ext cx="4038840" cy="29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void drawcircle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void drawcircle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drawcirc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6172200" y="16002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unction 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447920" y="99072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i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6248520" y="380988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Function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6095880" y="25146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Function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1"/>
          <p:cNvSpPr/>
          <p:nvPr/>
        </p:nvSpPr>
        <p:spPr>
          <a:xfrm flipH="1">
            <a:off x="4724280" y="1828800"/>
            <a:ext cx="1447920" cy="0"/>
          </a:xfrm>
          <a:prstGeom prst="line">
            <a:avLst/>
          </a:prstGeom>
          <a:ln w="28440">
            <a:solidFill>
              <a:srgbClr val="5f5f5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2"/>
          <p:cNvSpPr/>
          <p:nvPr/>
        </p:nvSpPr>
        <p:spPr>
          <a:xfrm flipH="1">
            <a:off x="3505320" y="3962520"/>
            <a:ext cx="27432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3"/>
          <p:cNvSpPr/>
          <p:nvPr/>
        </p:nvSpPr>
        <p:spPr>
          <a:xfrm flipH="1">
            <a:off x="4647960" y="2743200"/>
            <a:ext cx="1447560" cy="0"/>
          </a:xfrm>
          <a:prstGeom prst="line">
            <a:avLst/>
          </a:prstGeom>
          <a:ln w="28440">
            <a:solidFill>
              <a:srgbClr val="9966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4"/>
          <p:cNvSpPr/>
          <p:nvPr/>
        </p:nvSpPr>
        <p:spPr>
          <a:xfrm>
            <a:off x="4648320" y="2209680"/>
            <a:ext cx="0" cy="137160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5"/>
          <p:cNvSpPr/>
          <p:nvPr/>
        </p:nvSpPr>
        <p:spPr>
          <a:xfrm>
            <a:off x="4572000" y="2209680"/>
            <a:ext cx="7632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4572000" y="3581280"/>
            <a:ext cx="7632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1371600" y="1828800"/>
            <a:ext cx="723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2"/>
          <p:cNvSpPr/>
          <p:nvPr/>
        </p:nvSpPr>
        <p:spPr>
          <a:xfrm>
            <a:off x="63828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60120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2952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User-define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819520" y="1600200"/>
            <a:ext cx="4038480" cy="277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void function1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void function2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function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void function1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void function2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7"/>
          <p:cNvGrpSpPr/>
          <p:nvPr/>
        </p:nvGrpSpPr>
        <p:grpSpPr>
          <a:xfrm>
            <a:off x="3733920" y="2743200"/>
            <a:ext cx="4723920" cy="1143000"/>
            <a:chOff x="3733920" y="2743200"/>
            <a:chExt cx="4723920" cy="1143000"/>
          </a:xfrm>
        </p:grpSpPr>
        <p:sp>
          <p:nvSpPr>
            <p:cNvPr id="295" name="Line 8"/>
            <p:cNvSpPr/>
            <p:nvPr/>
          </p:nvSpPr>
          <p:spPr>
            <a:xfrm>
              <a:off x="3733920" y="2743200"/>
              <a:ext cx="3200040" cy="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>
              <a:off x="6933960" y="2743200"/>
              <a:ext cx="0" cy="114300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 flipH="1">
              <a:off x="5029200" y="3886200"/>
              <a:ext cx="1904400" cy="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11"/>
            <p:cNvSpPr/>
            <p:nvPr/>
          </p:nvSpPr>
          <p:spPr>
            <a:xfrm>
              <a:off x="7010280" y="2743200"/>
              <a:ext cx="144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transfer of control to functio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Group 12"/>
          <p:cNvGrpSpPr/>
          <p:nvPr/>
        </p:nvGrpSpPr>
        <p:grpSpPr>
          <a:xfrm>
            <a:off x="762120" y="2743200"/>
            <a:ext cx="2133000" cy="1066320"/>
            <a:chOff x="762120" y="2743200"/>
            <a:chExt cx="2133000" cy="1066320"/>
          </a:xfrm>
        </p:grpSpPr>
        <p:sp>
          <p:nvSpPr>
            <p:cNvPr id="300" name="Line 13"/>
            <p:cNvSpPr/>
            <p:nvPr/>
          </p:nvSpPr>
          <p:spPr>
            <a:xfrm flipH="1">
              <a:off x="2016720" y="3809520"/>
              <a:ext cx="815760" cy="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 flipV="1">
              <a:off x="2016720" y="2796480"/>
              <a:ext cx="0" cy="101304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5"/>
            <p:cNvSpPr/>
            <p:nvPr/>
          </p:nvSpPr>
          <p:spPr>
            <a:xfrm>
              <a:off x="2016720" y="2796480"/>
              <a:ext cx="878400" cy="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6"/>
            <p:cNvSpPr/>
            <p:nvPr/>
          </p:nvSpPr>
          <p:spPr>
            <a:xfrm>
              <a:off x="762120" y="2743200"/>
              <a:ext cx="1191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transfer of control back to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7"/>
          <p:cNvGrpSpPr/>
          <p:nvPr/>
        </p:nvGrpSpPr>
        <p:grpSpPr>
          <a:xfrm>
            <a:off x="3886200" y="3048120"/>
            <a:ext cx="4587840" cy="1814400"/>
            <a:chOff x="3886200" y="3048120"/>
            <a:chExt cx="4587840" cy="1814400"/>
          </a:xfrm>
        </p:grpSpPr>
        <p:sp>
          <p:nvSpPr>
            <p:cNvPr id="305" name="Line 18"/>
            <p:cNvSpPr/>
            <p:nvPr/>
          </p:nvSpPr>
          <p:spPr>
            <a:xfrm>
              <a:off x="3886200" y="3048120"/>
              <a:ext cx="289548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9"/>
            <p:cNvSpPr/>
            <p:nvPr/>
          </p:nvSpPr>
          <p:spPr>
            <a:xfrm>
              <a:off x="6781680" y="3048120"/>
              <a:ext cx="0" cy="1447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20"/>
            <p:cNvSpPr/>
            <p:nvPr/>
          </p:nvSpPr>
          <p:spPr>
            <a:xfrm flipH="1">
              <a:off x="5181120" y="4495680"/>
              <a:ext cx="16002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21"/>
            <p:cNvSpPr/>
            <p:nvPr/>
          </p:nvSpPr>
          <p:spPr>
            <a:xfrm>
              <a:off x="6934320" y="4038480"/>
              <a:ext cx="1539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Times New Roman (Arabic)"/>
                </a:rPr>
                <a:t>transfer of control to functio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22"/>
          <p:cNvGrpSpPr/>
          <p:nvPr/>
        </p:nvGrpSpPr>
        <p:grpSpPr>
          <a:xfrm>
            <a:off x="919440" y="3048120"/>
            <a:ext cx="2737440" cy="1488240"/>
            <a:chOff x="919440" y="3048120"/>
            <a:chExt cx="2737440" cy="1488240"/>
          </a:xfrm>
        </p:grpSpPr>
        <p:sp>
          <p:nvSpPr>
            <p:cNvPr id="310" name="Line 23"/>
            <p:cNvSpPr/>
            <p:nvPr/>
          </p:nvSpPr>
          <p:spPr>
            <a:xfrm flipH="1">
              <a:off x="2773800" y="4127400"/>
              <a:ext cx="80892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 flipV="1">
              <a:off x="2774160" y="3048120"/>
              <a:ext cx="0" cy="1079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2774160" y="3048120"/>
              <a:ext cx="88272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26"/>
            <p:cNvSpPr/>
            <p:nvPr/>
          </p:nvSpPr>
          <p:spPr>
            <a:xfrm>
              <a:off x="919440" y="3955680"/>
              <a:ext cx="2137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Times New Roman (Arabic)"/>
                </a:rPr>
                <a:t>transfer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Times New Roman (Arabic)"/>
                </a:rPr>
                <a:t>control back to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Text Box 27"/>
          <p:cNvSpPr/>
          <p:nvPr/>
        </p:nvSpPr>
        <p:spPr>
          <a:xfrm>
            <a:off x="1371600" y="10666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Order of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6397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60300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295280" y="3808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- Drawing a Stick 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4299120" y="1368360"/>
            <a:ext cx="8532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*     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* 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/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/   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/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 (Arabic)"/>
              </a:rPr>
              <a:t>____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/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/   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/       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Object 7"/>
          <p:cNvGraphicFramePr/>
          <p:nvPr/>
        </p:nvGraphicFramePr>
        <p:xfrm>
          <a:off x="533520" y="3662280"/>
          <a:ext cx="862164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62280"/>
                    <a:ext cx="86216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Rectangle 8"/>
          <p:cNvSpPr/>
          <p:nvPr/>
        </p:nvSpPr>
        <p:spPr>
          <a:xfrm>
            <a:off x="4068720" y="1219320"/>
            <a:ext cx="152388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2"/>
          <p:cNvSpPr/>
          <p:nvPr/>
        </p:nvSpPr>
        <p:spPr>
          <a:xfrm>
            <a:off x="12193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219320" y="38088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- Drawing a Stick 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219320" y="990720"/>
            <a:ext cx="87627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draws a stick figu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_circle(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_intersect(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_base(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_triangle(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in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raw_circle(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cal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raw_triangle(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call */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raw_intersect(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cal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(0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_circle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defini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   *  “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*     *“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 *  *  “&lt;&lt;endl;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9144000" y="6130800"/>
            <a:ext cx="3808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137160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333800" y="63435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524880" y="63435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371600" y="380880"/>
            <a:ext cx="838188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371600" y="1295280"/>
            <a:ext cx="876312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 function is a subprogram that performs a specific ta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371600" y="1905120"/>
            <a:ext cx="876312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 you kn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Hi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num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Line 2"/>
          <p:cNvSpPr/>
          <p:nvPr/>
        </p:nvSpPr>
        <p:spPr>
          <a:xfrm>
            <a:off x="1295280" y="63244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1295280" y="3808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- Drawing a Stick Figure -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295280" y="990720"/>
            <a:ext cx="8763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draws a stick figure - continue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_intersect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defini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  /\\ “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 /  \\ “ &lt;&lt; endl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/    \\“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_base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defini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------“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_triangle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defini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raw_intersec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raw_bas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Line 2"/>
          <p:cNvSpPr/>
          <p:nvPr/>
        </p:nvSpPr>
        <p:spPr>
          <a:xfrm>
            <a:off x="12589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22220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94122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58920" y="38088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Us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258920" y="13716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. Declare a function before the main 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258920" y="19810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. Call the function inside the main 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258920" y="259092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. Define a function after the main 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Line 2"/>
          <p:cNvSpPr/>
          <p:nvPr/>
        </p:nvSpPr>
        <p:spPr>
          <a:xfrm>
            <a:off x="10666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0299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92203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0666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Review of Synta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066680" y="11430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Function Prototype &amp;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1066680" y="17524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ftype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fname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(data type name, 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1066680" y="33526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Function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1066680" y="38862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fname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(data type name, 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10"/>
          <p:cNvGrpSpPr/>
          <p:nvPr/>
        </p:nvGrpSpPr>
        <p:grpSpPr>
          <a:xfrm>
            <a:off x="2446920" y="1219320"/>
            <a:ext cx="7002000" cy="1500840"/>
            <a:chOff x="2446920" y="1219320"/>
            <a:chExt cx="7002000" cy="1500840"/>
          </a:xfrm>
        </p:grpSpPr>
        <p:sp>
          <p:nvSpPr>
            <p:cNvPr id="347" name="Text Box 11"/>
            <p:cNvSpPr/>
            <p:nvPr/>
          </p:nvSpPr>
          <p:spPr>
            <a:xfrm>
              <a:off x="5873760" y="1219320"/>
              <a:ext cx="3575160" cy="10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an identifier that represents a corresponding actual argument in a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 (Arabic)"/>
                </a:rPr>
                <a:t>function defini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Ex. int square(int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12"/>
            <p:cNvSpPr/>
            <p:nvPr/>
          </p:nvSpPr>
          <p:spPr>
            <a:xfrm flipV="1" rot="5395800">
              <a:off x="3848040" y="1106280"/>
              <a:ext cx="76320" cy="22860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95040 h 2286000"/>
                <a:gd name="textAreaBottom" fmla="*/ 21909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13"/>
            <p:cNvSpPr/>
            <p:nvPr/>
          </p:nvSpPr>
          <p:spPr>
            <a:xfrm>
              <a:off x="2446920" y="2382840"/>
              <a:ext cx="200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Formal Parameter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4"/>
            <p:cNvSpPr/>
            <p:nvPr/>
          </p:nvSpPr>
          <p:spPr>
            <a:xfrm flipH="1">
              <a:off x="5410080" y="25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15"/>
          <p:cNvGrpSpPr/>
          <p:nvPr/>
        </p:nvGrpSpPr>
        <p:grpSpPr>
          <a:xfrm>
            <a:off x="1834200" y="3809880"/>
            <a:ext cx="7601760" cy="1044000"/>
            <a:chOff x="1834200" y="3809880"/>
            <a:chExt cx="7601760" cy="1044000"/>
          </a:xfrm>
        </p:grpSpPr>
        <p:sp>
          <p:nvSpPr>
            <p:cNvPr id="352" name="Text Box 16"/>
            <p:cNvSpPr/>
            <p:nvPr/>
          </p:nvSpPr>
          <p:spPr>
            <a:xfrm>
              <a:off x="5105520" y="3809880"/>
              <a:ext cx="43304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An expression used inside the parentheses of a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 (Arabic)"/>
                </a:rPr>
                <a:t>function c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Ex. square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17"/>
            <p:cNvSpPr/>
            <p:nvPr/>
          </p:nvSpPr>
          <p:spPr>
            <a:xfrm>
              <a:off x="1834200" y="4516560"/>
              <a:ext cx="196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Actual Argument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18"/>
            <p:cNvSpPr/>
            <p:nvPr/>
          </p:nvSpPr>
          <p:spPr>
            <a:xfrm flipV="1" rot="5395800">
              <a:off x="3128760" y="3240000"/>
              <a:ext cx="76320" cy="22860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95040 h 2286000"/>
                <a:gd name="textAreaBottom" fmla="*/ 21909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9"/>
            <p:cNvSpPr/>
            <p:nvPr/>
          </p:nvSpPr>
          <p:spPr>
            <a:xfrm flipH="1">
              <a:off x="4723920" y="4648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1219320" y="380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Rules for Argument Li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219320" y="1371600"/>
            <a:ext cx="876276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.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numb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of actual arguments used in a function cal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 (Arabic)"/>
              </a:rPr>
              <a:t>m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 (Arabic)"/>
              </a:rPr>
              <a:t>the s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as the number of the formal parameters listed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 prototype and defin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1219320" y="2743200"/>
            <a:ext cx="8762760" cy="13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.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Ord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of the arguments in the lists determines correspon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 (Arabic)"/>
              </a:rPr>
              <a:t>must be the s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in arguments and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The first actual argument corresponds to the first formal paramet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the second actual argument corresponds to the second f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parameter and so 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1219320" y="4952880"/>
            <a:ext cx="8762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.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ata typ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of the actual argument and the formal par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 (Arabic)"/>
              </a:rPr>
              <a:t>must mat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12952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295280" y="1143000"/>
            <a:ext cx="8763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rototype&amp; definition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doubl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squared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int x, double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95280" y="350532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all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y =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 squared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x,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Group 8"/>
          <p:cNvGrpSpPr/>
          <p:nvPr/>
        </p:nvGrpSpPr>
        <p:grpSpPr>
          <a:xfrm>
            <a:off x="1302840" y="1981080"/>
            <a:ext cx="6152760" cy="3344760"/>
            <a:chOff x="1302840" y="1981080"/>
            <a:chExt cx="6152760" cy="3344760"/>
          </a:xfrm>
        </p:grpSpPr>
        <p:sp>
          <p:nvSpPr>
            <p:cNvPr id="370" name="Text Box 9"/>
            <p:cNvSpPr/>
            <p:nvPr/>
          </p:nvSpPr>
          <p:spPr>
            <a:xfrm>
              <a:off x="1302840" y="4745160"/>
              <a:ext cx="209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What is returned fro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the function (i.e. resul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10"/>
            <p:cNvSpPr/>
            <p:nvPr/>
          </p:nvSpPr>
          <p:spPr>
            <a:xfrm>
              <a:off x="1302840" y="2459160"/>
              <a:ext cx="209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What is returned fro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the function (i.e. resul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11"/>
            <p:cNvSpPr/>
            <p:nvPr/>
          </p:nvSpPr>
          <p:spPr>
            <a:xfrm>
              <a:off x="5034600" y="4745160"/>
              <a:ext cx="24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What is sent to the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2"/>
            <p:cNvSpPr/>
            <p:nvPr/>
          </p:nvSpPr>
          <p:spPr>
            <a:xfrm>
              <a:off x="5034600" y="2459160"/>
              <a:ext cx="24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What is sent to the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3"/>
            <p:cNvSpPr/>
            <p:nvPr/>
          </p:nvSpPr>
          <p:spPr>
            <a:xfrm>
              <a:off x="1447920" y="1981080"/>
              <a:ext cx="0" cy="3812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4"/>
            <p:cNvSpPr/>
            <p:nvPr/>
          </p:nvSpPr>
          <p:spPr>
            <a:xfrm>
              <a:off x="1447920" y="4303800"/>
              <a:ext cx="0" cy="3808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15"/>
            <p:cNvSpPr/>
            <p:nvPr/>
          </p:nvSpPr>
          <p:spPr>
            <a:xfrm>
              <a:off x="3505320" y="4267080"/>
              <a:ext cx="1752480" cy="3812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6"/>
            <p:cNvSpPr/>
            <p:nvPr/>
          </p:nvSpPr>
          <p:spPr>
            <a:xfrm>
              <a:off x="5257800" y="1981080"/>
              <a:ext cx="1752480" cy="3812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1219320" y="380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Types of Fun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1219320" y="1295280"/>
            <a:ext cx="876276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to the function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eceiv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from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totype &amp; definition: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return_typ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function_nam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(parameter l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all: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variable_name =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 function_name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argument l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1219320" y="3200400"/>
            <a:ext cx="876276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to the function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oesn’t recei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he fun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totype &amp; definition: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void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function_nam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(parameter l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all: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 function_name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argument l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Line 2"/>
          <p:cNvSpPr/>
          <p:nvPr/>
        </p:nvSpPr>
        <p:spPr>
          <a:xfrm>
            <a:off x="114300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929628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114300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10628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1143000" y="380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Types of Functions (Contin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1143000" y="1295280"/>
            <a:ext cx="876312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oesn’t 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to the function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eceiv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ta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he fun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totype &amp; definition: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return_typ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function_nam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all: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variable_name =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 function_name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1143000" y="3200400"/>
            <a:ext cx="876312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oesn’t 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to the function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oesn’t rece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ta from the fun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totype &amp; definition: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void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function_nam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all: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function_name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Line 2"/>
          <p:cNvSpPr/>
          <p:nvPr/>
        </p:nvSpPr>
        <p:spPr>
          <a:xfrm>
            <a:off x="1030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99360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9183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030320" y="380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s of Function Prototype &amp;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030320" y="12952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float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squared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int numb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7"/>
          <p:cNvGrpSpPr/>
          <p:nvPr/>
        </p:nvGrpSpPr>
        <p:grpSpPr>
          <a:xfrm>
            <a:off x="1030320" y="1752480"/>
            <a:ext cx="3505320" cy="961920"/>
            <a:chOff x="1030320" y="1752480"/>
            <a:chExt cx="3505320" cy="961920"/>
          </a:xfrm>
        </p:grpSpPr>
        <p:sp>
          <p:nvSpPr>
            <p:cNvPr id="397" name="Text Box 8"/>
            <p:cNvSpPr/>
            <p:nvPr/>
          </p:nvSpPr>
          <p:spPr>
            <a:xfrm>
              <a:off x="1030320" y="2133720"/>
              <a:ext cx="3505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Returns back a float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to the main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9"/>
            <p:cNvSpPr/>
            <p:nvPr/>
          </p:nvSpPr>
          <p:spPr>
            <a:xfrm>
              <a:off x="1411560" y="1752480"/>
              <a:ext cx="0" cy="3812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10"/>
          <p:cNvGrpSpPr/>
          <p:nvPr/>
        </p:nvGrpSpPr>
        <p:grpSpPr>
          <a:xfrm>
            <a:off x="4535640" y="1752480"/>
            <a:ext cx="3449520" cy="1058760"/>
            <a:chOff x="4535640" y="1752480"/>
            <a:chExt cx="3449520" cy="1058760"/>
          </a:xfrm>
        </p:grpSpPr>
        <p:sp>
          <p:nvSpPr>
            <p:cNvPr id="400" name="Text Box 11"/>
            <p:cNvSpPr/>
            <p:nvPr/>
          </p:nvSpPr>
          <p:spPr>
            <a:xfrm>
              <a:off x="4771800" y="2230560"/>
              <a:ext cx="321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An integer type called number is s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to the function squa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2"/>
            <p:cNvSpPr/>
            <p:nvPr/>
          </p:nvSpPr>
          <p:spPr>
            <a:xfrm>
              <a:off x="4535640" y="1752480"/>
              <a:ext cx="457200" cy="3812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Text Box 13"/>
          <p:cNvSpPr/>
          <p:nvPr/>
        </p:nvSpPr>
        <p:spPr>
          <a:xfrm>
            <a:off x="1030320" y="327672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Void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print_report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int report_numb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1030320" y="3733920"/>
            <a:ext cx="3505320" cy="961560"/>
            <a:chOff x="1030320" y="3733920"/>
            <a:chExt cx="3505320" cy="961560"/>
          </a:xfrm>
        </p:grpSpPr>
        <p:sp>
          <p:nvSpPr>
            <p:cNvPr id="404" name="Text Box 15"/>
            <p:cNvSpPr/>
            <p:nvPr/>
          </p:nvSpPr>
          <p:spPr>
            <a:xfrm>
              <a:off x="1030320" y="4114800"/>
              <a:ext cx="3505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Returns not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to the main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6"/>
            <p:cNvSpPr/>
            <p:nvPr/>
          </p:nvSpPr>
          <p:spPr>
            <a:xfrm>
              <a:off x="1411560" y="3733920"/>
              <a:ext cx="0" cy="3808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4535640" y="3733920"/>
            <a:ext cx="3522960" cy="1058400"/>
            <a:chOff x="4535640" y="3733920"/>
            <a:chExt cx="3522960" cy="1058400"/>
          </a:xfrm>
        </p:grpSpPr>
        <p:sp>
          <p:nvSpPr>
            <p:cNvPr id="407" name="Text Box 18"/>
            <p:cNvSpPr/>
            <p:nvPr/>
          </p:nvSpPr>
          <p:spPr>
            <a:xfrm>
              <a:off x="4771800" y="4211640"/>
              <a:ext cx="328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An integer type called report_numb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is sent to the function print_re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9"/>
            <p:cNvSpPr/>
            <p:nvPr/>
          </p:nvSpPr>
          <p:spPr>
            <a:xfrm>
              <a:off x="4535640" y="3733920"/>
              <a:ext cx="457200" cy="380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Line 2"/>
          <p:cNvSpPr/>
          <p:nvPr/>
        </p:nvSpPr>
        <p:spPr>
          <a:xfrm>
            <a:off x="10666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10299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92203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0666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s of Function Prototype &amp;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1066680" y="12952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char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get_menu_choice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Group 7"/>
          <p:cNvGrpSpPr/>
          <p:nvPr/>
        </p:nvGrpSpPr>
        <p:grpSpPr>
          <a:xfrm>
            <a:off x="1066680" y="1752480"/>
            <a:ext cx="3505320" cy="961920"/>
            <a:chOff x="1066680" y="1752480"/>
            <a:chExt cx="3505320" cy="961920"/>
          </a:xfrm>
        </p:grpSpPr>
        <p:sp>
          <p:nvSpPr>
            <p:cNvPr id="415" name="Text Box 8"/>
            <p:cNvSpPr/>
            <p:nvPr/>
          </p:nvSpPr>
          <p:spPr>
            <a:xfrm>
              <a:off x="1066680" y="2133720"/>
              <a:ext cx="3505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Returns back a character type to the main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9"/>
            <p:cNvSpPr/>
            <p:nvPr/>
          </p:nvSpPr>
          <p:spPr>
            <a:xfrm>
              <a:off x="1447920" y="1752480"/>
              <a:ext cx="0" cy="3812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10"/>
          <p:cNvGrpSpPr/>
          <p:nvPr/>
        </p:nvGrpSpPr>
        <p:grpSpPr>
          <a:xfrm>
            <a:off x="4572000" y="1752480"/>
            <a:ext cx="2881440" cy="1058760"/>
            <a:chOff x="4572000" y="1752480"/>
            <a:chExt cx="2881440" cy="1058760"/>
          </a:xfrm>
        </p:grpSpPr>
        <p:sp>
          <p:nvSpPr>
            <p:cNvPr id="418" name="Text Box 11"/>
            <p:cNvSpPr/>
            <p:nvPr/>
          </p:nvSpPr>
          <p:spPr>
            <a:xfrm>
              <a:off x="4805280" y="2230560"/>
              <a:ext cx="264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Nothing is sent to the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get_menu_cho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12"/>
            <p:cNvSpPr/>
            <p:nvPr/>
          </p:nvSpPr>
          <p:spPr>
            <a:xfrm>
              <a:off x="4572000" y="1752480"/>
              <a:ext cx="457200" cy="3812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Text Box 13"/>
          <p:cNvSpPr/>
          <p:nvPr/>
        </p:nvSpPr>
        <p:spPr>
          <a:xfrm>
            <a:off x="1066680" y="327672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Void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print_comment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1066680" y="3733920"/>
            <a:ext cx="3505320" cy="961560"/>
            <a:chOff x="1066680" y="3733920"/>
            <a:chExt cx="3505320" cy="961560"/>
          </a:xfrm>
        </p:grpSpPr>
        <p:sp>
          <p:nvSpPr>
            <p:cNvPr id="422" name="Text Box 15"/>
            <p:cNvSpPr/>
            <p:nvPr/>
          </p:nvSpPr>
          <p:spPr>
            <a:xfrm>
              <a:off x="1066680" y="4114800"/>
              <a:ext cx="3505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Returns not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to the main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16"/>
            <p:cNvSpPr/>
            <p:nvPr/>
          </p:nvSpPr>
          <p:spPr>
            <a:xfrm>
              <a:off x="1447920" y="3733920"/>
              <a:ext cx="0" cy="3808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17"/>
          <p:cNvGrpSpPr/>
          <p:nvPr/>
        </p:nvGrpSpPr>
        <p:grpSpPr>
          <a:xfrm>
            <a:off x="4572000" y="3733920"/>
            <a:ext cx="2931840" cy="1058400"/>
            <a:chOff x="4572000" y="3733920"/>
            <a:chExt cx="2931840" cy="1058400"/>
          </a:xfrm>
        </p:grpSpPr>
        <p:sp>
          <p:nvSpPr>
            <p:cNvPr id="425" name="Text Box 18"/>
            <p:cNvSpPr/>
            <p:nvPr/>
          </p:nvSpPr>
          <p:spPr>
            <a:xfrm>
              <a:off x="4805640" y="4211640"/>
              <a:ext cx="269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Nothing is sent to the func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print_com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4572000" y="3733920"/>
              <a:ext cx="457200" cy="380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Line 2"/>
          <p:cNvSpPr/>
          <p:nvPr/>
        </p:nvSpPr>
        <p:spPr>
          <a:xfrm>
            <a:off x="12193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219320" y="38088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ogram Examp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1219320" y="1371600"/>
            <a:ext cx="876276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computes half of the value of x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loat half_of(float k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y=half_of(x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calling func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loat half_of(float k)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defini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k = k /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return(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Group 6"/>
          <p:cNvGrpSpPr/>
          <p:nvPr/>
        </p:nvGrpSpPr>
        <p:grpSpPr>
          <a:xfrm>
            <a:off x="2971800" y="3457440"/>
            <a:ext cx="761760" cy="990720"/>
            <a:chOff x="2971800" y="3457440"/>
            <a:chExt cx="761760" cy="990720"/>
          </a:xfrm>
        </p:grpSpPr>
        <p:sp>
          <p:nvSpPr>
            <p:cNvPr id="432" name="Line 7"/>
            <p:cNvSpPr/>
            <p:nvPr/>
          </p:nvSpPr>
          <p:spPr>
            <a:xfrm>
              <a:off x="2971800" y="3457440"/>
              <a:ext cx="761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>
              <a:off x="3733560" y="3457440"/>
              <a:ext cx="0" cy="990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H="1">
              <a:off x="3504600" y="4448160"/>
              <a:ext cx="2286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10"/>
          <p:cNvGrpSpPr/>
          <p:nvPr/>
        </p:nvGrpSpPr>
        <p:grpSpPr>
          <a:xfrm>
            <a:off x="1066320" y="3762360"/>
            <a:ext cx="228960" cy="1752480"/>
            <a:chOff x="1066320" y="3762360"/>
            <a:chExt cx="228960" cy="1752480"/>
          </a:xfrm>
        </p:grpSpPr>
        <p:sp>
          <p:nvSpPr>
            <p:cNvPr id="436" name="Line 11"/>
            <p:cNvSpPr/>
            <p:nvPr/>
          </p:nvSpPr>
          <p:spPr>
            <a:xfrm flipH="1">
              <a:off x="1066320" y="5514840"/>
              <a:ext cx="1522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12"/>
            <p:cNvSpPr/>
            <p:nvPr/>
          </p:nvSpPr>
          <p:spPr>
            <a:xfrm flipV="1">
              <a:off x="1066680" y="3762360"/>
              <a:ext cx="0" cy="17524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13"/>
            <p:cNvSpPr/>
            <p:nvPr/>
          </p:nvSpPr>
          <p:spPr>
            <a:xfrm>
              <a:off x="1066680" y="3762360"/>
              <a:ext cx="2286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Text Box 14"/>
          <p:cNvSpPr/>
          <p:nvPr/>
        </p:nvSpPr>
        <p:spPr>
          <a:xfrm>
            <a:off x="9064800" y="63435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295280" y="3808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e-defined and User-define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295280" y="11430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e-defined Fun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95280" y="17524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s a function that is already defined in one of the many C librar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295280" y="2286000"/>
            <a:ext cx="876312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t is included in the program through the preprocessor dir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tatemen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   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and used in the program to perform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pecific tas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295280" y="3581280"/>
            <a:ext cx="8763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x: 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4495680" y="3678120"/>
            <a:ext cx="3652920" cy="337320"/>
            <a:chOff x="4495680" y="3678120"/>
            <a:chExt cx="3652920" cy="337320"/>
          </a:xfrm>
        </p:grpSpPr>
        <p:sp>
          <p:nvSpPr>
            <p:cNvPr id="107" name="Line 11"/>
            <p:cNvSpPr/>
            <p:nvPr/>
          </p:nvSpPr>
          <p:spPr>
            <a:xfrm>
              <a:off x="4495680" y="3809880"/>
              <a:ext cx="76212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5342040" y="3678120"/>
              <a:ext cx="28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Defines printf &amp; scanf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Text Box 13"/>
          <p:cNvSpPr/>
          <p:nvPr/>
        </p:nvSpPr>
        <p:spPr>
          <a:xfrm>
            <a:off x="1295280" y="419112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User-defined Fun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1295280" y="47242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s a function that is created by the us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295280" y="5257800"/>
            <a:ext cx="8763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t is defined before the main program through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 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nd called upon in the main program to perform a specific tas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Line 2"/>
          <p:cNvSpPr/>
          <p:nvPr/>
        </p:nvSpPr>
        <p:spPr>
          <a:xfrm>
            <a:off x="1295280" y="63244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1295280" y="3808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ogram Examp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1295280" y="1371600"/>
            <a:ext cx="876312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computes the cube of nu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cubed(int x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y=cubed(num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calling func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cubed(int x)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defini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return(x*x*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Group 6"/>
          <p:cNvGrpSpPr/>
          <p:nvPr/>
        </p:nvGrpSpPr>
        <p:grpSpPr>
          <a:xfrm>
            <a:off x="3048120" y="3457440"/>
            <a:ext cx="761760" cy="990720"/>
            <a:chOff x="3048120" y="3457440"/>
            <a:chExt cx="761760" cy="990720"/>
          </a:xfrm>
        </p:grpSpPr>
        <p:sp>
          <p:nvSpPr>
            <p:cNvPr id="445" name="Line 7"/>
            <p:cNvSpPr/>
            <p:nvPr/>
          </p:nvSpPr>
          <p:spPr>
            <a:xfrm>
              <a:off x="3048120" y="3457440"/>
              <a:ext cx="761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"/>
            <p:cNvSpPr/>
            <p:nvPr/>
          </p:nvSpPr>
          <p:spPr>
            <a:xfrm>
              <a:off x="3809880" y="3457440"/>
              <a:ext cx="0" cy="990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9"/>
            <p:cNvSpPr/>
            <p:nvPr/>
          </p:nvSpPr>
          <p:spPr>
            <a:xfrm flipH="1">
              <a:off x="3048120" y="4448160"/>
              <a:ext cx="761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10"/>
          <p:cNvGrpSpPr/>
          <p:nvPr/>
        </p:nvGrpSpPr>
        <p:grpSpPr>
          <a:xfrm>
            <a:off x="1142640" y="3762000"/>
            <a:ext cx="228960" cy="1447920"/>
            <a:chOff x="1142640" y="3762000"/>
            <a:chExt cx="228960" cy="1447920"/>
          </a:xfrm>
        </p:grpSpPr>
        <p:sp>
          <p:nvSpPr>
            <p:cNvPr id="449" name="Line 11"/>
            <p:cNvSpPr/>
            <p:nvPr/>
          </p:nvSpPr>
          <p:spPr>
            <a:xfrm flipH="1">
              <a:off x="1142640" y="5209920"/>
              <a:ext cx="1522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12"/>
            <p:cNvSpPr/>
            <p:nvPr/>
          </p:nvSpPr>
          <p:spPr>
            <a:xfrm flipV="1">
              <a:off x="1143000" y="3762000"/>
              <a:ext cx="0" cy="1447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3"/>
            <p:cNvSpPr/>
            <p:nvPr/>
          </p:nvSpPr>
          <p:spPr>
            <a:xfrm>
              <a:off x="1143000" y="3762360"/>
              <a:ext cx="2286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Text Box 14"/>
          <p:cNvSpPr/>
          <p:nvPr/>
        </p:nvSpPr>
        <p:spPr>
          <a:xfrm>
            <a:off x="9140760" y="634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Line 2"/>
          <p:cNvSpPr/>
          <p:nvPr/>
        </p:nvSpPr>
        <p:spPr>
          <a:xfrm>
            <a:off x="1295280" y="63244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295280" y="3808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ogram Examp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295280" y="1371600"/>
            <a:ext cx="87631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displays the largest of two number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larger(int x,int y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y=larger(num1,num2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calling func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larger(int x,int y)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defini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return(larger_nu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Group 6"/>
          <p:cNvGrpSpPr/>
          <p:nvPr/>
        </p:nvGrpSpPr>
        <p:grpSpPr>
          <a:xfrm>
            <a:off x="3505320" y="3533760"/>
            <a:ext cx="457200" cy="914400"/>
            <a:chOff x="3505320" y="3533760"/>
            <a:chExt cx="457200" cy="914400"/>
          </a:xfrm>
        </p:grpSpPr>
        <p:sp>
          <p:nvSpPr>
            <p:cNvPr id="458" name="Line 7"/>
            <p:cNvSpPr/>
            <p:nvPr/>
          </p:nvSpPr>
          <p:spPr>
            <a:xfrm>
              <a:off x="3886200" y="3533760"/>
              <a:ext cx="763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8"/>
            <p:cNvSpPr/>
            <p:nvPr/>
          </p:nvSpPr>
          <p:spPr>
            <a:xfrm>
              <a:off x="3962520" y="3533760"/>
              <a:ext cx="0" cy="9144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"/>
            <p:cNvSpPr/>
            <p:nvPr/>
          </p:nvSpPr>
          <p:spPr>
            <a:xfrm flipH="1">
              <a:off x="3505320" y="4448160"/>
              <a:ext cx="4572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Text Box 10"/>
          <p:cNvSpPr/>
          <p:nvPr/>
        </p:nvSpPr>
        <p:spPr>
          <a:xfrm>
            <a:off x="9140760" y="634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11"/>
          <p:cNvGrpSpPr/>
          <p:nvPr/>
        </p:nvGrpSpPr>
        <p:grpSpPr>
          <a:xfrm>
            <a:off x="1142640" y="3762360"/>
            <a:ext cx="228960" cy="1752480"/>
            <a:chOff x="1142640" y="3762360"/>
            <a:chExt cx="228960" cy="1752480"/>
          </a:xfrm>
        </p:grpSpPr>
        <p:sp>
          <p:nvSpPr>
            <p:cNvPr id="463" name="Line 12"/>
            <p:cNvSpPr/>
            <p:nvPr/>
          </p:nvSpPr>
          <p:spPr>
            <a:xfrm flipH="1">
              <a:off x="1142640" y="5514840"/>
              <a:ext cx="1522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13"/>
            <p:cNvSpPr/>
            <p:nvPr/>
          </p:nvSpPr>
          <p:spPr>
            <a:xfrm flipV="1">
              <a:off x="1143000" y="3762360"/>
              <a:ext cx="0" cy="17524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14"/>
            <p:cNvSpPr/>
            <p:nvPr/>
          </p:nvSpPr>
          <p:spPr>
            <a:xfrm>
              <a:off x="1143000" y="3762360"/>
              <a:ext cx="2286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Line 2"/>
          <p:cNvSpPr/>
          <p:nvPr/>
        </p:nvSpPr>
        <p:spPr>
          <a:xfrm>
            <a:off x="12193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1219320" y="38088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ogram Examp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1219320" y="1371600"/>
            <a:ext cx="87627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calculates the area and circumferencce of a circ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loat find_area(float r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loat find_circum(float r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area = find_area(r);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calling func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circum = find_circum(r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calling func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loat find_area(float r)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defini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 return(PI*POW(r,2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loat find_circum(float 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return(2.0*PI*r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9064800" y="63435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1219320" y="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1219320" y="609480"/>
            <a:ext cx="87627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cmath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double scale(double x, int 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double num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Enter a real number&gt;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num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 “Enter an integer&gt;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Result of call to function scale is \n",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scale(num1,num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double scale(double x, int n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This function multiplies its first  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   double scale_factor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argument by the power of 10      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scale_factor = pow(10,n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specified by its second argumn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return(x * scale_factor);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1219320" y="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1219320" y="609480"/>
            <a:ext cx="87627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 include&lt;cmat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void print_com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double scale(double x, int 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double num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   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print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_com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Enter a real number&gt;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num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Enter an integer&gt;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Result of call to function scale is \n",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scale(num1,num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void print_comment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{   cout &lt;&lt; "The program will .......... \n"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double scale(double x, int n) {    ..... 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1295280" y="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295280" y="608040"/>
            <a:ext cx="87631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 include&lt;cmat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double scale(double x, int 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void display(double res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double num1,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   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Enter a real number&gt;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num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Enter an integer&gt;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result = scale(num1,num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display(res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double scale(double x, int 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   ..... 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void display(double resul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{   printf("Result of call to function scale is %.2f\n", result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1219320" y="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1219320" y="554040"/>
            <a:ext cx="8762760" cy="46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 include&lt;cmat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double get_num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int get_num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double scale(double x, int 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double num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   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num1 = get_num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num2 = get_num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Result of call to function scale is\n",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scale(num1,num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double get_num1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{   double number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cout &lt;&lt; "Enter a real number&gt;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cin &gt;&gt; number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return(number1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int get_num2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{   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return(number2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double scale(double x, int n) {   ..... 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1295280" y="38088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Global and Local Decla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6"/>
          <p:cNvSpPr/>
          <p:nvPr/>
        </p:nvSpPr>
        <p:spPr>
          <a:xfrm>
            <a:off x="1295280" y="114300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raditional Arabic"/>
              </a:rPr>
              <a:t>Local Decl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7"/>
          <p:cNvSpPr/>
          <p:nvPr/>
        </p:nvSpPr>
        <p:spPr>
          <a:xfrm>
            <a:off x="1295280" y="18288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When the declaration is placed at the start of the main function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sub-fun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8"/>
          <p:cNvSpPr/>
          <p:nvPr/>
        </p:nvSpPr>
        <p:spPr>
          <a:xfrm>
            <a:off x="1295280" y="28954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raditional Arabic"/>
              </a:rPr>
              <a:t>Global Decl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9"/>
          <p:cNvSpPr/>
          <p:nvPr/>
        </p:nvSpPr>
        <p:spPr>
          <a:xfrm>
            <a:off x="1295280" y="358128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When the declaration is placed immediately after the pre-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irec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0"/>
          <p:cNvSpPr/>
          <p:nvPr/>
        </p:nvSpPr>
        <p:spPr>
          <a:xfrm>
            <a:off x="1295280" y="45720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  <a:ea typeface="Traditional Arabic"/>
              </a:rPr>
              <a:t>IMPORTANT: in the C programming language loc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  <a:ea typeface="Traditional Arabic"/>
              </a:rPr>
              <a:t>have precedence over global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295280" y="38088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Global and Local Decla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1295280" y="1143000"/>
            <a:ext cx="838224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raditional Arabic"/>
              </a:rPr>
              <a:t>/* global declaration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void 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raditional Arabic"/>
              </a:rPr>
              <a:t>/* local declaration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295280" y="1792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1295280" y="838080"/>
            <a:ext cx="87631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1313f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1313f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1313f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1313f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z = 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on main is ” &lt;&lt; 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n1 is ” &lt;&lt; z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Group 7"/>
          <p:cNvGrpSpPr/>
          <p:nvPr/>
        </p:nvGrpSpPr>
        <p:grpSpPr>
          <a:xfrm>
            <a:off x="1295280" y="4516560"/>
            <a:ext cx="8382240" cy="1655640"/>
            <a:chOff x="1295280" y="4516560"/>
            <a:chExt cx="8382240" cy="1655640"/>
          </a:xfrm>
        </p:grpSpPr>
        <p:sp>
          <p:nvSpPr>
            <p:cNvPr id="511" name="Rectangle 8"/>
            <p:cNvSpPr/>
            <p:nvPr/>
          </p:nvSpPr>
          <p:spPr>
            <a:xfrm>
              <a:off x="1295280" y="5029200"/>
              <a:ext cx="838224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9"/>
            <p:cNvSpPr/>
            <p:nvPr/>
          </p:nvSpPr>
          <p:spPr>
            <a:xfrm>
              <a:off x="1375920" y="5126040"/>
              <a:ext cx="3935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function1 is -42736565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the function main is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Press any key to conti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0"/>
            <p:cNvSpPr/>
            <p:nvPr/>
          </p:nvSpPr>
          <p:spPr>
            <a:xfrm flipH="1">
              <a:off x="6781320" y="4800600"/>
              <a:ext cx="838440" cy="3808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7620120" y="4516560"/>
              <a:ext cx="98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Times New Roman (Arabic)"/>
                </a:rPr>
                <a:t>Unknow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219320" y="380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e-define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219320" y="114300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Arithmetic Fun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219320" y="175248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e functions that perform arithmetic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219320" y="2362320"/>
            <a:ext cx="876276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They are usually located in the 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librar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see page 10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219320" y="327672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219320" y="3886200"/>
            <a:ext cx="876276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bs(x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is a function that returns the absolute value of its 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gu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219320" y="4724280"/>
            <a:ext cx="8762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qrt(x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is a function that returns the square root of 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219320" y="17928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1219320" y="838080"/>
            <a:ext cx="87627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glob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   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z = 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on main is ” &lt;&lt; z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n1 is ” &lt;&lt; z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Group 7"/>
          <p:cNvGrpSpPr/>
          <p:nvPr/>
        </p:nvGrpSpPr>
        <p:grpSpPr>
          <a:xfrm>
            <a:off x="76320" y="2133720"/>
            <a:ext cx="8762400" cy="4038480"/>
            <a:chOff x="76320" y="2133720"/>
            <a:chExt cx="8762400" cy="4038480"/>
          </a:xfrm>
        </p:grpSpPr>
        <p:sp>
          <p:nvSpPr>
            <p:cNvPr id="521" name="Rectangle 8"/>
            <p:cNvSpPr/>
            <p:nvPr/>
          </p:nvSpPr>
          <p:spPr>
            <a:xfrm>
              <a:off x="76320" y="5029200"/>
              <a:ext cx="83818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9"/>
            <p:cNvSpPr/>
            <p:nvPr/>
          </p:nvSpPr>
          <p:spPr>
            <a:xfrm>
              <a:off x="156600" y="5126040"/>
              <a:ext cx="3935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function1 is -42736565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the function main is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Press any key to conti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 Box 10"/>
            <p:cNvSpPr/>
            <p:nvPr/>
          </p:nvSpPr>
          <p:spPr>
            <a:xfrm>
              <a:off x="5130720" y="2133720"/>
              <a:ext cx="37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Times New Roman (Arabic)"/>
                </a:rPr>
                <a:t>Gives the same result as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Times New Roman (Arabic)"/>
                </a:rPr>
                <a:t>previous program since local declarations have precede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Times New Roman (Arabic)"/>
                </a:rPr>
                <a:t>over global decla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11"/>
            <p:cNvSpPr/>
            <p:nvPr/>
          </p:nvSpPr>
          <p:spPr>
            <a:xfrm>
              <a:off x="7924680" y="3429000"/>
              <a:ext cx="0" cy="15238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295280" y="1792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1295280" y="838080"/>
            <a:ext cx="8763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glob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z = 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on main is \n” &lt;&lt;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n1 is \n” &lt;&lt; z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7"/>
          <p:cNvGrpSpPr/>
          <p:nvPr/>
        </p:nvGrpSpPr>
        <p:grpSpPr>
          <a:xfrm>
            <a:off x="762120" y="5029200"/>
            <a:ext cx="8381880" cy="1143000"/>
            <a:chOff x="762120" y="5029200"/>
            <a:chExt cx="8381880" cy="1143000"/>
          </a:xfrm>
        </p:grpSpPr>
        <p:sp>
          <p:nvSpPr>
            <p:cNvPr id="531" name="Rectangle 8"/>
            <p:cNvSpPr/>
            <p:nvPr/>
          </p:nvSpPr>
          <p:spPr>
            <a:xfrm>
              <a:off x="762120" y="5029200"/>
              <a:ext cx="83818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9"/>
            <p:cNvSpPr/>
            <p:nvPr/>
          </p:nvSpPr>
          <p:spPr>
            <a:xfrm>
              <a:off x="846360" y="5126040"/>
              <a:ext cx="3704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function1 is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the function main is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Press any key to conti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Line 10"/>
          <p:cNvSpPr/>
          <p:nvPr/>
        </p:nvSpPr>
        <p:spPr>
          <a:xfrm>
            <a:off x="1676520" y="2286000"/>
            <a:ext cx="39621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1"/>
          <p:cNvSpPr/>
          <p:nvPr/>
        </p:nvSpPr>
        <p:spPr>
          <a:xfrm>
            <a:off x="1676520" y="3505320"/>
            <a:ext cx="39621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1295280" y="1792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1295280" y="838080"/>
            <a:ext cx="87631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 = 2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glob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 = 5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on main is \n” &lt;&lt; 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n1 is \n” &lt;&lt; z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7"/>
          <p:cNvGrpSpPr/>
          <p:nvPr/>
        </p:nvGrpSpPr>
        <p:grpSpPr>
          <a:xfrm>
            <a:off x="609480" y="5029200"/>
            <a:ext cx="8382240" cy="1143000"/>
            <a:chOff x="609480" y="5029200"/>
            <a:chExt cx="8382240" cy="1143000"/>
          </a:xfrm>
        </p:grpSpPr>
        <p:sp>
          <p:nvSpPr>
            <p:cNvPr id="541" name="Rectangle 8"/>
            <p:cNvSpPr/>
            <p:nvPr/>
          </p:nvSpPr>
          <p:spPr>
            <a:xfrm>
              <a:off x="609480" y="5029200"/>
              <a:ext cx="838224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9"/>
            <p:cNvSpPr/>
            <p:nvPr/>
          </p:nvSpPr>
          <p:spPr>
            <a:xfrm>
              <a:off x="694080" y="5126040"/>
              <a:ext cx="3704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function1 i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the function main is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Press any key to conti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Line 10"/>
          <p:cNvSpPr/>
          <p:nvPr/>
        </p:nvSpPr>
        <p:spPr>
          <a:xfrm>
            <a:off x="1676520" y="3352680"/>
            <a:ext cx="39621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Line 2"/>
          <p:cNvSpPr/>
          <p:nvPr/>
        </p:nvSpPr>
        <p:spPr>
          <a:xfrm>
            <a:off x="114300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10628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929628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143000" y="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143000" y="549360"/>
            <a:ext cx="87631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glob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z = 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on main is \n”&lt;&lt;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on main is\n” &lt;&lt; 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z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n1 is \n” &lt;&lt; z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2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cout &lt;&lt; “The value of z inside functin2 is \n”&lt;&lt; z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7"/>
          <p:cNvGrpSpPr/>
          <p:nvPr/>
        </p:nvGrpSpPr>
        <p:grpSpPr>
          <a:xfrm>
            <a:off x="1143000" y="5029200"/>
            <a:ext cx="8381880" cy="1143000"/>
            <a:chOff x="1143000" y="5029200"/>
            <a:chExt cx="8381880" cy="1143000"/>
          </a:xfrm>
        </p:grpSpPr>
        <p:sp>
          <p:nvSpPr>
            <p:cNvPr id="550" name="Rectangle 8"/>
            <p:cNvSpPr/>
            <p:nvPr/>
          </p:nvSpPr>
          <p:spPr>
            <a:xfrm>
              <a:off x="1143000" y="5029200"/>
              <a:ext cx="83818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9"/>
            <p:cNvSpPr/>
            <p:nvPr/>
          </p:nvSpPr>
          <p:spPr>
            <a:xfrm>
              <a:off x="1227240" y="5064120"/>
              <a:ext cx="37040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function1 is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the function main is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function2 is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the function main is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Press any key to conti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219320" y="603360"/>
            <a:ext cx="87627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glob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z = 1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on main is \n” &lt;&lt; 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on main is \n” &lt;&lt; 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z = 1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n1 is \n” &lt;&lt; z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2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n2 is \n” &lt;&lt; z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1219320" y="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Group 7"/>
          <p:cNvGrpSpPr/>
          <p:nvPr/>
        </p:nvGrpSpPr>
        <p:grpSpPr>
          <a:xfrm>
            <a:off x="1219320" y="5029200"/>
            <a:ext cx="8381880" cy="1143000"/>
            <a:chOff x="1219320" y="5029200"/>
            <a:chExt cx="8381880" cy="1143000"/>
          </a:xfrm>
        </p:grpSpPr>
        <p:sp>
          <p:nvSpPr>
            <p:cNvPr id="558" name="Rectangle 8"/>
            <p:cNvSpPr/>
            <p:nvPr/>
          </p:nvSpPr>
          <p:spPr>
            <a:xfrm>
              <a:off x="1219320" y="5029200"/>
              <a:ext cx="83818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9"/>
            <p:cNvSpPr/>
            <p:nvPr/>
          </p:nvSpPr>
          <p:spPr>
            <a:xfrm>
              <a:off x="1299600" y="5064120"/>
              <a:ext cx="39358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function1 is 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the function main is 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function2 is -7574577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the function main is 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Press any key to conti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0"/>
            <p:cNvSpPr/>
            <p:nvPr/>
          </p:nvSpPr>
          <p:spPr>
            <a:xfrm flipH="1">
              <a:off x="5714640" y="5334120"/>
              <a:ext cx="837720" cy="228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1"/>
            <p:cNvSpPr/>
            <p:nvPr/>
          </p:nvSpPr>
          <p:spPr>
            <a:xfrm>
              <a:off x="6553080" y="5129280"/>
              <a:ext cx="98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Times New Roman (Arabic)"/>
                </a:rPr>
                <a:t>Unknow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1026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27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29"/>
          <p:cNvSpPr/>
          <p:nvPr/>
        </p:nvSpPr>
        <p:spPr>
          <a:xfrm>
            <a:off x="12952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e-define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30"/>
          <p:cNvSpPr/>
          <p:nvPr/>
        </p:nvSpPr>
        <p:spPr>
          <a:xfrm>
            <a:off x="1295280" y="11430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Function call in an Assignment Statement</a:t>
            </a: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31"/>
          <p:cNvSpPr/>
          <p:nvPr/>
        </p:nvSpPr>
        <p:spPr>
          <a:xfrm>
            <a:off x="1295280" y="17524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Synta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32"/>
          <p:cNvSpPr/>
          <p:nvPr/>
        </p:nvSpPr>
        <p:spPr>
          <a:xfrm>
            <a:off x="1295280" y="2362320"/>
            <a:ext cx="8763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Y = function name(argum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33"/>
          <p:cNvSpPr/>
          <p:nvPr/>
        </p:nvSpPr>
        <p:spPr>
          <a:xfrm>
            <a:off x="1295280" y="29718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34"/>
          <p:cNvSpPr/>
          <p:nvPr/>
        </p:nvSpPr>
        <p:spPr>
          <a:xfrm>
            <a:off x="1295280" y="3581280"/>
            <a:ext cx="8763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Y = sqrt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035"/>
          <p:cNvGrpSpPr/>
          <p:nvPr/>
        </p:nvGrpSpPr>
        <p:grpSpPr>
          <a:xfrm>
            <a:off x="1527840" y="4038480"/>
            <a:ext cx="1215360" cy="510480"/>
            <a:chOff x="1527840" y="4038480"/>
            <a:chExt cx="1215360" cy="510480"/>
          </a:xfrm>
        </p:grpSpPr>
        <p:sp>
          <p:nvSpPr>
            <p:cNvPr id="134" name="Line 1036"/>
            <p:cNvSpPr/>
            <p:nvPr/>
          </p:nvSpPr>
          <p:spPr>
            <a:xfrm>
              <a:off x="1905120" y="4038480"/>
              <a:ext cx="8380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1037"/>
            <p:cNvSpPr/>
            <p:nvPr/>
          </p:nvSpPr>
          <p:spPr>
            <a:xfrm>
              <a:off x="1527840" y="4211640"/>
              <a:ext cx="12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function c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38"/>
          <p:cNvGrpSpPr/>
          <p:nvPr/>
        </p:nvGrpSpPr>
        <p:grpSpPr>
          <a:xfrm>
            <a:off x="3124080" y="4668840"/>
            <a:ext cx="4648320" cy="1274760"/>
            <a:chOff x="3124080" y="4668840"/>
            <a:chExt cx="4648320" cy="1274760"/>
          </a:xfrm>
        </p:grpSpPr>
        <p:sp>
          <p:nvSpPr>
            <p:cNvPr id="137" name="Line 1039"/>
            <p:cNvSpPr/>
            <p:nvPr/>
          </p:nvSpPr>
          <p:spPr>
            <a:xfrm>
              <a:off x="3505320" y="548640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040"/>
            <p:cNvSpPr/>
            <p:nvPr/>
          </p:nvSpPr>
          <p:spPr>
            <a:xfrm>
              <a:off x="6324480" y="5486400"/>
              <a:ext cx="838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041"/>
            <p:cNvSpPr/>
            <p:nvPr/>
          </p:nvSpPr>
          <p:spPr>
            <a:xfrm>
              <a:off x="3124080" y="52578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042"/>
            <p:cNvSpPr/>
            <p:nvPr/>
          </p:nvSpPr>
          <p:spPr>
            <a:xfrm>
              <a:off x="7162920" y="52578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043"/>
            <p:cNvSpPr/>
            <p:nvPr/>
          </p:nvSpPr>
          <p:spPr>
            <a:xfrm>
              <a:off x="4343400" y="5029200"/>
              <a:ext cx="2133720" cy="9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1044"/>
            <p:cNvSpPr/>
            <p:nvPr/>
          </p:nvSpPr>
          <p:spPr>
            <a:xfrm>
              <a:off x="4495680" y="5181480"/>
              <a:ext cx="1905120" cy="51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square ro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compu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045"/>
            <p:cNvSpPr/>
            <p:nvPr/>
          </p:nvSpPr>
          <p:spPr>
            <a:xfrm>
              <a:off x="4537080" y="46688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function sq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952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e-define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295280" y="11430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s</a:t>
            </a: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295280" y="1828800"/>
            <a:ext cx="21337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x = 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y = abs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2971800" y="2306520"/>
            <a:ext cx="2887560" cy="337320"/>
            <a:chOff x="2971800" y="2306520"/>
            <a:chExt cx="2887560" cy="337320"/>
          </a:xfrm>
        </p:grpSpPr>
        <p:sp>
          <p:nvSpPr>
            <p:cNvPr id="151" name="Line 9"/>
            <p:cNvSpPr/>
            <p:nvPr/>
          </p:nvSpPr>
          <p:spPr>
            <a:xfrm>
              <a:off x="2971800" y="2514600"/>
              <a:ext cx="20574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5259600" y="230652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y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11"/>
          <p:cNvSpPr/>
          <p:nvPr/>
        </p:nvSpPr>
        <p:spPr>
          <a:xfrm>
            <a:off x="1295280" y="2895480"/>
            <a:ext cx="21337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x = 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y = abs(x) +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12"/>
          <p:cNvGrpSpPr/>
          <p:nvPr/>
        </p:nvGrpSpPr>
        <p:grpSpPr>
          <a:xfrm>
            <a:off x="3429000" y="3373560"/>
            <a:ext cx="2532240" cy="337320"/>
            <a:chOff x="3429000" y="3373560"/>
            <a:chExt cx="2532240" cy="337320"/>
          </a:xfrm>
        </p:grpSpPr>
        <p:sp>
          <p:nvSpPr>
            <p:cNvPr id="155" name="Line 13"/>
            <p:cNvSpPr/>
            <p:nvPr/>
          </p:nvSpPr>
          <p:spPr>
            <a:xfrm>
              <a:off x="3429000" y="3564000"/>
              <a:ext cx="16002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5259240" y="3373560"/>
              <a:ext cx="7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y = 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5"/>
          <p:cNvSpPr/>
          <p:nvPr/>
        </p:nvSpPr>
        <p:spPr>
          <a:xfrm>
            <a:off x="1295280" y="4038480"/>
            <a:ext cx="21337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x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y = sqrt(x + 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6"/>
          <p:cNvGrpSpPr/>
          <p:nvPr/>
        </p:nvGrpSpPr>
        <p:grpSpPr>
          <a:xfrm>
            <a:off x="3429000" y="4516560"/>
            <a:ext cx="2430360" cy="337320"/>
            <a:chOff x="3429000" y="4516560"/>
            <a:chExt cx="2430360" cy="337320"/>
          </a:xfrm>
        </p:grpSpPr>
        <p:sp>
          <p:nvSpPr>
            <p:cNvPr id="159" name="Line 17"/>
            <p:cNvSpPr/>
            <p:nvPr/>
          </p:nvSpPr>
          <p:spPr>
            <a:xfrm>
              <a:off x="3429000" y="4707000"/>
              <a:ext cx="16002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8"/>
            <p:cNvSpPr/>
            <p:nvPr/>
          </p:nvSpPr>
          <p:spPr>
            <a:xfrm>
              <a:off x="5259600" y="451656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y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Text Box 19"/>
          <p:cNvSpPr/>
          <p:nvPr/>
        </p:nvSpPr>
        <p:spPr>
          <a:xfrm>
            <a:off x="1295280" y="5181480"/>
            <a:ext cx="21337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x = 2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y = sqrt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20"/>
          <p:cNvGrpSpPr/>
          <p:nvPr/>
        </p:nvGrpSpPr>
        <p:grpSpPr>
          <a:xfrm>
            <a:off x="2971800" y="5659560"/>
            <a:ext cx="3141720" cy="337320"/>
            <a:chOff x="2971800" y="5659560"/>
            <a:chExt cx="3141720" cy="337320"/>
          </a:xfrm>
        </p:grpSpPr>
        <p:sp>
          <p:nvSpPr>
            <p:cNvPr id="163" name="Line 21"/>
            <p:cNvSpPr/>
            <p:nvPr/>
          </p:nvSpPr>
          <p:spPr>
            <a:xfrm>
              <a:off x="2971800" y="5867280"/>
              <a:ext cx="20574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2"/>
            <p:cNvSpPr/>
            <p:nvPr/>
          </p:nvSpPr>
          <p:spPr>
            <a:xfrm>
              <a:off x="5259240" y="5659560"/>
              <a:ext cx="85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y = 1.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Types of Fun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295280" y="1295280"/>
            <a:ext cx="8763120" cy="8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to the function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eceiv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from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x. y=sqrt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295280" y="3733920"/>
            <a:ext cx="8763120" cy="8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to the function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oesn’t recei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he fun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x. cout &lt;&lt; “Hi”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8"/>
          <p:cNvGrpSpPr/>
          <p:nvPr/>
        </p:nvGrpSpPr>
        <p:grpSpPr>
          <a:xfrm>
            <a:off x="2895480" y="4952880"/>
            <a:ext cx="3733920" cy="914400"/>
            <a:chOff x="2895480" y="4952880"/>
            <a:chExt cx="3733920" cy="914400"/>
          </a:xfrm>
        </p:grpSpPr>
        <p:sp>
          <p:nvSpPr>
            <p:cNvPr id="172" name="Line 9"/>
            <p:cNvSpPr/>
            <p:nvPr/>
          </p:nvSpPr>
          <p:spPr>
            <a:xfrm>
              <a:off x="3657600" y="54100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0"/>
            <p:cNvSpPr/>
            <p:nvPr/>
          </p:nvSpPr>
          <p:spPr>
            <a:xfrm>
              <a:off x="2895480" y="518148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Hi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495680" y="4952880"/>
              <a:ext cx="2133720" cy="9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4572000" y="5181480"/>
              <a:ext cx="190512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cout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13"/>
          <p:cNvGrpSpPr/>
          <p:nvPr/>
        </p:nvGrpSpPr>
        <p:grpSpPr>
          <a:xfrm>
            <a:off x="3276720" y="2666880"/>
            <a:ext cx="4647960" cy="914400"/>
            <a:chOff x="3276720" y="2666880"/>
            <a:chExt cx="4647960" cy="914400"/>
          </a:xfrm>
        </p:grpSpPr>
        <p:sp>
          <p:nvSpPr>
            <p:cNvPr id="177" name="Line 14"/>
            <p:cNvSpPr/>
            <p:nvPr/>
          </p:nvSpPr>
          <p:spPr>
            <a:xfrm>
              <a:off x="3657600" y="31240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6477120" y="31240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3276720" y="28954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7315200" y="28954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8"/>
            <p:cNvSpPr/>
            <p:nvPr/>
          </p:nvSpPr>
          <p:spPr>
            <a:xfrm>
              <a:off x="4495680" y="2666880"/>
              <a:ext cx="2133720" cy="9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9"/>
            <p:cNvSpPr/>
            <p:nvPr/>
          </p:nvSpPr>
          <p:spPr>
            <a:xfrm>
              <a:off x="4572000" y="2895480"/>
              <a:ext cx="190512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sqrt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219320" y="380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Types of Functions (Contin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219320" y="1295280"/>
            <a:ext cx="8762760" cy="8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oesn’t 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to the function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eceiv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ta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he fun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x. Number = Get_Numb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7"/>
          <p:cNvGrpSpPr/>
          <p:nvPr/>
        </p:nvGrpSpPr>
        <p:grpSpPr>
          <a:xfrm>
            <a:off x="4343400" y="2666880"/>
            <a:ext cx="4495680" cy="914400"/>
            <a:chOff x="4343400" y="2666880"/>
            <a:chExt cx="4495680" cy="914400"/>
          </a:xfrm>
        </p:grpSpPr>
        <p:sp>
          <p:nvSpPr>
            <p:cNvPr id="189" name="Rectangle 8"/>
            <p:cNvSpPr/>
            <p:nvPr/>
          </p:nvSpPr>
          <p:spPr>
            <a:xfrm>
              <a:off x="4343400" y="2666880"/>
              <a:ext cx="2133360" cy="9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9"/>
            <p:cNvSpPr/>
            <p:nvPr/>
          </p:nvSpPr>
          <p:spPr>
            <a:xfrm>
              <a:off x="4495680" y="2895480"/>
              <a:ext cx="190512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Get_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0"/>
            <p:cNvSpPr/>
            <p:nvPr/>
          </p:nvSpPr>
          <p:spPr>
            <a:xfrm>
              <a:off x="6400800" y="31240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1"/>
            <p:cNvSpPr/>
            <p:nvPr/>
          </p:nvSpPr>
          <p:spPr>
            <a:xfrm>
              <a:off x="7238880" y="28954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Text Box 12"/>
          <p:cNvSpPr/>
          <p:nvPr/>
        </p:nvSpPr>
        <p:spPr>
          <a:xfrm>
            <a:off x="1219320" y="3733920"/>
            <a:ext cx="8762760" cy="8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oesn’t 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to the function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oesn’t rece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ta from the fun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x. Display_Com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13"/>
          <p:cNvGrpSpPr/>
          <p:nvPr/>
        </p:nvGrpSpPr>
        <p:grpSpPr>
          <a:xfrm>
            <a:off x="4343400" y="5105520"/>
            <a:ext cx="2133360" cy="914400"/>
            <a:chOff x="4343400" y="5105520"/>
            <a:chExt cx="2133360" cy="914400"/>
          </a:xfrm>
        </p:grpSpPr>
        <p:sp>
          <p:nvSpPr>
            <p:cNvPr id="195" name="Rectangle 14"/>
            <p:cNvSpPr/>
            <p:nvPr/>
          </p:nvSpPr>
          <p:spPr>
            <a:xfrm>
              <a:off x="4343400" y="5105520"/>
              <a:ext cx="2133360" cy="9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5"/>
            <p:cNvSpPr/>
            <p:nvPr/>
          </p:nvSpPr>
          <p:spPr>
            <a:xfrm>
              <a:off x="4400280" y="5334120"/>
              <a:ext cx="205740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Display_Com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295280" y="3808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Top-Down Design (Contin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73980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0308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8585280" y="63435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6"/>
          <p:cNvGraphicFramePr/>
          <p:nvPr/>
        </p:nvGraphicFramePr>
        <p:xfrm>
          <a:off x="609480" y="1722600"/>
          <a:ext cx="868392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22600"/>
                    <a:ext cx="868392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1:13Z</dcterms:created>
  <dc:creator>mwakil</dc:creator>
  <dc:description/>
  <dc:language>en-US</dc:language>
  <cp:lastModifiedBy>Khajamohammed Khaja Mustafa</cp:lastModifiedBy>
  <dcterms:modified xsi:type="dcterms:W3CDTF">2015-11-17T05:34:44Z</dcterms:modified>
  <cp:revision>18</cp:revision>
  <dc:subject/>
  <dc:title>PowerPoint Presentation</dc:title>
</cp:coreProperties>
</file>