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E7C-D3B5-4B40-B8E5-46C71B9C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BB1-EACA-4F5D-9C2C-70757FA8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3CE-91E8-41D5-B1EE-069FFD30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E81-EC69-4B08-A4DB-EACDA95E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4187-D889-4F99-B84E-6A822C4E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8B64-41DF-46D8-B04F-BD41D89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B6B3-23AE-47A6-989D-4BE2042F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1198-F383-4FF5-92DE-0B231D6E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C800-C7B2-4BB6-AA61-4B68E83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429D-A34F-49AA-A4C4-1E92DF10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BC96-0E98-4779-9309-0A31B9F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DE0-A595-4E44-9FAB-9C477D82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670A-01A2-4427-8960-CC27278B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3862-3CF1-4FEE-8CA4-68F779EA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3333-3A31-4B1E-B27B-B58A44FB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5445-EF30-476F-B6E1-00ACD6FB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269F-A043-4063-BCE5-83862789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7B3-538D-46B2-B52D-26C86014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410-ADC2-46D0-B2B4-90BD8965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DA4-44AA-4C08-8850-660E7AA5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C04-99D0-4C2A-A064-28627AC3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F14-64CD-4259-8F9A-DAE62B1C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403-F59E-491E-9746-BE790D08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8AE-39DA-4D95-8DC1-F5DC551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F281-1A24-4398-8173-B999B75A8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CAE7-299A-4D2A-8A77-981CFDB6F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0512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911240" y="3968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>
            <a:off x="137160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3488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371600" y="3808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Advantages of Writ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371600" y="137160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ecreas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the main program’s length and reduces the chan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k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rro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9217080" y="6343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371600" y="2362320"/>
            <a:ext cx="87631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. Makes i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asi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to define programming tasks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rogrammers. Each programmer can be responsible for a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et of 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371600" y="3657600"/>
            <a:ext cx="8763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. Allow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rocedural abstr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; a programming techniqu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which a main function consists of a sequence of function call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ach function is implemented separately. This helps to focus o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 at a time instead of writing the complete program all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o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371600" y="57150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. Allow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de reu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of function progr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140760" y="634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Code R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295280" y="13716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using program fragments that have already been writte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ested whenever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295280" y="23623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a way to help in writing error free c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219320" y="106668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219320" y="152388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 way to declare a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19320" y="1981080"/>
            <a:ext cx="876276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his tells the compil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4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The name o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4000"/>
              </a:lnSpc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The data type of received data(if there i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he type &amp; name of sent data (if there is). Also calle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arameters of the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219320" y="411480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1219320" y="457200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ftype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na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1219320" y="510552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219320" y="556272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void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drawcirc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13"/>
          <p:cNvGrpSpPr/>
          <p:nvPr/>
        </p:nvGrpSpPr>
        <p:grpSpPr>
          <a:xfrm>
            <a:off x="4114440" y="3886200"/>
            <a:ext cx="5451840" cy="1981080"/>
            <a:chOff x="4114440" y="3886200"/>
            <a:chExt cx="5451840" cy="1981080"/>
          </a:xfrm>
        </p:grpSpPr>
        <p:sp>
          <p:nvSpPr>
            <p:cNvPr id="229" name="Line 14"/>
            <p:cNvSpPr/>
            <p:nvPr/>
          </p:nvSpPr>
          <p:spPr>
            <a:xfrm flipH="1">
              <a:off x="4114440" y="5105520"/>
              <a:ext cx="533160" cy="7617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4647960" y="3886200"/>
              <a:ext cx="4918320" cy="155412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defines a function called drawcirc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with not sent nor receive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(when the program doesn’t send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function and doesn’t receive fro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function, the function is called a voi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func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295280" y="10666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295280" y="160020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 function call transfers control from the main program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 or sub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1295280" y="25146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1295280" y="29718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name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295280" y="35053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295280" y="39625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circ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12"/>
          <p:cNvGrpSpPr/>
          <p:nvPr/>
        </p:nvGrpSpPr>
        <p:grpSpPr>
          <a:xfrm>
            <a:off x="3200400" y="3809880"/>
            <a:ext cx="5832360" cy="457200"/>
            <a:chOff x="3200400" y="3809880"/>
            <a:chExt cx="5832360" cy="457200"/>
          </a:xfrm>
        </p:grpSpPr>
        <p:sp>
          <p:nvSpPr>
            <p:cNvPr id="242" name="Text Box 13"/>
            <p:cNvSpPr/>
            <p:nvPr/>
          </p:nvSpPr>
          <p:spPr>
            <a:xfrm>
              <a:off x="4114800" y="3809880"/>
              <a:ext cx="4917960" cy="33732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calls function drawcircle and causes it to begin 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4"/>
            <p:cNvSpPr/>
            <p:nvPr/>
          </p:nvSpPr>
          <p:spPr>
            <a:xfrm flipH="1">
              <a:off x="3200400" y="4267080"/>
              <a:ext cx="9144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295280" y="10666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95280" y="160020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efines the function operation by writing the code for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 a similar way to writing the code for the main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295280" y="24382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Syn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1295280" y="2971800"/>
            <a:ext cx="87631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type fname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local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xecutable statements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41911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1295280" y="4648320"/>
            <a:ext cx="87631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circle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cout &lt;&lt; “ *** ”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*      *”&lt;&lt;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 *** ” endl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12"/>
          <p:cNvGrpSpPr/>
          <p:nvPr/>
        </p:nvGrpSpPr>
        <p:grpSpPr>
          <a:xfrm>
            <a:off x="3733920" y="3886200"/>
            <a:ext cx="5908680" cy="2251080"/>
            <a:chOff x="3733920" y="3886200"/>
            <a:chExt cx="5908680" cy="2251080"/>
          </a:xfrm>
        </p:grpSpPr>
        <p:sp>
          <p:nvSpPr>
            <p:cNvPr id="255" name="Line 13"/>
            <p:cNvSpPr/>
            <p:nvPr/>
          </p:nvSpPr>
          <p:spPr>
            <a:xfrm flipH="1">
              <a:off x="3733920" y="4952880"/>
              <a:ext cx="954000" cy="11844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4"/>
            <p:cNvSpPr/>
            <p:nvPr/>
          </p:nvSpPr>
          <p:spPr>
            <a:xfrm>
              <a:off x="4689360" y="3886200"/>
              <a:ext cx="4953240" cy="1554120"/>
            </a:xfrm>
            <a:prstGeom prst="rect">
              <a:avLst/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does not contain the return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because this function will not send 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data to the program “main function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(i.e. a function should contai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 </a:t>
              </a: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return statement only if it is going to send data to the progra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371600" y="1523880"/>
            <a:ext cx="4038480" cy="29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void drawcirc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drawcirc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void drawcircle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248520" y="160020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unction 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523880" y="9907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6248520" y="32767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unction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248520" y="47242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Function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3"/>
          <p:cNvSpPr/>
          <p:nvPr/>
        </p:nvSpPr>
        <p:spPr>
          <a:xfrm flipH="1">
            <a:off x="4800600" y="1828800"/>
            <a:ext cx="144792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4"/>
          <p:cNvSpPr/>
          <p:nvPr/>
        </p:nvSpPr>
        <p:spPr>
          <a:xfrm flipH="1">
            <a:off x="3505320" y="3505320"/>
            <a:ext cx="27432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 flipH="1">
            <a:off x="4800600" y="4952880"/>
            <a:ext cx="1447920" cy="0"/>
          </a:xfrm>
          <a:prstGeom prst="line">
            <a:avLst/>
          </a:prstGeom>
          <a:ln w="28440">
            <a:solidFill>
              <a:srgbClr val="9966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4800600" y="4419720"/>
            <a:ext cx="0" cy="137160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4724280" y="4419720"/>
            <a:ext cx="7632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724280" y="5791320"/>
            <a:ext cx="7632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295280" y="1523880"/>
            <a:ext cx="4038840" cy="29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void drawcircle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void drawcircle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drawcirc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6172200" y="16002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unction 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447920" y="99072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6248520" y="38098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unction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6095880" y="25146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Function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1"/>
          <p:cNvSpPr/>
          <p:nvPr/>
        </p:nvSpPr>
        <p:spPr>
          <a:xfrm flipH="1">
            <a:off x="4724280" y="1828800"/>
            <a:ext cx="144792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2"/>
          <p:cNvSpPr/>
          <p:nvPr/>
        </p:nvSpPr>
        <p:spPr>
          <a:xfrm flipH="1">
            <a:off x="3505320" y="3962520"/>
            <a:ext cx="27432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3"/>
          <p:cNvSpPr/>
          <p:nvPr/>
        </p:nvSpPr>
        <p:spPr>
          <a:xfrm flipH="1">
            <a:off x="4647960" y="2743200"/>
            <a:ext cx="1447560" cy="0"/>
          </a:xfrm>
          <a:prstGeom prst="line">
            <a:avLst/>
          </a:prstGeom>
          <a:ln w="28440">
            <a:solidFill>
              <a:srgbClr val="9966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4648320" y="2209680"/>
            <a:ext cx="0" cy="137160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5"/>
          <p:cNvSpPr/>
          <p:nvPr/>
        </p:nvSpPr>
        <p:spPr>
          <a:xfrm>
            <a:off x="4572000" y="2209680"/>
            <a:ext cx="7632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4572000" y="3581280"/>
            <a:ext cx="7632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1371600" y="1828800"/>
            <a:ext cx="723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2"/>
          <p:cNvSpPr/>
          <p:nvPr/>
        </p:nvSpPr>
        <p:spPr>
          <a:xfrm>
            <a:off x="63828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120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819520" y="1600200"/>
            <a:ext cx="4038480" cy="277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void function1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function2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unction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void function1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function2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3733920" y="2743200"/>
            <a:ext cx="4723920" cy="1143000"/>
            <a:chOff x="3733920" y="2743200"/>
            <a:chExt cx="4723920" cy="1143000"/>
          </a:xfrm>
        </p:grpSpPr>
        <p:sp>
          <p:nvSpPr>
            <p:cNvPr id="295" name="Line 8"/>
            <p:cNvSpPr/>
            <p:nvPr/>
          </p:nvSpPr>
          <p:spPr>
            <a:xfrm>
              <a:off x="3733920" y="2743200"/>
              <a:ext cx="320004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6933960" y="2743200"/>
              <a:ext cx="0" cy="114300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 flipH="1">
              <a:off x="5029200" y="3886200"/>
              <a:ext cx="190440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1"/>
            <p:cNvSpPr/>
            <p:nvPr/>
          </p:nvSpPr>
          <p:spPr>
            <a:xfrm>
              <a:off x="7010280" y="274320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transfer of control to functio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12"/>
          <p:cNvGrpSpPr/>
          <p:nvPr/>
        </p:nvGrpSpPr>
        <p:grpSpPr>
          <a:xfrm>
            <a:off x="762120" y="2743200"/>
            <a:ext cx="2133000" cy="1066320"/>
            <a:chOff x="762120" y="2743200"/>
            <a:chExt cx="2133000" cy="1066320"/>
          </a:xfrm>
        </p:grpSpPr>
        <p:sp>
          <p:nvSpPr>
            <p:cNvPr id="300" name="Line 13"/>
            <p:cNvSpPr/>
            <p:nvPr/>
          </p:nvSpPr>
          <p:spPr>
            <a:xfrm flipH="1">
              <a:off x="2016720" y="3809520"/>
              <a:ext cx="81576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 flipV="1">
              <a:off x="2016720" y="2796480"/>
              <a:ext cx="0" cy="101304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>
              <a:off x="2016720" y="2796480"/>
              <a:ext cx="87840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762120" y="2743200"/>
              <a:ext cx="1191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transfer of control back to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7"/>
          <p:cNvGrpSpPr/>
          <p:nvPr/>
        </p:nvGrpSpPr>
        <p:grpSpPr>
          <a:xfrm>
            <a:off x="3886200" y="3048120"/>
            <a:ext cx="4587840" cy="1814400"/>
            <a:chOff x="3886200" y="3048120"/>
            <a:chExt cx="4587840" cy="1814400"/>
          </a:xfrm>
        </p:grpSpPr>
        <p:sp>
          <p:nvSpPr>
            <p:cNvPr id="305" name="Line 18"/>
            <p:cNvSpPr/>
            <p:nvPr/>
          </p:nvSpPr>
          <p:spPr>
            <a:xfrm>
              <a:off x="3886200" y="3048120"/>
              <a:ext cx="289548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9"/>
            <p:cNvSpPr/>
            <p:nvPr/>
          </p:nvSpPr>
          <p:spPr>
            <a:xfrm>
              <a:off x="6781680" y="3048120"/>
              <a:ext cx="0" cy="14475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20"/>
            <p:cNvSpPr/>
            <p:nvPr/>
          </p:nvSpPr>
          <p:spPr>
            <a:xfrm flipH="1">
              <a:off x="5181120" y="4495680"/>
              <a:ext cx="16002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21"/>
            <p:cNvSpPr/>
            <p:nvPr/>
          </p:nvSpPr>
          <p:spPr>
            <a:xfrm>
              <a:off x="6934320" y="4038480"/>
              <a:ext cx="1539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transfer of control to functio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22"/>
          <p:cNvGrpSpPr/>
          <p:nvPr/>
        </p:nvGrpSpPr>
        <p:grpSpPr>
          <a:xfrm>
            <a:off x="919440" y="3048120"/>
            <a:ext cx="2737440" cy="1488240"/>
            <a:chOff x="919440" y="3048120"/>
            <a:chExt cx="2737440" cy="1488240"/>
          </a:xfrm>
        </p:grpSpPr>
        <p:sp>
          <p:nvSpPr>
            <p:cNvPr id="310" name="Line 23"/>
            <p:cNvSpPr/>
            <p:nvPr/>
          </p:nvSpPr>
          <p:spPr>
            <a:xfrm flipH="1">
              <a:off x="2773800" y="4127400"/>
              <a:ext cx="8089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 flipV="1">
              <a:off x="2774160" y="3048120"/>
              <a:ext cx="0" cy="1079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2774160" y="3048120"/>
              <a:ext cx="88272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6"/>
            <p:cNvSpPr/>
            <p:nvPr/>
          </p:nvSpPr>
          <p:spPr>
            <a:xfrm>
              <a:off x="919440" y="3955680"/>
              <a:ext cx="2137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transfer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control back to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Text Box 27"/>
          <p:cNvSpPr/>
          <p:nvPr/>
        </p:nvSpPr>
        <p:spPr>
          <a:xfrm>
            <a:off x="1371600" y="10666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Order of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6397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60300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- Drawing a Stick 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4299120" y="1368360"/>
            <a:ext cx="853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*     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* 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   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Times New Roman (Arabic)"/>
              </a:rPr>
              <a:t>____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   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/       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7"/>
          <p:cNvGraphicFramePr/>
          <p:nvPr/>
        </p:nvGraphicFramePr>
        <p:xfrm>
          <a:off x="533520" y="3662280"/>
          <a:ext cx="862164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62280"/>
                    <a:ext cx="8621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8"/>
          <p:cNvSpPr/>
          <p:nvPr/>
        </p:nvSpPr>
        <p:spPr>
          <a:xfrm>
            <a:off x="4068720" y="1219320"/>
            <a:ext cx="152388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2"/>
          <p:cNvSpPr/>
          <p:nvPr/>
        </p:nvSpPr>
        <p:spPr>
          <a:xfrm>
            <a:off x="12193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219320" y="3808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- Drawing a Stick 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219320" y="990720"/>
            <a:ext cx="87627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draws a stick figu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circle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intersect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base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triangle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_circle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cal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_triangle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call */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_intersect(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cal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(0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circl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   *  “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*     *“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 *  *  “&lt;&lt;endl;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9144000" y="6130800"/>
            <a:ext cx="3808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137160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33800" y="63435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524880" y="63435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371600" y="380880"/>
            <a:ext cx="83818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371600" y="1295280"/>
            <a:ext cx="87631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 function is a subprogram that performs a specific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371600" y="1905120"/>
            <a:ext cx="876312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 you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Hi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Line 2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- Drawing a Stick Figure -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295280" y="990720"/>
            <a:ext cx="8763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draws a stick figure - continue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intersect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  /\\ “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 /  \\ “ &lt;&lt; endl;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/    \\“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bas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------“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draw_triangl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_intersec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raw_bas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Line 2"/>
          <p:cNvSpPr/>
          <p:nvPr/>
        </p:nvSpPr>
        <p:spPr>
          <a:xfrm>
            <a:off x="12589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22220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94122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58920" y="3808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258920" y="13716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. Declare a function before the main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258920" y="19810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. Call the function inside the main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258920" y="25909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. Define a function after the main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Line 2"/>
          <p:cNvSpPr/>
          <p:nvPr/>
        </p:nvSpPr>
        <p:spPr>
          <a:xfrm>
            <a:off x="10666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0299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92203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0666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Review of Synta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066680" y="11430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Prototype &amp;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066680" y="17524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ftype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(data type name, 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1066680" y="33526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1066680" y="38862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f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(data type name, 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10"/>
          <p:cNvGrpSpPr/>
          <p:nvPr/>
        </p:nvGrpSpPr>
        <p:grpSpPr>
          <a:xfrm>
            <a:off x="2446920" y="1219320"/>
            <a:ext cx="7002000" cy="1500840"/>
            <a:chOff x="2446920" y="1219320"/>
            <a:chExt cx="7002000" cy="1500840"/>
          </a:xfrm>
        </p:grpSpPr>
        <p:sp>
          <p:nvSpPr>
            <p:cNvPr id="347" name="Text Box 11"/>
            <p:cNvSpPr/>
            <p:nvPr/>
          </p:nvSpPr>
          <p:spPr>
            <a:xfrm>
              <a:off x="5873760" y="1219320"/>
              <a:ext cx="357516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n identifier that represents a corresponding actual argument in a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 (Arabic)"/>
                </a:rPr>
                <a:t>function defini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Ex. int square(int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12"/>
            <p:cNvSpPr/>
            <p:nvPr/>
          </p:nvSpPr>
          <p:spPr>
            <a:xfrm flipV="1" rot="5395800">
              <a:off x="3848040" y="1106280"/>
              <a:ext cx="76320" cy="22860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95040 h 2286000"/>
                <a:gd name="textAreaBottom" fmla="*/ 21909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3"/>
            <p:cNvSpPr/>
            <p:nvPr/>
          </p:nvSpPr>
          <p:spPr>
            <a:xfrm>
              <a:off x="2446920" y="2382840"/>
              <a:ext cx="200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Formal Parameter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4"/>
            <p:cNvSpPr/>
            <p:nvPr/>
          </p:nvSpPr>
          <p:spPr>
            <a:xfrm flipH="1">
              <a:off x="5410080" y="25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15"/>
          <p:cNvGrpSpPr/>
          <p:nvPr/>
        </p:nvGrpSpPr>
        <p:grpSpPr>
          <a:xfrm>
            <a:off x="1834200" y="3809880"/>
            <a:ext cx="7601760" cy="1044000"/>
            <a:chOff x="1834200" y="3809880"/>
            <a:chExt cx="7601760" cy="1044000"/>
          </a:xfrm>
        </p:grpSpPr>
        <p:sp>
          <p:nvSpPr>
            <p:cNvPr id="352" name="Text Box 16"/>
            <p:cNvSpPr/>
            <p:nvPr/>
          </p:nvSpPr>
          <p:spPr>
            <a:xfrm>
              <a:off x="5105520" y="3809880"/>
              <a:ext cx="43304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n expression used inside the parentheses of a 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 (Arabic)"/>
                </a:rPr>
                <a:t>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Ex. square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17"/>
            <p:cNvSpPr/>
            <p:nvPr/>
          </p:nvSpPr>
          <p:spPr>
            <a:xfrm>
              <a:off x="1834200" y="4516560"/>
              <a:ext cx="196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Actual Argument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8"/>
            <p:cNvSpPr/>
            <p:nvPr/>
          </p:nvSpPr>
          <p:spPr>
            <a:xfrm flipV="1" rot="5395800">
              <a:off x="3128760" y="3240000"/>
              <a:ext cx="76320" cy="22860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95040 h 2286000"/>
                <a:gd name="textAreaBottom" fmla="*/ 21909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9"/>
            <p:cNvSpPr/>
            <p:nvPr/>
          </p:nvSpPr>
          <p:spPr>
            <a:xfrm flipH="1">
              <a:off x="4723920" y="4648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Rules for Argument L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219320" y="1371600"/>
            <a:ext cx="876276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.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numb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of actual arguments used in a function cal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 (Arabic)"/>
              </a:rPr>
              <a:t>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 (Arabic)"/>
              </a:rPr>
              <a:t>the s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as the number of the formal parameters listed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 prototype and defin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219320" y="2743200"/>
            <a:ext cx="876276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.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Or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of the arguments in the lists determines correspon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 (Arabic)"/>
              </a:rPr>
              <a:t>must be the s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in arguments and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he first actual argument corresponds to the first formal paramet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he second actual argument corresponds to the second 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arameter and so 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1219320" y="4952880"/>
            <a:ext cx="8762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.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data typ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of the actual argument and the formal 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 (Arabic)"/>
              </a:rPr>
              <a:t>must mat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295280" y="114300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rototype&amp; definition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doubl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squared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int x, double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95280" y="350532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all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y =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 squared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x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Group 8"/>
          <p:cNvGrpSpPr/>
          <p:nvPr/>
        </p:nvGrpSpPr>
        <p:grpSpPr>
          <a:xfrm>
            <a:off x="1302840" y="1981080"/>
            <a:ext cx="6152760" cy="3344760"/>
            <a:chOff x="1302840" y="1981080"/>
            <a:chExt cx="6152760" cy="3344760"/>
          </a:xfrm>
        </p:grpSpPr>
        <p:sp>
          <p:nvSpPr>
            <p:cNvPr id="370" name="Text Box 9"/>
            <p:cNvSpPr/>
            <p:nvPr/>
          </p:nvSpPr>
          <p:spPr>
            <a:xfrm>
              <a:off x="1302840" y="4745160"/>
              <a:ext cx="209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What is returned fro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the function (i.e. resul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10"/>
            <p:cNvSpPr/>
            <p:nvPr/>
          </p:nvSpPr>
          <p:spPr>
            <a:xfrm>
              <a:off x="1302840" y="2459160"/>
              <a:ext cx="209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What is returned fro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the function (i.e. resul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11"/>
            <p:cNvSpPr/>
            <p:nvPr/>
          </p:nvSpPr>
          <p:spPr>
            <a:xfrm>
              <a:off x="5034600" y="4745160"/>
              <a:ext cx="24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What is sent to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2"/>
            <p:cNvSpPr/>
            <p:nvPr/>
          </p:nvSpPr>
          <p:spPr>
            <a:xfrm>
              <a:off x="5034600" y="2459160"/>
              <a:ext cx="24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What is sent to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>
              <a:off x="1447920" y="1981080"/>
              <a:ext cx="0" cy="3812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4"/>
            <p:cNvSpPr/>
            <p:nvPr/>
          </p:nvSpPr>
          <p:spPr>
            <a:xfrm>
              <a:off x="1447920" y="4303800"/>
              <a:ext cx="0" cy="3808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5"/>
            <p:cNvSpPr/>
            <p:nvPr/>
          </p:nvSpPr>
          <p:spPr>
            <a:xfrm>
              <a:off x="3505320" y="4267080"/>
              <a:ext cx="1752480" cy="381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>
              <a:off x="5257800" y="1981080"/>
              <a:ext cx="1752480" cy="381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Types of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1219320" y="1295280"/>
            <a:ext cx="87627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eceiv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from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totype &amp; definition: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return_typ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function_nam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(parameter 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all: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ariable_name =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 function_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argument 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219320" y="3200400"/>
            <a:ext cx="87627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rece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totype &amp; definition: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oid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function_nam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(parameter 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all: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 function_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argument 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2"/>
          <p:cNvSpPr/>
          <p:nvPr/>
        </p:nvSpPr>
        <p:spPr>
          <a:xfrm>
            <a:off x="114300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929628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114300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10628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14300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Types of Functions (Contin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1143000" y="1295280"/>
            <a:ext cx="876312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eceiv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ta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totype &amp; definition: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return_typ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function_nam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all: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ariable_name =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 function_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1143000" y="3200400"/>
            <a:ext cx="876312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ta from 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totype &amp; definition: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oid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function_name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all: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function_nam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Line 2"/>
          <p:cNvSpPr/>
          <p:nvPr/>
        </p:nvSpPr>
        <p:spPr>
          <a:xfrm>
            <a:off x="1030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99360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9183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030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s of Function Prototype &amp;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030320" y="12952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float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squared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int numb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7"/>
          <p:cNvGrpSpPr/>
          <p:nvPr/>
        </p:nvGrpSpPr>
        <p:grpSpPr>
          <a:xfrm>
            <a:off x="1030320" y="1752480"/>
            <a:ext cx="3505320" cy="961920"/>
            <a:chOff x="1030320" y="1752480"/>
            <a:chExt cx="3505320" cy="961920"/>
          </a:xfrm>
        </p:grpSpPr>
        <p:sp>
          <p:nvSpPr>
            <p:cNvPr id="397" name="Text Box 8"/>
            <p:cNvSpPr/>
            <p:nvPr/>
          </p:nvSpPr>
          <p:spPr>
            <a:xfrm>
              <a:off x="1030320" y="2133720"/>
              <a:ext cx="350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Returns back a float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to the 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9"/>
            <p:cNvSpPr/>
            <p:nvPr/>
          </p:nvSpPr>
          <p:spPr>
            <a:xfrm>
              <a:off x="1411560" y="1752480"/>
              <a:ext cx="0" cy="3812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10"/>
          <p:cNvGrpSpPr/>
          <p:nvPr/>
        </p:nvGrpSpPr>
        <p:grpSpPr>
          <a:xfrm>
            <a:off x="4535640" y="1752480"/>
            <a:ext cx="3449520" cy="1058760"/>
            <a:chOff x="4535640" y="1752480"/>
            <a:chExt cx="3449520" cy="1058760"/>
          </a:xfrm>
        </p:grpSpPr>
        <p:sp>
          <p:nvSpPr>
            <p:cNvPr id="400" name="Text Box 11"/>
            <p:cNvSpPr/>
            <p:nvPr/>
          </p:nvSpPr>
          <p:spPr>
            <a:xfrm>
              <a:off x="4771800" y="2230560"/>
              <a:ext cx="321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An integer type called number is s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to the function squa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2"/>
            <p:cNvSpPr/>
            <p:nvPr/>
          </p:nvSpPr>
          <p:spPr>
            <a:xfrm>
              <a:off x="4535640" y="1752480"/>
              <a:ext cx="457200" cy="381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Text Box 13"/>
          <p:cNvSpPr/>
          <p:nvPr/>
        </p:nvSpPr>
        <p:spPr>
          <a:xfrm>
            <a:off x="1030320" y="32767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oid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print_report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int report_numb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1030320" y="3733920"/>
            <a:ext cx="3505320" cy="961560"/>
            <a:chOff x="1030320" y="3733920"/>
            <a:chExt cx="3505320" cy="961560"/>
          </a:xfrm>
        </p:grpSpPr>
        <p:sp>
          <p:nvSpPr>
            <p:cNvPr id="404" name="Text Box 15"/>
            <p:cNvSpPr/>
            <p:nvPr/>
          </p:nvSpPr>
          <p:spPr>
            <a:xfrm>
              <a:off x="1030320" y="4114800"/>
              <a:ext cx="350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Returns not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to the 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1411560" y="3733920"/>
              <a:ext cx="0" cy="3808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4535640" y="3733920"/>
            <a:ext cx="3522960" cy="1058400"/>
            <a:chOff x="4535640" y="3733920"/>
            <a:chExt cx="3522960" cy="1058400"/>
          </a:xfrm>
        </p:grpSpPr>
        <p:sp>
          <p:nvSpPr>
            <p:cNvPr id="407" name="Text Box 18"/>
            <p:cNvSpPr/>
            <p:nvPr/>
          </p:nvSpPr>
          <p:spPr>
            <a:xfrm>
              <a:off x="4771800" y="4211640"/>
              <a:ext cx="328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An integer type called report_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is sent to the function print_re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9"/>
            <p:cNvSpPr/>
            <p:nvPr/>
          </p:nvSpPr>
          <p:spPr>
            <a:xfrm>
              <a:off x="4535640" y="3733920"/>
              <a:ext cx="45720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Line 2"/>
          <p:cNvSpPr/>
          <p:nvPr/>
        </p:nvSpPr>
        <p:spPr>
          <a:xfrm>
            <a:off x="10666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10299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92203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0666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s of Function Prototype &amp;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1066680" y="12952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char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get_menu_choice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7"/>
          <p:cNvGrpSpPr/>
          <p:nvPr/>
        </p:nvGrpSpPr>
        <p:grpSpPr>
          <a:xfrm>
            <a:off x="1066680" y="1752480"/>
            <a:ext cx="3505320" cy="961920"/>
            <a:chOff x="1066680" y="1752480"/>
            <a:chExt cx="3505320" cy="961920"/>
          </a:xfrm>
        </p:grpSpPr>
        <p:sp>
          <p:nvSpPr>
            <p:cNvPr id="415" name="Text Box 8"/>
            <p:cNvSpPr/>
            <p:nvPr/>
          </p:nvSpPr>
          <p:spPr>
            <a:xfrm>
              <a:off x="1066680" y="2133720"/>
              <a:ext cx="350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Returns back a character type to the 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9"/>
            <p:cNvSpPr/>
            <p:nvPr/>
          </p:nvSpPr>
          <p:spPr>
            <a:xfrm>
              <a:off x="1447920" y="1752480"/>
              <a:ext cx="0" cy="3812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4572000" y="1752480"/>
            <a:ext cx="2881440" cy="1058760"/>
            <a:chOff x="4572000" y="1752480"/>
            <a:chExt cx="2881440" cy="1058760"/>
          </a:xfrm>
        </p:grpSpPr>
        <p:sp>
          <p:nvSpPr>
            <p:cNvPr id="418" name="Text Box 11"/>
            <p:cNvSpPr/>
            <p:nvPr/>
          </p:nvSpPr>
          <p:spPr>
            <a:xfrm>
              <a:off x="4805280" y="2230560"/>
              <a:ext cx="264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Nothing is sent to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get_menu_cho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12"/>
            <p:cNvSpPr/>
            <p:nvPr/>
          </p:nvSpPr>
          <p:spPr>
            <a:xfrm>
              <a:off x="4572000" y="1752480"/>
              <a:ext cx="457200" cy="381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Text Box 13"/>
          <p:cNvSpPr/>
          <p:nvPr/>
        </p:nvSpPr>
        <p:spPr>
          <a:xfrm>
            <a:off x="1066680" y="32767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Arial"/>
              </a:rPr>
              <a:t>Void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Arial"/>
              </a:rPr>
              <a:t>print_comment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1066680" y="3733920"/>
            <a:ext cx="3505320" cy="961560"/>
            <a:chOff x="1066680" y="3733920"/>
            <a:chExt cx="3505320" cy="961560"/>
          </a:xfrm>
        </p:grpSpPr>
        <p:sp>
          <p:nvSpPr>
            <p:cNvPr id="422" name="Text Box 15"/>
            <p:cNvSpPr/>
            <p:nvPr/>
          </p:nvSpPr>
          <p:spPr>
            <a:xfrm>
              <a:off x="1066680" y="4114800"/>
              <a:ext cx="350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Returns not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6633"/>
                  </a:solidFill>
                  <a:latin typeface="Times New Roman"/>
                  <a:ea typeface="Times New Roman (Arabic)"/>
                </a:rPr>
                <a:t>to the main 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16"/>
            <p:cNvSpPr/>
            <p:nvPr/>
          </p:nvSpPr>
          <p:spPr>
            <a:xfrm>
              <a:off x="1447920" y="3733920"/>
              <a:ext cx="0" cy="3808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4572000" y="3733920"/>
            <a:ext cx="2931840" cy="1058400"/>
            <a:chOff x="4572000" y="3733920"/>
            <a:chExt cx="2931840" cy="1058400"/>
          </a:xfrm>
        </p:grpSpPr>
        <p:sp>
          <p:nvSpPr>
            <p:cNvPr id="425" name="Text Box 18"/>
            <p:cNvSpPr/>
            <p:nvPr/>
          </p:nvSpPr>
          <p:spPr>
            <a:xfrm>
              <a:off x="4805640" y="4211640"/>
              <a:ext cx="269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Nothing is sent to the fun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print_com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4572000" y="3733920"/>
              <a:ext cx="457200" cy="380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12193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219320" y="3808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ogram Examp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1219320" y="1371600"/>
            <a:ext cx="876276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omputes half of the value of x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half_of(float k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y=half_of(x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ling fun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half_of(float k)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k = k /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return(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6"/>
          <p:cNvGrpSpPr/>
          <p:nvPr/>
        </p:nvGrpSpPr>
        <p:grpSpPr>
          <a:xfrm>
            <a:off x="2971800" y="3457440"/>
            <a:ext cx="761760" cy="990720"/>
            <a:chOff x="2971800" y="3457440"/>
            <a:chExt cx="761760" cy="990720"/>
          </a:xfrm>
        </p:grpSpPr>
        <p:sp>
          <p:nvSpPr>
            <p:cNvPr id="432" name="Line 7"/>
            <p:cNvSpPr/>
            <p:nvPr/>
          </p:nvSpPr>
          <p:spPr>
            <a:xfrm>
              <a:off x="2971800" y="3457440"/>
              <a:ext cx="761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>
              <a:off x="3733560" y="3457440"/>
              <a:ext cx="0" cy="990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H="1">
              <a:off x="3504600" y="4448160"/>
              <a:ext cx="2286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10"/>
          <p:cNvGrpSpPr/>
          <p:nvPr/>
        </p:nvGrpSpPr>
        <p:grpSpPr>
          <a:xfrm>
            <a:off x="1066320" y="3762360"/>
            <a:ext cx="228960" cy="1752480"/>
            <a:chOff x="1066320" y="3762360"/>
            <a:chExt cx="228960" cy="1752480"/>
          </a:xfrm>
        </p:grpSpPr>
        <p:sp>
          <p:nvSpPr>
            <p:cNvPr id="436" name="Line 11"/>
            <p:cNvSpPr/>
            <p:nvPr/>
          </p:nvSpPr>
          <p:spPr>
            <a:xfrm flipH="1">
              <a:off x="1066320" y="5514840"/>
              <a:ext cx="1522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12"/>
            <p:cNvSpPr/>
            <p:nvPr/>
          </p:nvSpPr>
          <p:spPr>
            <a:xfrm flipV="1">
              <a:off x="1066680" y="3762360"/>
              <a:ext cx="0" cy="17524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3"/>
            <p:cNvSpPr/>
            <p:nvPr/>
          </p:nvSpPr>
          <p:spPr>
            <a:xfrm>
              <a:off x="1066680" y="376236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Text Box 14"/>
          <p:cNvSpPr/>
          <p:nvPr/>
        </p:nvSpPr>
        <p:spPr>
          <a:xfrm>
            <a:off x="9064800" y="6343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e-defined and User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95280" y="11430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e-defined Fun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17524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s a function that is already defined in one of the many C librar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295280" y="2286000"/>
            <a:ext cx="87631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included in the program through the preprocessor dir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tatemen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   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and used in the program to perfor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pecific ta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295280" y="358128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x: 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4495680" y="3678120"/>
            <a:ext cx="3652920" cy="337320"/>
            <a:chOff x="4495680" y="3678120"/>
            <a:chExt cx="3652920" cy="337320"/>
          </a:xfrm>
        </p:grpSpPr>
        <p:sp>
          <p:nvSpPr>
            <p:cNvPr id="107" name="Line 11"/>
            <p:cNvSpPr/>
            <p:nvPr/>
          </p:nvSpPr>
          <p:spPr>
            <a:xfrm>
              <a:off x="4495680" y="3809880"/>
              <a:ext cx="7621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5342040" y="3678120"/>
              <a:ext cx="28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Defines printf &amp; scanf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13"/>
          <p:cNvSpPr/>
          <p:nvPr/>
        </p:nvSpPr>
        <p:spPr>
          <a:xfrm>
            <a:off x="1295280" y="419112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User-defined Fun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295280" y="47242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s a function that is created by the us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295280" y="525780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t is defined before the main program through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 proto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nd called upon in the main program to perform a specific ta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Line 2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ogram Examp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295280" y="1371600"/>
            <a:ext cx="87631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omputes the cube of nu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cubed(int x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y=cubed(num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ling fun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cubed(int x)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return(x*x*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6"/>
          <p:cNvGrpSpPr/>
          <p:nvPr/>
        </p:nvGrpSpPr>
        <p:grpSpPr>
          <a:xfrm>
            <a:off x="3048120" y="3457440"/>
            <a:ext cx="761760" cy="990720"/>
            <a:chOff x="3048120" y="3457440"/>
            <a:chExt cx="761760" cy="990720"/>
          </a:xfrm>
        </p:grpSpPr>
        <p:sp>
          <p:nvSpPr>
            <p:cNvPr id="445" name="Line 7"/>
            <p:cNvSpPr/>
            <p:nvPr/>
          </p:nvSpPr>
          <p:spPr>
            <a:xfrm>
              <a:off x="3048120" y="3457440"/>
              <a:ext cx="761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"/>
            <p:cNvSpPr/>
            <p:nvPr/>
          </p:nvSpPr>
          <p:spPr>
            <a:xfrm>
              <a:off x="3809880" y="3457440"/>
              <a:ext cx="0" cy="990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9"/>
            <p:cNvSpPr/>
            <p:nvPr/>
          </p:nvSpPr>
          <p:spPr>
            <a:xfrm flipH="1">
              <a:off x="3048120" y="4448160"/>
              <a:ext cx="761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10"/>
          <p:cNvGrpSpPr/>
          <p:nvPr/>
        </p:nvGrpSpPr>
        <p:grpSpPr>
          <a:xfrm>
            <a:off x="1142640" y="3762000"/>
            <a:ext cx="228960" cy="1447920"/>
            <a:chOff x="1142640" y="3762000"/>
            <a:chExt cx="228960" cy="1447920"/>
          </a:xfrm>
        </p:grpSpPr>
        <p:sp>
          <p:nvSpPr>
            <p:cNvPr id="449" name="Line 11"/>
            <p:cNvSpPr/>
            <p:nvPr/>
          </p:nvSpPr>
          <p:spPr>
            <a:xfrm flipH="1">
              <a:off x="1142640" y="5209920"/>
              <a:ext cx="1522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2"/>
            <p:cNvSpPr/>
            <p:nvPr/>
          </p:nvSpPr>
          <p:spPr>
            <a:xfrm flipV="1">
              <a:off x="1143000" y="3762000"/>
              <a:ext cx="0" cy="1447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3"/>
            <p:cNvSpPr/>
            <p:nvPr/>
          </p:nvSpPr>
          <p:spPr>
            <a:xfrm>
              <a:off x="1143000" y="376236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14"/>
          <p:cNvSpPr/>
          <p:nvPr/>
        </p:nvSpPr>
        <p:spPr>
          <a:xfrm>
            <a:off x="9140760" y="634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Line 2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ogram Examp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295280" y="1371600"/>
            <a:ext cx="87631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displays the largest of two numbe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larger(int x,int y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y=larger(num1,num2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ling fun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larger(int x,int y)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return(larger_nu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Group 6"/>
          <p:cNvGrpSpPr/>
          <p:nvPr/>
        </p:nvGrpSpPr>
        <p:grpSpPr>
          <a:xfrm>
            <a:off x="3505320" y="3533760"/>
            <a:ext cx="457200" cy="914400"/>
            <a:chOff x="3505320" y="3533760"/>
            <a:chExt cx="457200" cy="914400"/>
          </a:xfrm>
        </p:grpSpPr>
        <p:sp>
          <p:nvSpPr>
            <p:cNvPr id="458" name="Line 7"/>
            <p:cNvSpPr/>
            <p:nvPr/>
          </p:nvSpPr>
          <p:spPr>
            <a:xfrm>
              <a:off x="3886200" y="3533760"/>
              <a:ext cx="763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3962520" y="3533760"/>
              <a:ext cx="0" cy="9144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 flipH="1">
              <a:off x="3505320" y="4448160"/>
              <a:ext cx="4572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Text Box 10"/>
          <p:cNvSpPr/>
          <p:nvPr/>
        </p:nvSpPr>
        <p:spPr>
          <a:xfrm>
            <a:off x="9140760" y="634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142640" y="3762360"/>
            <a:ext cx="228960" cy="1752480"/>
            <a:chOff x="1142640" y="3762360"/>
            <a:chExt cx="228960" cy="1752480"/>
          </a:xfrm>
        </p:grpSpPr>
        <p:sp>
          <p:nvSpPr>
            <p:cNvPr id="463" name="Line 12"/>
            <p:cNvSpPr/>
            <p:nvPr/>
          </p:nvSpPr>
          <p:spPr>
            <a:xfrm flipH="1">
              <a:off x="1142640" y="5514840"/>
              <a:ext cx="1522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3"/>
            <p:cNvSpPr/>
            <p:nvPr/>
          </p:nvSpPr>
          <p:spPr>
            <a:xfrm flipV="1">
              <a:off x="1143000" y="3762360"/>
              <a:ext cx="0" cy="17524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14"/>
            <p:cNvSpPr/>
            <p:nvPr/>
          </p:nvSpPr>
          <p:spPr>
            <a:xfrm>
              <a:off x="1143000" y="3762360"/>
              <a:ext cx="2286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Line 2"/>
          <p:cNvSpPr/>
          <p:nvPr/>
        </p:nvSpPr>
        <p:spPr>
          <a:xfrm>
            <a:off x="12193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1219320" y="3808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ogram Examp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1219320" y="1371600"/>
            <a:ext cx="87627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culates the area and circumferencce of a circ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find_area(float r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find_circum(float r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proto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area = find_area(r);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ling fun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circum = find_circum(r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calling fun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find_area(float r)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function defini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 return(PI*POW(r,2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float find_circum(float 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return(2.0*PI*r)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9064800" y="6343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1219320" y="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1219320" y="609480"/>
            <a:ext cx="87627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cmath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double n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a real number&gt;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 “Enter an integ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Result of call to function scale is \n",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scale(num1,num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This function multiplies its first  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   double scale_factor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argument by the power of 10      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scale_factor = pow(10,n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* specified by its second argumn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return(x * scale_factor);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219320" y="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219320" y="609480"/>
            <a:ext cx="87627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 include&lt;cmat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print_com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double num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  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print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_com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a real numb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an integ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Result of call to function scale is \n",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scale(num1,num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print_comment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{   cout &lt;&lt; "The program will .......... \n"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 {    .....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295280" y="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295280" y="608040"/>
            <a:ext cx="87631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 include&lt;cmat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display(double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double num1,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  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a real numb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Enter an integ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in &gt;&gt;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result = scale(num1,num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display(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   .....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void display(double resu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{   printf("Result of call to function scale is %.2f\n", result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1219320" y="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1219320" y="554040"/>
            <a:ext cx="8762760" cy="46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 include&lt;cmat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double get_num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int get_num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double num1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   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num1 = get_num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num2 = get_num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"Result of call to function scale is\n",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scale(num1,num2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double get_num1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{   double number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cout &lt;&lt; "Enter a real number&gt;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cin &gt;&gt; number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  <a:ea typeface="Times New Roman (Arabic)"/>
              </a:rPr>
              <a:t>return(number1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int get_num2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{   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996633"/>
                </a:solidFill>
                <a:latin typeface="Times New Roman"/>
                <a:ea typeface="Times New Roman (Arabic)"/>
              </a:rPr>
              <a:t>return(number2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double scale(double x, int n) {   .....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1295280" y="3808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Global and Local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1295280" y="114300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raditional Arabic"/>
              </a:rPr>
              <a:t>Local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1295280" y="18288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When the declaration is placed at the start of the main function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sub-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1295280" y="28954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raditional Arabic"/>
              </a:rPr>
              <a:t>Global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9"/>
          <p:cNvSpPr/>
          <p:nvPr/>
        </p:nvSpPr>
        <p:spPr>
          <a:xfrm>
            <a:off x="1295280" y="35812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When the declaration is placed immediately after the pre-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irec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1295280" y="4572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  <a:ea typeface="Traditional Arabic"/>
              </a:rPr>
              <a:t>IMPORTANT: in the C programming language local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  <a:ea typeface="Traditional Arabic"/>
              </a:rPr>
              <a:t>have precedence over global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295280" y="3808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Global and Local Decla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1295280" y="1143000"/>
            <a:ext cx="838224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raditional Arabic"/>
              </a:rPr>
              <a:t>/* global declaration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raditional Arabic"/>
              </a:rPr>
              <a:t>/* local declaration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295280" y="1792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295280" y="838080"/>
            <a:ext cx="87631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1313f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1313f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1313f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1313f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z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” &lt;&lt; 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7"/>
          <p:cNvGrpSpPr/>
          <p:nvPr/>
        </p:nvGrpSpPr>
        <p:grpSpPr>
          <a:xfrm>
            <a:off x="1295280" y="4516560"/>
            <a:ext cx="8382240" cy="1655640"/>
            <a:chOff x="1295280" y="4516560"/>
            <a:chExt cx="8382240" cy="1655640"/>
          </a:xfrm>
        </p:grpSpPr>
        <p:sp>
          <p:nvSpPr>
            <p:cNvPr id="511" name="Rectangle 8"/>
            <p:cNvSpPr/>
            <p:nvPr/>
          </p:nvSpPr>
          <p:spPr>
            <a:xfrm>
              <a:off x="1295280" y="5029200"/>
              <a:ext cx="838224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9"/>
            <p:cNvSpPr/>
            <p:nvPr/>
          </p:nvSpPr>
          <p:spPr>
            <a:xfrm>
              <a:off x="1375920" y="5126040"/>
              <a:ext cx="3935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-42736565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0"/>
            <p:cNvSpPr/>
            <p:nvPr/>
          </p:nvSpPr>
          <p:spPr>
            <a:xfrm flipH="1">
              <a:off x="6781320" y="4800600"/>
              <a:ext cx="838440" cy="380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7620120" y="451656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Unkn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e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219320" y="114300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Arithmetic Fun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219320" y="175248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e functions that perform arithmetic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219320" y="2362320"/>
            <a:ext cx="876276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They are usually located in the 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m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librar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see page 10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219320" y="3276720"/>
            <a:ext cx="8762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219320" y="3886200"/>
            <a:ext cx="876276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bs(x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is a function that returns the absolute value of its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argu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219320" y="4724280"/>
            <a:ext cx="8762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sqrt(x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is a function that returns the square root of 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219320" y="17928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219320" y="838080"/>
            <a:ext cx="8762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glob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{   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z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” &lt;&lt; z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7"/>
          <p:cNvGrpSpPr/>
          <p:nvPr/>
        </p:nvGrpSpPr>
        <p:grpSpPr>
          <a:xfrm>
            <a:off x="76320" y="2133720"/>
            <a:ext cx="8762400" cy="4038480"/>
            <a:chOff x="76320" y="2133720"/>
            <a:chExt cx="8762400" cy="4038480"/>
          </a:xfrm>
        </p:grpSpPr>
        <p:sp>
          <p:nvSpPr>
            <p:cNvPr id="521" name="Rectangle 8"/>
            <p:cNvSpPr/>
            <p:nvPr/>
          </p:nvSpPr>
          <p:spPr>
            <a:xfrm>
              <a:off x="76320" y="5029200"/>
              <a:ext cx="83818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9"/>
            <p:cNvSpPr/>
            <p:nvPr/>
          </p:nvSpPr>
          <p:spPr>
            <a:xfrm>
              <a:off x="156600" y="5126040"/>
              <a:ext cx="3935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-42736565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10"/>
            <p:cNvSpPr/>
            <p:nvPr/>
          </p:nvSpPr>
          <p:spPr>
            <a:xfrm>
              <a:off x="5130720" y="2133720"/>
              <a:ext cx="37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Gives the same result as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previous program since local declarations have preced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over global decla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>
              <a:off x="7924680" y="3429000"/>
              <a:ext cx="0" cy="1523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295280" y="1792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1295280" y="838080"/>
            <a:ext cx="8763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glob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z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\n” &lt;&lt;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\n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7"/>
          <p:cNvGrpSpPr/>
          <p:nvPr/>
        </p:nvGrpSpPr>
        <p:grpSpPr>
          <a:xfrm>
            <a:off x="762120" y="5029200"/>
            <a:ext cx="8381880" cy="1143000"/>
            <a:chOff x="762120" y="5029200"/>
            <a:chExt cx="8381880" cy="1143000"/>
          </a:xfrm>
        </p:grpSpPr>
        <p:sp>
          <p:nvSpPr>
            <p:cNvPr id="531" name="Rectangle 8"/>
            <p:cNvSpPr/>
            <p:nvPr/>
          </p:nvSpPr>
          <p:spPr>
            <a:xfrm>
              <a:off x="762120" y="5029200"/>
              <a:ext cx="83818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9"/>
            <p:cNvSpPr/>
            <p:nvPr/>
          </p:nvSpPr>
          <p:spPr>
            <a:xfrm>
              <a:off x="846360" y="5126040"/>
              <a:ext cx="370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Line 10"/>
          <p:cNvSpPr/>
          <p:nvPr/>
        </p:nvSpPr>
        <p:spPr>
          <a:xfrm>
            <a:off x="1676520" y="2286000"/>
            <a:ext cx="39621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1"/>
          <p:cNvSpPr/>
          <p:nvPr/>
        </p:nvSpPr>
        <p:spPr>
          <a:xfrm>
            <a:off x="1676520" y="3505320"/>
            <a:ext cx="39621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1295280" y="1792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1295280" y="838080"/>
            <a:ext cx="8763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 = 2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glob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 = 5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\n” &lt;&lt; 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\n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609480" y="5029200"/>
            <a:ext cx="8382240" cy="1143000"/>
            <a:chOff x="609480" y="5029200"/>
            <a:chExt cx="8382240" cy="1143000"/>
          </a:xfrm>
        </p:grpSpPr>
        <p:sp>
          <p:nvSpPr>
            <p:cNvPr id="541" name="Rectangle 8"/>
            <p:cNvSpPr/>
            <p:nvPr/>
          </p:nvSpPr>
          <p:spPr>
            <a:xfrm>
              <a:off x="609480" y="5029200"/>
              <a:ext cx="838224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9"/>
            <p:cNvSpPr/>
            <p:nvPr/>
          </p:nvSpPr>
          <p:spPr>
            <a:xfrm>
              <a:off x="694080" y="5126040"/>
              <a:ext cx="370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Line 10"/>
          <p:cNvSpPr/>
          <p:nvPr/>
        </p:nvSpPr>
        <p:spPr>
          <a:xfrm>
            <a:off x="1676520" y="3352680"/>
            <a:ext cx="39621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2"/>
          <p:cNvSpPr/>
          <p:nvPr/>
        </p:nvSpPr>
        <p:spPr>
          <a:xfrm>
            <a:off x="114300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10628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929628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143000" y="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143000" y="549360"/>
            <a:ext cx="87631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glob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z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\n”&lt;&lt;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\n” &lt;&lt; 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z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\n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cout &lt;&lt; “The value of z inside functin2 is \n”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7"/>
          <p:cNvGrpSpPr/>
          <p:nvPr/>
        </p:nvGrpSpPr>
        <p:grpSpPr>
          <a:xfrm>
            <a:off x="1143000" y="5029200"/>
            <a:ext cx="8381880" cy="1143000"/>
            <a:chOff x="1143000" y="5029200"/>
            <a:chExt cx="8381880" cy="1143000"/>
          </a:xfrm>
        </p:grpSpPr>
        <p:sp>
          <p:nvSpPr>
            <p:cNvPr id="550" name="Rectangle 8"/>
            <p:cNvSpPr/>
            <p:nvPr/>
          </p:nvSpPr>
          <p:spPr>
            <a:xfrm>
              <a:off x="1143000" y="5029200"/>
              <a:ext cx="83818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9"/>
            <p:cNvSpPr/>
            <p:nvPr/>
          </p:nvSpPr>
          <p:spPr>
            <a:xfrm>
              <a:off x="1227240" y="5064120"/>
              <a:ext cx="3704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2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219320" y="603360"/>
            <a:ext cx="87627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#include&lt;iostrea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sing namespace st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glob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z = 1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1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\n” &lt;&lt; 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on main is \n” &lt;&lt; 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return 0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z = 1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1 is \n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void function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{   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int z;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Times New Roman"/>
                <a:ea typeface="Times New Roman (Arabic)"/>
              </a:rPr>
              <a:t>/* local declar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cout &lt;&lt; “The value of z inside functin2 is \n” &lt;&lt; z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1219320" y="0"/>
            <a:ext cx="83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1219320" y="5029200"/>
            <a:ext cx="8381880" cy="1143000"/>
            <a:chOff x="1219320" y="5029200"/>
            <a:chExt cx="8381880" cy="1143000"/>
          </a:xfrm>
        </p:grpSpPr>
        <p:sp>
          <p:nvSpPr>
            <p:cNvPr id="558" name="Rectangle 8"/>
            <p:cNvSpPr/>
            <p:nvPr/>
          </p:nvSpPr>
          <p:spPr>
            <a:xfrm>
              <a:off x="1219320" y="5029200"/>
              <a:ext cx="838188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9"/>
            <p:cNvSpPr/>
            <p:nvPr/>
          </p:nvSpPr>
          <p:spPr>
            <a:xfrm>
              <a:off x="1299600" y="5064120"/>
              <a:ext cx="39358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1 is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function2 is -7574577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The value of z inside the function main is 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Press any key to 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0"/>
            <p:cNvSpPr/>
            <p:nvPr/>
          </p:nvSpPr>
          <p:spPr>
            <a:xfrm flipH="1">
              <a:off x="5714640" y="5334120"/>
              <a:ext cx="837720" cy="228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1"/>
            <p:cNvSpPr/>
            <p:nvPr/>
          </p:nvSpPr>
          <p:spPr>
            <a:xfrm>
              <a:off x="6553080" y="512928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  <a:ea typeface="Times New Roman (Arabic)"/>
                </a:rPr>
                <a:t>Unkn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026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29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e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30"/>
          <p:cNvSpPr/>
          <p:nvPr/>
        </p:nvSpPr>
        <p:spPr>
          <a:xfrm>
            <a:off x="1295280" y="11430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Function call in an Assignment Statement</a:t>
            </a: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31"/>
          <p:cNvSpPr/>
          <p:nvPr/>
        </p:nvSpPr>
        <p:spPr>
          <a:xfrm>
            <a:off x="1295280" y="175248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Synta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2"/>
          <p:cNvSpPr/>
          <p:nvPr/>
        </p:nvSpPr>
        <p:spPr>
          <a:xfrm>
            <a:off x="1295280" y="236232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function name(argum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33"/>
          <p:cNvSpPr/>
          <p:nvPr/>
        </p:nvSpPr>
        <p:spPr>
          <a:xfrm>
            <a:off x="1295280" y="29718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34"/>
          <p:cNvSpPr/>
          <p:nvPr/>
        </p:nvSpPr>
        <p:spPr>
          <a:xfrm>
            <a:off x="1295280" y="3581280"/>
            <a:ext cx="8763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sqrt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035"/>
          <p:cNvGrpSpPr/>
          <p:nvPr/>
        </p:nvGrpSpPr>
        <p:grpSpPr>
          <a:xfrm>
            <a:off x="1527840" y="4038480"/>
            <a:ext cx="1215360" cy="510480"/>
            <a:chOff x="1527840" y="4038480"/>
            <a:chExt cx="1215360" cy="510480"/>
          </a:xfrm>
        </p:grpSpPr>
        <p:sp>
          <p:nvSpPr>
            <p:cNvPr id="134" name="Line 1036"/>
            <p:cNvSpPr/>
            <p:nvPr/>
          </p:nvSpPr>
          <p:spPr>
            <a:xfrm>
              <a:off x="1905120" y="4038480"/>
              <a:ext cx="8380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1037"/>
            <p:cNvSpPr/>
            <p:nvPr/>
          </p:nvSpPr>
          <p:spPr>
            <a:xfrm>
              <a:off x="1527840" y="421164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38"/>
          <p:cNvGrpSpPr/>
          <p:nvPr/>
        </p:nvGrpSpPr>
        <p:grpSpPr>
          <a:xfrm>
            <a:off x="3124080" y="4668840"/>
            <a:ext cx="4648320" cy="1274760"/>
            <a:chOff x="3124080" y="4668840"/>
            <a:chExt cx="4648320" cy="1274760"/>
          </a:xfrm>
        </p:grpSpPr>
        <p:sp>
          <p:nvSpPr>
            <p:cNvPr id="137" name="Line 1039"/>
            <p:cNvSpPr/>
            <p:nvPr/>
          </p:nvSpPr>
          <p:spPr>
            <a:xfrm>
              <a:off x="3505320" y="548640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40"/>
            <p:cNvSpPr/>
            <p:nvPr/>
          </p:nvSpPr>
          <p:spPr>
            <a:xfrm>
              <a:off x="6324480" y="548640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041"/>
            <p:cNvSpPr/>
            <p:nvPr/>
          </p:nvSpPr>
          <p:spPr>
            <a:xfrm>
              <a:off x="3124080" y="52578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042"/>
            <p:cNvSpPr/>
            <p:nvPr/>
          </p:nvSpPr>
          <p:spPr>
            <a:xfrm>
              <a:off x="7162920" y="52578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043"/>
            <p:cNvSpPr/>
            <p:nvPr/>
          </p:nvSpPr>
          <p:spPr>
            <a:xfrm>
              <a:off x="4343400" y="5029200"/>
              <a:ext cx="213372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1044"/>
            <p:cNvSpPr/>
            <p:nvPr/>
          </p:nvSpPr>
          <p:spPr>
            <a:xfrm>
              <a:off x="4495680" y="5181480"/>
              <a:ext cx="1905120" cy="51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square ro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compu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045"/>
            <p:cNvSpPr/>
            <p:nvPr/>
          </p:nvSpPr>
          <p:spPr>
            <a:xfrm>
              <a:off x="4537080" y="4668840"/>
              <a:ext cx="12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function sq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Pre-defined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295280" y="1143000"/>
            <a:ext cx="8763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Examples</a:t>
            </a:r>
            <a:r>
              <a:rPr b="0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295280" y="1828800"/>
            <a:ext cx="21337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 = 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abs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2971800" y="2306520"/>
            <a:ext cx="2887560" cy="337320"/>
            <a:chOff x="2971800" y="2306520"/>
            <a:chExt cx="2887560" cy="337320"/>
          </a:xfrm>
        </p:grpSpPr>
        <p:sp>
          <p:nvSpPr>
            <p:cNvPr id="151" name="Line 9"/>
            <p:cNvSpPr/>
            <p:nvPr/>
          </p:nvSpPr>
          <p:spPr>
            <a:xfrm>
              <a:off x="2971800" y="2514600"/>
              <a:ext cx="20574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259600" y="230652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y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1"/>
          <p:cNvSpPr/>
          <p:nvPr/>
        </p:nvSpPr>
        <p:spPr>
          <a:xfrm>
            <a:off x="1295280" y="2895480"/>
            <a:ext cx="21337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 = 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abs(x) +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3429000" y="3373560"/>
            <a:ext cx="2532240" cy="337320"/>
            <a:chOff x="3429000" y="3373560"/>
            <a:chExt cx="2532240" cy="337320"/>
          </a:xfrm>
        </p:grpSpPr>
        <p:sp>
          <p:nvSpPr>
            <p:cNvPr id="155" name="Line 13"/>
            <p:cNvSpPr/>
            <p:nvPr/>
          </p:nvSpPr>
          <p:spPr>
            <a:xfrm>
              <a:off x="3429000" y="3564000"/>
              <a:ext cx="1600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5259240" y="337356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y = 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5"/>
          <p:cNvSpPr/>
          <p:nvPr/>
        </p:nvSpPr>
        <p:spPr>
          <a:xfrm>
            <a:off x="1295280" y="4038480"/>
            <a:ext cx="21337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sqrt(x + 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3429000" y="4516560"/>
            <a:ext cx="2430360" cy="337320"/>
            <a:chOff x="3429000" y="4516560"/>
            <a:chExt cx="2430360" cy="337320"/>
          </a:xfrm>
        </p:grpSpPr>
        <p:sp>
          <p:nvSpPr>
            <p:cNvPr id="159" name="Line 17"/>
            <p:cNvSpPr/>
            <p:nvPr/>
          </p:nvSpPr>
          <p:spPr>
            <a:xfrm>
              <a:off x="3429000" y="4707000"/>
              <a:ext cx="16002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259600" y="4516560"/>
              <a:ext cx="5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y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Text Box 19"/>
          <p:cNvSpPr/>
          <p:nvPr/>
        </p:nvSpPr>
        <p:spPr>
          <a:xfrm>
            <a:off x="1295280" y="5181480"/>
            <a:ext cx="21337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x = 2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y = sqrt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2971800" y="5659560"/>
            <a:ext cx="3141720" cy="337320"/>
            <a:chOff x="2971800" y="5659560"/>
            <a:chExt cx="3141720" cy="337320"/>
          </a:xfrm>
        </p:grpSpPr>
        <p:sp>
          <p:nvSpPr>
            <p:cNvPr id="163" name="Line 21"/>
            <p:cNvSpPr/>
            <p:nvPr/>
          </p:nvSpPr>
          <p:spPr>
            <a:xfrm>
              <a:off x="2971800" y="5867280"/>
              <a:ext cx="205740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2"/>
            <p:cNvSpPr/>
            <p:nvPr/>
          </p:nvSpPr>
          <p:spPr>
            <a:xfrm>
              <a:off x="5259240" y="5659560"/>
              <a:ext cx="85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Times New Roman"/>
                  <a:ea typeface="Times New Roman (Arabic)"/>
                </a:rPr>
                <a:t>y = 1.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12952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25856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44892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808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Types of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295280" y="1295280"/>
            <a:ext cx="876312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eceiv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from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x. y=sqrt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295280" y="3733920"/>
            <a:ext cx="876312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rece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x. cout &lt;&lt; “Hi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2895480" y="4952880"/>
            <a:ext cx="3733920" cy="914400"/>
            <a:chOff x="2895480" y="4952880"/>
            <a:chExt cx="3733920" cy="914400"/>
          </a:xfrm>
        </p:grpSpPr>
        <p:sp>
          <p:nvSpPr>
            <p:cNvPr id="172" name="Line 9"/>
            <p:cNvSpPr/>
            <p:nvPr/>
          </p:nvSpPr>
          <p:spPr>
            <a:xfrm>
              <a:off x="3657600" y="54100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0"/>
            <p:cNvSpPr/>
            <p:nvPr/>
          </p:nvSpPr>
          <p:spPr>
            <a:xfrm>
              <a:off x="2895480" y="51814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Hi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495680" y="4952880"/>
              <a:ext cx="213372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4572000" y="5181480"/>
              <a:ext cx="19051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cout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"/>
          <p:cNvGrpSpPr/>
          <p:nvPr/>
        </p:nvGrpSpPr>
        <p:grpSpPr>
          <a:xfrm>
            <a:off x="3276720" y="2666880"/>
            <a:ext cx="4647960" cy="914400"/>
            <a:chOff x="3276720" y="2666880"/>
            <a:chExt cx="4647960" cy="914400"/>
          </a:xfrm>
        </p:grpSpPr>
        <p:sp>
          <p:nvSpPr>
            <p:cNvPr id="177" name="Line 14"/>
            <p:cNvSpPr/>
            <p:nvPr/>
          </p:nvSpPr>
          <p:spPr>
            <a:xfrm>
              <a:off x="3657600" y="31240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6477120" y="31240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3276720" y="2895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7315200" y="289548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8"/>
            <p:cNvSpPr/>
            <p:nvPr/>
          </p:nvSpPr>
          <p:spPr>
            <a:xfrm>
              <a:off x="4495680" y="2666880"/>
              <a:ext cx="213372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9"/>
            <p:cNvSpPr/>
            <p:nvPr/>
          </p:nvSpPr>
          <p:spPr>
            <a:xfrm>
              <a:off x="4572000" y="2895480"/>
              <a:ext cx="19051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sqrt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12193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18224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372600" y="63435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219320" y="380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Types of Functions (Contin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219320" y="1295280"/>
            <a:ext cx="876276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eceiv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ta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x. Number = Get_Numb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7"/>
          <p:cNvGrpSpPr/>
          <p:nvPr/>
        </p:nvGrpSpPr>
        <p:grpSpPr>
          <a:xfrm>
            <a:off x="4343400" y="2666880"/>
            <a:ext cx="4495680" cy="914400"/>
            <a:chOff x="4343400" y="2666880"/>
            <a:chExt cx="4495680" cy="914400"/>
          </a:xfrm>
        </p:grpSpPr>
        <p:sp>
          <p:nvSpPr>
            <p:cNvPr id="189" name="Rectangle 8"/>
            <p:cNvSpPr/>
            <p:nvPr/>
          </p:nvSpPr>
          <p:spPr>
            <a:xfrm>
              <a:off x="4343400" y="2666880"/>
              <a:ext cx="213336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9"/>
            <p:cNvSpPr/>
            <p:nvPr/>
          </p:nvSpPr>
          <p:spPr>
            <a:xfrm>
              <a:off x="4495680" y="2895480"/>
              <a:ext cx="19051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Get_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6400800" y="31240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7238880" y="28954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 (Arabic)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Text Box 12"/>
          <p:cNvSpPr/>
          <p:nvPr/>
        </p:nvSpPr>
        <p:spPr>
          <a:xfrm>
            <a:off x="1219320" y="3733920"/>
            <a:ext cx="876276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data to the function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oesn’t 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ta from the fun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x. Display_Com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3"/>
          <p:cNvGrpSpPr/>
          <p:nvPr/>
        </p:nvGrpSpPr>
        <p:grpSpPr>
          <a:xfrm>
            <a:off x="4343400" y="5105520"/>
            <a:ext cx="2133360" cy="914400"/>
            <a:chOff x="4343400" y="5105520"/>
            <a:chExt cx="2133360" cy="914400"/>
          </a:xfrm>
        </p:grpSpPr>
        <p:sp>
          <p:nvSpPr>
            <p:cNvPr id="195" name="Rectangle 14"/>
            <p:cNvSpPr/>
            <p:nvPr/>
          </p:nvSpPr>
          <p:spPr>
            <a:xfrm>
              <a:off x="4343400" y="5105520"/>
              <a:ext cx="213336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5"/>
            <p:cNvSpPr/>
            <p:nvPr/>
          </p:nvSpPr>
          <p:spPr>
            <a:xfrm>
              <a:off x="4400280" y="5334120"/>
              <a:ext cx="205740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Display_Com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295280" y="380880"/>
            <a:ext cx="83822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  <a:ea typeface="Times New Roman (Arabic)"/>
              </a:rPr>
              <a:t>Top-Down Design (Contin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73980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03080" y="63673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8585280" y="6343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609480" y="1722600"/>
          <a:ext cx="868392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22600"/>
                    <a:ext cx="868392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1:13Z</dcterms:created>
  <dc:creator>mwakil</dc:creator>
  <dc:description/>
  <dc:language>en-US</dc:language>
  <cp:lastModifiedBy>Khajamohammed Khaja Mustafa</cp:lastModifiedBy>
  <dcterms:modified xsi:type="dcterms:W3CDTF">2015-11-17T05:34:44Z</dcterms:modified>
  <cp:revision>18</cp:revision>
  <dc:subject/>
  <dc:title>PowerPoint Presentation</dc:title>
</cp:coreProperties>
</file>