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955-CAF7-42DC-A7DF-F578B95E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851-5DDD-494D-B326-7EE3E94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CD2-2261-49E5-B9B8-4348258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7C0-8F34-4846-9531-6ED4C395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BB6-BD12-426A-BD58-905A4A5A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F4B-A594-4C8E-B02D-6094D2C7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F1AB-5C57-4782-B489-8236FF38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3FD0-66A1-47C2-B10D-CD3CF442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B1CB-41AD-411B-84ED-43534929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B5E6-194F-4806-9153-3277BB94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5F2F-32E4-4809-849E-0DB8279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741-BF70-478F-959E-3FDA6AA7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962C-561E-4857-81BB-70CFC18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C2D-46C1-4CFF-8A30-D4580BF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7829-4C64-4C58-A57F-A7DE899B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75BD-F21B-45E1-88C7-ABFCC44A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CCB2-7142-4925-A201-2AFAA13B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165-8A72-4391-A2C0-6C287B8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C78-B7CC-4F5A-B485-F29F91F7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35B-1906-4D6C-B164-5701C142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47C-CC48-46ED-834B-94DAF56E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9AD-8B8E-40B7-81DE-9F8036E3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06C-B8BF-4309-8251-1EC16C5A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635-DA4B-4D0E-A95E-3F114CF1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DA8-65A9-4655-AEA8-576FFACFF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8711-E27E-4432-B305-028D89D511D8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Classes and</a:t>
            </a:r>
            <a:br>
              <a:rPr sz="5400"/>
            </a:b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Data Abstraction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pic 5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nk of a structure as an object without any membe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676520" y="3276720"/>
            <a:ext cx="2514600" cy="1999080"/>
            <a:chOff x="1676520" y="3276720"/>
            <a:chExt cx="2514600" cy="1999080"/>
          </a:xfrm>
        </p:grpSpPr>
        <p:grpSp>
          <p:nvGrpSpPr>
            <p:cNvPr id="145" name="Group 5"/>
            <p:cNvGrpSpPr/>
            <p:nvPr/>
          </p:nvGrpSpPr>
          <p:grpSpPr>
            <a:xfrm>
              <a:off x="1676520" y="3276720"/>
              <a:ext cx="2514600" cy="1999080"/>
              <a:chOff x="1676520" y="3276720"/>
              <a:chExt cx="2514600" cy="1999080"/>
            </a:xfrm>
          </p:grpSpPr>
          <p:sp>
            <p:nvSpPr>
              <p:cNvPr id="146" name="Text Box 6"/>
              <p:cNvSpPr/>
              <p:nvPr/>
            </p:nvSpPr>
            <p:spPr>
              <a:xfrm>
                <a:off x="1806480" y="3886200"/>
                <a:ext cx="2266920" cy="13896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ccff"/>
                    </a:solidFill>
                    <a:latin typeface="Verdana"/>
                  </a:rPr>
                  <a:t>Value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9966"/>
                    </a:solidFill>
                    <a:latin typeface="Verdana"/>
                  </a:rPr>
                  <a:t>Operations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9966"/>
                    </a:solidFill>
                    <a:latin typeface="Verdana"/>
                  </a:rPr>
                  <a:t>Member Functions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1676520" y="4572000"/>
                <a:ext cx="25146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48" name="Text Box 8"/>
              <p:cNvSpPr/>
              <p:nvPr/>
            </p:nvSpPr>
            <p:spPr>
              <a:xfrm>
                <a:off x="2417760" y="3276720"/>
                <a:ext cx="1020600" cy="5806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00cc"/>
                    </a:solidFill>
                    <a:latin typeface="Verdana"/>
                  </a:rPr>
                  <a:t>Object</a:t>
                </a:r>
                <a:endParaRPr b="0" lang="en-US" sz="16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ff"/>
                    </a:solidFill>
                    <a:latin typeface="Verdana"/>
                  </a:rPr>
                  <a:t>Variable</a:t>
                </a:r>
                <a:endParaRPr b="0" lang="en-US" sz="16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49" name="Line 9"/>
            <p:cNvSpPr/>
            <p:nvPr/>
          </p:nvSpPr>
          <p:spPr>
            <a:xfrm>
              <a:off x="1676520" y="4572360"/>
              <a:ext cx="2438280" cy="6094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50" name="Line 10"/>
          <p:cNvSpPr/>
          <p:nvPr/>
        </p:nvSpPr>
        <p:spPr>
          <a:xfrm flipH="1">
            <a:off x="4190760" y="4267080"/>
            <a:ext cx="1066680" cy="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257800" y="3962520"/>
            <a:ext cx="36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ere, we’ll have values of </a:t>
            </a: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different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data types that we would like to treat as a </a:t>
            </a:r>
            <a:r>
              <a:rPr b="0" i="1" lang="en-US" sz="1800" spc="-1" strike="noStrike">
                <a:solidFill>
                  <a:srgbClr val="6600cc"/>
                </a:solidFill>
                <a:latin typeface="Arial"/>
              </a:rPr>
              <a:t>single item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ow do I…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efine a structure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 a structure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553080" y="152388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Na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676520" y="3657600"/>
            <a:ext cx="481644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struct Studen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int     i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char  name[10]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char  major[2]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}</a:t>
            </a: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yntax: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ruct Structure_Ta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ype1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ember_Variable1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ype2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ember_Variable2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ypen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ember_Variablen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ing Structur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Declare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Record   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tudent1, Student2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Assignment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tudent1 = Student2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1.id = Student2.id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1.grade = Student2.grad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Read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in   &gt;&gt; Student1.id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Write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 &lt;&lt; Student1.id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Initialize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tudent1 = {666,’A’}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 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tructure_Variable_Name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Member_Variable_Na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struct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StudentRecord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int i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char grade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int main ()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StudentRecord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 Student1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Student1.id 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= 555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Student1.grade 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= ‘B’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cout&lt;&lt; Student1.id&lt;&lt; ‘, ‘&lt;&lt; Student1.grade&lt;&lt;endl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5562360" y="2151000"/>
            <a:ext cx="2036160" cy="669960"/>
            <a:chOff x="5562360" y="2151000"/>
            <a:chExt cx="2036160" cy="669960"/>
          </a:xfrm>
        </p:grpSpPr>
        <p:sp>
          <p:nvSpPr>
            <p:cNvPr id="163" name="Line 5"/>
            <p:cNvSpPr/>
            <p:nvPr/>
          </p:nvSpPr>
          <p:spPr>
            <a:xfrm flipH="1" flipV="1">
              <a:off x="5562360" y="2151000"/>
              <a:ext cx="609480" cy="457200"/>
            </a:xfrm>
            <a:prstGeom prst="line">
              <a:avLst/>
            </a:prstGeom>
            <a:ln w="93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098040" y="245268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ff"/>
                  </a:solidFill>
                  <a:latin typeface="Arial"/>
                </a:rPr>
                <a:t>Dot Operator</a:t>
              </a:r>
              <a:endParaRPr b="0" lang="en-US" sz="18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30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wo or more structure types may use the same member nam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371600" y="2438280"/>
            <a:ext cx="3733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FertilizerStock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quantity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ouble nitrogen_conten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371600" y="4419720"/>
            <a:ext cx="3733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CropYield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quantity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ouble size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720040" y="2514600"/>
            <a:ext cx="3129840" cy="459720"/>
          </a:xfrm>
          <a:prstGeom prst="rect">
            <a:avLst/>
          </a:prstGeom>
          <a:noFill/>
          <a:ln cap="rnd" w="9360">
            <a:solidFill>
              <a:srgbClr val="3939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FertilizerStock  Item1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569560" y="4495680"/>
            <a:ext cx="3128040" cy="459720"/>
          </a:xfrm>
          <a:prstGeom prst="rect">
            <a:avLst/>
          </a:prstGeom>
          <a:noFill/>
          <a:ln cap="rnd" w="9360">
            <a:solidFill>
              <a:srgbClr val="3939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ropYield       Apples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7162920" y="4952880"/>
            <a:ext cx="0" cy="38124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6099840" y="5334120"/>
            <a:ext cx="22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Apples.</a:t>
            </a:r>
            <a:r>
              <a:rPr b="0" lang="en-US" sz="2400" spc="-1" strike="noStrike">
                <a:solidFill>
                  <a:srgbClr val="f82704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7315200" y="2971800"/>
            <a:ext cx="0" cy="38088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249600" y="33526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tem1.</a:t>
            </a:r>
            <a:r>
              <a:rPr b="0" lang="en-US" sz="2400" spc="-1" strike="noStrike">
                <a:solidFill>
                  <a:srgbClr val="f82704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ructures within structures (nested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371600" y="2438280"/>
            <a:ext cx="3733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month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day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year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048120" y="4191120"/>
            <a:ext cx="3733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Employe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    i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birthday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2590920" y="4038120"/>
            <a:ext cx="0" cy="1219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 flipH="1">
            <a:off x="2590920" y="5257800"/>
            <a:ext cx="13716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117240" y="591516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Employee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erson1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out&lt;&lt;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erson1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.birthday.year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5486400" y="1447920"/>
          <a:ext cx="340992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447920"/>
                    <a:ext cx="340992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7"/>
          <p:cNvSpPr/>
          <p:nvPr/>
        </p:nvSpPr>
        <p:spPr>
          <a:xfrm>
            <a:off x="1066680" y="1371600"/>
            <a:ext cx="784872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struct StudentRecord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t i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har grade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tudentRecord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Get_Data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(StudentRecord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_student)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t main ()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StudentRecord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Student1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Student1 = Get_Data (Student1)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Student1.id&lt;&lt; ","&lt;&lt;Student1.grade&lt;&lt; endl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tudentRecord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Get_Data (StudentRecord in_student)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"Enter ID: ";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in_student.i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"Enter Grade: ";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in_student.grade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ff"/>
                </a:solidFill>
                <a:latin typeface="Arial"/>
              </a:rPr>
              <a:t>return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(in_student)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0" y="0"/>
            <a:ext cx="7010280" cy="525780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Fig. 6.1: fig06_01.cpp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Create a structure, set its members, and print it.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iostream&g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cou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endl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iomanip&g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9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setfill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setw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structure definition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tr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 {          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5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ur;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0-23 (24-hour clock format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inute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0-59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7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cond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0-59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8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9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end struct Time  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0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1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ntUniversal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 &amp; )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prototype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2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ntStandard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 &amp; )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prototype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3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189" name="Text Box 5"/>
            <p:cNvSpPr/>
            <p:nvPr/>
          </p:nvSpPr>
          <p:spPr>
            <a:xfrm>
              <a:off x="43434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Define structure type </a:t>
              </a:r>
              <a:r>
                <a:rPr b="1" lang="en-US" sz="16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 with three integer members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91" name="Group 7"/>
          <p:cNvGrpSpPr/>
          <p:nvPr/>
        </p:nvGrpSpPr>
        <p:grpSpPr>
          <a:xfrm>
            <a:off x="3429000" y="3733920"/>
            <a:ext cx="4114800" cy="1066680"/>
            <a:chOff x="3429000" y="3733920"/>
            <a:chExt cx="4114800" cy="1066680"/>
          </a:xfrm>
        </p:grpSpPr>
        <p:sp>
          <p:nvSpPr>
            <p:cNvPr id="192" name="Text Box 8"/>
            <p:cNvSpPr/>
            <p:nvPr/>
          </p:nvSpPr>
          <p:spPr>
            <a:xfrm>
              <a:off x="487692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Pass references to constant </a:t>
              </a:r>
              <a:r>
                <a:rPr b="1" lang="en-US" sz="16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 objects to eliminate copying overhead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 flipH="1">
              <a:off x="3429000" y="388620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H="1">
              <a:off x="3429000" y="3886200"/>
              <a:ext cx="1447920" cy="9144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086600" y="838080"/>
            <a:ext cx="1371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2 of 3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7010280" cy="56386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4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ime dinnerTime; 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variable of new type Time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7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hour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hour member of dinnerTime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minute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minute member of dinner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second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set second member of dinner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1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Dinner will be held at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printUniversal( dinnerTime 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universal time,\nwhich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printStandard( dinnerTime );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standard time.\n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7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hour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hour to invalid value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minute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7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minute to invalid valu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Time with invalid values: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printUniversal( dinnerTime 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4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main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676160" y="304920"/>
            <a:ext cx="4115160" cy="1218960"/>
            <a:chOff x="1676160" y="304920"/>
            <a:chExt cx="4115160" cy="1218960"/>
          </a:xfrm>
        </p:grpSpPr>
        <p:sp>
          <p:nvSpPr>
            <p:cNvPr id="198" name="Text Box 5"/>
            <p:cNvSpPr/>
            <p:nvPr/>
          </p:nvSpPr>
          <p:spPr>
            <a:xfrm>
              <a:off x="3124080" y="304920"/>
              <a:ext cx="266724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Use dot operator to initialize structure member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H="1">
              <a:off x="1676160" y="45720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H="1">
              <a:off x="1676160" y="457200"/>
              <a:ext cx="1447560" cy="8380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H="1">
              <a:off x="1676160" y="457200"/>
              <a:ext cx="1447560" cy="10666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2819160" y="2590920"/>
            <a:ext cx="4115160" cy="838080"/>
            <a:chOff x="2819160" y="2590920"/>
            <a:chExt cx="4115160" cy="838080"/>
          </a:xfrm>
        </p:grpSpPr>
        <p:sp>
          <p:nvSpPr>
            <p:cNvPr id="203" name="Text Box 10"/>
            <p:cNvSpPr/>
            <p:nvPr/>
          </p:nvSpPr>
          <p:spPr>
            <a:xfrm>
              <a:off x="4267080" y="2590920"/>
              <a:ext cx="266724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irect access to data allows assignment of bad value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2819160" y="274320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bject-oriented programming (OOP)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data and functions of a class are intimately tied together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 class is like a blue Print,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ith the help of blue print builder can make a house, out of a class a programmer can create an object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0"/>
            <a:ext cx="7010280" cy="441972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49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universal-time forma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0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Universal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 &amp;t 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1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2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setfill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hour &lt;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3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minute &lt;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4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secon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5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6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Universal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7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8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standard-time forma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9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Standard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 &amp;t 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0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1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( ( t.hour ==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|| t.hour ==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2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 t.hour %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 ":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&lt; setfill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3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minute &lt;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4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second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5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( t.hour 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?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AM"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PM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6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7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Standard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4419720"/>
            <a:ext cx="701028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nner will be held at 18:30:00 universal time,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is 6:30:00 PM standard time.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3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with invalid values: 29:73:00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2438280" y="990360"/>
            <a:ext cx="5905800" cy="2057760"/>
            <a:chOff x="2438280" y="990360"/>
            <a:chExt cx="5905800" cy="2057760"/>
          </a:xfrm>
        </p:grpSpPr>
        <p:sp>
          <p:nvSpPr>
            <p:cNvPr id="209" name="Text Box 6"/>
            <p:cNvSpPr/>
            <p:nvPr/>
          </p:nvSpPr>
          <p:spPr>
            <a:xfrm>
              <a:off x="56768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Use parameterized stream manipulator </a:t>
              </a:r>
              <a:r>
                <a:rPr b="1" lang="en-US" sz="1600" spc="-1" strike="noStrike">
                  <a:solidFill>
                    <a:srgbClr val="393939"/>
                  </a:solidFill>
                  <a:latin typeface="Courier New"/>
                </a:rPr>
                <a:t>setfill</a:t>
              </a: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 flipH="1" flipV="1">
              <a:off x="2438280" y="990360"/>
              <a:ext cx="3238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1" name="Line 8"/>
            <p:cNvSpPr/>
            <p:nvPr/>
          </p:nvSpPr>
          <p:spPr>
            <a:xfrm flipH="1">
              <a:off x="5257800" y="1676520"/>
              <a:ext cx="419040" cy="13716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2819160" y="1218960"/>
            <a:ext cx="5105520" cy="2286360"/>
            <a:chOff x="2819160" y="1218960"/>
            <a:chExt cx="5105520" cy="2286360"/>
          </a:xfrm>
        </p:grpSpPr>
        <p:sp>
          <p:nvSpPr>
            <p:cNvPr id="213" name="Text Box 10"/>
            <p:cNvSpPr/>
            <p:nvPr/>
          </p:nvSpPr>
          <p:spPr>
            <a:xfrm>
              <a:off x="5257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Use dot operator to access data members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 flipH="1">
              <a:off x="2819160" y="2286000"/>
              <a:ext cx="2438280" cy="99072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 flipH="1">
              <a:off x="2819160" y="2286000"/>
              <a:ext cx="2438280" cy="121932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6" name="Line 13"/>
            <p:cNvSpPr/>
            <p:nvPr/>
          </p:nvSpPr>
          <p:spPr>
            <a:xfrm flipH="1" flipV="1">
              <a:off x="2819160" y="1218960"/>
              <a:ext cx="2438280" cy="10666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 flipH="1" flipV="1">
              <a:off x="2819160" y="1447920"/>
              <a:ext cx="2438280" cy="8380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One blue print can be reused many times to make many houses, similarly one class can be reused many times to make many objects of the same class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Procedural language programming tends to be action oriented, c++ programming is object oriented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The unit of the programming in c is the function where in C++ is the clas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Classes are also referred to as programmer defined types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-7632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ach class contains data as well as the set of functions that manipulate the data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e data components of a class are called data members. The function components of a class are called member function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lass objects communicate across well-defined interfac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mplementation details hidden within classes themselv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r-defined (programmer-defined) types: class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ata (data members)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unctions (member functions or methods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imilar to blueprints – reus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lass instance: objec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are Classe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2286000"/>
            <a:ext cx="7315200" cy="2666880"/>
            <a:chOff x="1447920" y="2286000"/>
            <a:chExt cx="7315200" cy="2666880"/>
          </a:xfrm>
        </p:grpSpPr>
        <p:sp>
          <p:nvSpPr>
            <p:cNvPr id="100" name="Rectangle 5"/>
            <p:cNvSpPr/>
            <p:nvPr/>
          </p:nvSpPr>
          <p:spPr>
            <a:xfrm>
              <a:off x="1447920" y="2819520"/>
              <a:ext cx="7315200" cy="2133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4461480" y="2286000"/>
              <a:ext cx="116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Verdana"/>
                </a:rPr>
                <a:t>Class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4059000" y="3124080"/>
            <a:ext cx="1828800" cy="1282680"/>
            <a:chOff x="4059000" y="3124080"/>
            <a:chExt cx="1828800" cy="1282680"/>
          </a:xfrm>
        </p:grpSpPr>
        <p:grpSp>
          <p:nvGrpSpPr>
            <p:cNvPr id="103" name="Group 8"/>
            <p:cNvGrpSpPr/>
            <p:nvPr/>
          </p:nvGrpSpPr>
          <p:grpSpPr>
            <a:xfrm>
              <a:off x="4059000" y="3505320"/>
              <a:ext cx="1828800" cy="901440"/>
              <a:chOff x="4059000" y="3505320"/>
              <a:chExt cx="1828800" cy="901440"/>
            </a:xfrm>
          </p:grpSpPr>
          <p:sp>
            <p:nvSpPr>
              <p:cNvPr id="104" name="Text Box 9"/>
              <p:cNvSpPr/>
              <p:nvPr/>
            </p:nvSpPr>
            <p:spPr>
              <a:xfrm>
                <a:off x="4076640" y="3505320"/>
                <a:ext cx="1783800" cy="901440"/>
              </a:xfrm>
              <a:prstGeom prst="rect">
                <a:avLst/>
              </a:prstGeom>
              <a:solidFill>
                <a:srgbClr val="f9d87e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Operations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4059000" y="3930480"/>
                <a:ext cx="18288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11"/>
            <p:cNvSpPr/>
            <p:nvPr/>
          </p:nvSpPr>
          <p:spPr>
            <a:xfrm>
              <a:off x="4613760" y="312408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7" name="Group 12"/>
          <p:cNvGrpSpPr/>
          <p:nvPr/>
        </p:nvGrpSpPr>
        <p:grpSpPr>
          <a:xfrm>
            <a:off x="6421320" y="3124080"/>
            <a:ext cx="1828800" cy="1282680"/>
            <a:chOff x="6421320" y="3124080"/>
            <a:chExt cx="1828800" cy="1282680"/>
          </a:xfrm>
        </p:grpSpPr>
        <p:grpSp>
          <p:nvGrpSpPr>
            <p:cNvPr id="108" name="Group 13"/>
            <p:cNvGrpSpPr/>
            <p:nvPr/>
          </p:nvGrpSpPr>
          <p:grpSpPr>
            <a:xfrm>
              <a:off x="6421320" y="3505320"/>
              <a:ext cx="1828800" cy="901440"/>
              <a:chOff x="6421320" y="3505320"/>
              <a:chExt cx="1828800" cy="901440"/>
            </a:xfrm>
          </p:grpSpPr>
          <p:sp>
            <p:nvSpPr>
              <p:cNvPr id="109" name="Text Box 14"/>
              <p:cNvSpPr/>
              <p:nvPr/>
            </p:nvSpPr>
            <p:spPr>
              <a:xfrm>
                <a:off x="6438960" y="3505320"/>
                <a:ext cx="1783800" cy="901440"/>
              </a:xfrm>
              <a:prstGeom prst="rect">
                <a:avLst/>
              </a:prstGeom>
              <a:solidFill>
                <a:srgbClr val="f9d87e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Operations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0" name="Line 15"/>
              <p:cNvSpPr/>
              <p:nvPr/>
            </p:nvSpPr>
            <p:spPr>
              <a:xfrm>
                <a:off x="6421320" y="3930480"/>
                <a:ext cx="18288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16"/>
            <p:cNvSpPr/>
            <p:nvPr/>
          </p:nvSpPr>
          <p:spPr>
            <a:xfrm>
              <a:off x="6975360" y="312408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1773000" y="3124080"/>
            <a:ext cx="1828800" cy="1282680"/>
            <a:chOff x="1773000" y="3124080"/>
            <a:chExt cx="1828800" cy="1282680"/>
          </a:xfrm>
        </p:grpSpPr>
        <p:grpSp>
          <p:nvGrpSpPr>
            <p:cNvPr id="113" name="Group 18"/>
            <p:cNvGrpSpPr/>
            <p:nvPr/>
          </p:nvGrpSpPr>
          <p:grpSpPr>
            <a:xfrm>
              <a:off x="1773000" y="3505320"/>
              <a:ext cx="1828800" cy="901440"/>
              <a:chOff x="1773000" y="3505320"/>
              <a:chExt cx="1828800" cy="901440"/>
            </a:xfrm>
          </p:grpSpPr>
          <p:sp>
            <p:nvSpPr>
              <p:cNvPr id="114" name="Text Box 19"/>
              <p:cNvSpPr/>
              <p:nvPr/>
            </p:nvSpPr>
            <p:spPr>
              <a:xfrm>
                <a:off x="1790640" y="3505320"/>
                <a:ext cx="1783800" cy="901440"/>
              </a:xfrm>
              <a:prstGeom prst="rect">
                <a:avLst/>
              </a:prstGeom>
              <a:solidFill>
                <a:srgbClr val="f9d87e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Operations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5" name="Line 20"/>
              <p:cNvSpPr/>
              <p:nvPr/>
            </p:nvSpPr>
            <p:spPr>
              <a:xfrm>
                <a:off x="1773000" y="3930480"/>
                <a:ext cx="18288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21"/>
            <p:cNvSpPr/>
            <p:nvPr/>
          </p:nvSpPr>
          <p:spPr>
            <a:xfrm>
              <a:off x="2327760" y="312408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are Classe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85800" y="2362320"/>
            <a:ext cx="8305920" cy="32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383200" y="1295280"/>
            <a:ext cx="47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ass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Verdana"/>
              </a:rPr>
              <a:t>User Defined Data Typ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3581280" y="2666880"/>
            <a:ext cx="2514600" cy="1999080"/>
            <a:chOff x="3581280" y="2666880"/>
            <a:chExt cx="2514600" cy="1999080"/>
          </a:xfrm>
        </p:grpSpPr>
        <p:sp>
          <p:nvSpPr>
            <p:cNvPr id="121" name="Text Box 7"/>
            <p:cNvSpPr/>
            <p:nvPr/>
          </p:nvSpPr>
          <p:spPr>
            <a:xfrm>
              <a:off x="3711240" y="327636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3581280" y="396216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4322520" y="266688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24" name="Group 10"/>
          <p:cNvGrpSpPr/>
          <p:nvPr/>
        </p:nvGrpSpPr>
        <p:grpSpPr>
          <a:xfrm>
            <a:off x="6324480" y="3429000"/>
            <a:ext cx="2514600" cy="1999080"/>
            <a:chOff x="6324480" y="3429000"/>
            <a:chExt cx="2514600" cy="1999080"/>
          </a:xfrm>
        </p:grpSpPr>
        <p:sp>
          <p:nvSpPr>
            <p:cNvPr id="125" name="Text Box 11"/>
            <p:cNvSpPr/>
            <p:nvPr/>
          </p:nvSpPr>
          <p:spPr>
            <a:xfrm>
              <a:off x="6454440" y="403848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6324480" y="472428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7065720" y="342900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838080" y="3429000"/>
            <a:ext cx="2514600" cy="1999080"/>
            <a:chOff x="838080" y="3429000"/>
            <a:chExt cx="2514600" cy="1999080"/>
          </a:xfrm>
        </p:grpSpPr>
        <p:sp>
          <p:nvSpPr>
            <p:cNvPr id="129" name="Text Box 15"/>
            <p:cNvSpPr/>
            <p:nvPr/>
          </p:nvSpPr>
          <p:spPr>
            <a:xfrm>
              <a:off x="968040" y="403848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>
              <a:off x="838080" y="472428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1579320" y="342900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are Classe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class is a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data typ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 can use classes in the same way you use predefined data types (int, char, etc.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fining your class the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right way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is important for it to behave like predefined data types    </a:t>
            </a:r>
            <a:r>
              <a:rPr b="0" lang="en-US" sz="3200" spc="-1" strike="noStrike">
                <a:solidFill>
                  <a:srgbClr val="39393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stract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ta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pe (ADT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n ADT is a user-defined data type that is well behaved as the predefined data typ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data structure that can be used to store related data items with different types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e individual components of a struct is called a member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943600" y="3962520"/>
            <a:ext cx="25146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195960" y="4100400"/>
            <a:ext cx="241164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95280" y="2362320"/>
          <a:ext cx="3581640" cy="1463400"/>
        </p:xfrm>
        <a:graphic>
          <a:graphicData uri="http://schemas.openxmlformats.org/drawingml/2006/table">
            <a:tbl>
              <a:tblPr/>
              <a:tblGrid>
                <a:gridCol w="1193760"/>
                <a:gridCol w="1194120"/>
                <a:gridCol w="1193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d87e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1368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d87e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1368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d87e"/>
                          </a:solidFill>
                          <a:latin typeface="Times New Roman"/>
                        </a:rPr>
                        <a:t>Majo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1368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111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Nor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222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Sar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I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333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1368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Mon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1368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1368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28"/>
          <p:cNvSpPr/>
          <p:nvPr/>
        </p:nvSpPr>
        <p:spPr>
          <a:xfrm>
            <a:off x="1268640" y="19051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295280" y="4191120"/>
            <a:ext cx="4421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: ID vari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: Name vari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: Major vari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3:04:54Z</dcterms:created>
  <dc:creator>Mwakil</dc:creator>
  <dc:description/>
  <dc:language>en-US</dc:language>
  <cp:lastModifiedBy>Khajamohammed Khaja Mustafa</cp:lastModifiedBy>
  <dcterms:modified xsi:type="dcterms:W3CDTF">2015-11-17T05:35:12Z</dcterms:modified>
  <cp:revision>8</cp:revision>
  <dc:subject/>
  <dc:title>PowerPoint Presentation</dc:title>
</cp:coreProperties>
</file>