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7D3-0EE0-4DF9-9225-5E99DE33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9CB-104A-4F04-83DB-098B30A1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D31-72E4-43DA-BAAD-5D9CA7D1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321-6970-42E1-A741-16C2FB2C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A270-7BCB-44CA-BABD-C69FF863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F688-030B-4E16-99DF-CEE5BE81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56C1-A27C-4139-84F2-0D4AE3D7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850B-E385-442B-82E6-A4A99273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BB56-B5F4-47E3-AB88-A1FA91B5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1ECC-DDCA-4DB1-AF26-DCC9192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8B80-A55E-41A4-B27B-A6AA72E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5AE-5435-4FF3-9E85-CBCE559C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613F-BA6F-4E23-9C78-3A6A006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1B3-E9E2-4AA8-9677-2B6B02C6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3D00-73EB-4B26-A376-5ACF06FC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057F-1432-49D0-858C-EEDE866A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5C5C-4840-46B8-88CF-01CCB66D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535-B16C-4D52-A3B5-06E99A26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D3C-CA6B-4512-92F8-1B3483C5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F1E-58EB-4A4F-BA34-8B64AC22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838-6094-4FFA-995A-2185B9E0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8E6B-4E66-45B2-A3F3-7486B56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252-F6CE-442F-BF4F-19C6B9C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652-B92D-4B8D-A858-CACE709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8FF2-EF1D-46E6-B1B5-3E5BE4E13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4775-5279-4EE0-9271-B9782E29F8F3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0512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Classes and</a:t>
            </a:r>
            <a:br>
              <a:rPr sz="5400"/>
            </a:br>
            <a:r>
              <a:rPr b="1" lang="en-US" sz="5400" spc="-1" strike="noStrike">
                <a:solidFill>
                  <a:srgbClr val="393939"/>
                </a:solidFill>
                <a:latin typeface="Times New Roman"/>
              </a:rPr>
              <a:t>Data Abstraction</a:t>
            </a:r>
            <a:endParaRPr b="0" lang="en-US" sz="5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911240" y="3968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pic 5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1296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onstructors: member functions automatically called when an object is declared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Student (int the_id, char the_major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Student ();   </a:t>
            </a:r>
            <a:r>
              <a:rPr b="0" lang="en-US" sz="2400" spc="-1" strike="noStrike">
                <a:solidFill>
                  <a:srgbClr val="393939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Default constructo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When default constructor is called in main: 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Student new_student; 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3939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: Student new_student();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668960" y="6211800"/>
            <a:ext cx="436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tudent   new_student(999,’C’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#include &lt;iostream&gt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using namespace st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class Student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public: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Student (int the_id, char the_major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Student (int the_id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Student 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int get_id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char get_major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void output()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private: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int   id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char  major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16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143000" y="129528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nt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 new_student(55,'B'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new_student.output(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::Student (int the_id, char the_major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d = the_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major = the_major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3939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::Student (int the_id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d = the_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Student::Student 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id = 0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major = 'X'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void Student::output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cout&lt;&lt; 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cout&lt;&lt; major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26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8" name="Rectangle 1027"/>
          <p:cNvSpPr/>
          <p:nvPr/>
        </p:nvSpPr>
        <p:spPr>
          <a:xfrm>
            <a:off x="114300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onstructo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Default Constructo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Constructor with all member variabl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Constructor with some member variabl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9" name="Text Box 1028"/>
          <p:cNvSpPr/>
          <p:nvPr/>
        </p:nvSpPr>
        <p:spPr>
          <a:xfrm>
            <a:off x="1139760" y="3657600"/>
            <a:ext cx="3451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lass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Student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 Classe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ouble Area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60" name="Group 1029"/>
          <p:cNvGrpSpPr/>
          <p:nvPr/>
        </p:nvGrpSpPr>
        <p:grpSpPr>
          <a:xfrm>
            <a:off x="3276720" y="3962520"/>
            <a:ext cx="5715000" cy="2042640"/>
            <a:chOff x="3276720" y="3962520"/>
            <a:chExt cx="5715000" cy="2042640"/>
          </a:xfrm>
        </p:grpSpPr>
        <p:sp>
          <p:nvSpPr>
            <p:cNvPr id="161" name="Rectangle 1030"/>
            <p:cNvSpPr/>
            <p:nvPr/>
          </p:nvSpPr>
          <p:spPr>
            <a:xfrm>
              <a:off x="4648320" y="3962520"/>
              <a:ext cx="4343400" cy="204264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chool 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chool (</a:t>
              </a:r>
              <a:r>
                <a:rPr b="0" lang="en-US" sz="1500" spc="-1" strike="noStrike">
                  <a:solidFill>
                    <a:srgbClr val="393939"/>
                  </a:solidFill>
                  <a:latin typeface="Arial"/>
                </a:rPr>
                <a:t>int students, int classes, double area</a:t>
              </a: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tudent (int students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tudent (int students, int classes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Student (int classes, double area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62" name="Line 1031"/>
            <p:cNvSpPr/>
            <p:nvPr/>
          </p:nvSpPr>
          <p:spPr>
            <a:xfrm flipH="1">
              <a:off x="3276720" y="4800600"/>
              <a:ext cx="137160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4300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Constructor Definitions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Must have the same name as the clas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Definition cannot return a value. No type – not even void- can be given at the start of the function prototype or heade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How can I call a constructor in main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t main(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hool myschool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hool YourSchool(200,10,5000);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hool AnotherSchool(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notherSchool.School(300,15,4000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147520" y="57150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995960" y="4800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090120" y="52578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2704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143000" y="144792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Accesso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Functions that give you access to the values of the private member variables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3440" y="3200400"/>
            <a:ext cx="3451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lass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Student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       NumOf Classe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ouble Area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3200400" y="3505320"/>
            <a:ext cx="5715000" cy="2042640"/>
            <a:chOff x="3200400" y="3505320"/>
            <a:chExt cx="5715000" cy="2042640"/>
          </a:xfrm>
        </p:grpSpPr>
        <p:sp>
          <p:nvSpPr>
            <p:cNvPr id="172" name="Rectangle 6"/>
            <p:cNvSpPr/>
            <p:nvPr/>
          </p:nvSpPr>
          <p:spPr>
            <a:xfrm>
              <a:off x="4572000" y="3505320"/>
              <a:ext cx="4343400" cy="2042640"/>
            </a:xfrm>
            <a:prstGeom prst="rect">
              <a:avLst/>
            </a:prstGeom>
            <a:solidFill>
              <a:srgbClr val="00ccff"/>
            </a:solidFill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int get_Students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ff"/>
                  </a:solidFill>
                  <a:latin typeface="Arial"/>
                </a:rPr>
                <a:t>//Return the number of students in a school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int get_Classes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ff"/>
                  </a:solidFill>
                  <a:latin typeface="Arial"/>
                </a:rPr>
                <a:t>//Return the number of classes in a school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3939"/>
                  </a:solidFill>
                  <a:latin typeface="Arial"/>
                </a:rPr>
                <a:t>double get_Area();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ccff"/>
                  </a:solidFill>
                  <a:latin typeface="Arial"/>
                </a:rPr>
                <a:t>//Return the area of a school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H="1">
              <a:off x="3200400" y="4343400"/>
              <a:ext cx="1371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ivate members </a:t>
            </a:r>
            <a:r>
              <a:rPr b="0" lang="en-US" sz="3200" spc="-1" strike="noStrike">
                <a:solidFill>
                  <a:srgbClr val="39393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need for Accesso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5880" y="2666880"/>
            <a:ext cx="22100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Verdana"/>
              </a:rPr>
              <a:t>Studen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93939"/>
                </a:solidFill>
                <a:latin typeface="Verdana"/>
                <a:ea typeface="Times New Roman"/>
              </a:rPr>
              <a:t>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91320" y="4648320"/>
            <a:ext cx="297180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Studen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public: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int   i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char  major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247400" y="2870280"/>
            <a:ext cx="423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int get_id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returns the student 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char get_major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returns the student 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void set_id(int new_id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assigns a value to student id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void set_major(char new_major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Verdana"/>
              </a:rPr>
              <a:t>//assigns a value to student major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15080" y="1447920"/>
            <a:ext cx="3146400" cy="30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4267080" y="3352680"/>
            <a:ext cx="3881520" cy="762120"/>
            <a:chOff x="4267080" y="3352680"/>
            <a:chExt cx="3881520" cy="762120"/>
          </a:xfrm>
        </p:grpSpPr>
        <p:sp>
          <p:nvSpPr>
            <p:cNvPr id="182" name="Text Box 5"/>
            <p:cNvSpPr/>
            <p:nvPr/>
          </p:nvSpPr>
          <p:spPr>
            <a:xfrm>
              <a:off x="5029200" y="3552840"/>
              <a:ext cx="3119400" cy="39888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93939"/>
                  </a:solidFill>
                  <a:latin typeface="Arial"/>
                </a:rPr>
                <a:t>private member variable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3" name="AutoShape 6"/>
            <p:cNvSpPr/>
            <p:nvPr/>
          </p:nvSpPr>
          <p:spPr>
            <a:xfrm>
              <a:off x="4267080" y="335268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4343400" y="3733920"/>
              <a:ext cx="60948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85" name="Text Box 8"/>
          <p:cNvSpPr/>
          <p:nvPr/>
        </p:nvSpPr>
        <p:spPr>
          <a:xfrm>
            <a:off x="1600200" y="4940280"/>
            <a:ext cx="357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OfYear  To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in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&gt;&gt; Today.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ou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&lt;&lt; Today.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f (Today.month ==1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out &lt;&lt; “January”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5028840" y="5486040"/>
            <a:ext cx="3103920" cy="762480"/>
            <a:chOff x="5028840" y="5486040"/>
            <a:chExt cx="3103920" cy="762480"/>
          </a:xfrm>
        </p:grpSpPr>
        <p:sp>
          <p:nvSpPr>
            <p:cNvPr id="187" name="Text Box 10"/>
            <p:cNvSpPr/>
            <p:nvPr/>
          </p:nvSpPr>
          <p:spPr>
            <a:xfrm>
              <a:off x="6630840" y="5639040"/>
              <a:ext cx="15019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ILLEGAL!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 flipH="1">
              <a:off x="5029200" y="5486400"/>
              <a:ext cx="914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 flipH="1">
              <a:off x="5028840" y="5867640"/>
              <a:ext cx="16002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 flipH="1">
              <a:off x="5029200" y="6248520"/>
              <a:ext cx="91440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 flipV="1">
              <a:off x="5943600" y="5486040"/>
              <a:ext cx="0" cy="7621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92" name="Text Box 15"/>
          <p:cNvSpPr/>
          <p:nvPr/>
        </p:nvSpPr>
        <p:spPr>
          <a:xfrm>
            <a:off x="4653000" y="1447920"/>
            <a:ext cx="449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939"/>
                </a:solidFill>
                <a:uFillTx/>
                <a:latin typeface="Arial"/>
              </a:rPr>
              <a:t>Restriction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Once you make a member variable private, the only way to access it or change its value is by using one of the member functions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295280" y="4606920"/>
            <a:ext cx="12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main(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6.2 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811120" y="1371600"/>
            <a:ext cx="3146400" cy="30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066680" y="1981080"/>
            <a:ext cx="464832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 DayOfYear</a:t>
            </a:r>
            <a:r>
              <a:rPr b="0" lang="en-US" sz="2400" spc="-1" strike="noStrike">
                <a:solidFill>
                  <a:srgbClr val="f82704"/>
                </a:solidFill>
                <a:latin typeface="Arial"/>
              </a:rPr>
              <a:t>: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cout&lt;&lt; “month= “&lt;&lt; month;</a:t>
            </a:r>
            <a:endParaRPr b="0" lang="en-US" sz="2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cout&lt;&lt;“day=“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    &lt;&lt; day;</a:t>
            </a:r>
            <a:endParaRPr b="0" lang="en-US" sz="2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3939"/>
                </a:solidFill>
                <a:latin typeface="Arial"/>
              </a:rPr>
              <a:t>cout&lt;&lt;endl;</a:t>
            </a:r>
            <a:endParaRPr b="0" lang="en-US" sz="22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55520" y="14112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Member Function Definition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819520" y="5181480"/>
            <a:ext cx="5878440" cy="825480"/>
          </a:xfrm>
          <a:prstGeom prst="rect">
            <a:avLst/>
          </a:prstGeom>
          <a:noFill/>
          <a:ln w="936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rivate members may be used in member function definitions (but not elsewhere)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V="1">
            <a:off x="4876920" y="4038120"/>
            <a:ext cx="0" cy="1143000"/>
          </a:xfrm>
          <a:prstGeom prst="line">
            <a:avLst/>
          </a:prstGeom>
          <a:ln w="9360">
            <a:solidFill>
              <a:srgbClr val="66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5334120" y="3429000"/>
            <a:ext cx="0" cy="1752480"/>
          </a:xfrm>
          <a:prstGeom prst="line">
            <a:avLst/>
          </a:prstGeom>
          <a:ln w="9360">
            <a:solidFill>
              <a:srgbClr val="66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6.2 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295280" y="1447920"/>
            <a:ext cx="3505320" cy="344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Class Sampl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ariable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put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private: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void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doStuff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419720" y="3733920"/>
            <a:ext cx="3880800" cy="761760"/>
            <a:chOff x="4419720" y="3733920"/>
            <a:chExt cx="3880800" cy="761760"/>
          </a:xfrm>
        </p:grpSpPr>
        <p:sp>
          <p:nvSpPr>
            <p:cNvPr id="204" name="Text Box 5"/>
            <p:cNvSpPr/>
            <p:nvPr/>
          </p:nvSpPr>
          <p:spPr>
            <a:xfrm>
              <a:off x="5181480" y="3933720"/>
              <a:ext cx="3119040" cy="39888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93939"/>
                  </a:solidFill>
                  <a:latin typeface="Arial"/>
                </a:rPr>
                <a:t>private member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4419720" y="373392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4495680" y="4114800"/>
              <a:ext cx="60912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07" name="Group 8"/>
          <p:cNvGrpSpPr/>
          <p:nvPr/>
        </p:nvGrpSpPr>
        <p:grpSpPr>
          <a:xfrm>
            <a:off x="4343400" y="2438280"/>
            <a:ext cx="3881520" cy="990360"/>
            <a:chOff x="4343400" y="2438280"/>
            <a:chExt cx="3881520" cy="990360"/>
          </a:xfrm>
        </p:grpSpPr>
        <p:sp>
          <p:nvSpPr>
            <p:cNvPr id="208" name="Text Box 9"/>
            <p:cNvSpPr/>
            <p:nvPr/>
          </p:nvSpPr>
          <p:spPr>
            <a:xfrm>
              <a:off x="5105520" y="2698200"/>
              <a:ext cx="3119400" cy="398880"/>
            </a:xfrm>
            <a:prstGeom prst="rect">
              <a:avLst/>
            </a:prstGeom>
            <a:noFill/>
            <a:ln cap="rnd" w="9360">
              <a:solidFill>
                <a:srgbClr val="66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93939"/>
                  </a:solidFill>
                  <a:latin typeface="Arial"/>
                </a:rPr>
                <a:t>public member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09" name="AutoShape 10"/>
            <p:cNvSpPr/>
            <p:nvPr/>
          </p:nvSpPr>
          <p:spPr>
            <a:xfrm>
              <a:off x="4343400" y="2438280"/>
              <a:ext cx="76320" cy="9903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419720" y="2933640"/>
              <a:ext cx="609480" cy="0"/>
            </a:xfrm>
            <a:prstGeom prst="line">
              <a:avLst/>
            </a:prstGeom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211" name="Text Box 12"/>
          <p:cNvSpPr/>
          <p:nvPr/>
        </p:nvSpPr>
        <p:spPr>
          <a:xfrm>
            <a:off x="1254240" y="5105520"/>
            <a:ext cx="76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ublic members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 can be used in the main body of your program or in the definition of any function, even a non- member function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erdana"/>
              </a:rPr>
              <a:t>Class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Verdana"/>
              </a:rPr>
              <a:t>User Defined Data Typ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85800" y="2651040"/>
            <a:ext cx="8305920" cy="32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3581280" y="2955960"/>
            <a:ext cx="2514600" cy="1999080"/>
            <a:chOff x="3581280" y="2955960"/>
            <a:chExt cx="2514600" cy="1999080"/>
          </a:xfrm>
        </p:grpSpPr>
        <p:sp>
          <p:nvSpPr>
            <p:cNvPr id="96" name="Text Box 6"/>
            <p:cNvSpPr/>
            <p:nvPr/>
          </p:nvSpPr>
          <p:spPr>
            <a:xfrm>
              <a:off x="3711240" y="356544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581280" y="425124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4322520" y="295596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6324480" y="3718080"/>
            <a:ext cx="2514600" cy="1998720"/>
            <a:chOff x="6324480" y="3718080"/>
            <a:chExt cx="2514600" cy="1998720"/>
          </a:xfrm>
        </p:grpSpPr>
        <p:sp>
          <p:nvSpPr>
            <p:cNvPr id="100" name="Text Box 10"/>
            <p:cNvSpPr/>
            <p:nvPr/>
          </p:nvSpPr>
          <p:spPr>
            <a:xfrm>
              <a:off x="6454440" y="432720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>
              <a:off x="6324480" y="501300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7065720" y="371808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03" name="Group 13"/>
          <p:cNvGrpSpPr/>
          <p:nvPr/>
        </p:nvGrpSpPr>
        <p:grpSpPr>
          <a:xfrm>
            <a:off x="838080" y="3718080"/>
            <a:ext cx="2514600" cy="1998720"/>
            <a:chOff x="838080" y="3718080"/>
            <a:chExt cx="2514600" cy="1998720"/>
          </a:xfrm>
        </p:grpSpPr>
        <p:sp>
          <p:nvSpPr>
            <p:cNvPr id="104" name="Text Box 14"/>
            <p:cNvSpPr/>
            <p:nvPr/>
          </p:nvSpPr>
          <p:spPr>
            <a:xfrm>
              <a:off x="968040" y="4327200"/>
              <a:ext cx="2266920" cy="1389600"/>
            </a:xfrm>
            <a:prstGeom prst="rect">
              <a:avLst/>
            </a:prstGeom>
            <a:solidFill>
              <a:srgbClr val="f9d87e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Data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Value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393939"/>
                  </a:solidFill>
                  <a:latin typeface="Verdana"/>
                </a:rPr>
                <a:t> </a:t>
              </a:r>
              <a:endParaRPr b="0" lang="en-US" sz="5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93939"/>
                  </a:solidFill>
                  <a:latin typeface="Verdana"/>
                </a:rPr>
                <a:t>Opera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ccff"/>
                  </a:solidFill>
                  <a:latin typeface="Verdana"/>
                </a:rPr>
                <a:t>Member Functions</a:t>
              </a:r>
              <a:endParaRPr b="0" lang="en-US" sz="20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838080" y="5013000"/>
              <a:ext cx="2514600" cy="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1579320" y="3718080"/>
              <a:ext cx="102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Verdana"/>
                </a:rPr>
                <a:t>Object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ff"/>
                  </a:solidFill>
                  <a:latin typeface="Verdana"/>
                </a:rPr>
                <a:t>Variable</a:t>
              </a:r>
              <a:endParaRPr b="0" lang="en-US" sz="16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07" name="Line 17"/>
          <p:cNvSpPr/>
          <p:nvPr/>
        </p:nvSpPr>
        <p:spPr>
          <a:xfrm flipV="1">
            <a:off x="1981080" y="5775120"/>
            <a:ext cx="0" cy="6094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1981080" y="6384960"/>
            <a:ext cx="4572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438280" y="6080040"/>
            <a:ext cx="634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Encapsulation</a:t>
            </a:r>
            <a:r>
              <a:rPr b="0" lang="en-US" sz="2000" spc="-1" strike="noStrike">
                <a:solidFill>
                  <a:srgbClr val="393939"/>
                </a:solidFill>
                <a:latin typeface="Arial"/>
              </a:rPr>
              <a:t>: combining a number of items such as variables and functions into a single package (object)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1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0"/>
            <a:ext cx="7010280" cy="480060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Fig. 6.3: fig06_03.cpp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Time class.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iostream&g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cou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  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iomanip&gt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0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setfil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1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td::setw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2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3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Time abstract data type (ADT) definition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4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 {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6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ime();               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constructor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etTime(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hour, minute, second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1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Universal();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print universal-time forma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printStandard();     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standard-time format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504960" y="2362320"/>
            <a:ext cx="3276720" cy="838080"/>
            <a:chOff x="3504960" y="2362320"/>
            <a:chExt cx="3276720" cy="838080"/>
          </a:xfrm>
        </p:grpSpPr>
        <p:sp>
          <p:nvSpPr>
            <p:cNvPr id="215" name="Text Box 5"/>
            <p:cNvSpPr/>
            <p:nvPr/>
          </p:nvSpPr>
          <p:spPr>
            <a:xfrm>
              <a:off x="4952880" y="2362320"/>
              <a:ext cx="1828800" cy="307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efine class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 flipH="1">
              <a:off x="3504960" y="251460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2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7010280" cy="56386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2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hour; 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 - 23 (24-hour clock format)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inute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 - 59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econd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 - 59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;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end class Time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29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Time constructor initializes each data member to zero and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0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sures all Time objects start in a consistent state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ime::Time()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hour = minute = second 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Time constructor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7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set new Time value using universal time, perform validity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8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checks on the data values and set invalid values to zero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39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::setTime(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h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,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s )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hour = ( h &gt;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amp;&amp; h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h 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minute = ( m &gt;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amp;&amp; m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6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m 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second = ( s &gt;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amp;&amp; s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6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s 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setTime                               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2971800" y="1752480"/>
            <a:ext cx="3809880" cy="838440"/>
            <a:chOff x="2971800" y="1752480"/>
            <a:chExt cx="3809880" cy="838440"/>
          </a:xfrm>
        </p:grpSpPr>
        <p:sp>
          <p:nvSpPr>
            <p:cNvPr id="220" name="Text Box 5"/>
            <p:cNvSpPr/>
            <p:nvPr/>
          </p:nvSpPr>
          <p:spPr>
            <a:xfrm>
              <a:off x="4419720" y="1752480"/>
              <a:ext cx="236196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Constructor initializes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rivat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data members to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0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 flipH="1">
              <a:off x="2971800" y="190512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22" name="Group 7"/>
          <p:cNvGrpSpPr/>
          <p:nvPr/>
        </p:nvGrpSpPr>
        <p:grpSpPr>
          <a:xfrm>
            <a:off x="4419360" y="3657600"/>
            <a:ext cx="3505320" cy="1159560"/>
            <a:chOff x="4419360" y="3657600"/>
            <a:chExt cx="3505320" cy="1159560"/>
          </a:xfrm>
        </p:grpSpPr>
        <p:sp>
          <p:nvSpPr>
            <p:cNvPr id="223" name="Text Box 8"/>
            <p:cNvSpPr/>
            <p:nvPr/>
          </p:nvSpPr>
          <p:spPr>
            <a:xfrm>
              <a:off x="5867280" y="3657600"/>
              <a:ext cx="2057400" cy="1159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 checks parameter values for validity before setting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rivat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data member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24" name="Line 9"/>
            <p:cNvSpPr/>
            <p:nvPr/>
          </p:nvSpPr>
          <p:spPr>
            <a:xfrm flipH="1">
              <a:off x="4419360" y="3809880"/>
              <a:ext cx="144756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3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0"/>
            <a:ext cx="7010280" cy="525780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7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universal forma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8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::printUniversal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4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setfill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hour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minute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cond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3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Universal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5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6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print Time in standard format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7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Time::printStandard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5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( ( hour =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|| hour ==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?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: hour %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&lt; setfill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'0'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minut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: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&lt;&lt; setw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 &lt;&lt; second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( hour 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?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AM"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: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 PM"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3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function printStandard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5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6 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main()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{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8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ime t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instantiate object t of class 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69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1066680" y="3886200"/>
            <a:ext cx="4114800" cy="838080"/>
            <a:chOff x="1066680" y="3886200"/>
            <a:chExt cx="4114800" cy="838080"/>
          </a:xfrm>
        </p:grpSpPr>
        <p:sp>
          <p:nvSpPr>
            <p:cNvPr id="228" name="Text Box 5"/>
            <p:cNvSpPr/>
            <p:nvPr/>
          </p:nvSpPr>
          <p:spPr>
            <a:xfrm>
              <a:off x="2514600" y="388620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eclare variable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t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to be object of class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Time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H="1">
              <a:off x="1066680" y="403848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30" name="Group 7"/>
          <p:cNvGrpSpPr/>
          <p:nvPr/>
        </p:nvGrpSpPr>
        <p:grpSpPr>
          <a:xfrm>
            <a:off x="2895480" y="533520"/>
            <a:ext cx="4114800" cy="2013120"/>
            <a:chOff x="2895480" y="533520"/>
            <a:chExt cx="4114800" cy="2013120"/>
          </a:xfrm>
        </p:grpSpPr>
        <p:sp>
          <p:nvSpPr>
            <p:cNvPr id="231" name="Text Box 8"/>
            <p:cNvSpPr/>
            <p:nvPr/>
          </p:nvSpPr>
          <p:spPr>
            <a:xfrm>
              <a:off x="4343400" y="1600200"/>
              <a:ext cx="2666880" cy="94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No arguments (implicitly “know” purpose is to print data members); member function calls more concise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 flipH="1">
              <a:off x="2895480" y="175248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 flipH="1" flipV="1">
              <a:off x="2895480" y="533520"/>
              <a:ext cx="1447920" cy="121896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4 of 5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0"/>
            <a:ext cx="7010280" cy="51814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0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  // output Time object t's initial value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The initial universal 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Universal()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3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The initial standard 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Standard()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2:00:00 A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setTime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// change time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79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  // output Time object t's new value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\nUniversal time after set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Universal()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3:27:06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2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Standard time after setTime is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Standard()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:27:06 P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5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6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setTime(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);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attempt invalid setting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7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8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   // output t's values after specifying invalid values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8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\nAfter attempting invalid settings:"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0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Universal time: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1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Universal();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2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437920" y="720360"/>
            <a:ext cx="4458240" cy="672840"/>
            <a:chOff x="2437920" y="720360"/>
            <a:chExt cx="4458240" cy="672840"/>
          </a:xfrm>
        </p:grpSpPr>
        <p:sp>
          <p:nvSpPr>
            <p:cNvPr id="237" name="Text Box 5"/>
            <p:cNvSpPr/>
            <p:nvPr/>
          </p:nvSpPr>
          <p:spPr>
            <a:xfrm>
              <a:off x="4229280" y="87300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Invoke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s to print time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 flipH="1" flipV="1">
              <a:off x="2514240" y="720360"/>
              <a:ext cx="1714680" cy="30492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 flipH="1">
              <a:off x="2437920" y="1025640"/>
              <a:ext cx="1791000" cy="34596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40" name="Group 8"/>
          <p:cNvGrpSpPr/>
          <p:nvPr/>
        </p:nvGrpSpPr>
        <p:grpSpPr>
          <a:xfrm>
            <a:off x="2286000" y="1905120"/>
            <a:ext cx="4114800" cy="672480"/>
            <a:chOff x="2286000" y="1905120"/>
            <a:chExt cx="4114800" cy="672480"/>
          </a:xfrm>
        </p:grpSpPr>
        <p:sp>
          <p:nvSpPr>
            <p:cNvPr id="241" name="Text Box 9"/>
            <p:cNvSpPr/>
            <p:nvPr/>
          </p:nvSpPr>
          <p:spPr>
            <a:xfrm>
              <a:off x="3733920" y="205740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Set data members using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 flipV="1">
              <a:off x="2286000" y="1905120"/>
              <a:ext cx="1447920" cy="30456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243" name="Group 11"/>
          <p:cNvGrpSpPr/>
          <p:nvPr/>
        </p:nvGrpSpPr>
        <p:grpSpPr>
          <a:xfrm>
            <a:off x="2286000" y="2819520"/>
            <a:ext cx="4114800" cy="838080"/>
            <a:chOff x="2286000" y="2819520"/>
            <a:chExt cx="4114800" cy="838080"/>
          </a:xfrm>
        </p:grpSpPr>
        <p:sp>
          <p:nvSpPr>
            <p:cNvPr id="244" name="Text Box 12"/>
            <p:cNvSpPr/>
            <p:nvPr/>
          </p:nvSpPr>
          <p:spPr>
            <a:xfrm>
              <a:off x="3733920" y="2819520"/>
              <a:ext cx="2666880" cy="733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Attempt to set data members to invalid values using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public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member function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45" name="Line 13"/>
            <p:cNvSpPr/>
            <p:nvPr/>
          </p:nvSpPr>
          <p:spPr>
            <a:xfrm flipH="1">
              <a:off x="2286000" y="297180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086600" y="838080"/>
            <a:ext cx="205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(5 of 5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fig06_03.cpp</a:t>
            </a:r>
            <a:br>
              <a:rPr sz="1400"/>
            </a:br>
            <a:r>
              <a:rPr b="0" lang="en-US" sz="1400" spc="-1" strike="noStrike">
                <a:solidFill>
                  <a:srgbClr val="6600cc"/>
                </a:solidFill>
                <a:latin typeface="Times New Roman"/>
              </a:rPr>
              <a:t>output (1 of 1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0"/>
            <a:ext cx="7010280" cy="1752480"/>
          </a:xfrm>
          <a:prstGeom prst="rect">
            <a:avLst/>
          </a:prstGeom>
          <a:solidFill>
            <a:srgbClr val="f9d8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3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"\nStandard time: 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4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t.printStandard();   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12:00:00 A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5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cout &lt;&lt; endl;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6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7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Times New Roman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;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8   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vantGarde"/>
              </a:rPr>
              <a:t>99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Courier New"/>
              </a:rPr>
              <a:t>// end main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1752480"/>
            <a:ext cx="7010280" cy="2210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universal time is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initial standard time is 12:00:00 A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 after setTime is 13:27:06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time after setTime is 1:27:06 PM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attempting invalid settings: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versal time: 00:00:00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3939"/>
                </a:solidFill>
                <a:latin typeface="Courier New"/>
              </a:rPr>
              <a:t>Standard time: 12:00:00 AM</a:t>
            </a:r>
            <a:r>
              <a:rPr b="1" lang="en-US" sz="1400" spc="-1" strike="noStrike">
                <a:solidFill>
                  <a:srgbClr val="393939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2666880" y="2798640"/>
            <a:ext cx="4114800" cy="838440"/>
            <a:chOff x="2666880" y="2798640"/>
            <a:chExt cx="4114800" cy="838440"/>
          </a:xfrm>
        </p:grpSpPr>
        <p:sp>
          <p:nvSpPr>
            <p:cNvPr id="250" name="Text Box 6"/>
            <p:cNvSpPr/>
            <p:nvPr/>
          </p:nvSpPr>
          <p:spPr>
            <a:xfrm>
              <a:off x="4114800" y="2798640"/>
              <a:ext cx="26668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Data members set to </a:t>
              </a:r>
              <a:r>
                <a:rPr b="1" lang="en-US" sz="1400" spc="-1" strike="noStrike">
                  <a:solidFill>
                    <a:srgbClr val="393939"/>
                  </a:solidFill>
                  <a:latin typeface="Courier New"/>
                </a:rPr>
                <a:t>0</a:t>
              </a:r>
              <a:r>
                <a:rPr b="0" lang="en-US" sz="1400" spc="-1" strike="noStrike">
                  <a:solidFill>
                    <a:srgbClr val="393939"/>
                  </a:solidFill>
                  <a:latin typeface="Times New Roman"/>
                </a:rPr>
                <a:t> after attempting invalid settings.</a:t>
              </a:r>
              <a:endParaRPr b="0" lang="en-US" sz="1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51" name="Line 7"/>
            <p:cNvSpPr/>
            <p:nvPr/>
          </p:nvSpPr>
          <p:spPr>
            <a:xfrm flipH="1">
              <a:off x="2666880" y="2951280"/>
              <a:ext cx="1447920" cy="685800"/>
            </a:xfrm>
            <a:prstGeom prst="line">
              <a:avLst/>
            </a:prstGeom>
            <a:ln w="9360">
              <a:solidFill>
                <a:srgbClr val="3939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43000" y="13716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lass Class_Na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1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2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n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rivat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n+1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Member_Specification_n+2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5334120" y="3200400"/>
            <a:ext cx="2928240" cy="1371600"/>
            <a:chOff x="5334120" y="3200400"/>
            <a:chExt cx="2928240" cy="1371600"/>
          </a:xfrm>
        </p:grpSpPr>
        <p:sp>
          <p:nvSpPr>
            <p:cNvPr id="113" name="AutoShape 5"/>
            <p:cNvSpPr/>
            <p:nvPr/>
          </p:nvSpPr>
          <p:spPr>
            <a:xfrm>
              <a:off x="5334120" y="3200400"/>
              <a:ext cx="304560" cy="13716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5931360" y="36212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ublic 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5410080" y="4876920"/>
            <a:ext cx="3047400" cy="1371600"/>
            <a:chOff x="5410080" y="4876920"/>
            <a:chExt cx="3047400" cy="1371600"/>
          </a:xfrm>
        </p:grpSpPr>
        <p:sp>
          <p:nvSpPr>
            <p:cNvPr id="116" name="AutoShape 8"/>
            <p:cNvSpPr/>
            <p:nvPr/>
          </p:nvSpPr>
          <p:spPr>
            <a:xfrm>
              <a:off x="5410080" y="4876920"/>
              <a:ext cx="304560" cy="13716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6005880" y="529776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rivate 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143000" y="13716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lass Bicycl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ublic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get_color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number_of_speeds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et (int the_speeds, char the_color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privat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int speeds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char color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238880" y="3200400"/>
            <a:ext cx="1815480" cy="1371600"/>
            <a:chOff x="7238880" y="3200400"/>
            <a:chExt cx="1815480" cy="1371600"/>
          </a:xfrm>
        </p:grpSpPr>
        <p:sp>
          <p:nvSpPr>
            <p:cNvPr id="121" name="AutoShape 5"/>
            <p:cNvSpPr/>
            <p:nvPr/>
          </p:nvSpPr>
          <p:spPr>
            <a:xfrm>
              <a:off x="7238880" y="3200400"/>
              <a:ext cx="185760" cy="13716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7602480" y="3621240"/>
              <a:ext cx="145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ublic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grpSp>
        <p:nvGrpSpPr>
          <p:cNvPr id="123" name="Group 7"/>
          <p:cNvGrpSpPr/>
          <p:nvPr/>
        </p:nvGrpSpPr>
        <p:grpSpPr>
          <a:xfrm>
            <a:off x="7356600" y="4800600"/>
            <a:ext cx="1785240" cy="1371600"/>
            <a:chOff x="7356600" y="4800600"/>
            <a:chExt cx="1785240" cy="1371600"/>
          </a:xfrm>
        </p:grpSpPr>
        <p:sp>
          <p:nvSpPr>
            <p:cNvPr id="124" name="AutoShape 8"/>
            <p:cNvSpPr/>
            <p:nvPr/>
          </p:nvSpPr>
          <p:spPr>
            <a:xfrm>
              <a:off x="7356600" y="4800600"/>
              <a:ext cx="169560" cy="1371600"/>
            </a:xfrm>
            <a:custGeom>
              <a:avLst/>
              <a:gdLst>
                <a:gd name="textAreaLeft" fmla="*/ 0 w 169560"/>
                <a:gd name="textAreaRight" fmla="*/ 61200 w 1695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689960" y="5221440"/>
              <a:ext cx="145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private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Arial"/>
                </a:rPr>
                <a:t>members</a:t>
              </a: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</p:grpSp>
      <p:sp>
        <p:nvSpPr>
          <p:cNvPr id="126" name="Text Box 10"/>
          <p:cNvSpPr/>
          <p:nvPr/>
        </p:nvSpPr>
        <p:spPr>
          <a:xfrm>
            <a:off x="2446920" y="6248520"/>
            <a:ext cx="46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Bicycle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y_bike, your_bik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6"/>
          <p:cNvSpPr/>
          <p:nvPr/>
        </p:nvSpPr>
        <p:spPr>
          <a:xfrm>
            <a:off x="1143000" y="1371600"/>
            <a:ext cx="800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Member Function Syntax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93939"/>
                </a:solidFill>
                <a:latin typeface="Times New Roman"/>
              </a:rPr>
              <a:t>Return_Type   Class_Name </a:t>
            </a:r>
            <a:r>
              <a:rPr b="0" lang="en-US" sz="2100" spc="-1" strike="noStrike">
                <a:solidFill>
                  <a:srgbClr val="f82704"/>
                </a:solidFill>
                <a:latin typeface="Times New Roman"/>
              </a:rPr>
              <a:t>::</a:t>
            </a:r>
            <a:r>
              <a:rPr b="0" lang="en-US" sz="2100" spc="-1" strike="noStrike">
                <a:solidFill>
                  <a:srgbClr val="393939"/>
                </a:solidFill>
                <a:latin typeface="Times New Roman"/>
              </a:rPr>
              <a:t> Function_Name (Parameter_List)</a:t>
            </a:r>
            <a:endParaRPr b="0" lang="en-US" sz="21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unction_Body_Stateme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void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 DayOfYear</a:t>
            </a:r>
            <a:r>
              <a:rPr b="0" lang="en-US" sz="2400" spc="-1" strike="noStrike">
                <a:solidFill>
                  <a:srgbClr val="f82704"/>
                </a:solidFill>
                <a:latin typeface="Times New Roman"/>
              </a:rPr>
              <a:t>::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utput()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ut&lt;&lt; “month= “&lt;&lt;month&lt;&lt;“day= “&lt;&lt;day&lt;&lt;endl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8" name="Rectangle 1027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9" name="Text Box 1028"/>
          <p:cNvSpPr/>
          <p:nvPr/>
        </p:nvSpPr>
        <p:spPr>
          <a:xfrm>
            <a:off x="5582520" y="2819520"/>
            <a:ext cx="314640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1143000" y="1790640"/>
            <a:ext cx="80010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93939"/>
                </a:solidFill>
                <a:latin typeface="Times New Roman"/>
              </a:rPr>
              <a:t>How do I call the member function output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ayOfYear  today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day.month = 2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day.day = 10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oday.output();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1" name="Rectangle 1027"/>
          <p:cNvSpPr/>
          <p:nvPr/>
        </p:nvSpPr>
        <p:spPr>
          <a:xfrm>
            <a:off x="990720" y="152280"/>
            <a:ext cx="8001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5582520" y="2819520"/>
            <a:ext cx="3146400" cy="265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Class DayOfYear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void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output(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month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day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4" name="Rectangle 1027"/>
          <p:cNvSpPr/>
          <p:nvPr/>
        </p:nvSpPr>
        <p:spPr>
          <a:xfrm>
            <a:off x="1066680" y="1828800"/>
            <a:ext cx="3978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Dot Operator (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d with Objects – class variabl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new_student.output();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5" name="Rectangle 1028"/>
          <p:cNvSpPr/>
          <p:nvPr/>
        </p:nvSpPr>
        <p:spPr>
          <a:xfrm>
            <a:off x="5029200" y="1752480"/>
            <a:ext cx="3979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Scope Resolution Operator (::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393939"/>
                </a:solidFill>
                <a:uFillTx/>
                <a:latin typeface="Times New Roman"/>
              </a:rPr>
              <a:t> </a:t>
            </a:r>
            <a:endParaRPr b="0" lang="en-US" sz="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d with Class na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tudent::output()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26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7" name="Rectangle 1027"/>
          <p:cNvSpPr/>
          <p:nvPr/>
        </p:nvSpPr>
        <p:spPr>
          <a:xfrm>
            <a:off x="1033560" y="1523880"/>
            <a:ext cx="8110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Public Vs Privat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parate the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rules for using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the class and the details of the class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Have enough member functions that you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need to access member variables directly, only through member fun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ode is easier to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understand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&amp;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updat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90720" y="669960"/>
            <a:ext cx="8001000" cy="5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es &amp; ADTs</a:t>
            </a:r>
            <a:endParaRPr b="0" lang="en-US" sz="4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43000" y="1790640"/>
            <a:ext cx="7772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an we overload member functions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et(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the_id,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har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the_major[2]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et(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the_id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void set(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ubl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 score);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8960" y="4724280"/>
            <a:ext cx="41461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Student new_student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new_student.set (16.0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new_student.set (555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Arial"/>
              </a:rPr>
              <a:t>New_student.set ((999,”CS”);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6019920" y="4495680"/>
            <a:ext cx="457200" cy="0"/>
          </a:xfrm>
          <a:prstGeom prst="line">
            <a:avLst/>
          </a:prstGeom>
          <a:ln w="9360">
            <a:solidFill>
              <a:srgbClr val="f827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105520" y="5334120"/>
            <a:ext cx="1371600" cy="0"/>
          </a:xfrm>
          <a:prstGeom prst="line">
            <a:avLst/>
          </a:prstGeom>
          <a:ln w="9360">
            <a:solidFill>
              <a:srgbClr val="f8270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477120" y="4495320"/>
            <a:ext cx="0" cy="838440"/>
          </a:xfrm>
          <a:prstGeom prst="line">
            <a:avLst/>
          </a:prstGeom>
          <a:ln w="9360">
            <a:solidFill>
              <a:srgbClr val="f827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5638680" y="6095880"/>
            <a:ext cx="1524240" cy="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7162920" y="3505320"/>
            <a:ext cx="0" cy="25905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681200" y="6324480"/>
            <a:ext cx="63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93939"/>
                </a:solidFill>
                <a:latin typeface="Arial"/>
              </a:rPr>
              <a:t>Search for matching </a:t>
            </a:r>
            <a:r>
              <a:rPr b="0" i="1" lang="en-US" sz="1800" spc="-1" strike="noStrike" u="sng">
                <a:solidFill>
                  <a:srgbClr val="393939"/>
                </a:solidFill>
                <a:uFillTx/>
                <a:latin typeface="Arial"/>
              </a:rPr>
              <a:t>data types</a:t>
            </a:r>
            <a:r>
              <a:rPr b="0" i="1" lang="en-US" sz="1800" spc="-1" strike="noStrike">
                <a:solidFill>
                  <a:srgbClr val="393939"/>
                </a:solidFill>
                <a:latin typeface="Arial"/>
              </a:rPr>
              <a:t> and/or </a:t>
            </a:r>
            <a:r>
              <a:rPr b="0" i="1" lang="en-US" sz="1800" spc="-1" strike="noStrike" u="sng">
                <a:solidFill>
                  <a:srgbClr val="393939"/>
                </a:solidFill>
                <a:uFillTx/>
                <a:latin typeface="Arial"/>
              </a:rPr>
              <a:t>number of parameters</a:t>
            </a:r>
            <a:endParaRPr b="0" lang="en-US" sz="1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7" name="Line 11"/>
          <p:cNvSpPr/>
          <p:nvPr/>
        </p:nvSpPr>
        <p:spPr>
          <a:xfrm flipH="1">
            <a:off x="5486400" y="3886200"/>
            <a:ext cx="1295280" cy="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6781680" y="3886200"/>
            <a:ext cx="0" cy="182880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029200" y="5715000"/>
            <a:ext cx="1752480" cy="0"/>
          </a:xfrm>
          <a:prstGeom prst="line">
            <a:avLst/>
          </a:prstGeom>
          <a:ln w="9360">
            <a:solidFill>
              <a:srgbClr val="ffcc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3:04:54Z</dcterms:created>
  <dc:creator>Mwakil</dc:creator>
  <dc:description/>
  <dc:language>en-US</dc:language>
  <cp:lastModifiedBy>Khajamohammed Khaja Mustafa</cp:lastModifiedBy>
  <dcterms:modified xsi:type="dcterms:W3CDTF">2015-11-17T05:35:36Z</dcterms:modified>
  <cp:revision>9</cp:revision>
  <dc:subject/>
  <dc:title>PowerPoint Presentation</dc:title>
</cp:coreProperties>
</file>