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07B-A048-437A-88DC-04D12944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B92-6D68-40E0-95E2-2AE593A7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7B1-9660-42B2-9477-90ECDA6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CC3-F7F7-4C93-AFFD-B0ADFF48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C05-A2EB-4372-A8EC-67A4EA1B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433-15BE-4813-9A50-FC1398C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411-5B70-4D86-9537-9A8E325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B857-F61E-469C-9CC8-563BFBE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3E4-1547-4FE0-B453-1536A91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70D3-A62D-429C-B3F5-3F75048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05E-A6F5-4C5E-9E8E-F72299C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E0A-1D79-4665-B7DE-42223600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2C2A-0098-444D-A9D6-4B9B31C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8D9A-595C-4663-BC9D-C254424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F72-379E-44D2-AD5F-47E9B74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280F-2389-45C6-ACB3-F607ECC3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C4E2-4F95-49AD-A81F-5AB88B62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235-F3F7-42BE-A53F-1E8D18B2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D21-9087-41F3-A5BF-2D041D46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F3D-B58B-4DBF-BA1C-38778C09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E40-F97A-4054-A68E-C0752017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D8B-2A29-4C38-B6A4-E8849BB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5A7-D0B9-4BDE-932A-D4A0797D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1CF-5333-4A74-8744-5ED068F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418B-9953-472C-8CC9-048F1C8D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8C8-0411-4016-899C-140DC874885D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512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Classes and</a:t>
            </a:r>
            <a:br>
              <a:rPr sz="5400"/>
            </a:b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Data Abstraction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11240" y="3968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pic 5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1296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nstructors: member functions automatically called when an object is declared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(int the_id, char the_major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();   </a:t>
            </a:r>
            <a:r>
              <a:rPr b="0" lang="en-US" sz="2400" spc="-1" strike="noStrike">
                <a:solidFill>
                  <a:srgbClr val="393939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Default constructo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When default constructor is called in main: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new_student; 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3939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: Student new_student()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68960" y="6211800"/>
            <a:ext cx="436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udent   new_student(999,’C’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#include &lt;iostream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lass Studen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public: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int the_id, char the_major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int the_id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int get_id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har get_major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void output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private: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int   i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har  major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nt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 new_student(55,'B'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new_student.output(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int the_id, char the_major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the_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major = the_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int the_id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the_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major = 'X'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void Student::output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cout&lt;&lt; 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cout&lt;&lt; 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26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8" name="Rectangle 1027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onstructo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efault Constructo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onstructor with all member variabl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onstructor with some member variabl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9" name="Text Box 1028"/>
          <p:cNvSpPr/>
          <p:nvPr/>
        </p:nvSpPr>
        <p:spPr>
          <a:xfrm>
            <a:off x="1139760" y="3657600"/>
            <a:ext cx="3451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Student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 Classe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uble Area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60" name="Group 1029"/>
          <p:cNvGrpSpPr/>
          <p:nvPr/>
        </p:nvGrpSpPr>
        <p:grpSpPr>
          <a:xfrm>
            <a:off x="3276720" y="3962520"/>
            <a:ext cx="5715000" cy="2042640"/>
            <a:chOff x="3276720" y="3962520"/>
            <a:chExt cx="5715000" cy="2042640"/>
          </a:xfrm>
        </p:grpSpPr>
        <p:sp>
          <p:nvSpPr>
            <p:cNvPr id="161" name="Rectangle 1030"/>
            <p:cNvSpPr/>
            <p:nvPr/>
          </p:nvSpPr>
          <p:spPr>
            <a:xfrm>
              <a:off x="4648320" y="3962520"/>
              <a:ext cx="4343400" cy="204264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chool 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chool (</a:t>
              </a:r>
              <a:r>
                <a:rPr b="0" lang="en-US" sz="1500" spc="-1" strike="noStrike">
                  <a:solidFill>
                    <a:srgbClr val="393939"/>
                  </a:solidFill>
                  <a:latin typeface="Arial"/>
                </a:rPr>
                <a:t>int students, int classes, double area</a:t>
              </a: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students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students, int classes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classes, double area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62" name="Line 1031"/>
            <p:cNvSpPr/>
            <p:nvPr/>
          </p:nvSpPr>
          <p:spPr>
            <a:xfrm flipH="1">
              <a:off x="3276720" y="4800600"/>
              <a:ext cx="137160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Constructor Definition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Must have the same name as the clas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efinition cannot return a value. No type – not even void- can be given at the start of the function prototype or heade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How can I call a constructor in main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main(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myschoo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YourSchool(200,10,5000);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AnotherSchool(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notherSchool.School(300,15,4000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147520" y="5715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995960" y="4800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090120" y="5257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ccesso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Functions that give you access to the values of the private member variables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3440" y="3200400"/>
            <a:ext cx="3451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Student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 Classe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uble Area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3200400" y="3505320"/>
            <a:ext cx="5715000" cy="2042640"/>
            <a:chOff x="3200400" y="3505320"/>
            <a:chExt cx="5715000" cy="2042640"/>
          </a:xfrm>
        </p:grpSpPr>
        <p:sp>
          <p:nvSpPr>
            <p:cNvPr id="172" name="Rectangle 6"/>
            <p:cNvSpPr/>
            <p:nvPr/>
          </p:nvSpPr>
          <p:spPr>
            <a:xfrm>
              <a:off x="4572000" y="3505320"/>
              <a:ext cx="4343400" cy="2042640"/>
            </a:xfrm>
            <a:prstGeom prst="rect">
              <a:avLst/>
            </a:prstGeom>
            <a:solidFill>
              <a:srgbClr val="00ccff"/>
            </a:solidFill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int get_Students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number of students in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int get_Classes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number of classes in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double get_Area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area of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3200400" y="4343400"/>
              <a:ext cx="1371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ivate members </a:t>
            </a: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need for Accesso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5880" y="266688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91320" y="4648320"/>
            <a:ext cx="297180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public: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int   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char  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247400" y="2870280"/>
            <a:ext cx="423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nt get_id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returns the student 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char get_major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returns the student 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void set_id(int new_id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assigns a value to student 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void set_major(char new_major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assigns a value to student 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15080" y="1447920"/>
            <a:ext cx="314640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267080" y="3352680"/>
            <a:ext cx="3881520" cy="762120"/>
            <a:chOff x="4267080" y="3352680"/>
            <a:chExt cx="3881520" cy="762120"/>
          </a:xfrm>
        </p:grpSpPr>
        <p:sp>
          <p:nvSpPr>
            <p:cNvPr id="182" name="Text Box 5"/>
            <p:cNvSpPr/>
            <p:nvPr/>
          </p:nvSpPr>
          <p:spPr>
            <a:xfrm>
              <a:off x="5029200" y="3552840"/>
              <a:ext cx="311940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rivate member variable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>
              <a:off x="4267080" y="335268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4343400" y="3733920"/>
              <a:ext cx="60948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85" name="Text Box 8"/>
          <p:cNvSpPr/>
          <p:nvPr/>
        </p:nvSpPr>
        <p:spPr>
          <a:xfrm>
            <a:off x="1600200" y="4940280"/>
            <a:ext cx="357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OfYear  To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in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&gt;&gt; Today.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o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&lt;&lt; Today.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f (Today.month ==1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out &lt;&lt; “January”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5028840" y="5486040"/>
            <a:ext cx="3103920" cy="762480"/>
            <a:chOff x="5028840" y="5486040"/>
            <a:chExt cx="3103920" cy="762480"/>
          </a:xfrm>
        </p:grpSpPr>
        <p:sp>
          <p:nvSpPr>
            <p:cNvPr id="187" name="Text Box 10"/>
            <p:cNvSpPr/>
            <p:nvPr/>
          </p:nvSpPr>
          <p:spPr>
            <a:xfrm>
              <a:off x="6630840" y="5639040"/>
              <a:ext cx="15019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ILLEGAL!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 flipH="1">
              <a:off x="5029200" y="5486400"/>
              <a:ext cx="914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5028840" y="5867640"/>
              <a:ext cx="16002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 flipH="1">
              <a:off x="5029200" y="6248520"/>
              <a:ext cx="914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 flipV="1">
              <a:off x="5943600" y="5486040"/>
              <a:ext cx="0" cy="762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4653000" y="1447920"/>
            <a:ext cx="449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939"/>
                </a:solidFill>
                <a:uFillTx/>
                <a:latin typeface="Arial"/>
              </a:rPr>
              <a:t>Restriction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Once you make a member variable private, the only way to access it or change its value is by using one of the member functions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295280" y="4606920"/>
            <a:ext cx="12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6.2 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811120" y="1371600"/>
            <a:ext cx="314640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066680" y="1981080"/>
            <a:ext cx="464832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 DayOfYear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: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 “month= “&lt;&lt; month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“day=“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    &lt;&lt; day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endl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55520" y="1411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Member Function Definitio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819520" y="5181480"/>
            <a:ext cx="5878440" cy="825480"/>
          </a:xfrm>
          <a:prstGeom prst="rect">
            <a:avLst/>
          </a:prstGeom>
          <a:noFill/>
          <a:ln w="936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 members may be used in member function definitions (but not elsewhere)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4876920" y="4038120"/>
            <a:ext cx="0" cy="1143000"/>
          </a:xfrm>
          <a:prstGeom prst="line">
            <a:avLst/>
          </a:prstGeom>
          <a:ln w="9360">
            <a:solidFill>
              <a:srgbClr val="66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5334120" y="3429000"/>
            <a:ext cx="0" cy="1752480"/>
          </a:xfrm>
          <a:prstGeom prst="line">
            <a:avLst/>
          </a:prstGeom>
          <a:ln w="9360">
            <a:solidFill>
              <a:srgbClr val="66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6.2 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295280" y="1447920"/>
            <a:ext cx="3505320" cy="344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Sampl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ariable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Stuff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419720" y="3733920"/>
            <a:ext cx="3880800" cy="761760"/>
            <a:chOff x="4419720" y="3733920"/>
            <a:chExt cx="3880800" cy="761760"/>
          </a:xfrm>
        </p:grpSpPr>
        <p:sp>
          <p:nvSpPr>
            <p:cNvPr id="204" name="Text Box 5"/>
            <p:cNvSpPr/>
            <p:nvPr/>
          </p:nvSpPr>
          <p:spPr>
            <a:xfrm>
              <a:off x="5181480" y="3933720"/>
              <a:ext cx="311904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rivate member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4419720" y="373392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4495680" y="4114800"/>
              <a:ext cx="6091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4343400" y="2438280"/>
            <a:ext cx="3881520" cy="990360"/>
            <a:chOff x="4343400" y="2438280"/>
            <a:chExt cx="3881520" cy="990360"/>
          </a:xfrm>
        </p:grpSpPr>
        <p:sp>
          <p:nvSpPr>
            <p:cNvPr id="208" name="Text Box 9"/>
            <p:cNvSpPr/>
            <p:nvPr/>
          </p:nvSpPr>
          <p:spPr>
            <a:xfrm>
              <a:off x="5105520" y="2698200"/>
              <a:ext cx="311940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ublic member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9" name="AutoShape 10"/>
            <p:cNvSpPr/>
            <p:nvPr/>
          </p:nvSpPr>
          <p:spPr>
            <a:xfrm>
              <a:off x="4343400" y="2438280"/>
              <a:ext cx="76320" cy="9903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419720" y="2933640"/>
              <a:ext cx="60948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211" name="Text Box 12"/>
          <p:cNvSpPr/>
          <p:nvPr/>
        </p:nvSpPr>
        <p:spPr>
          <a:xfrm>
            <a:off x="1254240" y="5105520"/>
            <a:ext cx="76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blic members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 can be used in the main body of your program or in the definition of any function, even a non- member function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as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Verdana"/>
              </a:rPr>
              <a:t>User Defined 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85800" y="2651040"/>
            <a:ext cx="8305920" cy="32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3581280" y="2955960"/>
            <a:ext cx="2514600" cy="1999080"/>
            <a:chOff x="3581280" y="2955960"/>
            <a:chExt cx="2514600" cy="1999080"/>
          </a:xfrm>
        </p:grpSpPr>
        <p:sp>
          <p:nvSpPr>
            <p:cNvPr id="96" name="Text Box 6"/>
            <p:cNvSpPr/>
            <p:nvPr/>
          </p:nvSpPr>
          <p:spPr>
            <a:xfrm>
              <a:off x="3711240" y="356544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581280" y="425124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4322520" y="295596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6324480" y="3718080"/>
            <a:ext cx="2514600" cy="1998720"/>
            <a:chOff x="6324480" y="3718080"/>
            <a:chExt cx="2514600" cy="1998720"/>
          </a:xfrm>
        </p:grpSpPr>
        <p:sp>
          <p:nvSpPr>
            <p:cNvPr id="100" name="Text Box 10"/>
            <p:cNvSpPr/>
            <p:nvPr/>
          </p:nvSpPr>
          <p:spPr>
            <a:xfrm>
              <a:off x="6454440" y="432720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6324480" y="501300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7065720" y="37180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3" name="Group 13"/>
          <p:cNvGrpSpPr/>
          <p:nvPr/>
        </p:nvGrpSpPr>
        <p:grpSpPr>
          <a:xfrm>
            <a:off x="838080" y="3718080"/>
            <a:ext cx="2514600" cy="1998720"/>
            <a:chOff x="838080" y="3718080"/>
            <a:chExt cx="2514600" cy="1998720"/>
          </a:xfrm>
        </p:grpSpPr>
        <p:sp>
          <p:nvSpPr>
            <p:cNvPr id="104" name="Text Box 14"/>
            <p:cNvSpPr/>
            <p:nvPr/>
          </p:nvSpPr>
          <p:spPr>
            <a:xfrm>
              <a:off x="968040" y="432720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838080" y="501300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1579320" y="37180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07" name="Line 17"/>
          <p:cNvSpPr/>
          <p:nvPr/>
        </p:nvSpPr>
        <p:spPr>
          <a:xfrm flipV="1">
            <a:off x="1981080" y="5775120"/>
            <a:ext cx="0" cy="6094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1981080" y="6384960"/>
            <a:ext cx="4572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438280" y="6080040"/>
            <a:ext cx="634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ncapsulation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: combining a number of items such as variables and functions into a single package (object)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1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0"/>
            <a:ext cx="7010280" cy="48006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Fig. 6.3: fig06_03.cpp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class.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iostream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cou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iomanip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setfil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setw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abstract data type (ADT) definition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{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();              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constructor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etTime(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, minute, second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Universal();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print universal-time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Standard(); 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standard-time format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504960" y="2362320"/>
            <a:ext cx="3276720" cy="838080"/>
            <a:chOff x="3504960" y="2362320"/>
            <a:chExt cx="3276720" cy="838080"/>
          </a:xfrm>
        </p:grpSpPr>
        <p:sp>
          <p:nvSpPr>
            <p:cNvPr id="215" name="Text Box 5"/>
            <p:cNvSpPr/>
            <p:nvPr/>
          </p:nvSpPr>
          <p:spPr>
            <a:xfrm>
              <a:off x="4952880" y="2362320"/>
              <a:ext cx="1828800" cy="307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efine clas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 flipH="1">
              <a:off x="3504960" y="25146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2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7010280" cy="56386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hour;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23 (24-hour clock format)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inute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59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econd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59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;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end class Time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9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constructor initializes each data member to zero and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0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sures all Time objects start in a consistent state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ime::Time()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hour = minute = second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Time constructor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7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new Time value using universal time, perform validity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8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checks on the data values and set invalid values to zero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9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setTime(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h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 )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hour = ( h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h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h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minute = ( m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m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m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second = ( s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s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s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setTime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971800" y="1752480"/>
            <a:ext cx="3809880" cy="838440"/>
            <a:chOff x="2971800" y="1752480"/>
            <a:chExt cx="3809880" cy="838440"/>
          </a:xfrm>
        </p:grpSpPr>
        <p:sp>
          <p:nvSpPr>
            <p:cNvPr id="220" name="Text Box 5"/>
            <p:cNvSpPr/>
            <p:nvPr/>
          </p:nvSpPr>
          <p:spPr>
            <a:xfrm>
              <a:off x="4419720" y="1752480"/>
              <a:ext cx="236196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Constructor initialize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rivat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data members to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22" name="Group 7"/>
          <p:cNvGrpSpPr/>
          <p:nvPr/>
        </p:nvGrpSpPr>
        <p:grpSpPr>
          <a:xfrm>
            <a:off x="4419360" y="3657600"/>
            <a:ext cx="3505320" cy="1159560"/>
            <a:chOff x="4419360" y="3657600"/>
            <a:chExt cx="3505320" cy="1159560"/>
          </a:xfrm>
        </p:grpSpPr>
        <p:sp>
          <p:nvSpPr>
            <p:cNvPr id="223" name="Text Box 8"/>
            <p:cNvSpPr/>
            <p:nvPr/>
          </p:nvSpPr>
          <p:spPr>
            <a:xfrm>
              <a:off x="5867280" y="3657600"/>
              <a:ext cx="2057400" cy="115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 checks parameter values for validity before sett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rivat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data member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4" name="Line 9"/>
            <p:cNvSpPr/>
            <p:nvPr/>
          </p:nvSpPr>
          <p:spPr>
            <a:xfrm flipH="1">
              <a:off x="4419360" y="380988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3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7010280" cy="52578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7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universal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8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printUniversal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setfill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hour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minute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con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Universal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6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standard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7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printStandard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( ( hour =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|| hour =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 hour %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fill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minut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cond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( hour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?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AM"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PM"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Standard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6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 t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instantiate object t of class 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9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066680" y="3886200"/>
            <a:ext cx="4114800" cy="838080"/>
            <a:chOff x="1066680" y="3886200"/>
            <a:chExt cx="4114800" cy="838080"/>
          </a:xfrm>
        </p:grpSpPr>
        <p:sp>
          <p:nvSpPr>
            <p:cNvPr id="228" name="Text Box 5"/>
            <p:cNvSpPr/>
            <p:nvPr/>
          </p:nvSpPr>
          <p:spPr>
            <a:xfrm>
              <a:off x="2514600" y="38862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eclare variable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to be object of clas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H="1">
              <a:off x="1066680" y="40384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30" name="Group 7"/>
          <p:cNvGrpSpPr/>
          <p:nvPr/>
        </p:nvGrpSpPr>
        <p:grpSpPr>
          <a:xfrm>
            <a:off x="2895480" y="533520"/>
            <a:ext cx="4114800" cy="2013120"/>
            <a:chOff x="2895480" y="533520"/>
            <a:chExt cx="4114800" cy="2013120"/>
          </a:xfrm>
        </p:grpSpPr>
        <p:sp>
          <p:nvSpPr>
            <p:cNvPr id="231" name="Text Box 8"/>
            <p:cNvSpPr/>
            <p:nvPr/>
          </p:nvSpPr>
          <p:spPr>
            <a:xfrm>
              <a:off x="4343400" y="1600200"/>
              <a:ext cx="2666880" cy="9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No arguments (implicitly “know” purpose is to print data members); member function calls more concise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 flipH="1">
              <a:off x="2895480" y="17524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 flipH="1" flipV="1">
              <a:off x="2895480" y="533520"/>
              <a:ext cx="1447920" cy="12189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4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0"/>
            <a:ext cx="7010280" cy="51814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0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ime object t's initial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The initial universal 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The initial standard 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setTime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change 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9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ime object t's new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\nUniversal time after set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3:27:06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Standard time after set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:27:06 P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setTime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attempt invalid setting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8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's values after specifying invalid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\nAfter attempting invalid settings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Universal time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437920" y="720360"/>
            <a:ext cx="4458240" cy="672840"/>
            <a:chOff x="2437920" y="720360"/>
            <a:chExt cx="4458240" cy="672840"/>
          </a:xfrm>
        </p:grpSpPr>
        <p:sp>
          <p:nvSpPr>
            <p:cNvPr id="237" name="Text Box 5"/>
            <p:cNvSpPr/>
            <p:nvPr/>
          </p:nvSpPr>
          <p:spPr>
            <a:xfrm>
              <a:off x="4229280" y="8730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Invoke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s to print time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 flipH="1" flipV="1">
              <a:off x="2514240" y="720360"/>
              <a:ext cx="1714680" cy="3049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H="1">
              <a:off x="2437920" y="1025640"/>
              <a:ext cx="1791000" cy="3459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2286000" y="1905120"/>
            <a:ext cx="4114800" cy="672480"/>
            <a:chOff x="2286000" y="1905120"/>
            <a:chExt cx="4114800" cy="672480"/>
          </a:xfrm>
        </p:grpSpPr>
        <p:sp>
          <p:nvSpPr>
            <p:cNvPr id="241" name="Text Box 9"/>
            <p:cNvSpPr/>
            <p:nvPr/>
          </p:nvSpPr>
          <p:spPr>
            <a:xfrm>
              <a:off x="3733920" y="20574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Set data members us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 flipV="1">
              <a:off x="2286000" y="1905120"/>
              <a:ext cx="1447920" cy="3045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43" name="Group 11"/>
          <p:cNvGrpSpPr/>
          <p:nvPr/>
        </p:nvGrpSpPr>
        <p:grpSpPr>
          <a:xfrm>
            <a:off x="2286000" y="2819520"/>
            <a:ext cx="4114800" cy="838080"/>
            <a:chOff x="2286000" y="2819520"/>
            <a:chExt cx="4114800" cy="838080"/>
          </a:xfrm>
        </p:grpSpPr>
        <p:sp>
          <p:nvSpPr>
            <p:cNvPr id="244" name="Text Box 12"/>
            <p:cNvSpPr/>
            <p:nvPr/>
          </p:nvSpPr>
          <p:spPr>
            <a:xfrm>
              <a:off x="3733920" y="2819520"/>
              <a:ext cx="2666880" cy="73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Attempt to set data members to invalid values us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45" name="Line 13"/>
            <p:cNvSpPr/>
            <p:nvPr/>
          </p:nvSpPr>
          <p:spPr>
            <a:xfrm flipH="1">
              <a:off x="2286000" y="29718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5 of 5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output (1 of 1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0"/>
            <a:ext cx="7010280" cy="17524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Standard time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main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1752480"/>
            <a:ext cx="701028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 after setTime is 1:27:06 P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ttempting invalid settings: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Courier New"/>
              </a:rPr>
              <a:t>Standard time: 12:00:00 AM</a:t>
            </a:r>
            <a:r>
              <a:rPr b="1" lang="en-US" sz="1400" spc="-1" strike="noStrike">
                <a:solidFill>
                  <a:srgbClr val="393939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2666880" y="2798640"/>
            <a:ext cx="4114800" cy="838440"/>
            <a:chOff x="2666880" y="2798640"/>
            <a:chExt cx="4114800" cy="838440"/>
          </a:xfrm>
        </p:grpSpPr>
        <p:sp>
          <p:nvSpPr>
            <p:cNvPr id="250" name="Text Box 6"/>
            <p:cNvSpPr/>
            <p:nvPr/>
          </p:nvSpPr>
          <p:spPr>
            <a:xfrm>
              <a:off x="4114800" y="279864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ata members set to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after attempting invalid setting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 flipH="1">
              <a:off x="2666880" y="29512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43000" y="13716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lass Class_Na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rivat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+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+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5334120" y="3200400"/>
            <a:ext cx="2928240" cy="1371600"/>
            <a:chOff x="5334120" y="3200400"/>
            <a:chExt cx="2928240" cy="1371600"/>
          </a:xfrm>
        </p:grpSpPr>
        <p:sp>
          <p:nvSpPr>
            <p:cNvPr id="113" name="AutoShape 5"/>
            <p:cNvSpPr/>
            <p:nvPr/>
          </p:nvSpPr>
          <p:spPr>
            <a:xfrm>
              <a:off x="5334120" y="3200400"/>
              <a:ext cx="304560" cy="13716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5931360" y="36212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ublic 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5410080" y="4876920"/>
            <a:ext cx="3047400" cy="1371600"/>
            <a:chOff x="5410080" y="4876920"/>
            <a:chExt cx="3047400" cy="1371600"/>
          </a:xfrm>
        </p:grpSpPr>
        <p:sp>
          <p:nvSpPr>
            <p:cNvPr id="116" name="AutoShape 8"/>
            <p:cNvSpPr/>
            <p:nvPr/>
          </p:nvSpPr>
          <p:spPr>
            <a:xfrm>
              <a:off x="5410080" y="4876920"/>
              <a:ext cx="304560" cy="13716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6005880" y="529776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rivate 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143000" y="13716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lass Bicyc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get_color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number_of_speeds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t (int the_speeds, char the_color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rivat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int speed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char color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238880" y="3200400"/>
            <a:ext cx="1815480" cy="1371600"/>
            <a:chOff x="7238880" y="3200400"/>
            <a:chExt cx="1815480" cy="1371600"/>
          </a:xfrm>
        </p:grpSpPr>
        <p:sp>
          <p:nvSpPr>
            <p:cNvPr id="121" name="AutoShape 5"/>
            <p:cNvSpPr/>
            <p:nvPr/>
          </p:nvSpPr>
          <p:spPr>
            <a:xfrm>
              <a:off x="7238880" y="3200400"/>
              <a:ext cx="185760" cy="13716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7602480" y="3621240"/>
              <a:ext cx="145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ublic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3" name="Group 7"/>
          <p:cNvGrpSpPr/>
          <p:nvPr/>
        </p:nvGrpSpPr>
        <p:grpSpPr>
          <a:xfrm>
            <a:off x="7356600" y="4800600"/>
            <a:ext cx="1785240" cy="1371600"/>
            <a:chOff x="7356600" y="4800600"/>
            <a:chExt cx="1785240" cy="1371600"/>
          </a:xfrm>
        </p:grpSpPr>
        <p:sp>
          <p:nvSpPr>
            <p:cNvPr id="124" name="AutoShape 8"/>
            <p:cNvSpPr/>
            <p:nvPr/>
          </p:nvSpPr>
          <p:spPr>
            <a:xfrm>
              <a:off x="7356600" y="4800600"/>
              <a:ext cx="169560" cy="1371600"/>
            </a:xfrm>
            <a:custGeom>
              <a:avLst/>
              <a:gdLst>
                <a:gd name="textAreaLeft" fmla="*/ 0 w 169560"/>
                <a:gd name="textAreaRight" fmla="*/ 61200 w 169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689960" y="5221440"/>
              <a:ext cx="145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rivat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26" name="Text Box 10"/>
          <p:cNvSpPr/>
          <p:nvPr/>
        </p:nvSpPr>
        <p:spPr>
          <a:xfrm>
            <a:off x="2446920" y="6248520"/>
            <a:ext cx="46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Bicycle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y_bike, your_bik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6"/>
          <p:cNvSpPr/>
          <p:nvPr/>
        </p:nvSpPr>
        <p:spPr>
          <a:xfrm>
            <a:off x="1143000" y="137160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Member Function Syntax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93939"/>
                </a:solidFill>
                <a:latin typeface="Times New Roman"/>
              </a:rPr>
              <a:t>Return_Type   Class_Name </a:t>
            </a:r>
            <a:r>
              <a:rPr b="0" lang="en-US" sz="2100" spc="-1" strike="noStrike">
                <a:solidFill>
                  <a:srgbClr val="f82704"/>
                </a:solidFill>
                <a:latin typeface="Times New Roman"/>
              </a:rPr>
              <a:t>::</a:t>
            </a:r>
            <a:r>
              <a:rPr b="0" lang="en-US" sz="2100" spc="-1" strike="noStrike">
                <a:solidFill>
                  <a:srgbClr val="393939"/>
                </a:solidFill>
                <a:latin typeface="Times New Roman"/>
              </a:rPr>
              <a:t> Function_Name (Parameter_List)</a:t>
            </a:r>
            <a:endParaRPr b="0" lang="en-US" sz="21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unction_Body_Statem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DayOfYear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::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utput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&lt;&lt; “month= “&lt;&lt;month&lt;&lt;“day= “&lt;&lt;day&lt;&lt;endl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Rectangle 1027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Text Box 1028"/>
          <p:cNvSpPr/>
          <p:nvPr/>
        </p:nvSpPr>
        <p:spPr>
          <a:xfrm>
            <a:off x="5582520" y="2819520"/>
            <a:ext cx="314640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1143000" y="1790640"/>
            <a:ext cx="80010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93939"/>
                </a:solidFill>
                <a:latin typeface="Times New Roman"/>
              </a:rPr>
              <a:t>How do I call the member function output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ayOfYear  today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month = 2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day = 10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output()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Rectangle 1027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5582520" y="2819520"/>
            <a:ext cx="314640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Rectangle 1027"/>
          <p:cNvSpPr/>
          <p:nvPr/>
        </p:nvSpPr>
        <p:spPr>
          <a:xfrm>
            <a:off x="1066680" y="1828800"/>
            <a:ext cx="397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t Operator (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d with Objects – class variabl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new_student.out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Rectangle 1028"/>
          <p:cNvSpPr/>
          <p:nvPr/>
        </p:nvSpPr>
        <p:spPr>
          <a:xfrm>
            <a:off x="5029200" y="1752480"/>
            <a:ext cx="3979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Scope Resolution Operator (::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93939"/>
                </a:solidFill>
                <a:uFillTx/>
                <a:latin typeface="Times New Roman"/>
              </a:rPr>
              <a:t> </a:t>
            </a:r>
            <a:endParaRPr b="0" lang="en-US" sz="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d with Class na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tudent::output(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Rectangle 1027"/>
          <p:cNvSpPr/>
          <p:nvPr/>
        </p:nvSpPr>
        <p:spPr>
          <a:xfrm>
            <a:off x="1033560" y="1523880"/>
            <a:ext cx="8110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ublic Vs Privat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parate the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rules for using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class and the details of the class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ave enough member functions that you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need to access member variables directly, only through membe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ode is easier to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understan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&amp;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an we overload member functions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id,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har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major[2]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id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score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8960" y="4724280"/>
            <a:ext cx="4146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Student new_studen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16.0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555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(999,”CS”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6019920" y="4495680"/>
            <a:ext cx="457200" cy="0"/>
          </a:xfrm>
          <a:prstGeom prst="line">
            <a:avLst/>
          </a:prstGeom>
          <a:ln w="9360">
            <a:solidFill>
              <a:srgbClr val="f827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105520" y="5334120"/>
            <a:ext cx="1371600" cy="0"/>
          </a:xfrm>
          <a:prstGeom prst="line">
            <a:avLst/>
          </a:prstGeom>
          <a:ln w="9360">
            <a:solidFill>
              <a:srgbClr val="f8270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477120" y="4495320"/>
            <a:ext cx="0" cy="838440"/>
          </a:xfrm>
          <a:prstGeom prst="line">
            <a:avLst/>
          </a:prstGeom>
          <a:ln w="9360">
            <a:solidFill>
              <a:srgbClr val="f82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638680" y="6095880"/>
            <a:ext cx="1524240" cy="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7162920" y="3505320"/>
            <a:ext cx="0" cy="25905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681200" y="6324480"/>
            <a:ext cx="63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93939"/>
                </a:solidFill>
                <a:latin typeface="Arial"/>
              </a:rPr>
              <a:t>Search for matching </a:t>
            </a:r>
            <a:r>
              <a:rPr b="0" i="1" lang="en-US" sz="1800" spc="-1" strike="noStrike" u="sng">
                <a:solidFill>
                  <a:srgbClr val="393939"/>
                </a:solidFill>
                <a:uFillTx/>
                <a:latin typeface="Arial"/>
              </a:rPr>
              <a:t>data types</a:t>
            </a:r>
            <a:r>
              <a:rPr b="0" i="1" lang="en-US" sz="1800" spc="-1" strike="noStrike">
                <a:solidFill>
                  <a:srgbClr val="393939"/>
                </a:solidFill>
                <a:latin typeface="Arial"/>
              </a:rPr>
              <a:t> and/or </a:t>
            </a:r>
            <a:r>
              <a:rPr b="0" i="1" lang="en-US" sz="1800" spc="-1" strike="noStrike" u="sng">
                <a:solidFill>
                  <a:srgbClr val="393939"/>
                </a:solidFill>
                <a:uFillTx/>
                <a:latin typeface="Arial"/>
              </a:rPr>
              <a:t>number of parameters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H="1">
            <a:off x="5486400" y="3886200"/>
            <a:ext cx="1295280" cy="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6781680" y="3886200"/>
            <a:ext cx="0" cy="182880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029200" y="5715000"/>
            <a:ext cx="1752480" cy="0"/>
          </a:xfrm>
          <a:prstGeom prst="line">
            <a:avLst/>
          </a:prstGeom>
          <a:ln w="9360">
            <a:solidFill>
              <a:srgbClr val="ff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3:04:54Z</dcterms:created>
  <dc:creator>Mwakil</dc:creator>
  <dc:description/>
  <dc:language>en-US</dc:language>
  <cp:lastModifiedBy>Khajamohammed Khaja Mustafa</cp:lastModifiedBy>
  <dcterms:modified xsi:type="dcterms:W3CDTF">2015-11-17T05:35:36Z</dcterms:modified>
  <cp:revision>9</cp:revision>
  <dc:subject/>
  <dc:title>PowerPoint Presentation</dc:title>
</cp:coreProperties>
</file>