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1511-C9B7-4410-BBC2-2B277C53287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1B83-205D-4086-B71D-45E3AF05311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E9CE-B8FC-455A-AF74-7B72F4660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C8C8-9367-4C4E-9FBF-AD7C78CBA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3E04-50F5-4ED9-85AF-4A4227509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1D17-FABF-448F-9805-E4F75DA04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1DC1-1718-468A-965F-E00F4630F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EC48-4A9C-4F38-A14E-81BA90EE3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5DF-B8AD-4EB9-9213-46BF6780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800-53B9-4DDB-A893-16DA68BA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633-F717-4B44-8D4A-09F724D9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11E-ADF2-4034-80BD-3616A9F1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A739-6697-48E0-8818-BA661508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82B3-10D7-4950-B7B1-0B9AAA7C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3A37-7249-4310-9A5D-3842B815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FFCF-E834-415B-ACE7-2B35F63E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02B2-679E-4242-8CAD-2C2798BC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1951-2B2B-4B4F-9D72-4AA7D0E7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E646-CACC-41B3-8519-3D27BDC2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DBD-7587-464D-855D-39C27E81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AFE4-ACC6-42B1-BDC5-B8D0D336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1086-BB3F-48D4-B591-2349ED9E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86CF-8B41-4B8F-8486-107A7989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91B7-0C38-481B-B429-191FE876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4345-2827-4E12-9CE6-82E5A5BE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6C20D-852A-41EA-98C1-7A124AD1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1B057-EDFD-42F0-BF29-3E291B1B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52750-F5AF-4E96-A0DC-5B42A2DC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7278-F90A-4BA1-A434-ADBFD111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1DA5E-34D7-49C3-8634-3907B57A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2F1-274C-48D0-AC2B-EC5226B6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77B45-BC38-4B1D-BA18-CCB00ADF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3942-9479-40A1-AE4B-27E7E796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54634-C9CC-49E0-B7DE-D784638C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0EC00-AAC7-48BB-8D8E-11944A0B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FA44F-096E-42EC-8389-DD33B9E4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C4968-9F4C-4107-9EA4-35C36617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CE4A-C7F9-45F6-86AE-6DA64A21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FC12D-4AE1-41B9-98AF-4EF2CD14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B1C5-0CC5-44BE-B812-CFD0830A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CF2CE-60BD-484B-8E0B-07356FA4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C37A-822D-4868-8D83-7063E68D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DBBD6-3AFB-45D4-9367-D73EBA93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A8618-878E-45C9-B98C-2057599F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2BB76-CE1F-4EE3-8F0A-1314EDCB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2FF24-7BBA-4CEA-A975-9D2988F3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BC3A7-5CDE-4717-A126-7886F293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9332B-BE41-4835-A3DA-AAE7CD90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B6811-4704-4A34-8B31-8A9407D9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BD42D-23C8-40BD-B7A0-A1844AEF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76245-365C-415A-84DA-2372EF86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EB6CD-B4FF-424D-B3F7-9FD4B575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765-D3EB-4FB8-AC7D-D996EE0F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36BFC-1265-4CBC-BA7B-541E4BF5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FF3BC-6EFC-468A-98B0-BEEC93DF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F0DF9-D656-4C0A-BA6B-E877F09A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C71CA-E430-4A31-AEA9-787820E9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1C7C8-9698-414C-A661-6EE04025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2A7EF-E702-4D6A-8116-7F07DAC2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B2184-6608-4B4D-97B0-6258E8E9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FB23E-AF71-486A-AA3E-F46EE33C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C2E56-653F-4E35-B654-280EBE13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F6A56-E12D-4B16-98C2-87753FAE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63E-47C9-42E8-AB69-BF8CF0AA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F5A51-FF04-4DC3-8BF9-1D4002E8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CD3-E88F-4726-90CD-2219B214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7CB-9111-4465-A55D-14FF3488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EDE-699D-4EFA-862E-51652348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DE30-C35F-4C36-ABEA-39B6531E53B4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AF10-50EA-4E14-916A-AF7C5FB06B4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مستطيل مستدير الزوايا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مستطيل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مستطيل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7FFB-9B31-4648-B1EF-C88284E6B4FB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59BA-479E-4D30-B9F6-C6AA356B4BA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90" name="مستطيل مستدير الزوايا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93" name="مستطيل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مستطيل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مستطيل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CC99-8296-47D6-A66B-5A520BC4D490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2EBA-0F66-4B08-B1D0-523C538439F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مستطيل مستدير الزوايا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C90B-3C94-4093-AEE4-192F74BAE488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C582-C7E4-4058-B62D-5AA18C391BF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مستطيل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مستطيل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مستطيل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751C-2E66-499A-8BAD-01516772066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6CEF-3127-46B1-8B51-2F512259B09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msdn.microsoft.com/en-us/library/aa903372(VS.71).aspx" TargetMode="External"/><Relationship Id="rId2" Type="http://schemas.openxmlformats.org/officeDocument/2006/relationships/hyperlink" Target="http://www.a1vbcode.com/code.asp?type=string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304920" y="4800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6" name="Picture 3" descr="VB_cover"/>
          <p:cNvPicPr/>
          <p:nvPr/>
        </p:nvPicPr>
        <p:blipFill>
          <a:blip r:embed="rId1"/>
          <a:stretch/>
        </p:blipFill>
        <p:spPr>
          <a:xfrm rot="20445000">
            <a:off x="838080" y="83772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533520" y="2819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9b2d1f"/>
                </a:solidFill>
                <a:latin typeface="Calibri"/>
                <a:ea typeface="Times New Roman"/>
              </a:rPr>
              <a:t>String Manipulation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ference: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ectur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ham O. Al-Abdul Jabba lectures for cap211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This allows you to grab one string within another. (For example, if you wanted to grab the “.com” from the email address “me@me.com.”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In between the round brackets of Substring( ), you specify a starting position and then how many characters you want to grab (the count starts at zero again). Like thi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Email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DotCom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mail = “me@me.com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otCom = Email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5, 4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DotCom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You could also do a check to see if the email address ended in “.com” like this. Here’s some code to do the job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Email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DotCom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mail = "me@me.com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otCom = Email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Email.Length - 4, 4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If DotCom = ".com" The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"Ends in Dot Com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"Doesn't End in Dot Com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Substring method  could do the same function as Chars() method and the result would be the same.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For i = 0 To TextLength - 1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OneCharacter = FirstName.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i, 1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 OneCharact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Next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im s As String = "Welcome to the world"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 = s.</a:t>
            </a:r>
            <a:r>
              <a:rPr b="0" lang="en-US" sz="26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(8)                </a:t>
            </a:r>
            <a:r>
              <a:rPr b="0" lang="en-US" sz="2600" spc="-1" strike="noStrike">
                <a:solidFill>
                  <a:srgbClr val="33cc33"/>
                </a:solidFill>
                <a:latin typeface="Perpetua"/>
              </a:rPr>
              <a:t>‘ “to the world 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im r As String = "Welcome to the world"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r = r.</a:t>
            </a:r>
            <a:r>
              <a:rPr b="0" lang="en-US" sz="26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(8, 6)                   </a:t>
            </a:r>
            <a:r>
              <a:rPr b="0" lang="en-US" sz="2600" spc="-1" strike="noStrike">
                <a:solidFill>
                  <a:srgbClr val="33cc33"/>
                </a:solidFill>
                <a:latin typeface="Perpetua"/>
              </a:rPr>
              <a:t>‘ “to the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You can replace text in one string with some other tex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Old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New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OldText = "This is some test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NewText = OldText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Replace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"test", "text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OldText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NewText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hen you run the program, the first message box will say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"This is some test"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and the second box will say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"This is some text"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Repla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also insert some new text into an string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Dim Some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Dim New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SomeText = "This some text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NewText = SomeText.</a:t>
            </a:r>
            <a:r>
              <a:rPr b="1" lang="en-US" sz="2000" spc="-1" strike="noStrike">
                <a:solidFill>
                  <a:srgbClr val="ff0066"/>
                </a:solidFill>
                <a:latin typeface="Perpetua"/>
                <a:ea typeface="Arial"/>
              </a:rPr>
              <a:t>Insert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(5, "is "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MsgBox(Some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MsgBox(New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5 in round brackets means start at position 5 in the string variabl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omeText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(the count starts at zero). You then type the text that you want inserted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first message box </a:t>
            </a:r>
            <a:r>
              <a:rPr b="0" lang="en-US" sz="28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This some t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second message box </a:t>
            </a:r>
            <a:r>
              <a:rPr b="0" lang="en-US" sz="28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This is some t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Inser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plit allows you to split a line of text and put each element (word or phrase) into an arra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Join allows you to join elements of an array into one line of tex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 and Join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read the text file line by line, and each line might be something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“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UserName1, Password1, UserName2, Password2, UserName3, Password3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programming problem is to separate each word. You can use Split for this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Each word would then be separated, ready for you to place into an array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4582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LineOf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aryTextFile()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LineOfText = "UserName1, Password1, UserName2, Password2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 = LineOfText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plit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",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For i = 0 To UBound(aryTextFil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aryTextFile(i)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Next 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hen VB finishes the splitting, it fills up your array. Each element will occupy one slot in your arra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So in our example,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(0)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ill hold a value of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UserName1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,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(1)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ill hold a value of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Password1,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0" y="990720"/>
            <a:ext cx="82296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The Join method is used when you want to join the elements of an array back together again. Here’s some code which does exactly that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LineOf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aryTextFile(3)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0) = "UserName1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1) = "Password1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2) = "UserName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3) = "Password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LineOfText = LineOfText.</a:t>
            </a:r>
            <a:r>
              <a:rPr b="1" lang="en-US" sz="2000" spc="-1" strike="noStrike">
                <a:solidFill>
                  <a:srgbClr val="ff0066"/>
                </a:solidFill>
                <a:latin typeface="Perpetua"/>
              </a:rPr>
              <a:t>Join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("-", aryTextFil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MsgBox(LineOf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you first type what you want to use as a separator. Here, we’re using an hyphen as a separator. Next, you put the name of your array. The variable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LineOfText </a:t>
            </a: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will hold the following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                  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"UserName1-Password1-UserName2-Password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Join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trings have their own properties and methods, just like a textbox or label or form does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6840" y="144792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8467" t="2832" r="27059" b="24494"/>
          <a:stretch/>
        </p:blipFill>
        <p:spPr>
          <a:xfrm>
            <a:off x="4191120" y="533520"/>
            <a:ext cx="174132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1" name="Picture 5" descr=""/>
          <p:cNvPicPr/>
          <p:nvPr/>
        </p:nvPicPr>
        <p:blipFill>
          <a:blip r:embed="rId2"/>
          <a:srcRect l="12035" t="0" r="18750" b="8179"/>
          <a:stretch/>
        </p:blipFill>
        <p:spPr>
          <a:xfrm>
            <a:off x="6095880" y="533520"/>
            <a:ext cx="184788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Dim string1 As String = "hello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Dim charArray() As Char = string1.</a:t>
            </a:r>
            <a:r>
              <a:rPr b="0" sz="2600" spc="-1" strike="noStrike">
                <a:solidFill>
                  <a:srgbClr val="ff0066"/>
                </a:solidFill>
                <a:latin typeface="Perpetua"/>
              </a:rPr>
              <a:t>ToCharArray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(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Console.WriteLine("string1 = " &amp; string1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Console.Write("string1 as an array of character ="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For i = 0 To charArray.Length -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            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Console.Write(" " &amp; charArray(i)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N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oCharArr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914400" y="5791320"/>
            <a:ext cx="701028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1 = hello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1 as an array of character = h e l l o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code previously, we had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DotCom = ".com"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("Ends in Dot Com"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("Doesn't End in Dot Com"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use th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quals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method of string variables in the first line, instead of an equals sign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DotCom.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“.com”)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Equal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Str1.</a:t>
            </a:r>
            <a:r>
              <a:rPr b="0" lang="en-US" sz="3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(Str2)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      </a:t>
            </a: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variable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String.</a:t>
            </a:r>
            <a:r>
              <a:rPr b="0" lang="en-US" sz="3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(Str1,Str2) 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	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      </a:t>
            </a: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namespace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Equa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Line 4"/>
          <p:cNvSpPr/>
          <p:nvPr/>
        </p:nvSpPr>
        <p:spPr>
          <a:xfrm flipH="1" flipV="1">
            <a:off x="1142640" y="4266720"/>
            <a:ext cx="152280" cy="30492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 flipH="1" flipV="1">
            <a:off x="990360" y="2819520"/>
            <a:ext cx="152280" cy="3045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5638680" y="2362320"/>
            <a:ext cx="533520" cy="2590560"/>
          </a:xfrm>
          <a:custGeom>
            <a:avLst/>
            <a:gdLst>
              <a:gd name="textAreaLeft" fmla="*/ 0 w 533520"/>
              <a:gd name="textAreaRight" fmla="*/ 192600 w 533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oth returns true or false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Str1.</a:t>
            </a:r>
            <a:r>
              <a:rPr b="1" lang="en-US" sz="4000" spc="-1" strike="noStrike">
                <a:solidFill>
                  <a:srgbClr val="ff0066"/>
                </a:solidFill>
                <a:latin typeface="Perpetua"/>
              </a:rPr>
              <a:t>compareTo</a:t>
            </a: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 (str2)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Returns: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0         if equa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-1 </a:t>
            </a: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	</a:t>
            </a: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  if str1 &lt; str2  …. ASCII cod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1         if str1 &gt; str2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CompareT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m a As String = "Ahma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Dim b As String = "Ali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0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equal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-1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ahmad &lt;ali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1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ahmad&gt;ali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00A7-0B25-4325-9556-AE39810DA7B3}" type="datetime">
              <a:rPr b="1" lang="en-US" sz="1400" spc="-1" strike="noStrike" u="sng">
                <a:solidFill>
                  <a:srgbClr val="696464"/>
                </a:solidFill>
                <a:uFillTx/>
                <a:latin typeface="Arial"/>
              </a:rPr>
              <a:t>07/31/26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696464"/>
                </a:solidFill>
                <a:uFillTx/>
                <a:latin typeface="Arial"/>
              </a:rPr>
              <a:t> </a:t>
            </a:r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9722-FDDC-42CF-8129-8CA82553A978}" type="slidenum">
              <a:rPr b="1" lang="ar-SA" sz="1400" spc="-1" strike="noStrike" u="sng">
                <a:solidFill>
                  <a:srgbClr val="ffffff"/>
                </a:solidFill>
                <a:uFillTx/>
                <a:latin typeface="Franklin Gothic Book"/>
                <a:ea typeface="Tahoma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If you wish to flip around the front and back end of a string, then the  </a:t>
            </a:r>
            <a:r>
              <a:rPr b="1" lang="en-US" sz="2600" spc="-1" strike="noStrike">
                <a:solidFill>
                  <a:srgbClr val="696464"/>
                </a:solidFill>
                <a:latin typeface="Courier New"/>
                <a:ea typeface="Courier New"/>
              </a:rPr>
              <a:t>StrReverse(string)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is for you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It is used in the following way. This would pop up a message saying ‘looc si 112pac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            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trReverse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“cap211 is cool"))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urier New"/>
                <a:ea typeface="Courier New"/>
              </a:rPr>
              <a:t>StrRevers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3772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Chr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(65) 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        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Asc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(“Apple”)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Asc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(“Ahmad”)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“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32”  &amp; 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chr(176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) &amp; “Fahrenheit”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                                           </a:t>
            </a:r>
            <a:r>
              <a:rPr b="1" lang="en-US" sz="2600" spc="-1" strike="noStrike">
                <a:solidFill>
                  <a:srgbClr val="696464"/>
                </a:solidFill>
                <a:latin typeface="Courier New"/>
                <a:ea typeface="Courier New"/>
              </a:rPr>
              <a:t>32°Fahrenhe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tring Metho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228600" y="1447920"/>
            <a:ext cx="3886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69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Test characters to determine whether they are of specific character type  and that  perform case conversions on characters. 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724280" y="1676520"/>
            <a:ext cx="3429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Digi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ett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etterOrDigi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ow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Upp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oUpp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oLow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914400" y="380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b2d1f"/>
                </a:solidFill>
                <a:latin typeface="Calibri"/>
              </a:rPr>
              <a:t>Char</a:t>
            </a:r>
            <a:r>
              <a:rPr b="1" lang="en-US" sz="44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sz="4400" spc="-1" strike="noStrike">
                <a:solidFill>
                  <a:srgbClr val="9b2d1f"/>
                </a:solidFill>
                <a:latin typeface="Calibri"/>
              </a:rPr>
              <a:t>Method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457200" y="1752480"/>
            <a:ext cx="7848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Dim ch As Char = Console.ReadLine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If Char.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sDigit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( ch ) then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Console.WriteLine(“Digit”)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Else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Console.WriteLine(“Not Digit”)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End If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914400" y="380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b2d1f"/>
                </a:solidFill>
                <a:latin typeface="Calibri"/>
              </a:rPr>
              <a:t>Char</a:t>
            </a:r>
            <a:r>
              <a:rPr b="1" lang="en-US" sz="44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sz="4400" spc="-1" strike="noStrike">
                <a:solidFill>
                  <a:srgbClr val="9b2d1f"/>
                </a:solidFill>
                <a:latin typeface="Calibri"/>
              </a:rPr>
              <a:t>Method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ing Properties and Methods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Visual".Length is 6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Visual".ToUpper is VISU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123 Hike".Length is 8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123 Hike".ToLower is 123 hik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a" &amp; " bcd ".Trim &amp; "efg" is abcdef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B785-A41D-4350-9120-6B5733B04FC3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To get the length of a string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Length = FirstName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Leng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Lengt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Positions in a String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981080"/>
            <a:ext cx="82296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s of characters in a string are numbered 0, 1, 2, …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sider the string “Visual Basic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0:  V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1:  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7:  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bstring “al” begins at position 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2B56-FC0E-432E-87FE-5DB760FB9A97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Substring Method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t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be a st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.Substring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the substring of length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beginning at position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t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Basic”.Substring(2, 3) is “sua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Basic”.Substring(0, 1) is “V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53DC-C8CF-475A-BF36-8128EF485FDD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IndexOf Method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be strings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1.IndexOf(str2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is the position of the first occurrence o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Perpetua"/>
              </a:rPr>
              <a:t>Note: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Has value -1 i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 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is not a substring o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.)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is")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is 1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si"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ab"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6C90-8D50-47A1-AFBB-28967F6C0878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Empty St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28600" y="1904760"/>
            <a:ext cx="868680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ring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""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which has no characters, is called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mpty string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zero-length st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atement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ps a line in the list box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tents of a text box can be cleared with either the stat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xtBox.Clear(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or the statement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xtBox.Text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C996-1E2A-457F-B55E-8FE8272D3F0E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840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itial Value of a String Variable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y default the initial value is the keyword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ings can be given a different initial value as follow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96a9a9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 </a:t>
            </a:r>
            <a:r>
              <a:rPr b="1" lang="en-US" sz="2400" spc="-1" strike="noStrike">
                <a:solidFill>
                  <a:srgbClr val="96a9a9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Fred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0121-81B0-4DBC-B9AF-71CC7E5EAAE6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For more information on String methods check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Perpetua"/>
              </a:rPr>
              <a:t>Deitel’s book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t is helpful for validating inputs, you may need it when coding your project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must practice lots of string manipulation examples check the following website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msdn.microsoft.com/en-us/library/aa903372(VS.71).aspx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www.a1vbcode.com/code.asp?type=string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More on Str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3160" y="1922040"/>
            <a:ext cx="792468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o get the character at a specified position.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Dim OneCharacter As Ch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For i = 0 To TextLength -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OneCharacter = FirstName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Chars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(i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MsgBox(OneCharacter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Next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Char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Dim strUpper As St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strUpper = TextBox1.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Box2.Text = strUpper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ToUpp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Box3.Text = strUpper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ToLow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oUpper, ToLow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228600" y="3657600"/>
            <a:ext cx="5257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Notice that the name of the variable you want to do something with comes first. Then, after the full stop, you add the name of the method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2381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70866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One of the methods on our list is Trim. What this does is to trim any </a:t>
            </a:r>
            <a:r>
              <a:rPr b="0" lang="en-US" sz="2800" spc="-1" strike="noStrike" u="sng">
                <a:solidFill>
                  <a:srgbClr val="696464"/>
                </a:solidFill>
                <a:uFillTx/>
                <a:latin typeface="Perpetua"/>
              </a:rPr>
              <a:t>lead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or </a:t>
            </a:r>
            <a:r>
              <a:rPr b="0" lang="en-US" sz="2800" spc="-1" strike="noStrike" u="sng">
                <a:solidFill>
                  <a:srgbClr val="696464"/>
                </a:solidFill>
                <a:uFillTx/>
                <a:latin typeface="Perpetua"/>
              </a:rPr>
              <a:t>trail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blank spaces from a str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So if the string was “ Text  ”, then Trim would delete those spaces for you, leaving just “Text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use it in your code like thi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Name = txtFirst.Tex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Name = FirstName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  <a:ea typeface="Arial"/>
              </a:rPr>
              <a:t>Tri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ri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nStr( )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method of string variables tells you what the position of one string is inside anothe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For example, if your string was “me@me.com” and you wanted to know if the string contained the @ symbol, you could use InStr( ) Method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would use it like thi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String = “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me@me.com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Second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 = “@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position = 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  <a:ea typeface="Arial"/>
              </a:rPr>
              <a:t>InStr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(FirstString, SecondString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variabl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FirstString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s the string we want to search;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econdString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s what we want to search fo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specify a starting position for the search to begin. If you do, this number goes at the start (the default is zero)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= 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InStr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1, FirstString, SecondString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the code above,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would have a value of 3. That’s because the @ symbols starts at the third letter of “me@me.com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72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Note: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InStr() Method starts counting at 1, and not zero like Chars(), which is very confusing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f the string you’re searching for is not found, then the value placed inside of your integer variable (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our case) is zero. That enables you to code something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position = 0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MsgBox (“Not a Valid email address: There was No @ Sign”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04:19Z</dcterms:created>
  <dc:creator>wagait</dc:creator>
  <dc:description/>
  <dc:language>en-US</dc:language>
  <cp:lastModifiedBy>sara</cp:lastModifiedBy>
  <dcterms:modified xsi:type="dcterms:W3CDTF">2014-03-08T12:35:46Z</dcterms:modified>
  <cp:revision>48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مستند</vt:lpwstr>
  </property>
  <property fmtid="{D5CDD505-2E9C-101B-9397-08002B2CF9AE}" pid="6" name="ContentTypeId">
    <vt:lpwstr>0x0101005130AFAA5D399E489E1819B440698DE2</vt:lpwstr>
  </property>
  <property fmtid="{D5CDD505-2E9C-101B-9397-08002B2CF9AE}" pid="7" name="Keywords">
    <vt:lpwstr/>
  </property>
  <property fmtid="{D5CDD505-2E9C-101B-9397-08002B2CF9AE}" pid="8" name="PublishingExpirationDate">
    <vt:lpwstr/>
  </property>
  <property fmtid="{D5CDD505-2E9C-101B-9397-08002B2CF9AE}" pid="9" name="PublishingStartDate">
    <vt:lpwstr/>
  </property>
  <property fmtid="{D5CDD505-2E9C-101B-9397-08002B2CF9AE}" pid="10" name="Slides">
    <vt:lpwstr>28</vt:lpwstr>
  </property>
  <property fmtid="{D5CDD505-2E9C-101B-9397-08002B2CF9AE}" pid="11" name="Subject">
    <vt:lpwstr/>
  </property>
  <property fmtid="{D5CDD505-2E9C-101B-9397-08002B2CF9AE}" pid="12" name="_Author">
    <vt:lpwstr>wagait</vt:lpwstr>
  </property>
  <property fmtid="{D5CDD505-2E9C-101B-9397-08002B2CF9AE}" pid="13" name="_Category">
    <vt:lpwstr/>
  </property>
  <property fmtid="{D5CDD505-2E9C-101B-9397-08002B2CF9AE}" pid="14" name="_Comments">
    <vt:lpwstr/>
  </property>
</Properties>
</file>