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E668-E522-47BF-98FF-ED094AE70E4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0E4B-EFD0-4CBC-B407-167522C2806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E9A9-354D-4A4D-8B8F-C490DCEC0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F846-1D0C-4EB0-88E4-400E62AF9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5297-A41A-4493-9EA9-F67EC572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7179-B31A-4FFB-B427-4FF3FC56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30D6-E9B0-415D-9323-A90F8D344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EF1E-14CF-49C2-AA52-931637D39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D7D-A66E-40F4-A9E2-9255FBC3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599-F286-48C0-9128-85B20D62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1BD-6F8A-4797-87C1-54240D95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C13-B73E-458C-9B28-E3C78243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CA14-A13E-4089-83B1-9D6E9D18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432D-9F11-4DA9-B5A9-8DA6E55C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D854-039C-49A8-BB33-EEF4A118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6B84-7F6D-4BD9-941E-3E0E820D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3B71-ED54-4899-BA74-1BAEFFB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B4D9-F67C-4CB6-BC8F-C8753380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0923-4427-48CA-BBA2-96E2DD6D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7BB-DF74-4E12-920E-6B211A54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18EE-9F57-4E04-B1F3-B9B466AB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C7BC-8121-4805-A95F-327AA080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CD8F-0339-4828-91E2-4A60A1A0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5D52-ED85-47CA-B770-BAC2B2C0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1B1E-E4B5-45E6-A09F-CCC07DD3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9B2BE-A342-4529-94BD-2295422E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4DED5-E178-4892-828B-9A1D1599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0425-C1AB-48F1-8F0F-E76924AB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D8F6-A94F-4415-AC1E-F6937317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CCCB-2ED6-4FD6-A2FF-19503082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C23-5380-4469-B720-9ADE997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5CE1-07FE-42EB-AA95-2D47D8EE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B826-BE52-4304-8720-06FB6D7F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F892-79C4-4F59-AB2A-547A806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45CE-C537-4D8B-B821-3FEA37DA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6285-A872-48D7-8DBA-C03AF156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9F83-3ADD-4F0D-8EBC-3A388762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365D-4553-456D-A8D1-3E47E954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12500-2788-40F5-B2AB-4ECBB59D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09238-A374-42A1-982C-AC6CEE5B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5542-F1B2-4306-A9E2-939F580B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3D2-FCC6-4CA4-B441-8AB87B54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687E8-6566-493D-92EF-525F95D2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23D3-6B0C-402C-B0F6-B45F1E6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E308-E500-4E4B-B5D6-49B3234F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9807-AD70-49AA-84B1-A033145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66A9A-3E59-4A70-88EB-33DFDB1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214F-60D3-429F-8C67-5B7C166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6606-38DC-47EB-809F-1B829E03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2A549-298C-4CAC-83E5-8C0D11E9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01DD-4795-40A3-A3CD-4C04269A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59F4-B902-4AD4-8B60-5D5010CE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307-9E7E-4198-9FCF-FEA0AD2E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41C2-51D6-4E4E-9FE1-B4CEA851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E674-C380-4EEA-9690-99FFD37F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A6A40-5693-4490-B2CF-8F7B125E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B253-3870-426E-86A5-99084C13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AE998-91F9-4BDA-991B-B598C6E4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5FFA6-6A5E-4AC3-92F9-6EBDC5C6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1C226-B594-468A-9AC7-28B4FF01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21FB0-ED90-480D-BCF2-16A3982D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F32CE-44A1-4EB6-9DB5-7965A022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6982B-0116-47B0-90A2-ED982AD1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2B9-9812-40C0-B01F-C9D59020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0B556-66CD-4556-90BA-3CBBC9FF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381-9B1C-41A2-93BB-0A467F9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77C-F9CF-4D04-966D-5B5DC04F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C85-F3F4-435C-AFEA-A7BD157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D3FA-0EC1-4696-A313-0484DBD5059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8532-0A03-46A5-9A8E-EE81FFF89FD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A24A-C9A1-4915-AFB0-5B8B22FDE91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A729-2ADA-481C-8481-1E5D279FC54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77B7-76E3-47D0-9354-B1A6F70EAD2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D1B4-412F-4620-BF36-72FA12DC4A3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79A6-0D24-442A-83BE-5ADD1CA2FBF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B327-649C-4F0C-BF52-6B75A3FAF1B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C61E-6052-4185-B171-535E94DA012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AD1B-C196-44FF-934F-A938A82123D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aa903372(VS.71).aspx" TargetMode="External"/><Relationship Id="rId2" Type="http://schemas.openxmlformats.org/officeDocument/2006/relationships/hyperlink" Target="http://www.a1vbcode.com/code.asp?type=string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30492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Picture 3" descr="VB_cover"/>
          <p:cNvPicPr/>
          <p:nvPr/>
        </p:nvPicPr>
        <p:blipFill>
          <a:blip r:embed="rId1"/>
          <a:stretch/>
        </p:blipFill>
        <p:spPr>
          <a:xfrm rot="20445000">
            <a:off x="838080" y="83772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2819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9b2d1f"/>
                </a:solidFill>
                <a:latin typeface="Calibri"/>
                <a:ea typeface="Times New Roman"/>
              </a:rPr>
              <a:t>String Manipulation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erence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m O. Al-Abdul Jabba lectures for cap21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This allows you to grab one string within another. (For example, if you wanted to grab the “.com” from the email address “me@me.com.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In between the round brackets of Substring( ), you specify a starting position and then how many characters you want to grab (the count starts at zero again). Like thi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“me@me.com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DotCo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ould also do a check to see if the email address ended in “.com” like this. Here’s some code to do the job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"me@me.com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Email.Length - 4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ubstring method  could do the same function as Chars() method and the result would be the same.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i, 1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 OneCharac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s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 = s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)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 world 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r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 = r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, 6)   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an replace text in one string with some other tex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Old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New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OldText = "This is some test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wText = Old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Replac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test", "text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Old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New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you run the program, the first message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st"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and the second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xt"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Re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also insert some new text into an str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Some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New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SomeText = "This some text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NewText = Some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  <a:ea typeface="Arial"/>
              </a:rPr>
              <a:t>Insert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(5, "is "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Some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New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5 in round brackets means start at position 5 in the string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omeText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(the count starts at zero). You then type the text that you want insert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first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second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Inser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lit allows you to split a line of text and put each element (word or phrase) into an arra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Join allows you to join elements of an array into one line of tex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 and 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read the text file line by line, and each line might b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“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UserName1, Password1, UserName2, Password2, UserName3, Password3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programming problem is to separate each word. You can use Split for th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Each word would then be separated, ready for you to place into an arra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aryTextFile()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LineOfText = "UserName1, Password1, UserName2, Password2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 = LineOf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plit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,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For i = 0 To UBound(aryTextFi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aryTextFile(i)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VB finishes the splitting, it fills up your array. Each element will occupy one slot in your arra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So in our example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0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UserName1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1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Password1,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82296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The Join method is used when you want to join the elements of an array back together again. Here’s some code which does exactly that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aryTextFile(3)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0) = "UserName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1) = "Password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2) = "UserName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3) = "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= LineOf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</a:rPr>
              <a:t>Join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("-", aryTextFil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(LineOf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you first type what you want to use as a separator. Here, we’re using an hyphen as a separator. Next, you put the name of your array. The variable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</a:t>
            </a: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will hold the following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            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"UserName1-Password1-UserName2-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trings have their own properties and methods, just like a textbox or label or form does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8467" t="2832" r="27059" b="24494"/>
          <a:stretch/>
        </p:blipFill>
        <p:spPr>
          <a:xfrm>
            <a:off x="4191120" y="533520"/>
            <a:ext cx="174132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12035" t="0" r="18750" b="8179"/>
          <a:stretch/>
        </p:blipFill>
        <p:spPr>
          <a:xfrm>
            <a:off x="6095880" y="533520"/>
            <a:ext cx="184788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Dim string1 As String = "hello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Dim charArray() As Char = string1.</a:t>
            </a:r>
            <a:r>
              <a:rPr b="0" sz="2600" spc="-1" strike="noStrike">
                <a:solidFill>
                  <a:srgbClr val="ff0066"/>
                </a:solidFill>
                <a:latin typeface="Perpetua"/>
              </a:rPr>
              <a:t>ToCharArray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Console.WriteLine("string1 = " &amp; string1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Console.Write("string1 as an array of character ="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For i = 0 To charArray.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Console.Write(" " &amp; charArray(i)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600" spc="-1" strike="noStrike">
                <a:solidFill>
                  <a:srgbClr val="696464"/>
                </a:solidFill>
                <a:latin typeface="Perpetua"/>
              </a:rPr>
              <a:t>N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CharArr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914400" y="5791320"/>
            <a:ext cx="701028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= hell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as an array of character = h e l l 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code previously, we had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use 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quals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in the first line, instead of an equals sign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“.com”)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2)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variabl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ing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1,Str2) 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	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namespac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Line 4"/>
          <p:cNvSpPr/>
          <p:nvPr/>
        </p:nvSpPr>
        <p:spPr>
          <a:xfrm flipH="1" flipV="1">
            <a:off x="1142640" y="4266720"/>
            <a:ext cx="152280" cy="304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990360" y="2819520"/>
            <a:ext cx="152280" cy="3045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5638680" y="2362320"/>
            <a:ext cx="533520" cy="2590560"/>
          </a:xfrm>
          <a:custGeom>
            <a:avLst/>
            <a:gdLst>
              <a:gd name="textAreaLeft" fmla="*/ 0 w 533520"/>
              <a:gd name="textAreaRight" fmla="*/ 192600 w 533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oth returns true or fals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1" lang="en-US" sz="4000" spc="-1" strike="noStrike">
                <a:solidFill>
                  <a:srgbClr val="ff0066"/>
                </a:solidFill>
                <a:latin typeface="Perpetua"/>
              </a:rPr>
              <a:t>compareTo</a:t>
            </a: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 (str2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Return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0         if equa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-1 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	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  if str1 &lt; str2  …. ASCII cod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1         if str1 &gt; str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CompareT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m a As String = "Ahma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im b As String = "Ali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0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equal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-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 &lt;ali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&gt;ali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F092-AC77-4C9C-80C4-78AA543A9627}" type="datetime">
              <a:rPr b="1" lang="en-US" sz="1400" spc="-1" strike="noStrike" u="sng">
                <a:solidFill>
                  <a:srgbClr val="696464"/>
                </a:solidFill>
                <a:uFillTx/>
                <a:latin typeface="Arial"/>
              </a:rPr>
              <a:t>07/29/26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696464"/>
                </a:solidFill>
                <a:uFillTx/>
                <a:latin typeface="Arial"/>
              </a:rPr>
              <a:t> 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4F3B-DE8F-4CF7-8323-BADA15E6776D}" type="slidenum">
              <a:rPr b="1" lang="ar-SA" sz="1400" spc="-1" strike="noStrike" u="sng">
                <a:solidFill>
                  <a:srgbClr val="ffffff"/>
                </a:solidFill>
                <a:uFillTx/>
                <a:latin typeface="Franklin Gothic Book"/>
                <a:ea typeface="Tahoma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f you wish to flip around the front and back end of a string, then the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StrReverse(string)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is for you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t is used in the following way. This would pop up a message saying ‘looc si 112pac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        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trRevers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“cap211 is cool"))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urier New"/>
                <a:ea typeface="Courier New"/>
              </a:rPr>
              <a:t>StrRever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65) 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“Apple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(“Ahmad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“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32”  &amp; 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(176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) &amp; “Fahrenheit”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                                 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32°Fahrenhe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tring Meth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22860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Test characters to determine whether they are of specific character type  and that  perform case conversions on characters. 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24280" y="1676520"/>
            <a:ext cx="342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Or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57200" y="175248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Dim ch As Char = Console.ReadLin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If Char.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Digit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( ch ) then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Console.WriteLine(“Digit”)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ls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Console.WriteLine(“Not Digit”)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nd If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ing Properties and Methods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Length is 6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ToUpper is VIS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Length is 8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ToLower is 123 hik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a" &amp; " bcd ".Trim &amp; "efg" is abcdef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7B6E-1750-4DF0-9788-F42EB3BFE924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o get the length of a string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Length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Lengt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Positions in a String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s of characters in a string are numbered 0, 1, 2, …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the string “Visual Basic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0:  V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1:  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7:  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string “al” begins at position 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7016-D57E-44DA-ADF7-7D3CDFF65EED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Substring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be a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.Substring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the substring of length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eginning at positio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2, 3) is “sua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0, 1) is “V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8ADA-9C6B-4AB2-AE46-405E5CA35987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IndexOf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be string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1.IndexOf(str2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the position of the first occurrence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Perpetua"/>
              </a:rPr>
              <a:t>Note: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Has value -1 i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 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not a substring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)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is"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is 1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si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ab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5C36-0519-417B-9ADD-55F6901421EE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Empty St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1904760"/>
            <a:ext cx="86868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ring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""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which has no characters, is called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mpty string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zero-length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ement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ps a line in the list bo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tents of a text box can be cleared with either the stat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Clear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or the stat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Text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0289-CEB0-4F7A-BD58-734FBA9C979B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itial Value of a String Variable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default the initial value is the keywor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ings can be given a different initial value as follow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Fred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D9C4-F865-4288-800A-C3EB70F214EF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more information on String methods check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Deitel’s book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t is helpful for validating inputs, you may need it when coding your projec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must practice lots of string manipulation examples check the following websit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msdn.microsoft.com/en-us/library/aa903372(VS.71).asp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a1vbcode.com/code.asp?type=str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More on Str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1922040"/>
            <a:ext cx="792468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o get the character at a specified position.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OneCharacter As Ch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Chars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(i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MsgBox(OneCharacter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Char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strUpper As St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strUpper = TextBox1.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2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Upp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3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Low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Upper, ToLow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" y="3657600"/>
            <a:ext cx="5257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otice that the name of the variable you want to do something with comes first. Then, after the full stop, you add the name of the method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23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7086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One of the methods on our list is Trim. What this does is to trim any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lead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or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trail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blank spaces from a str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o if the string was “ Text  ”, then Trim would delete those spaces for you, leaving just “Tex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use it in your code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txtFirst.T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FirstName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Tr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ri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nStr( )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tells you what the position of one string is inside anothe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example, if your string was “me@me.com” and you wanted to know if the string contained the @ symbol, you could use InStr( ) Method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would use it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String = “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me@me.com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Second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 = “@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position = 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InStr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(FirstString, SecondString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irst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the string we want to search;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econd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what we want to search f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specify a starting position for the search to begin. If you do, this number goes at the start (the default is zero)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= 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InStr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1, FirstString, SecondString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the code above,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would have a value of 3. That’s because the @ symbols starts at the third letter of “me@me.com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ote: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InStr() Method starts counting at 1, and not zero like Chars(), which is very confusing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f the string you’re searching for is not found, then the value placed inside of your integer variable (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our case) is zero. That enables you to cod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position = 0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 (“Not a Valid email address: There was No @ Sign”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4:19Z</dcterms:created>
  <dc:creator>wagait</dc:creator>
  <dc:description/>
  <dc:language>en-US</dc:language>
  <cp:lastModifiedBy>sara</cp:lastModifiedBy>
  <dcterms:modified xsi:type="dcterms:W3CDTF">2014-03-08T12:35:46Z</dcterms:modified>
  <cp:revision>4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مستند</vt:lpwstr>
  </property>
  <property fmtid="{D5CDD505-2E9C-101B-9397-08002B2CF9AE}" pid="6" name="ContentTypeId">
    <vt:lpwstr>0x0101005130AFAA5D399E489E1819B440698DE2</vt:lpwstr>
  </property>
  <property fmtid="{D5CDD505-2E9C-101B-9397-08002B2CF9AE}" pid="7" name="Keywords">
    <vt:lpwstr/>
  </property>
  <property fmtid="{D5CDD505-2E9C-101B-9397-08002B2CF9AE}" pid="8" name="PublishingExpirationDate">
    <vt:lpwstr/>
  </property>
  <property fmtid="{D5CDD505-2E9C-101B-9397-08002B2CF9AE}" pid="9" name="PublishingStartDate">
    <vt:lpwstr/>
  </property>
  <property fmtid="{D5CDD505-2E9C-101B-9397-08002B2CF9AE}" pid="10" name="Slides">
    <vt:lpwstr>28</vt:lpwstr>
  </property>
  <property fmtid="{D5CDD505-2E9C-101B-9397-08002B2CF9AE}" pid="11" name="Subject">
    <vt:lpwstr/>
  </property>
  <property fmtid="{D5CDD505-2E9C-101B-9397-08002B2CF9AE}" pid="12" name="_Author">
    <vt:lpwstr>wagait</vt:lpwstr>
  </property>
  <property fmtid="{D5CDD505-2E9C-101B-9397-08002B2CF9AE}" pid="13" name="_Category">
    <vt:lpwstr/>
  </property>
  <property fmtid="{D5CDD505-2E9C-101B-9397-08002B2CF9AE}" pid="14" name="_Comments">
    <vt:lpwstr/>
  </property>
</Properties>
</file>